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32.png" ContentType="image/png"/>
  <Override PartName="/ppt/media/image7.png" ContentType="image/png"/>
  <Override PartName="/ppt/media/image34.jpeg" ContentType="image/jpeg"/>
  <Override PartName="/ppt/media/image18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6CF7-D024-43E0-9116-4FF21ACED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0B9C-3FF9-46F2-AA2D-0118392D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A852-64F0-4DA5-B520-61CA797C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F7E-471E-4B7F-867B-AB4BD7EC9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ABB47-7C6F-4256-91EF-EBAC0B9D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D27E-6EF5-4ABB-9624-A969B27C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BF5C-9971-4480-9F31-62FD3E481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441E-A3BA-4034-B13E-65E131CA3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43A43-E362-4C69-A957-F2DDCA85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C0EF-D6AA-4172-98E9-87B10B0E5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8A1A-61A0-465A-BC91-86A7ADE1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15697-5799-4013-BA1A-720BFB85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CED3-817C-418A-AA78-18FCDF30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18E60-2720-4B0C-91F9-4B8848F3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03C8-C16F-4863-87F6-EC3825E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22218-E755-474F-A9E5-E0A2C2DE1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F22E-F6FD-4AE8-A1D8-4B787C22E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B79-2A25-4A2D-A506-F5AA59B4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7B21-5727-4FE2-B775-C742B03A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35EE-0E52-4C67-8FDD-01F8B6B2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5F25-683F-472C-BC6F-D18C1C80D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BA9D-33E0-4C22-A37E-A35B4044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804-73D1-4032-BED6-6C624B6A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2F41-2280-426A-B056-40E088F8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F3D44-A30D-4351-9A35-495F6882FD2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F30F9-1D02-43AB-8742-E1D52164735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6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乘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风破</a:t>
            </a:r>
            <a:r>
              <a:rPr b="0" lang="zh-CN" sz="5400" spc="-1" strike="noStrike">
                <a:solidFill>
                  <a:srgbClr val="ffffff"/>
                </a:solidFill>
                <a:latin typeface="华文行楷"/>
                <a:ea typeface="华文行楷"/>
              </a:rPr>
              <a:t>浪</a:t>
            </a:r>
            <a:r>
              <a:rPr b="0" lang="en-US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世界就在眼前</a:t>
            </a:r>
            <a:endParaRPr b="1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/>
          <p:nvPr/>
        </p:nvSpPr>
        <p:spPr>
          <a:xfrm>
            <a:off x="2077200" y="170028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竞聘报告幻灯片在线打包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8" name="Group 3"/>
          <p:cNvGrpSpPr/>
          <p:nvPr/>
        </p:nvGrpSpPr>
        <p:grpSpPr>
          <a:xfrm>
            <a:off x="2433240" y="1078560"/>
            <a:ext cx="4419360" cy="4558680"/>
            <a:chOff x="2433240" y="1078560"/>
            <a:chExt cx="4419360" cy="4558680"/>
          </a:xfrm>
        </p:grpSpPr>
        <p:grpSp>
          <p:nvGrpSpPr>
            <p:cNvPr id="369" name="Group 4"/>
            <p:cNvGrpSpPr/>
            <p:nvPr/>
          </p:nvGrpSpPr>
          <p:grpSpPr>
            <a:xfrm>
              <a:off x="2433240" y="1078560"/>
              <a:ext cx="4419360" cy="4558680"/>
              <a:chOff x="2433240" y="1078560"/>
              <a:chExt cx="4419360" cy="4558680"/>
            </a:xfrm>
          </p:grpSpPr>
          <p:sp>
            <p:nvSpPr>
              <p:cNvPr id="370" name="椭圆 2"/>
              <p:cNvSpPr/>
              <p:nvPr/>
            </p:nvSpPr>
            <p:spPr>
              <a:xfrm>
                <a:off x="2657520" y="1314360"/>
                <a:ext cx="3892680" cy="3892680"/>
              </a:xfrm>
              <a:prstGeom prst="ellipse">
                <a:avLst/>
              </a:prstGeom>
              <a:noFill/>
              <a:ln w="15228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椭圆 11"/>
              <p:cNvSpPr/>
              <p:nvPr/>
            </p:nvSpPr>
            <p:spPr>
              <a:xfrm flipH="1">
                <a:off x="2490120" y="204912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58ad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椭圆 12"/>
              <p:cNvSpPr/>
              <p:nvPr/>
            </p:nvSpPr>
            <p:spPr>
              <a:xfrm flipH="1">
                <a:off x="6174720" y="202068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椭圆 13"/>
              <p:cNvSpPr/>
              <p:nvPr/>
            </p:nvSpPr>
            <p:spPr>
              <a:xfrm flipH="1">
                <a:off x="4345920" y="5027760"/>
                <a:ext cx="609480" cy="609480"/>
              </a:xfrm>
              <a:prstGeom prst="ellipse">
                <a:avLst/>
              </a:prstGeom>
              <a:solidFill>
                <a:srgbClr val="ffffff"/>
              </a:solidFill>
              <a:ln w="76320">
                <a:solidFill>
                  <a:srgbClr val="4a9c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74" name="Group 9"/>
              <p:cNvGrpSpPr/>
              <p:nvPr/>
            </p:nvGrpSpPr>
            <p:grpSpPr>
              <a:xfrm>
                <a:off x="2433240" y="1078560"/>
                <a:ext cx="4419360" cy="4404960"/>
                <a:chOff x="2433240" y="1078560"/>
                <a:chExt cx="4419360" cy="4404960"/>
              </a:xfrm>
            </p:grpSpPr>
            <p:grpSp>
              <p:nvGrpSpPr>
                <p:cNvPr id="375" name="Group 10"/>
                <p:cNvGrpSpPr/>
                <p:nvPr/>
              </p:nvGrpSpPr>
              <p:grpSpPr>
                <a:xfrm>
                  <a:off x="3017880" y="1645920"/>
                  <a:ext cx="3183120" cy="3184560"/>
                  <a:chOff x="3017880" y="1645920"/>
                  <a:chExt cx="3183120" cy="3184560"/>
                </a:xfrm>
              </p:grpSpPr>
              <p:sp>
                <p:nvSpPr>
                  <p:cNvPr id="376" name="饼形 7"/>
                  <p:cNvSpPr/>
                  <p:nvPr/>
                </p:nvSpPr>
                <p:spPr>
                  <a:xfrm>
                    <a:off x="3017880" y="1645920"/>
                    <a:ext cx="3183120" cy="3184560"/>
                  </a:xfrm>
                  <a:custGeom>
                    <a:avLst/>
                    <a:gdLst>
                      <a:gd name="textAreaLeft" fmla="*/ 0 w 3183120"/>
                      <a:gd name="textAreaRight" fmla="*/ 3183480 w 3183120"/>
                      <a:gd name="textAreaTop" fmla="*/ 0 h 3184560"/>
                      <a:gd name="textAreaBottom" fmla="*/ 3184920 h 3184560"/>
                    </a:gdLst>
                    <a:ahLst/>
                    <a:rect l="textAreaLeft" t="textAreaTop" r="textAreaRight" b="textAreaBottom"/>
                    <a:pathLst>
                      <a:path w="3183471" h="3184418">
                        <a:moveTo>
                          <a:pt x="184991" y="2337207"/>
                        </a:moveTo>
                        <a:cubicBezTo>
                          <a:pt x="-76166" y="1843782"/>
                          <a:pt x="-59876" y="1249578"/>
                          <a:pt x="227923" y="771212"/>
                        </a:cubicBezTo>
                        <a:cubicBezTo>
                          <a:pt x="515835" y="292659"/>
                          <a:pt x="1033372" y="1"/>
                          <a:pt x="1591736" y="1"/>
                        </a:cubicBezTo>
                        <a:lnTo>
                          <a:pt x="1591736" y="1592209"/>
                        </a:lnTo>
                        <a:lnTo>
                          <a:pt x="184991" y="2337207"/>
                        </a:lnTo>
                        <a:close/>
                      </a:path>
                    </a:pathLst>
                  </a:custGeom>
                  <a:solidFill>
                    <a:srgbClr val="58ad9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77" name="饼形 8"/>
                  <p:cNvSpPr/>
                  <p:nvPr/>
                </p:nvSpPr>
                <p:spPr>
                  <a:xfrm>
                    <a:off x="3510000" y="2123640"/>
                    <a:ext cx="2251440" cy="2252880"/>
                  </a:xfrm>
                  <a:custGeom>
                    <a:avLst/>
                    <a:gdLst>
                      <a:gd name="textAreaLeft" fmla="*/ 0 w 2251440"/>
                      <a:gd name="textAreaRight" fmla="*/ 2251800 w 2251440"/>
                      <a:gd name="textAreaTop" fmla="*/ 0 h 2252880"/>
                      <a:gd name="textAreaBottom" fmla="*/ 2253240 h 2252880"/>
                    </a:gdLst>
                    <a:ahLst/>
                    <a:rect l="textAreaLeft" t="textAreaTop" r="textAreaRight" b="textAreaBottom"/>
                    <a:pathLst>
                      <a:path w="2251453" h="2252587">
                        <a:moveTo>
                          <a:pt x="130787" y="1653203"/>
                        </a:moveTo>
                        <a:cubicBezTo>
                          <a:pt x="-53849" y="1304212"/>
                          <a:pt x="-42332" y="883969"/>
                          <a:pt x="161142" y="545625"/>
                        </a:cubicBezTo>
                        <a:cubicBezTo>
                          <a:pt x="364750" y="207057"/>
                          <a:pt x="730798" y="-1"/>
                          <a:pt x="1125728" y="-1"/>
                        </a:cubicBezTo>
                        <a:cubicBezTo>
                          <a:pt x="1125728" y="375431"/>
                          <a:pt x="1125727" y="750862"/>
                          <a:pt x="1125727" y="1126294"/>
                        </a:cubicBezTo>
                        <a:lnTo>
                          <a:pt x="130787" y="1653203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78" name="Group 13"/>
                <p:cNvGrpSpPr/>
                <p:nvPr/>
              </p:nvGrpSpPr>
              <p:grpSpPr>
                <a:xfrm>
                  <a:off x="2506320" y="1078560"/>
                  <a:ext cx="4346280" cy="4347000"/>
                  <a:chOff x="2506320" y="1078560"/>
                  <a:chExt cx="4346280" cy="4347000"/>
                </a:xfrm>
              </p:grpSpPr>
              <p:sp>
                <p:nvSpPr>
                  <p:cNvPr id="379" name="饼形 21"/>
                  <p:cNvSpPr/>
                  <p:nvPr/>
                </p:nvSpPr>
                <p:spPr>
                  <a:xfrm rot="7192200">
                    <a:off x="3087000" y="1660320"/>
                    <a:ext cx="3184560" cy="3183120"/>
                  </a:xfrm>
                  <a:custGeom>
                    <a:avLst/>
                    <a:gdLst>
                      <a:gd name="textAreaLeft" fmla="*/ 0 w 3184560"/>
                      <a:gd name="textAreaRight" fmla="*/ 3184920 w 31845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4418" h="3183471">
                        <a:moveTo>
                          <a:pt x="185229" y="2336858"/>
                        </a:moveTo>
                        <a:cubicBezTo>
                          <a:pt x="-76262" y="1843389"/>
                          <a:pt x="-59953" y="1249020"/>
                          <a:pt x="228206" y="770624"/>
                        </a:cubicBezTo>
                        <a:cubicBezTo>
                          <a:pt x="516252" y="292416"/>
                          <a:pt x="1033828" y="0"/>
                          <a:pt x="1592209" y="0"/>
                        </a:cubicBezTo>
                        <a:lnTo>
                          <a:pt x="1592209" y="1591736"/>
                        </a:lnTo>
                        <a:lnTo>
                          <a:pt x="185229" y="2336858"/>
                        </a:lnTo>
                        <a:close/>
                      </a:path>
                    </a:pathLst>
                  </a:custGeom>
                  <a:solidFill>
                    <a:srgbClr val="ffa90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0" name="饼形 22"/>
                  <p:cNvSpPr/>
                  <p:nvPr/>
                </p:nvSpPr>
                <p:spPr>
                  <a:xfrm rot="7192200">
                    <a:off x="3527280" y="21409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217114" y="1788907"/>
                        </a:moveTo>
                        <a:cubicBezTo>
                          <a:pt x="-33417" y="1446684"/>
                          <a:pt x="-70040" y="992846"/>
                          <a:pt x="122381" y="614964"/>
                        </a:cubicBezTo>
                        <a:cubicBezTo>
                          <a:pt x="314517" y="237643"/>
                          <a:pt x="702464" y="-1"/>
                          <a:pt x="1126294" y="-1"/>
                        </a:cubicBezTo>
                        <a:lnTo>
                          <a:pt x="1126294" y="1124933"/>
                        </a:lnTo>
                        <a:lnTo>
                          <a:pt x="217114" y="1788907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grpSp>
              <p:nvGrpSpPr>
                <p:cNvPr id="381" name="Group 16"/>
                <p:cNvGrpSpPr/>
                <p:nvPr/>
              </p:nvGrpSpPr>
              <p:grpSpPr>
                <a:xfrm>
                  <a:off x="2433240" y="1130040"/>
                  <a:ext cx="4352400" cy="4353480"/>
                  <a:chOff x="2433240" y="1130040"/>
                  <a:chExt cx="4352400" cy="4353480"/>
                </a:xfrm>
              </p:grpSpPr>
              <p:sp>
                <p:nvSpPr>
                  <p:cNvPr id="382" name="饼形 19"/>
                  <p:cNvSpPr/>
                  <p:nvPr/>
                </p:nvSpPr>
                <p:spPr>
                  <a:xfrm rot="14392200">
                    <a:off x="3016080" y="1715040"/>
                    <a:ext cx="3186360" cy="3183120"/>
                  </a:xfrm>
                  <a:custGeom>
                    <a:avLst/>
                    <a:gdLst>
                      <a:gd name="textAreaLeft" fmla="*/ 0 w 3186360"/>
                      <a:gd name="textAreaRight" fmla="*/ 3186720 w 3186360"/>
                      <a:gd name="textAreaTop" fmla="*/ 0 h 3183120"/>
                      <a:gd name="textAreaBottom" fmla="*/ 3183480 h 3183120"/>
                    </a:gdLst>
                    <a:ahLst/>
                    <a:rect l="textAreaLeft" t="textAreaTop" r="textAreaRight" b="textAreaBottom"/>
                    <a:pathLst>
                      <a:path w="3186006" h="3183471">
                        <a:moveTo>
                          <a:pt x="185475" y="2337148"/>
                        </a:moveTo>
                        <a:cubicBezTo>
                          <a:pt x="-76362" y="1843519"/>
                          <a:pt x="-60032" y="1248863"/>
                          <a:pt x="228501" y="770324"/>
                        </a:cubicBezTo>
                        <a:cubicBezTo>
                          <a:pt x="516732" y="292286"/>
                          <a:pt x="1034469" y="0"/>
                          <a:pt x="1593003" y="0"/>
                        </a:cubicBezTo>
                        <a:lnTo>
                          <a:pt x="1593003" y="1591736"/>
                        </a:lnTo>
                        <a:lnTo>
                          <a:pt x="185475" y="2337148"/>
                        </a:lnTo>
                        <a:close/>
                      </a:path>
                    </a:pathLst>
                  </a:custGeom>
                  <a:solidFill>
                    <a:srgbClr val="4a9cd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383" name="饼形 15"/>
                  <p:cNvSpPr/>
                  <p:nvPr/>
                </p:nvSpPr>
                <p:spPr>
                  <a:xfrm rot="14392200">
                    <a:off x="3479400" y="2153520"/>
                    <a:ext cx="2252880" cy="2249640"/>
                  </a:xfrm>
                  <a:custGeom>
                    <a:avLst/>
                    <a:gdLst>
                      <a:gd name="textAreaLeft" fmla="*/ 0 w 2252880"/>
                      <a:gd name="textAreaRight" fmla="*/ 2253240 w 2252880"/>
                      <a:gd name="textAreaTop" fmla="*/ 0 h 2249640"/>
                      <a:gd name="textAreaBottom" fmla="*/ 2250000 h 2249640"/>
                    </a:gdLst>
                    <a:ahLst/>
                    <a:rect l="textAreaLeft" t="textAreaTop" r="textAreaRight" b="textAreaBottom"/>
                    <a:pathLst>
                      <a:path w="2252587" h="2249865">
                        <a:moveTo>
                          <a:pt x="131226" y="1651910"/>
                        </a:moveTo>
                        <a:cubicBezTo>
                          <a:pt x="-54026" y="1302952"/>
                          <a:pt x="-42473" y="882521"/>
                          <a:pt x="161662" y="544237"/>
                        </a:cubicBezTo>
                        <a:cubicBezTo>
                          <a:pt x="365472" y="206492"/>
                          <a:pt x="731469" y="0"/>
                          <a:pt x="1126294" y="0"/>
                        </a:cubicBezTo>
                        <a:lnTo>
                          <a:pt x="1126294" y="1124933"/>
                        </a:lnTo>
                        <a:lnTo>
                          <a:pt x="131226" y="165191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384" name="椭圆 15"/>
              <p:cNvSpPr/>
              <p:nvPr/>
            </p:nvSpPr>
            <p:spPr>
              <a:xfrm>
                <a:off x="3959280" y="2574720"/>
                <a:ext cx="1342800" cy="1344600"/>
              </a:xfrm>
              <a:prstGeom prst="ellipse">
                <a:avLst/>
              </a:prstGeom>
              <a:noFill/>
              <a:ln w="76320">
                <a:solidFill>
                  <a:srgbClr val="bcbc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85" name="矩形 4" descr=""/>
            <p:cNvPicPr/>
            <p:nvPr/>
          </p:nvPicPr>
          <p:blipFill>
            <a:blip r:embed="rId2"/>
            <a:stretch/>
          </p:blipFill>
          <p:spPr>
            <a:xfrm>
              <a:off x="3900960" y="1749240"/>
              <a:ext cx="2310480" cy="246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6" name="矩形 5" descr=""/>
            <p:cNvPicPr/>
            <p:nvPr/>
          </p:nvPicPr>
          <p:blipFill>
            <a:blip r:embed="rId3"/>
            <a:stretch/>
          </p:blipFill>
          <p:spPr>
            <a:xfrm>
              <a:off x="3565800" y="2986920"/>
              <a:ext cx="2036160" cy="1822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" name="矩形 6" descr=""/>
            <p:cNvPicPr/>
            <p:nvPr/>
          </p:nvPicPr>
          <p:blipFill>
            <a:blip r:embed="rId4"/>
            <a:stretch/>
          </p:blipFill>
          <p:spPr>
            <a:xfrm>
              <a:off x="3059640" y="1657800"/>
              <a:ext cx="2383560" cy="249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8" name="Picture 2" descr="D:\PPT模版\素材\png素材\web sites\web sites2\32x32\yen_currency_sign.png"/>
            <p:cNvPicPr/>
            <p:nvPr/>
          </p:nvPicPr>
          <p:blipFill>
            <a:blip r:embed="rId5"/>
            <a:stretch/>
          </p:blipFill>
          <p:spPr>
            <a:xfrm>
              <a:off x="4462560" y="511488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9" name="Picture 3" descr="D:\PPT模版\素材\png素材\web sites\web sites2\32x32\dollar_currency_sign.png"/>
            <p:cNvPicPr/>
            <p:nvPr/>
          </p:nvPicPr>
          <p:blipFill>
            <a:blip r:embed="rId6"/>
            <a:stretch/>
          </p:blipFill>
          <p:spPr>
            <a:xfrm>
              <a:off x="2606040" y="2135520"/>
              <a:ext cx="406080" cy="40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0" name="Picture 4" descr="D:\PPT模版\素材\png素材\web sites\web sites2\32x32\euro_currency_sign.png"/>
            <p:cNvPicPr/>
            <p:nvPr/>
          </p:nvPicPr>
          <p:blipFill>
            <a:blip r:embed="rId7"/>
            <a:stretch/>
          </p:blipFill>
          <p:spPr>
            <a:xfrm>
              <a:off x="6278400" y="2121120"/>
              <a:ext cx="402120" cy="40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1" name="TextBox 25"/>
          <p:cNvSpPr/>
          <p:nvPr/>
        </p:nvSpPr>
        <p:spPr>
          <a:xfrm>
            <a:off x="19044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26"/>
          <p:cNvSpPr/>
          <p:nvPr/>
        </p:nvSpPr>
        <p:spPr>
          <a:xfrm>
            <a:off x="6743880" y="179856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7"/>
          <p:cNvSpPr/>
          <p:nvPr/>
        </p:nvSpPr>
        <p:spPr>
          <a:xfrm>
            <a:off x="4984920" y="555300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右箭头 2"/>
          <p:cNvSpPr/>
          <p:nvPr/>
        </p:nvSpPr>
        <p:spPr>
          <a:xfrm>
            <a:off x="1781280" y="2760840"/>
            <a:ext cx="3614760" cy="2760480"/>
          </a:xfrm>
          <a:prstGeom prst="rightArrow">
            <a:avLst>
              <a:gd name="adj1" fmla="val 61213"/>
              <a:gd name="adj2" fmla="val 50002"/>
            </a:avLst>
          </a:prstGeom>
          <a:gradFill rotWithShape="0">
            <a:gsLst>
              <a:gs pos="0">
                <a:srgbClr val="ffffff"/>
              </a:gs>
              <a:gs pos="100000">
                <a:srgbClr val="bcbcbc">
                  <a:alpha val="6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439560" y="2265480"/>
            <a:ext cx="1640160" cy="3647880"/>
            <a:chOff x="439560" y="2265480"/>
            <a:chExt cx="1640160" cy="3647880"/>
          </a:xfrm>
        </p:grpSpPr>
        <p:sp>
          <p:nvSpPr>
            <p:cNvPr id="397" name="矩形 4"/>
            <p:cNvSpPr/>
            <p:nvPr/>
          </p:nvSpPr>
          <p:spPr>
            <a:xfrm>
              <a:off x="1162800" y="3510000"/>
              <a:ext cx="155160" cy="10126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98" name="Group 6"/>
            <p:cNvGrpSpPr/>
            <p:nvPr/>
          </p:nvGrpSpPr>
          <p:grpSpPr>
            <a:xfrm>
              <a:off x="442440" y="2265480"/>
              <a:ext cx="1637280" cy="1638360"/>
              <a:chOff x="442440" y="2265480"/>
              <a:chExt cx="1637280" cy="1638360"/>
            </a:xfrm>
          </p:grpSpPr>
          <p:sp>
            <p:nvSpPr>
              <p:cNvPr id="399" name="椭圆 11"/>
              <p:cNvSpPr/>
              <p:nvPr/>
            </p:nvSpPr>
            <p:spPr>
              <a:xfrm>
                <a:off x="442440" y="2265480"/>
                <a:ext cx="1637280" cy="163836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0" name="椭圆 3"/>
              <p:cNvSpPr/>
              <p:nvPr/>
            </p:nvSpPr>
            <p:spPr>
              <a:xfrm>
                <a:off x="510480" y="2333520"/>
                <a:ext cx="1500840" cy="15019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1" name="椭圆 13"/>
              <p:cNvSpPr/>
              <p:nvPr/>
            </p:nvSpPr>
            <p:spPr>
              <a:xfrm>
                <a:off x="546840" y="2370240"/>
                <a:ext cx="1428120" cy="142884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02" name="组合 47" descr=""/>
            <p:cNvPicPr/>
            <p:nvPr/>
          </p:nvPicPr>
          <p:blipFill>
            <a:blip r:embed="rId2"/>
            <a:stretch/>
          </p:blipFill>
          <p:spPr>
            <a:xfrm>
              <a:off x="439560" y="4273560"/>
              <a:ext cx="1638720" cy="16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3" name="矩形 7"/>
            <p:cNvSpPr/>
            <p:nvPr/>
          </p:nvSpPr>
          <p:spPr>
            <a:xfrm flipV="1">
              <a:off x="1064520" y="4030920"/>
              <a:ext cx="352080" cy="12672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04" name="圆角矩形 14"/>
          <p:cNvSpPr/>
          <p:nvPr/>
        </p:nvSpPr>
        <p:spPr>
          <a:xfrm>
            <a:off x="5456160" y="2593800"/>
            <a:ext cx="3279960" cy="3043440"/>
          </a:xfrm>
          <a:prstGeom prst="roundRect">
            <a:avLst>
              <a:gd name="adj" fmla="val 9685"/>
            </a:avLst>
          </a:prstGeom>
          <a:noFill/>
          <a:ln w="7632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TextBox 57"/>
          <p:cNvSpPr/>
          <p:nvPr/>
        </p:nvSpPr>
        <p:spPr>
          <a:xfrm>
            <a:off x="5929200" y="2732040"/>
            <a:ext cx="25005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bbda"/>
                </a:solidFill>
                <a:latin typeface="Calibri"/>
              </a:rPr>
              <a:t>Tex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6bbda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58"/>
          <p:cNvSpPr/>
          <p:nvPr/>
        </p:nvSpPr>
        <p:spPr>
          <a:xfrm>
            <a:off x="5783400" y="4138560"/>
            <a:ext cx="261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直接连接符 17"/>
          <p:cNvSpPr/>
          <p:nvPr/>
        </p:nvSpPr>
        <p:spPr>
          <a:xfrm flipV="1">
            <a:off x="5686560" y="4039920"/>
            <a:ext cx="2865240" cy="27000"/>
          </a:xfrm>
          <a:prstGeom prst="line">
            <a:avLst/>
          </a:prstGeom>
          <a:ln w="76320">
            <a:solidFill>
              <a:srgbClr val="897dc1">
                <a:alpha val="2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TextBox 63"/>
          <p:cNvSpPr/>
          <p:nvPr/>
        </p:nvSpPr>
        <p:spPr>
          <a:xfrm>
            <a:off x="500040" y="1378080"/>
            <a:ext cx="371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TextBox 64"/>
          <p:cNvSpPr/>
          <p:nvPr/>
        </p:nvSpPr>
        <p:spPr>
          <a:xfrm>
            <a:off x="2316240" y="3703680"/>
            <a:ext cx="261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TextBox 49"/>
          <p:cNvSpPr/>
          <p:nvPr/>
        </p:nvSpPr>
        <p:spPr>
          <a:xfrm>
            <a:off x="2776680" y="18511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TextBox 50"/>
          <p:cNvSpPr/>
          <p:nvPr/>
        </p:nvSpPr>
        <p:spPr>
          <a:xfrm>
            <a:off x="4562640" y="4836960"/>
            <a:ext cx="203184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TextBox 51"/>
          <p:cNvSpPr/>
          <p:nvPr/>
        </p:nvSpPr>
        <p:spPr>
          <a:xfrm>
            <a:off x="1006560" y="483696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52"/>
          <p:cNvSpPr/>
          <p:nvPr/>
        </p:nvSpPr>
        <p:spPr>
          <a:xfrm>
            <a:off x="6568920" y="1757520"/>
            <a:ext cx="20304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TextBox 54"/>
          <p:cNvSpPr/>
          <p:nvPr/>
        </p:nvSpPr>
        <p:spPr>
          <a:xfrm>
            <a:off x="858960" y="133812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-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6" name="Group 8"/>
          <p:cNvGrpSpPr/>
          <p:nvPr/>
        </p:nvGrpSpPr>
        <p:grpSpPr>
          <a:xfrm>
            <a:off x="781200" y="2716200"/>
            <a:ext cx="7645320" cy="2265480"/>
            <a:chOff x="781200" y="2716200"/>
            <a:chExt cx="7645320" cy="2265480"/>
          </a:xfrm>
        </p:grpSpPr>
        <p:grpSp>
          <p:nvGrpSpPr>
            <p:cNvPr id="417" name="Group 9"/>
            <p:cNvGrpSpPr/>
            <p:nvPr/>
          </p:nvGrpSpPr>
          <p:grpSpPr>
            <a:xfrm>
              <a:off x="4694040" y="3164040"/>
              <a:ext cx="1511280" cy="1791000"/>
              <a:chOff x="4694040" y="3164040"/>
              <a:chExt cx="1511280" cy="1791000"/>
            </a:xfrm>
          </p:grpSpPr>
          <p:sp>
            <p:nvSpPr>
              <p:cNvPr id="418" name="矩形 9"/>
              <p:cNvSpPr/>
              <p:nvPr/>
            </p:nvSpPr>
            <p:spPr>
              <a:xfrm>
                <a:off x="5316120" y="4278240"/>
                <a:ext cx="111600" cy="487440"/>
              </a:xfrm>
              <a:prstGeom prst="rect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流程图: 决策 36"/>
              <p:cNvSpPr/>
              <p:nvPr/>
            </p:nvSpPr>
            <p:spPr>
              <a:xfrm>
                <a:off x="5662440" y="3654360"/>
                <a:ext cx="542880" cy="361800"/>
              </a:xfrm>
              <a:prstGeom prst="flowChartDecision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20" name="组合 5" descr=""/>
              <p:cNvPicPr/>
              <p:nvPr/>
            </p:nvPicPr>
            <p:blipFill>
              <a:blip r:embed="rId2"/>
              <a:stretch/>
            </p:blipFill>
            <p:spPr>
              <a:xfrm>
                <a:off x="4694040" y="3164040"/>
                <a:ext cx="1305360" cy="1306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椭圆 7"/>
              <p:cNvSpPr/>
              <p:nvPr/>
            </p:nvSpPr>
            <p:spPr>
              <a:xfrm>
                <a:off x="5221800" y="4644720"/>
                <a:ext cx="311400" cy="310320"/>
              </a:xfrm>
              <a:prstGeom prst="ellipse">
                <a:avLst/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2" name="Group 14"/>
            <p:cNvGrpSpPr/>
            <p:nvPr/>
          </p:nvGrpSpPr>
          <p:grpSpPr>
            <a:xfrm>
              <a:off x="2945880" y="2716200"/>
              <a:ext cx="1512000" cy="1769400"/>
              <a:chOff x="2945880" y="2716200"/>
              <a:chExt cx="1512000" cy="1769400"/>
            </a:xfrm>
          </p:grpSpPr>
          <p:sp>
            <p:nvSpPr>
              <p:cNvPr id="423" name="矩形 28"/>
              <p:cNvSpPr/>
              <p:nvPr/>
            </p:nvSpPr>
            <p:spPr>
              <a:xfrm>
                <a:off x="3543120" y="2951640"/>
                <a:ext cx="112320" cy="49176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流程图: 决策 15"/>
              <p:cNvSpPr/>
              <p:nvPr/>
            </p:nvSpPr>
            <p:spPr>
              <a:xfrm>
                <a:off x="3911040" y="3679200"/>
                <a:ext cx="546840" cy="365040"/>
              </a:xfrm>
              <a:prstGeom prst="flowChartDecision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425" name="组合 5" descr=""/>
              <p:cNvPicPr/>
              <p:nvPr/>
            </p:nvPicPr>
            <p:blipFill>
              <a:blip r:embed="rId3"/>
              <a:stretch/>
            </p:blipFill>
            <p:spPr>
              <a:xfrm>
                <a:off x="2945880" y="3198240"/>
                <a:ext cx="1296720" cy="128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" name="椭圆 31"/>
              <p:cNvSpPr/>
              <p:nvPr/>
            </p:nvSpPr>
            <p:spPr>
              <a:xfrm>
                <a:off x="3448080" y="2716200"/>
                <a:ext cx="313920" cy="312840"/>
              </a:xfrm>
              <a:prstGeom prst="ellipse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427" name="组合 22" descr=""/>
            <p:cNvPicPr/>
            <p:nvPr/>
          </p:nvPicPr>
          <p:blipFill>
            <a:blip r:embed="rId4"/>
            <a:stretch/>
          </p:blipFill>
          <p:spPr>
            <a:xfrm>
              <a:off x="1108800" y="3179520"/>
              <a:ext cx="1511640" cy="1802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8" name="Group 20"/>
            <p:cNvGrpSpPr/>
            <p:nvPr/>
          </p:nvGrpSpPr>
          <p:grpSpPr>
            <a:xfrm>
              <a:off x="6620400" y="2733480"/>
              <a:ext cx="1604160" cy="1903680"/>
              <a:chOff x="6620400" y="2733480"/>
              <a:chExt cx="1604160" cy="1903680"/>
            </a:xfrm>
          </p:grpSpPr>
          <p:pic>
            <p:nvPicPr>
              <p:cNvPr id="429" name="组合 5" descr=""/>
              <p:cNvPicPr/>
              <p:nvPr/>
            </p:nvPicPr>
            <p:blipFill>
              <a:blip r:embed="rId5"/>
              <a:stretch/>
            </p:blipFill>
            <p:spPr>
              <a:xfrm>
                <a:off x="6620400" y="3026160"/>
                <a:ext cx="1604160" cy="161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椭圆 17"/>
              <p:cNvSpPr/>
              <p:nvPr/>
            </p:nvSpPr>
            <p:spPr>
              <a:xfrm>
                <a:off x="7225560" y="2733480"/>
                <a:ext cx="383400" cy="384840"/>
              </a:xfrm>
              <a:prstGeom prst="ellipse">
                <a:avLst/>
              </a:prstGeom>
              <a:solidFill>
                <a:srgbClr val="9eca06"/>
              </a:solidFill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1" name="直接连接符 12"/>
            <p:cNvSpPr/>
            <p:nvPr/>
          </p:nvSpPr>
          <p:spPr>
            <a:xfrm>
              <a:off x="781200" y="4784400"/>
              <a:ext cx="1950840" cy="12600"/>
            </a:xfrm>
            <a:prstGeom prst="line">
              <a:avLst/>
            </a:prstGeom>
            <a:ln w="38160">
              <a:solidFill>
                <a:srgbClr val="36bbda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直接连接符 13"/>
            <p:cNvSpPr/>
            <p:nvPr/>
          </p:nvSpPr>
          <p:spPr>
            <a:xfrm>
              <a:off x="2611440" y="2856600"/>
              <a:ext cx="1952640" cy="14040"/>
            </a:xfrm>
            <a:prstGeom prst="line">
              <a:avLst/>
            </a:prstGeom>
            <a:ln w="38160">
              <a:solidFill>
                <a:srgbClr val="44b093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直接连接符 14"/>
            <p:cNvSpPr/>
            <p:nvPr/>
          </p:nvSpPr>
          <p:spPr>
            <a:xfrm>
              <a:off x="4332240" y="4812840"/>
              <a:ext cx="1950840" cy="14040"/>
            </a:xfrm>
            <a:prstGeom prst="line">
              <a:avLst/>
            </a:prstGeom>
            <a:ln w="38160">
              <a:solidFill>
                <a:srgbClr val="ffa90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直接连接符 15"/>
            <p:cNvSpPr/>
            <p:nvPr/>
          </p:nvSpPr>
          <p:spPr>
            <a:xfrm>
              <a:off x="6475680" y="2897640"/>
              <a:ext cx="1950840" cy="14040"/>
            </a:xfrm>
            <a:prstGeom prst="line">
              <a:avLst/>
            </a:prstGeom>
            <a:ln w="38160">
              <a:solidFill>
                <a:srgbClr val="9eca06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5" name="Group 2"/>
          <p:cNvGrpSpPr/>
          <p:nvPr/>
        </p:nvGrpSpPr>
        <p:grpSpPr>
          <a:xfrm>
            <a:off x="2604960" y="1906560"/>
            <a:ext cx="3809160" cy="3902760"/>
            <a:chOff x="2604960" y="1906560"/>
            <a:chExt cx="3809160" cy="3902760"/>
          </a:xfrm>
        </p:grpSpPr>
        <p:sp>
          <p:nvSpPr>
            <p:cNvPr id="436" name="椭圆 2"/>
            <p:cNvSpPr/>
            <p:nvPr/>
          </p:nvSpPr>
          <p:spPr>
            <a:xfrm>
              <a:off x="3560760" y="3139920"/>
              <a:ext cx="1482840" cy="1481040"/>
            </a:xfrm>
            <a:prstGeom prst="ellipse">
              <a:avLst/>
            </a:prstGeom>
            <a:noFill/>
            <a:ln w="127080">
              <a:solidFill>
                <a:srgbClr val="2091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7" name="Group 4"/>
            <p:cNvGrpSpPr/>
            <p:nvPr/>
          </p:nvGrpSpPr>
          <p:grpSpPr>
            <a:xfrm>
              <a:off x="4586040" y="1906560"/>
              <a:ext cx="692640" cy="1246680"/>
              <a:chOff x="4586040" y="1906560"/>
              <a:chExt cx="692640" cy="1246680"/>
            </a:xfrm>
          </p:grpSpPr>
          <p:sp>
            <p:nvSpPr>
              <p:cNvPr id="438" name="直接连接符 4"/>
              <p:cNvSpPr/>
              <p:nvPr/>
            </p:nvSpPr>
            <p:spPr>
              <a:xfrm flipH="1">
                <a:off x="4586040" y="2182680"/>
                <a:ext cx="498960" cy="97056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椭圆 8"/>
              <p:cNvSpPr/>
              <p:nvPr/>
            </p:nvSpPr>
            <p:spPr>
              <a:xfrm>
                <a:off x="5015160" y="1906560"/>
                <a:ext cx="263520" cy="2635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0" name="Group 7"/>
            <p:cNvGrpSpPr/>
            <p:nvPr/>
          </p:nvGrpSpPr>
          <p:grpSpPr>
            <a:xfrm>
              <a:off x="4821120" y="2497680"/>
              <a:ext cx="962280" cy="876960"/>
              <a:chOff x="4821120" y="2497680"/>
              <a:chExt cx="962280" cy="876960"/>
            </a:xfrm>
          </p:grpSpPr>
          <p:sp>
            <p:nvSpPr>
              <p:cNvPr id="441" name="椭圆 12"/>
              <p:cNvSpPr/>
              <p:nvPr/>
            </p:nvSpPr>
            <p:spPr>
              <a:xfrm rot="999000">
                <a:off x="5564160" y="2521440"/>
                <a:ext cx="195120" cy="195120"/>
              </a:xfrm>
              <a:prstGeom prst="ellipse">
                <a:avLst/>
              </a:prstGeom>
              <a:noFill/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直接连接符 15"/>
              <p:cNvSpPr/>
              <p:nvPr/>
            </p:nvSpPr>
            <p:spPr>
              <a:xfrm flipH="1">
                <a:off x="4821120" y="2665800"/>
                <a:ext cx="754200" cy="708840"/>
              </a:xfrm>
              <a:prstGeom prst="line">
                <a:avLst/>
              </a:prstGeom>
              <a:ln w="7632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3" name="Group 10"/>
            <p:cNvGrpSpPr/>
            <p:nvPr/>
          </p:nvGrpSpPr>
          <p:grpSpPr>
            <a:xfrm>
              <a:off x="5077800" y="3174120"/>
              <a:ext cx="1336320" cy="478080"/>
              <a:chOff x="5077800" y="3174120"/>
              <a:chExt cx="1336320" cy="478080"/>
            </a:xfrm>
          </p:grpSpPr>
          <p:sp>
            <p:nvSpPr>
              <p:cNvPr id="444" name="直接连接符 21"/>
              <p:cNvSpPr/>
              <p:nvPr/>
            </p:nvSpPr>
            <p:spPr>
              <a:xfrm flipH="1">
                <a:off x="5077800" y="3396600"/>
                <a:ext cx="1016640" cy="25560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椭圆 22"/>
              <p:cNvSpPr/>
              <p:nvPr/>
            </p:nvSpPr>
            <p:spPr>
              <a:xfrm rot="2982600">
                <a:off x="6114600" y="3222360"/>
                <a:ext cx="245160" cy="25560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6" name="Group 13"/>
            <p:cNvGrpSpPr/>
            <p:nvPr/>
          </p:nvGrpSpPr>
          <p:grpSpPr>
            <a:xfrm>
              <a:off x="5081400" y="3933720"/>
              <a:ext cx="1252800" cy="286200"/>
              <a:chOff x="5081400" y="3933720"/>
              <a:chExt cx="1252800" cy="286200"/>
            </a:xfrm>
          </p:grpSpPr>
          <p:sp>
            <p:nvSpPr>
              <p:cNvPr id="447" name="椭圆 24"/>
              <p:cNvSpPr/>
              <p:nvPr/>
            </p:nvSpPr>
            <p:spPr>
              <a:xfrm rot="4129800">
                <a:off x="6108840" y="3994920"/>
                <a:ext cx="196920" cy="195120"/>
              </a:xfrm>
              <a:prstGeom prst="ellipse">
                <a:avLst/>
              </a:prstGeom>
              <a:noFill/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直接连接符 25"/>
              <p:cNvSpPr/>
              <p:nvPr/>
            </p:nvSpPr>
            <p:spPr>
              <a:xfrm flipH="1" flipV="1">
                <a:off x="5081400" y="3933720"/>
                <a:ext cx="1022760" cy="160560"/>
              </a:xfrm>
              <a:prstGeom prst="line">
                <a:avLst/>
              </a:prstGeom>
              <a:ln w="7632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49" name="Group 16"/>
            <p:cNvGrpSpPr/>
            <p:nvPr/>
          </p:nvGrpSpPr>
          <p:grpSpPr>
            <a:xfrm>
              <a:off x="4901400" y="4360680"/>
              <a:ext cx="996840" cy="812520"/>
              <a:chOff x="4901400" y="4360680"/>
              <a:chExt cx="996840" cy="812520"/>
            </a:xfrm>
          </p:grpSpPr>
          <p:sp>
            <p:nvSpPr>
              <p:cNvPr id="450" name="直接连接符 28"/>
              <p:cNvSpPr/>
              <p:nvPr/>
            </p:nvSpPr>
            <p:spPr>
              <a:xfrm flipH="1" flipV="1">
                <a:off x="4901400" y="4360680"/>
                <a:ext cx="750240" cy="5515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1" name="椭圆 29"/>
              <p:cNvSpPr/>
              <p:nvPr/>
            </p:nvSpPr>
            <p:spPr>
              <a:xfrm rot="5864400">
                <a:off x="5617800" y="4892760"/>
                <a:ext cx="263520" cy="26388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52" name="Group 19"/>
            <p:cNvGrpSpPr/>
            <p:nvPr/>
          </p:nvGrpSpPr>
          <p:grpSpPr>
            <a:xfrm>
              <a:off x="4644000" y="4632120"/>
              <a:ext cx="596880" cy="1177200"/>
              <a:chOff x="4644000" y="4632120"/>
              <a:chExt cx="596880" cy="1177200"/>
            </a:xfrm>
          </p:grpSpPr>
          <p:sp>
            <p:nvSpPr>
              <p:cNvPr id="453" name="椭圆 33"/>
              <p:cNvSpPr/>
              <p:nvPr/>
            </p:nvSpPr>
            <p:spPr>
              <a:xfrm rot="7615200">
                <a:off x="5005080" y="5574600"/>
                <a:ext cx="196920" cy="194760"/>
              </a:xfrm>
              <a:prstGeom prst="ellipse">
                <a:avLst/>
              </a:prstGeom>
              <a:noFill/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直接连接符 34"/>
              <p:cNvSpPr/>
              <p:nvPr/>
            </p:nvSpPr>
            <p:spPr>
              <a:xfrm flipH="1" flipV="1">
                <a:off x="4644000" y="4632120"/>
                <a:ext cx="403560" cy="952920"/>
              </a:xfrm>
              <a:prstGeom prst="line">
                <a:avLst/>
              </a:prstGeom>
              <a:ln w="7632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5" name="弧形 36"/>
            <p:cNvSpPr/>
            <p:nvPr/>
          </p:nvSpPr>
          <p:spPr>
            <a:xfrm>
              <a:off x="3384360" y="2874960"/>
              <a:ext cx="1982880" cy="1982880"/>
            </a:xfrm>
            <a:custGeom>
              <a:avLst/>
              <a:gdLst>
                <a:gd name="textAreaLeft" fmla="*/ 0 w 1982880"/>
                <a:gd name="textAreaRight" fmla="*/ 1983240 w 1982880"/>
                <a:gd name="textAreaTop" fmla="*/ 0 h 1982880"/>
                <a:gd name="textAreaBottom" fmla="*/ 1983240 h 1982880"/>
              </a:gdLst>
              <a:ahLst/>
              <a:rect l="textAreaLeft" t="textAreaTop" r="textAreaRight" b="textAreaBottom"/>
              <a:pathLst>
                <a:path stroke="0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  <a:lnTo>
                    <a:pt x="991588" y="991557"/>
                  </a:lnTo>
                  <a:lnTo>
                    <a:pt x="1289827" y="45912"/>
                  </a:lnTo>
                  <a:close/>
                </a:path>
                <a:path fill="none" w="1983176" h="1983114">
                  <a:moveTo>
                    <a:pt x="1289827" y="45912"/>
                  </a:moveTo>
                  <a:cubicBezTo>
                    <a:pt x="1700706" y="175488"/>
                    <a:pt x="1980900" y="555541"/>
                    <a:pt x="1983162" y="986350"/>
                  </a:cubicBezTo>
                  <a:cubicBezTo>
                    <a:pt x="1985424" y="1417159"/>
                    <a:pt x="1709238" y="1800134"/>
                    <a:pt x="1299742" y="1934018"/>
                  </a:cubicBezTo>
                </a:path>
              </a:pathLst>
            </a:custGeom>
            <a:noFill/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直接连接符 38"/>
            <p:cNvSpPr/>
            <p:nvPr/>
          </p:nvSpPr>
          <p:spPr>
            <a:xfrm flipH="1" flipV="1">
              <a:off x="3033360" y="2931840"/>
              <a:ext cx="637920" cy="42840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直接连接符 39"/>
            <p:cNvSpPr/>
            <p:nvPr/>
          </p:nvSpPr>
          <p:spPr>
            <a:xfrm flipH="1" flipV="1">
              <a:off x="2729880" y="3735000"/>
              <a:ext cx="747720" cy="1404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8" name="直接连接符 41"/>
            <p:cNvSpPr/>
            <p:nvPr/>
          </p:nvSpPr>
          <p:spPr>
            <a:xfrm flipH="1">
              <a:off x="2853720" y="4218840"/>
              <a:ext cx="734760" cy="345960"/>
            </a:xfrm>
            <a:prstGeom prst="line">
              <a:avLst/>
            </a:prstGeom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9" name="椭圆 43"/>
            <p:cNvSpPr/>
            <p:nvPr/>
          </p:nvSpPr>
          <p:spPr>
            <a:xfrm>
              <a:off x="2839680" y="2765160"/>
              <a:ext cx="22212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0" name="椭圆 44"/>
            <p:cNvSpPr/>
            <p:nvPr/>
          </p:nvSpPr>
          <p:spPr>
            <a:xfrm>
              <a:off x="2604960" y="3597120"/>
              <a:ext cx="222120" cy="2203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1" name="椭圆 45"/>
            <p:cNvSpPr/>
            <p:nvPr/>
          </p:nvSpPr>
          <p:spPr>
            <a:xfrm>
              <a:off x="2730240" y="4483080"/>
              <a:ext cx="220680" cy="222120"/>
            </a:xfrm>
            <a:prstGeom prst="ellipse">
              <a:avLst/>
            </a:prstGeom>
            <a:solidFill>
              <a:srgbClr val="bcbcbc"/>
            </a:solidFill>
            <a:ln w="2556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2" name="TextBox 47"/>
          <p:cNvSpPr/>
          <p:nvPr/>
        </p:nvSpPr>
        <p:spPr>
          <a:xfrm>
            <a:off x="5348160" y="13381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Box 48"/>
          <p:cNvSpPr/>
          <p:nvPr/>
        </p:nvSpPr>
        <p:spPr>
          <a:xfrm>
            <a:off x="5805360" y="2266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44b09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44b093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Box 49"/>
          <p:cNvSpPr/>
          <p:nvPr/>
        </p:nvSpPr>
        <p:spPr>
          <a:xfrm>
            <a:off x="6470640" y="3000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Box 50"/>
          <p:cNvSpPr/>
          <p:nvPr/>
        </p:nvSpPr>
        <p:spPr>
          <a:xfrm>
            <a:off x="6388200" y="4011480"/>
            <a:ext cx="235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a90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ffa902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Box 51"/>
          <p:cNvSpPr/>
          <p:nvPr/>
        </p:nvSpPr>
        <p:spPr>
          <a:xfrm>
            <a:off x="5943600" y="48848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Box 53"/>
          <p:cNvSpPr/>
          <p:nvPr/>
        </p:nvSpPr>
        <p:spPr>
          <a:xfrm>
            <a:off x="5181480" y="56754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9eca06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9eca06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TextBox 54"/>
          <p:cNvSpPr/>
          <p:nvPr/>
        </p:nvSpPr>
        <p:spPr>
          <a:xfrm>
            <a:off x="498600" y="23353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TextBox 55"/>
          <p:cNvSpPr/>
          <p:nvPr/>
        </p:nvSpPr>
        <p:spPr>
          <a:xfrm>
            <a:off x="318960" y="337500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TextBox 56"/>
          <p:cNvSpPr/>
          <p:nvPr/>
        </p:nvSpPr>
        <p:spPr>
          <a:xfrm>
            <a:off x="498600" y="455292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TO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2"/>
          <p:cNvGrpSpPr/>
          <p:nvPr/>
        </p:nvGrpSpPr>
        <p:grpSpPr>
          <a:xfrm>
            <a:off x="887400" y="2824200"/>
            <a:ext cx="1251000" cy="3099960"/>
            <a:chOff x="887400" y="2824200"/>
            <a:chExt cx="1251000" cy="3099960"/>
          </a:xfrm>
        </p:grpSpPr>
        <p:sp>
          <p:nvSpPr>
            <p:cNvPr id="473" name="圆角矩形 4"/>
            <p:cNvSpPr/>
            <p:nvPr/>
          </p:nvSpPr>
          <p:spPr>
            <a:xfrm>
              <a:off x="887400" y="28242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椭圆 6"/>
            <p:cNvSpPr/>
            <p:nvPr/>
          </p:nvSpPr>
          <p:spPr>
            <a:xfrm>
              <a:off x="950760" y="2925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TextBox 7"/>
            <p:cNvSpPr/>
            <p:nvPr/>
          </p:nvSpPr>
          <p:spPr>
            <a:xfrm>
              <a:off x="1239480" y="54644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6" name="TextBox 8"/>
            <p:cNvSpPr/>
            <p:nvPr/>
          </p:nvSpPr>
          <p:spPr>
            <a:xfrm>
              <a:off x="1103040" y="4317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7" name="Group 7"/>
          <p:cNvGrpSpPr/>
          <p:nvPr/>
        </p:nvGrpSpPr>
        <p:grpSpPr>
          <a:xfrm>
            <a:off x="6840360" y="2838600"/>
            <a:ext cx="1251000" cy="3099960"/>
            <a:chOff x="6840360" y="2838600"/>
            <a:chExt cx="1251000" cy="3099960"/>
          </a:xfrm>
        </p:grpSpPr>
        <p:sp>
          <p:nvSpPr>
            <p:cNvPr id="478" name="圆角矩形 33"/>
            <p:cNvSpPr/>
            <p:nvPr/>
          </p:nvSpPr>
          <p:spPr>
            <a:xfrm>
              <a:off x="6840360" y="2838600"/>
              <a:ext cx="1251000" cy="306864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8640"/>
                <a:gd name="textAreaBottom" fmla="*/ 2885400 h 3068640"/>
              </a:gdLst>
              <a:ahLst/>
              <a:rect l="textAreaLeft" t="textAreaTop" r="textAreaRight" b="textAreaBottom"/>
              <a:pathLst>
                <a:path w="21600" h="52975">
                  <a:moveTo>
                    <a:pt x="10800" y="0"/>
                  </a:moveTo>
                  <a:arcTo wR="10800" hR="10800" stAng="16200000" swAng="-5400000"/>
                  <a:lnTo>
                    <a:pt x="0" y="42175"/>
                  </a:lnTo>
                  <a:arcTo wR="10800" hR="10800" stAng="10800000" swAng="-5400000"/>
                  <a:lnTo>
                    <a:pt x="10800" y="52975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9" name="椭圆 34"/>
            <p:cNvSpPr/>
            <p:nvPr/>
          </p:nvSpPr>
          <p:spPr>
            <a:xfrm>
              <a:off x="6903720" y="29401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0" name="TextBox 35"/>
            <p:cNvSpPr/>
            <p:nvPr/>
          </p:nvSpPr>
          <p:spPr>
            <a:xfrm>
              <a:off x="7192440" y="5478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TextBox 36"/>
            <p:cNvSpPr/>
            <p:nvPr/>
          </p:nvSpPr>
          <p:spPr>
            <a:xfrm>
              <a:off x="7056000" y="43322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2" name="Group 12"/>
          <p:cNvGrpSpPr/>
          <p:nvPr/>
        </p:nvGrpSpPr>
        <p:grpSpPr>
          <a:xfrm>
            <a:off x="5396040" y="2838600"/>
            <a:ext cx="1249200" cy="3099960"/>
            <a:chOff x="5396040" y="2838600"/>
            <a:chExt cx="1249200" cy="3099960"/>
          </a:xfrm>
        </p:grpSpPr>
        <p:sp>
          <p:nvSpPr>
            <p:cNvPr id="483" name="圆角矩形 38"/>
            <p:cNvSpPr/>
            <p:nvPr/>
          </p:nvSpPr>
          <p:spPr>
            <a:xfrm>
              <a:off x="5396040" y="2838600"/>
              <a:ext cx="1249200" cy="3068640"/>
            </a:xfrm>
            <a:custGeom>
              <a:avLst/>
              <a:gdLst>
                <a:gd name="textAreaLeft" fmla="*/ 182880 w 1249200"/>
                <a:gd name="textAreaRight" fmla="*/ 1066320 w 1249200"/>
                <a:gd name="textAreaTop" fmla="*/ 182880 h 3068640"/>
                <a:gd name="textAreaBottom" fmla="*/ 2885760 h 3068640"/>
              </a:gdLst>
              <a:ahLst/>
              <a:rect l="textAreaLeft" t="textAreaTop" r="textAreaRight" b="textAreaBottom"/>
              <a:pathLst>
                <a:path w="21600" h="53051">
                  <a:moveTo>
                    <a:pt x="10800" y="0"/>
                  </a:moveTo>
                  <a:arcTo wR="10800" hR="10800" stAng="16200000" swAng="-5400000"/>
                  <a:lnTo>
                    <a:pt x="0" y="42251"/>
                  </a:lnTo>
                  <a:arcTo wR="10800" hR="10800" stAng="10800000" swAng="-5400000"/>
                  <a:lnTo>
                    <a:pt x="10800" y="5305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椭圆 39"/>
            <p:cNvSpPr/>
            <p:nvPr/>
          </p:nvSpPr>
          <p:spPr>
            <a:xfrm>
              <a:off x="5459400" y="2940120"/>
              <a:ext cx="11224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Box 40"/>
            <p:cNvSpPr/>
            <p:nvPr/>
          </p:nvSpPr>
          <p:spPr>
            <a:xfrm>
              <a:off x="5747760" y="5478840"/>
              <a:ext cx="54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TextBox 41"/>
            <p:cNvSpPr/>
            <p:nvPr/>
          </p:nvSpPr>
          <p:spPr>
            <a:xfrm>
              <a:off x="5611320" y="4332240"/>
              <a:ext cx="845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7" name="Group 17"/>
          <p:cNvGrpSpPr/>
          <p:nvPr/>
        </p:nvGrpSpPr>
        <p:grpSpPr>
          <a:xfrm>
            <a:off x="2438280" y="2797200"/>
            <a:ext cx="1251000" cy="3100320"/>
            <a:chOff x="2438280" y="2797200"/>
            <a:chExt cx="1251000" cy="3100320"/>
          </a:xfrm>
        </p:grpSpPr>
        <p:sp>
          <p:nvSpPr>
            <p:cNvPr id="488" name="圆角矩形 49"/>
            <p:cNvSpPr/>
            <p:nvPr/>
          </p:nvSpPr>
          <p:spPr>
            <a:xfrm>
              <a:off x="2438280" y="279720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58ad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9" name="椭圆 50"/>
            <p:cNvSpPr/>
            <p:nvPr/>
          </p:nvSpPr>
          <p:spPr>
            <a:xfrm>
              <a:off x="2501640" y="289872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0" name="TextBox 51"/>
            <p:cNvSpPr/>
            <p:nvPr/>
          </p:nvSpPr>
          <p:spPr>
            <a:xfrm>
              <a:off x="2790360" y="543780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1" name="TextBox 52"/>
            <p:cNvSpPr/>
            <p:nvPr/>
          </p:nvSpPr>
          <p:spPr>
            <a:xfrm>
              <a:off x="2653920" y="429084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2" name="环形箭头 55"/>
          <p:cNvSpPr/>
          <p:nvPr/>
        </p:nvSpPr>
        <p:spPr>
          <a:xfrm>
            <a:off x="4572000" y="1787400"/>
            <a:ext cx="3198960" cy="2382840"/>
          </a:xfrm>
          <a:custGeom>
            <a:avLst/>
            <a:gdLst>
              <a:gd name="textAreaLeft" fmla="*/ 0 w 3198960"/>
              <a:gd name="textAreaRight" fmla="*/ 3199320 w 3198960"/>
              <a:gd name="textAreaTop" fmla="*/ 0 h 2382840"/>
              <a:gd name="textAreaBottom" fmla="*/ 2382840 h 2382840"/>
            </a:gdLst>
            <a:ahLst/>
            <a:rect l="textAreaLeft" t="textAreaTop" r="textAreaRight" b="textAreaBottom"/>
            <a:pathLst>
              <a:path w="3198813" h="2382838">
                <a:moveTo>
                  <a:pt x="1885768" y="186575"/>
                </a:moveTo>
                <a:cubicBezTo>
                  <a:pt x="2325818" y="250756"/>
                  <a:pt x="2698391" y="458762"/>
                  <a:pt x="2892340" y="748541"/>
                </a:cubicBezTo>
                <a:lnTo>
                  <a:pt x="3051954" y="726521"/>
                </a:lnTo>
                <a:lnTo>
                  <a:pt x="2962122" y="1003419"/>
                </a:lnTo>
                <a:lnTo>
                  <a:pt x="2634054" y="784174"/>
                </a:lnTo>
                <a:lnTo>
                  <a:pt x="2793120" y="762229"/>
                </a:lnTo>
                <a:cubicBezTo>
                  <a:pt x="2605398" y="509080"/>
                  <a:pt x="2262232" y="329298"/>
                  <a:pt x="1860898" y="273844"/>
                </a:cubicBezTo>
                <a:lnTo>
                  <a:pt x="1885768" y="186575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环形箭头 56"/>
          <p:cNvSpPr/>
          <p:nvPr/>
        </p:nvSpPr>
        <p:spPr>
          <a:xfrm flipH="1">
            <a:off x="1145520" y="1735200"/>
            <a:ext cx="3220920" cy="2382840"/>
          </a:xfrm>
          <a:custGeom>
            <a:avLst/>
            <a:gdLst>
              <a:gd name="textAreaLeft" fmla="*/ -360 w 3220920"/>
              <a:gd name="textAreaRight" fmla="*/ 3220920 w 3220920"/>
              <a:gd name="textAreaTop" fmla="*/ 0 h 2382840"/>
              <a:gd name="textAreaBottom" fmla="*/ 2383200 h 2382840"/>
            </a:gdLst>
            <a:ahLst/>
            <a:rect l="textAreaLeft" t="textAreaTop" r="textAreaRight" b="textAreaBottom"/>
            <a:pathLst>
              <a:path w="3221038" h="2382837">
                <a:moveTo>
                  <a:pt x="1896968" y="186268"/>
                </a:moveTo>
                <a:cubicBezTo>
                  <a:pt x="2339799" y="249864"/>
                  <a:pt x="2715215" y="456871"/>
                  <a:pt x="2911570" y="745726"/>
                </a:cubicBezTo>
                <a:lnTo>
                  <a:pt x="3071032" y="723727"/>
                </a:lnTo>
                <a:lnTo>
                  <a:pt x="2983735" y="1001969"/>
                </a:lnTo>
                <a:lnTo>
                  <a:pt x="2653132" y="781381"/>
                </a:lnTo>
                <a:lnTo>
                  <a:pt x="2812027" y="759459"/>
                </a:lnTo>
                <a:cubicBezTo>
                  <a:pt x="2621919" y="507262"/>
                  <a:pt x="2276046" y="328463"/>
                  <a:pt x="1872090" y="273559"/>
                </a:cubicBezTo>
                <a:lnTo>
                  <a:pt x="1896968" y="186268"/>
                </a:lnTo>
                <a:close/>
              </a:path>
            </a:pathLst>
          </a:custGeom>
          <a:solidFill>
            <a:srgbClr val="4f9fd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TextBox 57"/>
          <p:cNvSpPr/>
          <p:nvPr/>
        </p:nvSpPr>
        <p:spPr>
          <a:xfrm>
            <a:off x="2660760" y="1609560"/>
            <a:ext cx="37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XT BORECREATION C AND 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NLY USE FOR STUDY AND CONMUNICAT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Group 26"/>
          <p:cNvGrpSpPr/>
          <p:nvPr/>
        </p:nvGrpSpPr>
        <p:grpSpPr>
          <a:xfrm>
            <a:off x="3949560" y="2786040"/>
            <a:ext cx="1251000" cy="3100320"/>
            <a:chOff x="3949560" y="2786040"/>
            <a:chExt cx="1251000" cy="3100320"/>
          </a:xfrm>
        </p:grpSpPr>
        <p:sp>
          <p:nvSpPr>
            <p:cNvPr id="497" name="圆角矩形 31"/>
            <p:cNvSpPr/>
            <p:nvPr/>
          </p:nvSpPr>
          <p:spPr>
            <a:xfrm>
              <a:off x="3949560" y="2786040"/>
              <a:ext cx="1251000" cy="3069000"/>
            </a:xfrm>
            <a:custGeom>
              <a:avLst/>
              <a:gdLst>
                <a:gd name="textAreaLeft" fmla="*/ 183240 w 1251000"/>
                <a:gd name="textAreaRight" fmla="*/ 1067760 w 1251000"/>
                <a:gd name="textAreaTop" fmla="*/ 183240 h 3069000"/>
                <a:gd name="textAreaBottom" fmla="*/ 2885760 h 3069000"/>
              </a:gdLst>
              <a:ahLst/>
              <a:rect l="textAreaLeft" t="textAreaTop" r="textAreaRight" b="textAreaBottom"/>
              <a:pathLst>
                <a:path w="21600" h="52981">
                  <a:moveTo>
                    <a:pt x="10800" y="0"/>
                  </a:moveTo>
                  <a:arcTo wR="10800" hR="10800" stAng="16200000" swAng="-5400000"/>
                  <a:lnTo>
                    <a:pt x="0" y="42181"/>
                  </a:lnTo>
                  <a:arcTo wR="10800" hR="10800" stAng="10800000" swAng="-5400000"/>
                  <a:lnTo>
                    <a:pt x="10800" y="52981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4f9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8" name="椭圆 32"/>
            <p:cNvSpPr/>
            <p:nvPr/>
          </p:nvSpPr>
          <p:spPr>
            <a:xfrm>
              <a:off x="4012920" y="2887560"/>
              <a:ext cx="1124280" cy="1120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9" name="TextBox 35"/>
            <p:cNvSpPr/>
            <p:nvPr/>
          </p:nvSpPr>
          <p:spPr>
            <a:xfrm>
              <a:off x="4301640" y="54266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0" name="TextBox 36"/>
            <p:cNvSpPr/>
            <p:nvPr/>
          </p:nvSpPr>
          <p:spPr>
            <a:xfrm>
              <a:off x="4165200" y="4279680"/>
              <a:ext cx="8470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EXT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1" name="Group 2"/>
          <p:cNvGrpSpPr/>
          <p:nvPr/>
        </p:nvGrpSpPr>
        <p:grpSpPr>
          <a:xfrm>
            <a:off x="1010880" y="1911240"/>
            <a:ext cx="1219320" cy="1511280"/>
            <a:chOff x="1010880" y="1911240"/>
            <a:chExt cx="1219320" cy="1511280"/>
          </a:xfrm>
        </p:grpSpPr>
        <p:sp>
          <p:nvSpPr>
            <p:cNvPr id="502" name="梯形 8"/>
            <p:cNvSpPr/>
            <p:nvPr/>
          </p:nvSpPr>
          <p:spPr>
            <a:xfrm rot="10800000">
              <a:off x="1204560" y="2687040"/>
              <a:ext cx="846360" cy="69372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693720"/>
                <a:gd name="textAreaBottom" fmla="*/ 693720 h 693720"/>
              </a:gdLst>
              <a:ahLst/>
              <a:rect l="textAreaLeft" t="textAreaTop" r="textAreaRight" b="textAreaBottom"/>
              <a:pathLst>
                <a:path w="846137" h="693207">
                  <a:moveTo>
                    <a:pt x="0" y="693207"/>
                  </a:moveTo>
                  <a:lnTo>
                    <a:pt x="173302" y="0"/>
                  </a:lnTo>
                  <a:lnTo>
                    <a:pt x="672835" y="0"/>
                  </a:lnTo>
                  <a:lnTo>
                    <a:pt x="846137" y="693207"/>
                  </a:lnTo>
                  <a:lnTo>
                    <a:pt x="0" y="693207"/>
                  </a:lnTo>
                  <a:close/>
                </a:path>
              </a:pathLst>
            </a:custGeom>
            <a:solidFill>
              <a:srgbClr val="4f9fd4"/>
            </a:solidFill>
            <a:ln w="76320">
              <a:solidFill>
                <a:srgbClr val="4f9f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3" name="梯形 10"/>
            <p:cNvSpPr/>
            <p:nvPr/>
          </p:nvSpPr>
          <p:spPr>
            <a:xfrm rot="10800000">
              <a:off x="1163520" y="2450880"/>
              <a:ext cx="943200" cy="188640"/>
            </a:xfrm>
            <a:custGeom>
              <a:avLst/>
              <a:gdLst>
                <a:gd name="textAreaLeft" fmla="*/ 0 w 943200"/>
                <a:gd name="textAreaRight" fmla="*/ 943560 w 94320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942975" h="188769">
                  <a:moveTo>
                    <a:pt x="0" y="188769"/>
                  </a:moveTo>
                  <a:lnTo>
                    <a:pt x="38063" y="0"/>
                  </a:lnTo>
                  <a:lnTo>
                    <a:pt x="904912" y="0"/>
                  </a:lnTo>
                  <a:lnTo>
                    <a:pt x="942975" y="188769"/>
                  </a:lnTo>
                  <a:lnTo>
                    <a:pt x="0" y="188769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4" name="梯形 4"/>
            <p:cNvSpPr/>
            <p:nvPr/>
          </p:nvSpPr>
          <p:spPr>
            <a:xfrm rot="10800000">
              <a:off x="1010880" y="1911240"/>
              <a:ext cx="1219320" cy="15112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511280"/>
                <a:gd name="textAreaBottom" fmla="*/ 1511640 h 15112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5" name="TextBox 16"/>
            <p:cNvSpPr/>
            <p:nvPr/>
          </p:nvSpPr>
          <p:spPr>
            <a:xfrm>
              <a:off x="1315800" y="239652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6" name="TextBox 17"/>
            <p:cNvSpPr/>
            <p:nvPr/>
          </p:nvSpPr>
          <p:spPr>
            <a:xfrm>
              <a:off x="1302120" y="288180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07" name="Group 8"/>
          <p:cNvGrpSpPr/>
          <p:nvPr/>
        </p:nvGrpSpPr>
        <p:grpSpPr>
          <a:xfrm>
            <a:off x="1010880" y="4128840"/>
            <a:ext cx="1219320" cy="1509480"/>
            <a:chOff x="1010880" y="4128840"/>
            <a:chExt cx="1219320" cy="1509480"/>
          </a:xfrm>
        </p:grpSpPr>
        <p:sp>
          <p:nvSpPr>
            <p:cNvPr id="508" name="梯形 13"/>
            <p:cNvSpPr/>
            <p:nvPr/>
          </p:nvSpPr>
          <p:spPr>
            <a:xfrm rot="10800000">
              <a:off x="1093680" y="4254120"/>
              <a:ext cx="1067040" cy="1314360"/>
            </a:xfrm>
            <a:custGeom>
              <a:avLst/>
              <a:gdLst>
                <a:gd name="textAreaLeft" fmla="*/ 0 w 1067040"/>
                <a:gd name="textAreaRight" fmla="*/ 1067400 w 1067040"/>
                <a:gd name="textAreaTop" fmla="*/ 0 h 1314360"/>
                <a:gd name="textAreaBottom" fmla="*/ 1314720 h 1314360"/>
              </a:gdLst>
              <a:ahLst/>
              <a:rect l="textAreaLeft" t="textAreaTop" r="textAreaRight" b="textAreaBottom"/>
              <a:pathLst>
                <a:path w="1066800" h="1314827">
                  <a:moveTo>
                    <a:pt x="0" y="1314827"/>
                  </a:moveTo>
                  <a:lnTo>
                    <a:pt x="266700" y="0"/>
                  </a:lnTo>
                  <a:lnTo>
                    <a:pt x="800100" y="0"/>
                  </a:lnTo>
                  <a:lnTo>
                    <a:pt x="1066800" y="1314827"/>
                  </a:lnTo>
                  <a:lnTo>
                    <a:pt x="0" y="1314827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09" name="梯形 9"/>
            <p:cNvSpPr/>
            <p:nvPr/>
          </p:nvSpPr>
          <p:spPr>
            <a:xfrm rot="10800000">
              <a:off x="1233360" y="5057640"/>
              <a:ext cx="774720" cy="511200"/>
            </a:xfrm>
            <a:custGeom>
              <a:avLst/>
              <a:gdLst>
                <a:gd name="textAreaLeft" fmla="*/ 0 w 774720"/>
                <a:gd name="textAreaRight" fmla="*/ 775080 w 774720"/>
                <a:gd name="textAreaTop" fmla="*/ 0 h 511200"/>
                <a:gd name="textAreaBottom" fmla="*/ 511560 h 511200"/>
              </a:gdLst>
              <a:ahLst/>
              <a:rect l="textAreaLeft" t="textAreaTop" r="textAreaRight" b="textAreaBottom"/>
              <a:pathLst>
                <a:path w="774700" h="511322">
                  <a:moveTo>
                    <a:pt x="0" y="511322"/>
                  </a:moveTo>
                  <a:lnTo>
                    <a:pt x="127831" y="0"/>
                  </a:lnTo>
                  <a:lnTo>
                    <a:pt x="646870" y="0"/>
                  </a:lnTo>
                  <a:lnTo>
                    <a:pt x="774700" y="511322"/>
                  </a:lnTo>
                  <a:lnTo>
                    <a:pt x="0" y="511322"/>
                  </a:lnTo>
                  <a:close/>
                </a:path>
              </a:pathLst>
            </a:cu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0" name="梯形 5"/>
            <p:cNvSpPr/>
            <p:nvPr/>
          </p:nvSpPr>
          <p:spPr>
            <a:xfrm rot="10800000">
              <a:off x="1010880" y="4128840"/>
              <a:ext cx="1219320" cy="150948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1" name="TextBox 18"/>
            <p:cNvSpPr/>
            <p:nvPr/>
          </p:nvSpPr>
          <p:spPr>
            <a:xfrm>
              <a:off x="1315800" y="44200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2" name="TextBox 19"/>
            <p:cNvSpPr/>
            <p:nvPr/>
          </p:nvSpPr>
          <p:spPr>
            <a:xfrm>
              <a:off x="1302120" y="51123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3" name="Group 14"/>
          <p:cNvGrpSpPr/>
          <p:nvPr/>
        </p:nvGrpSpPr>
        <p:grpSpPr>
          <a:xfrm>
            <a:off x="5154120" y="1925640"/>
            <a:ext cx="1219320" cy="1509840"/>
            <a:chOff x="5154120" y="1925640"/>
            <a:chExt cx="1219320" cy="1509840"/>
          </a:xfrm>
        </p:grpSpPr>
        <p:sp>
          <p:nvSpPr>
            <p:cNvPr id="514" name="梯形 11"/>
            <p:cNvSpPr/>
            <p:nvPr/>
          </p:nvSpPr>
          <p:spPr>
            <a:xfrm rot="10800000">
              <a:off x="5224320" y="2201760"/>
              <a:ext cx="1052640" cy="1136880"/>
            </a:xfrm>
            <a:custGeom>
              <a:avLst/>
              <a:gdLst>
                <a:gd name="textAreaLeft" fmla="*/ 0 w 1052640"/>
                <a:gd name="textAreaRight" fmla="*/ 1053000 w 1052640"/>
                <a:gd name="textAreaTop" fmla="*/ 0 h 1136880"/>
                <a:gd name="textAreaBottom" fmla="*/ 1137240 h 1136880"/>
              </a:gdLst>
              <a:ahLst/>
              <a:rect l="textAreaLeft" t="textAreaTop" r="textAreaRight" b="textAreaBottom"/>
              <a:pathLst>
                <a:path w="1052512" h="1136976">
                  <a:moveTo>
                    <a:pt x="0" y="1136976"/>
                  </a:moveTo>
                  <a:lnTo>
                    <a:pt x="263128" y="0"/>
                  </a:lnTo>
                  <a:lnTo>
                    <a:pt x="789384" y="0"/>
                  </a:lnTo>
                  <a:lnTo>
                    <a:pt x="1052512" y="1136976"/>
                  </a:lnTo>
                  <a:lnTo>
                    <a:pt x="0" y="1136976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5" name="梯形 12"/>
            <p:cNvSpPr/>
            <p:nvPr/>
          </p:nvSpPr>
          <p:spPr>
            <a:xfrm rot="10800000">
              <a:off x="5432400" y="3048120"/>
              <a:ext cx="709200" cy="387360"/>
            </a:xfrm>
            <a:custGeom>
              <a:avLst/>
              <a:gdLst>
                <a:gd name="textAreaLeft" fmla="*/ 0 w 709200"/>
                <a:gd name="textAreaRight" fmla="*/ 709560 w 709200"/>
                <a:gd name="textAreaTop" fmla="*/ 0 h 387360"/>
                <a:gd name="textAreaBottom" fmla="*/ 387720 h 387360"/>
              </a:gdLst>
              <a:ahLst/>
              <a:rect l="textAreaLeft" t="textAreaTop" r="textAreaRight" b="textAreaBottom"/>
              <a:pathLst>
                <a:path w="709068" h="387461">
                  <a:moveTo>
                    <a:pt x="0" y="387461"/>
                  </a:moveTo>
                  <a:lnTo>
                    <a:pt x="67639" y="0"/>
                  </a:lnTo>
                  <a:lnTo>
                    <a:pt x="641429" y="0"/>
                  </a:lnTo>
                  <a:lnTo>
                    <a:pt x="709068" y="387461"/>
                  </a:lnTo>
                  <a:lnTo>
                    <a:pt x="0" y="387461"/>
                  </a:lnTo>
                  <a:close/>
                </a:path>
              </a:pathLst>
            </a:custGeom>
            <a:solidFill>
              <a:srgbClr val="44b093"/>
            </a:solidFill>
            <a:ln w="76320">
              <a:solidFill>
                <a:srgbClr val="44b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6" name="梯形 7"/>
            <p:cNvSpPr/>
            <p:nvPr/>
          </p:nvSpPr>
          <p:spPr>
            <a:xfrm rot="10800000">
              <a:off x="5154120" y="1925640"/>
              <a:ext cx="1219320" cy="15098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10145">
                  <a:moveTo>
                    <a:pt x="0" y="1510145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10145"/>
                  </a:lnTo>
                  <a:lnTo>
                    <a:pt x="0" y="1510145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7" name="TextBox 20"/>
            <p:cNvSpPr/>
            <p:nvPr/>
          </p:nvSpPr>
          <p:spPr>
            <a:xfrm>
              <a:off x="5487120" y="241056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18" name="TextBox 22"/>
            <p:cNvSpPr/>
            <p:nvPr/>
          </p:nvSpPr>
          <p:spPr>
            <a:xfrm>
              <a:off x="5445360" y="3061440"/>
              <a:ext cx="627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19" name="Group 20"/>
          <p:cNvGrpSpPr/>
          <p:nvPr/>
        </p:nvGrpSpPr>
        <p:grpSpPr>
          <a:xfrm>
            <a:off x="5125680" y="4129200"/>
            <a:ext cx="1219320" cy="1511280"/>
            <a:chOff x="5125680" y="4129200"/>
            <a:chExt cx="1219320" cy="1511280"/>
          </a:xfrm>
        </p:grpSpPr>
        <p:sp>
          <p:nvSpPr>
            <p:cNvPr id="520" name="梯形 14"/>
            <p:cNvSpPr/>
            <p:nvPr/>
          </p:nvSpPr>
          <p:spPr>
            <a:xfrm rot="10800000">
              <a:off x="5319360" y="5047920"/>
              <a:ext cx="825480" cy="522360"/>
            </a:xfrm>
            <a:custGeom>
              <a:avLst/>
              <a:gdLst>
                <a:gd name="textAreaLeft" fmla="*/ 0 w 825480"/>
                <a:gd name="textAreaRight" fmla="*/ 825840 w 825480"/>
                <a:gd name="textAreaTop" fmla="*/ 0 h 522360"/>
                <a:gd name="textAreaBottom" fmla="*/ 522720 h 522360"/>
              </a:gdLst>
              <a:ahLst/>
              <a:rect l="textAreaLeft" t="textAreaTop" r="textAreaRight" b="textAreaBottom"/>
              <a:pathLst>
                <a:path w="825500" h="522310">
                  <a:moveTo>
                    <a:pt x="0" y="522310"/>
                  </a:moveTo>
                  <a:lnTo>
                    <a:pt x="213050" y="0"/>
                  </a:lnTo>
                  <a:lnTo>
                    <a:pt x="612450" y="0"/>
                  </a:lnTo>
                  <a:lnTo>
                    <a:pt x="825500" y="522310"/>
                  </a:lnTo>
                  <a:lnTo>
                    <a:pt x="0" y="522310"/>
                  </a:lnTo>
                  <a:close/>
                </a:path>
              </a:pathLst>
            </a:custGeom>
            <a:solidFill>
              <a:srgbClr val="bcbcbc"/>
            </a:solidFill>
            <a:ln w="7632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1" name="梯形 15"/>
            <p:cNvSpPr/>
            <p:nvPr/>
          </p:nvSpPr>
          <p:spPr>
            <a:xfrm rot="10800000">
              <a:off x="5445360" y="5251680"/>
              <a:ext cx="636480" cy="388800"/>
            </a:xfrm>
            <a:custGeom>
              <a:avLst/>
              <a:gdLst>
                <a:gd name="textAreaLeft" fmla="*/ 0 w 636480"/>
                <a:gd name="textAreaRight" fmla="*/ 636840 w 63648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636256" h="388955">
                  <a:moveTo>
                    <a:pt x="0" y="388955"/>
                  </a:moveTo>
                  <a:lnTo>
                    <a:pt x="63011" y="0"/>
                  </a:lnTo>
                  <a:lnTo>
                    <a:pt x="573245" y="0"/>
                  </a:lnTo>
                  <a:lnTo>
                    <a:pt x="636256" y="388955"/>
                  </a:lnTo>
                  <a:lnTo>
                    <a:pt x="0" y="388955"/>
                  </a:lnTo>
                  <a:close/>
                </a:path>
              </a:pathLst>
            </a:cu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2" name="梯形 6"/>
            <p:cNvSpPr/>
            <p:nvPr/>
          </p:nvSpPr>
          <p:spPr>
            <a:xfrm rot="10800000">
              <a:off x="5125680" y="4129200"/>
              <a:ext cx="1219320" cy="1509840"/>
            </a:xfrm>
            <a:custGeom>
              <a:avLst/>
              <a:gdLst>
                <a:gd name="textAreaLeft" fmla="*/ 0 w 1219320"/>
                <a:gd name="textAreaRight" fmla="*/ 1219680 w 1219320"/>
                <a:gd name="textAreaTop" fmla="*/ 0 h 1509840"/>
                <a:gd name="textAreaBottom" fmla="*/ 1510200 h 1509840"/>
              </a:gdLst>
              <a:ahLst/>
              <a:rect l="textAreaLeft" t="textAreaTop" r="textAreaRight" b="textAreaBottom"/>
              <a:pathLst>
                <a:path w="1219200" h="1509777">
                  <a:moveTo>
                    <a:pt x="0" y="1509777"/>
                  </a:moveTo>
                  <a:lnTo>
                    <a:pt x="304800" y="0"/>
                  </a:lnTo>
                  <a:lnTo>
                    <a:pt x="914400" y="0"/>
                  </a:lnTo>
                  <a:lnTo>
                    <a:pt x="1219200" y="1509777"/>
                  </a:lnTo>
                  <a:lnTo>
                    <a:pt x="0" y="1509777"/>
                  </a:lnTo>
                  <a:close/>
                </a:path>
              </a:pathLst>
            </a:custGeom>
            <a:noFill/>
            <a:ln w="7632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3" name="TextBox 21"/>
            <p:cNvSpPr/>
            <p:nvPr/>
          </p:nvSpPr>
          <p:spPr>
            <a:xfrm>
              <a:off x="5416920" y="496044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4" name="TextBox 23"/>
            <p:cNvSpPr/>
            <p:nvPr/>
          </p:nvSpPr>
          <p:spPr>
            <a:xfrm>
              <a:off x="5403960" y="5251680"/>
              <a:ext cx="65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25" name="TextBox 24"/>
          <p:cNvSpPr/>
          <p:nvPr/>
        </p:nvSpPr>
        <p:spPr>
          <a:xfrm>
            <a:off x="2716200" y="2300400"/>
            <a:ext cx="1744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TextBox 25"/>
          <p:cNvSpPr/>
          <p:nvPr/>
        </p:nvSpPr>
        <p:spPr>
          <a:xfrm>
            <a:off x="2465280" y="18842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TextBox 26"/>
          <p:cNvSpPr/>
          <p:nvPr/>
        </p:nvSpPr>
        <p:spPr>
          <a:xfrm>
            <a:off x="2701800" y="4572000"/>
            <a:ext cx="17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TextBox 27"/>
          <p:cNvSpPr/>
          <p:nvPr/>
        </p:nvSpPr>
        <p:spPr>
          <a:xfrm>
            <a:off x="2452680" y="415620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TextBox 28"/>
          <p:cNvSpPr/>
          <p:nvPr/>
        </p:nvSpPr>
        <p:spPr>
          <a:xfrm>
            <a:off x="6843600" y="23828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TextBox 29"/>
          <p:cNvSpPr/>
          <p:nvPr/>
        </p:nvSpPr>
        <p:spPr>
          <a:xfrm>
            <a:off x="6594480" y="19670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Box 30"/>
          <p:cNvSpPr/>
          <p:nvPr/>
        </p:nvSpPr>
        <p:spPr>
          <a:xfrm>
            <a:off x="6788160" y="4627440"/>
            <a:ext cx="174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Box 31"/>
          <p:cNvSpPr/>
          <p:nvPr/>
        </p:nvSpPr>
        <p:spPr>
          <a:xfrm>
            <a:off x="6539040" y="4211640"/>
            <a:ext cx="218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NCENTR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Group 2"/>
          <p:cNvGrpSpPr/>
          <p:nvPr/>
        </p:nvGrpSpPr>
        <p:grpSpPr>
          <a:xfrm>
            <a:off x="2583000" y="1932120"/>
            <a:ext cx="2198520" cy="1684080"/>
            <a:chOff x="2583000" y="1932120"/>
            <a:chExt cx="2198520" cy="1684080"/>
          </a:xfrm>
        </p:grpSpPr>
        <p:grpSp>
          <p:nvGrpSpPr>
            <p:cNvPr id="535" name="Group 3"/>
            <p:cNvGrpSpPr/>
            <p:nvPr/>
          </p:nvGrpSpPr>
          <p:grpSpPr>
            <a:xfrm>
              <a:off x="2583000" y="1932120"/>
              <a:ext cx="2198520" cy="1684080"/>
              <a:chOff x="2583000" y="1932120"/>
              <a:chExt cx="2198520" cy="1684080"/>
            </a:xfrm>
          </p:grpSpPr>
          <p:sp>
            <p:nvSpPr>
              <p:cNvPr id="536" name="矩形 2"/>
              <p:cNvSpPr/>
              <p:nvPr/>
            </p:nvSpPr>
            <p:spPr>
              <a:xfrm>
                <a:off x="2583000" y="1932120"/>
                <a:ext cx="2198520" cy="1684080"/>
              </a:xfrm>
              <a:prstGeom prst="rect">
                <a:avLst/>
              </a:prstGeom>
              <a:solidFill>
                <a:srgbClr val="4f9f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7" name="直角三角形 3"/>
              <p:cNvSpPr/>
              <p:nvPr/>
            </p:nvSpPr>
            <p:spPr>
              <a:xfrm rot="5400000">
                <a:off x="2668680" y="2017800"/>
                <a:ext cx="614160" cy="614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38" name="TextBox 14"/>
            <p:cNvSpPr/>
            <p:nvPr/>
          </p:nvSpPr>
          <p:spPr>
            <a:xfrm>
              <a:off x="2954160" y="2345760"/>
              <a:ext cx="1556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39" name="Group 7"/>
          <p:cNvGrpSpPr/>
          <p:nvPr/>
        </p:nvGrpSpPr>
        <p:grpSpPr>
          <a:xfrm>
            <a:off x="4903920" y="1954080"/>
            <a:ext cx="2092320" cy="1676520"/>
            <a:chOff x="4903920" y="1954080"/>
            <a:chExt cx="2092320" cy="1676520"/>
          </a:xfrm>
        </p:grpSpPr>
        <p:grpSp>
          <p:nvGrpSpPr>
            <p:cNvPr id="540" name="Group 8"/>
            <p:cNvGrpSpPr/>
            <p:nvPr/>
          </p:nvGrpSpPr>
          <p:grpSpPr>
            <a:xfrm>
              <a:off x="4903920" y="1954080"/>
              <a:ext cx="2092320" cy="1676520"/>
              <a:chOff x="4903920" y="1954080"/>
              <a:chExt cx="2092320" cy="1676520"/>
            </a:xfrm>
          </p:grpSpPr>
          <p:sp>
            <p:nvSpPr>
              <p:cNvPr id="541" name="矩形 9"/>
              <p:cNvSpPr/>
              <p:nvPr/>
            </p:nvSpPr>
            <p:spPr>
              <a:xfrm flipV="1" rot="10800000">
                <a:off x="4903920" y="1953720"/>
                <a:ext cx="2092320" cy="1676520"/>
              </a:xfrm>
              <a:prstGeom prst="rect">
                <a:avLst/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2" name="直角三角形 10"/>
              <p:cNvSpPr/>
              <p:nvPr/>
            </p:nvSpPr>
            <p:spPr>
              <a:xfrm flipV="1" rot="5400000">
                <a:off x="6318000" y="2049840"/>
                <a:ext cx="611280" cy="5842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3" name="TextBox 15"/>
            <p:cNvSpPr/>
            <p:nvPr/>
          </p:nvSpPr>
          <p:spPr>
            <a:xfrm>
              <a:off x="5125320" y="2355840"/>
              <a:ext cx="162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44" name="组合 21" descr=""/>
          <p:cNvPicPr/>
          <p:nvPr/>
        </p:nvPicPr>
        <p:blipFill>
          <a:blip r:embed="rId2"/>
          <a:stretch/>
        </p:blipFill>
        <p:spPr>
          <a:xfrm>
            <a:off x="2577960" y="3681360"/>
            <a:ext cx="2170080" cy="1676520"/>
          </a:xfrm>
          <a:prstGeom prst="rect">
            <a:avLst/>
          </a:prstGeom>
          <a:ln w="0">
            <a:noFill/>
          </a:ln>
        </p:spPr>
      </p:pic>
      <p:grpSp>
        <p:nvGrpSpPr>
          <p:cNvPr id="545" name="Group 13"/>
          <p:cNvGrpSpPr/>
          <p:nvPr/>
        </p:nvGrpSpPr>
        <p:grpSpPr>
          <a:xfrm>
            <a:off x="4876920" y="3713040"/>
            <a:ext cx="2133360" cy="1635120"/>
            <a:chOff x="4876920" y="3713040"/>
            <a:chExt cx="2133360" cy="1635120"/>
          </a:xfrm>
        </p:grpSpPr>
        <p:grpSp>
          <p:nvGrpSpPr>
            <p:cNvPr id="546" name="Group 14"/>
            <p:cNvGrpSpPr/>
            <p:nvPr/>
          </p:nvGrpSpPr>
          <p:grpSpPr>
            <a:xfrm>
              <a:off x="4876920" y="3713040"/>
              <a:ext cx="2133360" cy="1635120"/>
              <a:chOff x="4876920" y="3713040"/>
              <a:chExt cx="2133360" cy="1635120"/>
            </a:xfrm>
          </p:grpSpPr>
          <p:sp>
            <p:nvSpPr>
              <p:cNvPr id="547" name="矩形 6"/>
              <p:cNvSpPr/>
              <p:nvPr/>
            </p:nvSpPr>
            <p:spPr>
              <a:xfrm rot="10800000">
                <a:off x="4876920" y="3713040"/>
                <a:ext cx="2133360" cy="1635120"/>
              </a:xfrm>
              <a:prstGeom prst="rect">
                <a:avLst/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直角三角形 7"/>
              <p:cNvSpPr/>
              <p:nvPr/>
            </p:nvSpPr>
            <p:spPr>
              <a:xfrm rot="16200000">
                <a:off x="6330960" y="4668840"/>
                <a:ext cx="596880" cy="59688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49" name="TextBox 17"/>
            <p:cNvSpPr/>
            <p:nvPr/>
          </p:nvSpPr>
          <p:spPr>
            <a:xfrm>
              <a:off x="5209200" y="3989880"/>
              <a:ext cx="151020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CREATION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buClr>
                  <a:srgbClr val="ffffff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PARALIF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0" name="TextBox 22"/>
          <p:cNvSpPr/>
          <p:nvPr/>
        </p:nvSpPr>
        <p:spPr>
          <a:xfrm>
            <a:off x="67932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TextBox 23"/>
          <p:cNvSpPr/>
          <p:nvPr/>
        </p:nvSpPr>
        <p:spPr>
          <a:xfrm>
            <a:off x="3643200" y="5556240"/>
            <a:ext cx="23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TextBox 25"/>
          <p:cNvSpPr/>
          <p:nvPr/>
        </p:nvSpPr>
        <p:spPr>
          <a:xfrm>
            <a:off x="7066080" y="20224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TextBox 26"/>
          <p:cNvSpPr/>
          <p:nvPr/>
        </p:nvSpPr>
        <p:spPr>
          <a:xfrm>
            <a:off x="7066080" y="46832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TextBox 27"/>
          <p:cNvSpPr/>
          <p:nvPr/>
        </p:nvSpPr>
        <p:spPr>
          <a:xfrm>
            <a:off x="776160" y="473868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REAT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Box 28"/>
          <p:cNvSpPr/>
          <p:nvPr/>
        </p:nvSpPr>
        <p:spPr>
          <a:xfrm>
            <a:off x="3546360" y="1496880"/>
            <a:ext cx="250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6" name="Picture 2" descr="D:\PPT模版\素材\png素材\easy weather\veeqi_Sticker_Weather_Icons_015.png"/>
          <p:cNvPicPr/>
          <p:nvPr/>
        </p:nvPicPr>
        <p:blipFill>
          <a:blip r:embed="rId3"/>
          <a:stretch/>
        </p:blipFill>
        <p:spPr>
          <a:xfrm>
            <a:off x="6559560" y="4876920"/>
            <a:ext cx="385920" cy="38556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3" descr="D:\PPT模版\素材\png素材\easy weather\veeqi_Sticker_Weather_Icons_027.png"/>
          <p:cNvPicPr/>
          <p:nvPr/>
        </p:nvPicPr>
        <p:blipFill>
          <a:blip r:embed="rId4"/>
          <a:stretch/>
        </p:blipFill>
        <p:spPr>
          <a:xfrm>
            <a:off x="2666880" y="4821120"/>
            <a:ext cx="497160" cy="49716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4" descr="D:\PPT模版\素材\png素材\easy weather\veeqi_Sticker_Weather_Icons_033.png"/>
          <p:cNvPicPr/>
          <p:nvPr/>
        </p:nvPicPr>
        <p:blipFill>
          <a:blip r:embed="rId5"/>
          <a:stretch/>
        </p:blipFill>
        <p:spPr>
          <a:xfrm>
            <a:off x="6543720" y="2077920"/>
            <a:ext cx="274680" cy="2746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5" descr="D:\PPT模版\素材\png素材\easy weather\veeqi_Sticker_Weather_Icons_041.png"/>
          <p:cNvPicPr/>
          <p:nvPr/>
        </p:nvPicPr>
        <p:blipFill>
          <a:blip r:embed="rId6"/>
          <a:stretch/>
        </p:blipFill>
        <p:spPr>
          <a:xfrm>
            <a:off x="2668680" y="2038320"/>
            <a:ext cx="469800" cy="46980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488880" y="1708200"/>
            <a:ext cx="8185320" cy="8343720"/>
            <a:chOff x="488880" y="1708200"/>
            <a:chExt cx="8185320" cy="8343720"/>
          </a:xfrm>
        </p:grpSpPr>
        <p:grpSp>
          <p:nvGrpSpPr>
            <p:cNvPr id="563" name="Group 4"/>
            <p:cNvGrpSpPr/>
            <p:nvPr/>
          </p:nvGrpSpPr>
          <p:grpSpPr>
            <a:xfrm>
              <a:off x="488880" y="1708200"/>
              <a:ext cx="8185320" cy="8343720"/>
              <a:chOff x="488880" y="1708200"/>
              <a:chExt cx="8185320" cy="8343720"/>
            </a:xfrm>
          </p:grpSpPr>
          <p:sp>
            <p:nvSpPr>
              <p:cNvPr id="564" name="饼形 4"/>
              <p:cNvSpPr/>
              <p:nvPr/>
            </p:nvSpPr>
            <p:spPr>
              <a:xfrm rot="5400000">
                <a:off x="855000" y="2483280"/>
                <a:ext cx="7567920" cy="7568640"/>
              </a:xfrm>
              <a:custGeom>
                <a:avLst/>
                <a:gdLst>
                  <a:gd name="textAreaLeft" fmla="*/ 0 w 7567920"/>
                  <a:gd name="textAreaRight" fmla="*/ 7568280 w 7567920"/>
                  <a:gd name="textAreaTop" fmla="*/ 0 h 7568640"/>
                  <a:gd name="textAreaBottom" fmla="*/ 7569000 h 7568640"/>
                </a:gdLst>
                <a:ahLst/>
                <a:rect l="textAreaLeft" t="textAreaTop" r="textAreaRight" b="textAreaBottom"/>
                <a:pathLst>
                  <a:path w="7568417" h="7568417">
                    <a:moveTo>
                      <a:pt x="3792159" y="7568409"/>
                    </a:moveTo>
                    <a:cubicBezTo>
                      <a:pt x="2439247" y="7571252"/>
                      <a:pt x="1187738" y="6851611"/>
                      <a:pt x="509640" y="5680901"/>
                    </a:cubicBezTo>
                    <a:cubicBezTo>
                      <a:pt x="-168458" y="4510191"/>
                      <a:pt x="-169974" y="3066531"/>
                      <a:pt x="505663" y="1894399"/>
                    </a:cubicBezTo>
                    <a:cubicBezTo>
                      <a:pt x="1181299" y="722267"/>
                      <a:pt x="2431294" y="-2"/>
                      <a:pt x="3784209" y="-2"/>
                    </a:cubicBezTo>
                    <a:lnTo>
                      <a:pt x="3784209" y="3784209"/>
                    </a:lnTo>
                    <a:lnTo>
                      <a:pt x="3792159" y="7568409"/>
                    </a:lnTo>
                    <a:close/>
                  </a:path>
                </a:pathLst>
              </a:custGeom>
              <a:solidFill>
                <a:srgbClr val="aee3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5" name="饼形 5"/>
              <p:cNvSpPr/>
              <p:nvPr/>
            </p:nvSpPr>
            <p:spPr>
              <a:xfrm rot="5400000">
                <a:off x="1185480" y="2771640"/>
                <a:ext cx="6946560" cy="7017840"/>
              </a:xfrm>
              <a:custGeom>
                <a:avLst/>
                <a:gdLst>
                  <a:gd name="textAreaLeft" fmla="*/ 0 w 6946560"/>
                  <a:gd name="textAreaRight" fmla="*/ 6946920 w 6946560"/>
                  <a:gd name="textAreaTop" fmla="*/ 0 h 7017840"/>
                  <a:gd name="textAreaBottom" fmla="*/ 7018200 h 7017840"/>
                </a:gdLst>
                <a:ahLst/>
                <a:rect l="textAreaLeft" t="textAreaTop" r="textAreaRight" b="textAreaBottom"/>
                <a:pathLst>
                  <a:path w="6947096" h="7017429">
                    <a:moveTo>
                      <a:pt x="3480920" y="7017421"/>
                    </a:moveTo>
                    <a:cubicBezTo>
                      <a:pt x="2233638" y="7020095"/>
                      <a:pt x="1080689" y="6347052"/>
                      <a:pt x="460244" y="5254078"/>
                    </a:cubicBezTo>
                    <a:cubicBezTo>
                      <a:pt x="-152126" y="4175329"/>
                      <a:pt x="-153497" y="2849756"/>
                      <a:pt x="456639" y="1769717"/>
                    </a:cubicBezTo>
                    <a:cubicBezTo>
                      <a:pt x="1074801" y="675469"/>
                      <a:pt x="2226303" y="-1"/>
                      <a:pt x="3473548" y="-1"/>
                    </a:cubicBezTo>
                    <a:lnTo>
                      <a:pt x="3473548" y="3508715"/>
                    </a:lnTo>
                    <a:cubicBezTo>
                      <a:pt x="3476005" y="4678284"/>
                      <a:pt x="3478463" y="5847852"/>
                      <a:pt x="3480920" y="7017421"/>
                    </a:cubicBezTo>
                    <a:close/>
                  </a:path>
                </a:pathLst>
              </a:custGeom>
              <a:solidFill>
                <a:srgbClr val="61c9e1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6" name="饼形 6"/>
              <p:cNvSpPr/>
              <p:nvPr/>
            </p:nvSpPr>
            <p:spPr>
              <a:xfrm rot="5400000">
                <a:off x="2263680" y="3918240"/>
                <a:ext cx="4752000" cy="4752720"/>
              </a:xfrm>
              <a:custGeom>
                <a:avLst/>
                <a:gdLst>
                  <a:gd name="textAreaLeft" fmla="*/ 0 w 4752000"/>
                  <a:gd name="textAreaRight" fmla="*/ 4752360 w 4752000"/>
                  <a:gd name="textAreaTop" fmla="*/ 0 h 4752720"/>
                  <a:gd name="textAreaBottom" fmla="*/ 4753080 h 4752720"/>
                </a:gdLst>
                <a:ahLst/>
                <a:rect l="textAreaLeft" t="textAreaTop" r="textAreaRight" b="textAreaBottom"/>
                <a:pathLst>
                  <a:path w="4752535" h="4752535">
                    <a:moveTo>
                      <a:pt x="2381260" y="4752530"/>
                    </a:moveTo>
                    <a:cubicBezTo>
                      <a:pt x="1531708" y="4754315"/>
                      <a:pt x="745832" y="4302422"/>
                      <a:pt x="320025" y="3567282"/>
                    </a:cubicBezTo>
                    <a:cubicBezTo>
                      <a:pt x="-105782" y="2832143"/>
                      <a:pt x="-106734" y="1925606"/>
                      <a:pt x="317527" y="1189574"/>
                    </a:cubicBezTo>
                    <a:cubicBezTo>
                      <a:pt x="741788" y="453542"/>
                      <a:pt x="1526714" y="-2"/>
                      <a:pt x="2376267" y="-2"/>
                    </a:cubicBezTo>
                    <a:cubicBezTo>
                      <a:pt x="2376267" y="792088"/>
                      <a:pt x="2376268" y="1584178"/>
                      <a:pt x="2376268" y="2376268"/>
                    </a:cubicBezTo>
                    <a:lnTo>
                      <a:pt x="2381260" y="4752530"/>
                    </a:lnTo>
                    <a:close/>
                  </a:path>
                </a:pathLst>
              </a:custGeom>
              <a:solidFill>
                <a:srgbClr val="aee3f0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饼形 7"/>
              <p:cNvSpPr/>
              <p:nvPr/>
            </p:nvSpPr>
            <p:spPr>
              <a:xfrm rot="5400000">
                <a:off x="2430360" y="4070880"/>
                <a:ext cx="4442760" cy="4443120"/>
              </a:xfrm>
              <a:custGeom>
                <a:avLst/>
                <a:gdLst>
                  <a:gd name="textAreaLeft" fmla="*/ 0 w 4442760"/>
                  <a:gd name="textAreaRight" fmla="*/ 4443120 w 4442760"/>
                  <a:gd name="textAreaTop" fmla="*/ 0 h 4443120"/>
                  <a:gd name="textAreaBottom" fmla="*/ 4443480 h 4443120"/>
                </a:gdLst>
                <a:ahLst/>
                <a:rect l="textAreaLeft" t="textAreaTop" r="textAreaRight" b="textAreaBottom"/>
                <a:pathLst>
                  <a:path w="4443044" h="4443044">
                    <a:moveTo>
                      <a:pt x="2226190" y="4443039"/>
                    </a:moveTo>
                    <a:cubicBezTo>
                      <a:pt x="1431962" y="4444708"/>
                      <a:pt x="697263" y="4022242"/>
                      <a:pt x="299186" y="3334976"/>
                    </a:cubicBezTo>
                    <a:cubicBezTo>
                      <a:pt x="-98892" y="2647710"/>
                      <a:pt x="-99782" y="1800208"/>
                      <a:pt x="296851" y="1112108"/>
                    </a:cubicBezTo>
                    <a:cubicBezTo>
                      <a:pt x="693484" y="424007"/>
                      <a:pt x="1427294" y="-1"/>
                      <a:pt x="2221523" y="-1"/>
                    </a:cubicBezTo>
                    <a:cubicBezTo>
                      <a:pt x="2221523" y="740507"/>
                      <a:pt x="2221522" y="1481014"/>
                      <a:pt x="2221522" y="2221522"/>
                    </a:cubicBezTo>
                    <a:lnTo>
                      <a:pt x="2226190" y="4443039"/>
                    </a:lnTo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8" name="上箭头 8"/>
              <p:cNvSpPr/>
              <p:nvPr/>
            </p:nvSpPr>
            <p:spPr>
              <a:xfrm rot="17587200">
                <a:off x="1895400" y="500112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9" name="上箭头 9"/>
              <p:cNvSpPr/>
              <p:nvPr/>
            </p:nvSpPr>
            <p:spPr>
              <a:xfrm rot="19066800">
                <a:off x="2723040" y="378900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0" name="上箭头 10"/>
              <p:cNvSpPr/>
              <p:nvPr/>
            </p:nvSpPr>
            <p:spPr>
              <a:xfrm>
                <a:off x="4479120" y="332244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1" name="上箭头 11"/>
              <p:cNvSpPr/>
              <p:nvPr/>
            </p:nvSpPr>
            <p:spPr>
              <a:xfrm rot="2426400">
                <a:off x="6122520" y="371376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2" name="上箭头 12"/>
              <p:cNvSpPr/>
              <p:nvPr/>
            </p:nvSpPr>
            <p:spPr>
              <a:xfrm rot="4413000">
                <a:off x="6894360" y="4963680"/>
                <a:ext cx="374400" cy="1092240"/>
              </a:xfrm>
              <a:prstGeom prst="upArrow">
                <a:avLst>
                  <a:gd name="adj1" fmla="val 25259"/>
                  <a:gd name="adj2" fmla="val 99418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3" name="椭圆 13"/>
              <p:cNvSpPr/>
              <p:nvPr/>
            </p:nvSpPr>
            <p:spPr>
              <a:xfrm>
                <a:off x="488880" y="45518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4" name="椭圆 14"/>
              <p:cNvSpPr/>
              <p:nvPr/>
            </p:nvSpPr>
            <p:spPr>
              <a:xfrm>
                <a:off x="1738440" y="2861640"/>
                <a:ext cx="1026720" cy="1026720"/>
              </a:xfrm>
              <a:prstGeom prst="ellipse">
                <a:avLst/>
              </a:prstGeom>
              <a:solidFill>
                <a:srgbClr val="44b093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椭圆 15"/>
              <p:cNvSpPr/>
              <p:nvPr/>
            </p:nvSpPr>
            <p:spPr>
              <a:xfrm>
                <a:off x="6566400" y="288972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椭圆 16"/>
              <p:cNvSpPr/>
              <p:nvPr/>
            </p:nvSpPr>
            <p:spPr>
              <a:xfrm>
                <a:off x="7647480" y="4589280"/>
                <a:ext cx="1026720" cy="1026720"/>
              </a:xfrm>
              <a:prstGeom prst="ellipse">
                <a:avLst/>
              </a:prstGeom>
              <a:solidFill>
                <a:srgbClr val="ffa902"/>
              </a:solidFill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ADD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alibri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77" name="Group 18"/>
              <p:cNvGrpSpPr/>
              <p:nvPr/>
            </p:nvGrpSpPr>
            <p:grpSpPr>
              <a:xfrm>
                <a:off x="3865320" y="1708200"/>
                <a:ext cx="1559160" cy="1558800"/>
                <a:chOff x="3865320" y="1708200"/>
                <a:chExt cx="1559160" cy="1558800"/>
              </a:xfrm>
            </p:grpSpPr>
            <p:sp>
              <p:nvSpPr>
                <p:cNvPr id="578" name="椭圆 18"/>
                <p:cNvSpPr/>
                <p:nvPr/>
              </p:nvSpPr>
              <p:spPr>
                <a:xfrm>
                  <a:off x="3865320" y="1708200"/>
                  <a:ext cx="1559160" cy="1558800"/>
                </a:xfrm>
                <a:prstGeom prst="ellipse">
                  <a:avLst/>
                </a:prstGeom>
                <a:solidFill>
                  <a:srgbClr val="2091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9" name="椭圆 17"/>
                <p:cNvSpPr/>
                <p:nvPr/>
              </p:nvSpPr>
              <p:spPr>
                <a:xfrm>
                  <a:off x="4003560" y="1818360"/>
                  <a:ext cx="1310760" cy="1310400"/>
                </a:xfrm>
                <a:prstGeom prst="ellipse">
                  <a:avLst/>
                </a:prstGeom>
                <a:solidFill>
                  <a:srgbClr val="2091ac"/>
                </a:solidFill>
                <a:ln w="763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ADD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alibri"/>
                    </a:rPr>
                    <a:t>TEXT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sp>
          <p:nvSpPr>
            <p:cNvPr id="580" name="TextBox 21"/>
            <p:cNvSpPr/>
            <p:nvPr/>
          </p:nvSpPr>
          <p:spPr>
            <a:xfrm>
              <a:off x="3169440" y="5048640"/>
              <a:ext cx="3231720" cy="83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TextBox 22"/>
            <p:cNvSpPr/>
            <p:nvPr/>
          </p:nvSpPr>
          <p:spPr>
            <a:xfrm>
              <a:off x="1418760" y="440172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TextBox 23"/>
            <p:cNvSpPr/>
            <p:nvPr/>
          </p:nvSpPr>
          <p:spPr>
            <a:xfrm>
              <a:off x="2891160" y="325116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TextBox 24"/>
            <p:cNvSpPr/>
            <p:nvPr/>
          </p:nvSpPr>
          <p:spPr>
            <a:xfrm>
              <a:off x="4862880" y="326448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TextBox 25"/>
            <p:cNvSpPr/>
            <p:nvPr/>
          </p:nvSpPr>
          <p:spPr>
            <a:xfrm>
              <a:off x="6353280" y="4399200"/>
              <a:ext cx="150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6" name="Group 3"/>
          <p:cNvGrpSpPr/>
          <p:nvPr/>
        </p:nvGrpSpPr>
        <p:grpSpPr>
          <a:xfrm>
            <a:off x="915840" y="2367000"/>
            <a:ext cx="2770200" cy="3618000"/>
            <a:chOff x="915840" y="2367000"/>
            <a:chExt cx="2770200" cy="3618000"/>
          </a:xfrm>
        </p:grpSpPr>
        <p:sp>
          <p:nvSpPr>
            <p:cNvPr id="587" name="矩形 3"/>
            <p:cNvSpPr/>
            <p:nvPr/>
          </p:nvSpPr>
          <p:spPr>
            <a:xfrm>
              <a:off x="915840" y="2639880"/>
              <a:ext cx="2770200" cy="334512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8" name="矩形 4"/>
            <p:cNvSpPr/>
            <p:nvPr/>
          </p:nvSpPr>
          <p:spPr>
            <a:xfrm>
              <a:off x="956160" y="2367000"/>
              <a:ext cx="2689560" cy="259200"/>
            </a:xfrm>
            <a:prstGeom prst="rect">
              <a:avLst/>
            </a:prstGeom>
            <a:solidFill>
              <a:srgbClr val="9eca06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9" name="矩形 5"/>
            <p:cNvSpPr/>
            <p:nvPr/>
          </p:nvSpPr>
          <p:spPr>
            <a:xfrm>
              <a:off x="997560" y="274896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矩形 8"/>
            <p:cNvSpPr/>
            <p:nvPr/>
          </p:nvSpPr>
          <p:spPr>
            <a:xfrm>
              <a:off x="999720" y="385740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矩形 9"/>
            <p:cNvSpPr/>
            <p:nvPr/>
          </p:nvSpPr>
          <p:spPr>
            <a:xfrm>
              <a:off x="1027080" y="4949640"/>
              <a:ext cx="2572560" cy="95544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e1fb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5487840" y="2355840"/>
            <a:ext cx="2770200" cy="3616200"/>
            <a:chOff x="5487840" y="2355840"/>
            <a:chExt cx="2770200" cy="3616200"/>
          </a:xfrm>
        </p:grpSpPr>
        <p:sp>
          <p:nvSpPr>
            <p:cNvPr id="593" name="矩形 12"/>
            <p:cNvSpPr/>
            <p:nvPr/>
          </p:nvSpPr>
          <p:spPr>
            <a:xfrm>
              <a:off x="5487840" y="2628720"/>
              <a:ext cx="2770200" cy="334332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矩形 13"/>
            <p:cNvSpPr/>
            <p:nvPr/>
          </p:nvSpPr>
          <p:spPr>
            <a:xfrm>
              <a:off x="5528160" y="2355840"/>
              <a:ext cx="2689560" cy="259200"/>
            </a:xfrm>
            <a:prstGeom prst="rect">
              <a:avLst/>
            </a:prstGeom>
            <a:solidFill>
              <a:srgbClr val="ffa902"/>
            </a:solidFill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0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矩形 14"/>
            <p:cNvSpPr/>
            <p:nvPr/>
          </p:nvSpPr>
          <p:spPr>
            <a:xfrm>
              <a:off x="5583240" y="27378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矩形 15"/>
            <p:cNvSpPr/>
            <p:nvPr/>
          </p:nvSpPr>
          <p:spPr>
            <a:xfrm>
              <a:off x="5571720" y="384552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矩形 16"/>
            <p:cNvSpPr/>
            <p:nvPr/>
          </p:nvSpPr>
          <p:spPr>
            <a:xfrm>
              <a:off x="5599080" y="4937400"/>
              <a:ext cx="2572560" cy="955080"/>
            </a:xfrm>
            <a:prstGeom prst="rect">
              <a:avLst/>
            </a:prstGeom>
            <a:solidFill>
              <a:srgbClr val="ffffff">
                <a:alpha val="85000"/>
              </a:srgbClr>
            </a:solidFill>
            <a:ln w="57240">
              <a:solidFill>
                <a:srgbClr val="ffd1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8" name="左右箭头 18"/>
          <p:cNvSpPr/>
          <p:nvPr/>
        </p:nvSpPr>
        <p:spPr>
          <a:xfrm>
            <a:off x="3774960" y="3486240"/>
            <a:ext cx="1582920" cy="1869840"/>
          </a:xfrm>
          <a:prstGeom prst="leftRightArrow">
            <a:avLst>
              <a:gd name="adj1" fmla="val 66056"/>
              <a:gd name="adj2" fmla="val 26644"/>
            </a:avLst>
          </a:prstGeom>
          <a:solidFill>
            <a:srgbClr val="9eca06"/>
          </a:solidFill>
          <a:ln w="25560">
            <a:solidFill>
              <a:srgbClr val="9eca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BF99-284D-4ADB-9ED8-683489B587E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1508040" y="2073240"/>
            <a:ext cx="5753160" cy="815400"/>
            <a:chOff x="1508040" y="2073240"/>
            <a:chExt cx="5753160" cy="815400"/>
          </a:xfrm>
        </p:grpSpPr>
        <p:grpSp>
          <p:nvGrpSpPr>
            <p:cNvPr id="165" name="Group 4"/>
            <p:cNvGrpSpPr/>
            <p:nvPr/>
          </p:nvGrpSpPr>
          <p:grpSpPr>
            <a:xfrm>
              <a:off x="1508040" y="2073240"/>
              <a:ext cx="5753160" cy="815400"/>
              <a:chOff x="1508040" y="2073240"/>
              <a:chExt cx="5753160" cy="815400"/>
            </a:xfrm>
          </p:grpSpPr>
          <p:sp>
            <p:nvSpPr>
              <p:cNvPr id="166" name="圆角矩形 31"/>
              <p:cNvSpPr/>
              <p:nvPr/>
            </p:nvSpPr>
            <p:spPr>
              <a:xfrm>
                <a:off x="2511360" y="2073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f9fd4"/>
                  </a:gs>
                </a:gsLst>
                <a:lin ang="10800000"/>
              </a:gradFill>
              <a:ln w="25560">
                <a:solidFill>
                  <a:srgbClr val="4f9fd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TextBox 8"/>
              <p:cNvSpPr/>
              <p:nvPr/>
            </p:nvSpPr>
            <p:spPr>
              <a:xfrm>
                <a:off x="1508040" y="2136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TextBox 9"/>
              <p:cNvSpPr/>
              <p:nvPr/>
            </p:nvSpPr>
            <p:spPr>
              <a:xfrm>
                <a:off x="3133440" y="2581560"/>
                <a:ext cx="3467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9" name="Group 8"/>
            <p:cNvGrpSpPr/>
            <p:nvPr/>
          </p:nvGrpSpPr>
          <p:grpSpPr>
            <a:xfrm>
              <a:off x="2700360" y="2145240"/>
              <a:ext cx="243720" cy="249840"/>
              <a:chOff x="2700360" y="2145240"/>
              <a:chExt cx="243720" cy="249840"/>
            </a:xfrm>
          </p:grpSpPr>
          <p:pic>
            <p:nvPicPr>
              <p:cNvPr id="170" name="椭圆 30" descr=""/>
              <p:cNvPicPr/>
              <p:nvPr/>
            </p:nvPicPr>
            <p:blipFill>
              <a:blip r:embed="rId2"/>
              <a:stretch/>
            </p:blipFill>
            <p:spPr>
              <a:xfrm>
                <a:off x="2700360" y="214524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10"/>
              <p:cNvSpPr/>
              <p:nvPr/>
            </p:nvSpPr>
            <p:spPr>
              <a:xfrm>
                <a:off x="2746080" y="2193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2" name="Group 11"/>
          <p:cNvGrpSpPr/>
          <p:nvPr/>
        </p:nvGrpSpPr>
        <p:grpSpPr>
          <a:xfrm>
            <a:off x="1521000" y="3000240"/>
            <a:ext cx="5752800" cy="815400"/>
            <a:chOff x="1521000" y="3000240"/>
            <a:chExt cx="5752800" cy="815400"/>
          </a:xfrm>
        </p:grpSpPr>
        <p:grpSp>
          <p:nvGrpSpPr>
            <p:cNvPr id="173" name="Group 12"/>
            <p:cNvGrpSpPr/>
            <p:nvPr/>
          </p:nvGrpSpPr>
          <p:grpSpPr>
            <a:xfrm>
              <a:off x="1521000" y="3000240"/>
              <a:ext cx="5752800" cy="815400"/>
              <a:chOff x="1521000" y="3000240"/>
              <a:chExt cx="5752800" cy="815400"/>
            </a:xfrm>
          </p:grpSpPr>
          <p:sp>
            <p:nvSpPr>
              <p:cNvPr id="174" name="圆角矩形 37"/>
              <p:cNvSpPr/>
              <p:nvPr/>
            </p:nvSpPr>
            <p:spPr>
              <a:xfrm>
                <a:off x="2523960" y="300024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34b"/>
                  </a:gs>
                </a:gsLst>
                <a:lin ang="10800000"/>
              </a:gradFill>
              <a:ln w="25560">
                <a:solidFill>
                  <a:srgbClr val="ffc3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5" name="TextBox 14"/>
              <p:cNvSpPr/>
              <p:nvPr/>
            </p:nvSpPr>
            <p:spPr>
              <a:xfrm>
                <a:off x="1521000" y="306360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TextBox 15"/>
              <p:cNvSpPr/>
              <p:nvPr/>
            </p:nvSpPr>
            <p:spPr>
              <a:xfrm>
                <a:off x="3146400" y="350856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Group 16"/>
            <p:cNvGrpSpPr/>
            <p:nvPr/>
          </p:nvGrpSpPr>
          <p:grpSpPr>
            <a:xfrm>
              <a:off x="2712600" y="3071880"/>
              <a:ext cx="243720" cy="249840"/>
              <a:chOff x="2712600" y="3071880"/>
              <a:chExt cx="243720" cy="249840"/>
            </a:xfrm>
          </p:grpSpPr>
          <p:pic>
            <p:nvPicPr>
              <p:cNvPr id="178" name="椭圆 36" descr=""/>
              <p:cNvPicPr/>
              <p:nvPr/>
            </p:nvPicPr>
            <p:blipFill>
              <a:blip r:embed="rId3"/>
              <a:stretch/>
            </p:blipFill>
            <p:spPr>
              <a:xfrm>
                <a:off x="2712600" y="307188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9" name="Text Box 18"/>
              <p:cNvSpPr/>
              <p:nvPr/>
            </p:nvSpPr>
            <p:spPr>
              <a:xfrm>
                <a:off x="2758680" y="31204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80" name="Group 19"/>
          <p:cNvGrpSpPr/>
          <p:nvPr/>
        </p:nvGrpSpPr>
        <p:grpSpPr>
          <a:xfrm>
            <a:off x="1521000" y="3940200"/>
            <a:ext cx="5752800" cy="820800"/>
            <a:chOff x="1521000" y="3940200"/>
            <a:chExt cx="5752800" cy="820800"/>
          </a:xfrm>
        </p:grpSpPr>
        <p:grpSp>
          <p:nvGrpSpPr>
            <p:cNvPr id="181" name="Group 20"/>
            <p:cNvGrpSpPr/>
            <p:nvPr/>
          </p:nvGrpSpPr>
          <p:grpSpPr>
            <a:xfrm>
              <a:off x="1521000" y="3940200"/>
              <a:ext cx="5752800" cy="820800"/>
              <a:chOff x="1521000" y="3940200"/>
              <a:chExt cx="5752800" cy="820800"/>
            </a:xfrm>
          </p:grpSpPr>
          <p:grpSp>
            <p:nvGrpSpPr>
              <p:cNvPr id="182" name="Group 21"/>
              <p:cNvGrpSpPr/>
              <p:nvPr/>
            </p:nvGrpSpPr>
            <p:grpSpPr>
              <a:xfrm>
                <a:off x="2509560" y="3940200"/>
                <a:ext cx="4764240" cy="425160"/>
                <a:chOff x="2509560" y="3940200"/>
                <a:chExt cx="4764240" cy="425160"/>
              </a:xfrm>
            </p:grpSpPr>
            <p:pic>
              <p:nvPicPr>
                <p:cNvPr id="183" name="圆角矩形 43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09560" y="3940200"/>
                  <a:ext cx="4764240" cy="42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4" name="Text Box 23"/>
                <p:cNvSpPr/>
                <p:nvPr/>
              </p:nvSpPr>
              <p:spPr>
                <a:xfrm>
                  <a:off x="2581200" y="4012920"/>
                  <a:ext cx="4622400" cy="282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 fontScale="69000"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        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Calibri"/>
                    </a:rPr>
                    <a:t>TEXT ADD HERE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185" name="TextBox 20"/>
              <p:cNvSpPr/>
              <p:nvPr/>
            </p:nvSpPr>
            <p:spPr>
              <a:xfrm>
                <a:off x="1521000" y="4016880"/>
                <a:ext cx="8744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TextBox 21"/>
              <p:cNvSpPr/>
              <p:nvPr/>
            </p:nvSpPr>
            <p:spPr>
              <a:xfrm>
                <a:off x="3143520" y="4453920"/>
                <a:ext cx="3460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7" name="Group 26"/>
            <p:cNvGrpSpPr/>
            <p:nvPr/>
          </p:nvGrpSpPr>
          <p:grpSpPr>
            <a:xfrm>
              <a:off x="2712600" y="4010760"/>
              <a:ext cx="243720" cy="249840"/>
              <a:chOff x="2712600" y="4010760"/>
              <a:chExt cx="243720" cy="249840"/>
            </a:xfrm>
          </p:grpSpPr>
          <p:pic>
            <p:nvPicPr>
              <p:cNvPr id="188" name="椭圆 42" descr=""/>
              <p:cNvPicPr/>
              <p:nvPr/>
            </p:nvPicPr>
            <p:blipFill>
              <a:blip r:embed="rId5"/>
              <a:stretch/>
            </p:blipFill>
            <p:spPr>
              <a:xfrm>
                <a:off x="2712600" y="4010760"/>
                <a:ext cx="243720" cy="249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Text Box 28"/>
              <p:cNvSpPr/>
              <p:nvPr/>
            </p:nvSpPr>
            <p:spPr>
              <a:xfrm>
                <a:off x="2758680" y="40604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90" name="Group 29"/>
          <p:cNvGrpSpPr/>
          <p:nvPr/>
        </p:nvGrpSpPr>
        <p:grpSpPr>
          <a:xfrm>
            <a:off x="1521000" y="4879800"/>
            <a:ext cx="5752800" cy="815400"/>
            <a:chOff x="1521000" y="4879800"/>
            <a:chExt cx="5752800" cy="815400"/>
          </a:xfrm>
        </p:grpSpPr>
        <p:grpSp>
          <p:nvGrpSpPr>
            <p:cNvPr id="191" name="Group 30"/>
            <p:cNvGrpSpPr/>
            <p:nvPr/>
          </p:nvGrpSpPr>
          <p:grpSpPr>
            <a:xfrm>
              <a:off x="1521000" y="4879800"/>
              <a:ext cx="5752800" cy="815400"/>
              <a:chOff x="1521000" y="4879800"/>
              <a:chExt cx="5752800" cy="815400"/>
            </a:xfrm>
          </p:grpSpPr>
          <p:sp>
            <p:nvSpPr>
              <p:cNvPr id="192" name="圆角矩形 49"/>
              <p:cNvSpPr/>
              <p:nvPr/>
            </p:nvSpPr>
            <p:spPr>
              <a:xfrm>
                <a:off x="2523960" y="4879800"/>
                <a:ext cx="4749840" cy="406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44b093"/>
                  </a:gs>
                </a:gsLst>
                <a:lin ang="10800000"/>
              </a:gradFill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    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ADD HERE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TextBox 26"/>
              <p:cNvSpPr/>
              <p:nvPr/>
            </p:nvSpPr>
            <p:spPr>
              <a:xfrm>
                <a:off x="1521000" y="4943160"/>
                <a:ext cx="876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TEXT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TextBox 27"/>
              <p:cNvSpPr/>
              <p:nvPr/>
            </p:nvSpPr>
            <p:spPr>
              <a:xfrm>
                <a:off x="3146400" y="5388120"/>
                <a:ext cx="3466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Calibri"/>
                  </a:rPr>
                  <a:t>TEXT ADD HERE CONCENTRATION</a:t>
                </a:r>
                <a:endParaRPr b="0" lang="en-US" sz="1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5" name="Group 34"/>
            <p:cNvGrpSpPr/>
            <p:nvPr/>
          </p:nvGrpSpPr>
          <p:grpSpPr>
            <a:xfrm>
              <a:off x="2712600" y="4955400"/>
              <a:ext cx="243720" cy="243720"/>
              <a:chOff x="2712600" y="4955400"/>
              <a:chExt cx="243720" cy="243720"/>
            </a:xfrm>
          </p:grpSpPr>
          <p:pic>
            <p:nvPicPr>
              <p:cNvPr id="196" name="椭圆 48" descr=""/>
              <p:cNvPicPr/>
              <p:nvPr/>
            </p:nvPicPr>
            <p:blipFill>
              <a:blip r:embed="rId6"/>
              <a:stretch/>
            </p:blipFill>
            <p:spPr>
              <a:xfrm>
                <a:off x="2712600" y="4955400"/>
                <a:ext cx="243720" cy="24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36"/>
              <p:cNvSpPr/>
              <p:nvPr/>
            </p:nvSpPr>
            <p:spPr>
              <a:xfrm>
                <a:off x="2758680" y="500004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28400" y="285840"/>
            <a:ext cx="5172120" cy="12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Thank You</a:t>
            </a:r>
            <a:r>
              <a:rPr b="1" lang="zh-CN" sz="4000" spc="-1" strike="noStrike">
                <a:solidFill>
                  <a:srgbClr val="ffffff"/>
                </a:solidFill>
                <a:latin typeface="Bookman Old Style"/>
                <a:ea typeface="华文行楷"/>
              </a:rPr>
              <a:t>！</a:t>
            </a: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组合 5" descr=""/>
          <p:cNvPicPr/>
          <p:nvPr/>
        </p:nvPicPr>
        <p:blipFill>
          <a:blip r:embed="rId2"/>
          <a:stretch/>
        </p:blipFill>
        <p:spPr>
          <a:xfrm>
            <a:off x="536400" y="2962440"/>
            <a:ext cx="4930920" cy="2682720"/>
          </a:xfrm>
          <a:prstGeom prst="rect">
            <a:avLst/>
          </a:prstGeom>
          <a:ln w="0">
            <a:noFill/>
          </a:ln>
        </p:spPr>
      </p:pic>
      <p:pic>
        <p:nvPicPr>
          <p:cNvPr id="200" name="组合 6" descr=""/>
          <p:cNvPicPr/>
          <p:nvPr/>
        </p:nvPicPr>
        <p:blipFill>
          <a:blip r:embed="rId3"/>
          <a:stretch/>
        </p:blipFill>
        <p:spPr>
          <a:xfrm>
            <a:off x="3578400" y="2682720"/>
            <a:ext cx="4932360" cy="2687760"/>
          </a:xfrm>
          <a:prstGeom prst="rect">
            <a:avLst/>
          </a:prstGeom>
          <a:ln w="0">
            <a:noFill/>
          </a:ln>
        </p:spPr>
      </p:pic>
      <p:sp>
        <p:nvSpPr>
          <p:cNvPr id="201" name="椭圆 8"/>
          <p:cNvSpPr/>
          <p:nvPr/>
        </p:nvSpPr>
        <p:spPr>
          <a:xfrm>
            <a:off x="3801960" y="3324240"/>
            <a:ext cx="1554120" cy="1552680"/>
          </a:xfrm>
          <a:prstGeom prst="ellipse">
            <a:avLst/>
          </a:prstGeom>
          <a:solidFill>
            <a:srgbClr val="9eca06"/>
          </a:solidFill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圆角矩形 9"/>
          <p:cNvSpPr/>
          <p:nvPr/>
        </p:nvSpPr>
        <p:spPr>
          <a:xfrm>
            <a:off x="725400" y="2641680"/>
            <a:ext cx="2482920" cy="42048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圆角矩形 10"/>
          <p:cNvSpPr/>
          <p:nvPr/>
        </p:nvSpPr>
        <p:spPr>
          <a:xfrm>
            <a:off x="5870520" y="4317840"/>
            <a:ext cx="2482920" cy="420840"/>
          </a:xfrm>
          <a:prstGeom prst="roundRect">
            <a:avLst>
              <a:gd name="adj" fmla="val 50000"/>
            </a:avLst>
          </a:prstGeom>
          <a:noFill/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882720" y="316872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14"/>
          <p:cNvSpPr/>
          <p:nvPr/>
        </p:nvSpPr>
        <p:spPr>
          <a:xfrm>
            <a:off x="6114960" y="4844880"/>
            <a:ext cx="20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903240" y="4438800"/>
            <a:ext cx="203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6"/>
          <p:cNvSpPr/>
          <p:nvPr/>
        </p:nvSpPr>
        <p:spPr>
          <a:xfrm>
            <a:off x="6093000" y="2965320"/>
            <a:ext cx="2030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7"/>
          <p:cNvSpPr/>
          <p:nvPr/>
        </p:nvSpPr>
        <p:spPr>
          <a:xfrm>
            <a:off x="2652840" y="1695600"/>
            <a:ext cx="3711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6715080" y="4275000"/>
            <a:ext cx="1785960" cy="1807560"/>
            <a:chOff x="6715080" y="4275000"/>
            <a:chExt cx="1785960" cy="1807560"/>
          </a:xfrm>
        </p:grpSpPr>
        <p:sp>
          <p:nvSpPr>
            <p:cNvPr id="211" name="上箭头 6"/>
            <p:cNvSpPr/>
            <p:nvPr/>
          </p:nvSpPr>
          <p:spPr>
            <a:xfrm>
              <a:off x="6715080" y="4275000"/>
              <a:ext cx="1785960" cy="1286280"/>
            </a:xfrm>
            <a:prstGeom prst="upArrow">
              <a:avLst>
                <a:gd name="adj1" fmla="val 82926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2" name="Group 5"/>
            <p:cNvGrpSpPr/>
            <p:nvPr/>
          </p:nvGrpSpPr>
          <p:grpSpPr>
            <a:xfrm>
              <a:off x="6857640" y="5632920"/>
              <a:ext cx="1499760" cy="286560"/>
              <a:chOff x="6857640" y="5632920"/>
              <a:chExt cx="1499760" cy="286560"/>
            </a:xfrm>
          </p:grpSpPr>
          <p:pic>
            <p:nvPicPr>
              <p:cNvPr id="213" name="矩形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6857640" y="5632920"/>
                <a:ext cx="149940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4" name="Text Box 7"/>
              <p:cNvSpPr/>
              <p:nvPr/>
            </p:nvSpPr>
            <p:spPr>
              <a:xfrm>
                <a:off x="685764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5" name="TextBox 14"/>
            <p:cNvSpPr/>
            <p:nvPr/>
          </p:nvSpPr>
          <p:spPr>
            <a:xfrm>
              <a:off x="7000560" y="49179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TextBox 18"/>
            <p:cNvSpPr/>
            <p:nvPr/>
          </p:nvSpPr>
          <p:spPr>
            <a:xfrm>
              <a:off x="7429320" y="4560840"/>
              <a:ext cx="357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TextBox 19"/>
            <p:cNvSpPr/>
            <p:nvPr/>
          </p:nvSpPr>
          <p:spPr>
            <a:xfrm>
              <a:off x="700056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18" name="Group 11"/>
          <p:cNvGrpSpPr/>
          <p:nvPr/>
        </p:nvGrpSpPr>
        <p:grpSpPr>
          <a:xfrm>
            <a:off x="4643280" y="3703680"/>
            <a:ext cx="1928880" cy="2378880"/>
            <a:chOff x="4643280" y="3703680"/>
            <a:chExt cx="1928880" cy="2378880"/>
          </a:xfrm>
        </p:grpSpPr>
        <p:sp>
          <p:nvSpPr>
            <p:cNvPr id="219" name="上箭头 5"/>
            <p:cNvSpPr/>
            <p:nvPr/>
          </p:nvSpPr>
          <p:spPr>
            <a:xfrm>
              <a:off x="4643280" y="3703680"/>
              <a:ext cx="1928880" cy="1857600"/>
            </a:xfrm>
            <a:prstGeom prst="upArrow">
              <a:avLst>
                <a:gd name="adj1" fmla="val 81056"/>
                <a:gd name="adj2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0" name="Group 13"/>
            <p:cNvGrpSpPr/>
            <p:nvPr/>
          </p:nvGrpSpPr>
          <p:grpSpPr>
            <a:xfrm>
              <a:off x="4858200" y="5632920"/>
              <a:ext cx="1499760" cy="286560"/>
              <a:chOff x="4858200" y="5632920"/>
              <a:chExt cx="1499760" cy="286560"/>
            </a:xfrm>
          </p:grpSpPr>
          <p:pic>
            <p:nvPicPr>
              <p:cNvPr id="221" name="矩形 10" descr=""/>
              <p:cNvPicPr/>
              <p:nvPr/>
            </p:nvPicPr>
            <p:blipFill>
              <a:blip r:embed="rId3"/>
              <a:stretch/>
            </p:blipFill>
            <p:spPr>
              <a:xfrm>
                <a:off x="4858920" y="5632920"/>
                <a:ext cx="1499040" cy="286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" name="Text Box 15"/>
              <p:cNvSpPr/>
              <p:nvPr/>
            </p:nvSpPr>
            <p:spPr>
              <a:xfrm>
                <a:off x="4858200" y="5632920"/>
                <a:ext cx="1499760" cy="2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3" name="TextBox 13"/>
            <p:cNvSpPr/>
            <p:nvPr/>
          </p:nvSpPr>
          <p:spPr>
            <a:xfrm>
              <a:off x="5071680" y="4703760"/>
              <a:ext cx="1214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TextBox 17"/>
            <p:cNvSpPr/>
            <p:nvPr/>
          </p:nvSpPr>
          <p:spPr>
            <a:xfrm>
              <a:off x="5429160" y="406080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TextBox 20"/>
            <p:cNvSpPr/>
            <p:nvPr/>
          </p:nvSpPr>
          <p:spPr>
            <a:xfrm>
              <a:off x="500040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26" name="Group 19"/>
          <p:cNvGrpSpPr/>
          <p:nvPr/>
        </p:nvGrpSpPr>
        <p:grpSpPr>
          <a:xfrm>
            <a:off x="2643120" y="3060720"/>
            <a:ext cx="1928880" cy="3021840"/>
            <a:chOff x="2643120" y="3060720"/>
            <a:chExt cx="1928880" cy="3021840"/>
          </a:xfrm>
        </p:grpSpPr>
        <p:sp>
          <p:nvSpPr>
            <p:cNvPr id="227" name="上箭头 4"/>
            <p:cNvSpPr/>
            <p:nvPr/>
          </p:nvSpPr>
          <p:spPr>
            <a:xfrm>
              <a:off x="2643120" y="3060720"/>
              <a:ext cx="1928880" cy="2500560"/>
            </a:xfrm>
            <a:prstGeom prst="upArrow">
              <a:avLst>
                <a:gd name="adj1" fmla="val 76815"/>
                <a:gd name="adj2" fmla="val 50000"/>
              </a:avLst>
            </a:prstGeom>
            <a:solidFill>
              <a:srgbClr val="44b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8" name="Group 21"/>
            <p:cNvGrpSpPr/>
            <p:nvPr/>
          </p:nvGrpSpPr>
          <p:grpSpPr>
            <a:xfrm>
              <a:off x="2858760" y="5632920"/>
              <a:ext cx="1499760" cy="286200"/>
              <a:chOff x="2858760" y="5632920"/>
              <a:chExt cx="1499760" cy="286200"/>
            </a:xfrm>
          </p:grpSpPr>
          <p:pic>
            <p:nvPicPr>
              <p:cNvPr id="229" name="矩形 9" descr=""/>
              <p:cNvPicPr/>
              <p:nvPr/>
            </p:nvPicPr>
            <p:blipFill>
              <a:blip r:embed="rId4"/>
              <a:stretch/>
            </p:blipFill>
            <p:spPr>
              <a:xfrm>
                <a:off x="2860200" y="5632920"/>
                <a:ext cx="149832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0" name="Text Box 23"/>
              <p:cNvSpPr/>
              <p:nvPr/>
            </p:nvSpPr>
            <p:spPr>
              <a:xfrm>
                <a:off x="2858760" y="5632920"/>
                <a:ext cx="149904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1" name="TextBox 12"/>
            <p:cNvSpPr/>
            <p:nvPr/>
          </p:nvSpPr>
          <p:spPr>
            <a:xfrm>
              <a:off x="3000240" y="4203720"/>
              <a:ext cx="12146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TextBox 16"/>
            <p:cNvSpPr/>
            <p:nvPr/>
          </p:nvSpPr>
          <p:spPr>
            <a:xfrm>
              <a:off x="3429000" y="356076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TextBox 21"/>
            <p:cNvSpPr/>
            <p:nvPr/>
          </p:nvSpPr>
          <p:spPr>
            <a:xfrm>
              <a:off x="30002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34" name="Group 27"/>
          <p:cNvGrpSpPr/>
          <p:nvPr/>
        </p:nvGrpSpPr>
        <p:grpSpPr>
          <a:xfrm>
            <a:off x="714240" y="1846440"/>
            <a:ext cx="1928880" cy="4236120"/>
            <a:chOff x="714240" y="1846440"/>
            <a:chExt cx="1928880" cy="4236120"/>
          </a:xfrm>
        </p:grpSpPr>
        <p:sp>
          <p:nvSpPr>
            <p:cNvPr id="235" name="上箭头 3"/>
            <p:cNvSpPr/>
            <p:nvPr/>
          </p:nvSpPr>
          <p:spPr>
            <a:xfrm>
              <a:off x="714240" y="1846440"/>
              <a:ext cx="1928880" cy="3714840"/>
            </a:xfrm>
            <a:prstGeom prst="upArrow">
              <a:avLst>
                <a:gd name="adj1" fmla="val 76815"/>
                <a:gd name="adj2" fmla="val 50002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TextBox 7"/>
            <p:cNvSpPr/>
            <p:nvPr/>
          </p:nvSpPr>
          <p:spPr>
            <a:xfrm>
              <a:off x="1071360" y="3203640"/>
              <a:ext cx="121464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TEXT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REHEIDONG CREATED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37" name="Group 30"/>
            <p:cNvGrpSpPr/>
            <p:nvPr/>
          </p:nvGrpSpPr>
          <p:grpSpPr>
            <a:xfrm>
              <a:off x="926280" y="5632920"/>
              <a:ext cx="1499760" cy="286200"/>
              <a:chOff x="926280" y="5632920"/>
              <a:chExt cx="1499760" cy="286200"/>
            </a:xfrm>
          </p:grpSpPr>
          <p:pic>
            <p:nvPicPr>
              <p:cNvPr id="238" name="矩形 8" descr=""/>
              <p:cNvPicPr/>
              <p:nvPr/>
            </p:nvPicPr>
            <p:blipFill>
              <a:blip r:embed="rId5"/>
              <a:stretch/>
            </p:blipFill>
            <p:spPr>
              <a:xfrm>
                <a:off x="926280" y="5632920"/>
                <a:ext cx="1497240" cy="2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9" name="Text Box 32"/>
              <p:cNvSpPr/>
              <p:nvPr/>
            </p:nvSpPr>
            <p:spPr>
              <a:xfrm>
                <a:off x="928080" y="5632920"/>
                <a:ext cx="1497960" cy="28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0" name="TextBox 15"/>
            <p:cNvSpPr/>
            <p:nvPr/>
          </p:nvSpPr>
          <p:spPr>
            <a:xfrm>
              <a:off x="1500120" y="2274840"/>
              <a:ext cx="42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TextBox 22"/>
            <p:cNvSpPr/>
            <p:nvPr/>
          </p:nvSpPr>
          <p:spPr>
            <a:xfrm>
              <a:off x="1142640" y="5775480"/>
              <a:ext cx="121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ADD TEXT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Box 25"/>
          <p:cNvSpPr/>
          <p:nvPr/>
        </p:nvSpPr>
        <p:spPr>
          <a:xfrm>
            <a:off x="5786280" y="1703520"/>
            <a:ext cx="214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传播声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4" name="Group 3"/>
          <p:cNvGrpSpPr/>
          <p:nvPr/>
        </p:nvGrpSpPr>
        <p:grpSpPr>
          <a:xfrm>
            <a:off x="828720" y="3068640"/>
            <a:ext cx="1787400" cy="2716200"/>
            <a:chOff x="828720" y="3068640"/>
            <a:chExt cx="1787400" cy="2716200"/>
          </a:xfrm>
        </p:grpSpPr>
        <p:grpSp>
          <p:nvGrpSpPr>
            <p:cNvPr id="245" name="Group 4"/>
            <p:cNvGrpSpPr/>
            <p:nvPr/>
          </p:nvGrpSpPr>
          <p:grpSpPr>
            <a:xfrm>
              <a:off x="828720" y="3068640"/>
              <a:ext cx="1787400" cy="2716200"/>
              <a:chOff x="828720" y="3068640"/>
              <a:chExt cx="1787400" cy="2716200"/>
            </a:xfrm>
          </p:grpSpPr>
          <p:sp>
            <p:nvSpPr>
              <p:cNvPr id="246" name="圆角矩形 3"/>
              <p:cNvSpPr/>
              <p:nvPr/>
            </p:nvSpPr>
            <p:spPr>
              <a:xfrm>
                <a:off x="82872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圆角矩形 4"/>
              <p:cNvSpPr/>
              <p:nvPr/>
            </p:nvSpPr>
            <p:spPr>
              <a:xfrm>
                <a:off x="91044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00b0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矩形 5"/>
              <p:cNvSpPr/>
              <p:nvPr/>
            </p:nvSpPr>
            <p:spPr>
              <a:xfrm>
                <a:off x="90360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TextBox 7"/>
            <p:cNvSpPr/>
            <p:nvPr/>
          </p:nvSpPr>
          <p:spPr>
            <a:xfrm>
              <a:off x="97200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TextBox 8"/>
            <p:cNvSpPr/>
            <p:nvPr/>
          </p:nvSpPr>
          <p:spPr>
            <a:xfrm>
              <a:off x="96048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TextBox 9"/>
            <p:cNvSpPr/>
            <p:nvPr/>
          </p:nvSpPr>
          <p:spPr>
            <a:xfrm>
              <a:off x="96264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2" name="Group 11"/>
          <p:cNvGrpSpPr/>
          <p:nvPr/>
        </p:nvGrpSpPr>
        <p:grpSpPr>
          <a:xfrm>
            <a:off x="2854440" y="3081240"/>
            <a:ext cx="1787400" cy="2716200"/>
            <a:chOff x="2854440" y="3081240"/>
            <a:chExt cx="1787400" cy="2716200"/>
          </a:xfrm>
        </p:grpSpPr>
        <p:grpSp>
          <p:nvGrpSpPr>
            <p:cNvPr id="253" name="Group 12"/>
            <p:cNvGrpSpPr/>
            <p:nvPr/>
          </p:nvGrpSpPr>
          <p:grpSpPr>
            <a:xfrm>
              <a:off x="2854440" y="3081240"/>
              <a:ext cx="1787400" cy="2716200"/>
              <a:chOff x="2854440" y="3081240"/>
              <a:chExt cx="1787400" cy="2716200"/>
            </a:xfrm>
          </p:grpSpPr>
          <p:sp>
            <p:nvSpPr>
              <p:cNvPr id="254" name="圆角矩形 16"/>
              <p:cNvSpPr/>
              <p:nvPr/>
            </p:nvSpPr>
            <p:spPr>
              <a:xfrm>
                <a:off x="285444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圆角矩形 17"/>
              <p:cNvSpPr/>
              <p:nvPr/>
            </p:nvSpPr>
            <p:spPr>
              <a:xfrm>
                <a:off x="293616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44b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矩形 18"/>
              <p:cNvSpPr/>
              <p:nvPr/>
            </p:nvSpPr>
            <p:spPr>
              <a:xfrm>
                <a:off x="292932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7" name="TextBox 13"/>
            <p:cNvSpPr/>
            <p:nvPr/>
          </p:nvSpPr>
          <p:spPr>
            <a:xfrm>
              <a:off x="299772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TextBox 14"/>
            <p:cNvSpPr/>
            <p:nvPr/>
          </p:nvSpPr>
          <p:spPr>
            <a:xfrm>
              <a:off x="298620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TextBox 15"/>
            <p:cNvSpPr/>
            <p:nvPr/>
          </p:nvSpPr>
          <p:spPr>
            <a:xfrm>
              <a:off x="298836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0" name="Group 19"/>
          <p:cNvGrpSpPr/>
          <p:nvPr/>
        </p:nvGrpSpPr>
        <p:grpSpPr>
          <a:xfrm>
            <a:off x="4784760" y="3081240"/>
            <a:ext cx="1787400" cy="2716200"/>
            <a:chOff x="4784760" y="3081240"/>
            <a:chExt cx="1787400" cy="2716200"/>
          </a:xfrm>
        </p:grpSpPr>
        <p:grpSp>
          <p:nvGrpSpPr>
            <p:cNvPr id="261" name="Group 20"/>
            <p:cNvGrpSpPr/>
            <p:nvPr/>
          </p:nvGrpSpPr>
          <p:grpSpPr>
            <a:xfrm>
              <a:off x="4784760" y="3081240"/>
              <a:ext cx="1787400" cy="2716200"/>
              <a:chOff x="4784760" y="3081240"/>
              <a:chExt cx="1787400" cy="2716200"/>
            </a:xfrm>
          </p:grpSpPr>
          <p:sp>
            <p:nvSpPr>
              <p:cNvPr id="262" name="圆角矩形 24"/>
              <p:cNvSpPr/>
              <p:nvPr/>
            </p:nvSpPr>
            <p:spPr>
              <a:xfrm>
                <a:off x="4784760" y="30812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3" name="圆角矩形 25"/>
              <p:cNvSpPr/>
              <p:nvPr/>
            </p:nvSpPr>
            <p:spPr>
              <a:xfrm>
                <a:off x="4866480" y="31521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ffa90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矩形 26"/>
              <p:cNvSpPr/>
              <p:nvPr/>
            </p:nvSpPr>
            <p:spPr>
              <a:xfrm>
                <a:off x="4859640" y="36666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5" name="TextBox 21"/>
            <p:cNvSpPr/>
            <p:nvPr/>
          </p:nvSpPr>
          <p:spPr>
            <a:xfrm>
              <a:off x="4928040" y="38304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TextBox 22"/>
            <p:cNvSpPr/>
            <p:nvPr/>
          </p:nvSpPr>
          <p:spPr>
            <a:xfrm>
              <a:off x="4916520" y="32320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TextBox 23"/>
            <p:cNvSpPr/>
            <p:nvPr/>
          </p:nvSpPr>
          <p:spPr>
            <a:xfrm>
              <a:off x="4918680" y="52412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8" name="Group 27"/>
          <p:cNvGrpSpPr/>
          <p:nvPr/>
        </p:nvGrpSpPr>
        <p:grpSpPr>
          <a:xfrm>
            <a:off x="6769080" y="3068640"/>
            <a:ext cx="1787400" cy="2716200"/>
            <a:chOff x="6769080" y="3068640"/>
            <a:chExt cx="1787400" cy="2716200"/>
          </a:xfrm>
        </p:grpSpPr>
        <p:grpSp>
          <p:nvGrpSpPr>
            <p:cNvPr id="269" name="Group 28"/>
            <p:cNvGrpSpPr/>
            <p:nvPr/>
          </p:nvGrpSpPr>
          <p:grpSpPr>
            <a:xfrm>
              <a:off x="6769080" y="3068640"/>
              <a:ext cx="1787400" cy="2716200"/>
              <a:chOff x="6769080" y="3068640"/>
              <a:chExt cx="1787400" cy="2716200"/>
            </a:xfrm>
          </p:grpSpPr>
          <p:sp>
            <p:nvSpPr>
              <p:cNvPr id="270" name="圆角矩形 32"/>
              <p:cNvSpPr/>
              <p:nvPr/>
            </p:nvSpPr>
            <p:spPr>
              <a:xfrm>
                <a:off x="6769080" y="3068640"/>
                <a:ext cx="1787400" cy="2716200"/>
              </a:xfrm>
              <a:custGeom>
                <a:avLst/>
                <a:gdLst>
                  <a:gd name="textAreaLeft" fmla="*/ 87120 w 1787400"/>
                  <a:gd name="textAreaRight" fmla="*/ 1700280 w 1787400"/>
                  <a:gd name="textAreaTop" fmla="*/ 87120 h 2716200"/>
                  <a:gd name="textAreaBottom" fmla="*/ 2629080 h 2716200"/>
                </a:gdLst>
                <a:ahLst/>
                <a:rect l="textAreaLeft" t="textAreaTop" r="textAreaRight" b="textAreaBottom"/>
                <a:pathLst>
                  <a:path w="21600" h="32822">
                    <a:moveTo>
                      <a:pt x="3600" y="0"/>
                    </a:moveTo>
                    <a:arcTo wR="3600" hR="3600" stAng="16200000" swAng="-5400000"/>
                    <a:lnTo>
                      <a:pt x="0" y="29222"/>
                    </a:lnTo>
                    <a:arcTo wR="3600" hR="3600" stAng="10800000" swAng="-5400000"/>
                    <a:lnTo>
                      <a:pt x="18000" y="328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76320">
                <a:solidFill>
                  <a:srgbClr val="bfbf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圆角矩形 33"/>
              <p:cNvSpPr/>
              <p:nvPr/>
            </p:nvSpPr>
            <p:spPr>
              <a:xfrm>
                <a:off x="6850800" y="3139560"/>
                <a:ext cx="1623960" cy="924120"/>
              </a:xfrm>
              <a:prstGeom prst="roundRect">
                <a:avLst>
                  <a:gd name="adj" fmla="val 24505"/>
                </a:avLst>
              </a:prstGeom>
              <a:solidFill>
                <a:srgbClr val="9eca0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矩形 34"/>
              <p:cNvSpPr/>
              <p:nvPr/>
            </p:nvSpPr>
            <p:spPr>
              <a:xfrm>
                <a:off x="6843960" y="3654000"/>
                <a:ext cx="1637640" cy="1915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3" name="TextBox 29"/>
            <p:cNvSpPr/>
            <p:nvPr/>
          </p:nvSpPr>
          <p:spPr>
            <a:xfrm>
              <a:off x="6912360" y="3817800"/>
              <a:ext cx="1500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4" name="TextBox 30"/>
            <p:cNvSpPr/>
            <p:nvPr/>
          </p:nvSpPr>
          <p:spPr>
            <a:xfrm>
              <a:off x="6900840" y="3219480"/>
              <a:ext cx="150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TextBox 31"/>
            <p:cNvSpPr/>
            <p:nvPr/>
          </p:nvSpPr>
          <p:spPr>
            <a:xfrm>
              <a:off x="6903000" y="5228640"/>
              <a:ext cx="150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bfbfbf"/>
                  </a:solidFill>
                  <a:latin typeface="微软雅黑"/>
                  <a:ea typeface="微软雅黑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直接连接符 36"/>
          <p:cNvSpPr/>
          <p:nvPr/>
        </p:nvSpPr>
        <p:spPr>
          <a:xfrm flipV="1">
            <a:off x="1719360" y="2647440"/>
            <a:ext cx="5868720" cy="2700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直接连接符 37"/>
          <p:cNvSpPr/>
          <p:nvPr/>
        </p:nvSpPr>
        <p:spPr>
          <a:xfrm flipH="1">
            <a:off x="1722600" y="2660760"/>
            <a:ext cx="10800" cy="40788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直接连接符 45"/>
          <p:cNvSpPr/>
          <p:nvPr/>
        </p:nvSpPr>
        <p:spPr>
          <a:xfrm>
            <a:off x="3656880" y="2701800"/>
            <a:ext cx="19080" cy="41112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直接连接符 46"/>
          <p:cNvSpPr/>
          <p:nvPr/>
        </p:nvSpPr>
        <p:spPr>
          <a:xfrm>
            <a:off x="5676120" y="2647800"/>
            <a:ext cx="180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直接连接符 50"/>
          <p:cNvSpPr/>
          <p:nvPr/>
        </p:nvSpPr>
        <p:spPr>
          <a:xfrm>
            <a:off x="7562880" y="2649600"/>
            <a:ext cx="144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直接连接符 52"/>
          <p:cNvSpPr/>
          <p:nvPr/>
        </p:nvSpPr>
        <p:spPr>
          <a:xfrm>
            <a:off x="4602240" y="2212920"/>
            <a:ext cx="0" cy="433440"/>
          </a:xfrm>
          <a:prstGeom prst="line">
            <a:avLst/>
          </a:prstGeom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圆角矩形 53"/>
          <p:cNvSpPr/>
          <p:nvPr/>
        </p:nvSpPr>
        <p:spPr>
          <a:xfrm>
            <a:off x="2511360" y="1609560"/>
            <a:ext cx="4299120" cy="614520"/>
          </a:xfrm>
          <a:prstGeom prst="roundRect">
            <a:avLst>
              <a:gd name="adj" fmla="val 50000"/>
            </a:avLst>
          </a:prstGeom>
          <a:solidFill>
            <a:srgbClr val="ffffff">
              <a:alpha val="79000"/>
            </a:srgbClr>
          </a:solidFill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4" name="Group 3"/>
          <p:cNvGrpSpPr/>
          <p:nvPr/>
        </p:nvGrpSpPr>
        <p:grpSpPr>
          <a:xfrm>
            <a:off x="477360" y="1922400"/>
            <a:ext cx="8188560" cy="3716280"/>
            <a:chOff x="477360" y="1922400"/>
            <a:chExt cx="8188560" cy="3716280"/>
          </a:xfrm>
        </p:grpSpPr>
        <p:sp>
          <p:nvSpPr>
            <p:cNvPr id="285" name="椭圆 4"/>
            <p:cNvSpPr/>
            <p:nvPr/>
          </p:nvSpPr>
          <p:spPr>
            <a:xfrm>
              <a:off x="2700000" y="1922400"/>
              <a:ext cx="3717000" cy="3716280"/>
            </a:xfrm>
            <a:prstGeom prst="ellipse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椭圆 5"/>
            <p:cNvSpPr/>
            <p:nvPr/>
          </p:nvSpPr>
          <p:spPr>
            <a:xfrm>
              <a:off x="3893760" y="3117600"/>
              <a:ext cx="1328760" cy="1328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7" name="Group 6"/>
            <p:cNvGrpSpPr/>
            <p:nvPr/>
          </p:nvGrpSpPr>
          <p:grpSpPr>
            <a:xfrm>
              <a:off x="477360" y="3187080"/>
              <a:ext cx="3429360" cy="1149480"/>
              <a:chOff x="477360" y="3187080"/>
              <a:chExt cx="3429360" cy="1149480"/>
            </a:xfrm>
          </p:grpSpPr>
          <p:sp>
            <p:nvSpPr>
              <p:cNvPr id="288" name="椭圆 6"/>
              <p:cNvSpPr/>
              <p:nvPr/>
            </p:nvSpPr>
            <p:spPr>
              <a:xfrm>
                <a:off x="2756880" y="3187080"/>
                <a:ext cx="114984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44b093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线形标注 2(带强调线) 9"/>
              <p:cNvSpPr/>
              <p:nvPr/>
            </p:nvSpPr>
            <p:spPr>
              <a:xfrm flipH="1">
                <a:off x="477000" y="3576600"/>
                <a:ext cx="1337400" cy="354600"/>
              </a:xfrm>
              <a:noFill/>
              <a:ln w="2556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椭圆 10"/>
              <p:cNvSpPr/>
              <p:nvPr/>
            </p:nvSpPr>
            <p:spPr>
              <a:xfrm flipV="1">
                <a:off x="2703240" y="3720600"/>
                <a:ext cx="45720" cy="453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44b09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1" name="Group 10"/>
            <p:cNvGrpSpPr/>
            <p:nvPr/>
          </p:nvGrpSpPr>
          <p:grpSpPr>
            <a:xfrm>
              <a:off x="1243800" y="4442400"/>
              <a:ext cx="3620520" cy="1165320"/>
              <a:chOff x="1243800" y="4442400"/>
              <a:chExt cx="3620520" cy="1165320"/>
            </a:xfrm>
          </p:grpSpPr>
          <p:sp>
            <p:nvSpPr>
              <p:cNvPr id="292" name="椭圆 13"/>
              <p:cNvSpPr/>
              <p:nvPr/>
            </p:nvSpPr>
            <p:spPr>
              <a:xfrm>
                <a:off x="3698640" y="4442400"/>
                <a:ext cx="1165680" cy="116532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b0f0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线形标注 2(带强调线) 14"/>
              <p:cNvSpPr/>
              <p:nvPr/>
            </p:nvSpPr>
            <p:spPr>
              <a:xfrm flipH="1">
                <a:off x="1243440" y="5189040"/>
                <a:ext cx="1337400" cy="354600"/>
              </a:xfrm>
              <a:noFill/>
              <a:ln w="2556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椭圆 15"/>
              <p:cNvSpPr/>
              <p:nvPr/>
            </p:nvSpPr>
            <p:spPr>
              <a:xfrm>
                <a:off x="3667320" y="5184720"/>
                <a:ext cx="120960" cy="120960"/>
              </a:xfrm>
              <a:prstGeom prst="ellipse">
                <a:avLst/>
              </a:prstGeom>
              <a:solidFill>
                <a:srgbClr val="44b093"/>
              </a:solidFill>
              <a:ln w="57240">
                <a:solidFill>
                  <a:srgbClr val="00b0f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5" name="Group 14"/>
            <p:cNvGrpSpPr/>
            <p:nvPr/>
          </p:nvGrpSpPr>
          <p:grpSpPr>
            <a:xfrm>
              <a:off x="965160" y="1994040"/>
              <a:ext cx="3593160" cy="1224000"/>
              <a:chOff x="965160" y="1994040"/>
              <a:chExt cx="3593160" cy="1224000"/>
            </a:xfrm>
          </p:grpSpPr>
          <p:sp>
            <p:nvSpPr>
              <p:cNvPr id="296" name="椭圆 17"/>
              <p:cNvSpPr/>
              <p:nvPr/>
            </p:nvSpPr>
            <p:spPr>
              <a:xfrm>
                <a:off x="3392640" y="2052360"/>
                <a:ext cx="1165680" cy="11656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a90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线形标注 2(带强调线) 18"/>
              <p:cNvSpPr/>
              <p:nvPr/>
            </p:nvSpPr>
            <p:spPr>
              <a:xfrm flipH="1">
                <a:off x="964800" y="1994040"/>
                <a:ext cx="1337400" cy="354600"/>
              </a:xfrm>
              <a:noFill/>
              <a:ln w="2556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椭圆 19"/>
              <p:cNvSpPr/>
              <p:nvPr/>
            </p:nvSpPr>
            <p:spPr>
              <a:xfrm flipV="1">
                <a:off x="3384720" y="2234160"/>
                <a:ext cx="150120" cy="160920"/>
              </a:xfrm>
              <a:prstGeom prst="ellipse">
                <a:avLst/>
              </a:prstGeom>
              <a:solidFill>
                <a:srgbClr val="ffa902"/>
              </a:solidFill>
              <a:ln w="57240">
                <a:solidFill>
                  <a:srgbClr val="ffa90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99" name="Group 18"/>
            <p:cNvGrpSpPr/>
            <p:nvPr/>
          </p:nvGrpSpPr>
          <p:grpSpPr>
            <a:xfrm>
              <a:off x="5180760" y="3584520"/>
              <a:ext cx="3485160" cy="1149480"/>
              <a:chOff x="5180760" y="3584520"/>
              <a:chExt cx="3485160" cy="1149480"/>
            </a:xfrm>
          </p:grpSpPr>
          <p:sp>
            <p:nvSpPr>
              <p:cNvPr id="300" name="椭圆 21"/>
              <p:cNvSpPr/>
              <p:nvPr/>
            </p:nvSpPr>
            <p:spPr>
              <a:xfrm flipH="1">
                <a:off x="5180760" y="358452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6e192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线形标注 2(带强调线) 22"/>
              <p:cNvSpPr/>
              <p:nvPr/>
            </p:nvSpPr>
            <p:spPr>
              <a:xfrm>
                <a:off x="7306560" y="3974040"/>
                <a:ext cx="1359360" cy="354600"/>
              </a:xfrm>
              <a:noFill/>
              <a:ln w="2556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椭圆 23"/>
              <p:cNvSpPr/>
              <p:nvPr/>
            </p:nvSpPr>
            <p:spPr>
              <a:xfrm flipH="1" flipV="1">
                <a:off x="6291000" y="4052160"/>
                <a:ext cx="112680" cy="110520"/>
              </a:xfrm>
              <a:prstGeom prst="ellipse">
                <a:avLst/>
              </a:prstGeom>
              <a:solidFill>
                <a:srgbClr val="e6e192"/>
              </a:solidFill>
              <a:ln w="57240">
                <a:solidFill>
                  <a:srgbClr val="e6e19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03" name="Group 22"/>
            <p:cNvGrpSpPr/>
            <p:nvPr/>
          </p:nvGrpSpPr>
          <p:grpSpPr>
            <a:xfrm>
              <a:off x="4800960" y="2208240"/>
              <a:ext cx="3485160" cy="1149480"/>
              <a:chOff x="4800960" y="2208240"/>
              <a:chExt cx="3485160" cy="1149480"/>
            </a:xfrm>
          </p:grpSpPr>
          <p:sp>
            <p:nvSpPr>
              <p:cNvPr id="304" name="椭圆 25"/>
              <p:cNvSpPr/>
              <p:nvPr/>
            </p:nvSpPr>
            <p:spPr>
              <a:xfrm flipH="1">
                <a:off x="4800960" y="2208240"/>
                <a:ext cx="1168560" cy="1149480"/>
              </a:xfrm>
              <a:prstGeom prst="ellipse">
                <a:avLst/>
              </a:prstGeom>
              <a:solidFill>
                <a:srgbClr val="ffffff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9eca06"/>
                    </a:solidFill>
                    <a:latin typeface="微软雅黑"/>
                    <a:ea typeface="微软雅黑"/>
                  </a:rPr>
                  <a:t>TEXT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线形标注 2(带强调线) 26"/>
              <p:cNvSpPr/>
              <p:nvPr/>
            </p:nvSpPr>
            <p:spPr>
              <a:xfrm>
                <a:off x="6926760" y="2597760"/>
                <a:ext cx="1359360" cy="354600"/>
              </a:xfrm>
              <a:noFill/>
              <a:ln w="2556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 fontScale="73000"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TEXT  ADDED HERE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椭圆 27"/>
              <p:cNvSpPr/>
              <p:nvPr/>
            </p:nvSpPr>
            <p:spPr>
              <a:xfrm flipH="1" flipV="1">
                <a:off x="5911200" y="2675880"/>
                <a:ext cx="112680" cy="110520"/>
              </a:xfrm>
              <a:prstGeom prst="ellipse">
                <a:avLst/>
              </a:prstGeom>
              <a:solidFill>
                <a:srgbClr val="9eca06"/>
              </a:solidFill>
              <a:ln w="57240">
                <a:solidFill>
                  <a:srgbClr val="9eca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rm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07" name="TextBox 28"/>
          <p:cNvSpPr/>
          <p:nvPr/>
        </p:nvSpPr>
        <p:spPr>
          <a:xfrm>
            <a:off x="5462640" y="5097600"/>
            <a:ext cx="323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般若黑洞出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关于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Firefo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Windows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个人博客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 3"/>
          <p:cNvGrpSpPr/>
          <p:nvPr/>
        </p:nvGrpSpPr>
        <p:grpSpPr>
          <a:xfrm>
            <a:off x="679320" y="3546360"/>
            <a:ext cx="2603520" cy="2535480"/>
            <a:chOff x="679320" y="3546360"/>
            <a:chExt cx="2603520" cy="2535480"/>
          </a:xfrm>
        </p:grpSpPr>
        <p:sp>
          <p:nvSpPr>
            <p:cNvPr id="310" name="圆角矩形 3"/>
            <p:cNvSpPr/>
            <p:nvPr/>
          </p:nvSpPr>
          <p:spPr>
            <a:xfrm>
              <a:off x="776160" y="3546360"/>
              <a:ext cx="2395800" cy="471600"/>
            </a:xfrm>
            <a:prstGeom prst="roundRect">
              <a:avLst>
                <a:gd name="adj" fmla="val 50000"/>
              </a:avLst>
            </a:prstGeom>
            <a:solidFill>
              <a:srgbClr val="ffa9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圆角矩形 4"/>
            <p:cNvSpPr/>
            <p:nvPr/>
          </p:nvSpPr>
          <p:spPr>
            <a:xfrm>
              <a:off x="679320" y="4267080"/>
              <a:ext cx="2603520" cy="181476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直接连接符 5"/>
            <p:cNvSpPr/>
            <p:nvPr/>
          </p:nvSpPr>
          <p:spPr>
            <a:xfrm>
              <a:off x="1973880" y="4017600"/>
              <a:ext cx="6120" cy="249120"/>
            </a:xfrm>
            <a:prstGeom prst="line">
              <a:avLst/>
            </a:prstGeom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13" name="组合 16" descr=""/>
          <p:cNvPicPr/>
          <p:nvPr/>
        </p:nvPicPr>
        <p:blipFill>
          <a:blip r:embed="rId2"/>
          <a:stretch/>
        </p:blipFill>
        <p:spPr>
          <a:xfrm>
            <a:off x="3371760" y="3505320"/>
            <a:ext cx="2681280" cy="257796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8"/>
          <p:cNvGrpSpPr/>
          <p:nvPr/>
        </p:nvGrpSpPr>
        <p:grpSpPr>
          <a:xfrm>
            <a:off x="6178680" y="3532320"/>
            <a:ext cx="2604960" cy="2536560"/>
            <a:chOff x="6178680" y="3532320"/>
            <a:chExt cx="2604960" cy="2536560"/>
          </a:xfrm>
        </p:grpSpPr>
        <p:sp>
          <p:nvSpPr>
            <p:cNvPr id="315" name="圆角矩形 11"/>
            <p:cNvSpPr/>
            <p:nvPr/>
          </p:nvSpPr>
          <p:spPr>
            <a:xfrm>
              <a:off x="6275520" y="3532320"/>
              <a:ext cx="2397240" cy="471240"/>
            </a:xfrm>
            <a:prstGeom prst="roundRect">
              <a:avLst>
                <a:gd name="adj" fmla="val 50000"/>
              </a:avLst>
            </a:prstGeom>
            <a:solidFill>
              <a:srgbClr val="00b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TEXT ADD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圆角矩形 12"/>
            <p:cNvSpPr/>
            <p:nvPr/>
          </p:nvSpPr>
          <p:spPr>
            <a:xfrm>
              <a:off x="6178680" y="4253040"/>
              <a:ext cx="2604960" cy="1815840"/>
            </a:xfrm>
            <a:prstGeom prst="roundRect">
              <a:avLst>
                <a:gd name="adj" fmla="val 12852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ARALIFE CREAT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HEMEGALLE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般若黑洞</a:t>
              </a: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C&amp;C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直接连接符 13"/>
            <p:cNvSpPr/>
            <p:nvPr/>
          </p:nvSpPr>
          <p:spPr>
            <a:xfrm>
              <a:off x="7473960" y="4003560"/>
              <a:ext cx="7920" cy="249120"/>
            </a:xfrm>
            <a:prstGeom prst="line">
              <a:avLst/>
            </a:prstGeom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直接连接符 14"/>
          <p:cNvSpPr/>
          <p:nvPr/>
        </p:nvSpPr>
        <p:spPr>
          <a:xfrm>
            <a:off x="1386000" y="2189160"/>
            <a:ext cx="6732360" cy="2700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直接连接符 15"/>
          <p:cNvSpPr/>
          <p:nvPr/>
        </p:nvSpPr>
        <p:spPr>
          <a:xfrm>
            <a:off x="1344600" y="3394080"/>
            <a:ext cx="6732720" cy="28440"/>
          </a:xfrm>
          <a:prstGeom prst="line">
            <a:avLst/>
          </a:prstGeom>
          <a:ln w="7632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27"/>
          <p:cNvSpPr/>
          <p:nvPr/>
        </p:nvSpPr>
        <p:spPr>
          <a:xfrm>
            <a:off x="2913120" y="1376280"/>
            <a:ext cx="37130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EXT BORECREATION C &amp;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ARALIFE COPYRIGH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TextBox 28"/>
          <p:cNvSpPr/>
          <p:nvPr/>
        </p:nvSpPr>
        <p:spPr>
          <a:xfrm>
            <a:off x="2840040" y="2382840"/>
            <a:ext cx="25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EXT ADD 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384120" y="2320200"/>
            <a:ext cx="8367840" cy="2288160"/>
            <a:chOff x="384120" y="2320200"/>
            <a:chExt cx="8367840" cy="2288160"/>
          </a:xfrm>
        </p:grpSpPr>
        <p:pic>
          <p:nvPicPr>
            <p:cNvPr id="324" name="组合 5" descr=""/>
            <p:cNvPicPr/>
            <p:nvPr/>
          </p:nvPicPr>
          <p:blipFill>
            <a:blip r:embed="rId2"/>
            <a:stretch/>
          </p:blipFill>
          <p:spPr>
            <a:xfrm>
              <a:off x="384120" y="3315600"/>
              <a:ext cx="1292400" cy="12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椭圆 4"/>
            <p:cNvSpPr/>
            <p:nvPr/>
          </p:nvSpPr>
          <p:spPr>
            <a:xfrm>
              <a:off x="1603440" y="3793680"/>
              <a:ext cx="255600" cy="2556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直接连接符 5"/>
            <p:cNvSpPr/>
            <p:nvPr/>
          </p:nvSpPr>
          <p:spPr>
            <a:xfrm>
              <a:off x="1965240" y="3957480"/>
              <a:ext cx="1896840" cy="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直接连接符 6"/>
            <p:cNvSpPr/>
            <p:nvPr/>
          </p:nvSpPr>
          <p:spPr>
            <a:xfrm flipV="1">
              <a:off x="4110120" y="3357000"/>
              <a:ext cx="2098440" cy="1584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8" name="直接连接符 7"/>
            <p:cNvSpPr/>
            <p:nvPr/>
          </p:nvSpPr>
          <p:spPr>
            <a:xfrm flipV="1">
              <a:off x="6293160" y="2810880"/>
              <a:ext cx="1622160" cy="1584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9" name="直接连接符 8"/>
            <p:cNvSpPr/>
            <p:nvPr/>
          </p:nvSpPr>
          <p:spPr>
            <a:xfrm flipV="1">
              <a:off x="3890880" y="3425400"/>
              <a:ext cx="188640" cy="5205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0" name="直接连接符 9"/>
            <p:cNvSpPr/>
            <p:nvPr/>
          </p:nvSpPr>
          <p:spPr>
            <a:xfrm flipV="1">
              <a:off x="6170760" y="2823120"/>
              <a:ext cx="133200" cy="576360"/>
            </a:xfrm>
            <a:prstGeom prst="line">
              <a:avLst/>
            </a:prstGeom>
            <a:ln w="76320">
              <a:solidFill>
                <a:srgbClr val="897dc1">
                  <a:alpha val="44000"/>
                </a:srgbClr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等腰三角形 10"/>
            <p:cNvSpPr/>
            <p:nvPr/>
          </p:nvSpPr>
          <p:spPr>
            <a:xfrm rot="1814400">
              <a:off x="7984800" y="2449440"/>
              <a:ext cx="668160" cy="5731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TextBox 30"/>
          <p:cNvSpPr/>
          <p:nvPr/>
        </p:nvSpPr>
        <p:spPr>
          <a:xfrm>
            <a:off x="1927080" y="401796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31"/>
          <p:cNvSpPr/>
          <p:nvPr/>
        </p:nvSpPr>
        <p:spPr>
          <a:xfrm>
            <a:off x="4167360" y="3597120"/>
            <a:ext cx="2030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32"/>
          <p:cNvSpPr/>
          <p:nvPr/>
        </p:nvSpPr>
        <p:spPr>
          <a:xfrm>
            <a:off x="6350040" y="2887560"/>
            <a:ext cx="20318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· TEXT  add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5" name="Group 15"/>
          <p:cNvGrpSpPr/>
          <p:nvPr/>
        </p:nvGrpSpPr>
        <p:grpSpPr>
          <a:xfrm>
            <a:off x="1911240" y="2770200"/>
            <a:ext cx="1731960" cy="1103760"/>
            <a:chOff x="1911240" y="2770200"/>
            <a:chExt cx="1731960" cy="1103760"/>
          </a:xfrm>
        </p:grpSpPr>
        <p:sp>
          <p:nvSpPr>
            <p:cNvPr id="336" name="圆角矩形 18"/>
            <p:cNvSpPr/>
            <p:nvPr/>
          </p:nvSpPr>
          <p:spPr>
            <a:xfrm>
              <a:off x="1911240" y="2770200"/>
              <a:ext cx="173196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TextBox 34"/>
            <p:cNvSpPr/>
            <p:nvPr/>
          </p:nvSpPr>
          <p:spPr>
            <a:xfrm>
              <a:off x="2074680" y="2865600"/>
              <a:ext cx="14594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38" name="Group 18"/>
          <p:cNvGrpSpPr/>
          <p:nvPr/>
        </p:nvGrpSpPr>
        <p:grpSpPr>
          <a:xfrm>
            <a:off x="4219560" y="2158920"/>
            <a:ext cx="1733400" cy="1076400"/>
            <a:chOff x="4219560" y="2158920"/>
            <a:chExt cx="1733400" cy="1076400"/>
          </a:xfrm>
        </p:grpSpPr>
        <p:sp>
          <p:nvSpPr>
            <p:cNvPr id="339" name="圆角矩形 21"/>
            <p:cNvSpPr/>
            <p:nvPr/>
          </p:nvSpPr>
          <p:spPr>
            <a:xfrm>
              <a:off x="4219560" y="215892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TextBox 35"/>
            <p:cNvSpPr/>
            <p:nvPr/>
          </p:nvSpPr>
          <p:spPr>
            <a:xfrm>
              <a:off x="4314960" y="222696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1" name="Group 21"/>
          <p:cNvGrpSpPr/>
          <p:nvPr/>
        </p:nvGrpSpPr>
        <p:grpSpPr>
          <a:xfrm>
            <a:off x="6458040" y="1654200"/>
            <a:ext cx="1733400" cy="1076400"/>
            <a:chOff x="6458040" y="1654200"/>
            <a:chExt cx="1733400" cy="1076400"/>
          </a:xfrm>
        </p:grpSpPr>
        <p:sp>
          <p:nvSpPr>
            <p:cNvPr id="342" name="圆角矩形 24"/>
            <p:cNvSpPr/>
            <p:nvPr/>
          </p:nvSpPr>
          <p:spPr>
            <a:xfrm>
              <a:off x="6458040" y="1654200"/>
              <a:ext cx="1733400" cy="91440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TextBox 36"/>
            <p:cNvSpPr/>
            <p:nvPr/>
          </p:nvSpPr>
          <p:spPr>
            <a:xfrm>
              <a:off x="6608160" y="1722240"/>
              <a:ext cx="1460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4" name="Group 24"/>
          <p:cNvGrpSpPr/>
          <p:nvPr/>
        </p:nvGrpSpPr>
        <p:grpSpPr>
          <a:xfrm>
            <a:off x="2022480" y="5351400"/>
            <a:ext cx="1552680" cy="693720"/>
            <a:chOff x="2022480" y="5351400"/>
            <a:chExt cx="1552680" cy="693720"/>
          </a:xfrm>
        </p:grpSpPr>
        <p:sp>
          <p:nvSpPr>
            <p:cNvPr id="345" name="圆角矩形 27"/>
            <p:cNvSpPr/>
            <p:nvPr/>
          </p:nvSpPr>
          <p:spPr>
            <a:xfrm>
              <a:off x="2022480" y="5351400"/>
              <a:ext cx="1552680" cy="6937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6" name="TextBox 37"/>
            <p:cNvSpPr/>
            <p:nvPr/>
          </p:nvSpPr>
          <p:spPr>
            <a:xfrm>
              <a:off x="2090520" y="5405760"/>
              <a:ext cx="1402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7" name="Group 27"/>
          <p:cNvGrpSpPr/>
          <p:nvPr/>
        </p:nvGrpSpPr>
        <p:grpSpPr>
          <a:xfrm>
            <a:off x="4330800" y="5054760"/>
            <a:ext cx="1565280" cy="718920"/>
            <a:chOff x="4330800" y="5054760"/>
            <a:chExt cx="1565280" cy="718920"/>
          </a:xfrm>
        </p:grpSpPr>
        <p:sp>
          <p:nvSpPr>
            <p:cNvPr id="348" name="圆角矩形 30"/>
            <p:cNvSpPr/>
            <p:nvPr/>
          </p:nvSpPr>
          <p:spPr>
            <a:xfrm>
              <a:off x="4330800" y="5054760"/>
              <a:ext cx="1565280" cy="71892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ffa9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9" name="TextBox 38"/>
            <p:cNvSpPr/>
            <p:nvPr/>
          </p:nvSpPr>
          <p:spPr>
            <a:xfrm>
              <a:off x="4439880" y="5122800"/>
              <a:ext cx="140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0" name="Group 30"/>
          <p:cNvGrpSpPr/>
          <p:nvPr/>
        </p:nvGrpSpPr>
        <p:grpSpPr>
          <a:xfrm>
            <a:off x="6515280" y="4221000"/>
            <a:ext cx="1550880" cy="706680"/>
            <a:chOff x="6515280" y="4221000"/>
            <a:chExt cx="1550880" cy="706680"/>
          </a:xfrm>
        </p:grpSpPr>
        <p:sp>
          <p:nvSpPr>
            <p:cNvPr id="351" name="圆角矩形 33"/>
            <p:cNvSpPr/>
            <p:nvPr/>
          </p:nvSpPr>
          <p:spPr>
            <a:xfrm>
              <a:off x="6515280" y="4221000"/>
              <a:ext cx="1550880" cy="706680"/>
            </a:xfrm>
            <a:prstGeom prst="roundRect">
              <a:avLst>
                <a:gd name="adj" fmla="val 22639"/>
              </a:avLst>
            </a:prstGeom>
            <a:noFill/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TextBox 39"/>
            <p:cNvSpPr/>
            <p:nvPr/>
          </p:nvSpPr>
          <p:spPr>
            <a:xfrm>
              <a:off x="6638040" y="4275720"/>
              <a:ext cx="1403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Text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Text add he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4" name="Group 3"/>
          <p:cNvGrpSpPr/>
          <p:nvPr/>
        </p:nvGrpSpPr>
        <p:grpSpPr>
          <a:xfrm>
            <a:off x="1306440" y="4210200"/>
            <a:ext cx="6640560" cy="1933560"/>
            <a:chOff x="1306440" y="4210200"/>
            <a:chExt cx="6640560" cy="1933560"/>
          </a:xfrm>
        </p:grpSpPr>
        <p:sp>
          <p:nvSpPr>
            <p:cNvPr id="355" name="圆角矩形 3"/>
            <p:cNvSpPr/>
            <p:nvPr/>
          </p:nvSpPr>
          <p:spPr>
            <a:xfrm>
              <a:off x="1306440" y="4806720"/>
              <a:ext cx="6640560" cy="1337040"/>
            </a:xfrm>
            <a:prstGeom prst="roundRect">
              <a:avLst>
                <a:gd name="adj" fmla="val 16667"/>
              </a:avLst>
            </a:prstGeom>
            <a:solidFill>
              <a:srgbClr val="e1fb81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椭圆 4"/>
            <p:cNvSpPr/>
            <p:nvPr/>
          </p:nvSpPr>
          <p:spPr>
            <a:xfrm>
              <a:off x="1742400" y="49474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椭圆 5"/>
            <p:cNvSpPr/>
            <p:nvPr/>
          </p:nvSpPr>
          <p:spPr>
            <a:xfrm>
              <a:off x="3287880" y="493128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椭圆 6"/>
            <p:cNvSpPr/>
            <p:nvPr/>
          </p:nvSpPr>
          <p:spPr>
            <a:xfrm>
              <a:off x="4863600" y="495936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椭圆 7"/>
            <p:cNvSpPr/>
            <p:nvPr/>
          </p:nvSpPr>
          <p:spPr>
            <a:xfrm>
              <a:off x="6355080" y="4945320"/>
              <a:ext cx="1041120" cy="1041480"/>
            </a:xfrm>
            <a:prstGeom prst="ellipse">
              <a:avLst/>
            </a:prstGeom>
            <a:solidFill>
              <a:srgbClr val="ffffff"/>
            </a:solidFill>
            <a:ln w="76320">
              <a:solidFill>
                <a:srgbClr val="9eca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ADD TEX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上箭头 8"/>
            <p:cNvSpPr/>
            <p:nvPr/>
          </p:nvSpPr>
          <p:spPr>
            <a:xfrm>
              <a:off x="2986560" y="4210200"/>
              <a:ext cx="3220560" cy="586800"/>
            </a:xfrm>
            <a:prstGeom prst="upArrow">
              <a:avLst>
                <a:gd name="adj1" fmla="val 65972"/>
                <a:gd name="adj2" fmla="val 50000"/>
              </a:avLst>
            </a:prstGeom>
            <a:solidFill>
              <a:srgbClr val="9eca0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1" name="Group 10"/>
          <p:cNvGrpSpPr/>
          <p:nvPr/>
        </p:nvGrpSpPr>
        <p:grpSpPr>
          <a:xfrm>
            <a:off x="1305000" y="2141640"/>
            <a:ext cx="6638760" cy="2031840"/>
            <a:chOff x="1305000" y="2141640"/>
            <a:chExt cx="6638760" cy="2031840"/>
          </a:xfrm>
        </p:grpSpPr>
        <p:sp>
          <p:nvSpPr>
            <p:cNvPr id="362" name="圆角矩形 10"/>
            <p:cNvSpPr/>
            <p:nvPr/>
          </p:nvSpPr>
          <p:spPr>
            <a:xfrm>
              <a:off x="1305000" y="2410200"/>
              <a:ext cx="6638760" cy="1763280"/>
            </a:xfrm>
            <a:prstGeom prst="roundRect">
              <a:avLst>
                <a:gd name="adj" fmla="val 16667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3" name="圆角矩形 11"/>
            <p:cNvSpPr/>
            <p:nvPr/>
          </p:nvSpPr>
          <p:spPr>
            <a:xfrm>
              <a:off x="1743480" y="265824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4" name="圆角矩形 13"/>
            <p:cNvSpPr/>
            <p:nvPr/>
          </p:nvSpPr>
          <p:spPr>
            <a:xfrm>
              <a:off x="1713240" y="313416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圆角矩形 14"/>
            <p:cNvSpPr/>
            <p:nvPr/>
          </p:nvSpPr>
          <p:spPr>
            <a:xfrm>
              <a:off x="1741320" y="3598920"/>
              <a:ext cx="5738760" cy="365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9000"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Concentration &amp; Creatio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6" name="圆角矩形 15"/>
            <p:cNvSpPr/>
            <p:nvPr/>
          </p:nvSpPr>
          <p:spPr>
            <a:xfrm>
              <a:off x="2783160" y="2141640"/>
              <a:ext cx="3765240" cy="365760"/>
            </a:xfrm>
            <a:prstGeom prst="roundRect">
              <a:avLst>
                <a:gd name="adj" fmla="val 50000"/>
              </a:avLst>
            </a:prstGeom>
            <a:solidFill>
              <a:srgbClr val="aee3f0"/>
            </a:solidFill>
            <a:ln w="76320">
              <a:solidFill>
                <a:srgbClr val="61c9e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51:02Z</dcterms:created>
  <dc:creator/>
  <dc:description/>
  <dc:language>en-US</dc:language>
  <cp:lastModifiedBy>for_yang@qq.com</cp:lastModifiedBy>
  <dcterms:modified xsi:type="dcterms:W3CDTF">2015-08-03T12:33:42Z</dcterms:modified>
  <cp:revision>19</cp:revision>
  <dc:subject/>
  <dc:title>乘风破浪,世界就在眼前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