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1CC-B96D-47A7-A10E-C52B56C2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16C-A301-4880-95B0-99AC4976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2D8-8E20-40DF-B207-D1C9E5A6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D85-DC5B-41F1-BEDA-DCEDBC10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A756-6504-4098-B54D-098F7242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B11C-3EC7-489C-9713-DA6740F4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B09B-3E58-4700-9493-538C34F6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1EF7-C967-4EB2-8475-B025F5BE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47C9-052C-4602-BF19-F589D3BE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20ED-F64A-4940-90E4-B41578E5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16C1-3180-4C69-9B1A-8EC45A6C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B61-2705-430F-BB9F-8CD26CEC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29DC-C05A-4374-9633-36DC7C4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16DF-F915-42BA-8EDE-E334F5A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191D-13CE-4B23-AE54-7A505596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1B93-9F8B-4133-B153-F437F8A8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9172-0CD4-4F6C-8322-479C546F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9FB-5B96-48C0-B674-FB70A36E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FB8-D1E5-4EFD-BF55-252AF415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323-589A-4DB5-A795-D81B837B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EB5-F7C0-46DE-AFC2-AFCD50DC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26E-AAB1-4631-9CB5-45F6848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AE6-448C-4F33-AA34-B34E6F85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74D-F5B4-43EC-BC6F-2F6C20E4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对内内页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44F0-E07F-40CA-8179-AB906BED1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对内泰康人寿(电视广告）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2C4A-9778-47F0-99C4-3EB57F41D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2060640"/>
            <a:ext cx="6840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晋升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43280" y="3714840"/>
            <a:ext cx="450072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  <a:ea typeface="黑体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8"/>
          <p:cNvSpPr/>
          <p:nvPr/>
        </p:nvSpPr>
        <p:spPr>
          <a:xfrm>
            <a:off x="228600" y="836640"/>
            <a:ext cx="8710560" cy="71280"/>
          </a:xfrm>
          <a:custGeom>
            <a:avLst/>
            <a:gdLst>
              <a:gd name="textAreaLeft" fmla="*/ 27552600 w 8710560"/>
              <a:gd name="textAreaRight" fmla="*/ 160603200 w 8710560"/>
              <a:gd name="textAreaTop" fmla="*/ 226440 h 71280"/>
              <a:gd name="textAreaBottom" fmla="*/ 1320480 h 712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455" y="0"/>
                </a:lnTo>
                <a:lnTo>
                  <a:pt x="45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8401"/>
          </a:solidFill>
          <a:ln w="9360">
            <a:solidFill>
              <a:srgbClr val="ff84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8360" y="1890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    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1476360" y="1971720"/>
            <a:ext cx="762120" cy="665280"/>
            <a:chOff x="1476360" y="1971720"/>
            <a:chExt cx="762120" cy="665280"/>
          </a:xfrm>
        </p:grpSpPr>
        <p:sp>
          <p:nvSpPr>
            <p:cNvPr id="90" name="AutoShape 4"/>
            <p:cNvSpPr/>
            <p:nvPr/>
          </p:nvSpPr>
          <p:spPr>
            <a:xfrm>
              <a:off x="1482480" y="1982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1476360" y="19717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6"/>
            <p:cNvSpPr/>
            <p:nvPr/>
          </p:nvSpPr>
          <p:spPr>
            <a:xfrm>
              <a:off x="1520640" y="2011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11"/>
          <p:cNvSpPr/>
          <p:nvPr/>
        </p:nvSpPr>
        <p:spPr>
          <a:xfrm>
            <a:off x="2085840" y="2581200"/>
            <a:ext cx="4800600" cy="180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666800" y="211140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2484360" y="1967040"/>
            <a:ext cx="47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对晋升后岗位职责的认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D:\6ppt\ppt使用\GIF动画图标大全\ICONS\0342.GIF"/>
          <p:cNvPicPr/>
          <p:nvPr/>
        </p:nvPicPr>
        <p:blipFill>
          <a:blip r:embed="rId1"/>
          <a:stretch/>
        </p:blipFill>
        <p:spPr>
          <a:xfrm>
            <a:off x="7093080" y="1893960"/>
            <a:ext cx="571320" cy="5713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1476360" y="3214800"/>
            <a:ext cx="762120" cy="664920"/>
            <a:chOff x="1476360" y="3214800"/>
            <a:chExt cx="762120" cy="664920"/>
          </a:xfrm>
        </p:grpSpPr>
        <p:sp>
          <p:nvSpPr>
            <p:cNvPr id="98" name="AutoShape 8"/>
            <p:cNvSpPr/>
            <p:nvPr/>
          </p:nvSpPr>
          <p:spPr>
            <a:xfrm>
              <a:off x="1482480" y="3225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9"/>
            <p:cNvSpPr/>
            <p:nvPr/>
          </p:nvSpPr>
          <p:spPr>
            <a:xfrm>
              <a:off x="1476360" y="3214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1520640" y="325440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2"/>
          <p:cNvSpPr/>
          <p:nvPr/>
        </p:nvSpPr>
        <p:spPr>
          <a:xfrm>
            <a:off x="2489040" y="3141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本人现有的优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2085840" y="3862440"/>
            <a:ext cx="4800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68960" y="3286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1476360" y="4492800"/>
            <a:ext cx="762120" cy="664920"/>
            <a:chOff x="1476360" y="4492800"/>
            <a:chExt cx="762120" cy="664920"/>
          </a:xfrm>
        </p:grpSpPr>
        <p:sp>
          <p:nvSpPr>
            <p:cNvPr id="105" name="AutoShape 8"/>
            <p:cNvSpPr/>
            <p:nvPr/>
          </p:nvSpPr>
          <p:spPr>
            <a:xfrm>
              <a:off x="1482480" y="4503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"/>
            <p:cNvSpPr/>
            <p:nvPr/>
          </p:nvSpPr>
          <p:spPr>
            <a:xfrm>
              <a:off x="1476360" y="4492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0"/>
            <p:cNvSpPr/>
            <p:nvPr/>
          </p:nvSpPr>
          <p:spPr>
            <a:xfrm>
              <a:off x="1520640" y="453240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2"/>
          <p:cNvSpPr/>
          <p:nvPr/>
        </p:nvSpPr>
        <p:spPr>
          <a:xfrm>
            <a:off x="2489040" y="4419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晋升后需加强的素质和技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2085840" y="5140440"/>
            <a:ext cx="4800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668960" y="456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对晋升后岗位职责的认识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35684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负责机构后援支持工作，包括新契约、保全、理赔的初审，内外部客户咨询接待、机构费用管理、机构会议管理支持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 客户档案管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总之：内勤是个基础类的工作，是公司的后勤保障，风险大、责任重，相比其他岗位能学习到更多的知识，能更好的缎练和造就人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8"/>
          <p:cNvSpPr/>
          <p:nvPr/>
        </p:nvSpPr>
        <p:spPr>
          <a:xfrm>
            <a:off x="228600" y="836640"/>
            <a:ext cx="8710560" cy="71280"/>
          </a:xfrm>
          <a:custGeom>
            <a:avLst/>
            <a:gdLst>
              <a:gd name="textAreaLeft" fmla="*/ 27552600 w 8710560"/>
              <a:gd name="textAreaRight" fmla="*/ 160603200 w 8710560"/>
              <a:gd name="textAreaTop" fmla="*/ 226440 h 71280"/>
              <a:gd name="textAreaBottom" fmla="*/ 1320480 h 712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455" y="0"/>
                </a:lnTo>
                <a:lnTo>
                  <a:pt x="45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8401"/>
          </a:solidFill>
          <a:ln w="9360">
            <a:solidFill>
              <a:srgbClr val="ff84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8360" y="1890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    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476360" y="3290760"/>
            <a:ext cx="762120" cy="665280"/>
            <a:chOff x="1476360" y="3290760"/>
            <a:chExt cx="762120" cy="665280"/>
          </a:xfrm>
        </p:grpSpPr>
        <p:sp>
          <p:nvSpPr>
            <p:cNvPr id="116" name="AutoShape 4"/>
            <p:cNvSpPr/>
            <p:nvPr/>
          </p:nvSpPr>
          <p:spPr>
            <a:xfrm>
              <a:off x="1482480" y="3301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5"/>
            <p:cNvSpPr/>
            <p:nvPr/>
          </p:nvSpPr>
          <p:spPr>
            <a:xfrm>
              <a:off x="1476360" y="32907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6"/>
            <p:cNvSpPr/>
            <p:nvPr/>
          </p:nvSpPr>
          <p:spPr>
            <a:xfrm>
              <a:off x="1520640" y="333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11"/>
          <p:cNvSpPr/>
          <p:nvPr/>
        </p:nvSpPr>
        <p:spPr>
          <a:xfrm>
            <a:off x="2085840" y="3900600"/>
            <a:ext cx="4800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666800" y="343044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484360" y="3286080"/>
            <a:ext cx="47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本人现有的优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:\6ppt\ppt使用\GIF动画图标大全\ICONS\0342.GIF"/>
          <p:cNvPicPr/>
          <p:nvPr/>
        </p:nvPicPr>
        <p:blipFill>
          <a:blip r:embed="rId1"/>
          <a:stretch/>
        </p:blipFill>
        <p:spPr>
          <a:xfrm>
            <a:off x="7093080" y="3213000"/>
            <a:ext cx="571320" cy="57168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7"/>
          <p:cNvGrpSpPr/>
          <p:nvPr/>
        </p:nvGrpSpPr>
        <p:grpSpPr>
          <a:xfrm>
            <a:off x="1476360" y="2062080"/>
            <a:ext cx="762120" cy="665280"/>
            <a:chOff x="1476360" y="2062080"/>
            <a:chExt cx="762120" cy="665280"/>
          </a:xfrm>
        </p:grpSpPr>
        <p:sp>
          <p:nvSpPr>
            <p:cNvPr id="124" name="AutoShape 8"/>
            <p:cNvSpPr/>
            <p:nvPr/>
          </p:nvSpPr>
          <p:spPr>
            <a:xfrm>
              <a:off x="1482480" y="20732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476360" y="20620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520640" y="210168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2"/>
          <p:cNvSpPr/>
          <p:nvPr/>
        </p:nvSpPr>
        <p:spPr>
          <a:xfrm>
            <a:off x="2489040" y="19890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对晋升后岗位职责的认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2085840" y="2709720"/>
            <a:ext cx="4800600" cy="180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166896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1476360" y="4492800"/>
            <a:ext cx="762120" cy="664920"/>
            <a:chOff x="1476360" y="4492800"/>
            <a:chExt cx="762120" cy="664920"/>
          </a:xfrm>
        </p:grpSpPr>
        <p:sp>
          <p:nvSpPr>
            <p:cNvPr id="131" name="AutoShape 8"/>
            <p:cNvSpPr/>
            <p:nvPr/>
          </p:nvSpPr>
          <p:spPr>
            <a:xfrm>
              <a:off x="1482480" y="4503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>
              <a:off x="1476360" y="4492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0"/>
            <p:cNvSpPr/>
            <p:nvPr/>
          </p:nvSpPr>
          <p:spPr>
            <a:xfrm>
              <a:off x="1520640" y="453240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2"/>
          <p:cNvSpPr/>
          <p:nvPr/>
        </p:nvSpPr>
        <p:spPr>
          <a:xfrm>
            <a:off x="2489040" y="4419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晋升后需加强的素质和技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2085840" y="5140440"/>
            <a:ext cx="4800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668960" y="456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本人现有的优势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8400" y="1285560"/>
            <a:ext cx="82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工作态度端正、有高度的工作热情：严格遵守公司规章制度，爱岗敬业、扎实工作；“ 心系客户，想客户之所想，急客户之所急”，全心全意为客户服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熟练掌握专业知识及专业技能，并在工作中得到运用，从而很好地完成各项工作：财务工作、个险新契约、保全、银保、团险、理赔及办公室日常工作，每月还积极主动的对外勤伙伴进行产品培训、品质管理、投保规则、电子投保知识的宣导及强化培训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组织协调能力强：</a:t>
            </a: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11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度对抗赛中担任</a:t>
            </a: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组小组长，在全省对抗赛中小组成员互相学习，共同进步取得好成绩；工作中能协调好内外勤之间的关系，互相关心、互相帮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具有强烈的团队意识，有敏锐的洞察力，拥有很好的沟通能力和人际关系</a:t>
            </a: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善于与各部门协同合作、有较强的学习能力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18"/>
          <p:cNvSpPr/>
          <p:nvPr/>
        </p:nvSpPr>
        <p:spPr>
          <a:xfrm>
            <a:off x="228600" y="836640"/>
            <a:ext cx="8710560" cy="71280"/>
          </a:xfrm>
          <a:custGeom>
            <a:avLst/>
            <a:gdLst>
              <a:gd name="textAreaLeft" fmla="*/ 27552600 w 8710560"/>
              <a:gd name="textAreaRight" fmla="*/ 160603200 w 8710560"/>
              <a:gd name="textAreaTop" fmla="*/ 226440 h 71280"/>
              <a:gd name="textAreaBottom" fmla="*/ 1320480 h 712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455" y="0"/>
                </a:lnTo>
                <a:lnTo>
                  <a:pt x="45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8401"/>
          </a:solidFill>
          <a:ln w="9360">
            <a:solidFill>
              <a:srgbClr val="ff84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68360" y="1890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    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1476360" y="4659480"/>
            <a:ext cx="762120" cy="664920"/>
            <a:chOff x="1476360" y="4659480"/>
            <a:chExt cx="762120" cy="664920"/>
          </a:xfrm>
        </p:grpSpPr>
        <p:sp>
          <p:nvSpPr>
            <p:cNvPr id="143" name="AutoShape 4"/>
            <p:cNvSpPr/>
            <p:nvPr/>
          </p:nvSpPr>
          <p:spPr>
            <a:xfrm>
              <a:off x="1482480" y="467064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5"/>
            <p:cNvSpPr/>
            <p:nvPr/>
          </p:nvSpPr>
          <p:spPr>
            <a:xfrm>
              <a:off x="1476360" y="46594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6"/>
            <p:cNvSpPr/>
            <p:nvPr/>
          </p:nvSpPr>
          <p:spPr>
            <a:xfrm>
              <a:off x="1520640" y="469908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11"/>
          <p:cNvSpPr/>
          <p:nvPr/>
        </p:nvSpPr>
        <p:spPr>
          <a:xfrm>
            <a:off x="2085840" y="5268960"/>
            <a:ext cx="4800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666800" y="479916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2484360" y="4654440"/>
            <a:ext cx="47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晋升后需加强的素质和技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D:\6ppt\ppt使用\GIF动画图标大全\ICONS\0342.GIF"/>
          <p:cNvPicPr/>
          <p:nvPr/>
        </p:nvPicPr>
        <p:blipFill>
          <a:blip r:embed="rId1"/>
          <a:stretch/>
        </p:blipFill>
        <p:spPr>
          <a:xfrm>
            <a:off x="7093080" y="4581360"/>
            <a:ext cx="571320" cy="5716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7"/>
          <p:cNvGrpSpPr/>
          <p:nvPr/>
        </p:nvGrpSpPr>
        <p:grpSpPr>
          <a:xfrm>
            <a:off x="1476360" y="2062080"/>
            <a:ext cx="762120" cy="665280"/>
            <a:chOff x="1476360" y="2062080"/>
            <a:chExt cx="762120" cy="665280"/>
          </a:xfrm>
        </p:grpSpPr>
        <p:sp>
          <p:nvSpPr>
            <p:cNvPr id="151" name="AutoShape 8"/>
            <p:cNvSpPr/>
            <p:nvPr/>
          </p:nvSpPr>
          <p:spPr>
            <a:xfrm>
              <a:off x="1482480" y="20732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9"/>
            <p:cNvSpPr/>
            <p:nvPr/>
          </p:nvSpPr>
          <p:spPr>
            <a:xfrm>
              <a:off x="1476360" y="20620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"/>
            <p:cNvSpPr/>
            <p:nvPr/>
          </p:nvSpPr>
          <p:spPr>
            <a:xfrm>
              <a:off x="1520640" y="210168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2"/>
          <p:cNvSpPr/>
          <p:nvPr/>
        </p:nvSpPr>
        <p:spPr>
          <a:xfrm>
            <a:off x="2489040" y="19890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对晋升后岗位职责的认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2085840" y="2709720"/>
            <a:ext cx="4800600" cy="180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166896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1476360" y="3430440"/>
            <a:ext cx="762120" cy="665280"/>
            <a:chOff x="1476360" y="3430440"/>
            <a:chExt cx="762120" cy="665280"/>
          </a:xfrm>
        </p:grpSpPr>
        <p:sp>
          <p:nvSpPr>
            <p:cNvPr id="158" name="AutoShape 8"/>
            <p:cNvSpPr/>
            <p:nvPr/>
          </p:nvSpPr>
          <p:spPr>
            <a:xfrm>
              <a:off x="1482480" y="3441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1476360" y="34304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1520640" y="347004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2"/>
          <p:cNvSpPr/>
          <p:nvPr/>
        </p:nvSpPr>
        <p:spPr>
          <a:xfrm>
            <a:off x="2489040" y="3357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本人现有的优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2085840" y="4078440"/>
            <a:ext cx="4800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668960" y="3502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晋升后需加强的素质和技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7120" y="1356840"/>
            <a:ext cx="8329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加强业管工作，构建优质、规范的服务体系。提高风险管控能力：对新契约业务及时审核，熟练掌握新核心业务系统操作，提高自身的综合业务技能和素质，为公司业务发展提供良好的保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提高客户服务工作质量，建设一流的客户服务平台：加强学习，提高自身综合技能素质，严格奉行“专业化、规范化、高效性”的服务宗旨，严格按照岗位职责和业务操作实务流程的规定作好接待、报案、条款解释、理赔投诉等各项工作。为公司客户提供高效、便捷的服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490-EE53-4DFD-AB6C-004D0119D9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2:13:10Z</dcterms:created>
  <dc:creator>admin</dc:creator>
  <dc:description/>
  <dc:language>en-US</dc:language>
  <cp:lastModifiedBy>for_yang@qq.com</cp:lastModifiedBy>
  <dcterms:modified xsi:type="dcterms:W3CDTF">2015-08-03T12:32:50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