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城市高尔夫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EA07CAACB494bf09C6B7463F47878FC#&#9;#Picture 2"/>
          <p:cNvPicPr/>
          <p:nvPr/>
        </p:nvPicPr>
        <p:blipFill>
          <a:blip r:embed="rId1"/>
          <a:srcRect l="63386" t="50003" r="29531" b="0"/>
          <a:stretch/>
        </p:blipFill>
        <p:spPr>
          <a:xfrm>
            <a:off x="579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A32A9812DE504d1088A2729795CCEDD8#&#9;#Picture 2"/>
          <p:cNvPicPr/>
          <p:nvPr/>
        </p:nvPicPr>
        <p:blipFill>
          <a:blip r:embed="rId2"/>
          <a:srcRect l="55835" t="50003" r="36618" b="0"/>
          <a:stretch/>
        </p:blipFill>
        <p:spPr>
          <a:xfrm>
            <a:off x="5105520" y="2857680"/>
            <a:ext cx="69048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EA913F9D5A94e76AC952E2AE1C6A752#&#9;#Picture 2"/>
          <p:cNvPicPr/>
          <p:nvPr/>
        </p:nvPicPr>
        <p:blipFill>
          <a:blip r:embed="rId3"/>
          <a:srcRect l="55941" t="0" r="36618" b="50003"/>
          <a:stretch/>
        </p:blipFill>
        <p:spPr>
          <a:xfrm>
            <a:off x="5114880" y="0"/>
            <a:ext cx="6811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035FB4945FF145b4B4A1E0E921563006#&#9;#Picture 2"/>
          <p:cNvPicPr/>
          <p:nvPr/>
        </p:nvPicPr>
        <p:blipFill>
          <a:blip r:embed="rId4"/>
          <a:srcRect l="49220" t="50003" r="43701" b="0"/>
          <a:stretch/>
        </p:blipFill>
        <p:spPr>
          <a:xfrm>
            <a:off x="450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3B601517A97448abBA7626A1662506CF#&#9;#Picture 2"/>
          <p:cNvPicPr/>
          <p:nvPr/>
        </p:nvPicPr>
        <p:blipFill>
          <a:blip r:embed="rId5"/>
          <a:srcRect l="49220" t="0" r="43701" b="50003"/>
          <a:stretch/>
        </p:blipFill>
        <p:spPr>
          <a:xfrm>
            <a:off x="450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41CA8F8EDD3E4f7f968671DDC8FDE0C6#&#9;#Picture 2"/>
          <p:cNvPicPr/>
          <p:nvPr/>
        </p:nvPicPr>
        <p:blipFill>
          <a:blip r:embed="rId6"/>
          <a:srcRect l="42118" t="50003" r="50783" b="0"/>
          <a:stretch/>
        </p:blipFill>
        <p:spPr>
          <a:xfrm>
            <a:off x="3851280" y="2857680"/>
            <a:ext cx="6494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B7C98D5BFBF44ee28FBC878A99BFF1B1#&#9;#Picture 2"/>
          <p:cNvPicPr/>
          <p:nvPr/>
        </p:nvPicPr>
        <p:blipFill>
          <a:blip r:embed="rId7"/>
          <a:srcRect l="42118" t="0" r="50783" b="50003"/>
          <a:stretch/>
        </p:blipFill>
        <p:spPr>
          <a:xfrm>
            <a:off x="3851280" y="0"/>
            <a:ext cx="6494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25A9A401F1A04fa3ABF3BEB55F248D12#&#9;#Picture 2"/>
          <p:cNvPicPr/>
          <p:nvPr/>
        </p:nvPicPr>
        <p:blipFill>
          <a:blip r:embed="rId8"/>
          <a:srcRect l="35035" t="50003" r="57886" b="0"/>
          <a:stretch/>
        </p:blipFill>
        <p:spPr>
          <a:xfrm>
            <a:off x="320364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7001BAB92F2A4094BFA76E0562429F6B#&#9;#Picture 2"/>
          <p:cNvPicPr/>
          <p:nvPr/>
        </p:nvPicPr>
        <p:blipFill>
          <a:blip r:embed="rId9"/>
          <a:srcRect l="35035" t="0" r="57886" b="50003"/>
          <a:stretch/>
        </p:blipFill>
        <p:spPr>
          <a:xfrm>
            <a:off x="320364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25019556A49C464991FD51711C5CD289#&#9;#Picture 2"/>
          <p:cNvPicPr/>
          <p:nvPr/>
        </p:nvPicPr>
        <p:blipFill>
          <a:blip r:embed="rId10"/>
          <a:srcRect l="27953" t="50003" r="64969" b="0"/>
          <a:stretch/>
        </p:blipFill>
        <p:spPr>
          <a:xfrm>
            <a:off x="255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9AF5587BED348efBBF14AE63EDC97D7#&#9;#Picture 2"/>
          <p:cNvPicPr/>
          <p:nvPr/>
        </p:nvPicPr>
        <p:blipFill>
          <a:blip r:embed="rId11"/>
          <a:srcRect l="27953" t="0" r="64969" b="50003"/>
          <a:stretch/>
        </p:blipFill>
        <p:spPr>
          <a:xfrm>
            <a:off x="255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98DB4F37811D4e9e9CBB40D0FFA05DA5#&#9;#Picture 2"/>
          <p:cNvPicPr/>
          <p:nvPr/>
        </p:nvPicPr>
        <p:blipFill>
          <a:blip r:embed="rId12"/>
          <a:srcRect l="20870" t="50003" r="72051" b="0"/>
          <a:stretch/>
        </p:blipFill>
        <p:spPr>
          <a:xfrm>
            <a:off x="1908000" y="2857680"/>
            <a:ext cx="6480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CC7CB9330AC4fee8F3F5C0788195FF8#&#9;#Picture 2"/>
          <p:cNvPicPr/>
          <p:nvPr/>
        </p:nvPicPr>
        <p:blipFill>
          <a:blip r:embed="rId13"/>
          <a:srcRect l="20870" t="0" r="72051" b="50003"/>
          <a:stretch/>
        </p:blipFill>
        <p:spPr>
          <a:xfrm>
            <a:off x="1908000" y="0"/>
            <a:ext cx="64800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5DBE4B01647F449dB158A13647B12BF8#&#9;#Picture 2"/>
          <p:cNvPicPr/>
          <p:nvPr/>
        </p:nvPicPr>
        <p:blipFill>
          <a:blip r:embed="rId14"/>
          <a:srcRect l="13768" t="50003" r="79134" b="0"/>
          <a:stretch/>
        </p:blipFill>
        <p:spPr>
          <a:xfrm>
            <a:off x="1258920" y="2857680"/>
            <a:ext cx="649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20E8CDB3BA448f2A4ABCA8DC752D227#&#9;#Picture 2"/>
          <p:cNvPicPr/>
          <p:nvPr/>
        </p:nvPicPr>
        <p:blipFill>
          <a:blip r:embed="rId15"/>
          <a:srcRect l="13768" t="0" r="79134" b="50003"/>
          <a:stretch/>
        </p:blipFill>
        <p:spPr>
          <a:xfrm>
            <a:off x="1258920" y="0"/>
            <a:ext cx="6490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73768834632E4b99B937AD9CDBDF3BBC#&#9;#Picture 2"/>
          <p:cNvPicPr/>
          <p:nvPr/>
        </p:nvPicPr>
        <p:blipFill>
          <a:blip r:embed="rId16"/>
          <a:srcRect l="6843" t="50003" r="86236" b="0"/>
          <a:stretch/>
        </p:blipFill>
        <p:spPr>
          <a:xfrm>
            <a:off x="625320" y="2857680"/>
            <a:ext cx="63360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4376C904009447fe8515B496DFBF307D#&#9;#Picture 2"/>
          <p:cNvPicPr/>
          <p:nvPr/>
        </p:nvPicPr>
        <p:blipFill>
          <a:blip r:embed="rId17"/>
          <a:srcRect l="6843" t="0" r="86236" b="50003"/>
          <a:stretch/>
        </p:blipFill>
        <p:spPr>
          <a:xfrm>
            <a:off x="625320" y="0"/>
            <a:ext cx="6336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045BBCE2F774cb4A50AA1CE30F406F3#&#9;#Picture 2"/>
          <p:cNvPicPr/>
          <p:nvPr/>
        </p:nvPicPr>
        <p:blipFill>
          <a:blip r:embed="rId18"/>
          <a:srcRect l="0" t="50003" r="93161" b="0"/>
          <a:stretch/>
        </p:blipFill>
        <p:spPr>
          <a:xfrm>
            <a:off x="0" y="2857680"/>
            <a:ext cx="625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7200A08537748059C339A2158BF79AC#&#9;#Picture 2"/>
          <p:cNvPicPr/>
          <p:nvPr/>
        </p:nvPicPr>
        <p:blipFill>
          <a:blip r:embed="rId19"/>
          <a:srcRect l="0" t="0" r="93161" b="50003"/>
          <a:stretch/>
        </p:blipFill>
        <p:spPr>
          <a:xfrm>
            <a:off x="0" y="0"/>
            <a:ext cx="62532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B75320DD47EE4dd4B2549FF90BF32743#&#9;#Picture 2"/>
          <p:cNvPicPr/>
          <p:nvPr/>
        </p:nvPicPr>
        <p:blipFill>
          <a:blip r:embed="rId20"/>
          <a:srcRect l="91736" t="50003" r="0" b="0"/>
          <a:stretch/>
        </p:blipFill>
        <p:spPr>
          <a:xfrm>
            <a:off x="8388360" y="2857680"/>
            <a:ext cx="7556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4783EC966EAF4cd0A4DA34A95510567A#&#9;#Picture 2"/>
          <p:cNvPicPr/>
          <p:nvPr/>
        </p:nvPicPr>
        <p:blipFill>
          <a:blip r:embed="rId21"/>
          <a:srcRect l="91736" t="0" r="0" b="50003"/>
          <a:stretch/>
        </p:blipFill>
        <p:spPr>
          <a:xfrm>
            <a:off x="8388360" y="0"/>
            <a:ext cx="7556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9BF9ED91D54F41a58A80B6269D2AC5B2#&#9;#Picture 2"/>
          <p:cNvPicPr/>
          <p:nvPr/>
        </p:nvPicPr>
        <p:blipFill>
          <a:blip r:embed="rId22"/>
          <a:srcRect l="84654" t="50003" r="8268" b="0"/>
          <a:stretch/>
        </p:blipFill>
        <p:spPr>
          <a:xfrm>
            <a:off x="774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7C6D9E84ACB6428eAB7E9BFA1D94FE2C#&#9;#Picture 2"/>
          <p:cNvPicPr/>
          <p:nvPr/>
        </p:nvPicPr>
        <p:blipFill>
          <a:blip r:embed="rId23"/>
          <a:srcRect l="84654" t="0" r="8268" b="50003"/>
          <a:stretch/>
        </p:blipFill>
        <p:spPr>
          <a:xfrm>
            <a:off x="774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213BE4E595DE4717A0A9E53EE8CE140C#&#9;#Picture 2"/>
          <p:cNvPicPr/>
          <p:nvPr/>
        </p:nvPicPr>
        <p:blipFill>
          <a:blip r:embed="rId24"/>
          <a:srcRect l="77571" t="50003" r="15350" b="0"/>
          <a:stretch/>
        </p:blipFill>
        <p:spPr>
          <a:xfrm>
            <a:off x="709308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9CEA3B968034e8bB4329FDDF4E152AC#&#9;#Picture 2"/>
          <p:cNvPicPr/>
          <p:nvPr/>
        </p:nvPicPr>
        <p:blipFill>
          <a:blip r:embed="rId25"/>
          <a:srcRect l="77571" t="0" r="15350" b="50003"/>
          <a:stretch/>
        </p:blipFill>
        <p:spPr>
          <a:xfrm>
            <a:off x="709308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02CFD2ECCBFE4e1fB199816D1D64E6FB#&#9;#Picture 2"/>
          <p:cNvPicPr/>
          <p:nvPr/>
        </p:nvPicPr>
        <p:blipFill>
          <a:blip r:embed="rId26"/>
          <a:srcRect l="69898" t="50003" r="22433" b="0"/>
          <a:stretch/>
        </p:blipFill>
        <p:spPr>
          <a:xfrm>
            <a:off x="6391440" y="2857680"/>
            <a:ext cx="70164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3070552FBC8D4d7d8266D68C51061C44#&#9;#Picture 2"/>
          <p:cNvPicPr/>
          <p:nvPr/>
        </p:nvPicPr>
        <p:blipFill>
          <a:blip r:embed="rId27"/>
          <a:srcRect l="69898" t="0" r="22433" b="50003"/>
          <a:stretch/>
        </p:blipFill>
        <p:spPr>
          <a:xfrm>
            <a:off x="6391440" y="0"/>
            <a:ext cx="7016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3470DE2D13484f76A3466854E911C65E#&#9;#Picture 2"/>
          <p:cNvPicPr/>
          <p:nvPr/>
        </p:nvPicPr>
        <p:blipFill>
          <a:blip r:embed="rId28"/>
          <a:srcRect l="63386" t="0" r="29531" b="50003"/>
          <a:stretch/>
        </p:blipFill>
        <p:spPr>
          <a:xfrm>
            <a:off x="579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E76BBF8F9B64090B7595FAE358F9047#&#9;#Picture 3"/>
          <p:cNvPicPr/>
          <p:nvPr/>
        </p:nvPicPr>
        <p:blipFill>
          <a:blip r:embed="rId29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60BC0E4DBE342c9B0AB02A4332B3C67#&#9;#Picture 5"/>
          <p:cNvPicPr/>
          <p:nvPr/>
        </p:nvPicPr>
        <p:blipFill>
          <a:blip r:embed="rId30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2F0484623214cdeBD1FCA56339DBF6F#&#9;#Picture 6"/>
          <p:cNvPicPr/>
          <p:nvPr/>
        </p:nvPicPr>
        <p:blipFill>
          <a:blip r:embed="rId31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5EA9D474C2A74ec69BFB4FB6B20A0487#&#9;#Picture 7"/>
          <p:cNvPicPr/>
          <p:nvPr/>
        </p:nvPicPr>
        <p:blipFill>
          <a:blip r:embed="rId32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03C2B4B6F14014AB00244AB55C5C13#&#9;#Picture 8"/>
          <p:cNvPicPr/>
          <p:nvPr/>
        </p:nvPicPr>
        <p:blipFill>
          <a:blip r:embed="rId33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994A7831E4CE4bf8A1E1729048E7F342#&#9;#Picture 4"/>
          <p:cNvPicPr/>
          <p:nvPr/>
        </p:nvPicPr>
        <p:blipFill>
          <a:blip r:embed="rId34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2"/>
          <p:cNvSpPr/>
          <p:nvPr/>
        </p:nvSpPr>
        <p:spPr>
          <a:xfrm>
            <a:off x="1704240" y="8413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高尔夫商务个人简历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4"/>
          <p:cNvSpPr/>
          <p:nvPr/>
        </p:nvSpPr>
        <p:spPr>
          <a:xfrm>
            <a:off x="-11520" y="3780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BatangChe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2603F6FA13A4481e9A7F3048A509C5F7#&#9;#Picture 9"/>
          <p:cNvPicPr/>
          <p:nvPr/>
        </p:nvPicPr>
        <p:blipFill>
          <a:blip r:embed="rId35"/>
          <a:srcRect l="0" t="36000" r="76878" b="58337"/>
          <a:stretch/>
        </p:blipFill>
        <p:spPr>
          <a:xfrm>
            <a:off x="0" y="2057400"/>
            <a:ext cx="2114640" cy="3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50896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"/>
                            </p:stCondLst>
                            <p:childTnLst>
                              <p:par>
                                <p:cTn id="1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7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E:\新模板\城市高尔夫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E:\新模板\城市高尔夫\未标题-4.png"/>
          <p:cNvPicPr/>
          <p:nvPr/>
        </p:nvPicPr>
        <p:blipFill>
          <a:blip r:embed="rId2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E:\新模板\城市高尔夫\未标题-5.png"/>
          <p:cNvPicPr/>
          <p:nvPr/>
        </p:nvPicPr>
        <p:blipFill>
          <a:blip r:embed="rId3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E:\新模板\城市高尔夫\未标题-6.png"/>
          <p:cNvPicPr/>
          <p:nvPr/>
        </p:nvPicPr>
        <p:blipFill>
          <a:blip r:embed="rId4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E:\新模板\城市高尔夫\未标题-7.png"/>
          <p:cNvPicPr/>
          <p:nvPr/>
        </p:nvPicPr>
        <p:blipFill>
          <a:blip r:embed="rId5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E:\新模板\城市高尔夫\未标题-8.png"/>
          <p:cNvPicPr/>
          <p:nvPr/>
        </p:nvPicPr>
        <p:blipFill>
          <a:blip r:embed="rId6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E:\新模板\城市高尔夫\未标题-9.png"/>
          <p:cNvPicPr/>
          <p:nvPr/>
        </p:nvPicPr>
        <p:blipFill>
          <a:blip r:embed="rId7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E:\新模板\城市高尔夫\未标题-10.png"/>
          <p:cNvPicPr/>
          <p:nvPr/>
        </p:nvPicPr>
        <p:blipFill>
          <a:blip r:embed="rId8"/>
          <a:srcRect l="0" t="36000" r="76878" b="58337"/>
          <a:stretch/>
        </p:blipFill>
        <p:spPr>
          <a:xfrm>
            <a:off x="0" y="2057400"/>
            <a:ext cx="2114640" cy="324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8"/>
          <p:cNvSpPr/>
          <p:nvPr/>
        </p:nvSpPr>
        <p:spPr>
          <a:xfrm>
            <a:off x="-15840" y="6858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223200" y="35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8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3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809640" y="157176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914400" y="1428840"/>
            <a:ext cx="7315200" cy="2378160"/>
          </a:xfrm>
          <a:prstGeom prst="rect">
            <a:avLst/>
          </a:prstGeom>
          <a:solidFill>
            <a:srgbClr val="007e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081080" y="178740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0" y="-2232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290600" y="1273320"/>
            <a:ext cx="6562800" cy="546120"/>
            <a:chOff x="1290600" y="1273320"/>
            <a:chExt cx="6562800" cy="546120"/>
          </a:xfrm>
        </p:grpSpPr>
        <p:sp>
          <p:nvSpPr>
            <p:cNvPr id="121" name="AutoShape 3"/>
            <p:cNvSpPr/>
            <p:nvPr/>
          </p:nvSpPr>
          <p:spPr>
            <a:xfrm>
              <a:off x="1290600" y="1465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354680" y="127332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3151440" y="13586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1290600" y="2146320"/>
            <a:ext cx="6562800" cy="546120"/>
            <a:chOff x="1290600" y="2146320"/>
            <a:chExt cx="6562800" cy="546120"/>
          </a:xfrm>
        </p:grpSpPr>
        <p:grpSp>
          <p:nvGrpSpPr>
            <p:cNvPr id="125" name="Group 7"/>
            <p:cNvGrpSpPr/>
            <p:nvPr/>
          </p:nvGrpSpPr>
          <p:grpSpPr>
            <a:xfrm>
              <a:off x="1290600" y="2146320"/>
              <a:ext cx="6562800" cy="546120"/>
              <a:chOff x="1290600" y="2146320"/>
              <a:chExt cx="6562800" cy="546120"/>
            </a:xfrm>
          </p:grpSpPr>
          <p:sp>
            <p:nvSpPr>
              <p:cNvPr id="126" name="AutoShape 3"/>
              <p:cNvSpPr/>
              <p:nvPr/>
            </p:nvSpPr>
            <p:spPr>
              <a:xfrm>
                <a:off x="1290600" y="2338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3"/>
              <p:cNvSpPr/>
              <p:nvPr/>
            </p:nvSpPr>
            <p:spPr>
              <a:xfrm>
                <a:off x="1355400" y="2146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ectangle 13"/>
            <p:cNvSpPr/>
            <p:nvPr/>
          </p:nvSpPr>
          <p:spPr>
            <a:xfrm>
              <a:off x="3151440" y="22316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1290600" y="3017880"/>
            <a:ext cx="6562800" cy="546120"/>
            <a:chOff x="1290600" y="3017880"/>
            <a:chExt cx="6562800" cy="546120"/>
          </a:xfrm>
        </p:grpSpPr>
        <p:sp>
          <p:nvSpPr>
            <p:cNvPr id="130" name="AutoShape 3"/>
            <p:cNvSpPr/>
            <p:nvPr/>
          </p:nvSpPr>
          <p:spPr>
            <a:xfrm>
              <a:off x="1290600" y="32097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"/>
            <p:cNvSpPr/>
            <p:nvPr/>
          </p:nvSpPr>
          <p:spPr>
            <a:xfrm>
              <a:off x="1354680" y="301788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3151440" y="31032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5"/>
          <p:cNvGrpSpPr/>
          <p:nvPr/>
        </p:nvGrpSpPr>
        <p:grpSpPr>
          <a:xfrm>
            <a:off x="1290600" y="3890880"/>
            <a:ext cx="6562800" cy="546120"/>
            <a:chOff x="1290600" y="3890880"/>
            <a:chExt cx="6562800" cy="546120"/>
          </a:xfrm>
        </p:grpSpPr>
        <p:grpSp>
          <p:nvGrpSpPr>
            <p:cNvPr id="134" name="Group 16"/>
            <p:cNvGrpSpPr/>
            <p:nvPr/>
          </p:nvGrpSpPr>
          <p:grpSpPr>
            <a:xfrm>
              <a:off x="1290600" y="3890880"/>
              <a:ext cx="6562800" cy="546120"/>
              <a:chOff x="1290600" y="3890880"/>
              <a:chExt cx="6562800" cy="546120"/>
            </a:xfrm>
          </p:grpSpPr>
          <p:sp>
            <p:nvSpPr>
              <p:cNvPr id="135" name="AutoShape 3"/>
              <p:cNvSpPr/>
              <p:nvPr/>
            </p:nvSpPr>
            <p:spPr>
              <a:xfrm>
                <a:off x="1290600" y="4082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3"/>
              <p:cNvSpPr/>
              <p:nvPr/>
            </p:nvSpPr>
            <p:spPr>
              <a:xfrm>
                <a:off x="1355400" y="3890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3"/>
            <p:cNvSpPr/>
            <p:nvPr/>
          </p:nvSpPr>
          <p:spPr>
            <a:xfrm>
              <a:off x="3151440" y="39762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290600" y="2425680"/>
            <a:ext cx="6562800" cy="546120"/>
            <a:chOff x="1290600" y="2425680"/>
            <a:chExt cx="6562800" cy="546120"/>
          </a:xfrm>
        </p:grpSpPr>
        <p:sp>
          <p:nvSpPr>
            <p:cNvPr id="140" name="AutoShape 3"/>
            <p:cNvSpPr/>
            <p:nvPr/>
          </p:nvSpPr>
          <p:spPr>
            <a:xfrm>
              <a:off x="1290600" y="26175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"/>
            <p:cNvSpPr/>
            <p:nvPr/>
          </p:nvSpPr>
          <p:spPr>
            <a:xfrm>
              <a:off x="1354680" y="242568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3151440" y="25110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7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357200" y="985680"/>
            <a:ext cx="1036800" cy="1036800"/>
            <a:chOff x="1357200" y="985680"/>
            <a:chExt cx="1036800" cy="1036800"/>
          </a:xfrm>
        </p:grpSpPr>
        <p:sp>
          <p:nvSpPr>
            <p:cNvPr id="146" name="空心弧 43"/>
            <p:cNvSpPr/>
            <p:nvPr/>
          </p:nvSpPr>
          <p:spPr>
            <a:xfrm>
              <a:off x="1357200" y="985680"/>
              <a:ext cx="1036800" cy="103680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036799" y="519147"/>
                  </a:moveTo>
                  <a:lnTo>
                    <a:pt x="1036799" y="519147"/>
                  </a:lnTo>
                  <a:cubicBezTo>
                    <a:pt x="1036387" y="805159"/>
                    <a:pt x="804412" y="1036799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6" y="660521"/>
                    <a:pt x="376278" y="775734"/>
                    <a:pt x="518400" y="775734"/>
                  </a:cubicBezTo>
                  <a:cubicBezTo>
                    <a:pt x="660376" y="775734"/>
                    <a:pt x="775529" y="660747"/>
                    <a:pt x="775733" y="518770"/>
                  </a:cubicBezTo>
                  <a:lnTo>
                    <a:pt x="1036799" y="51914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空心弧 44"/>
            <p:cNvSpPr/>
            <p:nvPr/>
          </p:nvSpPr>
          <p:spPr>
            <a:xfrm>
              <a:off x="1357200" y="98568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51840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518400"/>
                    <a:pt x="1036799" y="518400"/>
                    <a:pt x="1036799" y="518400"/>
                  </a:cubicBezTo>
                  <a:lnTo>
                    <a:pt x="777600" y="518400"/>
                  </a:lnTo>
                  <a:cubicBezTo>
                    <a:pt x="777600" y="375488"/>
                    <a:pt x="661927" y="259540"/>
                    <a:pt x="519017" y="259200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158904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3154320" y="985680"/>
            <a:ext cx="1036800" cy="1036800"/>
            <a:chOff x="3154320" y="985680"/>
            <a:chExt cx="1036800" cy="1036800"/>
          </a:xfrm>
        </p:grpSpPr>
        <p:sp>
          <p:nvSpPr>
            <p:cNvPr id="150" name="空心弧 45"/>
            <p:cNvSpPr/>
            <p:nvPr/>
          </p:nvSpPr>
          <p:spPr>
            <a:xfrm>
              <a:off x="3154320" y="985680"/>
              <a:ext cx="1036800" cy="103680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7906" y="1036800"/>
                  </a:moveTo>
                  <a:lnTo>
                    <a:pt x="517906" y="1036799"/>
                  </a:lnTo>
                  <a:cubicBezTo>
                    <a:pt x="231794" y="1036527"/>
                    <a:pt x="0" y="804511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5" y="660425"/>
                    <a:pt x="376129" y="775598"/>
                    <a:pt x="518155" y="775733"/>
                  </a:cubicBezTo>
                  <a:lnTo>
                    <a:pt x="517906" y="10368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空心弧 46"/>
            <p:cNvSpPr/>
            <p:nvPr/>
          </p:nvSpPr>
          <p:spPr>
            <a:xfrm>
              <a:off x="3154320" y="98568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103680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007"/>
                    <a:pt x="805790" y="1035813"/>
                    <a:pt x="520185" y="1036796"/>
                  </a:cubicBezTo>
                  <a:lnTo>
                    <a:pt x="519282" y="774436"/>
                  </a:lnTo>
                  <a:cubicBezTo>
                    <a:pt x="660342" y="773950"/>
                    <a:pt x="774438" y="659461"/>
                    <a:pt x="774438" y="518400"/>
                  </a:cubicBezTo>
                  <a:cubicBezTo>
                    <a:pt x="774438" y="377232"/>
                    <a:pt x="660177" y="262699"/>
                    <a:pt x="519009" y="262362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38616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4952880" y="985680"/>
            <a:ext cx="1036800" cy="1036800"/>
            <a:chOff x="4952880" y="985680"/>
            <a:chExt cx="1036800" cy="1036800"/>
          </a:xfrm>
        </p:grpSpPr>
        <p:sp>
          <p:nvSpPr>
            <p:cNvPr id="154" name="空心弧 47"/>
            <p:cNvSpPr/>
            <p:nvPr/>
          </p:nvSpPr>
          <p:spPr>
            <a:xfrm>
              <a:off x="4952880" y="985680"/>
              <a:ext cx="1036800" cy="103680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800"/>
                <a:gd name="textAreaBottom" fmla="*/ 51948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" y="519500"/>
                  </a:moveTo>
                  <a:lnTo>
                    <a:pt x="1" y="519499"/>
                  </a:lnTo>
                  <a:cubicBezTo>
                    <a:pt x="0" y="519133"/>
                    <a:pt x="0" y="518766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5" y="518582"/>
                    <a:pt x="261066" y="518764"/>
                    <a:pt x="261066" y="518946"/>
                  </a:cubicBezTo>
                  <a:lnTo>
                    <a:pt x="1" y="5195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空心弧 48"/>
            <p:cNvSpPr/>
            <p:nvPr/>
          </p:nvSpPr>
          <p:spPr>
            <a:xfrm>
              <a:off x="4952880" y="9856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704"/>
                    <a:pt x="804704" y="1036800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-1" y="518399"/>
                    <a:pt x="0" y="518398"/>
                    <a:pt x="0" y="518398"/>
                  </a:cubicBezTo>
                  <a:lnTo>
                    <a:pt x="260963" y="518400"/>
                  </a:lnTo>
                  <a:cubicBezTo>
                    <a:pt x="260963" y="660578"/>
                    <a:pt x="376221" y="775836"/>
                    <a:pt x="518399" y="775837"/>
                  </a:cubicBezTo>
                  <a:cubicBezTo>
                    <a:pt x="660578" y="775837"/>
                    <a:pt x="775837" y="660578"/>
                    <a:pt x="775837" y="518400"/>
                  </a:cubicBezTo>
                  <a:cubicBezTo>
                    <a:pt x="775837" y="376460"/>
                    <a:pt x="660951" y="261301"/>
                    <a:pt x="519013" y="260963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518472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750000" y="985680"/>
            <a:ext cx="1036800" cy="1036800"/>
            <a:chOff x="6750000" y="985680"/>
            <a:chExt cx="1036800" cy="1036800"/>
          </a:xfrm>
        </p:grpSpPr>
        <p:sp>
          <p:nvSpPr>
            <p:cNvPr id="158" name="同心圆 49"/>
            <p:cNvSpPr/>
            <p:nvPr/>
          </p:nvSpPr>
          <p:spPr>
            <a:xfrm>
              <a:off x="6750000" y="985680"/>
              <a:ext cx="1036800" cy="103680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800"/>
                <a:gd name="textAreaBottom" fmla="*/ 88524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0" y="518400"/>
                  </a:moveTo>
                  <a:lnTo>
                    <a:pt x="0" y="518400"/>
                  </a:lnTo>
                  <a:cubicBezTo>
                    <a:pt x="0" y="232095"/>
                    <a:pt x="232095" y="0"/>
                    <a:pt x="518400" y="1"/>
                  </a:cubicBezTo>
                  <a:cubicBezTo>
                    <a:pt x="518400" y="1"/>
                    <a:pt x="518400" y="1"/>
                    <a:pt x="518400" y="1"/>
                  </a:cubicBezTo>
                  <a:cubicBezTo>
                    <a:pt x="804705" y="1"/>
                    <a:pt x="1036800" y="232096"/>
                    <a:pt x="1036800" y="518401"/>
                  </a:cubicBezTo>
                  <a:cubicBezTo>
                    <a:pt x="1036800" y="518401"/>
                    <a:pt x="1036799" y="518401"/>
                    <a:pt x="1036799" y="518401"/>
                  </a:cubicBezTo>
                  <a:lnTo>
                    <a:pt x="1036800" y="518402"/>
                  </a:lnTo>
                  <a:cubicBezTo>
                    <a:pt x="1036800" y="804706"/>
                    <a:pt x="804704" y="1036801"/>
                    <a:pt x="518400" y="1036802"/>
                  </a:cubicBezTo>
                  <a:cubicBezTo>
                    <a:pt x="232095" y="1036802"/>
                    <a:pt x="0" y="804706"/>
                    <a:pt x="0" y="518402"/>
                  </a:cubicBezTo>
                  <a:cubicBezTo>
                    <a:pt x="-1" y="518401"/>
                    <a:pt x="0" y="518401"/>
                    <a:pt x="0" y="518401"/>
                  </a:cubicBezTo>
                  <a:lnTo>
                    <a:pt x="0" y="518400"/>
                  </a:lnTo>
                  <a:close/>
                  <a:moveTo>
                    <a:pt x="259200" y="518400"/>
                  </a:moveTo>
                  <a:lnTo>
                    <a:pt x="259200" y="518400"/>
                  </a:lnTo>
                  <a:cubicBezTo>
                    <a:pt x="259200" y="661552"/>
                    <a:pt x="375247" y="777599"/>
                    <a:pt x="518399" y="777600"/>
                  </a:cubicBezTo>
                  <a:lnTo>
                    <a:pt x="518400" y="777600"/>
                  </a:lnTo>
                  <a:cubicBezTo>
                    <a:pt x="661552" y="777599"/>
                    <a:pt x="777600" y="661552"/>
                    <a:pt x="777600" y="518400"/>
                  </a:cubicBezTo>
                  <a:cubicBezTo>
                    <a:pt x="777600" y="375247"/>
                    <a:pt x="661552" y="259200"/>
                    <a:pt x="518400" y="259200"/>
                  </a:cubicBezTo>
                  <a:lnTo>
                    <a:pt x="518399" y="259200"/>
                  </a:lnTo>
                  <a:cubicBezTo>
                    <a:pt x="375247" y="259200"/>
                    <a:pt x="259200" y="375247"/>
                    <a:pt x="259200" y="518399"/>
                  </a:cubicBezTo>
                  <a:lnTo>
                    <a:pt x="259200" y="518400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698184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1616040" y="2068560"/>
            <a:ext cx="519120" cy="345960"/>
            <a:chOff x="1616040" y="2068560"/>
            <a:chExt cx="519120" cy="345960"/>
          </a:xfrm>
        </p:grpSpPr>
        <p:sp>
          <p:nvSpPr>
            <p:cNvPr id="161" name="燕尾形 55"/>
            <p:cNvSpPr/>
            <p:nvPr/>
          </p:nvSpPr>
          <p:spPr>
            <a:xfrm rot="5400000">
              <a:off x="17787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燕尾形 56"/>
            <p:cNvSpPr/>
            <p:nvPr/>
          </p:nvSpPr>
          <p:spPr>
            <a:xfrm rot="5400000">
              <a:off x="17787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3414600" y="2068560"/>
            <a:ext cx="517680" cy="345960"/>
            <a:chOff x="3414600" y="2068560"/>
            <a:chExt cx="517680" cy="345960"/>
          </a:xfrm>
        </p:grpSpPr>
        <p:sp>
          <p:nvSpPr>
            <p:cNvPr id="164" name="燕尾形 59"/>
            <p:cNvSpPr/>
            <p:nvPr/>
          </p:nvSpPr>
          <p:spPr>
            <a:xfrm rot="5400000">
              <a:off x="357660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燕尾形 60"/>
            <p:cNvSpPr/>
            <p:nvPr/>
          </p:nvSpPr>
          <p:spPr>
            <a:xfrm rot="5400000">
              <a:off x="357660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5211720" y="2068560"/>
            <a:ext cx="517680" cy="345960"/>
            <a:chOff x="5211720" y="2068560"/>
            <a:chExt cx="517680" cy="345960"/>
          </a:xfrm>
        </p:grpSpPr>
        <p:sp>
          <p:nvSpPr>
            <p:cNvPr id="167" name="燕尾形 63"/>
            <p:cNvSpPr/>
            <p:nvPr/>
          </p:nvSpPr>
          <p:spPr>
            <a:xfrm rot="5400000">
              <a:off x="537372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燕尾形 64"/>
            <p:cNvSpPr/>
            <p:nvPr/>
          </p:nvSpPr>
          <p:spPr>
            <a:xfrm rot="5400000">
              <a:off x="537372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7008840" y="2068560"/>
            <a:ext cx="519120" cy="345960"/>
            <a:chOff x="7008840" y="2068560"/>
            <a:chExt cx="519120" cy="345960"/>
          </a:xfrm>
        </p:grpSpPr>
        <p:sp>
          <p:nvSpPr>
            <p:cNvPr id="170" name="燕尾形 67"/>
            <p:cNvSpPr/>
            <p:nvPr/>
          </p:nvSpPr>
          <p:spPr>
            <a:xfrm rot="5400000">
              <a:off x="71715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燕尾形 68"/>
            <p:cNvSpPr/>
            <p:nvPr/>
          </p:nvSpPr>
          <p:spPr>
            <a:xfrm rot="5400000">
              <a:off x="71715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1033560" y="2508120"/>
            <a:ext cx="1684080" cy="2430720"/>
            <a:chOff x="1033560" y="2508120"/>
            <a:chExt cx="1684080" cy="2430720"/>
          </a:xfrm>
        </p:grpSpPr>
        <p:sp>
          <p:nvSpPr>
            <p:cNvPr id="173" name="矩形 42"/>
            <p:cNvSpPr/>
            <p:nvPr/>
          </p:nvSpPr>
          <p:spPr>
            <a:xfrm>
              <a:off x="103356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6"/>
            <p:cNvSpPr/>
            <p:nvPr/>
          </p:nvSpPr>
          <p:spPr>
            <a:xfrm>
              <a:off x="105552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73"/>
            <p:cNvSpPr/>
            <p:nvPr/>
          </p:nvSpPr>
          <p:spPr>
            <a:xfrm>
              <a:off x="109836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46"/>
            <p:cNvSpPr/>
            <p:nvPr/>
          </p:nvSpPr>
          <p:spPr>
            <a:xfrm>
              <a:off x="106524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5"/>
          <p:cNvGrpSpPr/>
          <p:nvPr/>
        </p:nvGrpSpPr>
        <p:grpSpPr>
          <a:xfrm>
            <a:off x="2830680" y="2508120"/>
            <a:ext cx="1684080" cy="2430720"/>
            <a:chOff x="2830680" y="2508120"/>
            <a:chExt cx="1684080" cy="2430720"/>
          </a:xfrm>
        </p:grpSpPr>
        <p:sp>
          <p:nvSpPr>
            <p:cNvPr id="178" name="矩形 57"/>
            <p:cNvSpPr/>
            <p:nvPr/>
          </p:nvSpPr>
          <p:spPr>
            <a:xfrm>
              <a:off x="283068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285264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75"/>
            <p:cNvSpPr/>
            <p:nvPr/>
          </p:nvSpPr>
          <p:spPr>
            <a:xfrm>
              <a:off x="289548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6"/>
            <p:cNvSpPr/>
            <p:nvPr/>
          </p:nvSpPr>
          <p:spPr>
            <a:xfrm>
              <a:off x="286236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0"/>
          <p:cNvGrpSpPr/>
          <p:nvPr/>
        </p:nvGrpSpPr>
        <p:grpSpPr>
          <a:xfrm>
            <a:off x="4629240" y="2508120"/>
            <a:ext cx="1684080" cy="2430720"/>
            <a:chOff x="4629240" y="2508120"/>
            <a:chExt cx="1684080" cy="2430720"/>
          </a:xfrm>
        </p:grpSpPr>
        <p:sp>
          <p:nvSpPr>
            <p:cNvPr id="183" name="矩形 61"/>
            <p:cNvSpPr/>
            <p:nvPr/>
          </p:nvSpPr>
          <p:spPr>
            <a:xfrm>
              <a:off x="462924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6"/>
            <p:cNvSpPr/>
            <p:nvPr/>
          </p:nvSpPr>
          <p:spPr>
            <a:xfrm>
              <a:off x="465120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77"/>
            <p:cNvSpPr/>
            <p:nvPr/>
          </p:nvSpPr>
          <p:spPr>
            <a:xfrm>
              <a:off x="469404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46"/>
            <p:cNvSpPr/>
            <p:nvPr/>
          </p:nvSpPr>
          <p:spPr>
            <a:xfrm>
              <a:off x="466092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5"/>
          <p:cNvGrpSpPr/>
          <p:nvPr/>
        </p:nvGrpSpPr>
        <p:grpSpPr>
          <a:xfrm>
            <a:off x="6426360" y="2508120"/>
            <a:ext cx="1684080" cy="2430720"/>
            <a:chOff x="6426360" y="2508120"/>
            <a:chExt cx="1684080" cy="2430720"/>
          </a:xfrm>
        </p:grpSpPr>
        <p:sp>
          <p:nvSpPr>
            <p:cNvPr id="188" name="矩形 65"/>
            <p:cNvSpPr/>
            <p:nvPr/>
          </p:nvSpPr>
          <p:spPr>
            <a:xfrm>
              <a:off x="642636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6"/>
            <p:cNvSpPr/>
            <p:nvPr/>
          </p:nvSpPr>
          <p:spPr>
            <a:xfrm>
              <a:off x="644832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79"/>
            <p:cNvSpPr/>
            <p:nvPr/>
          </p:nvSpPr>
          <p:spPr>
            <a:xfrm>
              <a:off x="649116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6"/>
            <p:cNvSpPr/>
            <p:nvPr/>
          </p:nvSpPr>
          <p:spPr>
            <a:xfrm>
              <a:off x="645804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 repeatCount="2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 repeatCount="2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100"/>
                            </p:stCondLst>
                            <p:childTnLst>
                              <p:par>
                                <p:cTn id="2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600"/>
                            </p:stCondLst>
                            <p:childTnLst>
                              <p:par>
                                <p:cTn id="2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grpSp>
          <p:nvGrpSpPr>
            <p:cNvPr id="193" name="Group 3"/>
            <p:cNvGrpSpPr/>
            <p:nvPr/>
          </p:nvGrpSpPr>
          <p:grpSpPr>
            <a:xfrm>
              <a:off x="1222200" y="1373040"/>
              <a:ext cx="2754360" cy="2754360"/>
              <a:chOff x="1222200" y="1373040"/>
              <a:chExt cx="2754360" cy="2754360"/>
            </a:xfrm>
          </p:grpSpPr>
          <p:sp>
            <p:nvSpPr>
              <p:cNvPr id="194" name="椭圆 29"/>
              <p:cNvSpPr/>
              <p:nvPr/>
            </p:nvSpPr>
            <p:spPr>
              <a:xfrm>
                <a:off x="1222200" y="13730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30"/>
              <p:cNvSpPr/>
              <p:nvPr/>
            </p:nvSpPr>
            <p:spPr>
              <a:xfrm>
                <a:off x="1433160" y="15840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13"/>
            <p:cNvSpPr/>
            <p:nvPr/>
          </p:nvSpPr>
          <p:spPr>
            <a:xfrm>
              <a:off x="1912680" y="23968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3549600" y="1390680"/>
            <a:ext cx="4372200" cy="753480"/>
            <a:chOff x="3549600" y="1390680"/>
            <a:chExt cx="4372200" cy="753480"/>
          </a:xfrm>
        </p:grpSpPr>
        <p:sp>
          <p:nvSpPr>
            <p:cNvPr id="199" name="矩形 33"/>
            <p:cNvSpPr/>
            <p:nvPr/>
          </p:nvSpPr>
          <p:spPr>
            <a:xfrm>
              <a:off x="3549600" y="1390680"/>
              <a:ext cx="4372200" cy="3888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6"/>
            <p:cNvSpPr/>
            <p:nvPr/>
          </p:nvSpPr>
          <p:spPr>
            <a:xfrm>
              <a:off x="3742200" y="1446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6"/>
            <p:cNvSpPr/>
            <p:nvPr/>
          </p:nvSpPr>
          <p:spPr>
            <a:xfrm>
              <a:off x="3889080" y="183708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4192560" y="2556000"/>
            <a:ext cx="3729240" cy="748440"/>
            <a:chOff x="4192560" y="2556000"/>
            <a:chExt cx="3729240" cy="748440"/>
          </a:xfrm>
        </p:grpSpPr>
        <p:sp>
          <p:nvSpPr>
            <p:cNvPr id="203" name="矩形 32"/>
            <p:cNvSpPr/>
            <p:nvPr/>
          </p:nvSpPr>
          <p:spPr>
            <a:xfrm>
              <a:off x="4192560" y="255600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46"/>
            <p:cNvSpPr/>
            <p:nvPr/>
          </p:nvSpPr>
          <p:spPr>
            <a:xfrm>
              <a:off x="4448160" y="26118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6"/>
            <p:cNvSpPr/>
            <p:nvPr/>
          </p:nvSpPr>
          <p:spPr>
            <a:xfrm>
              <a:off x="4255920" y="2997360"/>
              <a:ext cx="366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3549600" y="3730680"/>
            <a:ext cx="4372200" cy="753120"/>
            <a:chOff x="3549600" y="3730680"/>
            <a:chExt cx="4372200" cy="753120"/>
          </a:xfrm>
        </p:grpSpPr>
        <p:sp>
          <p:nvSpPr>
            <p:cNvPr id="207" name="矩形 31"/>
            <p:cNvSpPr/>
            <p:nvPr/>
          </p:nvSpPr>
          <p:spPr>
            <a:xfrm>
              <a:off x="3549600" y="373068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46"/>
            <p:cNvSpPr/>
            <p:nvPr/>
          </p:nvSpPr>
          <p:spPr>
            <a:xfrm>
              <a:off x="3742200" y="3786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6"/>
            <p:cNvSpPr/>
            <p:nvPr/>
          </p:nvSpPr>
          <p:spPr>
            <a:xfrm>
              <a:off x="3741480" y="417672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2873520" y="1214280"/>
            <a:ext cx="747720" cy="741600"/>
            <a:chOff x="2873520" y="1214280"/>
            <a:chExt cx="747720" cy="741600"/>
          </a:xfrm>
        </p:grpSpPr>
        <p:grpSp>
          <p:nvGrpSpPr>
            <p:cNvPr id="211" name="Group 21"/>
            <p:cNvGrpSpPr/>
            <p:nvPr/>
          </p:nvGrpSpPr>
          <p:grpSpPr>
            <a:xfrm>
              <a:off x="2876400" y="1214280"/>
              <a:ext cx="741600" cy="741600"/>
              <a:chOff x="2876400" y="1214280"/>
              <a:chExt cx="741600" cy="741600"/>
            </a:xfrm>
          </p:grpSpPr>
          <p:sp>
            <p:nvSpPr>
              <p:cNvPr id="212" name="椭圆 38"/>
              <p:cNvSpPr/>
              <p:nvPr/>
            </p:nvSpPr>
            <p:spPr>
              <a:xfrm>
                <a:off x="2876400" y="121428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39"/>
              <p:cNvSpPr/>
              <p:nvPr/>
            </p:nvSpPr>
            <p:spPr>
              <a:xfrm>
                <a:off x="2922840" y="1260720"/>
                <a:ext cx="648720" cy="648720"/>
              </a:xfrm>
              <a:prstGeom prst="ellipse">
                <a:avLst/>
              </a:prstGeom>
              <a:solidFill>
                <a:srgbClr val="007e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3"/>
            <p:cNvSpPr/>
            <p:nvPr/>
          </p:nvSpPr>
          <p:spPr>
            <a:xfrm>
              <a:off x="2873520" y="1384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5"/>
          <p:cNvGrpSpPr/>
          <p:nvPr/>
        </p:nvGrpSpPr>
        <p:grpSpPr>
          <a:xfrm>
            <a:off x="3581280" y="2381400"/>
            <a:ext cx="747720" cy="739800"/>
            <a:chOff x="3581280" y="2381400"/>
            <a:chExt cx="747720" cy="739800"/>
          </a:xfrm>
        </p:grpSpPr>
        <p:grpSp>
          <p:nvGrpSpPr>
            <p:cNvPr id="216" name="Group 26"/>
            <p:cNvGrpSpPr/>
            <p:nvPr/>
          </p:nvGrpSpPr>
          <p:grpSpPr>
            <a:xfrm>
              <a:off x="3584880" y="2381400"/>
              <a:ext cx="740520" cy="739800"/>
              <a:chOff x="3584880" y="2381400"/>
              <a:chExt cx="740520" cy="739800"/>
            </a:xfrm>
          </p:grpSpPr>
          <p:sp>
            <p:nvSpPr>
              <p:cNvPr id="217" name="椭圆 35"/>
              <p:cNvSpPr/>
              <p:nvPr/>
            </p:nvSpPr>
            <p:spPr>
              <a:xfrm>
                <a:off x="3584880" y="2381400"/>
                <a:ext cx="74052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36"/>
              <p:cNvSpPr/>
              <p:nvPr/>
            </p:nvSpPr>
            <p:spPr>
              <a:xfrm>
                <a:off x="3630240" y="2427120"/>
                <a:ext cx="64944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3"/>
            <p:cNvSpPr/>
            <p:nvPr/>
          </p:nvSpPr>
          <p:spPr>
            <a:xfrm>
              <a:off x="3581280" y="2551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0"/>
          <p:cNvGrpSpPr/>
          <p:nvPr/>
        </p:nvGrpSpPr>
        <p:grpSpPr>
          <a:xfrm>
            <a:off x="2873520" y="3556080"/>
            <a:ext cx="747720" cy="739800"/>
            <a:chOff x="2873520" y="3556080"/>
            <a:chExt cx="747720" cy="739800"/>
          </a:xfrm>
        </p:grpSpPr>
        <p:grpSp>
          <p:nvGrpSpPr>
            <p:cNvPr id="221" name="Group 31"/>
            <p:cNvGrpSpPr/>
            <p:nvPr/>
          </p:nvGrpSpPr>
          <p:grpSpPr>
            <a:xfrm>
              <a:off x="2876760" y="3556080"/>
              <a:ext cx="740880" cy="739800"/>
              <a:chOff x="2876760" y="3556080"/>
              <a:chExt cx="740880" cy="739800"/>
            </a:xfrm>
          </p:grpSpPr>
          <p:sp>
            <p:nvSpPr>
              <p:cNvPr id="222" name="椭圆 41"/>
              <p:cNvSpPr/>
              <p:nvPr/>
            </p:nvSpPr>
            <p:spPr>
              <a:xfrm>
                <a:off x="2876760" y="3556080"/>
                <a:ext cx="74088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椭圆 42"/>
              <p:cNvSpPr/>
              <p:nvPr/>
            </p:nvSpPr>
            <p:spPr>
              <a:xfrm>
                <a:off x="2922120" y="3601800"/>
                <a:ext cx="6498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3"/>
            <p:cNvSpPr/>
            <p:nvPr/>
          </p:nvSpPr>
          <p:spPr>
            <a:xfrm>
              <a:off x="2873520" y="3726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9"/>
          <p:cNvSpPr/>
          <p:nvPr/>
        </p:nvSpPr>
        <p:spPr>
          <a:xfrm>
            <a:off x="701640" y="1273320"/>
            <a:ext cx="7740720" cy="3598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835200" y="1501920"/>
            <a:ext cx="7183440" cy="3353400"/>
            <a:chOff x="835200" y="1501920"/>
            <a:chExt cx="7183440" cy="3353400"/>
          </a:xfrm>
        </p:grpSpPr>
        <p:grpSp>
          <p:nvGrpSpPr>
            <p:cNvPr id="229" name="Group 5"/>
            <p:cNvGrpSpPr/>
            <p:nvPr/>
          </p:nvGrpSpPr>
          <p:grpSpPr>
            <a:xfrm>
              <a:off x="1376280" y="2676600"/>
              <a:ext cx="6610680" cy="307080"/>
              <a:chOff x="1376280" y="2676600"/>
              <a:chExt cx="6610680" cy="307080"/>
            </a:xfrm>
          </p:grpSpPr>
          <p:sp>
            <p:nvSpPr>
              <p:cNvPr id="230" name="Rectangle 12"/>
              <p:cNvSpPr/>
              <p:nvPr/>
            </p:nvSpPr>
            <p:spPr>
              <a:xfrm>
                <a:off x="303840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387036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470052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553248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6364440" y="26766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719496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137628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2207880" y="26766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4"/>
            <p:cNvGrpSpPr/>
            <p:nvPr/>
          </p:nvGrpSpPr>
          <p:grpSpPr>
            <a:xfrm>
              <a:off x="835200" y="1501920"/>
              <a:ext cx="539640" cy="3353400"/>
              <a:chOff x="835200" y="1501920"/>
              <a:chExt cx="539640" cy="3353400"/>
            </a:xfrm>
          </p:grpSpPr>
          <p:sp>
            <p:nvSpPr>
              <p:cNvPr id="239" name="Rectangle 12"/>
              <p:cNvSpPr/>
              <p:nvPr/>
            </p:nvSpPr>
            <p:spPr>
              <a:xfrm>
                <a:off x="835200" y="2009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2"/>
              <p:cNvSpPr/>
              <p:nvPr/>
            </p:nvSpPr>
            <p:spPr>
              <a:xfrm>
                <a:off x="835200" y="2263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2"/>
              <p:cNvSpPr/>
              <p:nvPr/>
            </p:nvSpPr>
            <p:spPr>
              <a:xfrm>
                <a:off x="835200" y="2517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835200" y="175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2"/>
              <p:cNvSpPr/>
              <p:nvPr/>
            </p:nvSpPr>
            <p:spPr>
              <a:xfrm>
                <a:off x="835200" y="1501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2"/>
              <p:cNvSpPr/>
              <p:nvPr/>
            </p:nvSpPr>
            <p:spPr>
              <a:xfrm>
                <a:off x="835200" y="2772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2"/>
              <p:cNvSpPr/>
              <p:nvPr/>
            </p:nvSpPr>
            <p:spPr>
              <a:xfrm>
                <a:off x="835200" y="3025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835200" y="3278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2"/>
              <p:cNvSpPr/>
              <p:nvPr/>
            </p:nvSpPr>
            <p:spPr>
              <a:xfrm>
                <a:off x="835200" y="3532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2"/>
              <p:cNvSpPr/>
              <p:nvPr/>
            </p:nvSpPr>
            <p:spPr>
              <a:xfrm>
                <a:off x="835200" y="3786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835200" y="4040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835200" y="4294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2"/>
              <p:cNvSpPr/>
              <p:nvPr/>
            </p:nvSpPr>
            <p:spPr>
              <a:xfrm>
                <a:off x="835200" y="4548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8"/>
            <p:cNvGrpSpPr/>
            <p:nvPr/>
          </p:nvGrpSpPr>
          <p:grpSpPr>
            <a:xfrm>
              <a:off x="1357920" y="1641240"/>
              <a:ext cx="6660720" cy="3061440"/>
              <a:chOff x="1357920" y="1641240"/>
              <a:chExt cx="6660720" cy="3061440"/>
            </a:xfrm>
          </p:grpSpPr>
          <p:sp>
            <p:nvSpPr>
              <p:cNvPr id="253" name="直接连接符 94"/>
              <p:cNvSpPr/>
              <p:nvPr/>
            </p:nvSpPr>
            <p:spPr>
              <a:xfrm>
                <a:off x="63536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95"/>
              <p:cNvSpPr/>
              <p:nvPr/>
            </p:nvSpPr>
            <p:spPr>
              <a:xfrm flipV="1">
                <a:off x="3022920" y="26618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96"/>
              <p:cNvSpPr/>
              <p:nvPr/>
            </p:nvSpPr>
            <p:spPr>
              <a:xfrm>
                <a:off x="385488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7"/>
              <p:cNvSpPr/>
              <p:nvPr/>
            </p:nvSpPr>
            <p:spPr>
              <a:xfrm>
                <a:off x="468828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98"/>
              <p:cNvSpPr/>
              <p:nvPr/>
            </p:nvSpPr>
            <p:spPr>
              <a:xfrm flipV="1">
                <a:off x="2189520" y="26618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9"/>
              <p:cNvSpPr/>
              <p:nvPr/>
            </p:nvSpPr>
            <p:spPr>
              <a:xfrm>
                <a:off x="1357920" y="2662200"/>
                <a:ext cx="666072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100"/>
              <p:cNvSpPr/>
              <p:nvPr/>
            </p:nvSpPr>
            <p:spPr>
              <a:xfrm flipV="1">
                <a:off x="1357920" y="1641240"/>
                <a:ext cx="0" cy="30614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接连接符 101"/>
              <p:cNvSpPr/>
              <p:nvPr/>
            </p:nvSpPr>
            <p:spPr>
              <a:xfrm>
                <a:off x="1357920" y="1896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接连接符 102"/>
              <p:cNvSpPr/>
              <p:nvPr/>
            </p:nvSpPr>
            <p:spPr>
              <a:xfrm>
                <a:off x="1357920" y="31719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103"/>
              <p:cNvSpPr/>
              <p:nvPr/>
            </p:nvSpPr>
            <p:spPr>
              <a:xfrm>
                <a:off x="1357920" y="4696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104"/>
              <p:cNvSpPr/>
              <p:nvPr/>
            </p:nvSpPr>
            <p:spPr>
              <a:xfrm>
                <a:off x="1357920" y="16473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105"/>
              <p:cNvSpPr/>
              <p:nvPr/>
            </p:nvSpPr>
            <p:spPr>
              <a:xfrm>
                <a:off x="1357920" y="29163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106"/>
              <p:cNvSpPr/>
              <p:nvPr/>
            </p:nvSpPr>
            <p:spPr>
              <a:xfrm>
                <a:off x="1357920" y="21510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07"/>
              <p:cNvSpPr/>
              <p:nvPr/>
            </p:nvSpPr>
            <p:spPr>
              <a:xfrm>
                <a:off x="1357920" y="24066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108"/>
              <p:cNvSpPr/>
              <p:nvPr/>
            </p:nvSpPr>
            <p:spPr>
              <a:xfrm>
                <a:off x="1357920" y="3681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109"/>
              <p:cNvSpPr/>
              <p:nvPr/>
            </p:nvSpPr>
            <p:spPr>
              <a:xfrm>
                <a:off x="1357920" y="3427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110"/>
              <p:cNvSpPr/>
              <p:nvPr/>
            </p:nvSpPr>
            <p:spPr>
              <a:xfrm>
                <a:off x="1357920" y="4447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111"/>
              <p:cNvSpPr/>
              <p:nvPr/>
            </p:nvSpPr>
            <p:spPr>
              <a:xfrm>
                <a:off x="1357920" y="3937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112"/>
              <p:cNvSpPr/>
              <p:nvPr/>
            </p:nvSpPr>
            <p:spPr>
              <a:xfrm>
                <a:off x="1357920" y="41929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113"/>
              <p:cNvSpPr/>
              <p:nvPr/>
            </p:nvSpPr>
            <p:spPr>
              <a:xfrm>
                <a:off x="801252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14"/>
              <p:cNvSpPr/>
              <p:nvPr/>
            </p:nvSpPr>
            <p:spPr>
              <a:xfrm>
                <a:off x="55202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115"/>
              <p:cNvSpPr/>
              <p:nvPr/>
            </p:nvSpPr>
            <p:spPr>
              <a:xfrm>
                <a:off x="71852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TextBox 146"/>
          <p:cNvSpPr/>
          <p:nvPr/>
        </p:nvSpPr>
        <p:spPr>
          <a:xfrm>
            <a:off x="701640" y="84132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46"/>
          <p:cNvSpPr/>
          <p:nvPr/>
        </p:nvSpPr>
        <p:spPr>
          <a:xfrm>
            <a:off x="701640" y="49593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3"/>
          <p:cNvGrpSpPr/>
          <p:nvPr/>
        </p:nvGrpSpPr>
        <p:grpSpPr>
          <a:xfrm>
            <a:off x="1463760" y="1327320"/>
            <a:ext cx="6448320" cy="3317040"/>
            <a:chOff x="1463760" y="1327320"/>
            <a:chExt cx="6448320" cy="3317040"/>
          </a:xfrm>
        </p:grpSpPr>
        <p:sp>
          <p:nvSpPr>
            <p:cNvPr id="278" name="任意多边形 116"/>
            <p:cNvSpPr/>
            <p:nvPr/>
          </p:nvSpPr>
          <p:spPr>
            <a:xfrm>
              <a:off x="1778040" y="1668600"/>
              <a:ext cx="271764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0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117"/>
            <p:cNvSpPr/>
            <p:nvPr/>
          </p:nvSpPr>
          <p:spPr>
            <a:xfrm>
              <a:off x="4495680" y="2660760"/>
              <a:ext cx="3114720" cy="16448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18"/>
            <p:cNvSpPr/>
            <p:nvPr/>
          </p:nvSpPr>
          <p:spPr>
            <a:xfrm>
              <a:off x="1701360" y="159372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19"/>
            <p:cNvSpPr/>
            <p:nvPr/>
          </p:nvSpPr>
          <p:spPr>
            <a:xfrm>
              <a:off x="5864400" y="31244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0"/>
            <p:cNvSpPr/>
            <p:nvPr/>
          </p:nvSpPr>
          <p:spPr>
            <a:xfrm>
              <a:off x="2534040" y="178488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21"/>
            <p:cNvSpPr/>
            <p:nvPr/>
          </p:nvSpPr>
          <p:spPr>
            <a:xfrm>
              <a:off x="3366720" y="216612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22"/>
            <p:cNvSpPr/>
            <p:nvPr/>
          </p:nvSpPr>
          <p:spPr>
            <a:xfrm>
              <a:off x="4199400" y="227268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3"/>
            <p:cNvSpPr/>
            <p:nvPr/>
          </p:nvSpPr>
          <p:spPr>
            <a:xfrm>
              <a:off x="5032440" y="363564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24"/>
            <p:cNvSpPr/>
            <p:nvPr/>
          </p:nvSpPr>
          <p:spPr>
            <a:xfrm>
              <a:off x="6697800" y="336096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25"/>
            <p:cNvSpPr/>
            <p:nvPr/>
          </p:nvSpPr>
          <p:spPr>
            <a:xfrm>
              <a:off x="7529760" y="42296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46"/>
            <p:cNvSpPr/>
            <p:nvPr/>
          </p:nvSpPr>
          <p:spPr>
            <a:xfrm>
              <a:off x="4803840" y="37659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46"/>
            <p:cNvSpPr/>
            <p:nvPr/>
          </p:nvSpPr>
          <p:spPr>
            <a:xfrm>
              <a:off x="5629320" y="32450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6810480" y="3295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46"/>
            <p:cNvSpPr/>
            <p:nvPr/>
          </p:nvSpPr>
          <p:spPr>
            <a:xfrm>
              <a:off x="7293240" y="433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46"/>
            <p:cNvSpPr/>
            <p:nvPr/>
          </p:nvSpPr>
          <p:spPr>
            <a:xfrm>
              <a:off x="3965760" y="2000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3140280" y="1900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6"/>
            <p:cNvSpPr/>
            <p:nvPr/>
          </p:nvSpPr>
          <p:spPr>
            <a:xfrm>
              <a:off x="2301840" y="1504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46"/>
            <p:cNvSpPr/>
            <p:nvPr/>
          </p:nvSpPr>
          <p:spPr>
            <a:xfrm>
              <a:off x="1463760" y="13273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98" name="任意多边形 27"/>
            <p:cNvSpPr/>
            <p:nvPr/>
          </p:nvSpPr>
          <p:spPr>
            <a:xfrm flipH="1">
              <a:off x="5162400" y="19670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0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28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29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30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46"/>
            <p:cNvSpPr/>
            <p:nvPr/>
          </p:nvSpPr>
          <p:spPr>
            <a:xfrm>
              <a:off x="6334200" y="204912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2"/>
          <p:cNvGrpSpPr/>
          <p:nvPr/>
        </p:nvGrpSpPr>
        <p:grpSpPr>
          <a:xfrm>
            <a:off x="357120" y="2082960"/>
            <a:ext cx="3562200" cy="2206080"/>
            <a:chOff x="357120" y="2082960"/>
            <a:chExt cx="3562200" cy="2206080"/>
          </a:xfrm>
        </p:grpSpPr>
        <p:sp>
          <p:nvSpPr>
            <p:cNvPr id="307" name="任意多边形 25"/>
            <p:cNvSpPr/>
            <p:nvPr/>
          </p:nvSpPr>
          <p:spPr>
            <a:xfrm>
              <a:off x="2732040" y="2082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26"/>
            <p:cNvSpPr/>
            <p:nvPr/>
          </p:nvSpPr>
          <p:spPr>
            <a:xfrm flipV="1">
              <a:off x="2732040" y="403632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31"/>
            <p:cNvSpPr/>
            <p:nvPr/>
          </p:nvSpPr>
          <p:spPr>
            <a:xfrm>
              <a:off x="273204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9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314" name="饼形 3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527784" y="691564"/>
                  </a:moveTo>
                  <a:lnTo>
                    <a:pt x="2527783" y="691564"/>
                  </a:lnTo>
                  <a:cubicBezTo>
                    <a:pt x="2639645" y="891885"/>
                    <a:pt x="2698588" y="1117418"/>
                    <a:pt x="2699041" y="1346855"/>
                  </a:cubicBezTo>
                  <a:lnTo>
                    <a:pt x="1349522" y="1349522"/>
                  </a:lnTo>
                  <a:lnTo>
                    <a:pt x="2527784" y="691564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饼形 41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379824" y="2221123"/>
                  </a:moveTo>
                  <a:lnTo>
                    <a:pt x="2379823" y="2221122"/>
                  </a:lnTo>
                  <a:cubicBezTo>
                    <a:pt x="2123408" y="2524225"/>
                    <a:pt x="1746536" y="2699043"/>
                    <a:pt x="1349522" y="2699044"/>
                  </a:cubicBezTo>
                  <a:cubicBezTo>
                    <a:pt x="1346404" y="2699044"/>
                    <a:pt x="1343287" y="2699033"/>
                    <a:pt x="1340171" y="2699011"/>
                  </a:cubicBezTo>
                  <a:lnTo>
                    <a:pt x="1349522" y="1349522"/>
                  </a:lnTo>
                  <a:lnTo>
                    <a:pt x="2379824" y="2221123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饼形 42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3308" y="2699030"/>
                  </a:moveTo>
                  <a:lnTo>
                    <a:pt x="1343308" y="2699029"/>
                  </a:lnTo>
                  <a:cubicBezTo>
                    <a:pt x="917997" y="2697071"/>
                    <a:pt x="518497" y="2494729"/>
                    <a:pt x="265268" y="2153017"/>
                  </a:cubicBezTo>
                  <a:lnTo>
                    <a:pt x="1349522" y="1349522"/>
                  </a:lnTo>
                  <a:lnTo>
                    <a:pt x="1343308" y="2699030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饼形 43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8984" y="2158007"/>
                  </a:moveTo>
                  <a:lnTo>
                    <a:pt x="268984" y="2158006"/>
                  </a:lnTo>
                  <a:cubicBezTo>
                    <a:pt x="94366" y="1924631"/>
                    <a:pt x="0" y="1640993"/>
                    <a:pt x="0" y="1349522"/>
                  </a:cubicBezTo>
                  <a:cubicBezTo>
                    <a:pt x="-1" y="1216463"/>
                    <a:pt x="19678" y="1084136"/>
                    <a:pt x="58395" y="956836"/>
                  </a:cubicBezTo>
                  <a:lnTo>
                    <a:pt x="1349522" y="1349522"/>
                  </a:lnTo>
                  <a:lnTo>
                    <a:pt x="268984" y="215800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饼形 4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60010" y="951566"/>
                  </a:moveTo>
                  <a:lnTo>
                    <a:pt x="60010" y="951566"/>
                  </a:lnTo>
                  <a:cubicBezTo>
                    <a:pt x="234591" y="385863"/>
                    <a:pt x="757493" y="-1"/>
                    <a:pt x="1349522" y="0"/>
                  </a:cubicBezTo>
                  <a:cubicBezTo>
                    <a:pt x="1349522" y="0"/>
                    <a:pt x="1349522" y="0"/>
                    <a:pt x="1349522" y="0"/>
                  </a:cubicBezTo>
                  <a:lnTo>
                    <a:pt x="1349522" y="1349522"/>
                  </a:lnTo>
                  <a:lnTo>
                    <a:pt x="60010" y="95156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饼形 4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8283" y="1"/>
                  </a:moveTo>
                  <a:lnTo>
                    <a:pt x="1348282" y="0"/>
                  </a:lnTo>
                  <a:cubicBezTo>
                    <a:pt x="1348695" y="0"/>
                    <a:pt x="1349108" y="-1"/>
                    <a:pt x="1349522" y="0"/>
                  </a:cubicBezTo>
                  <a:cubicBezTo>
                    <a:pt x="1839980" y="0"/>
                    <a:pt x="2291827" y="266092"/>
                    <a:pt x="2529699" y="695005"/>
                  </a:cubicBezTo>
                  <a:lnTo>
                    <a:pt x="1349522" y="1349522"/>
                  </a:lnTo>
                  <a:lnTo>
                    <a:pt x="1348283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26"/>
            <p:cNvGrpSpPr/>
            <p:nvPr/>
          </p:nvGrpSpPr>
          <p:grpSpPr>
            <a:xfrm>
              <a:off x="3078000" y="1643040"/>
              <a:ext cx="2988000" cy="2987640"/>
              <a:chOff x="3078000" y="1643040"/>
              <a:chExt cx="2988000" cy="2987640"/>
            </a:xfrm>
          </p:grpSpPr>
          <p:sp>
            <p:nvSpPr>
              <p:cNvPr id="321" name="饼形 40"/>
              <p:cNvSpPr/>
              <p:nvPr/>
            </p:nvSpPr>
            <p:spPr>
              <a:xfrm>
                <a:off x="3222360" y="1787400"/>
                <a:ext cx="2699280" cy="2698920"/>
              </a:xfrm>
              <a:custGeom>
                <a:avLst/>
                <a:gdLst>
                  <a:gd name="textAreaLeft" fmla="*/ 395280 w 2699280"/>
                  <a:gd name="textAreaRight" fmla="*/ 2304000 w 2699280"/>
                  <a:gd name="textAreaTop" fmla="*/ 395280 h 2698920"/>
                  <a:gd name="textAreaBottom" fmla="*/ 2303640 h 2698920"/>
                </a:gdLst>
                <a:ahLst/>
                <a:rect l="textAreaLeft" t="textAreaTop" r="textAreaRight" b="textAreaBottom"/>
                <a:pathLst>
                  <a:path w="2699044" h="2699044">
                    <a:moveTo>
                      <a:pt x="2699042" y="1347120"/>
                    </a:moveTo>
                    <a:lnTo>
                      <a:pt x="2699041" y="1347120"/>
                    </a:lnTo>
                    <a:cubicBezTo>
                      <a:pt x="2699043" y="1347920"/>
                      <a:pt x="2699044" y="1348721"/>
                      <a:pt x="2699044" y="1349522"/>
                    </a:cubicBezTo>
                    <a:cubicBezTo>
                      <a:pt x="2699044" y="1668689"/>
                      <a:pt x="2585922" y="1977527"/>
                      <a:pt x="2379771" y="2221185"/>
                    </a:cubicBezTo>
                    <a:lnTo>
                      <a:pt x="1349522" y="1349522"/>
                    </a:lnTo>
                    <a:lnTo>
                      <a:pt x="2699042" y="1347120"/>
                    </a:lnTo>
                    <a:close/>
                  </a:path>
                </a:pathLst>
              </a:custGeom>
              <a:solidFill>
                <a:srgbClr val="d9d9d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46"/>
              <p:cNvSpPr/>
              <p:nvPr/>
            </p:nvSpPr>
            <p:spPr>
              <a:xfrm>
                <a:off x="3078000" y="1643040"/>
                <a:ext cx="2988000" cy="2987640"/>
              </a:xfrm>
              <a:prstGeom prst="ellipse">
                <a:avLst/>
              </a:prstGeom>
              <a:noFill/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696960" y="84132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grpSp>
        <p:nvGrpSpPr>
          <p:cNvPr id="325" name="Group 3"/>
          <p:cNvGrpSpPr/>
          <p:nvPr/>
        </p:nvGrpSpPr>
        <p:grpSpPr>
          <a:xfrm>
            <a:off x="3889440" y="3198960"/>
            <a:ext cx="4643280" cy="2122200"/>
            <a:chOff x="3889440" y="3198960"/>
            <a:chExt cx="4643280" cy="2122200"/>
          </a:xfrm>
        </p:grpSpPr>
        <p:sp>
          <p:nvSpPr>
            <p:cNvPr id="326" name="矩形 6"/>
            <p:cNvSpPr/>
            <p:nvPr/>
          </p:nvSpPr>
          <p:spPr>
            <a:xfrm>
              <a:off x="3889440" y="3198960"/>
              <a:ext cx="4643280" cy="212220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4032000" y="3270240"/>
              <a:ext cx="43578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一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网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一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网目前的核心业务主要为： 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46"/>
          <p:cNvSpPr/>
          <p:nvPr/>
        </p:nvSpPr>
        <p:spPr>
          <a:xfrm>
            <a:off x="3817800" y="277020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74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dc:language>en-US</dc:language>
  <cp:lastModifiedBy>lenovo</cp:lastModifiedBy>
  <dcterms:modified xsi:type="dcterms:W3CDTF">2015-08-03T12:34:16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