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7C5-AD4B-4853-914B-8CB7E3A8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756-738F-45BB-B139-D2ACDC86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232-750D-4B9C-937E-09710D00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B03-7131-437B-A915-8C91519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D84-71BD-49A0-95AC-BBC923DA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818-4B10-43F4-862F-E5E32C68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989-3737-4CE1-A2EE-A80B5C0F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26F-03E0-4E64-8475-D4B22544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E54-281E-4991-8120-D404FD6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D54-28A5-4EB1-9FCF-ABE71CD1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BB0-ADF2-4ACB-8FE6-D039099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9C2-33DC-4C1B-AAE0-3039C93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D459-E2CD-484D-84E2-FDB18F01B6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5D79-557B-4F8B-B3A7-890D80274D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11"/>
          <p:cNvSpPr/>
          <p:nvPr/>
        </p:nvSpPr>
        <p:spPr>
          <a:xfrm rot="13558200">
            <a:off x="7777800" y="-623520"/>
            <a:ext cx="1198440" cy="3095640"/>
          </a:xfrm>
          <a:prstGeom prst="triangle">
            <a:avLst>
              <a:gd name="adj" fmla="val 65106"/>
            </a:avLst>
          </a:prstGeom>
          <a:solidFill>
            <a:srgbClr val="29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8"/>
          <p:cNvSpPr/>
          <p:nvPr/>
        </p:nvSpPr>
        <p:spPr>
          <a:xfrm>
            <a:off x="1749600" y="2146320"/>
            <a:ext cx="4533840" cy="2997360"/>
          </a:xfrm>
          <a:prstGeom prst="pie">
            <a:avLst/>
          </a:prstGeom>
          <a:solidFill>
            <a:srgbClr val="29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4"/>
          <p:cNvSpPr/>
          <p:nvPr/>
        </p:nvSpPr>
        <p:spPr>
          <a:xfrm>
            <a:off x="0" y="1460520"/>
            <a:ext cx="3435480" cy="3683160"/>
          </a:xfrm>
          <a:prstGeom prst="pi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0"/>
          <p:cNvSpPr/>
          <p:nvPr/>
        </p:nvSpPr>
        <p:spPr>
          <a:xfrm>
            <a:off x="5511960" y="-258840"/>
            <a:ext cx="3303360" cy="2100240"/>
          </a:xfrm>
          <a:prstGeom prst="pi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 rot="933600">
            <a:off x="3728160" y="136512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67676"/>
                </a:solidFill>
                <a:latin typeface="微软雅黑"/>
                <a:ea typeface="微软雅黑"/>
              </a:rPr>
              <a:t>公司名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 rot="933600">
            <a:off x="3678120" y="21474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67676"/>
                </a:solidFill>
                <a:latin typeface="微软雅黑"/>
                <a:ea typeface="微软雅黑"/>
              </a:rPr>
              <a:t>Compan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466560" y="14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473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2720" y="48420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蓝粉模板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2"/>
          <p:cNvSpPr/>
          <p:nvPr/>
        </p:nvSpPr>
        <p:spPr>
          <a:xfrm>
            <a:off x="1743120" y="2286000"/>
            <a:ext cx="1989000" cy="2867040"/>
          </a:xfrm>
          <a:prstGeom prst="pie">
            <a:avLst/>
          </a:prstGeom>
          <a:solidFill>
            <a:srgbClr val="29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"/>
          <p:cNvSpPr/>
          <p:nvPr/>
        </p:nvSpPr>
        <p:spPr>
          <a:xfrm>
            <a:off x="0" y="36360"/>
            <a:ext cx="3448080" cy="5116680"/>
          </a:xfrm>
          <a:prstGeom prst="pi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6"/>
          <p:cNvSpPr/>
          <p:nvPr/>
        </p:nvSpPr>
        <p:spPr>
          <a:xfrm rot="18330600">
            <a:off x="1791000" y="3742200"/>
            <a:ext cx="21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67676"/>
                </a:solidFill>
                <a:latin typeface="微软雅黑"/>
                <a:ea typeface="微软雅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466560" y="14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9"/>
          <p:cNvSpPr/>
          <p:nvPr/>
        </p:nvSpPr>
        <p:spPr>
          <a:xfrm>
            <a:off x="3454560" y="1193760"/>
            <a:ext cx="1231920" cy="647640"/>
          </a:xfrm>
          <a:prstGeom prst="pie">
            <a:avLst/>
          </a:prstGeom>
          <a:noFill/>
          <a:ln w="255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22"/>
          <p:cNvSpPr/>
          <p:nvPr/>
        </p:nvSpPr>
        <p:spPr>
          <a:xfrm>
            <a:off x="2971800" y="2712960"/>
            <a:ext cx="2362320" cy="2422440"/>
          </a:xfrm>
          <a:prstGeom prst="pie">
            <a:avLst/>
          </a:prstGeom>
          <a:noFill/>
          <a:ln w="255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23"/>
          <p:cNvSpPr/>
          <p:nvPr/>
        </p:nvSpPr>
        <p:spPr>
          <a:xfrm>
            <a:off x="3897360" y="3573360"/>
            <a:ext cx="1760400" cy="1554120"/>
          </a:xfrm>
          <a:prstGeom prst="pie">
            <a:avLst/>
          </a:prstGeom>
          <a:noFill/>
          <a:ln w="255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24"/>
          <p:cNvSpPr/>
          <p:nvPr/>
        </p:nvSpPr>
        <p:spPr>
          <a:xfrm>
            <a:off x="3262320" y="1927080"/>
            <a:ext cx="1692360" cy="1397160"/>
          </a:xfrm>
          <a:prstGeom prst="pie">
            <a:avLst/>
          </a:prstGeom>
          <a:noFill/>
          <a:ln w="255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4727520" y="104472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5016600" y="17733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5432400" y="25588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5713560" y="341964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628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7C7-A7D5-4D77-BC38-D27AF293E696}" type="slidenum">
              <a:t>2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任意多边形 6"/>
          <p:cNvSpPr/>
          <p:nvPr/>
        </p:nvSpPr>
        <p:spPr>
          <a:xfrm>
            <a:off x="3917880" y="1531800"/>
            <a:ext cx="3471840" cy="2001960"/>
          </a:xfrm>
          <a:prstGeom prst="pie">
            <a:avLst/>
          </a:prstGeom>
          <a:solidFill>
            <a:srgbClr val="29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5"/>
          <p:cNvSpPr/>
          <p:nvPr/>
        </p:nvSpPr>
        <p:spPr>
          <a:xfrm>
            <a:off x="1743120" y="542880"/>
            <a:ext cx="3260520" cy="2001960"/>
          </a:xfrm>
          <a:prstGeom prst="pi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66560" y="14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 rot="20929200">
            <a:off x="4959360" y="12218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 rot="346800">
            <a:off x="1743120" y="24523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94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任意多边形 6"/>
          <p:cNvSpPr/>
          <p:nvPr/>
        </p:nvSpPr>
        <p:spPr>
          <a:xfrm>
            <a:off x="7505640" y="628560"/>
            <a:ext cx="3124440" cy="1162080"/>
          </a:xfrm>
          <a:prstGeom prst="pie">
            <a:avLst/>
          </a:prstGeom>
          <a:solidFill>
            <a:srgbClr val="29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66560" y="14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角三角形 5"/>
          <p:cNvSpPr/>
          <p:nvPr/>
        </p:nvSpPr>
        <p:spPr>
          <a:xfrm flipH="1" flipV="1">
            <a:off x="5129280" y="-20160"/>
            <a:ext cx="4024080" cy="1116000"/>
          </a:xfrm>
          <a:prstGeom prst="rtTriangl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8"/>
          <p:cNvSpPr/>
          <p:nvPr/>
        </p:nvSpPr>
        <p:spPr>
          <a:xfrm>
            <a:off x="3276720" y="1209600"/>
            <a:ext cx="0" cy="2370240"/>
          </a:xfrm>
          <a:prstGeom prst="line">
            <a:avLst/>
          </a:prstGeom>
          <a:ln w="12600">
            <a:solidFill>
              <a:srgbClr val="76767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551400" y="1517760"/>
            <a:ext cx="489564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 rot="951000">
            <a:off x="5505480" y="522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619280" y="20667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D4C-922F-436B-AD1B-A798BDB2D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任意多边形 6"/>
          <p:cNvSpPr/>
          <p:nvPr/>
        </p:nvSpPr>
        <p:spPr>
          <a:xfrm>
            <a:off x="2502000" y="2768760"/>
            <a:ext cx="5168880" cy="2400120"/>
          </a:xfrm>
          <a:prstGeom prst="pie">
            <a:avLst/>
          </a:prstGeom>
          <a:solidFill>
            <a:srgbClr val="29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66560" y="14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"/>
          <p:cNvSpPr/>
          <p:nvPr/>
        </p:nvSpPr>
        <p:spPr>
          <a:xfrm>
            <a:off x="5486400" y="1536840"/>
            <a:ext cx="3708360" cy="3624120"/>
          </a:xfrm>
          <a:prstGeom prst="pi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21360000">
            <a:off x="2253600" y="1528920"/>
            <a:ext cx="32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 rot="21352200">
            <a:off x="3798720" y="2411280"/>
            <a:ext cx="16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67676"/>
                </a:solidFill>
                <a:latin typeface="微软雅黑"/>
                <a:ea typeface="微软雅黑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2:45:00Z</dcterms:created>
  <dc:creator>chenzhilei</dc:creator>
  <dc:description/>
  <dc:language>en-US</dc:language>
  <cp:lastModifiedBy>haobaopc04</cp:lastModifiedBy>
  <dcterms:modified xsi:type="dcterms:W3CDTF">2015-08-03T12:34:4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