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4"/>
          <p:cNvSpPr/>
          <p:nvPr/>
        </p:nvSpPr>
        <p:spPr>
          <a:xfrm>
            <a:off x="0" y="6288120"/>
            <a:ext cx="12192120" cy="485640"/>
          </a:xfrm>
          <a:prstGeom prst="rect">
            <a:avLst/>
          </a:prstGeom>
          <a:solidFill>
            <a:srgbClr val="00a5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矩形 5"/>
          <p:cNvSpPr/>
          <p:nvPr/>
        </p:nvSpPr>
        <p:spPr>
          <a:xfrm>
            <a:off x="0" y="6773760"/>
            <a:ext cx="12192120" cy="84240"/>
          </a:xfrm>
          <a:prstGeom prst="rect">
            <a:avLst/>
          </a:prstGeom>
          <a:solidFill>
            <a:srgbClr val="2371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1"/>
          <a:stretch/>
        </p:blipFill>
        <p:spPr>
          <a:xfrm>
            <a:off x="3465360" y="2384280"/>
            <a:ext cx="5259600" cy="154332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1177920"/>
            <a:ext cx="576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年末总结的极简大方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流程图: 过程 43"/>
          <p:cNvSpPr/>
          <p:nvPr/>
        </p:nvSpPr>
        <p:spPr>
          <a:xfrm flipV="1">
            <a:off x="6805440" y="1529640"/>
            <a:ext cx="1797120" cy="746280"/>
          </a:xfrm>
          <a:custGeom>
            <a:avLst/>
            <a:gdLst/>
            <a:ahLst/>
            <a:rect l="l" t="t" r="r" b="b"/>
            <a:pathLst>
              <a:path w="10000" h="16341">
                <a:moveTo>
                  <a:pt x="0" y="6341"/>
                </a:moveTo>
                <a:lnTo>
                  <a:pt x="1332" y="6158"/>
                </a:lnTo>
                <a:cubicBezTo>
                  <a:pt x="1573" y="4105"/>
                  <a:pt x="1813" y="2053"/>
                  <a:pt x="2054" y="0"/>
                </a:cubicBezTo>
                <a:lnTo>
                  <a:pt x="2666" y="6158"/>
                </a:lnTo>
                <a:lnTo>
                  <a:pt x="10000" y="6341"/>
                </a:lnTo>
                <a:lnTo>
                  <a:pt x="10000" y="16341"/>
                </a:lnTo>
                <a:lnTo>
                  <a:pt x="0" y="16341"/>
                </a:lnTo>
                <a:lnTo>
                  <a:pt x="0" y="6341"/>
                </a:lnTo>
                <a:close/>
              </a:path>
            </a:pathLst>
          </a:custGeom>
          <a:solidFill>
            <a:srgbClr val="2e75b6"/>
          </a:solidFill>
          <a:ln w="1260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42"/>
          <p:cNvSpPr/>
          <p:nvPr/>
        </p:nvSpPr>
        <p:spPr>
          <a:xfrm>
            <a:off x="6934320" y="1566720"/>
            <a:ext cx="16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末总结报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12"/>
          <p:cNvSpPr/>
          <p:nvPr/>
        </p:nvSpPr>
        <p:spPr>
          <a:xfrm>
            <a:off x="5888160" y="3959280"/>
            <a:ext cx="28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这里输入演示者的名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321000" y="2282760"/>
            <a:ext cx="52596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3346560" y="2317680"/>
            <a:ext cx="5256000" cy="1540080"/>
            <a:chOff x="3346560" y="2317680"/>
            <a:chExt cx="5256000" cy="1540080"/>
          </a:xfrm>
        </p:grpSpPr>
        <p:pic>
          <p:nvPicPr>
            <p:cNvPr id="48" name="组合 36" descr=""/>
            <p:cNvPicPr/>
            <p:nvPr/>
          </p:nvPicPr>
          <p:blipFill>
            <a:blip r:embed="rId1"/>
            <a:stretch/>
          </p:blipFill>
          <p:spPr>
            <a:xfrm>
              <a:off x="3346560" y="2317680"/>
              <a:ext cx="1292400" cy="154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组合 37" descr=""/>
            <p:cNvPicPr/>
            <p:nvPr/>
          </p:nvPicPr>
          <p:blipFill>
            <a:blip r:embed="rId2"/>
            <a:stretch/>
          </p:blipFill>
          <p:spPr>
            <a:xfrm>
              <a:off x="4840200" y="2317680"/>
              <a:ext cx="1298520" cy="154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组合 38" descr=""/>
            <p:cNvPicPr/>
            <p:nvPr/>
          </p:nvPicPr>
          <p:blipFill>
            <a:blip r:embed="rId3"/>
            <a:stretch/>
          </p:blipFill>
          <p:spPr>
            <a:xfrm>
              <a:off x="6401520" y="2317680"/>
              <a:ext cx="774360" cy="154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组合 39" descr=""/>
            <p:cNvPicPr/>
            <p:nvPr/>
          </p:nvPicPr>
          <p:blipFill>
            <a:blip r:embed="rId4"/>
            <a:stretch/>
          </p:blipFill>
          <p:spPr>
            <a:xfrm>
              <a:off x="7358760" y="2317680"/>
              <a:ext cx="1243800" cy="154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流程图: 过程 43"/>
          <p:cNvSpPr/>
          <p:nvPr/>
        </p:nvSpPr>
        <p:spPr>
          <a:xfrm flipV="1">
            <a:off x="6805440" y="1529640"/>
            <a:ext cx="1797120" cy="746280"/>
          </a:xfrm>
          <a:custGeom>
            <a:avLst/>
            <a:gdLst/>
            <a:ahLst/>
            <a:rect l="l" t="t" r="r" b="b"/>
            <a:pathLst>
              <a:path w="10000" h="16341">
                <a:moveTo>
                  <a:pt x="0" y="6341"/>
                </a:moveTo>
                <a:lnTo>
                  <a:pt x="1332" y="6158"/>
                </a:lnTo>
                <a:cubicBezTo>
                  <a:pt x="1573" y="4105"/>
                  <a:pt x="1813" y="2053"/>
                  <a:pt x="2054" y="0"/>
                </a:cubicBezTo>
                <a:lnTo>
                  <a:pt x="2666" y="6158"/>
                </a:lnTo>
                <a:lnTo>
                  <a:pt x="10000" y="6341"/>
                </a:lnTo>
                <a:lnTo>
                  <a:pt x="10000" y="16341"/>
                </a:lnTo>
                <a:lnTo>
                  <a:pt x="0" y="16341"/>
                </a:lnTo>
                <a:lnTo>
                  <a:pt x="0" y="6341"/>
                </a:lnTo>
                <a:close/>
              </a:path>
            </a:pathLst>
          </a:custGeom>
          <a:solidFill>
            <a:srgbClr val="2e75b6"/>
          </a:solidFill>
          <a:ln w="1260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42"/>
          <p:cNvSpPr/>
          <p:nvPr/>
        </p:nvSpPr>
        <p:spPr>
          <a:xfrm>
            <a:off x="6934320" y="1566720"/>
            <a:ext cx="16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末总结报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12"/>
          <p:cNvSpPr/>
          <p:nvPr/>
        </p:nvSpPr>
        <p:spPr>
          <a:xfrm>
            <a:off x="5888160" y="3959280"/>
            <a:ext cx="28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这里输入演示者的名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3"/>
          <p:cNvGrpSpPr/>
          <p:nvPr/>
        </p:nvGrpSpPr>
        <p:grpSpPr>
          <a:xfrm>
            <a:off x="1162080" y="790560"/>
            <a:ext cx="1165320" cy="901800"/>
            <a:chOff x="1162080" y="790560"/>
            <a:chExt cx="1165320" cy="901800"/>
          </a:xfrm>
        </p:grpSpPr>
        <p:sp>
          <p:nvSpPr>
            <p:cNvPr id="56" name="流程图: 过程 43"/>
            <p:cNvSpPr/>
            <p:nvPr/>
          </p:nvSpPr>
          <p:spPr>
            <a:xfrm flipV="1">
              <a:off x="1162080" y="834120"/>
              <a:ext cx="1154160" cy="858240"/>
            </a:xfrm>
            <a:custGeom>
              <a:avLst/>
              <a:gdLst/>
              <a:ahLst/>
              <a:rect l="l" t="t" r="r" b="b"/>
              <a:pathLst>
                <a:path w="10000" h="13589">
                  <a:moveTo>
                    <a:pt x="0" y="3589"/>
                  </a:moveTo>
                  <a:lnTo>
                    <a:pt x="1332" y="3406"/>
                  </a:lnTo>
                  <a:cubicBezTo>
                    <a:pt x="1391" y="3163"/>
                    <a:pt x="1191" y="3238"/>
                    <a:pt x="2675" y="0"/>
                  </a:cubicBezTo>
                  <a:lnTo>
                    <a:pt x="4531" y="3258"/>
                  </a:lnTo>
                  <a:lnTo>
                    <a:pt x="10000" y="3589"/>
                  </a:lnTo>
                  <a:lnTo>
                    <a:pt x="10000" y="13589"/>
                  </a:lnTo>
                  <a:lnTo>
                    <a:pt x="0" y="13589"/>
                  </a:lnTo>
                  <a:lnTo>
                    <a:pt x="0" y="3589"/>
                  </a:lnTo>
                  <a:close/>
                </a:path>
              </a:pathLst>
            </a:custGeom>
            <a:solidFill>
              <a:srgbClr val="2e75b6"/>
            </a:solidFill>
            <a:ln w="12600">
              <a:solidFill>
                <a:srgbClr val="2e75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文本框 42"/>
            <p:cNvSpPr/>
            <p:nvPr/>
          </p:nvSpPr>
          <p:spPr>
            <a:xfrm>
              <a:off x="1162080" y="790560"/>
              <a:ext cx="116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6"/>
          <p:cNvGrpSpPr/>
          <p:nvPr/>
        </p:nvGrpSpPr>
        <p:grpSpPr>
          <a:xfrm>
            <a:off x="2778120" y="2079720"/>
            <a:ext cx="698400" cy="699840"/>
            <a:chOff x="2778120" y="2079720"/>
            <a:chExt cx="698400" cy="699840"/>
          </a:xfrm>
        </p:grpSpPr>
        <p:sp>
          <p:nvSpPr>
            <p:cNvPr id="59" name="同心圆 2"/>
            <p:cNvSpPr/>
            <p:nvPr/>
          </p:nvSpPr>
          <p:spPr>
            <a:xfrm>
              <a:off x="2778120" y="2079720"/>
              <a:ext cx="698400" cy="699840"/>
            </a:xfrm>
            <a:custGeom>
              <a:avLst/>
              <a:gdLst/>
              <a:ahLst/>
              <a:rect l="l" t="t" r="r" b="b"/>
              <a:pathLst>
                <a:path w="544749" h="544749">
                  <a:moveTo>
                    <a:pt x="0" y="272375"/>
                  </a:moveTo>
                  <a:cubicBezTo>
                    <a:pt x="0" y="121946"/>
                    <a:pt x="121946" y="0"/>
                    <a:pt x="272375" y="0"/>
                  </a:cubicBezTo>
                  <a:cubicBezTo>
                    <a:pt x="422804" y="0"/>
                    <a:pt x="544750" y="121946"/>
                    <a:pt x="544750" y="272375"/>
                  </a:cubicBezTo>
                  <a:cubicBezTo>
                    <a:pt x="544750" y="422804"/>
                    <a:pt x="422804" y="544750"/>
                    <a:pt x="272375" y="544750"/>
                  </a:cubicBezTo>
                  <a:cubicBezTo>
                    <a:pt x="121946" y="544750"/>
                    <a:pt x="0" y="422804"/>
                    <a:pt x="0" y="272375"/>
                  </a:cubicBezTo>
                  <a:close/>
                  <a:moveTo>
                    <a:pt x="46745" y="272375"/>
                  </a:moveTo>
                  <a:cubicBezTo>
                    <a:pt x="46745" y="396987"/>
                    <a:pt x="147763" y="498005"/>
                    <a:pt x="272375" y="498005"/>
                  </a:cubicBezTo>
                  <a:cubicBezTo>
                    <a:pt x="396987" y="498005"/>
                    <a:pt x="498005" y="396987"/>
                    <a:pt x="498005" y="272375"/>
                  </a:cubicBezTo>
                  <a:cubicBezTo>
                    <a:pt x="498005" y="147763"/>
                    <a:pt x="396987" y="46745"/>
                    <a:pt x="272375" y="46745"/>
                  </a:cubicBezTo>
                  <a:cubicBezTo>
                    <a:pt x="147763" y="46745"/>
                    <a:pt x="46745" y="147763"/>
                    <a:pt x="46745" y="272375"/>
                  </a:cubicBezTo>
                  <a:close/>
                </a:path>
              </a:pathLst>
            </a:custGeom>
            <a:noFill/>
            <a:ln w="19080">
              <a:solidFill>
                <a:srgbClr val="2e75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文本框 3"/>
            <p:cNvSpPr/>
            <p:nvPr/>
          </p:nvSpPr>
          <p:spPr>
            <a:xfrm>
              <a:off x="2942640" y="2166480"/>
              <a:ext cx="44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e75b6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文本框 38"/>
          <p:cNvSpPr/>
          <p:nvPr/>
        </p:nvSpPr>
        <p:spPr>
          <a:xfrm>
            <a:off x="2273400" y="290988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75b6"/>
                </a:solidFill>
                <a:latin typeface="微软雅黑"/>
                <a:ea typeface="微软雅黑"/>
              </a:rPr>
              <a:t>这里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oup 10"/>
          <p:cNvGrpSpPr/>
          <p:nvPr/>
        </p:nvGrpSpPr>
        <p:grpSpPr>
          <a:xfrm>
            <a:off x="5853240" y="2079720"/>
            <a:ext cx="698400" cy="699840"/>
            <a:chOff x="5853240" y="2079720"/>
            <a:chExt cx="698400" cy="699840"/>
          </a:xfrm>
        </p:grpSpPr>
        <p:sp>
          <p:nvSpPr>
            <p:cNvPr id="63" name="同心圆 48"/>
            <p:cNvSpPr/>
            <p:nvPr/>
          </p:nvSpPr>
          <p:spPr>
            <a:xfrm>
              <a:off x="5853240" y="2079720"/>
              <a:ext cx="698400" cy="699840"/>
            </a:xfrm>
            <a:custGeom>
              <a:avLst/>
              <a:gdLst/>
              <a:ahLst/>
              <a:rect l="l" t="t" r="r" b="b"/>
              <a:pathLst>
                <a:path w="544749" h="544749">
                  <a:moveTo>
                    <a:pt x="0" y="272375"/>
                  </a:moveTo>
                  <a:cubicBezTo>
                    <a:pt x="0" y="121946"/>
                    <a:pt x="121946" y="0"/>
                    <a:pt x="272375" y="0"/>
                  </a:cubicBezTo>
                  <a:cubicBezTo>
                    <a:pt x="422804" y="0"/>
                    <a:pt x="544750" y="121946"/>
                    <a:pt x="544750" y="272375"/>
                  </a:cubicBezTo>
                  <a:cubicBezTo>
                    <a:pt x="544750" y="422804"/>
                    <a:pt x="422804" y="544750"/>
                    <a:pt x="272375" y="544750"/>
                  </a:cubicBezTo>
                  <a:cubicBezTo>
                    <a:pt x="121946" y="544750"/>
                    <a:pt x="0" y="422804"/>
                    <a:pt x="0" y="272375"/>
                  </a:cubicBezTo>
                  <a:close/>
                  <a:moveTo>
                    <a:pt x="46745" y="272375"/>
                  </a:moveTo>
                  <a:cubicBezTo>
                    <a:pt x="46745" y="396987"/>
                    <a:pt x="147763" y="498005"/>
                    <a:pt x="272375" y="498005"/>
                  </a:cubicBezTo>
                  <a:cubicBezTo>
                    <a:pt x="396987" y="498005"/>
                    <a:pt x="498005" y="396987"/>
                    <a:pt x="498005" y="272375"/>
                  </a:cubicBezTo>
                  <a:cubicBezTo>
                    <a:pt x="498005" y="147763"/>
                    <a:pt x="396987" y="46745"/>
                    <a:pt x="272375" y="46745"/>
                  </a:cubicBezTo>
                  <a:cubicBezTo>
                    <a:pt x="147763" y="46745"/>
                    <a:pt x="46745" y="147763"/>
                    <a:pt x="46745" y="272375"/>
                  </a:cubicBezTo>
                  <a:close/>
                </a:path>
              </a:pathLst>
            </a:custGeom>
            <a:noFill/>
            <a:ln w="19080">
              <a:solidFill>
                <a:srgbClr val="2e75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文本框 49"/>
            <p:cNvSpPr/>
            <p:nvPr/>
          </p:nvSpPr>
          <p:spPr>
            <a:xfrm>
              <a:off x="6017760" y="2166480"/>
              <a:ext cx="44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e75b6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8926560" y="2089080"/>
            <a:ext cx="698400" cy="698400"/>
            <a:chOff x="8926560" y="2089080"/>
            <a:chExt cx="698400" cy="698400"/>
          </a:xfrm>
        </p:grpSpPr>
        <p:sp>
          <p:nvSpPr>
            <p:cNvPr id="66" name="同心圆 51"/>
            <p:cNvSpPr/>
            <p:nvPr/>
          </p:nvSpPr>
          <p:spPr>
            <a:xfrm>
              <a:off x="8926560" y="2089080"/>
              <a:ext cx="698400" cy="698400"/>
            </a:xfrm>
            <a:custGeom>
              <a:avLst/>
              <a:gdLst/>
              <a:ahLst/>
              <a:rect l="l" t="t" r="r" b="b"/>
              <a:pathLst>
                <a:path w="544749" h="544749">
                  <a:moveTo>
                    <a:pt x="0" y="272375"/>
                  </a:moveTo>
                  <a:cubicBezTo>
                    <a:pt x="0" y="121946"/>
                    <a:pt x="121946" y="0"/>
                    <a:pt x="272375" y="0"/>
                  </a:cubicBezTo>
                  <a:cubicBezTo>
                    <a:pt x="422804" y="0"/>
                    <a:pt x="544750" y="121946"/>
                    <a:pt x="544750" y="272375"/>
                  </a:cubicBezTo>
                  <a:cubicBezTo>
                    <a:pt x="544750" y="422804"/>
                    <a:pt x="422804" y="544750"/>
                    <a:pt x="272375" y="544750"/>
                  </a:cubicBezTo>
                  <a:cubicBezTo>
                    <a:pt x="121946" y="544750"/>
                    <a:pt x="0" y="422804"/>
                    <a:pt x="0" y="272375"/>
                  </a:cubicBezTo>
                  <a:close/>
                  <a:moveTo>
                    <a:pt x="46745" y="272375"/>
                  </a:moveTo>
                  <a:cubicBezTo>
                    <a:pt x="46745" y="396987"/>
                    <a:pt x="147763" y="498005"/>
                    <a:pt x="272375" y="498005"/>
                  </a:cubicBezTo>
                  <a:cubicBezTo>
                    <a:pt x="396987" y="498005"/>
                    <a:pt x="498005" y="396987"/>
                    <a:pt x="498005" y="272375"/>
                  </a:cubicBezTo>
                  <a:cubicBezTo>
                    <a:pt x="498005" y="147763"/>
                    <a:pt x="396987" y="46745"/>
                    <a:pt x="272375" y="46745"/>
                  </a:cubicBezTo>
                  <a:cubicBezTo>
                    <a:pt x="147763" y="46745"/>
                    <a:pt x="46745" y="147763"/>
                    <a:pt x="46745" y="272375"/>
                  </a:cubicBezTo>
                  <a:close/>
                </a:path>
              </a:pathLst>
            </a:custGeom>
            <a:noFill/>
            <a:ln w="19080">
              <a:solidFill>
                <a:srgbClr val="2e75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文本框 52"/>
            <p:cNvSpPr/>
            <p:nvPr/>
          </p:nvSpPr>
          <p:spPr>
            <a:xfrm>
              <a:off x="9091080" y="2175840"/>
              <a:ext cx="44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e75b6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直接连接符 54"/>
          <p:cNvSpPr/>
          <p:nvPr/>
        </p:nvSpPr>
        <p:spPr>
          <a:xfrm>
            <a:off x="3476520" y="2430360"/>
            <a:ext cx="2376720" cy="0"/>
          </a:xfrm>
          <a:prstGeom prst="line">
            <a:avLst/>
          </a:prstGeom>
          <a:ln w="648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直接连接符 55"/>
          <p:cNvSpPr/>
          <p:nvPr/>
        </p:nvSpPr>
        <p:spPr>
          <a:xfrm>
            <a:off x="6551640" y="2430360"/>
            <a:ext cx="2374920" cy="0"/>
          </a:xfrm>
          <a:prstGeom prst="line">
            <a:avLst/>
          </a:prstGeom>
          <a:ln w="648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接连接符 56"/>
          <p:cNvSpPr/>
          <p:nvPr/>
        </p:nvSpPr>
        <p:spPr>
          <a:xfrm>
            <a:off x="3476520" y="2465280"/>
            <a:ext cx="2376720" cy="0"/>
          </a:xfrm>
          <a:prstGeom prst="line">
            <a:avLst/>
          </a:prstGeom>
          <a:ln w="648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57"/>
          <p:cNvSpPr/>
          <p:nvPr/>
        </p:nvSpPr>
        <p:spPr>
          <a:xfrm>
            <a:off x="6551640" y="2465280"/>
            <a:ext cx="2374920" cy="0"/>
          </a:xfrm>
          <a:prstGeom prst="line">
            <a:avLst/>
          </a:prstGeom>
          <a:ln w="648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38"/>
          <p:cNvSpPr/>
          <p:nvPr/>
        </p:nvSpPr>
        <p:spPr>
          <a:xfrm>
            <a:off x="1817640" y="347652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38"/>
          <p:cNvSpPr/>
          <p:nvPr/>
        </p:nvSpPr>
        <p:spPr>
          <a:xfrm>
            <a:off x="5365800" y="290988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75b6"/>
                </a:solidFill>
                <a:latin typeface="微软雅黑"/>
                <a:ea typeface="微软雅黑"/>
              </a:rPr>
              <a:t>这里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38"/>
          <p:cNvSpPr/>
          <p:nvPr/>
        </p:nvSpPr>
        <p:spPr>
          <a:xfrm>
            <a:off x="8461440" y="290988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75b6"/>
                </a:solidFill>
                <a:latin typeface="微软雅黑"/>
                <a:ea typeface="微软雅黑"/>
              </a:rPr>
              <a:t>这里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38"/>
          <p:cNvSpPr/>
          <p:nvPr/>
        </p:nvSpPr>
        <p:spPr>
          <a:xfrm>
            <a:off x="4870440" y="347652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本框 38"/>
          <p:cNvSpPr/>
          <p:nvPr/>
        </p:nvSpPr>
        <p:spPr>
          <a:xfrm>
            <a:off x="7927920" y="3476520"/>
            <a:ext cx="26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2593800" y="100980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文本框 38"/>
          <p:cNvSpPr/>
          <p:nvPr/>
        </p:nvSpPr>
        <p:spPr>
          <a:xfrm>
            <a:off x="1214280" y="963720"/>
            <a:ext cx="21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e75b6"/>
                </a:solidFill>
                <a:latin typeface="微软雅黑"/>
                <a:ea typeface="微软雅黑"/>
              </a:rPr>
              <a:t>这里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38"/>
          <p:cNvSpPr/>
          <p:nvPr/>
        </p:nvSpPr>
        <p:spPr>
          <a:xfrm>
            <a:off x="2917800" y="24652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图片 7" descr=""/>
          <p:cNvPicPr/>
          <p:nvPr/>
        </p:nvPicPr>
        <p:blipFill>
          <a:blip r:embed="rId1"/>
          <a:stretch/>
        </p:blipFill>
        <p:spPr>
          <a:xfrm>
            <a:off x="1878120" y="2419200"/>
            <a:ext cx="785880" cy="787680"/>
          </a:xfrm>
          <a:prstGeom prst="rect">
            <a:avLst/>
          </a:prstGeom>
          <a:ln w="0">
            <a:noFill/>
          </a:ln>
        </p:spPr>
      </p:pic>
      <p:sp>
        <p:nvSpPr>
          <p:cNvPr id="81" name="直接连接符 9"/>
          <p:cNvSpPr/>
          <p:nvPr/>
        </p:nvSpPr>
        <p:spPr>
          <a:xfrm>
            <a:off x="1263600" y="1405080"/>
            <a:ext cx="2017800" cy="0"/>
          </a:xfrm>
          <a:prstGeom prst="line">
            <a:avLst/>
          </a:prstGeom>
          <a:ln w="1908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图片 13" descr=""/>
          <p:cNvPicPr/>
          <p:nvPr/>
        </p:nvPicPr>
        <p:blipFill>
          <a:blip r:embed="rId2"/>
          <a:stretch/>
        </p:blipFill>
        <p:spPr>
          <a:xfrm>
            <a:off x="6877080" y="2468520"/>
            <a:ext cx="803160" cy="8049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4" descr=""/>
          <p:cNvPicPr/>
          <p:nvPr/>
        </p:nvPicPr>
        <p:blipFill>
          <a:blip r:embed="rId3"/>
          <a:stretch/>
        </p:blipFill>
        <p:spPr>
          <a:xfrm>
            <a:off x="1938240" y="3645000"/>
            <a:ext cx="725760" cy="7189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5" descr=""/>
          <p:cNvPicPr/>
          <p:nvPr/>
        </p:nvPicPr>
        <p:blipFill>
          <a:blip r:embed="rId4"/>
          <a:stretch/>
        </p:blipFill>
        <p:spPr>
          <a:xfrm>
            <a:off x="6943680" y="3591000"/>
            <a:ext cx="762120" cy="9018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38"/>
          <p:cNvSpPr/>
          <p:nvPr/>
        </p:nvSpPr>
        <p:spPr>
          <a:xfrm>
            <a:off x="7804080" y="24652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38"/>
          <p:cNvSpPr/>
          <p:nvPr/>
        </p:nvSpPr>
        <p:spPr>
          <a:xfrm>
            <a:off x="7804080" y="364644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38"/>
          <p:cNvSpPr/>
          <p:nvPr/>
        </p:nvSpPr>
        <p:spPr>
          <a:xfrm>
            <a:off x="2928960" y="3691080"/>
            <a:ext cx="26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等腰三角形 16"/>
          <p:cNvSpPr/>
          <p:nvPr/>
        </p:nvSpPr>
        <p:spPr>
          <a:xfrm>
            <a:off x="2028960" y="1488960"/>
            <a:ext cx="487080" cy="300240"/>
          </a:xfrm>
          <a:prstGeom prst="triangle">
            <a:avLst>
              <a:gd name="adj" fmla="val 50000"/>
            </a:avLst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38"/>
          <p:cNvSpPr/>
          <p:nvPr/>
        </p:nvSpPr>
        <p:spPr>
          <a:xfrm>
            <a:off x="1214280" y="963720"/>
            <a:ext cx="21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e75b6"/>
                </a:solidFill>
                <a:latin typeface="微软雅黑"/>
                <a:ea typeface="微软雅黑"/>
              </a:rPr>
              <a:t>这里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接连接符 9"/>
          <p:cNvSpPr/>
          <p:nvPr/>
        </p:nvSpPr>
        <p:spPr>
          <a:xfrm>
            <a:off x="1263600" y="1405080"/>
            <a:ext cx="2017800" cy="0"/>
          </a:xfrm>
          <a:prstGeom prst="line">
            <a:avLst/>
          </a:prstGeom>
          <a:ln w="1908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等腰三角形 16"/>
          <p:cNvSpPr/>
          <p:nvPr/>
        </p:nvSpPr>
        <p:spPr>
          <a:xfrm>
            <a:off x="2028960" y="1488960"/>
            <a:ext cx="487080" cy="300240"/>
          </a:xfrm>
          <a:prstGeom prst="triangle">
            <a:avLst>
              <a:gd name="adj" fmla="val 50000"/>
            </a:avLst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2071800" y="2531880"/>
            <a:ext cx="1823040" cy="1823040"/>
            <a:chOff x="2071800" y="2531880"/>
            <a:chExt cx="1823040" cy="1823040"/>
          </a:xfrm>
        </p:grpSpPr>
        <p:sp>
          <p:nvSpPr>
            <p:cNvPr id="93" name="同心圆 18"/>
            <p:cNvSpPr/>
            <p:nvPr/>
          </p:nvSpPr>
          <p:spPr>
            <a:xfrm>
              <a:off x="2247840" y="2708280"/>
              <a:ext cx="1471680" cy="1471680"/>
            </a:xfrm>
            <a:custGeom>
              <a:avLst/>
              <a:gdLst/>
              <a:ahLst/>
              <a:rect l="l" t="t" r="r" b="b"/>
              <a:pathLst>
                <a:path w="1471729" h="1471729">
                  <a:moveTo>
                    <a:pt x="0" y="735865"/>
                  </a:moveTo>
                  <a:cubicBezTo>
                    <a:pt x="0" y="329458"/>
                    <a:pt x="329458" y="0"/>
                    <a:pt x="735865" y="0"/>
                  </a:cubicBezTo>
                  <a:cubicBezTo>
                    <a:pt x="1142272" y="0"/>
                    <a:pt x="1471730" y="329458"/>
                    <a:pt x="1471730" y="735865"/>
                  </a:cubicBezTo>
                  <a:cubicBezTo>
                    <a:pt x="1471730" y="1142272"/>
                    <a:pt x="1142272" y="1471730"/>
                    <a:pt x="735865" y="1471730"/>
                  </a:cubicBezTo>
                  <a:cubicBezTo>
                    <a:pt x="329458" y="1471730"/>
                    <a:pt x="0" y="1142272"/>
                    <a:pt x="0" y="735865"/>
                  </a:cubicBezTo>
                  <a:close/>
                  <a:moveTo>
                    <a:pt x="0" y="735865"/>
                  </a:moveTo>
                  <a:cubicBezTo>
                    <a:pt x="0" y="1142272"/>
                    <a:pt x="329458" y="1471730"/>
                    <a:pt x="735865" y="1471730"/>
                  </a:cubicBezTo>
                  <a:cubicBezTo>
                    <a:pt x="1142272" y="1471730"/>
                    <a:pt x="1471730" y="1142272"/>
                    <a:pt x="1471730" y="735865"/>
                  </a:cubicBezTo>
                  <a:cubicBezTo>
                    <a:pt x="1471730" y="329458"/>
                    <a:pt x="1142272" y="0"/>
                    <a:pt x="735865" y="0"/>
                  </a:cubicBezTo>
                  <a:cubicBezTo>
                    <a:pt x="329458" y="0"/>
                    <a:pt x="0" y="329458"/>
                    <a:pt x="0" y="735865"/>
                  </a:cubicBez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2e75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空心弧 19"/>
            <p:cNvSpPr/>
            <p:nvPr/>
          </p:nvSpPr>
          <p:spPr>
            <a:xfrm rot="12246000">
              <a:off x="2293200" y="2753280"/>
              <a:ext cx="1379880" cy="1379880"/>
            </a:xfrm>
            <a:custGeom>
              <a:avLst/>
              <a:gdLst/>
              <a:ahLst/>
              <a:rect l="l" t="t" r="r" b="b"/>
              <a:pathLst>
                <a:path w="1379646" h="1379648">
                  <a:moveTo>
                    <a:pt x="0" y="689824"/>
                  </a:moveTo>
                  <a:cubicBezTo>
                    <a:pt x="0" y="390829"/>
                    <a:pt x="192617" y="125873"/>
                    <a:pt x="477031" y="33641"/>
                  </a:cubicBezTo>
                  <a:cubicBezTo>
                    <a:pt x="761445" y="-58591"/>
                    <a:pt x="1072897" y="42902"/>
                    <a:pt x="1248365" y="284995"/>
                  </a:cubicBezTo>
                  <a:cubicBezTo>
                    <a:pt x="1423832" y="527088"/>
                    <a:pt x="1423364" y="854659"/>
                    <a:pt x="1247205" y="1096249"/>
                  </a:cubicBezTo>
                  <a:lnTo>
                    <a:pt x="1093624" y="984263"/>
                  </a:lnTo>
                  <a:cubicBezTo>
                    <a:pt x="1221244" y="809241"/>
                    <a:pt x="1221584" y="571928"/>
                    <a:pt x="1094465" y="396542"/>
                  </a:cubicBezTo>
                  <a:cubicBezTo>
                    <a:pt x="967346" y="221155"/>
                    <a:pt x="741711" y="147627"/>
                    <a:pt x="535664" y="214446"/>
                  </a:cubicBezTo>
                  <a:cubicBezTo>
                    <a:pt x="329618" y="281264"/>
                    <a:pt x="190074" y="473215"/>
                    <a:pt x="190074" y="689825"/>
                  </a:cubicBezTo>
                  <a:lnTo>
                    <a:pt x="0" y="689824"/>
                  </a:lnTo>
                  <a:close/>
                </a:path>
              </a:pathLst>
            </a:custGeom>
            <a:solidFill>
              <a:srgbClr val="2e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9"/>
          <p:cNvGrpSpPr/>
          <p:nvPr/>
        </p:nvGrpSpPr>
        <p:grpSpPr>
          <a:xfrm>
            <a:off x="5218200" y="2537640"/>
            <a:ext cx="1823040" cy="1823040"/>
            <a:chOff x="5218200" y="2537640"/>
            <a:chExt cx="1823040" cy="1823040"/>
          </a:xfrm>
        </p:grpSpPr>
        <p:sp>
          <p:nvSpPr>
            <p:cNvPr id="96" name="同心圆 21"/>
            <p:cNvSpPr/>
            <p:nvPr/>
          </p:nvSpPr>
          <p:spPr>
            <a:xfrm>
              <a:off x="5394240" y="2708280"/>
              <a:ext cx="1471680" cy="1471680"/>
            </a:xfrm>
            <a:custGeom>
              <a:avLst/>
              <a:gdLst/>
              <a:ahLst/>
              <a:rect l="l" t="t" r="r" b="b"/>
              <a:pathLst>
                <a:path w="1471729" h="1471729">
                  <a:moveTo>
                    <a:pt x="0" y="735865"/>
                  </a:moveTo>
                  <a:cubicBezTo>
                    <a:pt x="0" y="329458"/>
                    <a:pt x="329458" y="0"/>
                    <a:pt x="735865" y="0"/>
                  </a:cubicBezTo>
                  <a:cubicBezTo>
                    <a:pt x="1142272" y="0"/>
                    <a:pt x="1471730" y="329458"/>
                    <a:pt x="1471730" y="735865"/>
                  </a:cubicBezTo>
                  <a:cubicBezTo>
                    <a:pt x="1471730" y="1142272"/>
                    <a:pt x="1142272" y="1471730"/>
                    <a:pt x="735865" y="1471730"/>
                  </a:cubicBezTo>
                  <a:cubicBezTo>
                    <a:pt x="329458" y="1471730"/>
                    <a:pt x="0" y="1142272"/>
                    <a:pt x="0" y="735865"/>
                  </a:cubicBezTo>
                  <a:close/>
                  <a:moveTo>
                    <a:pt x="0" y="735865"/>
                  </a:moveTo>
                  <a:cubicBezTo>
                    <a:pt x="0" y="1142272"/>
                    <a:pt x="329458" y="1471730"/>
                    <a:pt x="735865" y="1471730"/>
                  </a:cubicBezTo>
                  <a:cubicBezTo>
                    <a:pt x="1142272" y="1471730"/>
                    <a:pt x="1471730" y="1142272"/>
                    <a:pt x="1471730" y="735865"/>
                  </a:cubicBezTo>
                  <a:cubicBezTo>
                    <a:pt x="1471730" y="329458"/>
                    <a:pt x="1142272" y="0"/>
                    <a:pt x="735865" y="0"/>
                  </a:cubicBezTo>
                  <a:cubicBezTo>
                    <a:pt x="329458" y="0"/>
                    <a:pt x="0" y="329458"/>
                    <a:pt x="0" y="735865"/>
                  </a:cubicBez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2e75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空心弧 22"/>
            <p:cNvSpPr/>
            <p:nvPr/>
          </p:nvSpPr>
          <p:spPr>
            <a:xfrm rot="12246000">
              <a:off x="5439600" y="2759040"/>
              <a:ext cx="1379880" cy="1379880"/>
            </a:xfrm>
            <a:custGeom>
              <a:avLst/>
              <a:gdLst/>
              <a:ahLst/>
              <a:rect l="l" t="t" r="r" b="b"/>
              <a:pathLst>
                <a:path w="1379646" h="1379648">
                  <a:moveTo>
                    <a:pt x="149057" y="1118109"/>
                  </a:moveTo>
                  <a:cubicBezTo>
                    <a:pt x="-72511" y="838350"/>
                    <a:pt x="-44122" y="435781"/>
                    <a:pt x="214515" y="189885"/>
                  </a:cubicBezTo>
                  <a:cubicBezTo>
                    <a:pt x="473152" y="-56011"/>
                    <a:pt x="876641" y="-64043"/>
                    <a:pt x="1144860" y="171366"/>
                  </a:cubicBezTo>
                  <a:cubicBezTo>
                    <a:pt x="1413078" y="406774"/>
                    <a:pt x="1457465" y="807894"/>
                    <a:pt x="1247206" y="1096249"/>
                  </a:cubicBezTo>
                  <a:lnTo>
                    <a:pt x="1093624" y="984263"/>
                  </a:lnTo>
                  <a:cubicBezTo>
                    <a:pt x="1245948" y="775361"/>
                    <a:pt x="1213791" y="484766"/>
                    <a:pt x="1019479" y="314222"/>
                  </a:cubicBezTo>
                  <a:cubicBezTo>
                    <a:pt x="825166" y="143678"/>
                    <a:pt x="532854" y="149497"/>
                    <a:pt x="345482" y="327639"/>
                  </a:cubicBezTo>
                  <a:cubicBezTo>
                    <a:pt x="158110" y="505780"/>
                    <a:pt x="137543" y="797425"/>
                    <a:pt x="298060" y="1000100"/>
                  </a:cubicBezTo>
                  <a:lnTo>
                    <a:pt x="149057" y="1118109"/>
                  </a:lnTo>
                  <a:close/>
                </a:path>
              </a:pathLst>
            </a:custGeom>
            <a:solidFill>
              <a:srgbClr val="2e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2"/>
          <p:cNvGrpSpPr/>
          <p:nvPr/>
        </p:nvGrpSpPr>
        <p:grpSpPr>
          <a:xfrm>
            <a:off x="8322120" y="2531880"/>
            <a:ext cx="1823040" cy="1823040"/>
            <a:chOff x="8322120" y="2531880"/>
            <a:chExt cx="1823040" cy="1823040"/>
          </a:xfrm>
        </p:grpSpPr>
        <p:sp>
          <p:nvSpPr>
            <p:cNvPr id="99" name="同心圆 24"/>
            <p:cNvSpPr/>
            <p:nvPr/>
          </p:nvSpPr>
          <p:spPr>
            <a:xfrm>
              <a:off x="8504280" y="2708280"/>
              <a:ext cx="1471680" cy="1471680"/>
            </a:xfrm>
            <a:custGeom>
              <a:avLst/>
              <a:gdLst/>
              <a:ahLst/>
              <a:rect l="l" t="t" r="r" b="b"/>
              <a:pathLst>
                <a:path w="1471729" h="1471729">
                  <a:moveTo>
                    <a:pt x="0" y="735865"/>
                  </a:moveTo>
                  <a:cubicBezTo>
                    <a:pt x="0" y="329458"/>
                    <a:pt x="329458" y="0"/>
                    <a:pt x="735865" y="0"/>
                  </a:cubicBezTo>
                  <a:cubicBezTo>
                    <a:pt x="1142272" y="0"/>
                    <a:pt x="1471730" y="329458"/>
                    <a:pt x="1471730" y="735865"/>
                  </a:cubicBezTo>
                  <a:cubicBezTo>
                    <a:pt x="1471730" y="1142272"/>
                    <a:pt x="1142272" y="1471730"/>
                    <a:pt x="735865" y="1471730"/>
                  </a:cubicBezTo>
                  <a:cubicBezTo>
                    <a:pt x="329458" y="1471730"/>
                    <a:pt x="0" y="1142272"/>
                    <a:pt x="0" y="735865"/>
                  </a:cubicBezTo>
                  <a:close/>
                  <a:moveTo>
                    <a:pt x="0" y="735865"/>
                  </a:moveTo>
                  <a:cubicBezTo>
                    <a:pt x="0" y="1142272"/>
                    <a:pt x="329458" y="1471730"/>
                    <a:pt x="735865" y="1471730"/>
                  </a:cubicBezTo>
                  <a:cubicBezTo>
                    <a:pt x="1142272" y="1471730"/>
                    <a:pt x="1471730" y="1142272"/>
                    <a:pt x="1471730" y="735865"/>
                  </a:cubicBezTo>
                  <a:cubicBezTo>
                    <a:pt x="1471730" y="329458"/>
                    <a:pt x="1142272" y="0"/>
                    <a:pt x="735865" y="0"/>
                  </a:cubicBezTo>
                  <a:cubicBezTo>
                    <a:pt x="329458" y="0"/>
                    <a:pt x="0" y="329458"/>
                    <a:pt x="0" y="735865"/>
                  </a:cubicBezTo>
                  <a:close/>
                </a:path>
              </a:pathLst>
            </a:custGeom>
            <a:solidFill>
              <a:srgbClr val="2e75b6"/>
            </a:solidFill>
            <a:ln w="12600">
              <a:solidFill>
                <a:srgbClr val="2e75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空心弧 25"/>
            <p:cNvSpPr/>
            <p:nvPr/>
          </p:nvSpPr>
          <p:spPr>
            <a:xfrm rot="12246000">
              <a:off x="8543520" y="2753280"/>
              <a:ext cx="1379880" cy="1379880"/>
            </a:xfrm>
            <a:custGeom>
              <a:avLst/>
              <a:gdLst/>
              <a:ahLst/>
              <a:rect l="l" t="t" r="r" b="b"/>
              <a:pathLst>
                <a:path w="1379646" h="1379648">
                  <a:moveTo>
                    <a:pt x="580497" y="8718"/>
                  </a:moveTo>
                  <a:cubicBezTo>
                    <a:pt x="856448" y="-35576"/>
                    <a:pt x="1131857" y="91014"/>
                    <a:pt x="1277929" y="329287"/>
                  </a:cubicBezTo>
                  <a:cubicBezTo>
                    <a:pt x="1424001" y="567560"/>
                    <a:pt x="1411868" y="870425"/>
                    <a:pt x="1247204" y="1096249"/>
                  </a:cubicBezTo>
                  <a:lnTo>
                    <a:pt x="1093624" y="984263"/>
                  </a:lnTo>
                  <a:cubicBezTo>
                    <a:pt x="1212916" y="820662"/>
                    <a:pt x="1221706" y="601249"/>
                    <a:pt x="1115883" y="428630"/>
                  </a:cubicBezTo>
                  <a:cubicBezTo>
                    <a:pt x="1010059" y="256010"/>
                    <a:pt x="810537" y="164302"/>
                    <a:pt x="610621" y="196391"/>
                  </a:cubicBezTo>
                  <a:lnTo>
                    <a:pt x="580497" y="8718"/>
                  </a:lnTo>
                  <a:close/>
                </a:path>
              </a:pathLst>
            </a:custGeom>
            <a:solidFill>
              <a:srgbClr val="2e75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文本框 5"/>
          <p:cNvSpPr/>
          <p:nvPr/>
        </p:nvSpPr>
        <p:spPr>
          <a:xfrm>
            <a:off x="2573280" y="3121200"/>
            <a:ext cx="9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75b6"/>
                </a:solidFill>
                <a:latin typeface="Calibri"/>
              </a:rPr>
              <a:t>6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17"/>
          <p:cNvSpPr/>
          <p:nvPr/>
        </p:nvSpPr>
        <p:spPr>
          <a:xfrm>
            <a:off x="5634000" y="3121200"/>
            <a:ext cx="9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75b6"/>
                </a:solidFill>
                <a:latin typeface="Calibri"/>
              </a:rPr>
              <a:t>75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19"/>
          <p:cNvSpPr/>
          <p:nvPr/>
        </p:nvSpPr>
        <p:spPr>
          <a:xfrm>
            <a:off x="8844120" y="3121200"/>
            <a:ext cx="9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75b6"/>
                </a:solidFill>
                <a:latin typeface="Calibri"/>
              </a:rPr>
              <a:t>35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1827360" y="43927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12"/>
          <p:cNvSpPr/>
          <p:nvPr/>
        </p:nvSpPr>
        <p:spPr>
          <a:xfrm>
            <a:off x="5110200" y="43927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12"/>
          <p:cNvSpPr/>
          <p:nvPr/>
        </p:nvSpPr>
        <p:spPr>
          <a:xfrm>
            <a:off x="8224920" y="439272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41"/>
          <p:cNvSpPr/>
          <p:nvPr/>
        </p:nvSpPr>
        <p:spPr>
          <a:xfrm>
            <a:off x="5425920" y="6351480"/>
            <a:ext cx="214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图表公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38"/>
          <p:cNvSpPr/>
          <p:nvPr/>
        </p:nvSpPr>
        <p:spPr>
          <a:xfrm>
            <a:off x="5262480" y="28954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75b6"/>
                </a:solidFill>
                <a:latin typeface="微软雅黑"/>
                <a:ea typeface="微软雅黑"/>
              </a:rPr>
              <a:t>谢谢观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接连接符 9"/>
          <p:cNvSpPr/>
          <p:nvPr/>
        </p:nvSpPr>
        <p:spPr>
          <a:xfrm>
            <a:off x="5262480" y="3476520"/>
            <a:ext cx="1676520" cy="0"/>
          </a:xfrm>
          <a:prstGeom prst="line">
            <a:avLst/>
          </a:prstGeom>
          <a:ln w="1908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等腰三角形 16"/>
          <p:cNvSpPr/>
          <p:nvPr/>
        </p:nvSpPr>
        <p:spPr>
          <a:xfrm>
            <a:off x="5891040" y="3527280"/>
            <a:ext cx="489240" cy="300240"/>
          </a:xfrm>
          <a:prstGeom prst="triangle">
            <a:avLst>
              <a:gd name="adj" fmla="val 50000"/>
            </a:avLst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41"/>
          <p:cNvSpPr/>
          <p:nvPr/>
        </p:nvSpPr>
        <p:spPr>
          <a:xfrm>
            <a:off x="5425920" y="6351480"/>
            <a:ext cx="214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图表公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2:18:33Z</dcterms:created>
  <dc:creator>D13001</dc:creator>
  <dc:description/>
  <dc:language>en-US</dc:language>
  <cp:lastModifiedBy>YANGS</cp:lastModifiedBy>
  <dcterms:modified xsi:type="dcterms:W3CDTF">2015-08-03T12:32:17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