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67A-B6BA-402A-8312-1486F80B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D7F-DB5E-40DA-80AA-DC8AEBF1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993-D42D-4F2C-9021-4B7CB154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1B7-BE4D-4583-ABD3-79F7FD7E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26A-A120-47CA-BD12-2538EA1D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4D7-C86C-4A78-A26D-D84FA87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4FB-394E-4132-8AE7-4E1F0AC6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FBC-056F-4A5D-9BAC-BA79D05B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F7B-554F-4BA7-882F-0036F0D0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FE8-85B0-4BF4-B657-C6FC6C48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DA6-7CBD-488B-8EA6-CF9C6BA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1A8-5842-4620-8838-5620850D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3D79-0A3E-40D4-811A-89B2C544C03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6DD4-36D1-407B-A5E6-21BEB27D695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3720" y="2133720"/>
            <a:ext cx="8280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玉米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CMS-C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育性恢复特异片段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鉴定分析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a5a5"/>
                </a:solidFill>
                <a:latin typeface="Cambria"/>
              </a:rPr>
              <a:t>答辩人：徐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a5a5"/>
                </a:solidFill>
                <a:latin typeface="Cambria"/>
              </a:rPr>
              <a:t>指导老师：曹墨菊（教授）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9760" y="765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农业题材开题报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0" y="282240"/>
            <a:ext cx="9144000" cy="6229800"/>
            <a:chOff x="0" y="282240"/>
            <a:chExt cx="9144000" cy="6229800"/>
          </a:xfrm>
        </p:grpSpPr>
        <p:grpSp>
          <p:nvGrpSpPr>
            <p:cNvPr id="286" name="组合 2"/>
            <p:cNvGrpSpPr/>
            <p:nvPr/>
          </p:nvGrpSpPr>
          <p:grpSpPr>
            <a:xfrm>
              <a:off x="0" y="282240"/>
              <a:ext cx="9144000" cy="6229800"/>
              <a:chOff x="0" y="282240"/>
              <a:chExt cx="9144000" cy="6229800"/>
            </a:xfrm>
          </p:grpSpPr>
          <p:grpSp>
            <p:nvGrpSpPr>
              <p:cNvPr id="287" name="组合 4"/>
              <p:cNvGrpSpPr/>
              <p:nvPr/>
            </p:nvGrpSpPr>
            <p:grpSpPr>
              <a:xfrm>
                <a:off x="0" y="644400"/>
                <a:ext cx="9144000" cy="5867640"/>
                <a:chOff x="0" y="644400"/>
                <a:chExt cx="9144000" cy="5867640"/>
              </a:xfrm>
            </p:grpSpPr>
            <p:sp>
              <p:nvSpPr>
                <p:cNvPr id="288" name="矩形 8"/>
                <p:cNvSpPr/>
                <p:nvPr/>
              </p:nvSpPr>
              <p:spPr>
                <a:xfrm>
                  <a:off x="0" y="644400"/>
                  <a:ext cx="9144000" cy="5867640"/>
                </a:xfrm>
                <a:prstGeom prst="rect">
                  <a:avLst/>
                </a:prstGeom>
                <a:solidFill>
                  <a:srgbClr val="99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TextBox 9"/>
                <p:cNvSpPr/>
                <p:nvPr/>
              </p:nvSpPr>
              <p:spPr>
                <a:xfrm>
                  <a:off x="329040" y="5319360"/>
                  <a:ext cx="8024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研究目的与意义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255"/>
              <p:cNvGrpSpPr/>
              <p:nvPr/>
            </p:nvGrpSpPr>
            <p:grpSpPr>
              <a:xfrm>
                <a:off x="1890720" y="282240"/>
                <a:ext cx="4900320" cy="4744800"/>
                <a:chOff x="1890720" y="282240"/>
                <a:chExt cx="4900320" cy="4744800"/>
              </a:xfrm>
            </p:grpSpPr>
            <p:sp>
              <p:nvSpPr>
                <p:cNvPr id="291" name="Freeform 256"/>
                <p:cNvSpPr/>
                <p:nvPr/>
              </p:nvSpPr>
              <p:spPr>
                <a:xfrm rot="18742200">
                  <a:off x="3235320" y="346320"/>
                  <a:ext cx="2211120" cy="4616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7"/>
                <p:cNvSpPr/>
                <p:nvPr/>
              </p:nvSpPr>
              <p:spPr>
                <a:xfrm rot="18742200">
                  <a:off x="3010680" y="1213560"/>
                  <a:ext cx="413280" cy="521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椭圆 3"/>
            <p:cNvSpPr/>
            <p:nvPr/>
          </p:nvSpPr>
          <p:spPr>
            <a:xfrm>
              <a:off x="3378600" y="1366560"/>
              <a:ext cx="697320" cy="898560"/>
            </a:xfrm>
            <a:prstGeom prst="ellipse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9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椭圆 10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椭圆 11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椭圆 12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椭圆 13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椭圆 14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研究目的和意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02" name="组合 2"/>
          <p:cNvGrpSpPr/>
          <p:nvPr/>
        </p:nvGrpSpPr>
        <p:grpSpPr>
          <a:xfrm>
            <a:off x="528480" y="1800360"/>
            <a:ext cx="8209080" cy="4527360"/>
            <a:chOff x="528480" y="1800360"/>
            <a:chExt cx="8209080" cy="4527360"/>
          </a:xfrm>
        </p:grpSpPr>
        <p:sp>
          <p:nvSpPr>
            <p:cNvPr id="303" name="矩形 3"/>
            <p:cNvSpPr/>
            <p:nvPr/>
          </p:nvSpPr>
          <p:spPr>
            <a:xfrm>
              <a:off x="528480" y="1800360"/>
              <a:ext cx="8209080" cy="45273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Box 4"/>
            <p:cNvSpPr/>
            <p:nvPr/>
          </p:nvSpPr>
          <p:spPr>
            <a:xfrm>
              <a:off x="827640" y="2021760"/>
              <a:ext cx="5633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矩形 6"/>
          <p:cNvSpPr/>
          <p:nvPr/>
        </p:nvSpPr>
        <p:spPr>
          <a:xfrm>
            <a:off x="4165560" y="5013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由此本课题组推测育性恢复的后代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F1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黄早四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×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自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330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）、（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48-2×18-599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白）、（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478×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自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330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）中核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核，核质互作产生的特异条带可能与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胞质的育性恢复相关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7"/>
          <p:cNvSpPr/>
          <p:nvPr/>
        </p:nvSpPr>
        <p:spPr>
          <a:xfrm>
            <a:off x="682560" y="20210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以前实验表明对同质异核材料进行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DNA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水平上的遗传差异分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流程图: 终止 8"/>
          <p:cNvSpPr/>
          <p:nvPr/>
        </p:nvSpPr>
        <p:spPr>
          <a:xfrm>
            <a:off x="3497400" y="3233880"/>
            <a:ext cx="4964040" cy="64908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流程图: 终止 9"/>
          <p:cNvSpPr/>
          <p:nvPr/>
        </p:nvSpPr>
        <p:spPr>
          <a:xfrm>
            <a:off x="3492360" y="4064040"/>
            <a:ext cx="5042160" cy="64764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10"/>
          <p:cNvSpPr/>
          <p:nvPr/>
        </p:nvSpPr>
        <p:spPr>
          <a:xfrm>
            <a:off x="1042920" y="32259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可育组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1015920" y="4203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不可育组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4856040" y="3241800"/>
            <a:ext cx="371520" cy="649080"/>
          </a:xfrm>
          <a:prstGeom prst="rect">
            <a:avLst/>
          </a:prstGeom>
          <a:solidFill>
            <a:srgbClr val="6c0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3"/>
          <p:cNvSpPr/>
          <p:nvPr/>
        </p:nvSpPr>
        <p:spPr>
          <a:xfrm>
            <a:off x="1063800" y="2521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亲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流程图: 终止 14"/>
          <p:cNvSpPr/>
          <p:nvPr/>
        </p:nvSpPr>
        <p:spPr>
          <a:xfrm>
            <a:off x="3497400" y="2448000"/>
            <a:ext cx="4964040" cy="64764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4670280" y="2455920"/>
            <a:ext cx="371520" cy="647640"/>
          </a:xfrm>
          <a:prstGeom prst="rect">
            <a:avLst/>
          </a:prstGeom>
          <a:solidFill>
            <a:srgbClr val="6c0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4714920" y="4065480"/>
            <a:ext cx="371520" cy="649440"/>
          </a:xfrm>
          <a:prstGeom prst="rect">
            <a:avLst/>
          </a:prstGeom>
          <a:solidFill>
            <a:srgbClr val="6c0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089760" y="3241800"/>
            <a:ext cx="571320" cy="649080"/>
          </a:xfrm>
          <a:prstGeom prst="rect">
            <a:avLst/>
          </a:prstGeom>
          <a:solidFill>
            <a:srgbClr val="6c0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直接连接符 9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椭圆 11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椭圆 12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椭圆 14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研究目的和意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5" name="组合 2"/>
          <p:cNvGrpSpPr/>
          <p:nvPr/>
        </p:nvGrpSpPr>
        <p:grpSpPr>
          <a:xfrm>
            <a:off x="528480" y="1800360"/>
            <a:ext cx="8209080" cy="4527360"/>
            <a:chOff x="528480" y="1800360"/>
            <a:chExt cx="8209080" cy="4527360"/>
          </a:xfrm>
        </p:grpSpPr>
        <p:sp>
          <p:nvSpPr>
            <p:cNvPr id="326" name="矩形 3"/>
            <p:cNvSpPr/>
            <p:nvPr/>
          </p:nvSpPr>
          <p:spPr>
            <a:xfrm>
              <a:off x="528480" y="1800360"/>
              <a:ext cx="8209080" cy="45273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Box 4"/>
            <p:cNvSpPr/>
            <p:nvPr/>
          </p:nvSpPr>
          <p:spPr>
            <a:xfrm>
              <a:off x="827640" y="2021760"/>
              <a:ext cx="5633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矩形 5"/>
          <p:cNvSpPr/>
          <p:nvPr/>
        </p:nvSpPr>
        <p:spPr>
          <a:xfrm>
            <a:off x="619200" y="1992240"/>
            <a:ext cx="94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本次实验目的在于对以上现象等进行重复性验证分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3995640" y="501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通过此次实验对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-C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的败育机理和不同的遗传背景的恢复机理的进一步了解和鉴定分析，所得出的结论也会为玉米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-C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在生产上的应用和推广提供参考依据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Users\双儿\Desktop\魏哥图片\1991572_164430008104_2.jpg"/>
          <p:cNvPicPr/>
          <p:nvPr/>
        </p:nvPicPr>
        <p:blipFill>
          <a:blip r:embed="rId1"/>
          <a:stretch/>
        </p:blipFill>
        <p:spPr>
          <a:xfrm>
            <a:off x="941400" y="2575080"/>
            <a:ext cx="3129120" cy="2346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双儿\Desktop\魏哥图片\3840426_203730085915_2.jpg"/>
          <p:cNvPicPr/>
          <p:nvPr/>
        </p:nvPicPr>
        <p:blipFill>
          <a:blip r:embed="rId2"/>
          <a:stretch/>
        </p:blipFill>
        <p:spPr>
          <a:xfrm>
            <a:off x="4765680" y="2593800"/>
            <a:ext cx="3102120" cy="2327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C:\Users\双儿\Desktop\魏哥图片\图片1.png"/>
          <p:cNvPicPr/>
          <p:nvPr/>
        </p:nvPicPr>
        <p:blipFill>
          <a:blip r:embed="rId3"/>
          <a:stretch/>
        </p:blipFill>
        <p:spPr>
          <a:xfrm>
            <a:off x="8089920" y="5923080"/>
            <a:ext cx="88596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1"/>
          <p:cNvGrpSpPr/>
          <p:nvPr/>
        </p:nvGrpSpPr>
        <p:grpSpPr>
          <a:xfrm>
            <a:off x="0" y="439560"/>
            <a:ext cx="9144000" cy="5978880"/>
            <a:chOff x="0" y="439560"/>
            <a:chExt cx="9144000" cy="5978880"/>
          </a:xfrm>
        </p:grpSpPr>
        <p:grpSp>
          <p:nvGrpSpPr>
            <p:cNvPr id="334" name="组合 2"/>
            <p:cNvGrpSpPr/>
            <p:nvPr/>
          </p:nvGrpSpPr>
          <p:grpSpPr>
            <a:xfrm>
              <a:off x="0" y="439560"/>
              <a:ext cx="9144000" cy="5978880"/>
              <a:chOff x="0" y="439560"/>
              <a:chExt cx="9144000" cy="5978880"/>
            </a:xfrm>
          </p:grpSpPr>
          <p:sp>
            <p:nvSpPr>
              <p:cNvPr id="335" name="矩形 5"/>
              <p:cNvSpPr/>
              <p:nvPr/>
            </p:nvSpPr>
            <p:spPr>
              <a:xfrm>
                <a:off x="0" y="439560"/>
                <a:ext cx="9144000" cy="597888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Box 6"/>
              <p:cNvSpPr/>
              <p:nvPr/>
            </p:nvSpPr>
            <p:spPr>
              <a:xfrm>
                <a:off x="501840" y="4906440"/>
                <a:ext cx="78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材料与方法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Freeform 129"/>
            <p:cNvSpPr/>
            <p:nvPr/>
          </p:nvSpPr>
          <p:spPr>
            <a:xfrm>
              <a:off x="2990520" y="1518120"/>
              <a:ext cx="2898360" cy="284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30"/>
            <p:cNvSpPr/>
            <p:nvPr/>
          </p:nvSpPr>
          <p:spPr>
            <a:xfrm>
              <a:off x="2990520" y="1639080"/>
              <a:ext cx="2649600" cy="2728080"/>
            </a:xfrm>
            <a:prstGeom prst="pi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9640" y="765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材料与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8" name="组合 7"/>
          <p:cNvGrpSpPr/>
          <p:nvPr/>
        </p:nvGrpSpPr>
        <p:grpSpPr>
          <a:xfrm>
            <a:off x="528480" y="1800360"/>
            <a:ext cx="8209080" cy="4527360"/>
            <a:chOff x="528480" y="1800360"/>
            <a:chExt cx="8209080" cy="4527360"/>
          </a:xfrm>
        </p:grpSpPr>
        <p:sp>
          <p:nvSpPr>
            <p:cNvPr id="349" name="矩形 8"/>
            <p:cNvSpPr/>
            <p:nvPr/>
          </p:nvSpPr>
          <p:spPr>
            <a:xfrm>
              <a:off x="528480" y="1800360"/>
              <a:ext cx="8209080" cy="45273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>
              <a:off x="827640" y="2021760"/>
              <a:ext cx="5633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矩形 2"/>
          <p:cNvSpPr/>
          <p:nvPr/>
        </p:nvSpPr>
        <p:spPr>
          <a:xfrm>
            <a:off x="3924360" y="5229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不育系：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黄早四、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48-2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478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；测验系：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18-599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白、自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330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A619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、凤可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、广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10-2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；以及不育系与测验系的杂交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F1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代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1116000" y="20210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mbria"/>
                <a:ea typeface="黑体"/>
              </a:rPr>
              <a:t>材料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2" descr="C:\Users\双儿\Desktop\魏哥图片\2008111719441980_2.jpg"/>
          <p:cNvPicPr/>
          <p:nvPr/>
        </p:nvPicPr>
        <p:blipFill>
          <a:blip r:embed="rId1"/>
          <a:stretch/>
        </p:blipFill>
        <p:spPr>
          <a:xfrm>
            <a:off x="2771640" y="2320920"/>
            <a:ext cx="388944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材料与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62" name="组合 7"/>
          <p:cNvGrpSpPr/>
          <p:nvPr/>
        </p:nvGrpSpPr>
        <p:grpSpPr>
          <a:xfrm>
            <a:off x="528480" y="1800360"/>
            <a:ext cx="8209080" cy="4527360"/>
            <a:chOff x="528480" y="1800360"/>
            <a:chExt cx="8209080" cy="4527360"/>
          </a:xfrm>
        </p:grpSpPr>
        <p:sp>
          <p:nvSpPr>
            <p:cNvPr id="363" name="矩形 8"/>
            <p:cNvSpPr/>
            <p:nvPr/>
          </p:nvSpPr>
          <p:spPr>
            <a:xfrm>
              <a:off x="528480" y="1800360"/>
              <a:ext cx="8209080" cy="45273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Box 9"/>
            <p:cNvSpPr/>
            <p:nvPr/>
          </p:nvSpPr>
          <p:spPr>
            <a:xfrm>
              <a:off x="827640" y="2021760"/>
              <a:ext cx="5633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矩形 3"/>
          <p:cNvSpPr/>
          <p:nvPr/>
        </p:nvSpPr>
        <p:spPr>
          <a:xfrm>
            <a:off x="1266840" y="291132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将上述材料播种于四川农业大学温江实验基地。分两期播种，中间间隔两周，每种材料每期播种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行，行距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80cm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，一行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穴，一穴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株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同时在实验室进行发苗处理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1116000" y="2021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mbria"/>
                <a:ea typeface="黑体"/>
              </a:rPr>
              <a:t>材料的种植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" descr="C:\Users\双儿\Desktop\魏哥图片\p1010115.jpg"/>
          <p:cNvPicPr/>
          <p:nvPr/>
        </p:nvPicPr>
        <p:blipFill>
          <a:blip r:embed="rId1"/>
          <a:stretch/>
        </p:blipFill>
        <p:spPr>
          <a:xfrm>
            <a:off x="3645000" y="2417760"/>
            <a:ext cx="479880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材料与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528480" y="1800360"/>
            <a:ext cx="8209080" cy="4527360"/>
            <a:chOff x="528480" y="1800360"/>
            <a:chExt cx="8209080" cy="4527360"/>
          </a:xfrm>
        </p:grpSpPr>
        <p:sp>
          <p:nvSpPr>
            <p:cNvPr id="377" name="矩形 3"/>
            <p:cNvSpPr/>
            <p:nvPr/>
          </p:nvSpPr>
          <p:spPr>
            <a:xfrm>
              <a:off x="528480" y="1800360"/>
              <a:ext cx="8209080" cy="45273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Box 4"/>
            <p:cNvSpPr/>
            <p:nvPr/>
          </p:nvSpPr>
          <p:spPr>
            <a:xfrm>
              <a:off x="827640" y="2021760"/>
              <a:ext cx="5633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矩形 8"/>
          <p:cNvSpPr/>
          <p:nvPr/>
        </p:nvSpPr>
        <p:spPr>
          <a:xfrm>
            <a:off x="2286000" y="2482920"/>
            <a:ext cx="603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Cambria"/>
                <a:ea typeface="黑体"/>
              </a:rPr>
              <a:t>育性鉴定</a:t>
            </a:r>
            <a:r>
              <a:rPr b="0" lang="en-US" sz="1800" spc="-1" strike="noStrike">
                <a:solidFill>
                  <a:srgbClr val="ffc000"/>
                </a:solidFill>
                <a:latin typeface="Cambria"/>
                <a:ea typeface="Cambria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分为田间育性鉴定和室内镜检，花粉粒可染率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=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可染花粉数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÷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总花粉数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×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mbria"/>
                <a:ea typeface="Cambria"/>
              </a:rPr>
              <a:t>DNA</a:t>
            </a:r>
            <a:r>
              <a:rPr b="1" lang="zh-CN" sz="1800" spc="-1" strike="noStrike">
                <a:solidFill>
                  <a:srgbClr val="ffc000"/>
                </a:solidFill>
                <a:latin typeface="Cambria"/>
                <a:ea typeface="黑体"/>
              </a:rPr>
              <a:t>的提取和检测</a:t>
            </a:r>
            <a:r>
              <a:rPr b="0" lang="en-US" sz="1800" spc="-1" strike="noStrike">
                <a:solidFill>
                  <a:srgbClr val="ffc000"/>
                </a:solidFill>
                <a:latin typeface="Cambria"/>
                <a:ea typeface="Cambria"/>
              </a:rPr>
              <a:t>: 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采用植株的鲜嫩叶片，参照四川农大玉米研究所改良的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2×CTAB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（十六烷基三甲基溴化铵）法提取基因组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mbria"/>
                <a:ea typeface="Cambria"/>
              </a:rPr>
              <a:t>SSR</a:t>
            </a:r>
            <a:r>
              <a:rPr b="1" lang="zh-CN" sz="1800" spc="-1" strike="noStrike">
                <a:solidFill>
                  <a:srgbClr val="ffc000"/>
                </a:solidFill>
                <a:latin typeface="Cambria"/>
                <a:ea typeface="黑体"/>
              </a:rPr>
              <a:t>扩增</a:t>
            </a:r>
            <a:r>
              <a:rPr b="0" lang="en-US" sz="1800" spc="-1" strike="noStrike">
                <a:solidFill>
                  <a:srgbClr val="ffc000"/>
                </a:solidFill>
                <a:latin typeface="Cambria"/>
                <a:ea typeface="Cambria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实验选用分布于玉米染色体上的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SSR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引物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s106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AC204515.3-10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，对不育系、测验系以及不育系测交后代进行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SSR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分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mbria"/>
                <a:ea typeface="Cambria"/>
              </a:rPr>
              <a:t>SSR</a:t>
            </a:r>
            <a:r>
              <a:rPr b="1" lang="zh-CN" sz="1800" spc="-1" strike="noStrike">
                <a:solidFill>
                  <a:srgbClr val="ffc000"/>
                </a:solidFill>
                <a:latin typeface="Cambria"/>
                <a:ea typeface="黑体"/>
              </a:rPr>
              <a:t>扩增产物—特异条带的回收</a:t>
            </a:r>
            <a:r>
              <a:rPr b="0" lang="en-US" sz="1800" spc="-1" strike="noStrike">
                <a:solidFill>
                  <a:srgbClr val="ffc000"/>
                </a:solidFill>
                <a:latin typeface="Cambria"/>
                <a:ea typeface="Cambri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SSR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扩增产物的回收，按产物的回收试剂盒说明进行回收，试剂盒使用前向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15ml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漂洗液中加入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60ml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无水乙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Cambria"/>
                <a:ea typeface="黑体"/>
              </a:rPr>
              <a:t>连接、转化、重组子筛选及测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矩形 9"/>
          <p:cNvSpPr/>
          <p:nvPr/>
        </p:nvSpPr>
        <p:spPr>
          <a:xfrm>
            <a:off x="1099440" y="2021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mbria"/>
                <a:ea typeface="黑体"/>
              </a:rPr>
              <a:t>步骤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3" descr="C:\Users\双儿\Desktop\魏哥图片\图片1.png"/>
          <p:cNvPicPr/>
          <p:nvPr/>
        </p:nvPicPr>
        <p:blipFill>
          <a:blip r:embed="rId1"/>
          <a:stretch/>
        </p:blipFill>
        <p:spPr>
          <a:xfrm>
            <a:off x="8089920" y="5923080"/>
            <a:ext cx="88596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组合 1"/>
          <p:cNvGrpSpPr/>
          <p:nvPr/>
        </p:nvGrpSpPr>
        <p:grpSpPr>
          <a:xfrm>
            <a:off x="2465280" y="-47520"/>
            <a:ext cx="4213440" cy="6858000"/>
            <a:chOff x="2465280" y="-47520"/>
            <a:chExt cx="4213440" cy="6858000"/>
          </a:xfrm>
        </p:grpSpPr>
        <p:grpSp>
          <p:nvGrpSpPr>
            <p:cNvPr id="383" name="组合 2"/>
            <p:cNvGrpSpPr/>
            <p:nvPr/>
          </p:nvGrpSpPr>
          <p:grpSpPr>
            <a:xfrm>
              <a:off x="2465280" y="-47520"/>
              <a:ext cx="4213440" cy="6858000"/>
              <a:chOff x="2465280" y="-47520"/>
              <a:chExt cx="4213440" cy="6858000"/>
            </a:xfrm>
          </p:grpSpPr>
          <p:sp>
            <p:nvSpPr>
              <p:cNvPr id="384" name="矩形 4"/>
              <p:cNvSpPr/>
              <p:nvPr/>
            </p:nvSpPr>
            <p:spPr>
              <a:xfrm>
                <a:off x="2465280" y="-47520"/>
                <a:ext cx="3786480" cy="685800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TextBox 5"/>
              <p:cNvSpPr/>
              <p:nvPr/>
            </p:nvSpPr>
            <p:spPr>
              <a:xfrm>
                <a:off x="2465280" y="5193360"/>
                <a:ext cx="42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预期效果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6" name="Freeform 341"/>
            <p:cNvSpPr/>
            <p:nvPr/>
          </p:nvSpPr>
          <p:spPr>
            <a:xfrm>
              <a:off x="3775320" y="1864080"/>
              <a:ext cx="1251360" cy="20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预期效果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95" name="组合 3"/>
          <p:cNvGrpSpPr/>
          <p:nvPr/>
        </p:nvGrpSpPr>
        <p:grpSpPr>
          <a:xfrm>
            <a:off x="528480" y="1800360"/>
            <a:ext cx="8209080" cy="4527360"/>
            <a:chOff x="528480" y="1800360"/>
            <a:chExt cx="8209080" cy="4527360"/>
          </a:xfrm>
        </p:grpSpPr>
        <p:sp>
          <p:nvSpPr>
            <p:cNvPr id="396" name="矩形 4"/>
            <p:cNvSpPr/>
            <p:nvPr/>
          </p:nvSpPr>
          <p:spPr>
            <a:xfrm>
              <a:off x="528480" y="1800360"/>
              <a:ext cx="8209080" cy="45273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Box 5"/>
            <p:cNvSpPr/>
            <p:nvPr/>
          </p:nvSpPr>
          <p:spPr>
            <a:xfrm>
              <a:off x="827640" y="2021760"/>
              <a:ext cx="5633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矩形 1"/>
          <p:cNvSpPr/>
          <p:nvPr/>
        </p:nvSpPr>
        <p:spPr>
          <a:xfrm>
            <a:off x="4632480" y="2482920"/>
            <a:ext cx="39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 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用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SSR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分子标记的扩增发现同质异核材料之间的差异，并对该差异片段进行生物学分析证明它与育性恢复有关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若不同材料之间的可育组合均出现了略大于亲本的特异条带，则实验将进一步对该特异条带进行回收，测序，并对其进行同源性比对，预测基因的可能功能，并进一步证明该特异条带与玉米的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-C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败育机理和育性恢复机理有关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2" descr="C:\Users\双儿\Desktop\魏哥图片\2008102875141646_2.jpg"/>
          <p:cNvPicPr/>
          <p:nvPr/>
        </p:nvPicPr>
        <p:blipFill>
          <a:blip r:embed="rId1"/>
          <a:stretch/>
        </p:blipFill>
        <p:spPr>
          <a:xfrm>
            <a:off x="712800" y="2833560"/>
            <a:ext cx="3652920" cy="2436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双儿\Desktop\魏哥图片\图片1.png"/>
          <p:cNvPicPr/>
          <p:nvPr/>
        </p:nvPicPr>
        <p:blipFill>
          <a:blip r:embed="rId2"/>
          <a:stretch/>
        </p:blipFill>
        <p:spPr>
          <a:xfrm>
            <a:off x="8089920" y="5923080"/>
            <a:ext cx="885960" cy="811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1"/>
          <p:cNvGrpSpPr/>
          <p:nvPr/>
        </p:nvGrpSpPr>
        <p:grpSpPr>
          <a:xfrm>
            <a:off x="2087640" y="-98280"/>
            <a:ext cx="4968720" cy="6956280"/>
            <a:chOff x="2087640" y="-98280"/>
            <a:chExt cx="4968720" cy="6956280"/>
          </a:xfrm>
        </p:grpSpPr>
        <p:sp>
          <p:nvSpPr>
            <p:cNvPr id="402" name="矩形 2"/>
            <p:cNvSpPr/>
            <p:nvPr/>
          </p:nvSpPr>
          <p:spPr>
            <a:xfrm>
              <a:off x="2087640" y="-98280"/>
              <a:ext cx="4166280" cy="6956280"/>
            </a:xfrm>
            <a:prstGeom prst="rect">
              <a:avLst/>
            </a:prstGeom>
            <a:solidFill>
              <a:srgbClr val="0f2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Box 3"/>
            <p:cNvSpPr/>
            <p:nvPr/>
          </p:nvSpPr>
          <p:spPr>
            <a:xfrm>
              <a:off x="2420280" y="5099040"/>
              <a:ext cx="463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时间安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4" name="Group 311"/>
            <p:cNvGrpSpPr/>
            <p:nvPr/>
          </p:nvGrpSpPr>
          <p:grpSpPr>
            <a:xfrm>
              <a:off x="3261960" y="1895400"/>
              <a:ext cx="1717200" cy="2291040"/>
              <a:chOff x="3261960" y="1895400"/>
              <a:chExt cx="1717200" cy="2291040"/>
            </a:xfrm>
          </p:grpSpPr>
          <p:sp>
            <p:nvSpPr>
              <p:cNvPr id="405" name="Freeform 312"/>
              <p:cNvSpPr/>
              <p:nvPr/>
            </p:nvSpPr>
            <p:spPr>
              <a:xfrm rot="657000">
                <a:off x="3759480" y="2229840"/>
                <a:ext cx="717120" cy="162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313"/>
              <p:cNvSpPr/>
              <p:nvPr/>
            </p:nvSpPr>
            <p:spPr>
              <a:xfrm rot="657000">
                <a:off x="3446640" y="2004480"/>
                <a:ext cx="1347840" cy="207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314"/>
              <p:cNvSpPr/>
              <p:nvPr/>
            </p:nvSpPr>
            <p:spPr>
              <a:xfrm flipH="1" rot="656400">
                <a:off x="3713760" y="3274560"/>
                <a:ext cx="625680" cy="53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2"/>
          <p:cNvGrpSpPr/>
          <p:nvPr/>
        </p:nvGrpSpPr>
        <p:grpSpPr>
          <a:xfrm>
            <a:off x="1236600" y="712800"/>
            <a:ext cx="3511440" cy="5423040"/>
            <a:chOff x="1236600" y="712800"/>
            <a:chExt cx="3511440" cy="5423040"/>
          </a:xfrm>
        </p:grpSpPr>
        <p:grpSp>
          <p:nvGrpSpPr>
            <p:cNvPr id="46" name="组合 10"/>
            <p:cNvGrpSpPr/>
            <p:nvPr/>
          </p:nvGrpSpPr>
          <p:grpSpPr>
            <a:xfrm>
              <a:off x="1259280" y="712800"/>
              <a:ext cx="3085200" cy="2653920"/>
              <a:chOff x="1259280" y="712800"/>
              <a:chExt cx="3085200" cy="2653920"/>
            </a:xfrm>
          </p:grpSpPr>
          <p:grpSp>
            <p:nvGrpSpPr>
              <p:cNvPr id="47" name="组合 5"/>
              <p:cNvGrpSpPr/>
              <p:nvPr/>
            </p:nvGrpSpPr>
            <p:grpSpPr>
              <a:xfrm>
                <a:off x="1259280" y="712800"/>
                <a:ext cx="3085200" cy="2653920"/>
                <a:chOff x="1259280" y="712800"/>
                <a:chExt cx="3085200" cy="2653920"/>
              </a:xfrm>
            </p:grpSpPr>
            <p:sp>
              <p:nvSpPr>
                <p:cNvPr id="48" name="矩形 3"/>
                <p:cNvSpPr/>
                <p:nvPr/>
              </p:nvSpPr>
              <p:spPr>
                <a:xfrm>
                  <a:off x="1259280" y="712800"/>
                  <a:ext cx="3085200" cy="2653920"/>
                </a:xfrm>
                <a:prstGeom prst="rect">
                  <a:avLst/>
                </a:prstGeom>
                <a:solidFill>
                  <a:srgbClr val="703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TextBox 4"/>
                <p:cNvSpPr/>
                <p:nvPr/>
              </p:nvSpPr>
              <p:spPr>
                <a:xfrm>
                  <a:off x="1428840" y="2763000"/>
                  <a:ext cx="2657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前言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108"/>
              <p:cNvGrpSpPr/>
              <p:nvPr/>
            </p:nvGrpSpPr>
            <p:grpSpPr>
              <a:xfrm>
                <a:off x="2325600" y="1039320"/>
                <a:ext cx="716760" cy="1428120"/>
                <a:chOff x="2325600" y="1039320"/>
                <a:chExt cx="716760" cy="1428120"/>
              </a:xfrm>
            </p:grpSpPr>
            <p:sp>
              <p:nvSpPr>
                <p:cNvPr id="51" name="Freeform 109"/>
                <p:cNvSpPr/>
                <p:nvPr/>
              </p:nvSpPr>
              <p:spPr>
                <a:xfrm>
                  <a:off x="2325600" y="1039320"/>
                  <a:ext cx="716760" cy="1428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10"/>
                <p:cNvSpPr/>
                <p:nvPr/>
              </p:nvSpPr>
              <p:spPr>
                <a:xfrm>
                  <a:off x="2719800" y="1039320"/>
                  <a:ext cx="322200" cy="319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111"/>
                <p:cNvSpPr/>
                <p:nvPr/>
              </p:nvSpPr>
              <p:spPr>
                <a:xfrm>
                  <a:off x="2399760" y="1438920"/>
                  <a:ext cx="639000" cy="102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" name="组合 12"/>
            <p:cNvGrpSpPr/>
            <p:nvPr/>
          </p:nvGrpSpPr>
          <p:grpSpPr>
            <a:xfrm>
              <a:off x="1236600" y="3680280"/>
              <a:ext cx="3511440" cy="2455560"/>
              <a:chOff x="1236600" y="3680280"/>
              <a:chExt cx="3511440" cy="2455560"/>
            </a:xfrm>
          </p:grpSpPr>
          <p:grpSp>
            <p:nvGrpSpPr>
              <p:cNvPr id="55" name="组合 25"/>
              <p:cNvGrpSpPr/>
              <p:nvPr/>
            </p:nvGrpSpPr>
            <p:grpSpPr>
              <a:xfrm>
                <a:off x="1236600" y="3680280"/>
                <a:ext cx="3511440" cy="2455560"/>
                <a:chOff x="1236600" y="3680280"/>
                <a:chExt cx="3511440" cy="2455560"/>
              </a:xfrm>
            </p:grpSpPr>
            <p:sp>
              <p:nvSpPr>
                <p:cNvPr id="56" name="矩形 26"/>
                <p:cNvSpPr/>
                <p:nvPr/>
              </p:nvSpPr>
              <p:spPr>
                <a:xfrm>
                  <a:off x="1236600" y="3680280"/>
                  <a:ext cx="3511440" cy="2455560"/>
                </a:xfrm>
                <a:prstGeom prst="rect">
                  <a:avLst/>
                </a:prstGeom>
                <a:solidFill>
                  <a:srgbClr val="cc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TextBox 27"/>
                <p:cNvSpPr/>
                <p:nvPr/>
              </p:nvSpPr>
              <p:spPr>
                <a:xfrm>
                  <a:off x="1429200" y="5514840"/>
                  <a:ext cx="3024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材料与方法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Freeform 129"/>
              <p:cNvSpPr/>
              <p:nvPr/>
            </p:nvSpPr>
            <p:spPr>
              <a:xfrm>
                <a:off x="2385000" y="4123080"/>
                <a:ext cx="1113120" cy="11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30"/>
              <p:cNvSpPr/>
              <p:nvPr/>
            </p:nvSpPr>
            <p:spPr>
              <a:xfrm>
                <a:off x="2385000" y="4172760"/>
                <a:ext cx="1017360" cy="1120320"/>
              </a:xfrm>
              <a:prstGeom prst="pi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组合 18"/>
          <p:cNvGrpSpPr/>
          <p:nvPr/>
        </p:nvGrpSpPr>
        <p:grpSpPr>
          <a:xfrm>
            <a:off x="4594320" y="442800"/>
            <a:ext cx="5325840" cy="2922840"/>
            <a:chOff x="4594320" y="442800"/>
            <a:chExt cx="5325840" cy="2922840"/>
          </a:xfrm>
        </p:grpSpPr>
        <p:grpSp>
          <p:nvGrpSpPr>
            <p:cNvPr id="61" name="组合 11"/>
            <p:cNvGrpSpPr/>
            <p:nvPr/>
          </p:nvGrpSpPr>
          <p:grpSpPr>
            <a:xfrm>
              <a:off x="4594320" y="442800"/>
              <a:ext cx="5325840" cy="2922840"/>
              <a:chOff x="4594320" y="442800"/>
              <a:chExt cx="5325840" cy="2922840"/>
            </a:xfrm>
          </p:grpSpPr>
          <p:grpSp>
            <p:nvGrpSpPr>
              <p:cNvPr id="62" name="组合 6"/>
              <p:cNvGrpSpPr/>
              <p:nvPr/>
            </p:nvGrpSpPr>
            <p:grpSpPr>
              <a:xfrm>
                <a:off x="4594320" y="712800"/>
                <a:ext cx="5325840" cy="2652840"/>
                <a:chOff x="4594320" y="712800"/>
                <a:chExt cx="5325840" cy="2652840"/>
              </a:xfrm>
            </p:grpSpPr>
            <p:sp>
              <p:nvSpPr>
                <p:cNvPr id="63" name="矩形 7"/>
                <p:cNvSpPr/>
                <p:nvPr/>
              </p:nvSpPr>
              <p:spPr>
                <a:xfrm>
                  <a:off x="4594320" y="712800"/>
                  <a:ext cx="5325840" cy="2652840"/>
                </a:xfrm>
                <a:prstGeom prst="rect">
                  <a:avLst/>
                </a:prstGeom>
                <a:solidFill>
                  <a:srgbClr val="99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TextBox 9"/>
                <p:cNvSpPr/>
                <p:nvPr/>
              </p:nvSpPr>
              <p:spPr>
                <a:xfrm>
                  <a:off x="4785840" y="2826360"/>
                  <a:ext cx="4674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研究目的与意义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255"/>
              <p:cNvGrpSpPr/>
              <p:nvPr/>
            </p:nvGrpSpPr>
            <p:grpSpPr>
              <a:xfrm>
                <a:off x="5917680" y="442800"/>
                <a:ext cx="2409840" cy="2358000"/>
                <a:chOff x="5917680" y="442800"/>
                <a:chExt cx="2409840" cy="2358000"/>
              </a:xfrm>
            </p:grpSpPr>
            <p:sp>
              <p:nvSpPr>
                <p:cNvPr id="66" name="Freeform 256"/>
                <p:cNvSpPr/>
                <p:nvPr/>
              </p:nvSpPr>
              <p:spPr>
                <a:xfrm rot="18742200">
                  <a:off x="6478560" y="577800"/>
                  <a:ext cx="1287720" cy="2087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Oval 257"/>
                <p:cNvSpPr/>
                <p:nvPr/>
              </p:nvSpPr>
              <p:spPr>
                <a:xfrm rot="18742200">
                  <a:off x="6441120" y="997200"/>
                  <a:ext cx="240480" cy="23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椭圆 33"/>
            <p:cNvSpPr/>
            <p:nvPr/>
          </p:nvSpPr>
          <p:spPr>
            <a:xfrm>
              <a:off x="6562080" y="1039320"/>
              <a:ext cx="406080" cy="406080"/>
            </a:xfrm>
            <a:prstGeom prst="ellipse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"/>
          <p:cNvGrpSpPr/>
          <p:nvPr/>
        </p:nvGrpSpPr>
        <p:grpSpPr>
          <a:xfrm>
            <a:off x="6807240" y="3679920"/>
            <a:ext cx="2146320" cy="2455920"/>
            <a:chOff x="6807240" y="3679920"/>
            <a:chExt cx="2146320" cy="2455920"/>
          </a:xfrm>
        </p:grpSpPr>
        <p:sp>
          <p:nvSpPr>
            <p:cNvPr id="70" name="矩形 49"/>
            <p:cNvSpPr/>
            <p:nvPr/>
          </p:nvSpPr>
          <p:spPr>
            <a:xfrm>
              <a:off x="6807240" y="3679920"/>
              <a:ext cx="1799640" cy="2455920"/>
            </a:xfrm>
            <a:prstGeom prst="rect">
              <a:avLst/>
            </a:prstGeom>
            <a:solidFill>
              <a:srgbClr val="3f3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Box 50"/>
            <p:cNvSpPr/>
            <p:nvPr/>
          </p:nvSpPr>
          <p:spPr>
            <a:xfrm>
              <a:off x="6950880" y="5514840"/>
              <a:ext cx="200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时间安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311"/>
            <p:cNvGrpSpPr/>
            <p:nvPr/>
          </p:nvGrpSpPr>
          <p:grpSpPr>
            <a:xfrm>
              <a:off x="7330320" y="4373640"/>
              <a:ext cx="711000" cy="829080"/>
              <a:chOff x="7330320" y="4373640"/>
              <a:chExt cx="711000" cy="829080"/>
            </a:xfrm>
          </p:grpSpPr>
          <p:sp>
            <p:nvSpPr>
              <p:cNvPr id="73" name="Freeform 312"/>
              <p:cNvSpPr/>
              <p:nvPr/>
            </p:nvSpPr>
            <p:spPr>
              <a:xfrm rot="657000">
                <a:off x="7529400" y="4501440"/>
                <a:ext cx="309600" cy="57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313"/>
              <p:cNvSpPr/>
              <p:nvPr/>
            </p:nvSpPr>
            <p:spPr>
              <a:xfrm rot="657000">
                <a:off x="7394400" y="4422240"/>
                <a:ext cx="58248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314"/>
              <p:cNvSpPr/>
              <p:nvPr/>
            </p:nvSpPr>
            <p:spPr>
              <a:xfrm flipH="1" rot="656400">
                <a:off x="7516800" y="4870440"/>
                <a:ext cx="270360" cy="18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组合 19"/>
          <p:cNvGrpSpPr/>
          <p:nvPr/>
        </p:nvGrpSpPr>
        <p:grpSpPr>
          <a:xfrm>
            <a:off x="8820000" y="3679920"/>
            <a:ext cx="3511800" cy="2479680"/>
            <a:chOff x="8820000" y="3679920"/>
            <a:chExt cx="3511800" cy="2479680"/>
          </a:xfrm>
        </p:grpSpPr>
        <p:grpSp>
          <p:nvGrpSpPr>
            <p:cNvPr id="77" name="组合 8"/>
            <p:cNvGrpSpPr/>
            <p:nvPr/>
          </p:nvGrpSpPr>
          <p:grpSpPr>
            <a:xfrm>
              <a:off x="8820000" y="3679920"/>
              <a:ext cx="3511800" cy="2479680"/>
              <a:chOff x="8820000" y="3679920"/>
              <a:chExt cx="3511800" cy="2479680"/>
            </a:xfrm>
          </p:grpSpPr>
          <p:grpSp>
            <p:nvGrpSpPr>
              <p:cNvPr id="78" name="组合 41"/>
              <p:cNvGrpSpPr/>
              <p:nvPr/>
            </p:nvGrpSpPr>
            <p:grpSpPr>
              <a:xfrm>
                <a:off x="8820000" y="3679920"/>
                <a:ext cx="3511800" cy="2479680"/>
                <a:chOff x="8820000" y="3679920"/>
                <a:chExt cx="3511800" cy="2479680"/>
              </a:xfrm>
            </p:grpSpPr>
            <p:sp>
              <p:nvSpPr>
                <p:cNvPr id="79" name="矩形 44"/>
                <p:cNvSpPr/>
                <p:nvPr/>
              </p:nvSpPr>
              <p:spPr>
                <a:xfrm>
                  <a:off x="8820000" y="3679920"/>
                  <a:ext cx="3511800" cy="2479680"/>
                </a:xfrm>
                <a:prstGeom prst="rect">
                  <a:avLst/>
                </a:prstGeom>
                <a:solidFill>
                  <a:srgbClr val="00b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TextBox 45"/>
                <p:cNvSpPr/>
                <p:nvPr/>
              </p:nvSpPr>
              <p:spPr>
                <a:xfrm>
                  <a:off x="9012600" y="5532480"/>
                  <a:ext cx="3025080" cy="520560"/>
                </a:xfrm>
                <a:prstGeom prst="rect">
                  <a:avLst/>
                </a:prstGeom>
                <a:solidFill>
                  <a:srgbClr val="00b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结束语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130"/>
              <p:cNvSpPr/>
              <p:nvPr/>
            </p:nvSpPr>
            <p:spPr>
              <a:xfrm>
                <a:off x="9968400" y="4177440"/>
                <a:ext cx="1017360" cy="1131480"/>
              </a:xfrm>
              <a:prstGeom prst="pie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92"/>
            <p:cNvGrpSpPr/>
            <p:nvPr/>
          </p:nvGrpSpPr>
          <p:grpSpPr>
            <a:xfrm>
              <a:off x="9799920" y="4304520"/>
              <a:ext cx="1009440" cy="906840"/>
              <a:chOff x="9799920" y="4304520"/>
              <a:chExt cx="1009440" cy="906840"/>
            </a:xfrm>
          </p:grpSpPr>
          <p:sp>
            <p:nvSpPr>
              <p:cNvPr id="83" name="Freeform 282"/>
              <p:cNvSpPr/>
              <p:nvPr/>
            </p:nvSpPr>
            <p:spPr>
              <a:xfrm rot="21003600">
                <a:off x="9833760" y="4718520"/>
                <a:ext cx="582480" cy="446040"/>
              </a:xfrm>
              <a:prstGeom prst="pie">
                <a:avLst/>
              </a:prstGeom>
              <a:solidFill>
                <a:srgbClr val="00b05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283"/>
              <p:cNvSpPr/>
              <p:nvPr/>
            </p:nvSpPr>
            <p:spPr>
              <a:xfrm rot="21003600">
                <a:off x="10222560" y="4345560"/>
                <a:ext cx="533520" cy="662040"/>
              </a:xfrm>
              <a:prstGeom prst="pie">
                <a:avLst/>
              </a:prstGeom>
              <a:solidFill>
                <a:srgbClr val="00b05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组合 17"/>
          <p:cNvGrpSpPr/>
          <p:nvPr/>
        </p:nvGrpSpPr>
        <p:grpSpPr>
          <a:xfrm>
            <a:off x="4951440" y="3679920"/>
            <a:ext cx="1844640" cy="2460600"/>
            <a:chOff x="4951440" y="3679920"/>
            <a:chExt cx="1844640" cy="2460600"/>
          </a:xfrm>
        </p:grpSpPr>
        <p:grpSp>
          <p:nvGrpSpPr>
            <p:cNvPr id="86" name="组合 36"/>
            <p:cNvGrpSpPr/>
            <p:nvPr/>
          </p:nvGrpSpPr>
          <p:grpSpPr>
            <a:xfrm>
              <a:off x="4951440" y="3679920"/>
              <a:ext cx="1844640" cy="2460600"/>
              <a:chOff x="4951440" y="3679920"/>
              <a:chExt cx="1844640" cy="2460600"/>
            </a:xfrm>
          </p:grpSpPr>
          <p:sp>
            <p:nvSpPr>
              <p:cNvPr id="87" name="矩形 39"/>
              <p:cNvSpPr/>
              <p:nvPr/>
            </p:nvSpPr>
            <p:spPr>
              <a:xfrm>
                <a:off x="4951440" y="3679920"/>
                <a:ext cx="1657800" cy="2460600"/>
              </a:xfrm>
              <a:prstGeom prst="rect">
                <a:avLst/>
              </a:pr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TextBox 40"/>
              <p:cNvSpPr/>
              <p:nvPr/>
            </p:nvSpPr>
            <p:spPr>
              <a:xfrm>
                <a:off x="4951440" y="5560560"/>
                <a:ext cx="184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预期效果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Freeform 341"/>
            <p:cNvSpPr/>
            <p:nvPr/>
          </p:nvSpPr>
          <p:spPr>
            <a:xfrm>
              <a:off x="5524920" y="4365720"/>
              <a:ext cx="547920" cy="7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88889E-006 -1.85185E-006 L -0.04028 -1.85185E-006 E">
                                      <p:cBhvr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88889E-006 -1.85185E-006 L -0.04028 -1.85185E-006 E">
                                      <p:cBhvr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35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88889E-006 -1.85185E-006 L -0.04028 -1.85185E-006 E">
                                      <p:cBhvr>
                                        <p:cTn id="31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35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88889E-006 -1.85185E-006 L -0.04028 -1.85185E-006 E">
                                      <p:cBhvr>
                                        <p:cTn id="40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88889E-006 -1.85185E-006 L -0.04028 -1.85185E-006 E">
                                      <p:cBhvr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时间安排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矩形 22"/>
          <p:cNvSpPr/>
          <p:nvPr/>
        </p:nvSpPr>
        <p:spPr>
          <a:xfrm>
            <a:off x="2124000" y="1150920"/>
            <a:ext cx="6521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年四月完成开题报告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月进行田间育苗，同时进行室内发苗，育苗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5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月进行所有材料叶片总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DNA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的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SSR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分析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8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月对不育系和保持系以及不育系的测交后代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F1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组合的小孢子发育四分体和单核时期进行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SSR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分析等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10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月份进行结果比对分析，并开始着手整理资料和所得结果，进行毕业论文的撰写和完善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年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  <a:ea typeface="黑体"/>
              </a:rPr>
              <a:t>月份将论文上交指导老师，并做进一步完善，准备论文答辩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  <a:ea typeface="Cambri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组合 246"/>
          <p:cNvGrpSpPr/>
          <p:nvPr/>
        </p:nvGrpSpPr>
        <p:grpSpPr>
          <a:xfrm>
            <a:off x="760320" y="1365120"/>
            <a:ext cx="1042920" cy="480600"/>
            <a:chOff x="760320" y="1365120"/>
            <a:chExt cx="1042920" cy="480600"/>
          </a:xfrm>
        </p:grpSpPr>
        <p:grpSp>
          <p:nvGrpSpPr>
            <p:cNvPr id="418" name="Group 251"/>
            <p:cNvGrpSpPr/>
            <p:nvPr/>
          </p:nvGrpSpPr>
          <p:grpSpPr>
            <a:xfrm>
              <a:off x="760320" y="1365120"/>
              <a:ext cx="364680" cy="430920"/>
              <a:chOff x="760320" y="1365120"/>
              <a:chExt cx="364680" cy="430920"/>
            </a:xfrm>
          </p:grpSpPr>
          <p:sp>
            <p:nvSpPr>
              <p:cNvPr id="419" name="Freeform 252"/>
              <p:cNvSpPr/>
              <p:nvPr/>
            </p:nvSpPr>
            <p:spPr>
              <a:xfrm>
                <a:off x="919800" y="1508400"/>
                <a:ext cx="1080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253"/>
              <p:cNvSpPr/>
              <p:nvPr/>
            </p:nvSpPr>
            <p:spPr>
              <a:xfrm>
                <a:off x="855360" y="1520640"/>
                <a:ext cx="2304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254"/>
              <p:cNvSpPr/>
              <p:nvPr/>
            </p:nvSpPr>
            <p:spPr>
              <a:xfrm>
                <a:off x="808560" y="156420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255"/>
              <p:cNvSpPr/>
              <p:nvPr/>
            </p:nvSpPr>
            <p:spPr>
              <a:xfrm>
                <a:off x="790920" y="1627920"/>
                <a:ext cx="273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256"/>
              <p:cNvSpPr/>
              <p:nvPr/>
            </p:nvSpPr>
            <p:spPr>
              <a:xfrm>
                <a:off x="803520" y="1680480"/>
                <a:ext cx="2880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257"/>
              <p:cNvSpPr/>
              <p:nvPr/>
            </p:nvSpPr>
            <p:spPr>
              <a:xfrm>
                <a:off x="906120" y="1623600"/>
                <a:ext cx="2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258"/>
              <p:cNvSpPr/>
              <p:nvPr/>
            </p:nvSpPr>
            <p:spPr>
              <a:xfrm>
                <a:off x="983160" y="1443960"/>
                <a:ext cx="79920" cy="7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259"/>
              <p:cNvSpPr/>
              <p:nvPr/>
            </p:nvSpPr>
            <p:spPr>
              <a:xfrm>
                <a:off x="875520" y="1540800"/>
                <a:ext cx="51840" cy="10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260"/>
              <p:cNvSpPr/>
              <p:nvPr/>
            </p:nvSpPr>
            <p:spPr>
              <a:xfrm>
                <a:off x="846720" y="1721880"/>
                <a:ext cx="234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261"/>
              <p:cNvSpPr/>
              <p:nvPr/>
            </p:nvSpPr>
            <p:spPr>
              <a:xfrm>
                <a:off x="910080" y="1740240"/>
                <a:ext cx="1080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262"/>
              <p:cNvSpPr/>
              <p:nvPr/>
            </p:nvSpPr>
            <p:spPr>
              <a:xfrm>
                <a:off x="962640" y="1726200"/>
                <a:ext cx="23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63"/>
              <p:cNvSpPr/>
              <p:nvPr/>
            </p:nvSpPr>
            <p:spPr>
              <a:xfrm>
                <a:off x="1003680" y="168876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64"/>
              <p:cNvSpPr/>
              <p:nvPr/>
            </p:nvSpPr>
            <p:spPr>
              <a:xfrm>
                <a:off x="1022400" y="1637280"/>
                <a:ext cx="273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65"/>
              <p:cNvSpPr/>
              <p:nvPr/>
            </p:nvSpPr>
            <p:spPr>
              <a:xfrm>
                <a:off x="1008360" y="1572840"/>
                <a:ext cx="29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266"/>
              <p:cNvSpPr/>
              <p:nvPr/>
            </p:nvSpPr>
            <p:spPr>
              <a:xfrm>
                <a:off x="970920" y="1525320"/>
                <a:ext cx="2340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267"/>
              <p:cNvSpPr/>
              <p:nvPr/>
            </p:nvSpPr>
            <p:spPr>
              <a:xfrm>
                <a:off x="916560" y="1603800"/>
                <a:ext cx="939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268"/>
              <p:cNvSpPr/>
              <p:nvPr/>
            </p:nvSpPr>
            <p:spPr>
              <a:xfrm>
                <a:off x="1002240" y="1420200"/>
                <a:ext cx="8136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269"/>
              <p:cNvSpPr/>
              <p:nvPr/>
            </p:nvSpPr>
            <p:spPr>
              <a:xfrm>
                <a:off x="760320" y="1477440"/>
                <a:ext cx="317880" cy="3186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270"/>
              <p:cNvSpPr/>
              <p:nvPr/>
            </p:nvSpPr>
            <p:spPr>
              <a:xfrm>
                <a:off x="984960" y="1365120"/>
                <a:ext cx="140040" cy="1404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TextBox 243"/>
            <p:cNvSpPr/>
            <p:nvPr/>
          </p:nvSpPr>
          <p:spPr>
            <a:xfrm>
              <a:off x="1083960" y="14774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组合 245"/>
          <p:cNvGrpSpPr/>
          <p:nvPr/>
        </p:nvGrpSpPr>
        <p:grpSpPr>
          <a:xfrm>
            <a:off x="760320" y="2612880"/>
            <a:ext cx="1042920" cy="466920"/>
            <a:chOff x="760320" y="2612880"/>
            <a:chExt cx="1042920" cy="466920"/>
          </a:xfrm>
        </p:grpSpPr>
        <p:grpSp>
          <p:nvGrpSpPr>
            <p:cNvPr id="440" name="Group 251"/>
            <p:cNvGrpSpPr/>
            <p:nvPr/>
          </p:nvGrpSpPr>
          <p:grpSpPr>
            <a:xfrm>
              <a:off x="760320" y="2612880"/>
              <a:ext cx="364680" cy="431280"/>
              <a:chOff x="760320" y="2612880"/>
              <a:chExt cx="364680" cy="431280"/>
            </a:xfrm>
          </p:grpSpPr>
          <p:sp>
            <p:nvSpPr>
              <p:cNvPr id="441" name="Freeform 252"/>
              <p:cNvSpPr/>
              <p:nvPr/>
            </p:nvSpPr>
            <p:spPr>
              <a:xfrm>
                <a:off x="919800" y="2756160"/>
                <a:ext cx="1080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253"/>
              <p:cNvSpPr/>
              <p:nvPr/>
            </p:nvSpPr>
            <p:spPr>
              <a:xfrm>
                <a:off x="855360" y="2768760"/>
                <a:ext cx="2304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254"/>
              <p:cNvSpPr/>
              <p:nvPr/>
            </p:nvSpPr>
            <p:spPr>
              <a:xfrm>
                <a:off x="808560" y="281196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255"/>
              <p:cNvSpPr/>
              <p:nvPr/>
            </p:nvSpPr>
            <p:spPr>
              <a:xfrm>
                <a:off x="790920" y="2876040"/>
                <a:ext cx="2736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256"/>
              <p:cNvSpPr/>
              <p:nvPr/>
            </p:nvSpPr>
            <p:spPr>
              <a:xfrm>
                <a:off x="803520" y="2928600"/>
                <a:ext cx="2880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257"/>
              <p:cNvSpPr/>
              <p:nvPr/>
            </p:nvSpPr>
            <p:spPr>
              <a:xfrm>
                <a:off x="906120" y="2871720"/>
                <a:ext cx="2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58"/>
              <p:cNvSpPr/>
              <p:nvPr/>
            </p:nvSpPr>
            <p:spPr>
              <a:xfrm>
                <a:off x="983160" y="2691720"/>
                <a:ext cx="79920" cy="7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59"/>
              <p:cNvSpPr/>
              <p:nvPr/>
            </p:nvSpPr>
            <p:spPr>
              <a:xfrm>
                <a:off x="875520" y="2788560"/>
                <a:ext cx="51840" cy="10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60"/>
              <p:cNvSpPr/>
              <p:nvPr/>
            </p:nvSpPr>
            <p:spPr>
              <a:xfrm>
                <a:off x="846720" y="2970000"/>
                <a:ext cx="234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61"/>
              <p:cNvSpPr/>
              <p:nvPr/>
            </p:nvSpPr>
            <p:spPr>
              <a:xfrm>
                <a:off x="910080" y="2988360"/>
                <a:ext cx="1080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262"/>
              <p:cNvSpPr/>
              <p:nvPr/>
            </p:nvSpPr>
            <p:spPr>
              <a:xfrm>
                <a:off x="962640" y="2974320"/>
                <a:ext cx="23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263"/>
              <p:cNvSpPr/>
              <p:nvPr/>
            </p:nvSpPr>
            <p:spPr>
              <a:xfrm>
                <a:off x="1003680" y="293688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264"/>
              <p:cNvSpPr/>
              <p:nvPr/>
            </p:nvSpPr>
            <p:spPr>
              <a:xfrm>
                <a:off x="1022400" y="2885400"/>
                <a:ext cx="2736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265"/>
              <p:cNvSpPr/>
              <p:nvPr/>
            </p:nvSpPr>
            <p:spPr>
              <a:xfrm>
                <a:off x="1008360" y="2820960"/>
                <a:ext cx="29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66"/>
              <p:cNvSpPr/>
              <p:nvPr/>
            </p:nvSpPr>
            <p:spPr>
              <a:xfrm>
                <a:off x="970920" y="2773080"/>
                <a:ext cx="2340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267"/>
              <p:cNvSpPr/>
              <p:nvPr/>
            </p:nvSpPr>
            <p:spPr>
              <a:xfrm>
                <a:off x="916560" y="2851920"/>
                <a:ext cx="939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268"/>
              <p:cNvSpPr/>
              <p:nvPr/>
            </p:nvSpPr>
            <p:spPr>
              <a:xfrm>
                <a:off x="1002240" y="2668320"/>
                <a:ext cx="8136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269"/>
              <p:cNvSpPr/>
              <p:nvPr/>
            </p:nvSpPr>
            <p:spPr>
              <a:xfrm>
                <a:off x="760320" y="2725200"/>
                <a:ext cx="317880" cy="3189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270"/>
              <p:cNvSpPr/>
              <p:nvPr/>
            </p:nvSpPr>
            <p:spPr>
              <a:xfrm>
                <a:off x="984960" y="2612880"/>
                <a:ext cx="140040" cy="1404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TextBox 244"/>
            <p:cNvSpPr/>
            <p:nvPr/>
          </p:nvSpPr>
          <p:spPr>
            <a:xfrm>
              <a:off x="1083960" y="27115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组合 247"/>
          <p:cNvGrpSpPr/>
          <p:nvPr/>
        </p:nvGrpSpPr>
        <p:grpSpPr>
          <a:xfrm>
            <a:off x="760320" y="1981080"/>
            <a:ext cx="1042920" cy="466920"/>
            <a:chOff x="760320" y="1981080"/>
            <a:chExt cx="1042920" cy="466920"/>
          </a:xfrm>
        </p:grpSpPr>
        <p:grpSp>
          <p:nvGrpSpPr>
            <p:cNvPr id="462" name="Group 251"/>
            <p:cNvGrpSpPr/>
            <p:nvPr/>
          </p:nvGrpSpPr>
          <p:grpSpPr>
            <a:xfrm>
              <a:off x="760320" y="1981080"/>
              <a:ext cx="364680" cy="431280"/>
              <a:chOff x="760320" y="1981080"/>
              <a:chExt cx="364680" cy="431280"/>
            </a:xfrm>
          </p:grpSpPr>
          <p:sp>
            <p:nvSpPr>
              <p:cNvPr id="463" name="Freeform 252"/>
              <p:cNvSpPr/>
              <p:nvPr/>
            </p:nvSpPr>
            <p:spPr>
              <a:xfrm>
                <a:off x="919800" y="2124360"/>
                <a:ext cx="1080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253"/>
              <p:cNvSpPr/>
              <p:nvPr/>
            </p:nvSpPr>
            <p:spPr>
              <a:xfrm>
                <a:off x="855360" y="2136960"/>
                <a:ext cx="2304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254"/>
              <p:cNvSpPr/>
              <p:nvPr/>
            </p:nvSpPr>
            <p:spPr>
              <a:xfrm>
                <a:off x="808560" y="218016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255"/>
              <p:cNvSpPr/>
              <p:nvPr/>
            </p:nvSpPr>
            <p:spPr>
              <a:xfrm>
                <a:off x="790920" y="2244240"/>
                <a:ext cx="2736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256"/>
              <p:cNvSpPr/>
              <p:nvPr/>
            </p:nvSpPr>
            <p:spPr>
              <a:xfrm>
                <a:off x="803520" y="2296800"/>
                <a:ext cx="2880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257"/>
              <p:cNvSpPr/>
              <p:nvPr/>
            </p:nvSpPr>
            <p:spPr>
              <a:xfrm>
                <a:off x="906120" y="2239920"/>
                <a:ext cx="2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258"/>
              <p:cNvSpPr/>
              <p:nvPr/>
            </p:nvSpPr>
            <p:spPr>
              <a:xfrm>
                <a:off x="983160" y="2059920"/>
                <a:ext cx="79920" cy="7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259"/>
              <p:cNvSpPr/>
              <p:nvPr/>
            </p:nvSpPr>
            <p:spPr>
              <a:xfrm>
                <a:off x="875520" y="2156760"/>
                <a:ext cx="51840" cy="10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260"/>
              <p:cNvSpPr/>
              <p:nvPr/>
            </p:nvSpPr>
            <p:spPr>
              <a:xfrm>
                <a:off x="846720" y="2338200"/>
                <a:ext cx="234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261"/>
              <p:cNvSpPr/>
              <p:nvPr/>
            </p:nvSpPr>
            <p:spPr>
              <a:xfrm>
                <a:off x="910080" y="2356560"/>
                <a:ext cx="1080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262"/>
              <p:cNvSpPr/>
              <p:nvPr/>
            </p:nvSpPr>
            <p:spPr>
              <a:xfrm>
                <a:off x="962640" y="2342520"/>
                <a:ext cx="23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263"/>
              <p:cNvSpPr/>
              <p:nvPr/>
            </p:nvSpPr>
            <p:spPr>
              <a:xfrm>
                <a:off x="1003680" y="230508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264"/>
              <p:cNvSpPr/>
              <p:nvPr/>
            </p:nvSpPr>
            <p:spPr>
              <a:xfrm>
                <a:off x="1022400" y="2253600"/>
                <a:ext cx="2736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65"/>
              <p:cNvSpPr/>
              <p:nvPr/>
            </p:nvSpPr>
            <p:spPr>
              <a:xfrm>
                <a:off x="1008360" y="2189160"/>
                <a:ext cx="29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66"/>
              <p:cNvSpPr/>
              <p:nvPr/>
            </p:nvSpPr>
            <p:spPr>
              <a:xfrm>
                <a:off x="970920" y="2141280"/>
                <a:ext cx="2340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67"/>
              <p:cNvSpPr/>
              <p:nvPr/>
            </p:nvSpPr>
            <p:spPr>
              <a:xfrm>
                <a:off x="916560" y="2220120"/>
                <a:ext cx="939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68"/>
              <p:cNvSpPr/>
              <p:nvPr/>
            </p:nvSpPr>
            <p:spPr>
              <a:xfrm>
                <a:off x="1002240" y="2036520"/>
                <a:ext cx="8136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269"/>
              <p:cNvSpPr/>
              <p:nvPr/>
            </p:nvSpPr>
            <p:spPr>
              <a:xfrm>
                <a:off x="760320" y="2093400"/>
                <a:ext cx="317880" cy="3189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270"/>
              <p:cNvSpPr/>
              <p:nvPr/>
            </p:nvSpPr>
            <p:spPr>
              <a:xfrm>
                <a:off x="984960" y="1981080"/>
                <a:ext cx="140040" cy="1404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TextBox 249"/>
            <p:cNvSpPr/>
            <p:nvPr/>
          </p:nvSpPr>
          <p:spPr>
            <a:xfrm>
              <a:off x="1083960" y="2079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组合 269"/>
          <p:cNvGrpSpPr/>
          <p:nvPr/>
        </p:nvGrpSpPr>
        <p:grpSpPr>
          <a:xfrm>
            <a:off x="760320" y="3168720"/>
            <a:ext cx="1042920" cy="466920"/>
            <a:chOff x="760320" y="3168720"/>
            <a:chExt cx="1042920" cy="466920"/>
          </a:xfrm>
        </p:grpSpPr>
        <p:grpSp>
          <p:nvGrpSpPr>
            <p:cNvPr id="484" name="Group 251"/>
            <p:cNvGrpSpPr/>
            <p:nvPr/>
          </p:nvGrpSpPr>
          <p:grpSpPr>
            <a:xfrm>
              <a:off x="760320" y="3168720"/>
              <a:ext cx="364680" cy="431280"/>
              <a:chOff x="760320" y="3168720"/>
              <a:chExt cx="364680" cy="431280"/>
            </a:xfrm>
          </p:grpSpPr>
          <p:sp>
            <p:nvSpPr>
              <p:cNvPr id="485" name="Freeform 252"/>
              <p:cNvSpPr/>
              <p:nvPr/>
            </p:nvSpPr>
            <p:spPr>
              <a:xfrm>
                <a:off x="919800" y="3312000"/>
                <a:ext cx="1080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253"/>
              <p:cNvSpPr/>
              <p:nvPr/>
            </p:nvSpPr>
            <p:spPr>
              <a:xfrm>
                <a:off x="855360" y="3324600"/>
                <a:ext cx="2304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254"/>
              <p:cNvSpPr/>
              <p:nvPr/>
            </p:nvSpPr>
            <p:spPr>
              <a:xfrm>
                <a:off x="808560" y="336780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255"/>
              <p:cNvSpPr/>
              <p:nvPr/>
            </p:nvSpPr>
            <p:spPr>
              <a:xfrm>
                <a:off x="790920" y="3431880"/>
                <a:ext cx="2736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256"/>
              <p:cNvSpPr/>
              <p:nvPr/>
            </p:nvSpPr>
            <p:spPr>
              <a:xfrm>
                <a:off x="803520" y="3484440"/>
                <a:ext cx="2880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257"/>
              <p:cNvSpPr/>
              <p:nvPr/>
            </p:nvSpPr>
            <p:spPr>
              <a:xfrm>
                <a:off x="906120" y="3427560"/>
                <a:ext cx="2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258"/>
              <p:cNvSpPr/>
              <p:nvPr/>
            </p:nvSpPr>
            <p:spPr>
              <a:xfrm>
                <a:off x="983160" y="3247560"/>
                <a:ext cx="79920" cy="7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259"/>
              <p:cNvSpPr/>
              <p:nvPr/>
            </p:nvSpPr>
            <p:spPr>
              <a:xfrm>
                <a:off x="875520" y="3344400"/>
                <a:ext cx="51840" cy="10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260"/>
              <p:cNvSpPr/>
              <p:nvPr/>
            </p:nvSpPr>
            <p:spPr>
              <a:xfrm>
                <a:off x="846720" y="3525840"/>
                <a:ext cx="234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61"/>
              <p:cNvSpPr/>
              <p:nvPr/>
            </p:nvSpPr>
            <p:spPr>
              <a:xfrm>
                <a:off x="910080" y="3544200"/>
                <a:ext cx="1080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62"/>
              <p:cNvSpPr/>
              <p:nvPr/>
            </p:nvSpPr>
            <p:spPr>
              <a:xfrm>
                <a:off x="962640" y="3530160"/>
                <a:ext cx="23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63"/>
              <p:cNvSpPr/>
              <p:nvPr/>
            </p:nvSpPr>
            <p:spPr>
              <a:xfrm>
                <a:off x="1003680" y="349272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264"/>
              <p:cNvSpPr/>
              <p:nvPr/>
            </p:nvSpPr>
            <p:spPr>
              <a:xfrm>
                <a:off x="1022400" y="3441240"/>
                <a:ext cx="2736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265"/>
              <p:cNvSpPr/>
              <p:nvPr/>
            </p:nvSpPr>
            <p:spPr>
              <a:xfrm>
                <a:off x="1008360" y="3376800"/>
                <a:ext cx="29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266"/>
              <p:cNvSpPr/>
              <p:nvPr/>
            </p:nvSpPr>
            <p:spPr>
              <a:xfrm>
                <a:off x="970920" y="3328920"/>
                <a:ext cx="2340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267"/>
              <p:cNvSpPr/>
              <p:nvPr/>
            </p:nvSpPr>
            <p:spPr>
              <a:xfrm>
                <a:off x="916560" y="3407760"/>
                <a:ext cx="939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268"/>
              <p:cNvSpPr/>
              <p:nvPr/>
            </p:nvSpPr>
            <p:spPr>
              <a:xfrm>
                <a:off x="1002240" y="3224160"/>
                <a:ext cx="8136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269"/>
              <p:cNvSpPr/>
              <p:nvPr/>
            </p:nvSpPr>
            <p:spPr>
              <a:xfrm>
                <a:off x="760320" y="3281040"/>
                <a:ext cx="317880" cy="3189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70"/>
              <p:cNvSpPr/>
              <p:nvPr/>
            </p:nvSpPr>
            <p:spPr>
              <a:xfrm>
                <a:off x="984960" y="3168720"/>
                <a:ext cx="140040" cy="1404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TextBox 271"/>
            <p:cNvSpPr/>
            <p:nvPr/>
          </p:nvSpPr>
          <p:spPr>
            <a:xfrm>
              <a:off x="1083960" y="326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组合 291"/>
          <p:cNvGrpSpPr/>
          <p:nvPr/>
        </p:nvGrpSpPr>
        <p:grpSpPr>
          <a:xfrm>
            <a:off x="760320" y="3790800"/>
            <a:ext cx="1042920" cy="466560"/>
            <a:chOff x="760320" y="3790800"/>
            <a:chExt cx="1042920" cy="466560"/>
          </a:xfrm>
        </p:grpSpPr>
        <p:grpSp>
          <p:nvGrpSpPr>
            <p:cNvPr id="506" name="Group 251"/>
            <p:cNvGrpSpPr/>
            <p:nvPr/>
          </p:nvGrpSpPr>
          <p:grpSpPr>
            <a:xfrm>
              <a:off x="760320" y="3790800"/>
              <a:ext cx="364680" cy="430200"/>
              <a:chOff x="760320" y="3790800"/>
              <a:chExt cx="364680" cy="430200"/>
            </a:xfrm>
          </p:grpSpPr>
          <p:sp>
            <p:nvSpPr>
              <p:cNvPr id="507" name="Freeform 252"/>
              <p:cNvSpPr/>
              <p:nvPr/>
            </p:nvSpPr>
            <p:spPr>
              <a:xfrm>
                <a:off x="919800" y="3933720"/>
                <a:ext cx="1080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253"/>
              <p:cNvSpPr/>
              <p:nvPr/>
            </p:nvSpPr>
            <p:spPr>
              <a:xfrm>
                <a:off x="855360" y="3946320"/>
                <a:ext cx="2304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254"/>
              <p:cNvSpPr/>
              <p:nvPr/>
            </p:nvSpPr>
            <p:spPr>
              <a:xfrm>
                <a:off x="808560" y="398952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255"/>
              <p:cNvSpPr/>
              <p:nvPr/>
            </p:nvSpPr>
            <p:spPr>
              <a:xfrm>
                <a:off x="790920" y="4053240"/>
                <a:ext cx="273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256"/>
              <p:cNvSpPr/>
              <p:nvPr/>
            </p:nvSpPr>
            <p:spPr>
              <a:xfrm>
                <a:off x="803520" y="4105440"/>
                <a:ext cx="2880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57"/>
              <p:cNvSpPr/>
              <p:nvPr/>
            </p:nvSpPr>
            <p:spPr>
              <a:xfrm>
                <a:off x="906120" y="4048920"/>
                <a:ext cx="2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258"/>
              <p:cNvSpPr/>
              <p:nvPr/>
            </p:nvSpPr>
            <p:spPr>
              <a:xfrm>
                <a:off x="983160" y="3869280"/>
                <a:ext cx="79920" cy="7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259"/>
              <p:cNvSpPr/>
              <p:nvPr/>
            </p:nvSpPr>
            <p:spPr>
              <a:xfrm>
                <a:off x="875520" y="3966120"/>
                <a:ext cx="51840" cy="10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260"/>
              <p:cNvSpPr/>
              <p:nvPr/>
            </p:nvSpPr>
            <p:spPr>
              <a:xfrm>
                <a:off x="846720" y="4146840"/>
                <a:ext cx="234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261"/>
              <p:cNvSpPr/>
              <p:nvPr/>
            </p:nvSpPr>
            <p:spPr>
              <a:xfrm>
                <a:off x="910080" y="4165560"/>
                <a:ext cx="1080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262"/>
              <p:cNvSpPr/>
              <p:nvPr/>
            </p:nvSpPr>
            <p:spPr>
              <a:xfrm>
                <a:off x="962640" y="4151520"/>
                <a:ext cx="23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263"/>
              <p:cNvSpPr/>
              <p:nvPr/>
            </p:nvSpPr>
            <p:spPr>
              <a:xfrm>
                <a:off x="1003680" y="411372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264"/>
              <p:cNvSpPr/>
              <p:nvPr/>
            </p:nvSpPr>
            <p:spPr>
              <a:xfrm>
                <a:off x="1022400" y="4062600"/>
                <a:ext cx="273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265"/>
              <p:cNvSpPr/>
              <p:nvPr/>
            </p:nvSpPr>
            <p:spPr>
              <a:xfrm>
                <a:off x="1008360" y="3998160"/>
                <a:ext cx="29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266"/>
              <p:cNvSpPr/>
              <p:nvPr/>
            </p:nvSpPr>
            <p:spPr>
              <a:xfrm>
                <a:off x="970920" y="3950640"/>
                <a:ext cx="2340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267"/>
              <p:cNvSpPr/>
              <p:nvPr/>
            </p:nvSpPr>
            <p:spPr>
              <a:xfrm>
                <a:off x="916560" y="4029120"/>
                <a:ext cx="939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268"/>
              <p:cNvSpPr/>
              <p:nvPr/>
            </p:nvSpPr>
            <p:spPr>
              <a:xfrm>
                <a:off x="1002240" y="3845880"/>
                <a:ext cx="8136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Oval 269"/>
              <p:cNvSpPr/>
              <p:nvPr/>
            </p:nvSpPr>
            <p:spPr>
              <a:xfrm>
                <a:off x="760320" y="3902760"/>
                <a:ext cx="317880" cy="3182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70"/>
              <p:cNvSpPr/>
              <p:nvPr/>
            </p:nvSpPr>
            <p:spPr>
              <a:xfrm>
                <a:off x="984960" y="3790800"/>
                <a:ext cx="140040" cy="14004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TextBox 293"/>
            <p:cNvSpPr/>
            <p:nvPr/>
          </p:nvSpPr>
          <p:spPr>
            <a:xfrm>
              <a:off x="1083960" y="38890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313"/>
          <p:cNvGrpSpPr/>
          <p:nvPr/>
        </p:nvGrpSpPr>
        <p:grpSpPr>
          <a:xfrm>
            <a:off x="760320" y="4361040"/>
            <a:ext cx="1042920" cy="466920"/>
            <a:chOff x="760320" y="4361040"/>
            <a:chExt cx="1042920" cy="466920"/>
          </a:xfrm>
        </p:grpSpPr>
        <p:grpSp>
          <p:nvGrpSpPr>
            <p:cNvPr id="528" name="Group 251"/>
            <p:cNvGrpSpPr/>
            <p:nvPr/>
          </p:nvGrpSpPr>
          <p:grpSpPr>
            <a:xfrm>
              <a:off x="760320" y="4361040"/>
              <a:ext cx="364680" cy="430920"/>
              <a:chOff x="760320" y="4361040"/>
              <a:chExt cx="364680" cy="430920"/>
            </a:xfrm>
          </p:grpSpPr>
          <p:sp>
            <p:nvSpPr>
              <p:cNvPr id="529" name="Freeform 252"/>
              <p:cNvSpPr/>
              <p:nvPr/>
            </p:nvSpPr>
            <p:spPr>
              <a:xfrm>
                <a:off x="919800" y="4504320"/>
                <a:ext cx="1080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253"/>
              <p:cNvSpPr/>
              <p:nvPr/>
            </p:nvSpPr>
            <p:spPr>
              <a:xfrm>
                <a:off x="855360" y="4516560"/>
                <a:ext cx="2304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254"/>
              <p:cNvSpPr/>
              <p:nvPr/>
            </p:nvSpPr>
            <p:spPr>
              <a:xfrm>
                <a:off x="808560" y="456012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255"/>
              <p:cNvSpPr/>
              <p:nvPr/>
            </p:nvSpPr>
            <p:spPr>
              <a:xfrm>
                <a:off x="790920" y="4623840"/>
                <a:ext cx="273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256"/>
              <p:cNvSpPr/>
              <p:nvPr/>
            </p:nvSpPr>
            <p:spPr>
              <a:xfrm>
                <a:off x="803520" y="4676400"/>
                <a:ext cx="2880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257"/>
              <p:cNvSpPr/>
              <p:nvPr/>
            </p:nvSpPr>
            <p:spPr>
              <a:xfrm>
                <a:off x="906120" y="4619520"/>
                <a:ext cx="2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258"/>
              <p:cNvSpPr/>
              <p:nvPr/>
            </p:nvSpPr>
            <p:spPr>
              <a:xfrm>
                <a:off x="983160" y="4439880"/>
                <a:ext cx="79920" cy="7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259"/>
              <p:cNvSpPr/>
              <p:nvPr/>
            </p:nvSpPr>
            <p:spPr>
              <a:xfrm>
                <a:off x="875520" y="4536720"/>
                <a:ext cx="51840" cy="10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260"/>
              <p:cNvSpPr/>
              <p:nvPr/>
            </p:nvSpPr>
            <p:spPr>
              <a:xfrm>
                <a:off x="846720" y="4717800"/>
                <a:ext cx="234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261"/>
              <p:cNvSpPr/>
              <p:nvPr/>
            </p:nvSpPr>
            <p:spPr>
              <a:xfrm>
                <a:off x="910080" y="4736160"/>
                <a:ext cx="1080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262"/>
              <p:cNvSpPr/>
              <p:nvPr/>
            </p:nvSpPr>
            <p:spPr>
              <a:xfrm>
                <a:off x="962640" y="4722120"/>
                <a:ext cx="23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263"/>
              <p:cNvSpPr/>
              <p:nvPr/>
            </p:nvSpPr>
            <p:spPr>
              <a:xfrm>
                <a:off x="1003680" y="468468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264"/>
              <p:cNvSpPr/>
              <p:nvPr/>
            </p:nvSpPr>
            <p:spPr>
              <a:xfrm>
                <a:off x="1022400" y="4633200"/>
                <a:ext cx="273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265"/>
              <p:cNvSpPr/>
              <p:nvPr/>
            </p:nvSpPr>
            <p:spPr>
              <a:xfrm>
                <a:off x="1008360" y="4568760"/>
                <a:ext cx="29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266"/>
              <p:cNvSpPr/>
              <p:nvPr/>
            </p:nvSpPr>
            <p:spPr>
              <a:xfrm>
                <a:off x="970920" y="4521240"/>
                <a:ext cx="2340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267"/>
              <p:cNvSpPr/>
              <p:nvPr/>
            </p:nvSpPr>
            <p:spPr>
              <a:xfrm>
                <a:off x="916560" y="4599720"/>
                <a:ext cx="939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268"/>
              <p:cNvSpPr/>
              <p:nvPr/>
            </p:nvSpPr>
            <p:spPr>
              <a:xfrm>
                <a:off x="1002240" y="4416120"/>
                <a:ext cx="8136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269"/>
              <p:cNvSpPr/>
              <p:nvPr/>
            </p:nvSpPr>
            <p:spPr>
              <a:xfrm>
                <a:off x="760320" y="4473360"/>
                <a:ext cx="317880" cy="3186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70"/>
              <p:cNvSpPr/>
              <p:nvPr/>
            </p:nvSpPr>
            <p:spPr>
              <a:xfrm>
                <a:off x="984960" y="4361040"/>
                <a:ext cx="140040" cy="1404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TextBox 315"/>
            <p:cNvSpPr/>
            <p:nvPr/>
          </p:nvSpPr>
          <p:spPr>
            <a:xfrm>
              <a:off x="1083960" y="44596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组合 335"/>
          <p:cNvGrpSpPr/>
          <p:nvPr/>
        </p:nvGrpSpPr>
        <p:grpSpPr>
          <a:xfrm>
            <a:off x="760320" y="4968720"/>
            <a:ext cx="1042920" cy="466560"/>
            <a:chOff x="760320" y="4968720"/>
            <a:chExt cx="1042920" cy="466560"/>
          </a:xfrm>
        </p:grpSpPr>
        <p:grpSp>
          <p:nvGrpSpPr>
            <p:cNvPr id="550" name="Group 251"/>
            <p:cNvGrpSpPr/>
            <p:nvPr/>
          </p:nvGrpSpPr>
          <p:grpSpPr>
            <a:xfrm>
              <a:off x="760320" y="4968720"/>
              <a:ext cx="364680" cy="430200"/>
              <a:chOff x="760320" y="4968720"/>
              <a:chExt cx="364680" cy="430200"/>
            </a:xfrm>
          </p:grpSpPr>
          <p:sp>
            <p:nvSpPr>
              <p:cNvPr id="551" name="Freeform 252"/>
              <p:cNvSpPr/>
              <p:nvPr/>
            </p:nvSpPr>
            <p:spPr>
              <a:xfrm>
                <a:off x="919800" y="5111640"/>
                <a:ext cx="1080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253"/>
              <p:cNvSpPr/>
              <p:nvPr/>
            </p:nvSpPr>
            <p:spPr>
              <a:xfrm>
                <a:off x="855360" y="5124240"/>
                <a:ext cx="2304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54"/>
              <p:cNvSpPr/>
              <p:nvPr/>
            </p:nvSpPr>
            <p:spPr>
              <a:xfrm>
                <a:off x="808560" y="516744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55"/>
              <p:cNvSpPr/>
              <p:nvPr/>
            </p:nvSpPr>
            <p:spPr>
              <a:xfrm>
                <a:off x="790920" y="5231160"/>
                <a:ext cx="273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56"/>
              <p:cNvSpPr/>
              <p:nvPr/>
            </p:nvSpPr>
            <p:spPr>
              <a:xfrm>
                <a:off x="803520" y="5283360"/>
                <a:ext cx="2880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57"/>
              <p:cNvSpPr/>
              <p:nvPr/>
            </p:nvSpPr>
            <p:spPr>
              <a:xfrm>
                <a:off x="906120" y="5226840"/>
                <a:ext cx="2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258"/>
              <p:cNvSpPr/>
              <p:nvPr/>
            </p:nvSpPr>
            <p:spPr>
              <a:xfrm>
                <a:off x="983160" y="5047200"/>
                <a:ext cx="79920" cy="7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259"/>
              <p:cNvSpPr/>
              <p:nvPr/>
            </p:nvSpPr>
            <p:spPr>
              <a:xfrm>
                <a:off x="875520" y="5144040"/>
                <a:ext cx="51840" cy="10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260"/>
              <p:cNvSpPr/>
              <p:nvPr/>
            </p:nvSpPr>
            <p:spPr>
              <a:xfrm>
                <a:off x="846720" y="5324760"/>
                <a:ext cx="234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261"/>
              <p:cNvSpPr/>
              <p:nvPr/>
            </p:nvSpPr>
            <p:spPr>
              <a:xfrm>
                <a:off x="910080" y="5343480"/>
                <a:ext cx="1080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262"/>
              <p:cNvSpPr/>
              <p:nvPr/>
            </p:nvSpPr>
            <p:spPr>
              <a:xfrm>
                <a:off x="962640" y="5329440"/>
                <a:ext cx="23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263"/>
              <p:cNvSpPr/>
              <p:nvPr/>
            </p:nvSpPr>
            <p:spPr>
              <a:xfrm>
                <a:off x="1003680" y="529164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264"/>
              <p:cNvSpPr/>
              <p:nvPr/>
            </p:nvSpPr>
            <p:spPr>
              <a:xfrm>
                <a:off x="1022400" y="5240520"/>
                <a:ext cx="2736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265"/>
              <p:cNvSpPr/>
              <p:nvPr/>
            </p:nvSpPr>
            <p:spPr>
              <a:xfrm>
                <a:off x="1008360" y="5176080"/>
                <a:ext cx="29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266"/>
              <p:cNvSpPr/>
              <p:nvPr/>
            </p:nvSpPr>
            <p:spPr>
              <a:xfrm>
                <a:off x="970920" y="5128560"/>
                <a:ext cx="2340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267"/>
              <p:cNvSpPr/>
              <p:nvPr/>
            </p:nvSpPr>
            <p:spPr>
              <a:xfrm>
                <a:off x="916560" y="5207040"/>
                <a:ext cx="939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268"/>
              <p:cNvSpPr/>
              <p:nvPr/>
            </p:nvSpPr>
            <p:spPr>
              <a:xfrm>
                <a:off x="1002240" y="5023800"/>
                <a:ext cx="8136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269"/>
              <p:cNvSpPr/>
              <p:nvPr/>
            </p:nvSpPr>
            <p:spPr>
              <a:xfrm>
                <a:off x="760320" y="5080680"/>
                <a:ext cx="317880" cy="3182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270"/>
              <p:cNvSpPr/>
              <p:nvPr/>
            </p:nvSpPr>
            <p:spPr>
              <a:xfrm>
                <a:off x="984960" y="4968720"/>
                <a:ext cx="140040" cy="14004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TextBox 337"/>
            <p:cNvSpPr/>
            <p:nvPr/>
          </p:nvSpPr>
          <p:spPr>
            <a:xfrm>
              <a:off x="1083960" y="50670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组合 357"/>
          <p:cNvGrpSpPr/>
          <p:nvPr/>
        </p:nvGrpSpPr>
        <p:grpSpPr>
          <a:xfrm>
            <a:off x="760320" y="5572080"/>
            <a:ext cx="1042920" cy="466920"/>
            <a:chOff x="760320" y="5572080"/>
            <a:chExt cx="1042920" cy="466920"/>
          </a:xfrm>
        </p:grpSpPr>
        <p:grpSp>
          <p:nvGrpSpPr>
            <p:cNvPr id="572" name="Group 251"/>
            <p:cNvGrpSpPr/>
            <p:nvPr/>
          </p:nvGrpSpPr>
          <p:grpSpPr>
            <a:xfrm>
              <a:off x="760320" y="5572080"/>
              <a:ext cx="364680" cy="431280"/>
              <a:chOff x="760320" y="5572080"/>
              <a:chExt cx="364680" cy="431280"/>
            </a:xfrm>
          </p:grpSpPr>
          <p:sp>
            <p:nvSpPr>
              <p:cNvPr id="573" name="Freeform 252"/>
              <p:cNvSpPr/>
              <p:nvPr/>
            </p:nvSpPr>
            <p:spPr>
              <a:xfrm>
                <a:off x="919800" y="5715360"/>
                <a:ext cx="1080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253"/>
              <p:cNvSpPr/>
              <p:nvPr/>
            </p:nvSpPr>
            <p:spPr>
              <a:xfrm>
                <a:off x="855360" y="5727960"/>
                <a:ext cx="2304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254"/>
              <p:cNvSpPr/>
              <p:nvPr/>
            </p:nvSpPr>
            <p:spPr>
              <a:xfrm>
                <a:off x="808560" y="577116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255"/>
              <p:cNvSpPr/>
              <p:nvPr/>
            </p:nvSpPr>
            <p:spPr>
              <a:xfrm>
                <a:off x="790920" y="5835240"/>
                <a:ext cx="2736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256"/>
              <p:cNvSpPr/>
              <p:nvPr/>
            </p:nvSpPr>
            <p:spPr>
              <a:xfrm>
                <a:off x="803520" y="5887800"/>
                <a:ext cx="2880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257"/>
              <p:cNvSpPr/>
              <p:nvPr/>
            </p:nvSpPr>
            <p:spPr>
              <a:xfrm>
                <a:off x="906120" y="5830920"/>
                <a:ext cx="2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258"/>
              <p:cNvSpPr/>
              <p:nvPr/>
            </p:nvSpPr>
            <p:spPr>
              <a:xfrm>
                <a:off x="983160" y="5650920"/>
                <a:ext cx="79920" cy="7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259"/>
              <p:cNvSpPr/>
              <p:nvPr/>
            </p:nvSpPr>
            <p:spPr>
              <a:xfrm>
                <a:off x="875520" y="5747760"/>
                <a:ext cx="51840" cy="10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260"/>
              <p:cNvSpPr/>
              <p:nvPr/>
            </p:nvSpPr>
            <p:spPr>
              <a:xfrm>
                <a:off x="846720" y="5929200"/>
                <a:ext cx="234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261"/>
              <p:cNvSpPr/>
              <p:nvPr/>
            </p:nvSpPr>
            <p:spPr>
              <a:xfrm>
                <a:off x="910080" y="5947560"/>
                <a:ext cx="1080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262"/>
              <p:cNvSpPr/>
              <p:nvPr/>
            </p:nvSpPr>
            <p:spPr>
              <a:xfrm>
                <a:off x="962640" y="5933520"/>
                <a:ext cx="23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263"/>
              <p:cNvSpPr/>
              <p:nvPr/>
            </p:nvSpPr>
            <p:spPr>
              <a:xfrm>
                <a:off x="1003680" y="5896080"/>
                <a:ext cx="2880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264"/>
              <p:cNvSpPr/>
              <p:nvPr/>
            </p:nvSpPr>
            <p:spPr>
              <a:xfrm>
                <a:off x="1022400" y="5844600"/>
                <a:ext cx="2736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265"/>
              <p:cNvSpPr/>
              <p:nvPr/>
            </p:nvSpPr>
            <p:spPr>
              <a:xfrm>
                <a:off x="1008360" y="5780160"/>
                <a:ext cx="2916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266"/>
              <p:cNvSpPr/>
              <p:nvPr/>
            </p:nvSpPr>
            <p:spPr>
              <a:xfrm>
                <a:off x="970920" y="5732280"/>
                <a:ext cx="2340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267"/>
              <p:cNvSpPr/>
              <p:nvPr/>
            </p:nvSpPr>
            <p:spPr>
              <a:xfrm>
                <a:off x="916560" y="5811120"/>
                <a:ext cx="93960" cy="4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268"/>
              <p:cNvSpPr/>
              <p:nvPr/>
            </p:nvSpPr>
            <p:spPr>
              <a:xfrm>
                <a:off x="1002240" y="5627520"/>
                <a:ext cx="8136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269"/>
              <p:cNvSpPr/>
              <p:nvPr/>
            </p:nvSpPr>
            <p:spPr>
              <a:xfrm>
                <a:off x="760320" y="5684400"/>
                <a:ext cx="317880" cy="3189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Oval 270"/>
              <p:cNvSpPr/>
              <p:nvPr/>
            </p:nvSpPr>
            <p:spPr>
              <a:xfrm>
                <a:off x="984960" y="5572080"/>
                <a:ext cx="140040" cy="1404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2" name="TextBox 359"/>
            <p:cNvSpPr/>
            <p:nvPr/>
          </p:nvSpPr>
          <p:spPr>
            <a:xfrm>
              <a:off x="1083960" y="5670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mbri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mbri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mbri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A94-7BF6-49CE-B909-6510661FF6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3" descr="C:\Users\双儿\Desktop\标志.png"/>
          <p:cNvPicPr/>
          <p:nvPr/>
        </p:nvPicPr>
        <p:blipFill>
          <a:blip r:embed="rId1">
            <a:biLevel thresh="50000"/>
          </a:blip>
          <a:stretch/>
        </p:blipFill>
        <p:spPr>
          <a:xfrm rot="17930400">
            <a:off x="3624840" y="2483280"/>
            <a:ext cx="2119320" cy="1955520"/>
          </a:xfrm>
          <a:prstGeom prst="rect">
            <a:avLst/>
          </a:prstGeom>
          <a:ln w="0">
            <a:noFill/>
          </a:ln>
        </p:spPr>
      </p:pic>
      <p:sp>
        <p:nvSpPr>
          <p:cNvPr id="597" name="TextBox 5"/>
          <p:cNvSpPr/>
          <p:nvPr/>
        </p:nvSpPr>
        <p:spPr>
          <a:xfrm>
            <a:off x="122400" y="476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Think something 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直接连接符 6"/>
          <p:cNvSpPr/>
          <p:nvPr/>
        </p:nvSpPr>
        <p:spPr>
          <a:xfrm>
            <a:off x="0" y="846000"/>
            <a:ext cx="26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7"/>
          <p:cNvSpPr/>
          <p:nvPr/>
        </p:nvSpPr>
        <p:spPr>
          <a:xfrm>
            <a:off x="2014920" y="3070080"/>
            <a:ext cx="48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fcff"/>
                </a:solidFill>
                <a:latin typeface="楷体"/>
                <a:ea typeface="楷体"/>
              </a:rPr>
              <a:t>O(∩_∩)O</a:t>
            </a:r>
            <a:r>
              <a:rPr b="1" lang="zh-CN" sz="5400" spc="-1" strike="noStrike">
                <a:solidFill>
                  <a:srgbClr val="fcfcff"/>
                </a:solidFill>
                <a:latin typeface="楷体"/>
                <a:ea typeface="楷体"/>
              </a:rPr>
              <a:t>谢谢欣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dur="indefinite" nodeType="afterEffect" fill="hold" presetClass="exit" presetID="4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48"/>
          <p:cNvGrpSpPr/>
          <p:nvPr/>
        </p:nvGrpSpPr>
        <p:grpSpPr>
          <a:xfrm>
            <a:off x="411120" y="438120"/>
            <a:ext cx="11563560" cy="5716440"/>
            <a:chOff x="411120" y="438120"/>
            <a:chExt cx="11563560" cy="5716440"/>
          </a:xfrm>
        </p:grpSpPr>
        <p:sp>
          <p:nvSpPr>
            <p:cNvPr id="91" name="矩形 1"/>
            <p:cNvSpPr/>
            <p:nvPr/>
          </p:nvSpPr>
          <p:spPr>
            <a:xfrm>
              <a:off x="411120" y="560520"/>
              <a:ext cx="3107160" cy="26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组合 2"/>
            <p:cNvGrpSpPr/>
            <p:nvPr/>
          </p:nvGrpSpPr>
          <p:grpSpPr>
            <a:xfrm>
              <a:off x="903960" y="708480"/>
              <a:ext cx="3084480" cy="2653200"/>
              <a:chOff x="903960" y="708480"/>
              <a:chExt cx="3084480" cy="2653200"/>
            </a:xfrm>
          </p:grpSpPr>
          <p:grpSp>
            <p:nvGrpSpPr>
              <p:cNvPr id="93" name="组合 3"/>
              <p:cNvGrpSpPr/>
              <p:nvPr/>
            </p:nvGrpSpPr>
            <p:grpSpPr>
              <a:xfrm>
                <a:off x="903960" y="708480"/>
                <a:ext cx="3084480" cy="2653200"/>
                <a:chOff x="903960" y="708480"/>
                <a:chExt cx="3084480" cy="2653200"/>
              </a:xfrm>
            </p:grpSpPr>
            <p:sp>
              <p:nvSpPr>
                <p:cNvPr id="94" name="矩形 8"/>
                <p:cNvSpPr/>
                <p:nvPr/>
              </p:nvSpPr>
              <p:spPr>
                <a:xfrm>
                  <a:off x="903960" y="708480"/>
                  <a:ext cx="3084480" cy="2653200"/>
                </a:xfrm>
                <a:prstGeom prst="rect">
                  <a:avLst/>
                </a:prstGeom>
                <a:solidFill>
                  <a:srgbClr val="703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TextBox 9"/>
                <p:cNvSpPr/>
                <p:nvPr/>
              </p:nvSpPr>
              <p:spPr>
                <a:xfrm>
                  <a:off x="1073520" y="2757960"/>
                  <a:ext cx="2656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前言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08"/>
              <p:cNvGrpSpPr/>
              <p:nvPr/>
            </p:nvGrpSpPr>
            <p:grpSpPr>
              <a:xfrm>
                <a:off x="1970280" y="1035000"/>
                <a:ext cx="716400" cy="1427400"/>
                <a:chOff x="1970280" y="1035000"/>
                <a:chExt cx="716400" cy="1427400"/>
              </a:xfrm>
            </p:grpSpPr>
            <p:sp>
              <p:nvSpPr>
                <p:cNvPr id="97" name="Freeform 109"/>
                <p:cNvSpPr/>
                <p:nvPr/>
              </p:nvSpPr>
              <p:spPr>
                <a:xfrm>
                  <a:off x="1970280" y="1035000"/>
                  <a:ext cx="716400" cy="142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10"/>
                <p:cNvSpPr/>
                <p:nvPr/>
              </p:nvSpPr>
              <p:spPr>
                <a:xfrm>
                  <a:off x="2364120" y="1035000"/>
                  <a:ext cx="322200" cy="319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11"/>
                <p:cNvSpPr/>
                <p:nvPr/>
              </p:nvSpPr>
              <p:spPr>
                <a:xfrm>
                  <a:off x="2044440" y="1434240"/>
                  <a:ext cx="638640" cy="102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组合 10"/>
            <p:cNvGrpSpPr/>
            <p:nvPr/>
          </p:nvGrpSpPr>
          <p:grpSpPr>
            <a:xfrm>
              <a:off x="881280" y="3675600"/>
              <a:ext cx="3510720" cy="2455200"/>
              <a:chOff x="881280" y="3675600"/>
              <a:chExt cx="3510720" cy="2455200"/>
            </a:xfrm>
          </p:grpSpPr>
          <p:grpSp>
            <p:nvGrpSpPr>
              <p:cNvPr id="101" name="组合 11"/>
              <p:cNvGrpSpPr/>
              <p:nvPr/>
            </p:nvGrpSpPr>
            <p:grpSpPr>
              <a:xfrm>
                <a:off x="881280" y="3675600"/>
                <a:ext cx="3510720" cy="2455200"/>
                <a:chOff x="881280" y="3675600"/>
                <a:chExt cx="3510720" cy="2455200"/>
              </a:xfrm>
            </p:grpSpPr>
            <p:sp>
              <p:nvSpPr>
                <p:cNvPr id="102" name="矩形 14"/>
                <p:cNvSpPr/>
                <p:nvPr/>
              </p:nvSpPr>
              <p:spPr>
                <a:xfrm>
                  <a:off x="881280" y="3675600"/>
                  <a:ext cx="3510720" cy="2455200"/>
                </a:xfrm>
                <a:prstGeom prst="rect">
                  <a:avLst/>
                </a:pr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TextBox 15"/>
                <p:cNvSpPr/>
                <p:nvPr/>
              </p:nvSpPr>
              <p:spPr>
                <a:xfrm>
                  <a:off x="1073880" y="5509800"/>
                  <a:ext cx="3024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材料与方法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129"/>
              <p:cNvSpPr/>
              <p:nvPr/>
            </p:nvSpPr>
            <p:spPr>
              <a:xfrm>
                <a:off x="2029320" y="4118400"/>
                <a:ext cx="1112760" cy="11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30"/>
              <p:cNvSpPr/>
              <p:nvPr/>
            </p:nvSpPr>
            <p:spPr>
              <a:xfrm>
                <a:off x="2029320" y="4168080"/>
                <a:ext cx="1017360" cy="1120320"/>
              </a:xfrm>
              <a:prstGeom prst="pi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16"/>
            <p:cNvGrpSpPr/>
            <p:nvPr/>
          </p:nvGrpSpPr>
          <p:grpSpPr>
            <a:xfrm>
              <a:off x="4237920" y="438120"/>
              <a:ext cx="5326560" cy="2923920"/>
              <a:chOff x="4237920" y="438120"/>
              <a:chExt cx="5326560" cy="2923920"/>
            </a:xfrm>
          </p:grpSpPr>
          <p:grpSp>
            <p:nvGrpSpPr>
              <p:cNvPr id="107" name="组合 17"/>
              <p:cNvGrpSpPr/>
              <p:nvPr/>
            </p:nvGrpSpPr>
            <p:grpSpPr>
              <a:xfrm>
                <a:off x="4237920" y="438120"/>
                <a:ext cx="5326560" cy="2923920"/>
                <a:chOff x="4237920" y="438120"/>
                <a:chExt cx="5326560" cy="2923920"/>
              </a:xfrm>
            </p:grpSpPr>
            <p:grpSp>
              <p:nvGrpSpPr>
                <p:cNvPr id="108" name="组合 19"/>
                <p:cNvGrpSpPr/>
                <p:nvPr/>
              </p:nvGrpSpPr>
              <p:grpSpPr>
                <a:xfrm>
                  <a:off x="4237920" y="708480"/>
                  <a:ext cx="5326560" cy="2653560"/>
                  <a:chOff x="4237920" y="708480"/>
                  <a:chExt cx="5326560" cy="2653560"/>
                </a:xfrm>
              </p:grpSpPr>
              <p:sp>
                <p:nvSpPr>
                  <p:cNvPr id="109" name="矩形 23"/>
                  <p:cNvSpPr/>
                  <p:nvPr/>
                </p:nvSpPr>
                <p:spPr>
                  <a:xfrm>
                    <a:off x="4237920" y="708480"/>
                    <a:ext cx="5326560" cy="2653560"/>
                  </a:xfrm>
                  <a:prstGeom prst="rect">
                    <a:avLst/>
                  </a:prstGeom>
                  <a:solidFill>
                    <a:srgbClr val="99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TextBox 24"/>
                  <p:cNvSpPr/>
                  <p:nvPr/>
                </p:nvSpPr>
                <p:spPr>
                  <a:xfrm>
                    <a:off x="4429440" y="2822760"/>
                    <a:ext cx="467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研究目的与意义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55"/>
                <p:cNvGrpSpPr/>
                <p:nvPr/>
              </p:nvGrpSpPr>
              <p:grpSpPr>
                <a:xfrm>
                  <a:off x="5561640" y="438120"/>
                  <a:ext cx="2410560" cy="2358720"/>
                  <a:chOff x="5561640" y="438120"/>
                  <a:chExt cx="2410560" cy="2358720"/>
                </a:xfrm>
              </p:grpSpPr>
              <p:sp>
                <p:nvSpPr>
                  <p:cNvPr id="112" name="Freeform 256"/>
                  <p:cNvSpPr/>
                  <p:nvPr/>
                </p:nvSpPr>
                <p:spPr>
                  <a:xfrm rot="18742200">
                    <a:off x="6122880" y="573480"/>
                    <a:ext cx="1288080" cy="20880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257"/>
                  <p:cNvSpPr/>
                  <p:nvPr/>
                </p:nvSpPr>
                <p:spPr>
                  <a:xfrm rot="18742200">
                    <a:off x="6085080" y="992520"/>
                    <a:ext cx="240840" cy="23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" name="椭圆 18"/>
              <p:cNvSpPr/>
              <p:nvPr/>
            </p:nvSpPr>
            <p:spPr>
              <a:xfrm>
                <a:off x="6206040" y="1035000"/>
                <a:ext cx="406080" cy="406080"/>
              </a:xfrm>
              <a:prstGeom prst="ellipse">
                <a:avLst/>
              </a:prstGeom>
              <a:noFill/>
              <a:ln w="25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25"/>
            <p:cNvGrpSpPr/>
            <p:nvPr/>
          </p:nvGrpSpPr>
          <p:grpSpPr>
            <a:xfrm>
              <a:off x="6450840" y="3675600"/>
              <a:ext cx="2146680" cy="2455200"/>
              <a:chOff x="6450840" y="3675600"/>
              <a:chExt cx="2146680" cy="2455200"/>
            </a:xfrm>
          </p:grpSpPr>
          <p:sp>
            <p:nvSpPr>
              <p:cNvPr id="116" name="矩形 26"/>
              <p:cNvSpPr/>
              <p:nvPr/>
            </p:nvSpPr>
            <p:spPr>
              <a:xfrm>
                <a:off x="6450840" y="3675600"/>
                <a:ext cx="1800000" cy="2455200"/>
              </a:xfrm>
              <a:prstGeom prst="rect">
                <a:avLst/>
              </a:prstGeom>
              <a:solidFill>
                <a:srgbClr val="3f3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TextBox 27"/>
              <p:cNvSpPr/>
              <p:nvPr/>
            </p:nvSpPr>
            <p:spPr>
              <a:xfrm>
                <a:off x="6594480" y="5509800"/>
                <a:ext cx="200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时间安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Group 311"/>
              <p:cNvGrpSpPr/>
              <p:nvPr/>
            </p:nvGrpSpPr>
            <p:grpSpPr>
              <a:xfrm>
                <a:off x="6973920" y="4368960"/>
                <a:ext cx="711000" cy="828720"/>
                <a:chOff x="6973920" y="4368960"/>
                <a:chExt cx="711000" cy="828720"/>
              </a:xfrm>
            </p:grpSpPr>
            <p:sp>
              <p:nvSpPr>
                <p:cNvPr id="119" name="Freeform 312"/>
                <p:cNvSpPr/>
                <p:nvPr/>
              </p:nvSpPr>
              <p:spPr>
                <a:xfrm rot="657000">
                  <a:off x="7173000" y="4496760"/>
                  <a:ext cx="309600" cy="573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13"/>
                <p:cNvSpPr/>
                <p:nvPr/>
              </p:nvSpPr>
              <p:spPr>
                <a:xfrm rot="657000">
                  <a:off x="7038000" y="4417560"/>
                  <a:ext cx="582480" cy="73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14"/>
                <p:cNvSpPr/>
                <p:nvPr/>
              </p:nvSpPr>
              <p:spPr>
                <a:xfrm flipH="1" rot="656400">
                  <a:off x="7160400" y="4865760"/>
                  <a:ext cx="270360" cy="187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组合 32"/>
            <p:cNvGrpSpPr/>
            <p:nvPr/>
          </p:nvGrpSpPr>
          <p:grpSpPr>
            <a:xfrm>
              <a:off x="8463960" y="3676320"/>
              <a:ext cx="3510720" cy="2478240"/>
              <a:chOff x="8463960" y="3676320"/>
              <a:chExt cx="3510720" cy="2478240"/>
            </a:xfrm>
          </p:grpSpPr>
          <p:grpSp>
            <p:nvGrpSpPr>
              <p:cNvPr id="123" name="组合 37"/>
              <p:cNvGrpSpPr/>
              <p:nvPr/>
            </p:nvGrpSpPr>
            <p:grpSpPr>
              <a:xfrm>
                <a:off x="8463960" y="3676320"/>
                <a:ext cx="3510720" cy="2478240"/>
                <a:chOff x="8463960" y="3676320"/>
                <a:chExt cx="3510720" cy="2478240"/>
              </a:xfrm>
            </p:grpSpPr>
            <p:sp>
              <p:nvSpPr>
                <p:cNvPr id="124" name="矩形 39"/>
                <p:cNvSpPr/>
                <p:nvPr/>
              </p:nvSpPr>
              <p:spPr>
                <a:xfrm>
                  <a:off x="8463960" y="3676320"/>
                  <a:ext cx="3510720" cy="2478240"/>
                </a:xfrm>
                <a:prstGeom prst="rect">
                  <a:avLst/>
                </a:prstGeom>
                <a:solidFill>
                  <a:srgbClr val="00b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TextBox 40"/>
                <p:cNvSpPr/>
                <p:nvPr/>
              </p:nvSpPr>
              <p:spPr>
                <a:xfrm>
                  <a:off x="8656560" y="5527800"/>
                  <a:ext cx="3024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结束语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392"/>
              <p:cNvGrpSpPr/>
              <p:nvPr/>
            </p:nvGrpSpPr>
            <p:grpSpPr>
              <a:xfrm>
                <a:off x="9443520" y="4300560"/>
                <a:ext cx="1009440" cy="906840"/>
                <a:chOff x="9443520" y="4300560"/>
                <a:chExt cx="1009440" cy="906840"/>
              </a:xfrm>
            </p:grpSpPr>
            <p:sp>
              <p:nvSpPr>
                <p:cNvPr id="127" name="Freeform 282"/>
                <p:cNvSpPr/>
                <p:nvPr/>
              </p:nvSpPr>
              <p:spPr>
                <a:xfrm rot="21003600">
                  <a:off x="9477360" y="4714560"/>
                  <a:ext cx="582480" cy="446040"/>
                </a:xfrm>
                <a:prstGeom prst="pie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83"/>
                <p:cNvSpPr/>
                <p:nvPr/>
              </p:nvSpPr>
              <p:spPr>
                <a:xfrm rot="21003600">
                  <a:off x="9866160" y="4341600"/>
                  <a:ext cx="533520" cy="662040"/>
                </a:xfrm>
                <a:prstGeom prst="pie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组合 41"/>
            <p:cNvGrpSpPr/>
            <p:nvPr/>
          </p:nvGrpSpPr>
          <p:grpSpPr>
            <a:xfrm>
              <a:off x="4595760" y="3675600"/>
              <a:ext cx="1843560" cy="2459520"/>
              <a:chOff x="4595760" y="3675600"/>
              <a:chExt cx="1843560" cy="2459520"/>
            </a:xfrm>
          </p:grpSpPr>
          <p:grpSp>
            <p:nvGrpSpPr>
              <p:cNvPr id="130" name="组合 42"/>
              <p:cNvGrpSpPr/>
              <p:nvPr/>
            </p:nvGrpSpPr>
            <p:grpSpPr>
              <a:xfrm>
                <a:off x="4595760" y="3675600"/>
                <a:ext cx="1843560" cy="2459520"/>
                <a:chOff x="4595760" y="3675600"/>
                <a:chExt cx="1843560" cy="2459520"/>
              </a:xfrm>
            </p:grpSpPr>
            <p:sp>
              <p:nvSpPr>
                <p:cNvPr id="131" name="矩形 44"/>
                <p:cNvSpPr/>
                <p:nvPr/>
              </p:nvSpPr>
              <p:spPr>
                <a:xfrm>
                  <a:off x="4595760" y="3675600"/>
                  <a:ext cx="1656720" cy="2459520"/>
                </a:xfrm>
                <a:prstGeom prst="rect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Box 45"/>
                <p:cNvSpPr/>
                <p:nvPr/>
              </p:nvSpPr>
              <p:spPr>
                <a:xfrm>
                  <a:off x="4595760" y="5555160"/>
                  <a:ext cx="1843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预期效果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Freeform 341"/>
              <p:cNvSpPr/>
              <p:nvPr/>
            </p:nvSpPr>
            <p:spPr>
              <a:xfrm>
                <a:off x="5168880" y="4361040"/>
                <a:ext cx="547560" cy="73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矩形 53"/>
          <p:cNvSpPr/>
          <p:nvPr/>
        </p:nvSpPr>
        <p:spPr>
          <a:xfrm>
            <a:off x="8426520" y="3699000"/>
            <a:ext cx="354816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矩形 52"/>
          <p:cNvSpPr/>
          <p:nvPr/>
        </p:nvSpPr>
        <p:spPr>
          <a:xfrm>
            <a:off x="6467400" y="3676680"/>
            <a:ext cx="178272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矩形 50"/>
          <p:cNvSpPr/>
          <p:nvPr/>
        </p:nvSpPr>
        <p:spPr>
          <a:xfrm>
            <a:off x="933480" y="3633840"/>
            <a:ext cx="345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矩形 51"/>
          <p:cNvSpPr/>
          <p:nvPr/>
        </p:nvSpPr>
        <p:spPr>
          <a:xfrm>
            <a:off x="4595760" y="3676680"/>
            <a:ext cx="16556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矩形 49"/>
          <p:cNvSpPr/>
          <p:nvPr/>
        </p:nvSpPr>
        <p:spPr>
          <a:xfrm>
            <a:off x="4243320" y="708120"/>
            <a:ext cx="536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矩形 46"/>
          <p:cNvSpPr/>
          <p:nvPr/>
        </p:nvSpPr>
        <p:spPr>
          <a:xfrm>
            <a:off x="903240" y="708120"/>
            <a:ext cx="3108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"/>
          <p:cNvGrpSpPr/>
          <p:nvPr/>
        </p:nvGrpSpPr>
        <p:grpSpPr>
          <a:xfrm>
            <a:off x="0" y="404640"/>
            <a:ext cx="9144000" cy="6048720"/>
            <a:chOff x="0" y="404640"/>
            <a:chExt cx="9144000" cy="6048720"/>
          </a:xfrm>
        </p:grpSpPr>
        <p:grpSp>
          <p:nvGrpSpPr>
            <p:cNvPr id="141" name="组合 2"/>
            <p:cNvGrpSpPr/>
            <p:nvPr/>
          </p:nvGrpSpPr>
          <p:grpSpPr>
            <a:xfrm>
              <a:off x="0" y="404640"/>
              <a:ext cx="9144000" cy="6048720"/>
              <a:chOff x="0" y="404640"/>
              <a:chExt cx="9144000" cy="6048720"/>
            </a:xfrm>
          </p:grpSpPr>
          <p:sp>
            <p:nvSpPr>
              <p:cNvPr id="142" name="矩形 7"/>
              <p:cNvSpPr/>
              <p:nvPr/>
            </p:nvSpPr>
            <p:spPr>
              <a:xfrm>
                <a:off x="0" y="404640"/>
                <a:ext cx="9144000" cy="6048720"/>
              </a:xfrm>
              <a:prstGeom prst="rect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TextBox 8"/>
              <p:cNvSpPr/>
              <p:nvPr/>
            </p:nvSpPr>
            <p:spPr>
              <a:xfrm>
                <a:off x="503280" y="5077080"/>
                <a:ext cx="78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前言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08"/>
            <p:cNvGrpSpPr/>
            <p:nvPr/>
          </p:nvGrpSpPr>
          <p:grpSpPr>
            <a:xfrm>
              <a:off x="3414960" y="1363680"/>
              <a:ext cx="2123640" cy="3254040"/>
              <a:chOff x="3414960" y="1363680"/>
              <a:chExt cx="2123640" cy="3254040"/>
            </a:xfrm>
          </p:grpSpPr>
          <p:sp>
            <p:nvSpPr>
              <p:cNvPr id="145" name="Freeform 109"/>
              <p:cNvSpPr/>
              <p:nvPr/>
            </p:nvSpPr>
            <p:spPr>
              <a:xfrm>
                <a:off x="3414960" y="1363680"/>
                <a:ext cx="2123640" cy="3254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0"/>
              <p:cNvSpPr/>
              <p:nvPr/>
            </p:nvSpPr>
            <p:spPr>
              <a:xfrm>
                <a:off x="4583160" y="1363680"/>
                <a:ext cx="955440" cy="72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1"/>
              <p:cNvSpPr/>
              <p:nvPr/>
            </p:nvSpPr>
            <p:spPr>
              <a:xfrm>
                <a:off x="3635280" y="2274120"/>
                <a:ext cx="1893600" cy="234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6" name="组合 8"/>
          <p:cNvGrpSpPr/>
          <p:nvPr/>
        </p:nvGrpSpPr>
        <p:grpSpPr>
          <a:xfrm>
            <a:off x="307800" y="1557360"/>
            <a:ext cx="3108600" cy="4816440"/>
            <a:chOff x="307800" y="1557360"/>
            <a:chExt cx="3108600" cy="4816440"/>
          </a:xfrm>
        </p:grpSpPr>
        <p:sp>
          <p:nvSpPr>
            <p:cNvPr id="157" name="矩形 2"/>
            <p:cNvSpPr/>
            <p:nvPr/>
          </p:nvSpPr>
          <p:spPr>
            <a:xfrm>
              <a:off x="307800" y="1557360"/>
              <a:ext cx="3108600" cy="48164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Box 3"/>
            <p:cNvSpPr/>
            <p:nvPr/>
          </p:nvSpPr>
          <p:spPr>
            <a:xfrm>
              <a:off x="349200" y="1796760"/>
              <a:ext cx="30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MS</a:t>
              </a: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的概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Box 4"/>
            <p:cNvSpPr/>
            <p:nvPr/>
          </p:nvSpPr>
          <p:spPr>
            <a:xfrm>
              <a:off x="349200" y="4933800"/>
              <a:ext cx="290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MS</a:t>
              </a: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是受细胞核和细胞质共同调控的一种母性遗传现象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72"/>
            <p:cNvSpPr/>
            <p:nvPr/>
          </p:nvSpPr>
          <p:spPr>
            <a:xfrm>
              <a:off x="1333080" y="3664440"/>
              <a:ext cx="300960" cy="30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72"/>
            <p:cNvSpPr/>
            <p:nvPr/>
          </p:nvSpPr>
          <p:spPr>
            <a:xfrm>
              <a:off x="1273320" y="3488400"/>
              <a:ext cx="704880" cy="704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矩形 5"/>
            <p:cNvSpPr/>
            <p:nvPr/>
          </p:nvSpPr>
          <p:spPr>
            <a:xfrm>
              <a:off x="889560" y="430920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codeterm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组合 1032"/>
          <p:cNvGrpSpPr/>
          <p:nvPr/>
        </p:nvGrpSpPr>
        <p:grpSpPr>
          <a:xfrm>
            <a:off x="3824280" y="1557360"/>
            <a:ext cx="3108240" cy="4816440"/>
            <a:chOff x="3824280" y="1557360"/>
            <a:chExt cx="3108240" cy="4816440"/>
          </a:xfrm>
        </p:grpSpPr>
        <p:grpSp>
          <p:nvGrpSpPr>
            <p:cNvPr id="164" name="组合 11"/>
            <p:cNvGrpSpPr/>
            <p:nvPr/>
          </p:nvGrpSpPr>
          <p:grpSpPr>
            <a:xfrm>
              <a:off x="3824280" y="1557360"/>
              <a:ext cx="3108240" cy="4816440"/>
              <a:chOff x="3824280" y="1557360"/>
              <a:chExt cx="3108240" cy="4816440"/>
            </a:xfrm>
          </p:grpSpPr>
          <p:sp>
            <p:nvSpPr>
              <p:cNvPr id="165" name="矩形 12"/>
              <p:cNvSpPr/>
              <p:nvPr/>
            </p:nvSpPr>
            <p:spPr>
              <a:xfrm>
                <a:off x="3824280" y="1557360"/>
                <a:ext cx="3108240" cy="48164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Box 13"/>
              <p:cNvSpPr/>
              <p:nvPr/>
            </p:nvSpPr>
            <p:spPr>
              <a:xfrm>
                <a:off x="3865680" y="1796760"/>
                <a:ext cx="302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玉米的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TextBox 14"/>
              <p:cNvSpPr/>
              <p:nvPr/>
            </p:nvSpPr>
            <p:spPr>
              <a:xfrm>
                <a:off x="3865680" y="4933800"/>
                <a:ext cx="2901600" cy="46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矩形 17"/>
              <p:cNvSpPr/>
              <p:nvPr/>
            </p:nvSpPr>
            <p:spPr>
              <a:xfrm>
                <a:off x="4838760" y="4132440"/>
                <a:ext cx="79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aiz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69" name="Picture 2" descr="C:\Users\双儿\Desktop\魏哥图片\2996290_221228028_2.jpg"/>
            <p:cNvPicPr/>
            <p:nvPr/>
          </p:nvPicPr>
          <p:blipFill>
            <a:blip r:embed="rId1"/>
            <a:stretch/>
          </p:blipFill>
          <p:spPr>
            <a:xfrm flipH="1">
              <a:off x="4037760" y="2435760"/>
              <a:ext cx="2388600" cy="14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矩形 18"/>
            <p:cNvSpPr/>
            <p:nvPr/>
          </p:nvSpPr>
          <p:spPr>
            <a:xfrm>
              <a:off x="3865680" y="4498560"/>
              <a:ext cx="306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玉米是我国的主要粮食作物之一，它既是粮食和饲料作物，又是化工和医学研究的原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组合 1031"/>
          <p:cNvGrpSpPr/>
          <p:nvPr/>
        </p:nvGrpSpPr>
        <p:grpSpPr>
          <a:xfrm>
            <a:off x="7353360" y="1585800"/>
            <a:ext cx="5788080" cy="4788000"/>
            <a:chOff x="7353360" y="1585800"/>
            <a:chExt cx="5788080" cy="4788000"/>
          </a:xfrm>
        </p:grpSpPr>
        <p:grpSp>
          <p:nvGrpSpPr>
            <p:cNvPr id="172" name="组合 20"/>
            <p:cNvGrpSpPr/>
            <p:nvPr/>
          </p:nvGrpSpPr>
          <p:grpSpPr>
            <a:xfrm>
              <a:off x="7353360" y="1585800"/>
              <a:ext cx="5788080" cy="4788000"/>
              <a:chOff x="7353360" y="1585800"/>
              <a:chExt cx="5788080" cy="4788000"/>
            </a:xfrm>
          </p:grpSpPr>
          <p:sp>
            <p:nvSpPr>
              <p:cNvPr id="173" name="矩形 21"/>
              <p:cNvSpPr/>
              <p:nvPr/>
            </p:nvSpPr>
            <p:spPr>
              <a:xfrm>
                <a:off x="7353360" y="1585800"/>
                <a:ext cx="5788080" cy="478800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Box 22"/>
              <p:cNvSpPr/>
              <p:nvPr/>
            </p:nvSpPr>
            <p:spPr>
              <a:xfrm>
                <a:off x="7430760" y="1823760"/>
                <a:ext cx="563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玉米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CMS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的优势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矩形 19"/>
            <p:cNvSpPr/>
            <p:nvPr/>
          </p:nvSpPr>
          <p:spPr>
            <a:xfrm>
              <a:off x="8028720" y="4678200"/>
              <a:ext cx="462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采用</a:t>
              </a: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MS</a:t>
              </a: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作为种质资源，在生产和研究上可以免去杂交时的人工去雄，既节约了劳动力的投入，又能获得质量较好的杂交种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Picture 13" descr="C:\Users\双儿\Desktop\魏哥图片\20081322444523_2.jpg"/>
            <p:cNvPicPr/>
            <p:nvPr/>
          </p:nvPicPr>
          <p:blipFill>
            <a:blip r:embed="rId2"/>
            <a:stretch/>
          </p:blipFill>
          <p:spPr>
            <a:xfrm>
              <a:off x="8192160" y="2435040"/>
              <a:ext cx="2356920" cy="176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组合 45"/>
          <p:cNvGrpSpPr/>
          <p:nvPr/>
        </p:nvGrpSpPr>
        <p:grpSpPr>
          <a:xfrm>
            <a:off x="13728600" y="1571760"/>
            <a:ext cx="5788080" cy="4787640"/>
            <a:chOff x="13728600" y="1571760"/>
            <a:chExt cx="5788080" cy="4787640"/>
          </a:xfrm>
        </p:grpSpPr>
        <p:grpSp>
          <p:nvGrpSpPr>
            <p:cNvPr id="178" name="组合 46"/>
            <p:cNvGrpSpPr/>
            <p:nvPr/>
          </p:nvGrpSpPr>
          <p:grpSpPr>
            <a:xfrm>
              <a:off x="13728600" y="1571760"/>
              <a:ext cx="5788080" cy="4787640"/>
              <a:chOff x="13728600" y="1571760"/>
              <a:chExt cx="5788080" cy="4787640"/>
            </a:xfrm>
          </p:grpSpPr>
          <p:grpSp>
            <p:nvGrpSpPr>
              <p:cNvPr id="179" name="组合 49"/>
              <p:cNvGrpSpPr/>
              <p:nvPr/>
            </p:nvGrpSpPr>
            <p:grpSpPr>
              <a:xfrm>
                <a:off x="13728600" y="1571760"/>
                <a:ext cx="5788080" cy="4787640"/>
                <a:chOff x="13728600" y="1571760"/>
                <a:chExt cx="5788080" cy="4787640"/>
              </a:xfrm>
            </p:grpSpPr>
            <p:sp>
              <p:nvSpPr>
                <p:cNvPr id="180" name="矩形 51"/>
                <p:cNvSpPr/>
                <p:nvPr/>
              </p:nvSpPr>
              <p:spPr>
                <a:xfrm>
                  <a:off x="13728600" y="1571760"/>
                  <a:ext cx="5788080" cy="4787640"/>
                </a:xfrm>
                <a:prstGeom prst="rect">
                  <a:avLst/>
                </a:prstGeom>
                <a:solidFill>
                  <a:srgbClr val="99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TextBox 52"/>
                <p:cNvSpPr/>
                <p:nvPr/>
              </p:nvSpPr>
              <p:spPr>
                <a:xfrm>
                  <a:off x="13806000" y="1809720"/>
                  <a:ext cx="563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玉米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CMS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的分类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矩形 50"/>
              <p:cNvSpPr/>
              <p:nvPr/>
            </p:nvSpPr>
            <p:spPr>
              <a:xfrm>
                <a:off x="14403960" y="4663800"/>
                <a:ext cx="4621320" cy="46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83" name="Picture 2" descr="C:\Users\双儿\Desktop\魏哥图片\14300000995600128732734412926.jpg"/>
            <p:cNvPicPr/>
            <p:nvPr/>
          </p:nvPicPr>
          <p:blipFill>
            <a:blip r:embed="rId3"/>
            <a:stretch/>
          </p:blipFill>
          <p:spPr>
            <a:xfrm>
              <a:off x="16247160" y="2435760"/>
              <a:ext cx="278532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3" descr=""/>
            <p:cNvPicPr/>
            <p:nvPr/>
          </p:nvPicPr>
          <p:blipFill>
            <a:blip r:embed="rId4"/>
            <a:stretch/>
          </p:blipFill>
          <p:spPr>
            <a:xfrm>
              <a:off x="13806000" y="4785840"/>
              <a:ext cx="5633280" cy="136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矩形 32"/>
          <p:cNvSpPr/>
          <p:nvPr/>
        </p:nvSpPr>
        <p:spPr>
          <a:xfrm>
            <a:off x="14178960" y="2432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恢复专效性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-0.7309 0.00371 E">
                                      <p:cBhvr>
                                        <p:cTn id="5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-0.7309 0.00371 E">
                                      <p:cBhvr>
                                        <p:cTn id="5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-0.7309 0.00371 E">
                                      <p:cBhvr>
                                        <p:cTn id="5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-0.7309 0.00371 E">
                                      <p:cBhvr>
                                        <p:cTn id="6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4" name="组合 3076"/>
          <p:cNvGrpSpPr/>
          <p:nvPr/>
        </p:nvGrpSpPr>
        <p:grpSpPr>
          <a:xfrm>
            <a:off x="625320" y="1596960"/>
            <a:ext cx="18443880" cy="4807080"/>
            <a:chOff x="625320" y="1596960"/>
            <a:chExt cx="18443880" cy="4807080"/>
          </a:xfrm>
        </p:grpSpPr>
        <p:grpSp>
          <p:nvGrpSpPr>
            <p:cNvPr id="195" name="组合 3075"/>
            <p:cNvGrpSpPr/>
            <p:nvPr/>
          </p:nvGrpSpPr>
          <p:grpSpPr>
            <a:xfrm>
              <a:off x="625320" y="1596960"/>
              <a:ext cx="18443880" cy="4807080"/>
              <a:chOff x="625320" y="1596960"/>
              <a:chExt cx="18443880" cy="4807080"/>
            </a:xfrm>
          </p:grpSpPr>
          <p:grpSp>
            <p:nvGrpSpPr>
              <p:cNvPr id="196" name="组合 28"/>
              <p:cNvGrpSpPr/>
              <p:nvPr/>
            </p:nvGrpSpPr>
            <p:grpSpPr>
              <a:xfrm>
                <a:off x="625320" y="1601280"/>
                <a:ext cx="12164040" cy="4802760"/>
                <a:chOff x="625320" y="1601280"/>
                <a:chExt cx="12164040" cy="4802760"/>
              </a:xfrm>
            </p:grpSpPr>
            <p:grpSp>
              <p:nvGrpSpPr>
                <p:cNvPr id="197" name="组合 14"/>
                <p:cNvGrpSpPr/>
                <p:nvPr/>
              </p:nvGrpSpPr>
              <p:grpSpPr>
                <a:xfrm>
                  <a:off x="625320" y="1616040"/>
                  <a:ext cx="5788440" cy="4788000"/>
                  <a:chOff x="625320" y="1616040"/>
                  <a:chExt cx="5788440" cy="4788000"/>
                </a:xfrm>
              </p:grpSpPr>
              <p:grpSp>
                <p:nvGrpSpPr>
                  <p:cNvPr id="198" name="组合 15"/>
                  <p:cNvGrpSpPr/>
                  <p:nvPr/>
                </p:nvGrpSpPr>
                <p:grpSpPr>
                  <a:xfrm>
                    <a:off x="625320" y="1616040"/>
                    <a:ext cx="5788440" cy="4788000"/>
                    <a:chOff x="625320" y="1616040"/>
                    <a:chExt cx="5788440" cy="4788000"/>
                  </a:xfrm>
                </p:grpSpPr>
                <p:sp>
                  <p:nvSpPr>
                    <p:cNvPr id="199" name="矩形 18"/>
                    <p:cNvSpPr/>
                    <p:nvPr/>
                  </p:nvSpPr>
                  <p:spPr>
                    <a:xfrm>
                      <a:off x="625320" y="1616040"/>
                      <a:ext cx="5788440" cy="4788000"/>
                    </a:xfrm>
                    <a:prstGeom prst="rect">
                      <a:avLst/>
                    </a:prstGeom>
                    <a:solidFill>
                      <a:srgbClr val="99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TextBox 19"/>
                    <p:cNvSpPr/>
                    <p:nvPr/>
                  </p:nvSpPr>
                  <p:spPr>
                    <a:xfrm>
                      <a:off x="702720" y="1854000"/>
                      <a:ext cx="5633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玉米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CMS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的优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矩形 16"/>
                  <p:cNvSpPr/>
                  <p:nvPr/>
                </p:nvSpPr>
                <p:spPr>
                  <a:xfrm>
                    <a:off x="1301040" y="4708440"/>
                    <a:ext cx="462132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采用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CMS</a:t>
                    </a:r>
                    <a:r>
                      <a:rPr b="0" lang="zh-CN" sz="24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作为种质资源，在生产和研究上可以免去杂交时的人工去雄，既节约了劳动力的投入，又能获得质量较好的杂交种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02" name="Picture 13" descr="C:\Users\双儿\Desktop\魏哥图片\20081322444523_2.jpg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64120" y="2465280"/>
                    <a:ext cx="2356920" cy="176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3" name="组合 20"/>
                <p:cNvGrpSpPr/>
                <p:nvPr/>
              </p:nvGrpSpPr>
              <p:grpSpPr>
                <a:xfrm>
                  <a:off x="7000920" y="1601280"/>
                  <a:ext cx="5788440" cy="4788000"/>
                  <a:chOff x="7000920" y="1601280"/>
                  <a:chExt cx="5788440" cy="4788000"/>
                </a:xfrm>
              </p:grpSpPr>
              <p:grpSp>
                <p:nvGrpSpPr>
                  <p:cNvPr id="204" name="组合 21"/>
                  <p:cNvGrpSpPr/>
                  <p:nvPr/>
                </p:nvGrpSpPr>
                <p:grpSpPr>
                  <a:xfrm>
                    <a:off x="7000920" y="1601280"/>
                    <a:ext cx="5788440" cy="4788000"/>
                    <a:chOff x="7000920" y="1601280"/>
                    <a:chExt cx="5788440" cy="4788000"/>
                  </a:xfrm>
                </p:grpSpPr>
                <p:grpSp>
                  <p:nvGrpSpPr>
                    <p:cNvPr id="205" name="组合 24"/>
                    <p:cNvGrpSpPr/>
                    <p:nvPr/>
                  </p:nvGrpSpPr>
                  <p:grpSpPr>
                    <a:xfrm>
                      <a:off x="7000920" y="1601280"/>
                      <a:ext cx="5788440" cy="4788000"/>
                      <a:chOff x="7000920" y="1601280"/>
                      <a:chExt cx="5788440" cy="4788000"/>
                    </a:xfrm>
                  </p:grpSpPr>
                  <p:sp>
                    <p:nvSpPr>
                      <p:cNvPr id="206" name="矩形 26"/>
                      <p:cNvSpPr/>
                      <p:nvPr/>
                    </p:nvSpPr>
                    <p:spPr>
                      <a:xfrm>
                        <a:off x="7000920" y="1601280"/>
                        <a:ext cx="5788440" cy="4788000"/>
                      </a:xfrm>
                      <a:prstGeom prst="rect">
                        <a:avLst/>
                      </a:prstGeom>
                      <a:solidFill>
                        <a:srgbClr val="9933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TextBox 27"/>
                      <p:cNvSpPr/>
                      <p:nvPr/>
                    </p:nvSpPr>
                    <p:spPr>
                      <a:xfrm>
                        <a:off x="7078320" y="1839240"/>
                        <a:ext cx="56336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400" spc="-1" strike="noStrike">
                            <a:solidFill>
                              <a:srgbClr val="ffffff"/>
                            </a:solidFill>
                            <a:latin typeface="黑体"/>
                            <a:ea typeface="黑体"/>
                          </a:rPr>
                          <a:t>玉米</a:t>
                        </a:r>
                        <a:r>
                          <a:rPr b="0" lang="en-US" sz="2400" spc="-1" strike="noStrike">
                            <a:solidFill>
                              <a:srgbClr val="ffffff"/>
                            </a:solidFill>
                            <a:latin typeface="黑体"/>
                            <a:ea typeface="黑体"/>
                          </a:rPr>
                          <a:t>CMS</a:t>
                        </a:r>
                        <a:r>
                          <a:rPr b="0" lang="zh-CN" sz="2400" spc="-1" strike="noStrike">
                            <a:solidFill>
                              <a:srgbClr val="ffffff"/>
                            </a:solidFill>
                            <a:latin typeface="黑体"/>
                            <a:ea typeface="黑体"/>
                          </a:rPr>
                          <a:t>的分类</a:t>
                        </a: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8" name="矩形 25"/>
                    <p:cNvSpPr/>
                    <p:nvPr/>
                  </p:nvSpPr>
                  <p:spPr>
                    <a:xfrm>
                      <a:off x="7676640" y="4693680"/>
                      <a:ext cx="4621320" cy="46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09" name="Picture 2" descr="C:\Users\双儿\Desktop\魏哥图片\14300000995600128732734412926.jpg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19840" y="2465280"/>
                    <a:ext cx="2785320" cy="20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0" name="Picture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70040" y="4797720"/>
                    <a:ext cx="549036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11" name="矩形 29"/>
              <p:cNvSpPr/>
              <p:nvPr/>
            </p:nvSpPr>
            <p:spPr>
              <a:xfrm>
                <a:off x="13280760" y="1596960"/>
                <a:ext cx="5788440" cy="478800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Box 30"/>
              <p:cNvSpPr/>
              <p:nvPr/>
            </p:nvSpPr>
            <p:spPr>
              <a:xfrm>
                <a:off x="13358520" y="1794960"/>
                <a:ext cx="563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玉米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CMS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的分类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3" name="Picture 2" descr="C:\Users\双儿\Desktop\魏哥图片\2008121221812353_2.jpg"/>
              <p:cNvPicPr/>
              <p:nvPr/>
            </p:nvPicPr>
            <p:blipFill>
              <a:blip r:embed="rId4"/>
              <a:stretch/>
            </p:blipFill>
            <p:spPr>
              <a:xfrm>
                <a:off x="13489920" y="3060720"/>
                <a:ext cx="2240640" cy="29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矩形 3072"/>
              <p:cNvSpPr/>
              <p:nvPr/>
            </p:nvSpPr>
            <p:spPr>
              <a:xfrm>
                <a:off x="13280760" y="2313000"/>
                <a:ext cx="309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根据核质基因互作的方式和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引起花粉败育的途径分类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矩形 3074"/>
              <p:cNvSpPr/>
              <p:nvPr/>
            </p:nvSpPr>
            <p:spPr>
              <a:xfrm>
                <a:off x="16165800" y="3510000"/>
                <a:ext cx="2411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mbria"/>
                    <a:ea typeface="黑体"/>
                  </a:rPr>
                  <a:t>细胞质雄性不育分为孢子体（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sporophytic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Cambria"/>
                    <a:ea typeface="黑体"/>
                  </a:rPr>
                  <a:t>）雄性不育和配子体（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gametophytic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Cambria"/>
                    <a:ea typeface="黑体"/>
                  </a:rPr>
                  <a:t>）雄性不育两种类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" name="矩形 3071"/>
            <p:cNvSpPr/>
            <p:nvPr/>
          </p:nvSpPr>
          <p:spPr>
            <a:xfrm>
              <a:off x="7424280" y="2462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根据恢复专效性分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组合 31"/>
          <p:cNvGrpSpPr/>
          <p:nvPr/>
        </p:nvGrpSpPr>
        <p:grpSpPr>
          <a:xfrm>
            <a:off x="-2916360" y="1585800"/>
            <a:ext cx="3107160" cy="4818240"/>
            <a:chOff x="-2916360" y="1585800"/>
            <a:chExt cx="3107160" cy="4818240"/>
          </a:xfrm>
        </p:grpSpPr>
        <p:grpSp>
          <p:nvGrpSpPr>
            <p:cNvPr id="218" name="组合 32"/>
            <p:cNvGrpSpPr/>
            <p:nvPr/>
          </p:nvGrpSpPr>
          <p:grpSpPr>
            <a:xfrm>
              <a:off x="-2916360" y="1585800"/>
              <a:ext cx="3106800" cy="4818240"/>
              <a:chOff x="-2916360" y="1585800"/>
              <a:chExt cx="3106800" cy="4818240"/>
            </a:xfrm>
          </p:grpSpPr>
          <p:sp>
            <p:nvSpPr>
              <p:cNvPr id="219" name="矩形 35"/>
              <p:cNvSpPr/>
              <p:nvPr/>
            </p:nvSpPr>
            <p:spPr>
              <a:xfrm>
                <a:off x="-2916360" y="1585800"/>
                <a:ext cx="3106800" cy="48182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Box 36"/>
              <p:cNvSpPr/>
              <p:nvPr/>
            </p:nvSpPr>
            <p:spPr>
              <a:xfrm>
                <a:off x="-2874600" y="1825200"/>
                <a:ext cx="302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玉米的简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Box 37"/>
              <p:cNvSpPr/>
              <p:nvPr/>
            </p:nvSpPr>
            <p:spPr>
              <a:xfrm>
                <a:off x="-2874600" y="4963680"/>
                <a:ext cx="2900160" cy="46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矩形 38"/>
              <p:cNvSpPr/>
              <p:nvPr/>
            </p:nvSpPr>
            <p:spPr>
              <a:xfrm>
                <a:off x="-1901880" y="4161960"/>
                <a:ext cx="79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aiz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3" name="Picture 2" descr="C:\Users\双儿\Desktop\魏哥图片\2996290_221228028_2.jpg"/>
            <p:cNvPicPr/>
            <p:nvPr/>
          </p:nvPicPr>
          <p:blipFill>
            <a:blip r:embed="rId5"/>
            <a:stretch/>
          </p:blipFill>
          <p:spPr>
            <a:xfrm flipH="1">
              <a:off x="-2702160" y="2464560"/>
              <a:ext cx="23875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矩形 34"/>
            <p:cNvSpPr/>
            <p:nvPr/>
          </p:nvSpPr>
          <p:spPr>
            <a:xfrm>
              <a:off x="-2874600" y="4528080"/>
              <a:ext cx="306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玉米是我国的主要粮食作物之一，它既是粮食和饲料作物，又是化工和医学研究的原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组合 39"/>
          <p:cNvGrpSpPr/>
          <p:nvPr/>
        </p:nvGrpSpPr>
        <p:grpSpPr>
          <a:xfrm>
            <a:off x="19334160" y="1571760"/>
            <a:ext cx="8209080" cy="4732200"/>
            <a:chOff x="19334160" y="1571760"/>
            <a:chExt cx="8209080" cy="4732200"/>
          </a:xfrm>
        </p:grpSpPr>
        <p:sp>
          <p:nvSpPr>
            <p:cNvPr id="226" name="矩形 40"/>
            <p:cNvSpPr/>
            <p:nvPr/>
          </p:nvSpPr>
          <p:spPr>
            <a:xfrm>
              <a:off x="19334160" y="1571760"/>
              <a:ext cx="8209080" cy="45284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Box 41"/>
            <p:cNvSpPr/>
            <p:nvPr/>
          </p:nvSpPr>
          <p:spPr>
            <a:xfrm>
              <a:off x="19633320" y="1793160"/>
              <a:ext cx="56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CMS</a:t>
              </a:r>
              <a:r>
                <a:rPr b="0" lang="zh-CN" sz="24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败育的分子机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19397880" y="2284920"/>
              <a:ext cx="8145360" cy="40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570-85B3-42D1-8E0E-4D4996C03AB4}" type="slidenum">
              <a:t>6</a:t>
            </a:fld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81481E-006 L -0.71128 0.00509 E">
                                      <p:cBhvr>
                                        <p:cTn id="6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-0.7309 0.00371 E">
                                      <p:cBhvr>
                                        <p:cTn id="6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128 0.00509 L -1.14444 0.00509 E">
                                      <p:cBhvr>
                                        <p:cTn id="7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7" name="组合 2"/>
          <p:cNvGrpSpPr/>
          <p:nvPr/>
        </p:nvGrpSpPr>
        <p:grpSpPr>
          <a:xfrm>
            <a:off x="528480" y="1833480"/>
            <a:ext cx="8209080" cy="4732560"/>
            <a:chOff x="528480" y="1833480"/>
            <a:chExt cx="8209080" cy="4732560"/>
          </a:xfrm>
        </p:grpSpPr>
        <p:sp>
          <p:nvSpPr>
            <p:cNvPr id="238" name="矩形 3"/>
            <p:cNvSpPr/>
            <p:nvPr/>
          </p:nvSpPr>
          <p:spPr>
            <a:xfrm>
              <a:off x="528480" y="1833480"/>
              <a:ext cx="8209080" cy="45288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Box 4"/>
            <p:cNvSpPr/>
            <p:nvPr/>
          </p:nvSpPr>
          <p:spPr>
            <a:xfrm>
              <a:off x="827640" y="2054880"/>
              <a:ext cx="56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CMS</a:t>
              </a:r>
              <a:r>
                <a:rPr b="0" lang="zh-CN" sz="24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败育的分子机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0" name="Picture 2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592200" y="2546640"/>
              <a:ext cx="8145360" cy="401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组合 8"/>
          <p:cNvGrpSpPr/>
          <p:nvPr/>
        </p:nvGrpSpPr>
        <p:grpSpPr>
          <a:xfrm>
            <a:off x="3995640" y="1711440"/>
            <a:ext cx="3035520" cy="939600"/>
            <a:chOff x="3995640" y="1711440"/>
            <a:chExt cx="3035520" cy="939600"/>
          </a:xfrm>
        </p:grpSpPr>
        <p:sp>
          <p:nvSpPr>
            <p:cNvPr id="242" name="圆角矩形标注 7"/>
            <p:cNvSpPr/>
            <p:nvPr/>
          </p:nvSpPr>
          <p:spPr>
            <a:xfrm>
              <a:off x="3995640" y="1711440"/>
              <a:ext cx="3035520" cy="93960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矩形 6"/>
            <p:cNvSpPr/>
            <p:nvPr/>
          </p:nvSpPr>
          <p:spPr>
            <a:xfrm>
              <a:off x="4097520" y="1711440"/>
              <a:ext cx="293364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 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高等植物的细胞质雄性不育性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同叶绿体的</a:t>
              </a:r>
              <a:r>
                <a:rPr b="0" lang="en-US" sz="12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DNA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叶绿体蛋白质以及超微结构存在一定的联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组合 14"/>
          <p:cNvGrpSpPr/>
          <p:nvPr/>
        </p:nvGrpSpPr>
        <p:grpSpPr>
          <a:xfrm>
            <a:off x="826920" y="5518080"/>
            <a:ext cx="4572000" cy="797040"/>
            <a:chOff x="826920" y="5518080"/>
            <a:chExt cx="4572000" cy="797040"/>
          </a:xfrm>
        </p:grpSpPr>
        <p:sp>
          <p:nvSpPr>
            <p:cNvPr id="245" name="圆角矩形标注 13"/>
            <p:cNvSpPr/>
            <p:nvPr/>
          </p:nvSpPr>
          <p:spPr>
            <a:xfrm flipV="1">
              <a:off x="826920" y="5522400"/>
              <a:ext cx="3960720" cy="792720"/>
            </a:xfrm>
            <a:prstGeom prst="wedgeRoundRectCallout">
              <a:avLst>
                <a:gd name="adj1" fmla="val 46263"/>
                <a:gd name="adj2" fmla="val 67296"/>
                <a:gd name="adj3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矩形 9"/>
            <p:cNvSpPr/>
            <p:nvPr/>
          </p:nvSpPr>
          <p:spPr>
            <a:xfrm>
              <a:off x="826920" y="5518080"/>
              <a:ext cx="457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ayA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对</a:t>
              </a:r>
              <a:r>
                <a:rPr b="0" lang="en-US" sz="12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safflower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的研究表明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在不育系和恢复系之间有</a:t>
              </a:r>
              <a:r>
                <a:rPr b="0" lang="en-US" sz="12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25%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的线粒体</a:t>
              </a:r>
              <a:r>
                <a:rPr b="0" lang="en-US" sz="12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DNA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存在差异</a:t>
              </a:r>
              <a:r>
                <a:rPr b="0" lang="en-US" sz="12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[7]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这表明线粒体更有可能是决定胞质雄性不育的因素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组合 24"/>
          <p:cNvGrpSpPr/>
          <p:nvPr/>
        </p:nvGrpSpPr>
        <p:grpSpPr>
          <a:xfrm>
            <a:off x="6281640" y="4094280"/>
            <a:ext cx="2862360" cy="430200"/>
            <a:chOff x="6281640" y="4094280"/>
            <a:chExt cx="2862360" cy="430200"/>
          </a:xfrm>
        </p:grpSpPr>
        <p:sp>
          <p:nvSpPr>
            <p:cNvPr id="248" name="圆角矩形标注 16"/>
            <p:cNvSpPr/>
            <p:nvPr/>
          </p:nvSpPr>
          <p:spPr>
            <a:xfrm>
              <a:off x="6281640" y="4094280"/>
              <a:ext cx="2862360" cy="43020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矩形 15"/>
            <p:cNvSpPr/>
            <p:nvPr/>
          </p:nvSpPr>
          <p:spPr>
            <a:xfrm>
              <a:off x="6281640" y="4094280"/>
              <a:ext cx="2862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线粒体基因组分子内或分子间的重组或重排，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可以形成嵌合基因而导致</a:t>
              </a:r>
              <a:r>
                <a:rPr b="0" lang="en-US" sz="11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CMS</a:t>
              </a: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发生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组合 20"/>
          <p:cNvGrpSpPr/>
          <p:nvPr/>
        </p:nvGrpSpPr>
        <p:grpSpPr>
          <a:xfrm>
            <a:off x="6381720" y="2100240"/>
            <a:ext cx="2865600" cy="1098720"/>
            <a:chOff x="6381720" y="2100240"/>
            <a:chExt cx="2865600" cy="1098720"/>
          </a:xfrm>
        </p:grpSpPr>
        <p:sp>
          <p:nvSpPr>
            <p:cNvPr id="251" name="圆角矩形标注 19"/>
            <p:cNvSpPr/>
            <p:nvPr/>
          </p:nvSpPr>
          <p:spPr>
            <a:xfrm>
              <a:off x="6381720" y="2100240"/>
              <a:ext cx="2862720" cy="1098720"/>
            </a:xfrm>
            <a:prstGeom prst="wedgeRoundRectCallout">
              <a:avLst>
                <a:gd name="adj1" fmla="val -40805"/>
                <a:gd name="adj2" fmla="val 60208"/>
                <a:gd name="adj3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矩形 18"/>
            <p:cNvSpPr/>
            <p:nvPr/>
          </p:nvSpPr>
          <p:spPr>
            <a:xfrm>
              <a:off x="6384600" y="2141280"/>
              <a:ext cx="286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RNA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不充分编辑或偏离编辑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在</a:t>
              </a:r>
              <a:r>
                <a:rPr b="0" lang="en-US" sz="12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CMS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品系中形成大量的非正常的编辑产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而妨碍正常功能的进行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从而导致了</a:t>
              </a:r>
              <a:r>
                <a:rPr b="0" lang="en-US" sz="12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CMS</a:t>
              </a:r>
              <a:r>
                <a:rPr b="0" lang="zh-CN" sz="12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的发生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组合 23"/>
          <p:cNvGrpSpPr/>
          <p:nvPr/>
        </p:nvGrpSpPr>
        <p:grpSpPr>
          <a:xfrm>
            <a:off x="6324480" y="4896000"/>
            <a:ext cx="2745000" cy="949320"/>
            <a:chOff x="6324480" y="4896000"/>
            <a:chExt cx="2745000" cy="949320"/>
          </a:xfrm>
        </p:grpSpPr>
        <p:sp>
          <p:nvSpPr>
            <p:cNvPr id="254" name="圆角矩形标注 22"/>
            <p:cNvSpPr/>
            <p:nvPr/>
          </p:nvSpPr>
          <p:spPr>
            <a:xfrm>
              <a:off x="6324480" y="4906080"/>
              <a:ext cx="2736360" cy="93924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矩形 21"/>
            <p:cNvSpPr/>
            <p:nvPr/>
          </p:nvSpPr>
          <p:spPr>
            <a:xfrm>
              <a:off x="6333120" y="4896000"/>
              <a:ext cx="273636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一般认为，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mtDNA</a:t>
              </a: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类质粒与</a:t>
              </a:r>
              <a:r>
                <a:rPr b="0" lang="en-US" sz="11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CMS</a:t>
              </a: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并不存在简单的联系，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不是导致</a:t>
              </a:r>
              <a:r>
                <a:rPr b="0" lang="en-US" sz="11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CMS</a:t>
              </a: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的关键因子，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但</a:t>
              </a:r>
              <a:r>
                <a:rPr b="0" lang="en-US" sz="11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mtDNA</a:t>
              </a: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类质粒的存在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增加了线粒体</a:t>
              </a:r>
              <a:r>
                <a:rPr b="0" lang="en-US" sz="11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DNA</a:t>
              </a:r>
              <a:r>
                <a:rPr b="0" lang="zh-CN" sz="1100" spc="-1" strike="noStrike">
                  <a:solidFill>
                    <a:srgbClr val="ffffff"/>
                  </a:solidFill>
                  <a:latin typeface="Cambria"/>
                  <a:ea typeface="黑体"/>
                </a:rPr>
                <a:t>的多态性。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4" name="组合 2"/>
          <p:cNvGrpSpPr/>
          <p:nvPr/>
        </p:nvGrpSpPr>
        <p:grpSpPr>
          <a:xfrm>
            <a:off x="528480" y="1800360"/>
            <a:ext cx="8209080" cy="4527360"/>
            <a:chOff x="528480" y="1800360"/>
            <a:chExt cx="8209080" cy="4527360"/>
          </a:xfrm>
        </p:grpSpPr>
        <p:sp>
          <p:nvSpPr>
            <p:cNvPr id="265" name="矩形 3"/>
            <p:cNvSpPr/>
            <p:nvPr/>
          </p:nvSpPr>
          <p:spPr>
            <a:xfrm>
              <a:off x="528480" y="1800360"/>
              <a:ext cx="8209080" cy="45273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Box 4"/>
            <p:cNvSpPr/>
            <p:nvPr/>
          </p:nvSpPr>
          <p:spPr>
            <a:xfrm>
              <a:off x="827640" y="2021760"/>
              <a:ext cx="5633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矩形 6"/>
          <p:cNvSpPr/>
          <p:nvPr/>
        </p:nvSpPr>
        <p:spPr>
          <a:xfrm>
            <a:off x="671400" y="2006640"/>
            <a:ext cx="39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mbria"/>
                <a:ea typeface="黑体"/>
              </a:rPr>
              <a:t>玉米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CMS</a:t>
            </a:r>
            <a:r>
              <a:rPr b="0" lang="zh-CN" sz="2400" spc="-1" strike="noStrike">
                <a:solidFill>
                  <a:srgbClr val="ffffff"/>
                </a:solidFill>
                <a:latin typeface="Cambria"/>
                <a:ea typeface="黑体"/>
              </a:rPr>
              <a:t>恢复基因研究进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矩形 7"/>
          <p:cNvSpPr/>
          <p:nvPr/>
        </p:nvSpPr>
        <p:spPr>
          <a:xfrm>
            <a:off x="706320" y="2490840"/>
            <a:ext cx="29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玉米的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-C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的育性恢复机理比较复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763640" y="3137040"/>
            <a:ext cx="6821640" cy="30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0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直接连接符 5"/>
          <p:cNvSpPr/>
          <p:nvPr/>
        </p:nvSpPr>
        <p:spPr>
          <a:xfrm>
            <a:off x="1295280" y="692280"/>
            <a:ext cx="7848720" cy="14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斜纹 6"/>
          <p:cNvSpPr/>
          <p:nvPr/>
        </p:nvSpPr>
        <p:spPr>
          <a:xfrm>
            <a:off x="-11160" y="-12600"/>
            <a:ext cx="3490920" cy="1412640"/>
          </a:xfrm>
          <a:prstGeom prst="pi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椭圆 7"/>
          <p:cNvSpPr/>
          <p:nvPr/>
        </p:nvSpPr>
        <p:spPr>
          <a:xfrm>
            <a:off x="3348000" y="434880"/>
            <a:ext cx="515880" cy="51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椭圆 8"/>
          <p:cNvSpPr/>
          <p:nvPr/>
        </p:nvSpPr>
        <p:spPr>
          <a:xfrm>
            <a:off x="414036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椭圆 9"/>
          <p:cNvSpPr/>
          <p:nvPr/>
        </p:nvSpPr>
        <p:spPr>
          <a:xfrm>
            <a:off x="4960800" y="434880"/>
            <a:ext cx="51624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椭圆 10"/>
          <p:cNvSpPr/>
          <p:nvPr/>
        </p:nvSpPr>
        <p:spPr>
          <a:xfrm>
            <a:off x="579600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椭圆 11"/>
          <p:cNvSpPr/>
          <p:nvPr/>
        </p:nvSpPr>
        <p:spPr>
          <a:xfrm>
            <a:off x="6661080" y="434880"/>
            <a:ext cx="515880" cy="515880"/>
          </a:xfrm>
          <a:prstGeom prst="ellipse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20124600">
            <a:off x="-84240" y="279360"/>
            <a:ext cx="2759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8" name="组合 2"/>
          <p:cNvGrpSpPr/>
          <p:nvPr/>
        </p:nvGrpSpPr>
        <p:grpSpPr>
          <a:xfrm>
            <a:off x="528480" y="1800360"/>
            <a:ext cx="8209080" cy="4527360"/>
            <a:chOff x="528480" y="1800360"/>
            <a:chExt cx="8209080" cy="4527360"/>
          </a:xfrm>
        </p:grpSpPr>
        <p:sp>
          <p:nvSpPr>
            <p:cNvPr id="279" name="矩形 3"/>
            <p:cNvSpPr/>
            <p:nvPr/>
          </p:nvSpPr>
          <p:spPr>
            <a:xfrm>
              <a:off x="528480" y="1800360"/>
              <a:ext cx="8209080" cy="45273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Box 4"/>
            <p:cNvSpPr/>
            <p:nvPr/>
          </p:nvSpPr>
          <p:spPr>
            <a:xfrm>
              <a:off x="827640" y="2021760"/>
              <a:ext cx="5633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矩形 5"/>
          <p:cNvSpPr/>
          <p:nvPr/>
        </p:nvSpPr>
        <p:spPr>
          <a:xfrm>
            <a:off x="5364000" y="2708280"/>
            <a:ext cx="320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恢复基因对转录本的影响有两个方面，一方面恢复基因改变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相关基因的转录模式，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育性得到恢复。另一方面，恢复基因可通过抑制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相关基因的转录，降低转录本，从而使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育性得到恢复。影响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相关基因的转录本的加工、编辑和翻译，核基因改变与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CMS</a:t>
            </a:r>
            <a:r>
              <a:rPr b="0" lang="zh-CN" sz="1800" spc="-1" strike="noStrike">
                <a:solidFill>
                  <a:srgbClr val="ffffff"/>
                </a:solidFill>
                <a:latin typeface="Cambria"/>
                <a:ea typeface="黑体"/>
              </a:rPr>
              <a:t>相关基因的表达，可能与这些基因的转录加工有关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Users\双儿\Desktop\魏哥图片\200932212620744_2.jpg"/>
          <p:cNvPicPr/>
          <p:nvPr/>
        </p:nvPicPr>
        <p:blipFill>
          <a:blip r:embed="rId1"/>
          <a:stretch/>
        </p:blipFill>
        <p:spPr>
          <a:xfrm>
            <a:off x="812880" y="2666880"/>
            <a:ext cx="4376520" cy="3283200"/>
          </a:xfrm>
          <a:prstGeom prst="rect">
            <a:avLst/>
          </a:prstGeom>
          <a:ln w="0">
            <a:noFill/>
          </a:ln>
        </p:spPr>
      </p:pic>
      <p:sp>
        <p:nvSpPr>
          <p:cNvPr id="283" name="矩形 7"/>
          <p:cNvSpPr/>
          <p:nvPr/>
        </p:nvSpPr>
        <p:spPr>
          <a:xfrm>
            <a:off x="671400" y="2006640"/>
            <a:ext cx="39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mbria"/>
                <a:ea typeface="黑体"/>
              </a:rPr>
              <a:t>玉米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CMS</a:t>
            </a:r>
            <a:r>
              <a:rPr b="0" lang="zh-CN" sz="2400" spc="-1" strike="noStrike">
                <a:solidFill>
                  <a:srgbClr val="ffffff"/>
                </a:solidFill>
                <a:latin typeface="Cambria"/>
                <a:ea typeface="黑体"/>
              </a:rPr>
              <a:t>恢复基因研究进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C:\Users\双儿\Desktop\魏哥图片\图片1.png"/>
          <p:cNvPicPr/>
          <p:nvPr/>
        </p:nvPicPr>
        <p:blipFill>
          <a:blip r:embed="rId2"/>
          <a:stretch/>
        </p:blipFill>
        <p:spPr>
          <a:xfrm>
            <a:off x="8089920" y="5923080"/>
            <a:ext cx="885960" cy="81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2:13:00Z</dcterms:created>
  <dc:creator>www.pptbz.com</dc:creator>
  <dc:description/>
  <dc:language>en-US</dc:language>
  <cp:lastModifiedBy>雨林木风</cp:lastModifiedBy>
  <dcterms:modified xsi:type="dcterms:W3CDTF">2015-08-03T12:30:58Z</dcterms:modified>
  <cp:revision>88</cp:revision>
  <dc:subject/>
  <dc:title>玉米CMS-C育性恢复特异片段 鉴定分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