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01E-5426-4DBB-8D40-BB57F564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ED3-898A-4E0D-BFD2-58CF51D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2E3-B400-4CA4-88BE-4A70CFD3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CE1-6D3A-41FB-833D-5BD50A7A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C60-750E-444C-8418-2A18F38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4C7-62D3-4B47-870D-DE0C277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39B-9E8E-45E3-8682-3B73A0EC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A59-8FD4-452D-8A2C-B70A461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CB2-8C50-49D2-9A24-C5430FD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956-C903-47B8-A71D-8FA6617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2D7-503B-4449-A96C-4F07F98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C82-EFAE-4206-9912-62DAF47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0CE-E55F-44C3-92D5-49C4CDD1B2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8692-A2C8-4CC9-B090-DA376A0305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             </a:t>
            </a: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1"/>
          <p:cNvSpPr/>
          <p:nvPr/>
        </p:nvSpPr>
        <p:spPr>
          <a:xfrm>
            <a:off x="9756720" y="19782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          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        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7171"/>
                </a:solidFill>
                <a:latin typeface="黑体"/>
                <a:ea typeface="黑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a1a1"/>
                </a:solidFill>
                <a:latin typeface="黑体"/>
                <a:ea typeface="黑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4"/>
          <p:cNvSpPr/>
          <p:nvPr/>
        </p:nvSpPr>
        <p:spPr>
          <a:xfrm>
            <a:off x="-7308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7f7f7f"/>
                </a:solidFill>
                <a:latin typeface="黑体"/>
                <a:ea typeface="黑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6400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731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740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741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742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750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751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762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>
                <a:gd name="textAreaLeft" fmla="*/ 172800 w 786600"/>
                <a:gd name="textAreaRight" fmla="*/ 613800 w 786600"/>
                <a:gd name="textAreaTop" fmla="*/ 176400 h 802440"/>
                <a:gd name="textAreaBottom" fmla="*/ 626040 h 80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771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773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778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791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793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798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803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808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810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818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>
              <a:gd name="textAreaLeft" fmla="*/ 436680 w 2325600"/>
              <a:gd name="textAreaRight" fmla="*/ 1888920 w 2325600"/>
              <a:gd name="textAreaTop" fmla="*/ 335880 h 1789200"/>
              <a:gd name="textAreaBottom" fmla="*/ 145332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47" y="21600"/>
                </a:lnTo>
                <a:lnTo>
                  <a:pt x="4153" y="2160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604944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55"/>
          <p:cNvGrpSpPr/>
          <p:nvPr/>
        </p:nvGrpSpPr>
        <p:grpSpPr>
          <a:xfrm>
            <a:off x="127440" y="2280240"/>
            <a:ext cx="4977360" cy="4977720"/>
            <a:chOff x="127440" y="2280240"/>
            <a:chExt cx="4977360" cy="4977720"/>
          </a:xfrm>
        </p:grpSpPr>
        <p:sp>
          <p:nvSpPr>
            <p:cNvPr id="69" name="饼形 12"/>
            <p:cNvSpPr/>
            <p:nvPr/>
          </p:nvSpPr>
          <p:spPr>
            <a:xfrm>
              <a:off x="800280" y="2952720"/>
              <a:ext cx="3632040" cy="3632400"/>
            </a:xfrm>
            <a:prstGeom prst="pi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饼形 13"/>
            <p:cNvSpPr/>
            <p:nvPr/>
          </p:nvSpPr>
          <p:spPr>
            <a:xfrm rot="19828800">
              <a:off x="799920" y="2952360"/>
              <a:ext cx="3632040" cy="3632400"/>
            </a:xfrm>
            <a:prstGeom prst="pie">
              <a:avLst/>
            </a:prstGeom>
            <a:solidFill>
              <a:srgbClr val="740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饼形 14"/>
            <p:cNvSpPr/>
            <p:nvPr/>
          </p:nvSpPr>
          <p:spPr>
            <a:xfrm rot="18042000">
              <a:off x="799920" y="2952720"/>
              <a:ext cx="3632400" cy="3632040"/>
            </a:xfrm>
            <a:prstGeom prst="pie">
              <a:avLst/>
            </a:prstGeom>
            <a:solidFill>
              <a:srgbClr val="bc008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73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"/>
          <p:cNvSpPr/>
          <p:nvPr/>
        </p:nvSpPr>
        <p:spPr>
          <a:xfrm>
            <a:off x="6730920" y="1254240"/>
            <a:ext cx="504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107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108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111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114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117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120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123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126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129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132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135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138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46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604944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144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145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146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149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152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155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158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161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162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165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168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171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174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6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177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178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179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182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185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188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191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194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197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198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201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204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207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210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2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213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214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215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218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221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224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227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230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231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234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237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240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243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246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247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250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253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256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259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1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262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263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264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267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270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273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276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279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280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283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286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289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292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293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294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297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300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301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304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307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310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313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316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317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318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321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324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327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330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333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334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337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340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343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346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349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350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353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356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359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392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394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397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400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2" name="图片 47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403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8" descr=""/>
          <p:cNvPicPr/>
          <p:nvPr/>
        </p:nvPicPr>
        <p:blipFill>
          <a:blip r:embed="rId1"/>
          <a:srcRect l="0" t="-526" r="71570" b="4806"/>
          <a:stretch/>
        </p:blipFill>
        <p:spPr>
          <a:xfrm flipH="1"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430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433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436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饼形 29"/>
          <p:cNvSpPr/>
          <p:nvPr/>
        </p:nvSpPr>
        <p:spPr>
          <a:xfrm rot="16200000">
            <a:off x="6735600" y="1520280"/>
            <a:ext cx="3971880" cy="3972240"/>
          </a:xfrm>
          <a:prstGeom prst="pie">
            <a:avLst/>
          </a:prstGeom>
          <a:solidFill>
            <a:srgbClr val="ed7d31"/>
          </a:solidFill>
          <a:ln w="0">
            <a:solidFill>
              <a:srgbClr val="ed7d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饼形 31"/>
          <p:cNvSpPr/>
          <p:nvPr/>
        </p:nvSpPr>
        <p:spPr>
          <a:xfrm rot="18847800">
            <a:off x="6563520" y="1378440"/>
            <a:ext cx="4305240" cy="4303800"/>
          </a:xfrm>
          <a:prstGeom prst="pie">
            <a:avLst/>
          </a:prstGeom>
          <a:solidFill>
            <a:srgbClr val="e2266e"/>
          </a:solidFill>
          <a:ln w="0">
            <a:solidFill>
              <a:srgbClr val="e53f7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饼形 32"/>
          <p:cNvSpPr/>
          <p:nvPr/>
        </p:nvSpPr>
        <p:spPr>
          <a:xfrm rot="21540000">
            <a:off x="7037280" y="1843200"/>
            <a:ext cx="3386160" cy="3386160"/>
          </a:xfrm>
          <a:prstGeom prst="pie">
            <a:avLst/>
          </a:prstGeom>
          <a:solidFill>
            <a:srgbClr val="c0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饼形 33"/>
          <p:cNvSpPr/>
          <p:nvPr/>
        </p:nvSpPr>
        <p:spPr>
          <a:xfrm rot="2640000">
            <a:off x="7665840" y="2479680"/>
            <a:ext cx="2124000" cy="2124000"/>
          </a:xfrm>
          <a:prstGeom prst="pie">
            <a:avLst/>
          </a:prstGeom>
          <a:solidFill>
            <a:srgbClr val="7030a0"/>
          </a:solidFill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饼形 34"/>
          <p:cNvSpPr/>
          <p:nvPr/>
        </p:nvSpPr>
        <p:spPr>
          <a:xfrm rot="5340000">
            <a:off x="7812360" y="2613600"/>
            <a:ext cx="1820880" cy="1819080"/>
          </a:xfrm>
          <a:prstGeom prst="pie">
            <a:avLst/>
          </a:prstGeom>
          <a:solidFill>
            <a:srgbClr val="5b9bd5"/>
          </a:solidFill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饼形 35"/>
          <p:cNvSpPr/>
          <p:nvPr/>
        </p:nvSpPr>
        <p:spPr>
          <a:xfrm rot="8040000">
            <a:off x="8074440" y="2899440"/>
            <a:ext cx="1273320" cy="1271520"/>
          </a:xfrm>
          <a:prstGeom prst="pie">
            <a:avLst/>
          </a:prstGeom>
          <a:solidFill>
            <a:srgbClr val="70ad47"/>
          </a:solidFill>
          <a:ln w="0">
            <a:solidFill>
              <a:srgbClr val="70ad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饼形 36"/>
          <p:cNvSpPr/>
          <p:nvPr/>
        </p:nvSpPr>
        <p:spPr>
          <a:xfrm rot="10740000">
            <a:off x="8206920" y="3022200"/>
            <a:ext cx="1015920" cy="1014480"/>
          </a:xfrm>
          <a:prstGeom prst="pie">
            <a:avLst/>
          </a:prstGeom>
          <a:solidFill>
            <a:srgbClr val="7e0000"/>
          </a:solidFill>
          <a:ln w="0">
            <a:solidFill>
              <a:srgbClr val="7e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饼形 37"/>
          <p:cNvSpPr/>
          <p:nvPr/>
        </p:nvSpPr>
        <p:spPr>
          <a:xfrm rot="13440000">
            <a:off x="8345160" y="3147480"/>
            <a:ext cx="743040" cy="743040"/>
          </a:xfrm>
          <a:prstGeom prst="pie">
            <a:avLst/>
          </a:prstGeom>
          <a:solidFill>
            <a:srgbClr val="f2b800"/>
          </a:solidFill>
          <a:ln w="0">
            <a:solidFill>
              <a:srgbClr val="f2b8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弧形 55"/>
          <p:cNvSpPr/>
          <p:nvPr/>
        </p:nvSpPr>
        <p:spPr>
          <a:xfrm rot="21237000">
            <a:off x="8202600" y="241200"/>
            <a:ext cx="1515960" cy="1517760"/>
          </a:xfrm>
          <a:prstGeom prst="pie">
            <a:avLst/>
          </a:prstGeom>
          <a:noFill/>
          <a:ln w="38160">
            <a:solidFill>
              <a:srgbClr val="a5a5a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465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68320" y="1711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474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492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510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537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541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545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549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553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557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>
              <a:gd name="textAreaLeft" fmla="*/ 77400 w 330480"/>
              <a:gd name="textAreaRight" fmla="*/ 252720 w 330480"/>
              <a:gd name="textAreaTop" fmla="*/ 63360 h 541440"/>
              <a:gd name="textAreaBottom" fmla="*/ 339840 h 54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>
              <a:gd name="textAreaLeft" fmla="*/ 43200 w 183960"/>
              <a:gd name="textAreaRight" fmla="*/ 140760 w 18396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566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569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811080" y="1430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575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576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579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582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585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591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609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610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615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620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625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630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635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648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650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658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670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672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L 形 87"/>
            <p:cNvSpPr/>
            <p:nvPr/>
          </p:nvSpPr>
          <p:spPr>
            <a:xfrm>
              <a:off x="4624560" y="1745280"/>
              <a:ext cx="339120" cy="4089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682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684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693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695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组合 335"/>
          <p:cNvGrpSpPr/>
          <p:nvPr/>
        </p:nvGrpSpPr>
        <p:grpSpPr>
          <a:xfrm>
            <a:off x="4494240" y="5178600"/>
            <a:ext cx="1182600" cy="1266480"/>
            <a:chOff x="4494240" y="5178600"/>
            <a:chExt cx="1182600" cy="1266480"/>
          </a:xfrm>
        </p:grpSpPr>
        <p:grpSp>
          <p:nvGrpSpPr>
            <p:cNvPr id="705" name="组合 298"/>
            <p:cNvGrpSpPr/>
            <p:nvPr/>
          </p:nvGrpSpPr>
          <p:grpSpPr>
            <a:xfrm>
              <a:off x="4494240" y="5718960"/>
              <a:ext cx="1182600" cy="726120"/>
              <a:chOff x="4494240" y="5718960"/>
              <a:chExt cx="1182600" cy="726120"/>
            </a:xfrm>
          </p:grpSpPr>
          <p:sp>
            <p:nvSpPr>
              <p:cNvPr id="706" name="同侧圆角矩形 290"/>
              <p:cNvSpPr/>
              <p:nvPr/>
            </p:nvSpPr>
            <p:spPr>
              <a:xfrm>
                <a:off x="4804560" y="6057000"/>
                <a:ext cx="562320" cy="388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圆角矩形 291"/>
              <p:cNvSpPr/>
              <p:nvPr/>
            </p:nvSpPr>
            <p:spPr>
              <a:xfrm rot="19838400">
                <a:off x="4736160" y="5715000"/>
                <a:ext cx="110880" cy="47988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479880"/>
                  <a:gd name="textAreaBottom" fmla="*/ 474480 h 479880"/>
                </a:gdLst>
                <a:ahLst/>
                <a:rect l="textAreaLeft" t="textAreaTop" r="textAreaRight" b="textAreaBottom"/>
                <a:pathLst>
                  <a:path w="21600" h="93250">
                    <a:moveTo>
                      <a:pt x="3600" y="0"/>
                    </a:moveTo>
                    <a:arcTo wR="3600" hR="3600" stAng="16200000" swAng="-5400000"/>
                    <a:lnTo>
                      <a:pt x="0" y="89650"/>
                    </a:lnTo>
                    <a:arcTo wR="3600" hR="3600" stAng="10800000" swAng="-5400000"/>
                    <a:lnTo>
                      <a:pt x="18000" y="932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92"/>
              <p:cNvSpPr/>
              <p:nvPr/>
            </p:nvSpPr>
            <p:spPr>
              <a:xfrm>
                <a:off x="4494240" y="5724720"/>
                <a:ext cx="221760" cy="5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矩形 294"/>
              <p:cNvSpPr/>
              <p:nvPr/>
            </p:nvSpPr>
            <p:spPr>
              <a:xfrm>
                <a:off x="5465160" y="5732280"/>
                <a:ext cx="211680" cy="5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椭圆 295"/>
              <p:cNvSpPr/>
              <p:nvPr/>
            </p:nvSpPr>
            <p:spPr>
              <a:xfrm>
                <a:off x="4944600" y="5757480"/>
                <a:ext cx="276120" cy="27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圆角矩形 296"/>
              <p:cNvSpPr/>
              <p:nvPr/>
            </p:nvSpPr>
            <p:spPr>
              <a:xfrm flipH="1" rot="1761600">
                <a:off x="5330520" y="5722200"/>
                <a:ext cx="110880" cy="47988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479880"/>
                  <a:gd name="textAreaBottom" fmla="*/ 474480 h 479880"/>
                </a:gdLst>
                <a:ahLst/>
                <a:rect l="textAreaLeft" t="textAreaTop" r="textAreaRight" b="textAreaBottom"/>
                <a:pathLst>
                  <a:path w="21600" h="93250">
                    <a:moveTo>
                      <a:pt x="3600" y="0"/>
                    </a:moveTo>
                    <a:arcTo wR="3600" hR="3600" stAng="16200000" swAng="-5400000"/>
                    <a:lnTo>
                      <a:pt x="0" y="89650"/>
                    </a:lnTo>
                    <a:arcTo wR="3600" hR="3600" stAng="10800000" swAng="-5400000"/>
                    <a:lnTo>
                      <a:pt x="18000" y="932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724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6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433-F9BD-4518-9716-99E269A09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dc:language>en-US</dc:language>
  <cp:lastModifiedBy>李付</cp:lastModifiedBy>
  <dcterms:modified xsi:type="dcterms:W3CDTF">2015-08-03T12:32:18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