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5100-BE67-4918-A564-4C7F751F4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A3C7-3C91-44EB-AC1D-D89F3897E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95D7-C9F9-458A-B4CF-7E4D6A205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C8AD-9AE7-4D3E-BD49-EED8EA7A1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6279-9F74-419D-8501-A0C3DAC03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5E87-12F7-46A1-BA5D-7D90F0E76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CD94-B66A-42E4-99FB-A61DAE4BF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18B2-897A-4703-8EA4-CE31F8E39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BCD2-912E-49C2-A699-E70254B51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5939-955E-4ED0-B480-76AA1BC4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467B-1A34-4926-99E9-1311BD873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50E4-993A-4553-B8D9-BFF1497D5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950B6-B627-4D4A-966E-BC92BC093151}" type="datetime">
              <a:rPr b="0" lang="zh-CN" sz="9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A7E3E-BC56-4BFA-BC14-1C397BBAFC1F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2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10920" y="549360"/>
            <a:ext cx="598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三步走做好年终报告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在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2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39640" y="371808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5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7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9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1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3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5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7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9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1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6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3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5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7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9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1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3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5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7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9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3709-1E62-4123-9493-D4FEA8607BF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8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04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0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2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4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6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8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0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3T15:32:00Z</dcterms:created>
  <dc:creator>xiaoba ba</dc:creator>
  <dc:description/>
  <dc:language>en-US</dc:language>
  <cp:lastModifiedBy>xiaoba ba</cp:lastModifiedBy>
  <dcterms:modified xsi:type="dcterms:W3CDTF">2015-08-03T12:30:27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