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95E-B926-4205-9DB0-3FC1669F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E54-0F40-40E3-BA66-A212D8E7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D14-3229-4BC1-8385-C69784D9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EC4-4D74-4590-B83F-595B7D89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0E2-852F-4533-8708-BFB7A4E1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E9DC-6D40-4A14-AB54-E53F8996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B300-97A8-466F-9DAB-83432268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F4D2-79E3-4ABF-86EE-98ED742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0232-26DF-4389-946F-966BBF18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3E76-AEAF-4DD6-9320-AFA3B51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3BB6-B33B-4E60-9227-ACE30811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C0D5-94F4-4A36-A1AE-03EF0DD3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CE0D-F98B-421B-A7BC-513E8CC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C818-61C1-44E9-AF28-E17457FC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CB8F-D9BE-44DB-B38F-C8C09C30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9BC0-33A3-4BE3-9597-72A20A59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EB89-5E2D-4AE9-BB15-7457F9D9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388-EB8F-4217-9DF4-82DD89C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C57-EC8B-4B8D-B326-4CE9BCA6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6A1-604A-41C1-B9F1-0635192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2C1-F9B7-4A92-A22A-537F0B8A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5A5-68C0-4390-BDA4-92A8CB1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A56-F1DA-444D-9504-96070D2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B0C-2F9B-4395-9383-F8F5228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013C-7BB0-4E2B-B188-16516A0AA19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EC86-CB43-4F33-9FFE-67ED5F26B2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480" y="-25560"/>
            <a:ext cx="9137520" cy="115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7D5A-40B5-4025-BBB4-1B8AC9228B1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B5D-5623-4372-B18D-073AFA06F7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hyperlink" Target="http://www.51pptmoba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" descr=""/>
          <p:cNvPicPr/>
          <p:nvPr/>
        </p:nvPicPr>
        <p:blipFill>
          <a:blip r:embed="rId2"/>
          <a:stretch/>
        </p:blipFill>
        <p:spPr>
          <a:xfrm>
            <a:off x="371520" y="1557360"/>
            <a:ext cx="8161200" cy="324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0" y="4797360"/>
            <a:ext cx="914400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50920" y="4832280"/>
            <a:ext cx="81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适合科技技术类工作总结</a:t>
            </a: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Franklin Gothic Book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157-6DC0-4F60-BCE3-82A0C9B844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4" descr=""/>
          <p:cNvPicPr/>
          <p:nvPr/>
        </p:nvPicPr>
        <p:blipFill>
          <a:blip r:embed="rId2"/>
          <a:stretch/>
        </p:blipFill>
        <p:spPr>
          <a:xfrm>
            <a:off x="466560" y="62064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2"/>
          <p:cNvSpPr/>
          <p:nvPr/>
        </p:nvSpPr>
        <p:spPr>
          <a:xfrm>
            <a:off x="466560" y="1413000"/>
            <a:ext cx="9144000" cy="49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2905200" y="1268280"/>
            <a:ext cx="562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末端控制检验方法的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在现有再生模式下末端废液的规律摸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置换步骤酸碱液进液速度和再生质量的关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酸碱液浓度、进度对再生效率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酸碱液浓度控制过程中的影响因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）再生温度对出水二氧化硅的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从实验情况看，效果良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0"/>
          <p:cNvSpPr/>
          <p:nvPr/>
        </p:nvSpPr>
        <p:spPr>
          <a:xfrm>
            <a:off x="819000" y="3892680"/>
            <a:ext cx="1346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efe"/>
                </a:solidFill>
                <a:latin typeface="微软雅黑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月份下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</a:rPr>
              <a:t>完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6CA1-4333-47EB-8905-3B2D43BDF3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5"/>
          <p:cNvSpPr/>
          <p:nvPr/>
        </p:nvSpPr>
        <p:spPr>
          <a:xfrm rot="10800000">
            <a:off x="323640" y="2342520"/>
            <a:ext cx="8530920" cy="1096920"/>
          </a:xfrm>
          <a:prstGeom prst="rect">
            <a:avLst/>
          </a:prstGeom>
          <a:solidFill>
            <a:srgbClr val="f7f8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buClr>
                <a:srgbClr val="fdb913"/>
              </a:buClr>
              <a:buSzPct val="95000"/>
              <a:buFont typeface="Arial"/>
              <a:buChar char="•"/>
              <a:tabLst>
                <a:tab algn="l" pos="425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6"/>
          <p:cNvSpPr/>
          <p:nvPr/>
        </p:nvSpPr>
        <p:spPr>
          <a:xfrm rot="10800000">
            <a:off x="323640" y="3417480"/>
            <a:ext cx="8530920" cy="1069920"/>
          </a:xfrm>
          <a:prstGeom prst="rect">
            <a:avLst/>
          </a:prstGeom>
          <a:solidFill>
            <a:srgbClr val="f7f8d5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buClr>
                <a:srgbClr val="fdb913"/>
              </a:buClr>
              <a:buSzPct val="95000"/>
              <a:buFont typeface="Arial"/>
              <a:buChar char="•"/>
              <a:tabLst>
                <a:tab algn="l" pos="425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79"/>
          <p:cNvSpPr/>
          <p:nvPr/>
        </p:nvSpPr>
        <p:spPr>
          <a:xfrm rot="5400000">
            <a:off x="4173120" y="-2284560"/>
            <a:ext cx="839880" cy="854244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8542440"/>
              <a:gd name="textAreaBottom" fmla="*/ 8501760 h 8542440"/>
            </a:gdLst>
            <a:ahLst/>
            <a:rect l="textAreaLeft" t="textAreaTop" r="textAreaRight" b="textAreaBottom"/>
            <a:pathLst>
              <a:path w="21600" h="219609">
                <a:moveTo>
                  <a:pt x="3600" y="0"/>
                </a:moveTo>
                <a:arcTo wR="3600" hR="3600" stAng="16200000" swAng="-5400000"/>
                <a:lnTo>
                  <a:pt x="0" y="216009"/>
                </a:lnTo>
                <a:arcTo wR="3600" hR="3600" stAng="10800000" swAng="-5400000"/>
                <a:lnTo>
                  <a:pt x="18000" y="219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03440" y="263052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2"/>
          <p:cNvSpPr/>
          <p:nvPr/>
        </p:nvSpPr>
        <p:spPr>
          <a:xfrm>
            <a:off x="1255680" y="3726000"/>
            <a:ext cx="77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对每个离子交换器再生实行统一的定浓度，定温度，定体积、定浓速、定流速模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703440" y="365292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>
            <a:off x="703440" y="463248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8"/>
          <p:cNvSpPr/>
          <p:nvPr/>
        </p:nvSpPr>
        <p:spPr>
          <a:xfrm>
            <a:off x="1290600" y="2722680"/>
            <a:ext cx="71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对检测酸碱的浓度表进行更换，采用在线形式确保酸碱浓度标准，持续稳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2"/>
          <p:cNvSpPr/>
          <p:nvPr/>
        </p:nvSpPr>
        <p:spPr>
          <a:xfrm>
            <a:off x="1260360" y="4686480"/>
            <a:ext cx="677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实现对再生废液离子含量的监测，确保再生过程的质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1"/>
          <p:cNvSpPr/>
          <p:nvPr/>
        </p:nvSpPr>
        <p:spPr>
          <a:xfrm>
            <a:off x="3132000" y="1603440"/>
            <a:ext cx="3240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具体改造思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046-EFAB-4C03-BF36-157BB5E167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7101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3"/>
          <a:stretch/>
        </p:blipFill>
        <p:spPr>
          <a:xfrm>
            <a:off x="3851280" y="5229360"/>
            <a:ext cx="5283360" cy="18716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2"/>
          <p:cNvSpPr/>
          <p:nvPr/>
        </p:nvSpPr>
        <p:spPr>
          <a:xfrm>
            <a:off x="577800" y="5229360"/>
            <a:ext cx="3633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改造前再生系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4"/>
          <a:stretch/>
        </p:blipFill>
        <p:spPr>
          <a:xfrm>
            <a:off x="1724040" y="1123920"/>
            <a:ext cx="56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4BD8-658B-4111-82DE-0C8E3ABCEC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34640" cy="7101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577800" y="5229360"/>
            <a:ext cx="3633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ffffff"/>
                </a:solidFill>
                <a:latin typeface="Franklin Gothic Book"/>
              </a:rPr>
              <a:t>改造后再生系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4067280" y="4397400"/>
            <a:ext cx="5067360" cy="2919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8" descr=""/>
          <p:cNvPicPr/>
          <p:nvPr/>
        </p:nvPicPr>
        <p:blipFill>
          <a:blip r:embed="rId4"/>
          <a:stretch/>
        </p:blipFill>
        <p:spPr>
          <a:xfrm>
            <a:off x="1724040" y="1123920"/>
            <a:ext cx="56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2492-97FE-4989-8261-E338EA5204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096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2"/>
          <p:cNvSpPr/>
          <p:nvPr/>
        </p:nvSpPr>
        <p:spPr>
          <a:xfrm>
            <a:off x="466560" y="2276640"/>
            <a:ext cx="8569440" cy="41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Franklin Gothic Medium"/>
              </a:rPr>
              <a:t>改造后的优点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TextBox 8"/>
          <p:cNvSpPr/>
          <p:nvPr/>
        </p:nvSpPr>
        <p:spPr>
          <a:xfrm>
            <a:off x="539640" y="3533400"/>
            <a:ext cx="82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D3C6-31CE-4D13-84F7-78CB191782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4476240" y="3290760"/>
            <a:ext cx="284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实施计划及进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图片 3" descr=""/>
          <p:cNvPicPr/>
          <p:nvPr/>
        </p:nvPicPr>
        <p:blipFill>
          <a:blip r:embed="rId2"/>
          <a:stretch/>
        </p:blipFill>
        <p:spPr>
          <a:xfrm>
            <a:off x="826920" y="2421000"/>
            <a:ext cx="26035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FBF7-52D5-4540-8362-D288C93306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图示 2"/>
          <p:cNvSpPr/>
          <p:nvPr/>
        </p:nvSpPr>
        <p:spPr>
          <a:xfrm>
            <a:off x="466560" y="907920"/>
            <a:ext cx="7993080" cy="48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085E-4876-48CE-AFA0-C0DB77EA6B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" descr=""/>
          <p:cNvPicPr/>
          <p:nvPr/>
        </p:nvPicPr>
        <p:blipFill>
          <a:blip r:embed="rId2"/>
          <a:stretch/>
        </p:blipFill>
        <p:spPr>
          <a:xfrm>
            <a:off x="1547640" y="253692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矩形 3"/>
          <p:cNvSpPr/>
          <p:nvPr/>
        </p:nvSpPr>
        <p:spPr>
          <a:xfrm>
            <a:off x="4589640" y="329076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效益计算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9790-85ED-4993-81C9-2A540DCF45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66560" y="1484280"/>
          <a:ext cx="8209080" cy="5184720"/>
        </p:xfrm>
        <a:graphic>
          <a:graphicData uri="http://schemas.openxmlformats.org/drawingml/2006/table">
            <a:tbl>
              <a:tblPr/>
              <a:tblGrid>
                <a:gridCol w="1612800"/>
                <a:gridCol w="785880"/>
                <a:gridCol w="787320"/>
                <a:gridCol w="785880"/>
                <a:gridCol w="787320"/>
                <a:gridCol w="785880"/>
                <a:gridCol w="787320"/>
                <a:gridCol w="911520"/>
                <a:gridCol w="96516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项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月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合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计划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节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（万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除盐水（吨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酸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酸计划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碱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单位碱计划成本（元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合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4.7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矩形 3"/>
          <p:cNvSpPr/>
          <p:nvPr/>
        </p:nvSpPr>
        <p:spPr>
          <a:xfrm>
            <a:off x="2773080" y="692280"/>
            <a:ext cx="411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实际运行酸碱耗与计划比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7729-8C6D-48CA-8EF3-7B4F2B54D1A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1123920"/>
          <a:ext cx="7632720" cy="5111640"/>
        </p:xfrm>
        <a:graphic>
          <a:graphicData uri="http://schemas.openxmlformats.org/drawingml/2006/table">
            <a:tbl>
              <a:tblPr/>
              <a:tblGrid>
                <a:gridCol w="3500280"/>
                <a:gridCol w="1378080"/>
                <a:gridCol w="1376280"/>
                <a:gridCol w="1378080"/>
              </a:tblGrid>
              <a:tr h="12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碱单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酸单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（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2009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1~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20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1~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差额（吨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万吨水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节约额（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价格（元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微软雅黑"/>
                        </a:rPr>
                        <a:t>吨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节约成本（万元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0.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10.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c000"/>
                          </a:solidFill>
                          <a:latin typeface="微软雅黑"/>
                        </a:rPr>
                        <a:t>20.8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矩形 3"/>
          <p:cNvSpPr/>
          <p:nvPr/>
        </p:nvSpPr>
        <p:spPr>
          <a:xfrm>
            <a:off x="2092680" y="333360"/>
            <a:ext cx="531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10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与</a:t>
            </a: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年</a:t>
            </a:r>
            <a:r>
              <a:rPr b="1" lang="en-US" sz="3000" spc="-1" strike="noStrike">
                <a:solidFill>
                  <a:srgbClr val="ffffff"/>
                </a:solidFill>
                <a:latin typeface="微软雅黑"/>
              </a:rPr>
              <a:t>1~5</a:t>
            </a: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月酸碱耗对比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7617-35D1-4A51-AB69-01D31A84EF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2" descr=""/>
          <p:cNvPicPr/>
          <p:nvPr/>
        </p:nvPicPr>
        <p:blipFill>
          <a:blip r:embed="rId2"/>
          <a:stretch/>
        </p:blipFill>
        <p:spPr>
          <a:xfrm>
            <a:off x="2330280" y="3081240"/>
            <a:ext cx="1162080" cy="1162080"/>
          </a:xfrm>
          <a:prstGeom prst="rect">
            <a:avLst/>
          </a:prstGeom>
          <a:ln w="0">
            <a:noFill/>
          </a:ln>
        </p:spPr>
      </p:pic>
      <p:sp>
        <p:nvSpPr>
          <p:cNvPr id="89" name="矩形 3"/>
          <p:cNvSpPr/>
          <p:nvPr/>
        </p:nvSpPr>
        <p:spPr>
          <a:xfrm>
            <a:off x="3203640" y="2997360"/>
            <a:ext cx="4032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课题背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3D03-2F8B-4A6B-99BA-A0A869B3E4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2"/>
          <p:cNvSpPr/>
          <p:nvPr/>
        </p:nvSpPr>
        <p:spPr>
          <a:xfrm>
            <a:off x="466560" y="1050840"/>
            <a:ext cx="9144000" cy="496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"/>
          <p:cNvSpPr/>
          <p:nvPr/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酸单耗比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降低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比计划节约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6.2%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碱单耗比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降低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30.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比计划节约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4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1-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月运行成本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年同期比较节约了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8.1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万元，与计划比较节约运行成本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·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万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较好的实现了项目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6B6E-075E-4931-86B1-C3EEE833B9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4734000" y="3182760"/>
            <a:ext cx="2085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投资回报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"/>
          <p:cNvPicPr/>
          <p:nvPr/>
        </p:nvPicPr>
        <p:blipFill>
          <a:blip r:embed="rId2"/>
          <a:stretch/>
        </p:blipFill>
        <p:spPr>
          <a:xfrm>
            <a:off x="1619280" y="2513160"/>
            <a:ext cx="22017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724-5B1C-46F2-B5E4-6AC0A2F652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611280" y="4073400"/>
            <a:ext cx="8037360" cy="13716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项目投资后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1~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月节约成本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8.19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万元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，两个月收回成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611280" y="1755720"/>
            <a:ext cx="8037360" cy="1373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项目总投资</a:t>
            </a:r>
            <a:r>
              <a:rPr b="1" lang="en-US" sz="3200" spc="-1" strike="noStrike">
                <a:solidFill>
                  <a:srgbClr val="ffc000"/>
                </a:solidFill>
                <a:latin typeface="微软雅黑"/>
              </a:rPr>
              <a:t>2.56</a:t>
            </a:r>
            <a:r>
              <a:rPr b="1" lang="zh-CN" sz="3200" spc="-1" strike="noStrike">
                <a:solidFill>
                  <a:srgbClr val="ffc000"/>
                </a:solidFill>
                <a:latin typeface="微软雅黑"/>
              </a:rPr>
              <a:t>万元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11280" y="1131840"/>
            <a:ext cx="2896920" cy="623880"/>
          </a:xfrm>
          <a:prstGeom prst="rect">
            <a:avLst/>
          </a:prstGeom>
          <a:solidFill>
            <a:srgbClr val="0077b8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3449520"/>
            <a:ext cx="2896920" cy="623880"/>
          </a:xfrm>
          <a:prstGeom prst="rect">
            <a:avLst/>
          </a:prstGeom>
          <a:solidFill>
            <a:srgbClr val="f37021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CD56-338D-49DD-B2E4-9DA3BEDF2F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466560" y="4005360"/>
            <a:ext cx="856944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"/>
          <p:cNvSpPr/>
          <p:nvPr/>
        </p:nvSpPr>
        <p:spPr>
          <a:xfrm>
            <a:off x="466560" y="4321080"/>
            <a:ext cx="8282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Franklin Gothic Book"/>
              </a:rPr>
              <a:t>       </a:t>
            </a:r>
            <a:r>
              <a:rPr b="1" lang="zh-CN" sz="2200" spc="-1" strike="noStrike">
                <a:solidFill>
                  <a:srgbClr val="ffffff"/>
                </a:solidFill>
                <a:latin typeface="Franklin Gothic Book"/>
              </a:rPr>
              <a:t>该项目实施后有效的解决了除盐水再生酸、碱的消耗，同时摸索出了一套完整的操作规程，不仅提高了员工的操作技能，更大的降低了除盐水再生酸、碱耗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3" descr=""/>
          <p:cNvPicPr/>
          <p:nvPr/>
        </p:nvPicPr>
        <p:blipFill>
          <a:blip r:embed="rId2"/>
          <a:stretch/>
        </p:blipFill>
        <p:spPr>
          <a:xfrm>
            <a:off x="2195640" y="2373480"/>
            <a:ext cx="1455480" cy="1454040"/>
          </a:xfrm>
          <a:prstGeom prst="rect">
            <a:avLst/>
          </a:prstGeom>
          <a:ln w="0">
            <a:noFill/>
          </a:ln>
        </p:spPr>
      </p:pic>
      <p:sp>
        <p:nvSpPr>
          <p:cNvPr id="213" name="矩形 5"/>
          <p:cNvSpPr/>
          <p:nvPr/>
        </p:nvSpPr>
        <p:spPr>
          <a:xfrm>
            <a:off x="4280040" y="2670120"/>
            <a:ext cx="942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结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E5B-C944-427C-9E71-254942AE69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069-1C7F-4459-924C-E44DB7AD3FC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0" y="4005360"/>
            <a:ext cx="9134640" cy="2833560"/>
          </a:xfrm>
          <a:prstGeom prst="rect">
            <a:avLst/>
          </a:prstGeom>
          <a:ln w="0">
            <a:noFill/>
          </a:ln>
        </p:spPr>
      </p:pic>
      <p:sp>
        <p:nvSpPr>
          <p:cNvPr id="219" name="矩形 5"/>
          <p:cNvSpPr/>
          <p:nvPr/>
        </p:nvSpPr>
        <p:spPr>
          <a:xfrm>
            <a:off x="4951440" y="1090440"/>
            <a:ext cx="32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Franklin Gothic Book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252600" y="980604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9DC9-6271-4412-B12D-54292033F9A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3" descr=""/>
          <p:cNvPicPr/>
          <p:nvPr/>
        </p:nvPicPr>
        <p:blipFill>
          <a:blip r:embed="rId2"/>
          <a:stretch/>
        </p:blipFill>
        <p:spPr>
          <a:xfrm>
            <a:off x="1438200" y="2646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" descr=""/>
          <p:cNvPicPr/>
          <p:nvPr/>
        </p:nvPicPr>
        <p:blipFill>
          <a:blip r:embed="rId3"/>
          <a:stretch/>
        </p:blipFill>
        <p:spPr>
          <a:xfrm>
            <a:off x="3670200" y="577800"/>
            <a:ext cx="1717920" cy="1719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"/>
          <p:cNvPicPr/>
          <p:nvPr/>
        </p:nvPicPr>
        <p:blipFill>
          <a:blip r:embed="rId4"/>
          <a:stretch/>
        </p:blipFill>
        <p:spPr>
          <a:xfrm>
            <a:off x="6407280" y="264636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94" name="矩形 6"/>
          <p:cNvSpPr/>
          <p:nvPr/>
        </p:nvSpPr>
        <p:spPr>
          <a:xfrm>
            <a:off x="4041720" y="1943280"/>
            <a:ext cx="132372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</a:rPr>
              <a:t>除盐水系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1218600" y="3710160"/>
            <a:ext cx="165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套阳离子交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9"/>
          <p:cNvSpPr/>
          <p:nvPr/>
        </p:nvSpPr>
        <p:spPr>
          <a:xfrm>
            <a:off x="6076440" y="3710160"/>
            <a:ext cx="165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微软雅黑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</a:rPr>
              <a:t>套阴离子交换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虚尾箭头 10"/>
          <p:cNvSpPr/>
          <p:nvPr/>
        </p:nvSpPr>
        <p:spPr>
          <a:xfrm rot="8465400">
            <a:off x="2446200" y="1942920"/>
            <a:ext cx="1224000" cy="631800"/>
          </a:xfrm>
          <a:custGeom>
            <a:avLst/>
            <a:gdLst>
              <a:gd name="textAreaLeft" fmla="*/ 191160 w 1224000"/>
              <a:gd name="textAreaRight" fmla="*/ 1066320 w 122400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16032" y="0"/>
                </a:moveTo>
                <a:lnTo>
                  <a:pt x="16032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032" y="16200"/>
                </a:lnTo>
                <a:lnTo>
                  <a:pt x="16032" y="21600"/>
                </a:lnTo>
                <a:lnTo>
                  <a:pt x="21600" y="10800"/>
                </a:lnTo>
                <a:lnTo>
                  <a:pt x="16032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虚尾箭头 11"/>
          <p:cNvSpPr/>
          <p:nvPr/>
        </p:nvSpPr>
        <p:spPr>
          <a:xfrm rot="2628600">
            <a:off x="5662080" y="1901520"/>
            <a:ext cx="1224000" cy="631800"/>
          </a:xfrm>
          <a:custGeom>
            <a:avLst/>
            <a:gdLst>
              <a:gd name="textAreaLeft" fmla="*/ 191160 w 1224000"/>
              <a:gd name="textAreaRight" fmla="*/ 1066320 w 122400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16032" y="0"/>
                </a:moveTo>
                <a:lnTo>
                  <a:pt x="16032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032" y="16200"/>
                </a:lnTo>
                <a:lnTo>
                  <a:pt x="16032" y="21600"/>
                </a:lnTo>
                <a:lnTo>
                  <a:pt x="21600" y="10800"/>
                </a:lnTo>
                <a:lnTo>
                  <a:pt x="16032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0"/>
          <p:cNvGrpSpPr/>
          <p:nvPr/>
        </p:nvGrpSpPr>
        <p:grpSpPr>
          <a:xfrm>
            <a:off x="0" y="5373720"/>
            <a:ext cx="9144000" cy="1008360"/>
            <a:chOff x="0" y="5373720"/>
            <a:chExt cx="9144000" cy="1008360"/>
          </a:xfrm>
        </p:grpSpPr>
        <p:sp>
          <p:nvSpPr>
            <p:cNvPr id="100" name="Rectangle 8"/>
            <p:cNvSpPr/>
            <p:nvPr/>
          </p:nvSpPr>
          <p:spPr>
            <a:xfrm rot="10800000">
              <a:off x="0" y="5463360"/>
              <a:ext cx="9144000" cy="9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54720" bIns="41040" anchor="ctr" anchorCtr="1">
              <a:noAutofit/>
            </a:bodyPr>
            <a:p>
              <a:pPr marL="227160" indent="-227160"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15"/>
            <p:cNvSpPr/>
            <p:nvPr/>
          </p:nvSpPr>
          <p:spPr>
            <a:xfrm>
              <a:off x="2411640" y="5373720"/>
              <a:ext cx="4234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单套产水量在</a:t>
              </a:r>
              <a:r>
                <a:rPr b="1" lang="en-US" sz="2000" spc="-1" strike="noStrike">
                  <a:solidFill>
                    <a:srgbClr val="f2f2f2"/>
                  </a:solidFill>
                  <a:latin typeface="微软雅黑"/>
                </a:rPr>
                <a:t>80~150m3/h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，阳树脂采用氢型阳离子交换树脂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阴树脂采用</a:t>
              </a:r>
              <a:r>
                <a:rPr b="1" lang="en-US" sz="2000" spc="-1" strike="noStrike">
                  <a:solidFill>
                    <a:srgbClr val="f2f2f2"/>
                  </a:solidFill>
                  <a:latin typeface="微软雅黑"/>
                </a:rPr>
                <a:t>201×7</a:t>
              </a: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阴离子交换树脂系统采用并联运行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391-A975-4B2E-BD43-539F700997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图示 4"/>
          <p:cNvSpPr/>
          <p:nvPr/>
        </p:nvSpPr>
        <p:spPr>
          <a:xfrm>
            <a:off x="1547640" y="189000"/>
            <a:ext cx="6696360" cy="56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219168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0" y="6024600"/>
            <a:ext cx="9144000" cy="557280"/>
            <a:chOff x="0" y="6024600"/>
            <a:chExt cx="9144000" cy="557280"/>
          </a:xfrm>
        </p:grpSpPr>
        <p:sp>
          <p:nvSpPr>
            <p:cNvPr id="106" name="Rectangle 8"/>
            <p:cNvSpPr/>
            <p:nvPr/>
          </p:nvSpPr>
          <p:spPr>
            <a:xfrm rot="10800000">
              <a:off x="0" y="6024600"/>
              <a:ext cx="914400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54720" bIns="41040" anchor="ctr" anchorCtr="1">
              <a:noAutofit/>
            </a:bodyPr>
            <a:p>
              <a:pPr marL="227160" indent="-227160"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8"/>
            <p:cNvSpPr/>
            <p:nvPr/>
          </p:nvSpPr>
          <p:spPr>
            <a:xfrm>
              <a:off x="2500200" y="6103080"/>
              <a:ext cx="414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2f2f2"/>
                  </a:solidFill>
                  <a:latin typeface="微软雅黑"/>
                </a:rPr>
                <a:t>系统共有两套再生系统，可以同时供阴床和阳床系统再生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7C43-37AC-4610-9761-8F33C86F7A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3843360" y="36147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Book"/>
              </a:rPr>
              <a:t>再生工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0" y="3794040"/>
            <a:ext cx="88930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114560" y="569880"/>
            <a:ext cx="2819160" cy="907920"/>
            <a:chOff x="1114560" y="569880"/>
            <a:chExt cx="2819160" cy="907920"/>
          </a:xfrm>
        </p:grpSpPr>
        <p:sp>
          <p:nvSpPr>
            <p:cNvPr id="112" name="Rounded Rectangle 14"/>
            <p:cNvSpPr/>
            <p:nvPr/>
          </p:nvSpPr>
          <p:spPr>
            <a:xfrm>
              <a:off x="1114560" y="569880"/>
              <a:ext cx="2819160" cy="907920"/>
            </a:xfrm>
            <a:prstGeom prst="roundRect">
              <a:avLst>
                <a:gd name="adj" fmla="val 0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>
              <a:off x="1535040" y="839160"/>
              <a:ext cx="1974960" cy="36828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阳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7"/>
          <p:cNvGrpSpPr/>
          <p:nvPr/>
        </p:nvGrpSpPr>
        <p:grpSpPr>
          <a:xfrm>
            <a:off x="5940360" y="546120"/>
            <a:ext cx="2819520" cy="907920"/>
            <a:chOff x="5940360" y="546120"/>
            <a:chExt cx="2819520" cy="907920"/>
          </a:xfrm>
        </p:grpSpPr>
        <p:sp>
          <p:nvSpPr>
            <p:cNvPr id="115" name="Rounded Rectangle 36"/>
            <p:cNvSpPr/>
            <p:nvPr/>
          </p:nvSpPr>
          <p:spPr>
            <a:xfrm>
              <a:off x="5940360" y="546120"/>
              <a:ext cx="2819520" cy="907920"/>
            </a:xfrm>
            <a:prstGeom prst="roundRect">
              <a:avLst>
                <a:gd name="adj" fmla="val 0"/>
              </a:avLst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4"/>
            <p:cNvSpPr/>
            <p:nvPr/>
          </p:nvSpPr>
          <p:spPr>
            <a:xfrm>
              <a:off x="6257520" y="815400"/>
              <a:ext cx="2185200" cy="36828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阴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29"/>
          <p:cNvSpPr/>
          <p:nvPr/>
        </p:nvSpPr>
        <p:spPr>
          <a:xfrm>
            <a:off x="0" y="1708200"/>
            <a:ext cx="444672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4"/>
          <p:cNvSpPr/>
          <p:nvPr/>
        </p:nvSpPr>
        <p:spPr>
          <a:xfrm>
            <a:off x="4756320" y="1655640"/>
            <a:ext cx="4446360" cy="9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5473800" y="1898640"/>
            <a:ext cx="375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常温稀碱液再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0" y="4714920"/>
            <a:ext cx="8893080" cy="107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4"/>
          <p:cNvGrpSpPr/>
          <p:nvPr/>
        </p:nvGrpSpPr>
        <p:grpSpPr>
          <a:xfrm>
            <a:off x="0" y="2664000"/>
            <a:ext cx="8893080" cy="922320"/>
            <a:chOff x="0" y="2664000"/>
            <a:chExt cx="8893080" cy="922320"/>
          </a:xfrm>
        </p:grpSpPr>
        <p:sp>
          <p:nvSpPr>
            <p:cNvPr id="122" name="Rectangle 39"/>
            <p:cNvSpPr/>
            <p:nvPr/>
          </p:nvSpPr>
          <p:spPr>
            <a:xfrm>
              <a:off x="0" y="2669040"/>
              <a:ext cx="4446720" cy="91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0"/>
            <p:cNvSpPr/>
            <p:nvPr/>
          </p:nvSpPr>
          <p:spPr>
            <a:xfrm>
              <a:off x="4446720" y="2664000"/>
              <a:ext cx="4446360" cy="91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22"/>
            <p:cNvSpPr/>
            <p:nvPr/>
          </p:nvSpPr>
          <p:spPr>
            <a:xfrm>
              <a:off x="6046920" y="2857320"/>
              <a:ext cx="2607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正常置换时间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90</a:t>
              </a: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35"/>
            <p:cNvSpPr/>
            <p:nvPr/>
          </p:nvSpPr>
          <p:spPr>
            <a:xfrm>
              <a:off x="1187280" y="2868480"/>
              <a:ext cx="2747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正常置换时间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90</a:t>
              </a: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分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24"/>
          <p:cNvSpPr/>
          <p:nvPr/>
        </p:nvSpPr>
        <p:spPr>
          <a:xfrm>
            <a:off x="108000" y="505152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现在浓度和时间控制都很模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再生工艺控制：无温度控制，无精确浓度控制，有粗略连度控制，无置换末端水质检测标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20"/>
          <p:cNvGrpSpPr/>
          <p:nvPr/>
        </p:nvGrpSpPr>
        <p:grpSpPr>
          <a:xfrm>
            <a:off x="0" y="3624120"/>
            <a:ext cx="8967960" cy="928800"/>
            <a:chOff x="0" y="3624120"/>
            <a:chExt cx="8967960" cy="928800"/>
          </a:xfrm>
        </p:grpSpPr>
        <p:sp>
          <p:nvSpPr>
            <p:cNvPr id="128" name="Rectangle 44"/>
            <p:cNvSpPr/>
            <p:nvPr/>
          </p:nvSpPr>
          <p:spPr>
            <a:xfrm>
              <a:off x="4446000" y="3624120"/>
              <a:ext cx="4446000" cy="91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8"/>
            <p:cNvSpPr/>
            <p:nvPr/>
          </p:nvSpPr>
          <p:spPr>
            <a:xfrm>
              <a:off x="5318280" y="3817800"/>
              <a:ext cx="3649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浓度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2%~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5"/>
            <p:cNvSpPr/>
            <p:nvPr/>
          </p:nvSpPr>
          <p:spPr>
            <a:xfrm>
              <a:off x="0" y="3636000"/>
              <a:ext cx="4446000" cy="91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114560" y="3817800"/>
              <a:ext cx="2746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浓度为</a:t>
              </a:r>
              <a:r>
                <a:rPr b="0" lang="en-US" sz="1800" spc="-1" strike="noStrike">
                  <a:solidFill>
                    <a:srgbClr val="000000"/>
                  </a:solidFill>
                  <a:latin typeface="Franklin Gothic Book"/>
                  <a:ea typeface="微软雅黑"/>
                </a:rPr>
                <a:t>3%~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2"/>
          <p:cNvSpPr/>
          <p:nvPr/>
        </p:nvSpPr>
        <p:spPr>
          <a:xfrm>
            <a:off x="1165320" y="1898640"/>
            <a:ext cx="2746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常温稀盐酸再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F1A-053B-4157-88CF-D436A69694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6" descr=""/>
          <p:cNvPicPr/>
          <p:nvPr/>
        </p:nvPicPr>
        <p:blipFill>
          <a:blip r:embed="rId2"/>
          <a:stretch/>
        </p:blipFill>
        <p:spPr>
          <a:xfrm>
            <a:off x="4861080" y="-312840"/>
            <a:ext cx="4876560" cy="4875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2"/>
          <p:cNvSpPr/>
          <p:nvPr/>
        </p:nvSpPr>
        <p:spPr>
          <a:xfrm>
            <a:off x="0" y="5051520"/>
            <a:ext cx="9144000" cy="133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108000" y="5051520"/>
            <a:ext cx="889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再生盐酸消耗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.5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吨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吨水、碱为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1.8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吨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/</a:t>
            </a:r>
            <a:r>
              <a:rPr b="1" lang="zh-CN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吨水，冬季由于水温较低而消耗更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根据现有水硬度情况，还有近</a:t>
            </a:r>
            <a:r>
              <a:rPr b="1" lang="en-US" sz="22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%</a:t>
            </a:r>
            <a:r>
              <a:rPr b="1" lang="zh-CN" sz="18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的空间可以降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1456560" y="259380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Franklin Gothic Book"/>
              </a:rPr>
              <a:t>再生消耗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126C-53F6-4620-B1D8-4DFA0BCDFAD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2" descr=""/>
          <p:cNvPicPr/>
          <p:nvPr/>
        </p:nvPicPr>
        <p:blipFill>
          <a:blip r:embed="rId2"/>
          <a:stretch/>
        </p:blipFill>
        <p:spPr>
          <a:xfrm>
            <a:off x="2124000" y="2786040"/>
            <a:ext cx="1862280" cy="186228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3780000" y="3068640"/>
            <a:ext cx="403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课题目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1052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D9D-A85D-46DA-9A94-782CAC40A5B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-208080" y="1873080"/>
            <a:ext cx="9142560" cy="409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00160" y="1844640"/>
            <a:ext cx="88930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实现除盐水盐酸耗降低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碱降低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产水效率提升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实现效益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万元</a:t>
            </a: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以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通过实验总结出一套较为标准的再生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2C3-2480-4C91-ACD4-E2514E43E3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4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1976400" cy="1978200"/>
          </a:xfrm>
          <a:prstGeom prst="rect">
            <a:avLst/>
          </a:prstGeom>
          <a:ln w="0">
            <a:noFill/>
          </a:ln>
        </p:spPr>
      </p:pic>
      <p:sp>
        <p:nvSpPr>
          <p:cNvPr id="147" name="矩形 5"/>
          <p:cNvSpPr/>
          <p:nvPr/>
        </p:nvSpPr>
        <p:spPr>
          <a:xfrm>
            <a:off x="3635280" y="2425680"/>
            <a:ext cx="4032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技术方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微软雅黑"/>
              </a:rPr>
              <a:t>技术特征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5:03:00Z</dcterms:created>
  <dc:creator>中国龙站长学院</dc:creator>
  <dc:description/>
  <dc:language>en-US</dc:language>
  <cp:lastModifiedBy>YANGS</cp:lastModifiedBy>
  <dcterms:modified xsi:type="dcterms:W3CDTF">2015-08-03T12:35:18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