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4120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3200" y="1209240"/>
            <a:ext cx="7843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73200" y="3796920"/>
            <a:ext cx="7843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3680" y="24120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3200" y="120924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92600" y="120924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73200" y="379692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92600" y="379692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93680" y="24120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3200" y="120924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25320" y="120924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77440" y="120924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73200" y="379692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25320" y="379692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77440" y="379692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93680" y="24120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73200" y="1209240"/>
            <a:ext cx="78436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93680" y="24120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73200" y="1209240"/>
            <a:ext cx="7843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3680" y="24120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3200" y="1209240"/>
            <a:ext cx="3827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92600" y="1209240"/>
            <a:ext cx="3827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3680" y="24120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093680" y="241200"/>
            <a:ext cx="78487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93680" y="24120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3200" y="120924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2600" y="1209240"/>
            <a:ext cx="3827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73200" y="379692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93680" y="24120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73200" y="1209240"/>
            <a:ext cx="784368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3680" y="24120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73200" y="1209240"/>
            <a:ext cx="3827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2600" y="120924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92600" y="379692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93680" y="24120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3200" y="120924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2600" y="120924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73200" y="3796920"/>
            <a:ext cx="7843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4120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3200" y="1209240"/>
            <a:ext cx="7843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73200" y="3796920"/>
            <a:ext cx="7843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3680" y="24120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3200" y="120924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2600" y="120924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73200" y="379692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92600" y="379692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4120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3200" y="120924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25320" y="120924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77440" y="120924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73200" y="379692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25320" y="379692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77440" y="3796920"/>
            <a:ext cx="2525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93680" y="24120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73200" y="1209240"/>
            <a:ext cx="7843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4120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73200" y="1209240"/>
            <a:ext cx="3827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92600" y="1209240"/>
            <a:ext cx="3827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93680" y="24120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093680" y="241200"/>
            <a:ext cx="78487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93680" y="24120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73200" y="120924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2600" y="1209240"/>
            <a:ext cx="3827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73200" y="379692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4120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73200" y="1209240"/>
            <a:ext cx="3827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2600" y="120924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92600" y="379692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4120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73200" y="120924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2600" y="1209240"/>
            <a:ext cx="38275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73200" y="3796920"/>
            <a:ext cx="78436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4120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eee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3200" y="1209240"/>
            <a:ext cx="7843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05920" y="6318360"/>
            <a:ext cx="1946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159" descr="logo"/>
          <p:cNvPicPr/>
          <p:nvPr/>
        </p:nvPicPr>
        <p:blipFill>
          <a:blip r:embed="rId3"/>
          <a:stretch/>
        </p:blipFill>
        <p:spPr>
          <a:xfrm>
            <a:off x="0" y="85680"/>
            <a:ext cx="961920" cy="186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29"/>
          <p:cNvSpPr/>
          <p:nvPr/>
        </p:nvSpPr>
        <p:spPr>
          <a:xfrm>
            <a:off x="511920" y="597060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93680" y="24120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eee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73200" y="1209240"/>
            <a:ext cx="7843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01" descr="logo"/>
          <p:cNvPicPr/>
          <p:nvPr/>
        </p:nvPicPr>
        <p:blipFill>
          <a:blip r:embed="rId2"/>
          <a:stretch/>
        </p:blipFill>
        <p:spPr>
          <a:xfrm>
            <a:off x="0" y="1873080"/>
            <a:ext cx="961920" cy="18669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94920" y="160344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适合政府部门会议幻灯片免费下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ceee0"/>
                </a:solidFill>
                <a:latin typeface="Verdana"/>
              </a:rPr>
              <a:t>使用规范说明</a:t>
            </a:r>
            <a:endParaRPr b="1" lang="en-US" sz="2800" spc="-1" strike="noStrike">
              <a:solidFill>
                <a:srgbClr val="fceee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5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5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5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bad16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078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93760" y="244080"/>
            <a:ext cx="6192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ceee0"/>
              </a:solidFill>
              <a:latin typeface="Verdana"/>
              <a:ea typeface="Guli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61840" y="1902960"/>
            <a:ext cx="6778800" cy="35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88" name="Picture 5" descr="logo"/>
          <p:cNvPicPr/>
          <p:nvPr/>
        </p:nvPicPr>
        <p:blipFill>
          <a:blip r:embed="rId2"/>
          <a:stretch/>
        </p:blipFill>
        <p:spPr>
          <a:xfrm>
            <a:off x="0" y="264960"/>
            <a:ext cx="961920" cy="18669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156200" y="387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bad16f"/>
                </a:solidFill>
                <a:uFillTx/>
                <a:latin typeface="Times New Roman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6T03:59:24Z</dcterms:created>
  <dc:creator>微软用户</dc:creator>
  <dc:description/>
  <dc:language>en-US</dc:language>
  <cp:lastModifiedBy>微软用户</cp:lastModifiedBy>
  <dcterms:modified xsi:type="dcterms:W3CDTF">2015-08-03T12:35:17Z</dcterms:modified>
  <cp:revision>2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