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733-2F37-45D9-B4C9-787196FA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C71-4A0D-473C-954A-BD6C95AC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012-5CCA-43AF-A6AD-838148E2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321-6358-4612-8DD9-BB99B545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FA16-A756-46BB-B1E7-8E594844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A61F-363D-4703-BCB4-2AD82BCB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68F0-386E-49C6-A374-32512EE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2CD-4C7E-4F8A-8C7C-E6643AC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BB42-A716-4E9C-955A-7957EFE2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ED9B-6B9D-42FD-A8B5-2002DF4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D3AD-8A73-4301-BA0D-A146255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838-5135-49B5-8BE6-82B6BA74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D53-1C1E-4071-89E6-74760FD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DCD2-098F-4FAF-9B82-52D60F9B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D971-4BAD-4694-851B-BA8FE82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21F1-C3BC-4519-9C27-F57F3472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92CE-FA19-43E9-BD38-4C9DE735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648-FB14-4F9B-8F99-438F174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282-39F0-466A-9749-7A308B5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C08-02BE-4FEC-8CC2-39417CD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2D4-2A08-4EBF-8AEF-D707C050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746-9F28-4EFB-9BD4-A581D8F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FE8-B44F-4DD7-90BD-30907D7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643-1B10-458A-91F8-D601AE3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4F80-681D-4158-8A8E-6B69F7999C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5EF3-EDB6-4662-8237-3CC1751CC8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25280" y="981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圆桌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1144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89" name="Group 5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6" name="Group 12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7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3" name="Group 19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4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0" name="Group 26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1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0066ff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2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7" name="Group 33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8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336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0066ff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8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9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0720" y="40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6B3-B98A-4F94-B443-37F8EA40A7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3218040" y="6969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7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3695760" y="14112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7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21:05:31Z</dcterms:created>
  <dc:creator>ppt宝藏</dc:creator>
  <dc:description/>
  <dc:language>en-US</dc:language>
  <cp:lastModifiedBy>Windows 用户</cp:lastModifiedBy>
  <dcterms:modified xsi:type="dcterms:W3CDTF">2015-08-03T12:31:30Z</dcterms:modified>
  <cp:revision>34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