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A70-F974-4348-ABCB-A9C02615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D79-783F-4A45-8BE4-98DEA1C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B90-6181-4BB3-A3C4-7161BE2A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D22-D8BE-4E86-89E4-B41F4825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691-DDB7-4CB0-B663-F7DAA90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C3F-40AA-477A-8C83-8F214BB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455-1DAE-42E2-992F-6CC0067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560-525F-4855-924B-FEF1227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ACD-B3AA-407C-97C0-D8CE888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039-316E-4A09-BF65-CB9431C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044-D2F9-4159-84B0-37579F6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B0A-7FD4-4D69-9F92-5542648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D3F-0A42-43BE-AE1E-E3CDDD00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1"/>
          <p:cNvPicPr/>
          <p:nvPr/>
        </p:nvPicPr>
        <p:blipFill>
          <a:blip r:embed="rId1"/>
          <a:stretch/>
        </p:blipFill>
        <p:spPr>
          <a:xfrm rot="21237000">
            <a:off x="-76320" y="-636480"/>
            <a:ext cx="9144000" cy="36846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 rot="10267800">
            <a:off x="8313480" y="4343040"/>
            <a:ext cx="830160" cy="9144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 rot="10267800">
            <a:off x="4799880" y="4723920"/>
            <a:ext cx="685800" cy="862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 rot="10267800">
            <a:off x="7771680" y="5942880"/>
            <a:ext cx="762120" cy="7095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 rot="10267800">
            <a:off x="2590200" y="3200040"/>
            <a:ext cx="990360" cy="9381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 rot="10267800">
            <a:off x="2198160" y="6089400"/>
            <a:ext cx="609840" cy="63324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0267800">
            <a:off x="7924320" y="2438280"/>
            <a:ext cx="454320" cy="532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0267800">
            <a:off x="6888960" y="5060520"/>
            <a:ext cx="685800" cy="862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 rot="10267800">
            <a:off x="3033000" y="4507920"/>
            <a:ext cx="609480" cy="6094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 rot="10267800">
            <a:off x="5486040" y="3505320"/>
            <a:ext cx="762120" cy="86184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 rot="10267800">
            <a:off x="4952160" y="3199680"/>
            <a:ext cx="1135080" cy="1243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 rot="10267800">
            <a:off x="1143000" y="4723920"/>
            <a:ext cx="838080" cy="1078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 rot="10800000">
            <a:off x="4495320" y="6362640"/>
            <a:ext cx="830520" cy="99072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rot="10267800">
            <a:off x="304200" y="5409360"/>
            <a:ext cx="639720" cy="7095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 rot="10267800">
            <a:off x="1599480" y="3962520"/>
            <a:ext cx="608040" cy="5904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 rot="10267800">
            <a:off x="6221160" y="2170080"/>
            <a:ext cx="609480" cy="6336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zcooler_nuonuo_chineseicon_003"/>
          <p:cNvPicPr/>
          <p:nvPr/>
        </p:nvPicPr>
        <p:blipFill>
          <a:blip r:embed="rId2"/>
          <a:stretch/>
        </p:blipFill>
        <p:spPr>
          <a:xfrm>
            <a:off x="9144000" y="29718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1219320" y="33526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二科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年工作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 rot="10800000">
            <a:off x="-304560" y="2514600"/>
            <a:ext cx="609840" cy="838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1981080" y="5029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2012.1.12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朱某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 rot="8872200">
            <a:off x="228240" y="1904760"/>
            <a:ext cx="609480" cy="6858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4160" y="35053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素雅红丝带年终总结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laozihao"/>
          <p:cNvPicPr/>
          <p:nvPr/>
        </p:nvPicPr>
        <p:blipFill>
          <a:blip r:embed="rId1"/>
          <a:srcRect l="4169" t="0" r="0" b="0"/>
          <a:stretch/>
        </p:blipFill>
        <p:spPr>
          <a:xfrm>
            <a:off x="380880" y="0"/>
            <a:ext cx="876312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08660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某某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毛笔2"/>
          <p:cNvPicPr/>
          <p:nvPr/>
        </p:nvPicPr>
        <p:blipFill>
          <a:blip r:embed="rId2"/>
          <a:srcRect l="48752" t="22500" r="13750" b="42502"/>
          <a:stretch/>
        </p:blipFill>
        <p:spPr>
          <a:xfrm>
            <a:off x="990720" y="1093680"/>
            <a:ext cx="2666880" cy="2489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981080" y="241452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Monotype Corsiva"/>
                <a:ea typeface="黑体"/>
              </a:rPr>
              <a:t>贰零壹贰新篇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轴"/>
          <p:cNvPicPr/>
          <p:nvPr/>
        </p:nvPicPr>
        <p:blipFill>
          <a:blip r:embed="rId3"/>
          <a:srcRect l="0" t="0" r="78331" b="0"/>
          <a:stretch/>
        </p:blipFill>
        <p:spPr>
          <a:xfrm>
            <a:off x="0" y="0"/>
            <a:ext cx="1981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2881 C 0.01649 0.12696 0.0243 0.12072 0.03593 0.11517 C 0.04253 0.10777 0.04948 0.09782 0.05694 0.09366 C 0.06128 0.08811 0.0625 0.08348 0.06545 0.07608 C 0.06961 0.06591 0.07656 0.05596 0.08229 0.04856 C 0.08402 0.03746 0.08767 0.02821 0.08993 0.01734 C 0.09027 0.00693 0.08975 -0.0037 0.09097 -0.01388 C 0.09097 -0.01573 0.09809 -0.02151 0.09826 -0.02151 C 0.10208 -0.02336 0.10607 -0.02429 0.10989 -0.02544 C 0.12934 -0.03099 0.14843 -0.03516 0.16823 -0.03724 C 0.17743 -0.03169 0.1618 -0.01665 0.15868 -0.01388 C 0.14878 -0.00486 0.13663 -0.01064 0.12586 -0.01018 C 0.13073 -0.00671 0.12934 -0.00972 0.12586 -0.00208 C 0.12465 0.00046 0.12378 0.00347 0.12274 0.00555 C 0.11909 0.01179 0.10677 0.02312 0.10139 0.02312 C 0.10017 0.02312 0.10364 0.02197 0.10468 0.02127 C 0.10711 0.02197 0.11007 0.02035 0.11198 0.02312 C 0.11423 0.02659 0.10816 0.03607 0.10781 0.03677 C 0.10277 0.04486 0.10017 0.04671 0.09409 0.05064 C 0.08941 0.03792 0.09722 0.04047 0.10243 0.03885 C 0.11441 0.03006 0.12673 0.03376 0.13958 0.03492 C 0.14149 0.04694 0.13871 0.05319 0.13316 0.05851 C 0.12777 0.05781 0.12257 0.05804 0.11736 0.05666 C 0.11302 0.05527 0.11354 0.04949 0.11632 0.04486 C 0.11753 0.04301 0.11909 0.04324 0.12048 0.04255 C 0.13576 0.04926 0.1309 0.04232 0.13732 0.05434 C 0.13871 0.04579 0.1401 0.03746 0.14166 0.02914 C 0.1434 0.00994 0.13559 -0.06314 0.14583 -0.03539 C 0.14687 -0.01226 0.14861 0.01017 0.15642 0.02914 C 0.15868 0.03977 0.16232 0.03515 0.16597 0.02914 C 0.16892 0.02405 0.17448 0.01341 0.17448 0.01364 C 0.17639 0.00138 0.17517 -0.01689 0.17135 -0.02729 C 0.16961 -0.03978 0.16771 -0.05181 0.16406 -0.06245 C 0.16892 -0.06591 0.16649 -0.07146 0.17135 -0.07632 C 0.17656 -0.08164 0.18663 -0.08627 0.19236 -0.08812 C 0.19878 -0.08997 0.21146 -0.09182 0.21146 -0.09159 C 0.21336 -0.09135 0.22309 -0.08904 0.22534 -0.08812 C 0.22951 -0.08627 0.23264 -0.08187 0.23698 -0.08002 C 0.23472 -0.05875 0.21909 -0.03793 0.20833 -0.03146 C 0.20104 -0.02128 0.19496 -0.01619 0.18628 -0.01388 C 0.1809 -0.00925 0.17396 -0.00139 0.16823 -0.01388 C 0.16614 -0.01781 0.17239 -0.02151 0.17448 -0.02544 C 0.17899 -0.03377 0.17639 -0.03053 0.18298 -0.03539 C 0.18541 -0.03932 0.18732 -0.04394 0.19027 -0.04718 C 0.19305 -0.05019 0.1967 -0.04903 0.2 -0.05088 C 0.21128 -0.05689 0.22326 -0.05921 0.23489 -0.06245 C 0.24687 -0.06198 0.25902 -0.06314 0.27083 -0.0606 C 0.27604 -0.05967 0.27152 -0.04996 0.27083 -0.04903 C 0.26666 -0.04209 0.26146 -0.03446 0.2559 -0.03146 C 0.25139 -0.03192 0.24652 -0.03076 0.24218 -0.03331 C 0.23854 -0.03539 0.23281 -0.04487 0.23281 -0.04464 C 0.23246 -0.04626 0.22812 -0.06476 0.22743 -0.06476 C 0.22621 -0.06476 0.22812 -0.0606 0.22847 -0.05875 C 0.22812 -0.05111 0.22812 -0.04302 0.22743 -0.03539 C 0.22656 -0.02683 0.21805 0.00254 0.21458 0.00971 C 0.21371 0.01179 0.2118 0.01202 0.21041 0.01341 C 0.20607 -0.00578 0.21302 0.00185 0.22413 0.0037 C 0.2342 0.00717 0.24375 0.01087 0.25399 0.01341 C 0.24548 0.02914 0.24097 0.02544 0.22743 0.02729 C 0.22448 0.02844 0.22187 0.0296 0.21892 0.03099 C 0.21614 0.03214 0.20434 0.04024 0.21684 0.03099 C 0.23316 0.03469 0.23281 0.03607 0.24548 0.04255 C 0.24184 0.05596 0.23576 0.05874 0.22847 0.06244 C 0.22187 0.07146 0.21892 0.07007 0.21041 0.06822 C 0.21857 0.06267 0.225 0.06498 0.23368 0.06614 C 0.23524 0.02752 0.23628 0.01711 0.24757 -0.01388 C 0.25191 -0.03932 0.2467 -0.01504 0.25277 -0.03146 C 0.25555 -0.03839 0.25416 -0.04209 0.2592 -0.04487 C 0.27118 -0.06036 0.29253 -0.07031 0.30677 -0.07424 C 0.31389 -0.07632 0.321 -0.07702 0.32812 -0.08002 C 0.33125 -0.08141 0.3375 -0.08418 0.3375 -0.08372 C 0.33593 -0.09251 0.3342 -0.09066 0.33003 -0.09413 C 0.32222 -0.10014 0.31649 -0.10569 0.30781 -0.10754 C 0.30069 -0.10361 0.29913 -0.10269 0.29514 -0.09182 C 0.29323 -0.08141 0.29097 -0.07401 0.28993 -0.06245 C 0.28958 -0.05851 0.28715 -0.05296 0.28889 -0.05088 C 0.29027 -0.04926 0.29982 -0.05366 0.3026 -0.05481 C 0.29913 -0.04926 0.30173 -0.05366 0.29514 -0.04117 C 0.28958 -0.03099 0.29253 -0.03909 0.2868 -0.03146 C 0.28021 -0.02244 0.28698 -0.02729 0.28038 -0.02359 C 0.2835 -0.03516 0.28333 -0.04024 0.29514 -0.02961 C 0.29896 -0.02614 0.28767 -0.01411 0.28576 -0.01388 C 0.2776 -0.01249 0.26944 -0.01249 0.26128 -0.01203 C 0.25555 -0.00648 0.25642 -0.00602 0.24757 -0.00602 C 0.24479 -0.00602 0.25312 -0.00764 0.2559 -0.00787 C 0.27187 -0.01018 0.30364 -0.01388 0.30364 -0.01342 C 0.30868 -0.01504 0.31423 -0.01319 0.31857 -0.01781 C 0.32014 -0.01966 0.31805 -0.02591 0.31632 -0.02729 C 0.31458 -0.02914 0.30486 -0.02267 0.3026 -0.02151 C 0.29184 -0.01527 0.28038 -0.01411 0.26979 -0.00602 C 0.2717 -0.01689 0.27205 -0.01874 0.2783 -0.01596 C 0.27708 -0.00232 0.2743 0.00323 0.26771 0.00971 C 0.27309 0.01017 0.27847 0.00878 0.2835 0.01156 C 0.28455 0.01202 0.28333 0.01572 0.28264 0.01734 C 0.28055 0.02104 0.2776 0.0222 0.275 0.02497 C 0.27257 0.03237 0.26979 0.03561 0.26545 0.03885 C 0.26458 0.03977 0.26146 0.04232 0.26232 0.0407 C 0.26354 0.03862 0.26493 0.03677 0.26666 0.03677 C 0.28854 0.03492 0.31041 0.03561 0.33229 0.03492 C 0.3368 0.02659 0.3375 0.02174 0.33854 0.00971 C 0.33819 0.00254 0.33819 -0.00486 0.3375 -0.01203 C 0.33732 -0.01434 0.33593 -0.01573 0.33541 -0.01781 C 0.3342 -0.02174 0.33333 -0.03261 0.33333 -0.03539 C 0.33732 -0.06221 0.36597 -0.0606 0.37656 -0.06245 C 0.38264 -0.06198 0.38889 -0.06591 0.39461 -0.0606 C 0.3967 -0.05851 0.39375 -0.05134 0.39271 -0.04718 C 0.39062 -0.04001 0.38784 -0.03354 0.38489 -0.02729 C 0.37343 3.20074000000059E-006 0.36371 0.01179 0.34705 0.02729 C 0.34062 0.03307 0.33732 0.03839 0.33003 0.0407 C 0.32899 0.04209 0.32777 0.04625 0.32691 0.04486 C 0.32639 0.04394 0.32934 0.037 0.33229 0.03492 C 0.34236 0.02682 0.35312 0.02497 0.36406 0.02127 C 0.36927 0.02451 0.36857 0.0222 0.36163 0.03307 C 0.35607 0.04232 0.34878 0.04371 0.34184 0.04671 C 0.33819 0.05111 0.33489 0.05319 0.33125 0.05666 C 0.33055 0.05851 0.32951 0.06036 0.32899 0.06244 C 0.32864 0.06498 0.32812 0.07285 0.32812 0.07007 C 0.32812 0.06267 0.32795 0.03469 0.33125 0.02729 C 0.33333 0.02266 0.33628 0.02012 0.33854 0.01549 C 0.34791 -0.00463 0.33611 0.01804 0.34496 0.00162 C 0.34705 -0.00879 0.35156 -0.01665 0.35347 -0.02729 C 0.35364 -0.02914 0.35399 -0.03146 0.35434 -0.03331 C 0.35486 -0.03654 0.35555 -0.04649 0.35555 -0.04302 C 0.35555 -0.03654 0.35486 -0.03007 0.35434 -0.02359 C 0.35521 0.000920000000000001 0.35555 0.0259 0.35625 0.05064 C 0.35764 0.07446 0.37118 0.09944 0.3809 0.11309 C 0.38298 0.09875 0.38211 0.08441 0.37968 0.07007 C 0.37812 0.02682 0.35573 -0.09505 0.38402 -0.08233 C 0.3875 -0.07586 0.39062 -0.0717 0.3934 -0.06476 C 0.39375 -0.06129 0.39288 -0.05689 0.39461 -0.05481 C 0.39548 -0.05319 0.3967 -0.05782 0.39774 -0.05875 C 0.40121 -0.06198 0.40468 -0.0643 0.40833 -0.06661 C 0.42152 -0.07447 0.41475 -0.0717 0.42951 -0.07424 C 0.43402 -0.07331 0.43889 -0.07517 0.44218 -0.06846 C 0.44375 -0.06476 0.4467 -0.05666 0.4467 -0.05643 C 0.4401 -0.03331 0.43437 -0.02267 0.42014 -0.01781 C 0.42448 -0.01596 0.42847 -0.01342 0.43246 -0.01203 C 0.43524 0.00254 0.42239 0.01064 0.41805 0.01919 C 0.41753 0.02197 0.41666 0.02451 0.41666 0.02729 C 0.41753 0.03792 0.42205 0.03191 0.41805 0.04486 C 0.41718 0.04694 0.41562 0.04694 0.41475 0.04856 C 0.41007 0.05596 0.40833 0.05712 0.40312 0.06244 C 0.39288 0.04371 0.40868 0.02497 0.41562 0.01734 C 0.42152 0.0111 0.4276 0.00277 0.43385 -0.00208 C 0.44809 -0.01319 0.4651 -0.01966 0.48038 -0.02359 C 0.48923 0.00069 0.46562 0.01757 0.45625 0.02312 C 0.4493 0.01942 0.45225 0.01272 0.45694 0.00971 C 0.46215 0.00323 0.46996 0.00185 0.47604 -0.00023 C 0.48889 0.00277 0.48246 0.00254 0.47708 0.00555 C 0.47448 0.01572 0.47274 0.02289 0.47066 0.03307 C 0.46996 0.06151 0.46996 0.05874 0.46666 0.07793 C 0.46701 0.07261 0.46666 0.0673 0.46753 0.06244 C 0.46961 0.05411 0.47517 0.03885 0.47517 0.03931 C 0.47795 0.01804 0.48975 -0.00602 0.49618 -0.02359 C 0.50086 -0.03631 0.50416 -0.05389 0.50989 -0.06476 C 0.51024 -0.06869 0.51267 -0.07401 0.51111 -0.07632 C 0.50937 -0.07887 0.50746 -0.07239 0.50573 -0.07054 C 0.49809 -0.06291 0.48958 -0.04949 0.48437 -0.03724 C 0.48333 -0.03377 0.48194 -0.03053 0.48038 -0.02729 C 0.47968 -0.02591 0.47639 -0.0222 0.47708 -0.02359 C 0.48038 -0.02961 0.4809 -0.02914 0.48437 -0.03146 C 0.4908 -0.03076 0.49774 -0.03354 0.50347 -0.02961 C 0.50781 -0.02683 0.4993 -0.0111 0.49843 -0.01018 C 0.50017 -0.02313 0.50538 -0.02914 0.51215 -0.03331 C 0.51336 -0.03516 0.51458 -0.03909 0.51632 -0.03909 C 0.51753 -0.03909 0.51857 -0.03562 0.5184 -0.03331 C 0.51823 -0.02961 0.50416 0.00138 0.51111 -0.01781 C 0.51736 -0.01411 0.51302 -0.01781 0.50902 -0.01388 C 0.50746 -0.01249 0.50677 -0.00972 0.50573 -0.00787 C 0.51059 -0.00578 0.5125 -0.00694 0.51423 0.00162 C 0.50729 0.02081 0.50781 0.00138 0.50573 -0.01018 C 0.50625 -0.01596 0.50538 -0.0222 0.50677 -0.02729 C 0.50729 -0.02914 0.50902 -0.02706 0.50989 -0.02544 C 0.51163 -0.02244 0.51163 -0.01758 0.51302 -0.01388 C 0.51267 -0.00324 0.5125 0.00693 0.51215 0.01734 C 0.51163 0.02497 0.51059 0.02266 0.50781 0.02914 C 0.50139 0.04579 0.49965 0.05504 0.48889 0.06244 C 0.4868 0.06175 0.4842 0.06267 0.48246 0.06036 C 0.47586 0.05134 0.49409 0.03099 0.49739 0.02729 C 0.5026 0.02081 0.50989 0.02174 0.51632 0.01919 C 0.51788 0.0185 0.52066 0.01734 0.52066 0.01757 C 0.52222 0.03122 0.5243 0.04972 0.52066 0.06244 C 0.51909 0.0673 0.51545 0.04856 0.51545 0.04879 C 0.51354 0.03469 0.51146 0.03029 0.51545 0.01734 C 0.51632 0.01341 0.51996 0.01295 0.52152 0.01156 C 0.53003 0.00508 0.53281 0.00162 0.54305 -0.00417 C 0.55538 -0.00047 0.55746 -0.00278 0.56406 0.01341 C 0.56371 0.01804 0.56458 0.02359 0.56302 0.02729 C 0.55868 0.03769 0.54583 0.03145 0.54166 0.03099 C 0.53732 0.02289 0.53611 0.01202 0.53437 0.00162 C 0.54236 -0.01758 0.5375 0.00601 0.53646 0.01156 C 0.53593 0.0148 0.53316 0.01434 0.53107 0.01549 C 0.53038 0.01272 0.52725 0.0074 0.52916 0.0074 C 0.53073 0.0074 0.53021 0.0148 0.53229 0.01549 C 0.53368 0.01619 0.5342 0.01156 0.53524 0.00971 C 0.5401 0.00162 0.54479 -0.0074 0.55034 -0.01388 C 0.55312 -0.02128 0.55607 -0.02591 0.55989 -0.03146 C 0.56093 -0.03469 0.56163 -0.03886 0.56302 -0.04117 C 0.56597 -0.04579 0.57257 -0.05296 0.57257 -0.05273 C 0.57517 -0.068 0.57118 -0.05111 0.57673 -0.0606 C 0.57725 -0.06152 0.57882 -0.07146 0.57899 -0.07239 C 0.58107 -0.08118 0.5809 -0.07517 0.58211 -0.08418 C 0.58264 -0.08742 0.58211 -0.09135 0.58316 -0.09413 C 0.58402 -0.09644 0.58593 -0.09644 0.58732 -0.09783 C 0.59271 -0.09459 0.59583 -0.08881 0.59896 -0.08002 C 0.5967 -0.06961 0.59566 -0.06337 0.58941 -0.0606 C 0.58941 -0.06036 0.56718 -0.03932 0.57795 -0.05296 C 0.57968 -0.05227 0.58229 -0.05366 0.58316 -0.05088 C 0.58593 -0.04163 0.58159 -0.03839 0.57899 -0.03539 C 0.58107 -0.03469 0.58455 -0.03701 0.58524 -0.03331 C 0.58593 -0.03007 0.58229 -0.02984 0.5809 -0.02729 C 0.58021 -0.02591 0.58003 -0.02313 0.57899 -0.02151 C 0.57725 -0.01897 0.57083 -0.01527 0.57795 -0.01966 C 0.5776 -0.01712 0.5776 -0.01411 0.57673 -0.01203 C 0.57517 -0.0074 0.57048 -0.00023 0.57048 3.20074E-006 C 0.58055 0.00162 0.58385 0.00231 0.59166 0.01341 C 0.59357 0.02382 0.59305 0.01526 0.58941 0.02497 C 0.58889 0.02682 0.58941 0.02937 0.58854 0.03099 C 0.58767 0.03237 0.58628 0.03214 0.58524 0.03307 C 0.57968 0.03954 0.57673 0.04509 0.57048 0.04856 C 0.56684 0.05041 0.55989 0.05434 0.55989 0.05481 C 0.57326 0.05689 0.58715 0.05874 0.6 0.06614 C 0.59288 0.05296 0.58593 0.03862 0.57795 0.02729 C 0.57951 0.03584 0.58159 0.03654 0.58628 0.03885 C 0.58975 0.03769 0.59392 0.03839 0.59687 0.03492 C 0.60225 0.02867 0.60312 0.01619 0.6085 0.00971 C 0.60989 0.00624 0.61232 0.0037 0.61267 -0.00023 C 0.61736 -0.04163 0.60677 -0.03423 0.61805 -0.03909 C 0.62378 -0.03238 0.61909 -0.03701 0.62864 -0.03331 C 0.6342 -0.03099 0.62986 -0.03146 0.63611 -0.02729 C 0.63923 -0.02544 0.64253 -0.02498 0.64566 -0.02359 C 0.65104 -0.01874 0.65764 -0.01434 0.66267 -0.00787 C 0.66232 -0.00324 0.66215 0.00138 0.66163 0.00555 C 0.66111 0.01017 0.65937 0.01434 0.65937 0.01919 E">
                                      <p:cBhvr>
                                        <p:cTn id="10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527846173585847943"/>
          <p:cNvPicPr/>
          <p:nvPr/>
        </p:nvPicPr>
        <p:blipFill>
          <a:blip r:embed="rId1"/>
          <a:srcRect l="6821" t="0" r="0" b="31799"/>
          <a:stretch/>
        </p:blipFill>
        <p:spPr>
          <a:xfrm>
            <a:off x="5410080" y="3240"/>
            <a:ext cx="3757680" cy="275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3902369077116772784"/>
          <p:cNvPicPr/>
          <p:nvPr/>
        </p:nvPicPr>
        <p:blipFill>
          <a:blip r:embed="rId2"/>
          <a:srcRect l="46813" t="49218" r="0" b="0"/>
          <a:stretch/>
        </p:blipFill>
        <p:spPr>
          <a:xfrm rot="2779800">
            <a:off x="-304560" y="373356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828800" y="2514600"/>
            <a:ext cx="5638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繁花落尽，三九寒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梅经风霜香意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5TM244T0-2b45"/>
          <p:cNvPicPr/>
          <p:nvPr/>
        </p:nvPicPr>
        <p:blipFill>
          <a:blip r:embed="rId3"/>
          <a:stretch/>
        </p:blipFill>
        <p:spPr>
          <a:xfrm>
            <a:off x="1143000" y="2344680"/>
            <a:ext cx="6286680" cy="451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691-1B3F-4E0F-8D39-DCE345B07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ic5480951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105520" y="533520"/>
            <a:ext cx="3657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祝愿大家都有一个温暖好心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每一个人都更快乐！更健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zcooler_nuonuo_chineseicon_002"/>
          <p:cNvPicPr/>
          <p:nvPr/>
        </p:nvPicPr>
        <p:blipFill>
          <a:blip r:embed="rId2"/>
          <a:stretch/>
        </p:blipFill>
        <p:spPr>
          <a:xfrm>
            <a:off x="5257800" y="3429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zcooler_nuonuo_chineseicon_003"/>
          <p:cNvPicPr/>
          <p:nvPr/>
        </p:nvPicPr>
        <p:blipFill>
          <a:blip r:embed="rId3"/>
          <a:stretch/>
        </p:blipFill>
        <p:spPr>
          <a:xfrm>
            <a:off x="525780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9:30:02Z</dcterms:created>
  <dc:creator/>
  <dc:description/>
  <dc:language>en-US</dc:language>
  <cp:lastModifiedBy>杨光</cp:lastModifiedBy>
  <dcterms:modified xsi:type="dcterms:W3CDTF">2015-08-03T12:34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