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07C-B785-48EA-B61C-3231C18C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DBB-C7BB-4F66-8987-FA58854E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2BC-37FB-4D2E-8F05-EA8EA610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E80-24DC-4461-82DE-F326312D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1B0-9B0A-4877-83FA-77107073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861-B5D6-4DE9-8984-EEBEAF68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9A5-289E-4EAF-9853-5B02343D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C83-1DC3-42AB-A42B-08DC26BE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730-8DB3-4A1A-AAD3-E14648B1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191B-2B29-4C43-A710-1540026D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D0E-38B9-4B1B-B4E7-633CCB26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7FF-4637-4471-9F3C-97CEDCAC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a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328C-0778-4209-97F9-44FF02742C3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805D-C3B4-45E3-B96E-2ADBBF1C04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0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a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-60480" y="-3240"/>
            <a:ext cx="12314520" cy="4456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" descr=""/>
          <p:cNvPicPr/>
          <p:nvPr/>
        </p:nvPicPr>
        <p:blipFill>
          <a:blip r:embed="rId2"/>
          <a:srcRect l="9072" t="12381" r="8376" b="21201"/>
          <a:stretch/>
        </p:blipFill>
        <p:spPr>
          <a:xfrm rot="21024000">
            <a:off x="174600" y="784080"/>
            <a:ext cx="6878520" cy="18860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rcRect l="0" t="0" r="2547" b="0"/>
          <a:stretch/>
        </p:blipFill>
        <p:spPr>
          <a:xfrm rot="403800">
            <a:off x="6146640" y="1392120"/>
            <a:ext cx="5702400" cy="248472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5"/>
          <p:cNvSpPr/>
          <p:nvPr/>
        </p:nvSpPr>
        <p:spPr>
          <a:xfrm>
            <a:off x="0" y="2003400"/>
            <a:ext cx="12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夏季饮料行业市场广告投放分析报告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0" y="4641840"/>
            <a:ext cx="12192120" cy="6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6"/>
          <p:cNvSpPr/>
          <p:nvPr/>
        </p:nvSpPr>
        <p:spPr>
          <a:xfrm>
            <a:off x="299880" y="5502240"/>
            <a:ext cx="11601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中国市场，饮料行业呈现出散乱的竞争状态，许多公司希望能拥有尽可能多的市场份额，而一个精准的广告足以带动一瓶饮料的成功。在销售渠道白刃战的同时，各家公司在广告上也做足心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a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"/>
          <p:cNvSpPr/>
          <p:nvPr/>
        </p:nvSpPr>
        <p:spPr>
          <a:xfrm>
            <a:off x="1044720" y="517680"/>
            <a:ext cx="6081480" cy="609480"/>
          </a:xfrm>
          <a:prstGeom prst="rect">
            <a:avLst/>
          </a:prstGeom>
          <a:solidFill>
            <a:srgbClr val="025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3" descr=""/>
          <p:cNvPicPr/>
          <p:nvPr/>
        </p:nvPicPr>
        <p:blipFill>
          <a:blip r:embed="rId1"/>
          <a:stretch/>
        </p:blipFill>
        <p:spPr>
          <a:xfrm>
            <a:off x="301680" y="247680"/>
            <a:ext cx="1117440" cy="1149480"/>
          </a:xfrm>
          <a:prstGeom prst="rect">
            <a:avLst/>
          </a:prstGeom>
          <a:ln w="0">
            <a:noFill/>
          </a:ln>
        </p:spPr>
      </p:pic>
      <p:sp>
        <p:nvSpPr>
          <p:cNvPr id="50" name="同心圆 1"/>
          <p:cNvSpPr/>
          <p:nvPr/>
        </p:nvSpPr>
        <p:spPr>
          <a:xfrm>
            <a:off x="485640" y="447840"/>
            <a:ext cx="720720" cy="720720"/>
          </a:xfrm>
          <a:prstGeom prst="donut">
            <a:avLst>
              <a:gd name="adj" fmla="val 1558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4"/>
          <p:cNvSpPr/>
          <p:nvPr/>
        </p:nvSpPr>
        <p:spPr>
          <a:xfrm>
            <a:off x="257040" y="57456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75ff"/>
                </a:solidFill>
                <a:latin typeface="方正兰亭特黑_GBK"/>
                <a:ea typeface="方正兰亭特黑_GBK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6"/>
          <p:cNvSpPr/>
          <p:nvPr/>
        </p:nvSpPr>
        <p:spPr>
          <a:xfrm>
            <a:off x="1604880" y="546120"/>
            <a:ext cx="552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百度综艺简体"/>
                <a:ea typeface="百度综艺简体"/>
              </a:rPr>
              <a:t>饮料行业产品种类层出不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0"/>
          <p:cNvSpPr/>
          <p:nvPr/>
        </p:nvSpPr>
        <p:spPr>
          <a:xfrm flipV="1" rot="16200000">
            <a:off x="662040" y="963720"/>
            <a:ext cx="40320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1"/>
          <p:cNvSpPr/>
          <p:nvPr/>
        </p:nvSpPr>
        <p:spPr>
          <a:xfrm>
            <a:off x="299880" y="1785960"/>
            <a:ext cx="1160172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果汁产品占整个中国软饮料市场的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/4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，仅</a:t>
            </a:r>
            <a:r>
              <a:rPr b="0" lang="en-US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年，有超过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种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新口味和新包装的果汁产品上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与果汁产品销量规模相当的还有茶饮料和碳酸饮料，同样品种众多，竞争激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2"/>
          <p:cNvGrpSpPr/>
          <p:nvPr/>
        </p:nvGrpSpPr>
        <p:grpSpPr>
          <a:xfrm>
            <a:off x="711360" y="3413160"/>
            <a:ext cx="5094000" cy="3405240"/>
            <a:chOff x="711360" y="3413160"/>
            <a:chExt cx="5094000" cy="3405240"/>
          </a:xfrm>
        </p:grpSpPr>
        <p:pic>
          <p:nvPicPr>
            <p:cNvPr id="56" name="图表 15" descr=""/>
            <p:cNvPicPr/>
            <p:nvPr/>
          </p:nvPicPr>
          <p:blipFill>
            <a:blip r:embed="rId3"/>
            <a:stretch/>
          </p:blipFill>
          <p:spPr>
            <a:xfrm>
              <a:off x="711360" y="3413160"/>
              <a:ext cx="5094000" cy="34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图表 12" descr=""/>
            <p:cNvPicPr/>
            <p:nvPr/>
          </p:nvPicPr>
          <p:blipFill>
            <a:blip r:embed="rId4"/>
            <a:stretch/>
          </p:blipFill>
          <p:spPr>
            <a:xfrm>
              <a:off x="1211040" y="3789000"/>
              <a:ext cx="4099320" cy="265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图片 9" descr=""/>
            <p:cNvPicPr/>
            <p:nvPr/>
          </p:nvPicPr>
          <p:blipFill>
            <a:blip r:embed="rId5"/>
            <a:srcRect l="14809" t="10128" r="72027" b="47981"/>
            <a:stretch/>
          </p:blipFill>
          <p:spPr>
            <a:xfrm>
              <a:off x="2899440" y="3656880"/>
              <a:ext cx="711000" cy="114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组合 18"/>
          <p:cNvGrpSpPr/>
          <p:nvPr/>
        </p:nvGrpSpPr>
        <p:grpSpPr>
          <a:xfrm>
            <a:off x="3914640" y="3254400"/>
            <a:ext cx="5099040" cy="779400"/>
            <a:chOff x="3914640" y="3254400"/>
            <a:chExt cx="5099040" cy="779400"/>
          </a:xfrm>
        </p:grpSpPr>
        <p:grpSp>
          <p:nvGrpSpPr>
            <p:cNvPr id="60" name="组合 8"/>
            <p:cNvGrpSpPr/>
            <p:nvPr/>
          </p:nvGrpSpPr>
          <p:grpSpPr>
            <a:xfrm>
              <a:off x="3914640" y="3306600"/>
              <a:ext cx="2481480" cy="727200"/>
              <a:chOff x="3914640" y="3306600"/>
              <a:chExt cx="2481480" cy="727200"/>
            </a:xfrm>
          </p:grpSpPr>
          <p:sp>
            <p:nvSpPr>
              <p:cNvPr id="61" name="减号 14"/>
              <p:cNvSpPr/>
              <p:nvPr/>
            </p:nvSpPr>
            <p:spPr>
              <a:xfrm rot="19322400">
                <a:off x="3911760" y="3531960"/>
                <a:ext cx="828000" cy="276120"/>
              </a:xfrm>
              <a:prstGeom prst="pie">
                <a:avLst/>
              </a:prstGeom>
              <a:solidFill>
                <a:srgbClr val="fec2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减号 7"/>
              <p:cNvSpPr/>
              <p:nvPr/>
            </p:nvSpPr>
            <p:spPr>
              <a:xfrm>
                <a:off x="5352120" y="3350520"/>
                <a:ext cx="1044000" cy="276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减号 13"/>
              <p:cNvSpPr/>
              <p:nvPr/>
            </p:nvSpPr>
            <p:spPr>
              <a:xfrm>
                <a:off x="4369320" y="3350520"/>
                <a:ext cx="1296000" cy="276120"/>
              </a:xfrm>
              <a:prstGeom prst="pie">
                <a:avLst/>
              </a:prstGeom>
              <a:solidFill>
                <a:srgbClr val="fec2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文本框 16"/>
            <p:cNvSpPr/>
            <p:nvPr/>
          </p:nvSpPr>
          <p:spPr>
            <a:xfrm>
              <a:off x="6314040" y="3254400"/>
              <a:ext cx="269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49931"/>
                  </a:solidFill>
                  <a:latin typeface="微软雅黑"/>
                  <a:ea typeface="微软雅黑"/>
                </a:rPr>
                <a:t>果汁产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21"/>
          <p:cNvGrpSpPr/>
          <p:nvPr/>
        </p:nvGrpSpPr>
        <p:grpSpPr>
          <a:xfrm>
            <a:off x="6546960" y="4048200"/>
            <a:ext cx="3830400" cy="2235240"/>
            <a:chOff x="6546960" y="4048200"/>
            <a:chExt cx="3830400" cy="2235240"/>
          </a:xfrm>
        </p:grpSpPr>
        <p:sp>
          <p:nvSpPr>
            <p:cNvPr id="66" name="椭圆形标注 17"/>
            <p:cNvSpPr/>
            <p:nvPr/>
          </p:nvSpPr>
          <p:spPr>
            <a:xfrm>
              <a:off x="6546960" y="4048200"/>
              <a:ext cx="2234520" cy="2235240"/>
            </a:xfrm>
            <a:prstGeom prst="wedgeEllipseCallout">
              <a:avLst>
                <a:gd name="adj1" fmla="val -92"/>
                <a:gd name="adj2" fmla="val -57898"/>
              </a:avLst>
            </a:prstGeom>
            <a:blipFill rotWithShape="0">
              <a:blip r:embed="rId6"/>
              <a:srcRect/>
              <a:stretch/>
            </a:blipFill>
            <a:ln w="38160">
              <a:solidFill>
                <a:srgbClr val="025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20"/>
            <p:cNvSpPr/>
            <p:nvPr/>
          </p:nvSpPr>
          <p:spPr>
            <a:xfrm>
              <a:off x="7678440" y="4788360"/>
              <a:ext cx="269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000</a:t>
              </a: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a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5"/>
          <p:cNvSpPr/>
          <p:nvPr/>
        </p:nvSpPr>
        <p:spPr>
          <a:xfrm>
            <a:off x="1044720" y="517680"/>
            <a:ext cx="5051160" cy="609480"/>
          </a:xfrm>
          <a:prstGeom prst="rect">
            <a:avLst/>
          </a:prstGeom>
          <a:solidFill>
            <a:srgbClr val="025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301680" y="247680"/>
            <a:ext cx="1117440" cy="1149480"/>
          </a:xfrm>
          <a:prstGeom prst="rect">
            <a:avLst/>
          </a:prstGeom>
          <a:ln w="0">
            <a:noFill/>
          </a:ln>
        </p:spPr>
      </p:pic>
      <p:sp>
        <p:nvSpPr>
          <p:cNvPr id="70" name="同心圆 1"/>
          <p:cNvSpPr/>
          <p:nvPr/>
        </p:nvSpPr>
        <p:spPr>
          <a:xfrm>
            <a:off x="485640" y="447840"/>
            <a:ext cx="720720" cy="720720"/>
          </a:xfrm>
          <a:prstGeom prst="donut">
            <a:avLst>
              <a:gd name="adj" fmla="val 1558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257040" y="57456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75ff"/>
                </a:solidFill>
                <a:latin typeface="方正兰亭特黑_GBK"/>
                <a:ea typeface="方正兰亭特黑_GB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"/>
          <p:cNvSpPr/>
          <p:nvPr/>
        </p:nvSpPr>
        <p:spPr>
          <a:xfrm>
            <a:off x="1604880" y="546120"/>
            <a:ext cx="46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百度综艺简体"/>
                <a:ea typeface="百度综艺简体"/>
              </a:rPr>
              <a:t>行业保持着稳定的增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0"/>
          <p:cNvSpPr/>
          <p:nvPr/>
        </p:nvSpPr>
        <p:spPr>
          <a:xfrm flipV="1" rot="16200000">
            <a:off x="662040" y="963720"/>
            <a:ext cx="40320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3"/>
          <p:cNvSpPr/>
          <p:nvPr/>
        </p:nvSpPr>
        <p:spPr>
          <a:xfrm>
            <a:off x="299880" y="1800360"/>
            <a:ext cx="1160172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根据欧睿咨询的数据，中国软饮料市场过去</a:t>
            </a:r>
            <a:r>
              <a:rPr b="0" lang="en-US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年里以每年平均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3.3%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的增速成长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。这也是个不错的行业，饮料大公司的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毛利率平均在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30%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以上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在这行业中，有一些能创造奇迹的公司，加多宝的红罐凉茶去年销售了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160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亿元，是销量早就超过罐装可口可乐的饮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7"/>
          <p:cNvGrpSpPr/>
          <p:nvPr/>
        </p:nvGrpSpPr>
        <p:grpSpPr>
          <a:xfrm>
            <a:off x="217440" y="3471840"/>
            <a:ext cx="11582280" cy="3219840"/>
            <a:chOff x="217440" y="3471840"/>
            <a:chExt cx="11582280" cy="3219840"/>
          </a:xfrm>
        </p:grpSpPr>
        <p:pic>
          <p:nvPicPr>
            <p:cNvPr id="76" name="图片 7" descr=""/>
            <p:cNvPicPr/>
            <p:nvPr/>
          </p:nvPicPr>
          <p:blipFill>
            <a:blip r:embed="rId3"/>
            <a:srcRect l="74870" t="23463" r="17122" b="12243"/>
            <a:stretch/>
          </p:blipFill>
          <p:spPr>
            <a:xfrm>
              <a:off x="10466280" y="4150080"/>
              <a:ext cx="732240" cy="212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组合 8"/>
            <p:cNvGrpSpPr/>
            <p:nvPr/>
          </p:nvGrpSpPr>
          <p:grpSpPr>
            <a:xfrm>
              <a:off x="10539000" y="3471840"/>
              <a:ext cx="594360" cy="594720"/>
              <a:chOff x="10539000" y="3471840"/>
              <a:chExt cx="594360" cy="594720"/>
            </a:xfrm>
          </p:grpSpPr>
          <p:sp>
            <p:nvSpPr>
              <p:cNvPr id="78" name="流程图: 联系 2"/>
              <p:cNvSpPr/>
              <p:nvPr/>
            </p:nvSpPr>
            <p:spPr>
              <a:xfrm>
                <a:off x="10539000" y="3471840"/>
                <a:ext cx="594360" cy="594720"/>
              </a:xfrm>
              <a:prstGeom prst="flowChartConnector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流程图: 联系 11"/>
              <p:cNvSpPr/>
              <p:nvPr/>
            </p:nvSpPr>
            <p:spPr>
              <a:xfrm>
                <a:off x="10604160" y="3537000"/>
                <a:ext cx="464040" cy="46440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" name="图片 14" descr=""/>
            <p:cNvPicPr/>
            <p:nvPr/>
          </p:nvPicPr>
          <p:blipFill>
            <a:blip r:embed="rId4"/>
            <a:srcRect l="74870" t="23463" r="17122" b="12243"/>
            <a:stretch/>
          </p:blipFill>
          <p:spPr>
            <a:xfrm>
              <a:off x="9214560" y="4296240"/>
              <a:ext cx="678240" cy="19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图片 15" descr=""/>
            <p:cNvPicPr/>
            <p:nvPr/>
          </p:nvPicPr>
          <p:blipFill>
            <a:blip r:embed="rId5"/>
            <a:srcRect l="74870" t="23463" r="17122" b="12243"/>
            <a:stretch/>
          </p:blipFill>
          <p:spPr>
            <a:xfrm>
              <a:off x="8054280" y="4572000"/>
              <a:ext cx="586440" cy="169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图片 16" descr=""/>
            <p:cNvPicPr/>
            <p:nvPr/>
          </p:nvPicPr>
          <p:blipFill>
            <a:blip r:embed="rId6"/>
            <a:srcRect l="74870" t="23463" r="17122" b="12243"/>
            <a:stretch/>
          </p:blipFill>
          <p:spPr>
            <a:xfrm>
              <a:off x="7022520" y="4760640"/>
              <a:ext cx="517680" cy="14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图片 17" descr=""/>
            <p:cNvPicPr/>
            <p:nvPr/>
          </p:nvPicPr>
          <p:blipFill>
            <a:blip r:embed="rId7"/>
            <a:srcRect l="74870" t="23463" r="17122" b="12243"/>
            <a:stretch/>
          </p:blipFill>
          <p:spPr>
            <a:xfrm>
              <a:off x="6060240" y="4934880"/>
              <a:ext cx="461160" cy="13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图片 18" descr=""/>
            <p:cNvPicPr/>
            <p:nvPr/>
          </p:nvPicPr>
          <p:blipFill>
            <a:blip r:embed="rId8"/>
            <a:srcRect l="74870" t="23463" r="17122" b="12243"/>
            <a:stretch/>
          </p:blipFill>
          <p:spPr>
            <a:xfrm>
              <a:off x="5157360" y="5123520"/>
              <a:ext cx="39600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图片 19" descr=""/>
            <p:cNvPicPr/>
            <p:nvPr/>
          </p:nvPicPr>
          <p:blipFill>
            <a:blip r:embed="rId9"/>
            <a:srcRect l="74870" t="23463" r="17122" b="12243"/>
            <a:stretch/>
          </p:blipFill>
          <p:spPr>
            <a:xfrm>
              <a:off x="4370040" y="5373720"/>
              <a:ext cx="309600" cy="89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0" descr=""/>
            <p:cNvPicPr/>
            <p:nvPr/>
          </p:nvPicPr>
          <p:blipFill>
            <a:blip r:embed="rId10"/>
            <a:srcRect l="74870" t="23463" r="17122" b="12243"/>
            <a:stretch/>
          </p:blipFill>
          <p:spPr>
            <a:xfrm>
              <a:off x="3607200" y="5559120"/>
              <a:ext cx="24876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1" descr=""/>
            <p:cNvPicPr/>
            <p:nvPr/>
          </p:nvPicPr>
          <p:blipFill>
            <a:blip r:embed="rId11"/>
            <a:srcRect l="74870" t="23463" r="17122" b="12243"/>
            <a:stretch/>
          </p:blipFill>
          <p:spPr>
            <a:xfrm>
              <a:off x="2932920" y="5704200"/>
              <a:ext cx="198720" cy="5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图片 24" descr=""/>
            <p:cNvPicPr/>
            <p:nvPr/>
          </p:nvPicPr>
          <p:blipFill>
            <a:blip r:embed="rId12"/>
            <a:srcRect l="74870" t="23463" r="17122" b="12243"/>
            <a:stretch/>
          </p:blipFill>
          <p:spPr>
            <a:xfrm>
              <a:off x="2340720" y="5892840"/>
              <a:ext cx="128520" cy="37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图片 25" descr=""/>
            <p:cNvPicPr/>
            <p:nvPr/>
          </p:nvPicPr>
          <p:blipFill>
            <a:blip r:embed="rId13"/>
            <a:srcRect l="74870" t="23463" r="17122" b="12243"/>
            <a:stretch/>
          </p:blipFill>
          <p:spPr>
            <a:xfrm>
              <a:off x="1847880" y="6019200"/>
              <a:ext cx="8640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图片 26" descr=""/>
            <p:cNvPicPr/>
            <p:nvPr/>
          </p:nvPicPr>
          <p:blipFill>
            <a:blip r:embed="rId14"/>
            <a:srcRect l="74870" t="23463" r="17122" b="12243"/>
            <a:stretch/>
          </p:blipFill>
          <p:spPr>
            <a:xfrm>
              <a:off x="1400040" y="6104160"/>
              <a:ext cx="60480" cy="17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图片 27" descr=""/>
            <p:cNvPicPr/>
            <p:nvPr/>
          </p:nvPicPr>
          <p:blipFill>
            <a:blip r:embed="rId15"/>
            <a:srcRect l="74870" t="23463" r="17122" b="12243"/>
            <a:stretch/>
          </p:blipFill>
          <p:spPr>
            <a:xfrm flipH="1">
              <a:off x="972360" y="6160680"/>
              <a:ext cx="36000" cy="10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直接连接符 12"/>
            <p:cNvSpPr/>
            <p:nvPr/>
          </p:nvSpPr>
          <p:spPr>
            <a:xfrm>
              <a:off x="545400" y="6270120"/>
              <a:ext cx="1080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34"/>
            <p:cNvSpPr/>
            <p:nvPr/>
          </p:nvSpPr>
          <p:spPr>
            <a:xfrm flipV="1" rot="16200000">
              <a:off x="389160" y="6123240"/>
              <a:ext cx="287640" cy="28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13"/>
            <p:cNvSpPr/>
            <p:nvPr/>
          </p:nvSpPr>
          <p:spPr>
            <a:xfrm>
              <a:off x="536400" y="3788640"/>
              <a:ext cx="10332000" cy="2481480"/>
            </a:xfrm>
            <a:prstGeom prst="pi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35"/>
            <p:cNvSpPr/>
            <p:nvPr/>
          </p:nvSpPr>
          <p:spPr>
            <a:xfrm rot="20760000">
              <a:off x="3449160" y="4232520"/>
              <a:ext cx="473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平均每年</a:t>
              </a:r>
              <a:r>
                <a:rPr b="1" lang="en-US" sz="2400" spc="-1" strike="noStrike">
                  <a:solidFill>
                    <a:srgbClr val="c00000"/>
                  </a:solidFill>
                  <a:latin typeface="方正超粗黑简体"/>
                  <a:ea typeface="方正超粗黑简体"/>
                </a:rPr>
                <a:t>13.3%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增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36"/>
            <p:cNvSpPr/>
            <p:nvPr/>
          </p:nvSpPr>
          <p:spPr>
            <a:xfrm>
              <a:off x="217440" y="6354360"/>
              <a:ext cx="1158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002            2003             2004           2005          2006          2007          2008              2009            2010        2011       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a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5"/>
          <p:cNvSpPr/>
          <p:nvPr/>
        </p:nvSpPr>
        <p:spPr>
          <a:xfrm>
            <a:off x="1044720" y="517680"/>
            <a:ext cx="6735600" cy="609480"/>
          </a:xfrm>
          <a:prstGeom prst="rect">
            <a:avLst/>
          </a:prstGeom>
          <a:solidFill>
            <a:srgbClr val="025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3" descr=""/>
          <p:cNvPicPr/>
          <p:nvPr/>
        </p:nvPicPr>
        <p:blipFill>
          <a:blip r:embed="rId1"/>
          <a:stretch/>
        </p:blipFill>
        <p:spPr>
          <a:xfrm>
            <a:off x="301680" y="247680"/>
            <a:ext cx="1117440" cy="1149480"/>
          </a:xfrm>
          <a:prstGeom prst="rect">
            <a:avLst/>
          </a:prstGeom>
          <a:ln w="0">
            <a:noFill/>
          </a:ln>
        </p:spPr>
      </p:pic>
      <p:sp>
        <p:nvSpPr>
          <p:cNvPr id="99" name="同心圆 1"/>
          <p:cNvSpPr/>
          <p:nvPr/>
        </p:nvSpPr>
        <p:spPr>
          <a:xfrm>
            <a:off x="485640" y="447840"/>
            <a:ext cx="720720" cy="720720"/>
          </a:xfrm>
          <a:prstGeom prst="donut">
            <a:avLst>
              <a:gd name="adj" fmla="val 1558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"/>
          <p:cNvSpPr/>
          <p:nvPr/>
        </p:nvSpPr>
        <p:spPr>
          <a:xfrm>
            <a:off x="257040" y="57456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75ff"/>
                </a:solidFill>
                <a:latin typeface="方正兰亭特黑_GBK"/>
                <a:ea typeface="方正兰亭特黑_GBK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6"/>
          <p:cNvSpPr/>
          <p:nvPr/>
        </p:nvSpPr>
        <p:spPr>
          <a:xfrm>
            <a:off x="1604880" y="546120"/>
            <a:ext cx="62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百度综艺简体"/>
                <a:ea typeface="百度综艺简体"/>
              </a:rPr>
              <a:t>市场份额逐渐向前五位公司集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10"/>
          <p:cNvSpPr/>
          <p:nvPr/>
        </p:nvSpPr>
        <p:spPr>
          <a:xfrm flipV="1" rot="16200000">
            <a:off x="662040" y="963720"/>
            <a:ext cx="40320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3"/>
          <p:cNvSpPr/>
          <p:nvPr/>
        </p:nvSpPr>
        <p:spPr>
          <a:xfrm>
            <a:off x="299880" y="1800360"/>
            <a:ext cx="1160172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当前，饮料行业前五位公司占据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68%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的份额，</a:t>
            </a:r>
            <a:r>
              <a:rPr b="0" lang="en-US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2003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年时这个数字是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5%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哇哈哈是拥有饮料产品数量最多的公司，它在全国拥有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281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条生产线，每天生产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3.5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万吨饮料。每年，哇哈哈按照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至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种的平均速度推出新产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42"/>
          <p:cNvGrpSpPr/>
          <p:nvPr/>
        </p:nvGrpSpPr>
        <p:grpSpPr>
          <a:xfrm>
            <a:off x="2792520" y="3137040"/>
            <a:ext cx="6607080" cy="3657600"/>
            <a:chOff x="2792520" y="3137040"/>
            <a:chExt cx="6607080" cy="3657600"/>
          </a:xfrm>
        </p:grpSpPr>
        <p:sp>
          <p:nvSpPr>
            <p:cNvPr id="105" name="流程图: 联系 9"/>
            <p:cNvSpPr/>
            <p:nvPr/>
          </p:nvSpPr>
          <p:spPr>
            <a:xfrm>
              <a:off x="4330440" y="3199680"/>
              <a:ext cx="3528000" cy="3528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图表 32" descr=""/>
            <p:cNvPicPr/>
            <p:nvPr/>
          </p:nvPicPr>
          <p:blipFill>
            <a:blip r:embed="rId3"/>
            <a:stretch/>
          </p:blipFill>
          <p:spPr>
            <a:xfrm>
              <a:off x="2792520" y="3137040"/>
              <a:ext cx="660708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表 38" descr=""/>
            <p:cNvPicPr/>
            <p:nvPr/>
          </p:nvPicPr>
          <p:blipFill>
            <a:blip r:embed="rId4"/>
            <a:stretch/>
          </p:blipFill>
          <p:spPr>
            <a:xfrm>
              <a:off x="3617640" y="3702600"/>
              <a:ext cx="4966920" cy="259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文本框 33"/>
            <p:cNvSpPr/>
            <p:nvPr/>
          </p:nvSpPr>
          <p:spPr>
            <a:xfrm>
              <a:off x="4451400" y="4969080"/>
              <a:ext cx="33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497f6"/>
                  </a:solidFill>
                  <a:latin typeface="微软雅黑"/>
                  <a:ea typeface="微软雅黑"/>
                </a:rPr>
                <a:t>前五位公司占份额  </a:t>
              </a:r>
              <a:r>
                <a:rPr b="1" lang="en-US" sz="2000" spc="-1" strike="noStrike">
                  <a:solidFill>
                    <a:srgbClr val="659b35"/>
                  </a:solidFill>
                  <a:latin typeface="微软雅黑"/>
                  <a:ea typeface="微软雅黑"/>
                </a:rPr>
                <a:t>2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39"/>
            <p:cNvSpPr/>
            <p:nvPr/>
          </p:nvSpPr>
          <p:spPr>
            <a:xfrm>
              <a:off x="5238360" y="3326040"/>
              <a:ext cx="9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900a"/>
                  </a:solidFill>
                  <a:latin typeface="微软雅黑"/>
                  <a:ea typeface="微软雅黑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0"/>
            <p:cNvSpPr/>
            <p:nvPr/>
          </p:nvSpPr>
          <p:spPr>
            <a:xfrm>
              <a:off x="5238360" y="3873240"/>
              <a:ext cx="9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900a"/>
                  </a:solidFill>
                  <a:latin typeface="微软雅黑"/>
                  <a:ea typeface="微软雅黑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41"/>
            <p:cNvSpPr/>
            <p:nvPr/>
          </p:nvSpPr>
          <p:spPr>
            <a:xfrm>
              <a:off x="3847320" y="5558760"/>
              <a:ext cx="14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方正超粗黑简体"/>
                  <a:ea typeface="方正超粗黑简体"/>
                </a:rPr>
                <a:t>68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009800" y="119376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a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5"/>
          <p:cNvSpPr/>
          <p:nvPr/>
        </p:nvSpPr>
        <p:spPr>
          <a:xfrm>
            <a:off x="1044720" y="517680"/>
            <a:ext cx="6735600" cy="609480"/>
          </a:xfrm>
          <a:prstGeom prst="rect">
            <a:avLst/>
          </a:prstGeom>
          <a:solidFill>
            <a:srgbClr val="025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3" descr=""/>
          <p:cNvPicPr/>
          <p:nvPr/>
        </p:nvPicPr>
        <p:blipFill>
          <a:blip r:embed="rId1"/>
          <a:stretch/>
        </p:blipFill>
        <p:spPr>
          <a:xfrm>
            <a:off x="301680" y="247680"/>
            <a:ext cx="1117440" cy="1149480"/>
          </a:xfrm>
          <a:prstGeom prst="rect">
            <a:avLst/>
          </a:prstGeom>
          <a:ln w="0">
            <a:noFill/>
          </a:ln>
        </p:spPr>
      </p:pic>
      <p:sp>
        <p:nvSpPr>
          <p:cNvPr id="115" name="同心圆 1"/>
          <p:cNvSpPr/>
          <p:nvPr/>
        </p:nvSpPr>
        <p:spPr>
          <a:xfrm>
            <a:off x="485640" y="447840"/>
            <a:ext cx="720720" cy="720720"/>
          </a:xfrm>
          <a:prstGeom prst="donut">
            <a:avLst>
              <a:gd name="adj" fmla="val 1558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"/>
          <p:cNvSpPr/>
          <p:nvPr/>
        </p:nvSpPr>
        <p:spPr>
          <a:xfrm>
            <a:off x="257040" y="57456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75ff"/>
                </a:solidFill>
                <a:latin typeface="方正兰亭特黑_GBK"/>
                <a:ea typeface="方正兰亭特黑_GB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6"/>
          <p:cNvSpPr/>
          <p:nvPr/>
        </p:nvSpPr>
        <p:spPr>
          <a:xfrm>
            <a:off x="1604880" y="546120"/>
            <a:ext cx="62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百度综艺简体"/>
                <a:ea typeface="百度综艺简体"/>
              </a:rPr>
              <a:t>激烈竞争导致大规模广告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10"/>
          <p:cNvSpPr/>
          <p:nvPr/>
        </p:nvSpPr>
        <p:spPr>
          <a:xfrm flipV="1" rot="16200000">
            <a:off x="662040" y="963720"/>
            <a:ext cx="40320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3"/>
          <p:cNvSpPr/>
          <p:nvPr/>
        </p:nvSpPr>
        <p:spPr>
          <a:xfrm>
            <a:off x="299880" y="1800360"/>
            <a:ext cx="11601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饮料行业是广告业最喜爱的客户之一。据</a:t>
            </a:r>
            <a:r>
              <a:rPr b="0" lang="en-US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CTR</a:t>
            </a:r>
            <a:r>
              <a:rPr b="0" lang="zh-CN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市场研究的数据，饮料行业</a:t>
            </a:r>
            <a:r>
              <a:rPr b="0" lang="en-US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年在传统媒介投放广告占比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1.5%</a:t>
            </a:r>
            <a:r>
              <a:rPr b="0" lang="zh-CN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，在所有行业中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排名前三</a:t>
            </a:r>
            <a:r>
              <a:rPr b="0" lang="zh-CN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总体来说，电视仍然是饮料最重要的广告战场，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90%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以上</a:t>
            </a:r>
            <a:r>
              <a:rPr b="0" lang="zh-CN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的投放都被投向了各个电视频道，今年饮料公司在地铁等户外渠道的广告投放增长最快，约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4%</a:t>
            </a:r>
            <a:r>
              <a:rPr b="0" lang="zh-CN" sz="1800" spc="-1" strike="noStrike">
                <a:solidFill>
                  <a:srgbClr val="1c3e5b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表 12" descr=""/>
          <p:cNvPicPr/>
          <p:nvPr/>
        </p:nvPicPr>
        <p:blipFill>
          <a:blip r:embed="rId3"/>
          <a:stretch/>
        </p:blipFill>
        <p:spPr>
          <a:xfrm>
            <a:off x="-1003320" y="3562200"/>
            <a:ext cx="5972040" cy="3294360"/>
          </a:xfrm>
          <a:prstGeom prst="rect">
            <a:avLst/>
          </a:prstGeom>
          <a:ln w="0">
            <a:noFill/>
          </a:ln>
        </p:spPr>
      </p:pic>
      <p:grpSp>
        <p:nvGrpSpPr>
          <p:cNvPr id="121" name="组合 19"/>
          <p:cNvGrpSpPr/>
          <p:nvPr/>
        </p:nvGrpSpPr>
        <p:grpSpPr>
          <a:xfrm>
            <a:off x="746280" y="4260960"/>
            <a:ext cx="4371840" cy="1919160"/>
            <a:chOff x="746280" y="4260960"/>
            <a:chExt cx="4371840" cy="1919160"/>
          </a:xfrm>
        </p:grpSpPr>
        <p:sp>
          <p:nvSpPr>
            <p:cNvPr id="122" name="文本框 13"/>
            <p:cNvSpPr/>
            <p:nvPr/>
          </p:nvSpPr>
          <p:spPr>
            <a:xfrm>
              <a:off x="746280" y="4260960"/>
              <a:ext cx="230724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1.</a:t>
              </a:r>
              <a:r>
                <a:rPr b="1" lang="zh-CN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化妆品</a:t>
              </a:r>
              <a:r>
                <a:rPr b="1" lang="en-US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浴室用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2.</a:t>
              </a:r>
              <a:r>
                <a:rPr b="1" lang="zh-CN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商业及服务行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饮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4.</a:t>
              </a:r>
              <a:r>
                <a:rPr b="1" lang="zh-CN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食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5.</a:t>
              </a:r>
              <a:r>
                <a:rPr b="1" lang="zh-CN" sz="1600" spc="-1" strike="noStrike">
                  <a:solidFill>
                    <a:srgbClr val="6493d5"/>
                  </a:solidFill>
                  <a:latin typeface="微软雅黑"/>
                  <a:ea typeface="微软雅黑"/>
                </a:rPr>
                <a:t>药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14"/>
            <p:cNvSpPr/>
            <p:nvPr/>
          </p:nvSpPr>
          <p:spPr>
            <a:xfrm>
              <a:off x="3243240" y="4938120"/>
              <a:ext cx="187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00000"/>
                  </a:solidFill>
                  <a:latin typeface="方正超粗黑简体"/>
                  <a:ea typeface="方正超粗黑简体"/>
                </a:rPr>
                <a:t>11.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18"/>
          <p:cNvGrpSpPr/>
          <p:nvPr/>
        </p:nvGrpSpPr>
        <p:grpSpPr>
          <a:xfrm>
            <a:off x="5435640" y="4938840"/>
            <a:ext cx="6365880" cy="583920"/>
            <a:chOff x="5435640" y="4938840"/>
            <a:chExt cx="6365880" cy="583920"/>
          </a:xfrm>
        </p:grpSpPr>
        <p:sp>
          <p:nvSpPr>
            <p:cNvPr id="125" name="矩形 15"/>
            <p:cNvSpPr/>
            <p:nvPr/>
          </p:nvSpPr>
          <p:spPr>
            <a:xfrm>
              <a:off x="5952960" y="4938840"/>
              <a:ext cx="5848560" cy="583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25"/>
            <p:cNvSpPr/>
            <p:nvPr/>
          </p:nvSpPr>
          <p:spPr>
            <a:xfrm>
              <a:off x="6884640" y="5024160"/>
              <a:ext cx="491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59b35"/>
                  </a:solidFill>
                  <a:latin typeface="方正超粗黑简体"/>
                  <a:ea typeface="方正超粗黑简体"/>
                </a:rPr>
                <a:t>其中 </a:t>
              </a:r>
              <a:r>
                <a:rPr b="1" lang="en-US" sz="2000" spc="-1" strike="noStrike">
                  <a:solidFill>
                    <a:srgbClr val="659b35"/>
                  </a:solidFill>
                  <a:latin typeface="方正超粗黑简体"/>
                  <a:ea typeface="方正超粗黑简体"/>
                </a:rPr>
                <a:t>90% </a:t>
              </a:r>
              <a:r>
                <a:rPr b="1" lang="zh-CN" sz="1800" spc="-1" strike="noStrike">
                  <a:solidFill>
                    <a:srgbClr val="548135"/>
                  </a:solidFill>
                  <a:latin typeface="微软雅黑"/>
                  <a:ea typeface="微软雅黑"/>
                </a:rPr>
                <a:t>以上投放在电视媒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等腰三角形 17"/>
            <p:cNvSpPr/>
            <p:nvPr/>
          </p:nvSpPr>
          <p:spPr>
            <a:xfrm rot="16200000">
              <a:off x="5573880" y="4933440"/>
              <a:ext cx="323640" cy="600480"/>
            </a:xfrm>
            <a:prstGeom prst="triangle">
              <a:avLst>
                <a:gd name="adj" fmla="val 50000"/>
              </a:avLst>
            </a:prstGeom>
            <a:solidFill>
              <a:srgbClr val="ffdf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a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5"/>
          <p:cNvSpPr/>
          <p:nvPr/>
        </p:nvSpPr>
        <p:spPr>
          <a:xfrm>
            <a:off x="1044720" y="517680"/>
            <a:ext cx="7184880" cy="609480"/>
          </a:xfrm>
          <a:prstGeom prst="rect">
            <a:avLst/>
          </a:prstGeom>
          <a:solidFill>
            <a:srgbClr val="025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3" descr=""/>
          <p:cNvPicPr/>
          <p:nvPr/>
        </p:nvPicPr>
        <p:blipFill>
          <a:blip r:embed="rId1"/>
          <a:stretch/>
        </p:blipFill>
        <p:spPr>
          <a:xfrm>
            <a:off x="301680" y="247680"/>
            <a:ext cx="1117440" cy="1149480"/>
          </a:xfrm>
          <a:prstGeom prst="rect">
            <a:avLst/>
          </a:prstGeom>
          <a:ln w="0">
            <a:noFill/>
          </a:ln>
        </p:spPr>
      </p:pic>
      <p:sp>
        <p:nvSpPr>
          <p:cNvPr id="130" name="同心圆 1"/>
          <p:cNvSpPr/>
          <p:nvPr/>
        </p:nvSpPr>
        <p:spPr>
          <a:xfrm>
            <a:off x="485640" y="447840"/>
            <a:ext cx="720720" cy="720720"/>
          </a:xfrm>
          <a:prstGeom prst="donut">
            <a:avLst>
              <a:gd name="adj" fmla="val 1558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"/>
          <p:cNvSpPr/>
          <p:nvPr/>
        </p:nvSpPr>
        <p:spPr>
          <a:xfrm>
            <a:off x="257040" y="57456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75ff"/>
                </a:solidFill>
                <a:latin typeface="方正兰亭特黑_GBK"/>
                <a:ea typeface="方正兰亭特黑_GBK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6"/>
          <p:cNvSpPr/>
          <p:nvPr/>
        </p:nvSpPr>
        <p:spPr>
          <a:xfrm>
            <a:off x="1604880" y="5461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百度综艺简体"/>
                <a:ea typeface="百度综艺简体"/>
              </a:rPr>
              <a:t>加多宝、统一等公司广告支出大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0"/>
          <p:cNvSpPr/>
          <p:nvPr/>
        </p:nvSpPr>
        <p:spPr>
          <a:xfrm flipV="1" rot="16200000">
            <a:off x="662040" y="963720"/>
            <a:ext cx="40320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9"/>
          <p:cNvSpPr/>
          <p:nvPr/>
        </p:nvSpPr>
        <p:spPr>
          <a:xfrm>
            <a:off x="299880" y="1800360"/>
            <a:ext cx="1160172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饮料业传统的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最大广告主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是哇哈哈公司，其今年冠名了多款电视节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统一在今年上半年的广告支出提升最快，提高了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约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40%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今年，加多宝因为特殊原因不断增加其广告投入，已经排名到了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第二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中国好声音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是今年夏季最为火爆的电视节目，这档节目公开的冠名费用是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6000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万元，加多宝冠名了这档节目，而娃哈哈的启力也是这档节目的最大广告主之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30"/>
          <p:cNvGrpSpPr/>
          <p:nvPr/>
        </p:nvGrpSpPr>
        <p:grpSpPr>
          <a:xfrm>
            <a:off x="438120" y="4305240"/>
            <a:ext cx="1673280" cy="2227680"/>
            <a:chOff x="438120" y="4305240"/>
            <a:chExt cx="1673280" cy="2227680"/>
          </a:xfrm>
        </p:grpSpPr>
        <p:sp>
          <p:nvSpPr>
            <p:cNvPr id="136" name="泪滴形 24"/>
            <p:cNvSpPr/>
            <p:nvPr/>
          </p:nvSpPr>
          <p:spPr>
            <a:xfrm rot="5400000">
              <a:off x="455400" y="4357440"/>
              <a:ext cx="1656000" cy="1654920"/>
            </a:xfrm>
            <a:prstGeom prst="pie">
              <a:avLst/>
            </a:prstGeom>
            <a:solidFill>
              <a:srgbClr val="025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图片 2" descr=""/>
            <p:cNvPicPr/>
            <p:nvPr/>
          </p:nvPicPr>
          <p:blipFill>
            <a:blip r:embed="rId3"/>
            <a:srcRect l="13184" t="5761" r="70400" b="26325"/>
            <a:stretch/>
          </p:blipFill>
          <p:spPr>
            <a:xfrm>
              <a:off x="438120" y="4305240"/>
              <a:ext cx="1673280" cy="17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文本框 11"/>
            <p:cNvSpPr/>
            <p:nvPr/>
          </p:nvSpPr>
          <p:spPr>
            <a:xfrm>
              <a:off x="438120" y="6134040"/>
              <a:ext cx="165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00000"/>
                  </a:solidFill>
                  <a:latin typeface="方正超粗黑简体"/>
                  <a:ea typeface="方正超粗黑简体"/>
                </a:rPr>
                <a:t>最大广告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31"/>
          <p:cNvGrpSpPr/>
          <p:nvPr/>
        </p:nvGrpSpPr>
        <p:grpSpPr>
          <a:xfrm>
            <a:off x="4740120" y="4356000"/>
            <a:ext cx="2721240" cy="2205720"/>
            <a:chOff x="4740120" y="4356000"/>
            <a:chExt cx="2721240" cy="2205720"/>
          </a:xfrm>
        </p:grpSpPr>
        <p:sp>
          <p:nvSpPr>
            <p:cNvPr id="140" name="泪滴形 9"/>
            <p:cNvSpPr/>
            <p:nvPr/>
          </p:nvSpPr>
          <p:spPr>
            <a:xfrm rot="5400000">
              <a:off x="5272200" y="4390200"/>
              <a:ext cx="1656000" cy="1655640"/>
            </a:xfrm>
            <a:prstGeom prst="pie">
              <a:avLst/>
            </a:prstGeom>
            <a:solidFill>
              <a:srgbClr val="025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图片 7" descr=""/>
            <p:cNvPicPr/>
            <p:nvPr/>
          </p:nvPicPr>
          <p:blipFill>
            <a:blip r:embed="rId4"/>
            <a:srcRect l="41553" t="6194" r="41546" b="27782"/>
            <a:stretch/>
          </p:blipFill>
          <p:spPr>
            <a:xfrm>
              <a:off x="5272920" y="4356000"/>
              <a:ext cx="1692720" cy="17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文本框 26"/>
            <p:cNvSpPr/>
            <p:nvPr/>
          </p:nvSpPr>
          <p:spPr>
            <a:xfrm>
              <a:off x="4740120" y="6162840"/>
              <a:ext cx="272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59b35"/>
                  </a:solidFill>
                  <a:latin typeface="方正超粗黑简体"/>
                  <a:ea typeface="方正超粗黑简体"/>
                </a:rPr>
                <a:t>广告支出增长</a:t>
              </a:r>
              <a:r>
                <a:rPr b="0" lang="en-US" sz="2000" spc="-1" strike="noStrike">
                  <a:solidFill>
                    <a:srgbClr val="659b35"/>
                  </a:solidFill>
                  <a:latin typeface="方正超粗黑简体"/>
                  <a:ea typeface="方正超粗黑简体"/>
                </a:rPr>
                <a:t>24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32"/>
          <p:cNvGrpSpPr/>
          <p:nvPr/>
        </p:nvGrpSpPr>
        <p:grpSpPr>
          <a:xfrm>
            <a:off x="9139320" y="4332240"/>
            <a:ext cx="2719440" cy="2229480"/>
            <a:chOff x="9139320" y="4332240"/>
            <a:chExt cx="2719440" cy="2229480"/>
          </a:xfrm>
        </p:grpSpPr>
        <p:sp>
          <p:nvSpPr>
            <p:cNvPr id="144" name="泪滴形 22"/>
            <p:cNvSpPr/>
            <p:nvPr/>
          </p:nvSpPr>
          <p:spPr>
            <a:xfrm rot="5400000">
              <a:off x="10126800" y="4363920"/>
              <a:ext cx="1655640" cy="1654560"/>
            </a:xfrm>
            <a:prstGeom prst="pie">
              <a:avLst/>
            </a:prstGeom>
            <a:solidFill>
              <a:srgbClr val="025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图片 8" descr=""/>
            <p:cNvPicPr/>
            <p:nvPr/>
          </p:nvPicPr>
          <p:blipFill>
            <a:blip r:embed="rId5"/>
            <a:srcRect l="69640" t="6339" r="13944" b="28885"/>
            <a:stretch/>
          </p:blipFill>
          <p:spPr>
            <a:xfrm>
              <a:off x="10127520" y="4332240"/>
              <a:ext cx="1654560" cy="16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27"/>
            <p:cNvSpPr/>
            <p:nvPr/>
          </p:nvSpPr>
          <p:spPr>
            <a:xfrm>
              <a:off x="9139320" y="6162840"/>
              <a:ext cx="271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a900a"/>
                  </a:solidFill>
                  <a:latin typeface="方正超粗黑简体"/>
                  <a:ea typeface="方正超粗黑简体"/>
                </a:rPr>
                <a:t>第二大广告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C9A-9836-4566-A3BB-8C4D176AB8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a9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椭圆形标注 16"/>
          <p:cNvSpPr/>
          <p:nvPr/>
        </p:nvSpPr>
        <p:spPr>
          <a:xfrm>
            <a:off x="3214800" y="3486240"/>
            <a:ext cx="1728720" cy="1727280"/>
          </a:xfrm>
          <a:prstGeom prst="wedgeEllipseCallout">
            <a:avLst>
              <a:gd name="adj1" fmla="val 75592"/>
              <a:gd name="adj2" fmla="val 247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1044720" y="517680"/>
            <a:ext cx="5805360" cy="609480"/>
          </a:xfrm>
          <a:prstGeom prst="rect">
            <a:avLst/>
          </a:prstGeom>
          <a:solidFill>
            <a:srgbClr val="025b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3" descr=""/>
          <p:cNvPicPr/>
          <p:nvPr/>
        </p:nvPicPr>
        <p:blipFill>
          <a:blip r:embed="rId1"/>
          <a:stretch/>
        </p:blipFill>
        <p:spPr>
          <a:xfrm>
            <a:off x="301680" y="247680"/>
            <a:ext cx="1117440" cy="1149480"/>
          </a:xfrm>
          <a:prstGeom prst="rect">
            <a:avLst/>
          </a:prstGeom>
          <a:ln w="0">
            <a:noFill/>
          </a:ln>
        </p:spPr>
      </p:pic>
      <p:sp>
        <p:nvSpPr>
          <p:cNvPr id="153" name="同心圆 1"/>
          <p:cNvSpPr/>
          <p:nvPr/>
        </p:nvSpPr>
        <p:spPr>
          <a:xfrm>
            <a:off x="485640" y="447840"/>
            <a:ext cx="720720" cy="720720"/>
          </a:xfrm>
          <a:prstGeom prst="donut">
            <a:avLst>
              <a:gd name="adj" fmla="val 1558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4"/>
          <p:cNvSpPr/>
          <p:nvPr/>
        </p:nvSpPr>
        <p:spPr>
          <a:xfrm>
            <a:off x="257040" y="57456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75ff"/>
                </a:solidFill>
                <a:latin typeface="方正兰亭特黑_GBK"/>
                <a:ea typeface="方正兰亭特黑_GBK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6"/>
          <p:cNvSpPr/>
          <p:nvPr/>
        </p:nvSpPr>
        <p:spPr>
          <a:xfrm>
            <a:off x="1604880" y="546120"/>
            <a:ext cx="52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百度综艺简体"/>
                <a:ea typeface="百度综艺简体"/>
              </a:rPr>
              <a:t>饮料行业竞争将更加激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10"/>
          <p:cNvSpPr/>
          <p:nvPr/>
        </p:nvSpPr>
        <p:spPr>
          <a:xfrm flipV="1" rot="16200000">
            <a:off x="662040" y="963720"/>
            <a:ext cx="403200" cy="30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9"/>
          <p:cNvSpPr/>
          <p:nvPr/>
        </p:nvSpPr>
        <p:spPr>
          <a:xfrm>
            <a:off x="299880" y="1800360"/>
            <a:ext cx="116017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一个精准的广告足以带动一瓶饮料的成功。现在，饮料产品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更新周期变快，竞争更加激烈</a:t>
            </a:r>
            <a:r>
              <a:rPr b="0" lang="zh-CN" sz="1800" spc="-1" strike="noStrike">
                <a:solidFill>
                  <a:srgbClr val="142a44"/>
                </a:solidFill>
                <a:latin typeface="微软雅黑"/>
                <a:ea typeface="微软雅黑"/>
              </a:rPr>
              <a:t>就意味着大规模的广告投入将变得更有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统一在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205694"/>
                </a:solidFill>
                <a:latin typeface="微软雅黑"/>
                <a:ea typeface="微软雅黑"/>
              </a:rPr>
              <a:t>月推出冰糖雪梨后，康师傅、娃哈哈、今麦郎等也都推出了这种口味的饮料。目前，全国至少有上百种冰糖雪梨饮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23" descr=""/>
          <p:cNvPicPr/>
          <p:nvPr/>
        </p:nvPicPr>
        <p:blipFill>
          <a:blip r:embed="rId3"/>
          <a:srcRect l="44653" t="88094" r="43124" b="3722"/>
          <a:stretch/>
        </p:blipFill>
        <p:spPr>
          <a:xfrm>
            <a:off x="5686560" y="3341520"/>
            <a:ext cx="828720" cy="2401920"/>
          </a:xfrm>
          <a:prstGeom prst="rect">
            <a:avLst/>
          </a:prstGeom>
          <a:ln w="0">
            <a:noFill/>
          </a:ln>
        </p:spPr>
      </p:pic>
      <p:sp>
        <p:nvSpPr>
          <p:cNvPr id="159" name="矩形 13"/>
          <p:cNvSpPr/>
          <p:nvPr/>
        </p:nvSpPr>
        <p:spPr>
          <a:xfrm>
            <a:off x="0" y="5762520"/>
            <a:ext cx="12192120" cy="1095480"/>
          </a:xfrm>
          <a:prstGeom prst="rect">
            <a:avLst/>
          </a:prstGeom>
          <a:solidFill>
            <a:srgbClr val="007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14" descr=""/>
          <p:cNvPicPr/>
          <p:nvPr/>
        </p:nvPicPr>
        <p:blipFill>
          <a:blip r:embed="rId4"/>
          <a:srcRect l="3396" t="58039" r="0" b="5882"/>
          <a:stretch/>
        </p:blipFill>
        <p:spPr>
          <a:xfrm>
            <a:off x="17640" y="5745240"/>
            <a:ext cx="6860880" cy="10872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5" descr=""/>
          <p:cNvPicPr/>
          <p:nvPr/>
        </p:nvPicPr>
        <p:blipFill>
          <a:blip r:embed="rId5"/>
          <a:srcRect l="33768" t="21686" r="0" b="41650"/>
          <a:stretch/>
        </p:blipFill>
        <p:spPr>
          <a:xfrm>
            <a:off x="7505640" y="5745240"/>
            <a:ext cx="470376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135"/>
          <p:cNvGrpSpPr/>
          <p:nvPr/>
        </p:nvGrpSpPr>
        <p:grpSpPr>
          <a:xfrm>
            <a:off x="3574440" y="3635280"/>
            <a:ext cx="969120" cy="812520"/>
            <a:chOff x="3574440" y="3635280"/>
            <a:chExt cx="969120" cy="812520"/>
          </a:xfrm>
        </p:grpSpPr>
        <p:sp>
          <p:nvSpPr>
            <p:cNvPr id="163" name="AutoShape 131"/>
            <p:cNvSpPr/>
            <p:nvPr/>
          </p:nvSpPr>
          <p:spPr>
            <a:xfrm>
              <a:off x="3814920" y="3635280"/>
              <a:ext cx="581400" cy="214920"/>
            </a:xfrm>
            <a:custGeom>
              <a:avLst/>
              <a:gdLst>
                <a:gd name="textAreaLeft" fmla="*/ 89640 w 581400"/>
                <a:gd name="textAreaRight" fmla="*/ 433440 w 581400"/>
                <a:gd name="textAreaTop" fmla="*/ 28800 h 214920"/>
                <a:gd name="textAreaBottom" fmla="*/ 186120 h 21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671" hR="21600" stAng="10800000" swAng="5400000"/>
                  <a:lnTo>
                    <a:pt x="12769" y="0"/>
                  </a:lnTo>
                  <a:arcTo wR="6671" hR="21600" stAng="-5400000" swAng="2468575"/>
                  <a:lnTo>
                    <a:pt x="21219" y="14401"/>
                  </a:lnTo>
                  <a:lnTo>
                    <a:pt x="16391" y="21600"/>
                  </a:lnTo>
                  <a:lnTo>
                    <a:pt x="10801" y="14401"/>
                  </a:lnTo>
                  <a:lnTo>
                    <a:pt x="12961" y="14401"/>
                  </a:lnTo>
                  <a:arcTo wR="6671" hR="21600" stAng="-2931425" swAng="-1927504"/>
                  <a:lnTo>
                    <a:pt x="9720" y="2388"/>
                  </a:lnTo>
                  <a:arcTo wR="6671" hR="21600" stAng="-5941071" swAng="-4858929"/>
                  <a:close/>
                </a:path>
                <a:path fill="darkenLess" w="21600" h="21600">
                  <a:moveTo>
                    <a:pt x="0" y="21600"/>
                  </a:moveTo>
                  <a:arcTo wR="6671" hR="21600" stAng="10800000" swAng="5400000"/>
                  <a:lnTo>
                    <a:pt x="6671" y="0"/>
                  </a:lnTo>
                  <a:arcTo wR="6671" hR="21600" stAng="-5400000" swAng="541071"/>
                  <a:lnTo>
                    <a:pt x="9720" y="2388"/>
                  </a:lnTo>
                  <a:arcTo wR="6671" hR="21600" stAng="-5941071" swAng="-4858929"/>
                  <a:close/>
                </a:path>
              </a:pathLst>
            </a:custGeom>
            <a:solidFill>
              <a:srgbClr val="007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32"/>
            <p:cNvSpPr/>
            <p:nvPr/>
          </p:nvSpPr>
          <p:spPr>
            <a:xfrm rot="6483000">
              <a:off x="4085640" y="4033440"/>
              <a:ext cx="507600" cy="263880"/>
            </a:xfrm>
            <a:custGeom>
              <a:avLst/>
              <a:gdLst>
                <a:gd name="textAreaLeft" fmla="*/ 78120 w 507600"/>
                <a:gd name="textAreaRight" fmla="*/ 378720 w 507600"/>
                <a:gd name="textAreaTop" fmla="*/ 35280 h 263880"/>
                <a:gd name="textAreaBottom" fmla="*/ 228600 h 26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671" hR="21600" stAng="10800000" swAng="5400000"/>
                  <a:lnTo>
                    <a:pt x="12769" y="0"/>
                  </a:lnTo>
                  <a:arcTo wR="6671" hR="21600" stAng="-5400000" swAng="2468575"/>
                  <a:lnTo>
                    <a:pt x="21219" y="14401"/>
                  </a:lnTo>
                  <a:lnTo>
                    <a:pt x="16391" y="21600"/>
                  </a:lnTo>
                  <a:lnTo>
                    <a:pt x="10801" y="14401"/>
                  </a:lnTo>
                  <a:lnTo>
                    <a:pt x="12961" y="14401"/>
                  </a:lnTo>
                  <a:arcTo wR="6671" hR="21600" stAng="-2931425" swAng="-1927504"/>
                  <a:lnTo>
                    <a:pt x="9720" y="2388"/>
                  </a:lnTo>
                  <a:arcTo wR="6671" hR="21600" stAng="-5941071" swAng="-4858929"/>
                  <a:close/>
                </a:path>
                <a:path fill="darkenLess" w="21600" h="21600">
                  <a:moveTo>
                    <a:pt x="0" y="21600"/>
                  </a:moveTo>
                  <a:arcTo wR="6671" hR="21600" stAng="10800000" swAng="5400000"/>
                  <a:lnTo>
                    <a:pt x="6671" y="0"/>
                  </a:lnTo>
                  <a:arcTo wR="6671" hR="21600" stAng="-5400000" swAng="541071"/>
                  <a:lnTo>
                    <a:pt x="9720" y="2388"/>
                  </a:lnTo>
                  <a:arcTo wR="6671" hR="21600" stAng="-5941071" swAng="-4858929"/>
                  <a:close/>
                </a:path>
              </a:pathLst>
            </a:custGeom>
            <a:solidFill>
              <a:srgbClr val="007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33"/>
            <p:cNvSpPr/>
            <p:nvPr/>
          </p:nvSpPr>
          <p:spPr>
            <a:xfrm flipH="1" flipV="1" rot="4120200">
              <a:off x="3554640" y="4012920"/>
              <a:ext cx="485640" cy="289440"/>
            </a:xfrm>
            <a:custGeom>
              <a:avLst/>
              <a:gdLst>
                <a:gd name="textAreaLeft" fmla="*/ 74520 w 485640"/>
                <a:gd name="textAreaRight" fmla="*/ 361800 w 485640"/>
                <a:gd name="textAreaTop" fmla="*/ 38520 h 289440"/>
                <a:gd name="textAreaBottom" fmla="*/ 250920 h 28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671" hR="21600" stAng="10800000" swAng="5400000"/>
                  <a:lnTo>
                    <a:pt x="12769" y="0"/>
                  </a:lnTo>
                  <a:arcTo wR="6671" hR="21600" stAng="-5400000" swAng="2468575"/>
                  <a:lnTo>
                    <a:pt x="21219" y="14401"/>
                  </a:lnTo>
                  <a:lnTo>
                    <a:pt x="16391" y="21600"/>
                  </a:lnTo>
                  <a:lnTo>
                    <a:pt x="10801" y="14401"/>
                  </a:lnTo>
                  <a:lnTo>
                    <a:pt x="12961" y="14401"/>
                  </a:lnTo>
                  <a:arcTo wR="6671" hR="21600" stAng="-2931425" swAng="-1927504"/>
                  <a:lnTo>
                    <a:pt x="9720" y="2388"/>
                  </a:lnTo>
                  <a:arcTo wR="6671" hR="21600" stAng="-5941071" swAng="-4858929"/>
                  <a:close/>
                </a:path>
                <a:path fill="darkenLess" w="21600" h="21600">
                  <a:moveTo>
                    <a:pt x="0" y="21600"/>
                  </a:moveTo>
                  <a:arcTo wR="6671" hR="21600" stAng="10800000" swAng="5400000"/>
                  <a:lnTo>
                    <a:pt x="6671" y="0"/>
                  </a:lnTo>
                  <a:arcTo wR="6671" hR="21600" stAng="-5400000" swAng="541071"/>
                  <a:lnTo>
                    <a:pt x="9720" y="2388"/>
                  </a:lnTo>
                  <a:arcTo wR="6671" hR="21600" stAng="-5941071" swAng="-4858929"/>
                  <a:close/>
                </a:path>
              </a:pathLst>
            </a:custGeom>
            <a:solidFill>
              <a:srgbClr val="0078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文本框 40"/>
          <p:cNvSpPr/>
          <p:nvPr/>
        </p:nvSpPr>
        <p:spPr>
          <a:xfrm>
            <a:off x="3278160" y="44928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超粗黑简体"/>
                <a:ea typeface="方正超粗黑简体"/>
              </a:rPr>
              <a:t>更新周期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形标注 41"/>
          <p:cNvSpPr/>
          <p:nvPr/>
        </p:nvSpPr>
        <p:spPr>
          <a:xfrm>
            <a:off x="7961400" y="3479760"/>
            <a:ext cx="1728720" cy="1727280"/>
          </a:xfrm>
          <a:prstGeom prst="wedgeEllipseCallout">
            <a:avLst>
              <a:gd name="adj1" fmla="val -103125"/>
              <a:gd name="adj2" fmla="val 247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42"/>
          <p:cNvSpPr/>
          <p:nvPr/>
        </p:nvSpPr>
        <p:spPr>
          <a:xfrm>
            <a:off x="7997760" y="44928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方正超粗黑简体"/>
                <a:ea typeface="方正超粗黑简体"/>
              </a:rPr>
              <a:t>竞争激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6"/>
          <a:srcRect l="13675" t="30200" r="0" b="11043"/>
          <a:stretch/>
        </p:blipFill>
        <p:spPr>
          <a:xfrm>
            <a:off x="9282240" y="6083280"/>
            <a:ext cx="571320" cy="58896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17"/>
          <p:cNvSpPr/>
          <p:nvPr/>
        </p:nvSpPr>
        <p:spPr>
          <a:xfrm>
            <a:off x="8182080" y="3567240"/>
            <a:ext cx="103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25bc3"/>
                </a:solidFill>
                <a:latin typeface="Bernard MT Condensed"/>
              </a:rPr>
              <a:t>P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44"/>
          <p:cNvSpPr/>
          <p:nvPr/>
        </p:nvSpPr>
        <p:spPr>
          <a:xfrm>
            <a:off x="9615600" y="6045120"/>
            <a:ext cx="25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efefe"/>
                </a:solidFill>
                <a:latin typeface="方正粗倩简体"/>
                <a:ea typeface="方正粗倩简体"/>
              </a:rPr>
              <a:t>腾讯财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311040" y="6045120"/>
            <a:ext cx="62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efefe"/>
                </a:solidFill>
                <a:latin typeface="方正粗倩简体"/>
                <a:ea typeface="方正粗倩简体"/>
              </a:rPr>
              <a:t>严禁商用     </a:t>
            </a:r>
            <a:r>
              <a:rPr b="1" i="1" lang="zh-CN" sz="1600" spc="-1" strike="noStrike">
                <a:solidFill>
                  <a:srgbClr val="fefefe"/>
                </a:solidFill>
                <a:latin typeface="方正粗倩简体"/>
                <a:ea typeface="方正粗倩简体"/>
              </a:rPr>
              <a:t>一日一学系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7:27:00Z</dcterms:created>
  <dc:creator>袁健</dc:creator>
  <dc:description/>
  <dc:language>en-US</dc:language>
  <cp:lastModifiedBy>YANGS</cp:lastModifiedBy>
  <dcterms:modified xsi:type="dcterms:W3CDTF">2015-08-03T12:31:53Z</dcterms:modified>
  <cp:revision>1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