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3.png" ContentType="image/png"/>
  <Override PartName="/ppt/media/image22.png" ContentType="image/png"/>
  <Override PartName="/ppt/media/image24.jpeg" ContentType="image/jpeg"/>
  <Override PartName="/ppt/media/image21.png" ContentType="image/png"/>
  <Override PartName="/ppt/media/image19.png" ContentType="image/png"/>
  <Override PartName="/ppt/media/image28.jpeg" ContentType="image/jpeg"/>
  <Override PartName="/ppt/media/image20.png" ContentType="image/png"/>
  <Override PartName="/ppt/media/image36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31.png" ContentType="image/png"/>
  <Override PartName="/ppt/media/image25.jpeg" ContentType="image/jpeg"/>
  <Override PartName="/ppt/media/image2.png" ContentType="image/png"/>
  <Override PartName="/ppt/media/image32.png" ContentType="image/png"/>
  <Override PartName="/ppt/media/image3.png" ContentType="image/png"/>
  <Override PartName="/ppt/media/image4.png" ContentType="image/png"/>
  <Override PartName="/ppt/media/image29.jpeg" ContentType="image/jpeg"/>
  <Override PartName="/ppt/media/image52.jpeg" ContentType="image/jpeg"/>
  <Override PartName="/ppt/media/image33.jpeg" ContentType="image/jpeg"/>
  <Override PartName="/ppt/media/image27.jpeg" ContentType="image/jpeg"/>
  <Override PartName="/ppt/media/image37.jpeg" ContentType="image/jpeg"/>
  <Override PartName="/ppt/media/image50.png" ContentType="image/png"/>
  <Override PartName="/ppt/media/image13.png" ContentType="image/png"/>
  <Override PartName="/ppt/media/image41.jpeg" ContentType="image/jpeg"/>
  <Override PartName="/ppt/media/image45.jpeg" ContentType="image/jpeg"/>
  <Override PartName="/ppt/media/image42.jpeg" ContentType="image/jpeg"/>
  <Override PartName="/ppt/media/image51.png" ContentType="image/png"/>
  <Override PartName="/ppt/media/image30.jpeg" ContentType="image/jpeg"/>
  <Override PartName="/ppt/media/image43.png" ContentType="image/png"/>
  <Override PartName="/ppt/media/image44.jpeg" ContentType="image/jpeg"/>
  <Override PartName="/ppt/media/image40.jpeg" ContentType="image/jpeg"/>
  <Override PartName="/ppt/media/image38.jpeg" ContentType="image/jpeg"/>
  <Override PartName="/ppt/media/image9.png" ContentType="image/png"/>
  <Override PartName="/ppt/media/image46.png" ContentType="image/png"/>
  <Override PartName="/ppt/media/image48.png" ContentType="image/png"/>
  <Override PartName="/ppt/media/image11.png" ContentType="image/png"/>
  <Override PartName="/ppt/media/image39.jpeg" ContentType="image/jpeg"/>
  <Override PartName="/ppt/media/image8.png" ContentType="image/png"/>
  <Override PartName="/ppt/media/image49.png" ContentType="image/png"/>
  <Override PartName="/ppt/media/image12.png" ContentType="image/png"/>
  <Override PartName="/ppt/media/image34.jpeg" ContentType="image/jpeg"/>
  <Override PartName="/ppt/media/image7.png" ContentType="image/png"/>
  <Override PartName="/ppt/media/image6.png" ContentType="image/png"/>
  <Override PartName="/ppt/media/image10.png" ContentType="image/png"/>
  <Override PartName="/ppt/media/image47.png" ContentType="image/png"/>
  <Override PartName="/ppt/media/image35.jpeg" ContentType="image/jpeg"/>
  <Override PartName="/ppt/media/image5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EB343-622B-4682-ADDA-38933CC30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ctr">
            <a:noAutofit/>
          </a:bodyPr>
          <a:p>
            <a:pPr indent="0" algn="ctr">
              <a:buNone/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38440-2939-4404-8749-CE0DBF2EE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ctr">
            <a:noAutofit/>
          </a:bodyPr>
          <a:p>
            <a:pPr indent="0" algn="ctr">
              <a:buNone/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F5C2B-A801-476F-8953-00EC1B9D5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ctr">
            <a:noAutofit/>
          </a:bodyPr>
          <a:p>
            <a:pPr indent="0" algn="ctr">
              <a:buNone/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D65C3-0666-42DE-8A32-591714B97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ctr">
            <a:noAutofit/>
          </a:bodyPr>
          <a:p>
            <a:pPr indent="0" algn="ctr">
              <a:buNone/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24"/>
              </a:spcBef>
              <a:buNone/>
              <a:tabLst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AFF51-A244-4A42-BF22-233B342ED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ctr">
            <a:noAutofit/>
          </a:bodyPr>
          <a:p>
            <a:pPr indent="0" algn="ctr">
              <a:buNone/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9D7A1-A7CD-4C8C-885B-B706C99B2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ctr">
            <a:noAutofit/>
          </a:bodyPr>
          <a:p>
            <a:pPr indent="0" algn="ctr">
              <a:buNone/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27A17-C30F-4E7E-AF1B-C41F440D7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ctr">
            <a:noAutofit/>
          </a:bodyPr>
          <a:p>
            <a:pPr indent="0" algn="ctr">
              <a:buNone/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3600C-1A23-474A-B199-D937EB9FB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C0D80-7C95-4676-845E-6E3D79D18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ctr">
            <a:noAutofit/>
          </a:bodyPr>
          <a:p>
            <a:pPr indent="0" algn="ctr">
              <a:buNone/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15843-71FB-4920-8CD9-14C50193B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ctr">
            <a:noAutofit/>
          </a:bodyPr>
          <a:p>
            <a:pPr indent="0" algn="ctr">
              <a:buNone/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13A80-2C56-4987-8C13-B48825019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ctr">
            <a:noAutofit/>
          </a:bodyPr>
          <a:p>
            <a:pPr indent="0" algn="ctr">
              <a:buNone/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B1D34-12A4-489C-852A-726252371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ctr">
            <a:noAutofit/>
          </a:bodyPr>
          <a:p>
            <a:pPr indent="0" algn="ctr">
              <a:buNone/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t">
            <a:normAutofit/>
          </a:bodyPr>
          <a:p>
            <a:pPr marL="268200" indent="-268200">
              <a:spcBef>
                <a:spcPts val="624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358920" indent="358560">
              <a:spcBef>
                <a:spcPts val="624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2" marL="717480">
              <a:spcBef>
                <a:spcPts val="624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3" marL="1076400" indent="-358920">
              <a:spcBef>
                <a:spcPts val="624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4" marL="1434960" indent="-717480">
              <a:spcBef>
                <a:spcPts val="624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5" marL="1434960" indent="-717480">
              <a:spcBef>
                <a:spcPts val="624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6" marL="1434960" indent="-717480">
              <a:spcBef>
                <a:spcPts val="624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ctr">
            <a:noAutofit/>
          </a:bodyPr>
          <a:lstStyle>
            <a:lvl1pPr indent="0">
              <a:buNone/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  <a:defRPr b="0" lang="zh-CN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fld id="{686F6D26-FDDD-43B0-8A5B-2FF9230BDDAB}" type="datetime">
              <a:rPr b="0" lang="zh-CN" sz="9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ctr">
            <a:noAutofit/>
          </a:bodyPr>
          <a:p>
            <a:pPr indent="0">
              <a:buNone/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ctr">
            <a:noAutofit/>
          </a:bodyPr>
          <a:lstStyle>
            <a:lvl1pPr indent="0" algn="r">
              <a:buNone/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  <a:defRPr b="0" lang="zh-CN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fld id="{71BC10AB-71D3-4571-8E4C-C26F4D07CF70}" type="slidenum">
              <a:rPr b="0" lang="zh-CN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image" Target="../media/image8.png"/><Relationship Id="rId14" Type="http://schemas.openxmlformats.org/officeDocument/2006/relationships/image" Target="../media/image8.png"/><Relationship Id="rId15" Type="http://schemas.openxmlformats.org/officeDocument/2006/relationships/image" Target="../media/image8.png"/><Relationship Id="rId16" Type="http://schemas.openxmlformats.org/officeDocument/2006/relationships/image" Target="../media/image8.png"/><Relationship Id="rId17" Type="http://schemas.openxmlformats.org/officeDocument/2006/relationships/image" Target="../media/image8.png"/><Relationship Id="rId18" Type="http://schemas.openxmlformats.org/officeDocument/2006/relationships/image" Target="../media/image8.png"/><Relationship Id="rId19" Type="http://schemas.openxmlformats.org/officeDocument/2006/relationships/image" Target="../media/image8.png"/><Relationship Id="rId20" Type="http://schemas.openxmlformats.org/officeDocument/2006/relationships/image" Target="../media/image8.png"/><Relationship Id="rId21" Type="http://schemas.openxmlformats.org/officeDocument/2006/relationships/image" Target="../media/image8.png"/><Relationship Id="rId22" Type="http://schemas.openxmlformats.org/officeDocument/2006/relationships/image" Target="../media/image8.png"/><Relationship Id="rId23" Type="http://schemas.openxmlformats.org/officeDocument/2006/relationships/image" Target="../media/image8.png"/><Relationship Id="rId24" Type="http://schemas.openxmlformats.org/officeDocument/2006/relationships/image" Target="../media/image8.png"/><Relationship Id="rId25" Type="http://schemas.openxmlformats.org/officeDocument/2006/relationships/image" Target="../media/image8.png"/><Relationship Id="rId26" Type="http://schemas.openxmlformats.org/officeDocument/2006/relationships/image" Target="../media/image8.png"/><Relationship Id="rId27" Type="http://schemas.openxmlformats.org/officeDocument/2006/relationships/image" Target="../media/image8.png"/><Relationship Id="rId28" Type="http://schemas.openxmlformats.org/officeDocument/2006/relationships/image" Target="../media/image8.png"/><Relationship Id="rId29" Type="http://schemas.openxmlformats.org/officeDocument/2006/relationships/image" Target="../media/image8.png"/><Relationship Id="rId30" Type="http://schemas.openxmlformats.org/officeDocument/2006/relationships/image" Target="../media/image8.png"/><Relationship Id="rId31" Type="http://schemas.openxmlformats.org/officeDocument/2006/relationships/image" Target="../media/image8.png"/><Relationship Id="rId32" Type="http://schemas.openxmlformats.org/officeDocument/2006/relationships/image" Target="../media/image8.png"/><Relationship Id="rId33" Type="http://schemas.openxmlformats.org/officeDocument/2006/relationships/image" Target="../media/image8.png"/><Relationship Id="rId34" Type="http://schemas.openxmlformats.org/officeDocument/2006/relationships/image" Target="../media/image8.png"/><Relationship Id="rId35" Type="http://schemas.openxmlformats.org/officeDocument/2006/relationships/image" Target="../media/image8.png"/><Relationship Id="rId36" Type="http://schemas.openxmlformats.org/officeDocument/2006/relationships/image" Target="../media/image8.png"/><Relationship Id="rId37" Type="http://schemas.openxmlformats.org/officeDocument/2006/relationships/image" Target="../media/image8.png"/><Relationship Id="rId38" Type="http://schemas.openxmlformats.org/officeDocument/2006/relationships/image" Target="../media/image8.png"/><Relationship Id="rId39" Type="http://schemas.openxmlformats.org/officeDocument/2006/relationships/image" Target="../media/image8.png"/><Relationship Id="rId40" Type="http://schemas.openxmlformats.org/officeDocument/2006/relationships/image" Target="../media/image8.png"/><Relationship Id="rId41" Type="http://schemas.openxmlformats.org/officeDocument/2006/relationships/image" Target="../media/image8.png"/><Relationship Id="rId42" Type="http://schemas.openxmlformats.org/officeDocument/2006/relationships/image" Target="../media/image8.png"/><Relationship Id="rId43" Type="http://schemas.openxmlformats.org/officeDocument/2006/relationships/image" Target="../media/image8.png"/><Relationship Id="rId44" Type="http://schemas.openxmlformats.org/officeDocument/2006/relationships/image" Target="../media/image8.png"/><Relationship Id="rId45" Type="http://schemas.openxmlformats.org/officeDocument/2006/relationships/image" Target="../media/image8.png"/><Relationship Id="rId46" Type="http://schemas.openxmlformats.org/officeDocument/2006/relationships/image" Target="../media/image8.png"/><Relationship Id="rId47" Type="http://schemas.openxmlformats.org/officeDocument/2006/relationships/image" Target="../media/image8.png"/><Relationship Id="rId48" Type="http://schemas.openxmlformats.org/officeDocument/2006/relationships/image" Target="../media/image8.png"/><Relationship Id="rId49" Type="http://schemas.openxmlformats.org/officeDocument/2006/relationships/image" Target="../media/image8.png"/><Relationship Id="rId50" Type="http://schemas.openxmlformats.org/officeDocument/2006/relationships/image" Target="../media/image8.png"/><Relationship Id="rId51" Type="http://schemas.openxmlformats.org/officeDocument/2006/relationships/image" Target="../media/image8.png"/><Relationship Id="rId52" Type="http://schemas.openxmlformats.org/officeDocument/2006/relationships/image" Target="../media/image8.png"/><Relationship Id="rId53" Type="http://schemas.openxmlformats.org/officeDocument/2006/relationships/image" Target="../media/image8.png"/><Relationship Id="rId54" Type="http://schemas.openxmlformats.org/officeDocument/2006/relationships/image" Target="../media/image8.png"/><Relationship Id="rId55" Type="http://schemas.openxmlformats.org/officeDocument/2006/relationships/image" Target="../media/image8.png"/><Relationship Id="rId56" Type="http://schemas.openxmlformats.org/officeDocument/2006/relationships/image" Target="../media/image8.png"/><Relationship Id="rId57" Type="http://schemas.openxmlformats.org/officeDocument/2006/relationships/image" Target="../media/image8.png"/><Relationship Id="rId58" Type="http://schemas.openxmlformats.org/officeDocument/2006/relationships/image" Target="../media/image8.png"/><Relationship Id="rId59" Type="http://schemas.openxmlformats.org/officeDocument/2006/relationships/image" Target="../media/image8.png"/><Relationship Id="rId60" Type="http://schemas.openxmlformats.org/officeDocument/2006/relationships/image" Target="../media/image8.png"/><Relationship Id="rId61" Type="http://schemas.openxmlformats.org/officeDocument/2006/relationships/image" Target="../media/image8.png"/><Relationship Id="rId62" Type="http://schemas.openxmlformats.org/officeDocument/2006/relationships/image" Target="../media/image8.png"/><Relationship Id="rId63" Type="http://schemas.openxmlformats.org/officeDocument/2006/relationships/image" Target="../media/image8.png"/><Relationship Id="rId64" Type="http://schemas.openxmlformats.org/officeDocument/2006/relationships/image" Target="../media/image8.png"/><Relationship Id="rId65" Type="http://schemas.openxmlformats.org/officeDocument/2006/relationships/image" Target="../media/image8.png"/><Relationship Id="rId66" Type="http://schemas.openxmlformats.org/officeDocument/2006/relationships/image" Target="../media/image8.png"/><Relationship Id="rId67" Type="http://schemas.openxmlformats.org/officeDocument/2006/relationships/image" Target="../media/image8.png"/><Relationship Id="rId68" Type="http://schemas.openxmlformats.org/officeDocument/2006/relationships/image" Target="../media/image8.png"/><Relationship Id="rId69" Type="http://schemas.openxmlformats.org/officeDocument/2006/relationships/image" Target="../media/image8.png"/><Relationship Id="rId70" Type="http://schemas.openxmlformats.org/officeDocument/2006/relationships/image" Target="../media/image8.png"/><Relationship Id="rId71" Type="http://schemas.openxmlformats.org/officeDocument/2006/relationships/image" Target="../media/image8.png"/><Relationship Id="rId7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image" Target="../media/image49.png"/><Relationship Id="rId5" Type="http://schemas.openxmlformats.org/officeDocument/2006/relationships/image" Target="../media/image50.png"/><Relationship Id="rId6" Type="http://schemas.openxmlformats.org/officeDocument/2006/relationships/image" Target="../media/image51.png"/><Relationship Id="rId7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image" Target="../media/image8.png"/><Relationship Id="rId14" Type="http://schemas.openxmlformats.org/officeDocument/2006/relationships/image" Target="../media/image8.png"/><Relationship Id="rId15" Type="http://schemas.openxmlformats.org/officeDocument/2006/relationships/image" Target="../media/image8.png"/><Relationship Id="rId16" Type="http://schemas.openxmlformats.org/officeDocument/2006/relationships/image" Target="../media/image8.png"/><Relationship Id="rId17" Type="http://schemas.openxmlformats.org/officeDocument/2006/relationships/image" Target="../media/image8.png"/><Relationship Id="rId18" Type="http://schemas.openxmlformats.org/officeDocument/2006/relationships/image" Target="../media/image8.png"/><Relationship Id="rId19" Type="http://schemas.openxmlformats.org/officeDocument/2006/relationships/image" Target="../media/image8.png"/><Relationship Id="rId20" Type="http://schemas.openxmlformats.org/officeDocument/2006/relationships/image" Target="../media/image8.png"/><Relationship Id="rId21" Type="http://schemas.openxmlformats.org/officeDocument/2006/relationships/image" Target="../media/image8.png"/><Relationship Id="rId22" Type="http://schemas.openxmlformats.org/officeDocument/2006/relationships/image" Target="../media/image8.png"/><Relationship Id="rId23" Type="http://schemas.openxmlformats.org/officeDocument/2006/relationships/image" Target="../media/image8.png"/><Relationship Id="rId24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8.png"/><Relationship Id="rId10" Type="http://schemas.openxmlformats.org/officeDocument/2006/relationships/image" Target="../media/image19.png"/><Relationship Id="rId11" Type="http://schemas.openxmlformats.org/officeDocument/2006/relationships/image" Target="../media/image20.png"/><Relationship Id="rId1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hyperlink" Target="http://www.eeppt.com" TargetMode="External"/><Relationship Id="rId5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image" Target="../media/image29.jpeg"/><Relationship Id="rId7" Type="http://schemas.openxmlformats.org/officeDocument/2006/relationships/image" Target="../media/image30.jpeg"/><Relationship Id="rId8" Type="http://schemas.openxmlformats.org/officeDocument/2006/relationships/image" Target="../media/image31.png"/><Relationship Id="rId9" Type="http://schemas.openxmlformats.org/officeDocument/2006/relationships/image" Target="../media/image32.png"/><Relationship Id="rId10" Type="http://schemas.openxmlformats.org/officeDocument/2006/relationships/image" Target="../media/image33.jpeg"/><Relationship Id="rId1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image" Target="../media/image38.jpeg"/><Relationship Id="rId6" Type="http://schemas.openxmlformats.org/officeDocument/2006/relationships/image" Target="../media/image39.jpeg"/><Relationship Id="rId7" Type="http://schemas.openxmlformats.org/officeDocument/2006/relationships/image" Target="../media/image40.jpeg"/><Relationship Id="rId8" Type="http://schemas.openxmlformats.org/officeDocument/2006/relationships/image" Target="../media/image41.jpeg"/><Relationship Id="rId9" Type="http://schemas.openxmlformats.org/officeDocument/2006/relationships/image" Target="../media/image42.jpeg"/><Relationship Id="rId10" Type="http://schemas.openxmlformats.org/officeDocument/2006/relationships/image" Target="../media/image43.png"/><Relationship Id="rId1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44.jpeg"/><Relationship Id="rId3" Type="http://schemas.openxmlformats.org/officeDocument/2006/relationships/image" Target="../media/image36.jpeg"/><Relationship Id="rId4" Type="http://schemas.openxmlformats.org/officeDocument/2006/relationships/image" Target="../media/image45.jpeg"/><Relationship Id="rId5" Type="http://schemas.openxmlformats.org/officeDocument/2006/relationships/image" Target="../media/image38.jpeg"/><Relationship Id="rId6" Type="http://schemas.openxmlformats.org/officeDocument/2006/relationships/image" Target="../media/image39.jpeg"/><Relationship Id="rId7" Type="http://schemas.openxmlformats.org/officeDocument/2006/relationships/image" Target="../media/image40.jpeg"/><Relationship Id="rId8" Type="http://schemas.openxmlformats.org/officeDocument/2006/relationships/image" Target="../media/image41.jpeg"/><Relationship Id="rId9" Type="http://schemas.openxmlformats.org/officeDocument/2006/relationships/image" Target="../media/image42.jpeg"/><Relationship Id="rId10" Type="http://schemas.openxmlformats.org/officeDocument/2006/relationships/image" Target="../media/image46.png"/><Relationship Id="rId1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4"/>
          <p:cNvSpPr/>
          <p:nvPr/>
        </p:nvSpPr>
        <p:spPr>
          <a:xfrm>
            <a:off x="2411280" y="915840"/>
            <a:ext cx="302436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r>
              <a:rPr b="0" lang="zh-CN" sz="8800" spc="-1" strike="noStrike">
                <a:solidFill>
                  <a:srgbClr val="019ed5"/>
                </a:solidFill>
                <a:latin typeface="微软雅黑"/>
                <a:ea typeface="微软雅黑"/>
              </a:rPr>
              <a:t>阅读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6"/>
          <p:cNvSpPr/>
          <p:nvPr/>
        </p:nvSpPr>
        <p:spPr>
          <a:xfrm>
            <a:off x="4814280" y="555480"/>
            <a:ext cx="1849320" cy="21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r>
              <a:rPr b="0" lang="en-US" sz="8800" spc="-1" strike="noStrike">
                <a:solidFill>
                  <a:srgbClr val="db0048"/>
                </a:solidFill>
                <a:latin typeface="微软雅黑"/>
                <a:ea typeface="微软雅黑"/>
              </a:rPr>
              <a:t>ing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组合 9"/>
          <p:cNvGrpSpPr/>
          <p:nvPr/>
        </p:nvGrpSpPr>
        <p:grpSpPr>
          <a:xfrm>
            <a:off x="5003640" y="1276200"/>
            <a:ext cx="1368720" cy="54000"/>
            <a:chOff x="5003640" y="1276200"/>
            <a:chExt cx="1368720" cy="54000"/>
          </a:xfrm>
        </p:grpSpPr>
        <p:sp>
          <p:nvSpPr>
            <p:cNvPr id="44" name="直接连接符 7"/>
            <p:cNvSpPr/>
            <p:nvPr/>
          </p:nvSpPr>
          <p:spPr>
            <a:xfrm>
              <a:off x="5003640" y="1298520"/>
              <a:ext cx="1368720" cy="0"/>
            </a:xfrm>
            <a:prstGeom prst="line">
              <a:avLst/>
            </a:prstGeom>
            <a:ln w="9360">
              <a:solidFill>
                <a:srgbClr val="db004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椭圆 10"/>
            <p:cNvSpPr/>
            <p:nvPr/>
          </p:nvSpPr>
          <p:spPr>
            <a:xfrm>
              <a:off x="5868000" y="1276200"/>
              <a:ext cx="54000" cy="54000"/>
            </a:xfrm>
            <a:prstGeom prst="ellipse">
              <a:avLst/>
            </a:prstGeom>
            <a:solidFill>
              <a:srgbClr val="db0048"/>
            </a:solidFill>
            <a:ln w="25560">
              <a:solidFill>
                <a:srgbClr val="db004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17480"/>
                  <a:tab algn="l" pos="1434960"/>
                  <a:tab algn="l" pos="2152800"/>
                  <a:tab algn="l" pos="2870280"/>
                  <a:tab algn="l" pos="3587760"/>
                  <a:tab algn="l" pos="4305240"/>
                  <a:tab algn="l" pos="5022720"/>
                  <a:tab algn="l" pos="5740560"/>
                  <a:tab algn="l" pos="6458040"/>
                  <a:tab algn="l" pos="7175520"/>
                  <a:tab algn="l" pos="7893000"/>
                  <a:tab algn="l" pos="8610480"/>
                  <a:tab algn="l" pos="9328320"/>
                  <a:tab algn="l" pos="10045800"/>
                  <a:tab algn="l" pos="107632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椭圆 11"/>
            <p:cNvSpPr/>
            <p:nvPr/>
          </p:nvSpPr>
          <p:spPr>
            <a:xfrm>
              <a:off x="6020640" y="1276200"/>
              <a:ext cx="54000" cy="54000"/>
            </a:xfrm>
            <a:prstGeom prst="ellipse">
              <a:avLst/>
            </a:prstGeom>
            <a:solidFill>
              <a:srgbClr val="db0048"/>
            </a:solidFill>
            <a:ln w="25560">
              <a:solidFill>
                <a:srgbClr val="db004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17480"/>
                  <a:tab algn="l" pos="1434960"/>
                  <a:tab algn="l" pos="2152800"/>
                  <a:tab algn="l" pos="2870280"/>
                  <a:tab algn="l" pos="3587760"/>
                  <a:tab algn="l" pos="4305240"/>
                  <a:tab algn="l" pos="5022720"/>
                  <a:tab algn="l" pos="5740560"/>
                  <a:tab algn="l" pos="6458040"/>
                  <a:tab algn="l" pos="7175520"/>
                  <a:tab algn="l" pos="7893000"/>
                  <a:tab algn="l" pos="8610480"/>
                  <a:tab algn="l" pos="9328320"/>
                  <a:tab algn="l" pos="10045800"/>
                  <a:tab algn="l" pos="107632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椭圆 12"/>
            <p:cNvSpPr/>
            <p:nvPr/>
          </p:nvSpPr>
          <p:spPr>
            <a:xfrm>
              <a:off x="6173280" y="1276200"/>
              <a:ext cx="54000" cy="54000"/>
            </a:xfrm>
            <a:prstGeom prst="ellipse">
              <a:avLst/>
            </a:prstGeom>
            <a:solidFill>
              <a:srgbClr val="db0048"/>
            </a:solidFill>
            <a:ln w="25560">
              <a:solidFill>
                <a:srgbClr val="db004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17480"/>
                  <a:tab algn="l" pos="1434960"/>
                  <a:tab algn="l" pos="2152800"/>
                  <a:tab algn="l" pos="2870280"/>
                  <a:tab algn="l" pos="3587760"/>
                  <a:tab algn="l" pos="4305240"/>
                  <a:tab algn="l" pos="5022720"/>
                  <a:tab algn="l" pos="5740560"/>
                  <a:tab algn="l" pos="6458040"/>
                  <a:tab algn="l" pos="7175520"/>
                  <a:tab algn="l" pos="7893000"/>
                  <a:tab algn="l" pos="8610480"/>
                  <a:tab algn="l" pos="9328320"/>
                  <a:tab algn="l" pos="10045800"/>
                  <a:tab algn="l" pos="107632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" name="组合 14"/>
          <p:cNvGrpSpPr/>
          <p:nvPr/>
        </p:nvGrpSpPr>
        <p:grpSpPr>
          <a:xfrm>
            <a:off x="2587680" y="2306520"/>
            <a:ext cx="1263600" cy="55800"/>
            <a:chOff x="2587680" y="2306520"/>
            <a:chExt cx="1263600" cy="55800"/>
          </a:xfrm>
        </p:grpSpPr>
        <p:sp>
          <p:nvSpPr>
            <p:cNvPr id="49" name="直接连接符 15"/>
            <p:cNvSpPr/>
            <p:nvPr/>
          </p:nvSpPr>
          <p:spPr>
            <a:xfrm>
              <a:off x="2587680" y="2334960"/>
              <a:ext cx="1218960" cy="0"/>
            </a:xfrm>
            <a:prstGeom prst="line">
              <a:avLst/>
            </a:prstGeom>
            <a:ln w="9360">
              <a:solidFill>
                <a:srgbClr val="019e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椭圆 16"/>
            <p:cNvSpPr/>
            <p:nvPr/>
          </p:nvSpPr>
          <p:spPr>
            <a:xfrm>
              <a:off x="3521880" y="2306520"/>
              <a:ext cx="53640" cy="54720"/>
            </a:xfrm>
            <a:prstGeom prst="ellipse">
              <a:avLst/>
            </a:prstGeom>
            <a:solidFill>
              <a:srgbClr val="019ed5"/>
            </a:solidFill>
            <a:ln w="25560">
              <a:solidFill>
                <a:srgbClr val="019e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17480"/>
                  <a:tab algn="l" pos="1434960"/>
                  <a:tab algn="l" pos="2152800"/>
                  <a:tab algn="l" pos="2870280"/>
                  <a:tab algn="l" pos="3587760"/>
                  <a:tab algn="l" pos="4305240"/>
                  <a:tab algn="l" pos="5022720"/>
                  <a:tab algn="l" pos="5740560"/>
                  <a:tab algn="l" pos="6458040"/>
                  <a:tab algn="l" pos="7175520"/>
                  <a:tab algn="l" pos="7893000"/>
                  <a:tab algn="l" pos="8610480"/>
                  <a:tab algn="l" pos="9328320"/>
                  <a:tab algn="l" pos="10045800"/>
                  <a:tab algn="l" pos="107632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椭圆 17"/>
            <p:cNvSpPr/>
            <p:nvPr/>
          </p:nvSpPr>
          <p:spPr>
            <a:xfrm>
              <a:off x="3672000" y="2306880"/>
              <a:ext cx="53640" cy="54720"/>
            </a:xfrm>
            <a:prstGeom prst="ellipse">
              <a:avLst/>
            </a:prstGeom>
            <a:solidFill>
              <a:srgbClr val="019ed5"/>
            </a:solidFill>
            <a:ln w="25560">
              <a:solidFill>
                <a:srgbClr val="019e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17480"/>
                  <a:tab algn="l" pos="1434960"/>
                  <a:tab algn="l" pos="2152800"/>
                  <a:tab algn="l" pos="2870280"/>
                  <a:tab algn="l" pos="3587760"/>
                  <a:tab algn="l" pos="4305240"/>
                  <a:tab algn="l" pos="5022720"/>
                  <a:tab algn="l" pos="5740560"/>
                  <a:tab algn="l" pos="6458040"/>
                  <a:tab algn="l" pos="7175520"/>
                  <a:tab algn="l" pos="7893000"/>
                  <a:tab algn="l" pos="8610480"/>
                  <a:tab algn="l" pos="9328320"/>
                  <a:tab algn="l" pos="10045800"/>
                  <a:tab algn="l" pos="107632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椭圆 18"/>
            <p:cNvSpPr/>
            <p:nvPr/>
          </p:nvSpPr>
          <p:spPr>
            <a:xfrm>
              <a:off x="3797640" y="2307600"/>
              <a:ext cx="53640" cy="54720"/>
            </a:xfrm>
            <a:prstGeom prst="ellipse">
              <a:avLst/>
            </a:prstGeom>
            <a:solidFill>
              <a:srgbClr val="019ed5"/>
            </a:solidFill>
            <a:ln w="25560">
              <a:solidFill>
                <a:srgbClr val="019e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17480"/>
                  <a:tab algn="l" pos="1434960"/>
                  <a:tab algn="l" pos="2152800"/>
                  <a:tab algn="l" pos="2870280"/>
                  <a:tab algn="l" pos="3587760"/>
                  <a:tab algn="l" pos="4305240"/>
                  <a:tab algn="l" pos="5022720"/>
                  <a:tab algn="l" pos="5740560"/>
                  <a:tab algn="l" pos="6458040"/>
                  <a:tab algn="l" pos="7175520"/>
                  <a:tab algn="l" pos="7893000"/>
                  <a:tab algn="l" pos="8610480"/>
                  <a:tab algn="l" pos="9328320"/>
                  <a:tab algn="l" pos="10045800"/>
                  <a:tab algn="l" pos="107632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TextBox 19"/>
          <p:cNvSpPr/>
          <p:nvPr/>
        </p:nvSpPr>
        <p:spPr>
          <a:xfrm>
            <a:off x="3995640" y="2165400"/>
            <a:ext cx="229572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r>
              <a:rPr b="0" lang="zh-CN" sz="1500" spc="-1" strike="noStrike">
                <a:solidFill>
                  <a:srgbClr val="019ed5"/>
                </a:solidFill>
                <a:latin typeface="微软雅黑"/>
                <a:ea typeface="微软雅黑"/>
              </a:rPr>
              <a:t>图说中国人阅读现状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直接连接符 21"/>
          <p:cNvSpPr/>
          <p:nvPr/>
        </p:nvSpPr>
        <p:spPr>
          <a:xfrm>
            <a:off x="576360" y="3003480"/>
            <a:ext cx="7632720" cy="0"/>
          </a:xfrm>
          <a:prstGeom prst="line">
            <a:avLst/>
          </a:prstGeom>
          <a:ln w="7632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23"/>
          <p:cNvSpPr/>
          <p:nvPr/>
        </p:nvSpPr>
        <p:spPr>
          <a:xfrm>
            <a:off x="900000" y="3219480"/>
            <a:ext cx="7309080" cy="11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r>
              <a:rPr b="0" lang="en-US" sz="1500" spc="-1" strike="noStrike">
                <a:solidFill>
                  <a:srgbClr val="019ed5"/>
                </a:solidFill>
                <a:latin typeface="微软雅黑"/>
                <a:ea typeface="微软雅黑"/>
              </a:rPr>
              <a:t>4</a:t>
            </a:r>
            <a:r>
              <a:rPr b="0" lang="zh-CN" sz="1500" spc="-1" strike="noStrike">
                <a:solidFill>
                  <a:srgbClr val="019ed5"/>
                </a:solidFill>
                <a:latin typeface="微软雅黑"/>
                <a:ea typeface="微软雅黑"/>
              </a:rPr>
              <a:t>月</a:t>
            </a:r>
            <a:r>
              <a:rPr b="0" lang="en-US" sz="1500" spc="-1" strike="noStrike">
                <a:solidFill>
                  <a:srgbClr val="019ed5"/>
                </a:solidFill>
                <a:latin typeface="微软雅黑"/>
                <a:ea typeface="微软雅黑"/>
              </a:rPr>
              <a:t>23</a:t>
            </a:r>
            <a:r>
              <a:rPr b="0" lang="zh-CN" sz="1500" spc="-1" strike="noStrike">
                <a:solidFill>
                  <a:srgbClr val="019ed5"/>
                </a:solidFill>
                <a:latin typeface="微软雅黑"/>
                <a:ea typeface="微软雅黑"/>
              </a:rPr>
              <a:t>日为世界读书日。广义上我们时刻都在接受信息，都在阅读。狭义上的读书我们又觉得少得可怜。一年匆匆过去，自己却没读几本书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r>
              <a:rPr b="0" lang="en-US" sz="1500" spc="-1" strike="noStrike">
                <a:solidFill>
                  <a:srgbClr val="019ed5"/>
                </a:solidFill>
                <a:latin typeface="微软雅黑"/>
                <a:ea typeface="微软雅黑"/>
              </a:rPr>
              <a:t>                 </a:t>
            </a:r>
            <a:r>
              <a:rPr b="0" lang="en-US" sz="1500" spc="-1" strike="noStrike">
                <a:solidFill>
                  <a:srgbClr val="019ed5"/>
                </a:solidFill>
                <a:latin typeface="微软雅黑"/>
                <a:ea typeface="微软雅黑"/>
              </a:rPr>
              <a:t>2012</a:t>
            </a:r>
            <a:r>
              <a:rPr b="0" lang="zh-CN" sz="1500" spc="-1" strike="noStrike">
                <a:solidFill>
                  <a:srgbClr val="019ed5"/>
                </a:solidFill>
                <a:latin typeface="微软雅黑"/>
                <a:ea typeface="微软雅黑"/>
              </a:rPr>
              <a:t>年国人平均读书</a:t>
            </a:r>
            <a:r>
              <a:rPr b="0" lang="en-US" sz="1500" spc="-1" strike="noStrike">
                <a:solidFill>
                  <a:srgbClr val="019ed5"/>
                </a:solidFill>
                <a:latin typeface="微软雅黑"/>
                <a:ea typeface="微软雅黑"/>
              </a:rPr>
              <a:t>4.39</a:t>
            </a:r>
            <a:r>
              <a:rPr b="0" lang="zh-CN" sz="1500" spc="-1" strike="noStrike">
                <a:solidFill>
                  <a:srgbClr val="019ed5"/>
                </a:solidFill>
                <a:latin typeface="微软雅黑"/>
                <a:ea typeface="微软雅黑"/>
              </a:rPr>
              <a:t>本，你达标了吗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3" descr="C:\Users\Administrator\Desktop\ooopic_1370422888.png"/>
          <p:cNvPicPr/>
          <p:nvPr/>
        </p:nvPicPr>
        <p:blipFill>
          <a:blip r:embed="rId2"/>
          <a:stretch/>
        </p:blipFill>
        <p:spPr>
          <a:xfrm>
            <a:off x="5834160" y="4156200"/>
            <a:ext cx="538200" cy="5382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36360" y="47322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523880" y="412920"/>
            <a:ext cx="5372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中国人阅读现状分析报告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TextBox 92"/>
          <p:cNvSpPr/>
          <p:nvPr/>
        </p:nvSpPr>
        <p:spPr>
          <a:xfrm>
            <a:off x="0" y="0"/>
            <a:ext cx="9144000" cy="51436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Box 91"/>
          <p:cNvSpPr/>
          <p:nvPr/>
        </p:nvSpPr>
        <p:spPr>
          <a:xfrm>
            <a:off x="3355200" y="50760"/>
            <a:ext cx="301644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r>
              <a:rPr b="1" lang="zh-CN" sz="2400" spc="-1" strike="noStrike">
                <a:solidFill>
                  <a:srgbClr val="e96573"/>
                </a:solidFill>
                <a:latin typeface="Impact"/>
                <a:ea typeface="微软雅黑"/>
              </a:rPr>
              <a:t>不同人群的图书阅读量（本</a:t>
            </a:r>
            <a:r>
              <a:rPr b="1" lang="en-US" sz="2400" spc="-1" strike="noStrike">
                <a:solidFill>
                  <a:srgbClr val="e96573"/>
                </a:solidFill>
                <a:latin typeface="Impact"/>
                <a:ea typeface="微软雅黑"/>
              </a:rPr>
              <a:t>/</a:t>
            </a:r>
            <a:r>
              <a:rPr b="1" lang="zh-CN" sz="2400" spc="-1" strike="noStrike">
                <a:solidFill>
                  <a:srgbClr val="e96573"/>
                </a:solidFill>
                <a:latin typeface="Impact"/>
                <a:ea typeface="微软雅黑"/>
              </a:rPr>
              <a:t>年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4" name="组合 2"/>
          <p:cNvGrpSpPr/>
          <p:nvPr/>
        </p:nvGrpSpPr>
        <p:grpSpPr>
          <a:xfrm>
            <a:off x="2340000" y="987480"/>
            <a:ext cx="5545080" cy="706320"/>
            <a:chOff x="2340000" y="987480"/>
            <a:chExt cx="5545080" cy="706320"/>
          </a:xfrm>
        </p:grpSpPr>
        <p:pic>
          <p:nvPicPr>
            <p:cNvPr id="265" name="Picture 9" descr="C:\Users\Administrator\Desktop\book.png"/>
            <p:cNvPicPr/>
            <p:nvPr/>
          </p:nvPicPr>
          <p:blipFill>
            <a:blip r:embed="rId2"/>
            <a:stretch/>
          </p:blipFill>
          <p:spPr>
            <a:xfrm>
              <a:off x="2716200" y="1405800"/>
              <a:ext cx="288000" cy="28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6" name="Picture 9" descr="C:\Users\Administrator\Desktop\book.png"/>
            <p:cNvPicPr/>
            <p:nvPr/>
          </p:nvPicPr>
          <p:blipFill>
            <a:blip r:embed="rId3"/>
            <a:stretch/>
          </p:blipFill>
          <p:spPr>
            <a:xfrm>
              <a:off x="2973240" y="1405800"/>
              <a:ext cx="288000" cy="28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7" name="Picture 9" descr="C:\Users\Administrator\Desktop\book.png"/>
            <p:cNvPicPr/>
            <p:nvPr/>
          </p:nvPicPr>
          <p:blipFill>
            <a:blip r:embed="rId4"/>
            <a:stretch/>
          </p:blipFill>
          <p:spPr>
            <a:xfrm>
              <a:off x="3486960" y="1405800"/>
              <a:ext cx="288000" cy="28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8" name="Picture 9" descr="C:\Users\Administrator\Desktop\book.png"/>
            <p:cNvPicPr/>
            <p:nvPr/>
          </p:nvPicPr>
          <p:blipFill>
            <a:blip r:embed="rId5"/>
            <a:stretch/>
          </p:blipFill>
          <p:spPr>
            <a:xfrm>
              <a:off x="4000680" y="1405800"/>
              <a:ext cx="288000" cy="28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9" name="Picture 9" descr="C:\Users\Administrator\Desktop\book.png"/>
            <p:cNvPicPr/>
            <p:nvPr/>
          </p:nvPicPr>
          <p:blipFill>
            <a:blip r:embed="rId6"/>
            <a:stretch/>
          </p:blipFill>
          <p:spPr>
            <a:xfrm>
              <a:off x="4514400" y="1405800"/>
              <a:ext cx="288000" cy="28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0" name="Picture 9" descr="C:\Users\Administrator\Desktop\book.png"/>
            <p:cNvPicPr/>
            <p:nvPr/>
          </p:nvPicPr>
          <p:blipFill>
            <a:blip r:embed="rId7"/>
            <a:stretch/>
          </p:blipFill>
          <p:spPr>
            <a:xfrm>
              <a:off x="4771440" y="1405800"/>
              <a:ext cx="288000" cy="28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1" name="Picture 9" descr="C:\Users\Administrator\Desktop\book.png"/>
            <p:cNvPicPr/>
            <p:nvPr/>
          </p:nvPicPr>
          <p:blipFill>
            <a:blip r:embed="rId8"/>
            <a:stretch/>
          </p:blipFill>
          <p:spPr>
            <a:xfrm>
              <a:off x="5285160" y="1405800"/>
              <a:ext cx="288000" cy="28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2" name="Picture 9" descr="C:\Users\Administrator\Desktop\book.png"/>
            <p:cNvPicPr/>
            <p:nvPr/>
          </p:nvPicPr>
          <p:blipFill>
            <a:blip r:embed="rId9"/>
            <a:stretch/>
          </p:blipFill>
          <p:spPr>
            <a:xfrm>
              <a:off x="5028120" y="1405800"/>
              <a:ext cx="288000" cy="28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3" name="Picture 9" descr="C:\Users\Administrator\Desktop\book.png"/>
            <p:cNvPicPr/>
            <p:nvPr/>
          </p:nvPicPr>
          <p:blipFill>
            <a:blip r:embed="rId10"/>
            <a:stretch/>
          </p:blipFill>
          <p:spPr>
            <a:xfrm>
              <a:off x="5542200" y="1405800"/>
              <a:ext cx="288000" cy="28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4" name="Picture 9" descr="C:\Users\Administrator\Desktop\book.png"/>
            <p:cNvPicPr/>
            <p:nvPr/>
          </p:nvPicPr>
          <p:blipFill>
            <a:blip r:embed="rId11"/>
            <a:stretch/>
          </p:blipFill>
          <p:spPr>
            <a:xfrm>
              <a:off x="5798880" y="1405800"/>
              <a:ext cx="288000" cy="28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5" name="Picture 9" descr="C:\Users\Administrator\Desktop\book.png"/>
            <p:cNvPicPr/>
            <p:nvPr/>
          </p:nvPicPr>
          <p:blipFill>
            <a:blip r:embed="rId12"/>
            <a:stretch/>
          </p:blipFill>
          <p:spPr>
            <a:xfrm>
              <a:off x="6055920" y="1405800"/>
              <a:ext cx="288000" cy="28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6" name="Picture 9" descr="C:\Users\Administrator\Desktop\book.png"/>
            <p:cNvPicPr/>
            <p:nvPr/>
          </p:nvPicPr>
          <p:blipFill>
            <a:blip r:embed="rId13"/>
            <a:stretch/>
          </p:blipFill>
          <p:spPr>
            <a:xfrm>
              <a:off x="3229920" y="1405800"/>
              <a:ext cx="288000" cy="28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7" name="Picture 9" descr="C:\Users\Administrator\Desktop\book.png"/>
            <p:cNvPicPr/>
            <p:nvPr/>
          </p:nvPicPr>
          <p:blipFill>
            <a:blip r:embed="rId14"/>
            <a:stretch/>
          </p:blipFill>
          <p:spPr>
            <a:xfrm>
              <a:off x="3743640" y="1405800"/>
              <a:ext cx="288000" cy="28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8" name="Picture 9" descr="C:\Users\Administrator\Desktop\book.png"/>
            <p:cNvPicPr/>
            <p:nvPr/>
          </p:nvPicPr>
          <p:blipFill>
            <a:blip r:embed="rId15"/>
            <a:stretch/>
          </p:blipFill>
          <p:spPr>
            <a:xfrm>
              <a:off x="4257720" y="1405800"/>
              <a:ext cx="288000" cy="288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79" name="组合 24"/>
            <p:cNvGrpSpPr/>
            <p:nvPr/>
          </p:nvGrpSpPr>
          <p:grpSpPr>
            <a:xfrm>
              <a:off x="2769120" y="1010880"/>
              <a:ext cx="819360" cy="411480"/>
              <a:chOff x="2769120" y="1010880"/>
              <a:chExt cx="819360" cy="411480"/>
            </a:xfrm>
          </p:grpSpPr>
          <p:sp>
            <p:nvSpPr>
              <p:cNvPr id="280" name="TextBox 22"/>
              <p:cNvSpPr/>
              <p:nvPr/>
            </p:nvSpPr>
            <p:spPr>
              <a:xfrm>
                <a:off x="2769120" y="1100160"/>
                <a:ext cx="819360" cy="265320"/>
              </a:xfrm>
              <a:prstGeom prst="rect">
                <a:avLst/>
              </a:prstGeom>
              <a:solidFill>
                <a:srgbClr val="468a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lnSpc>
                    <a:spcPct val="15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矩形 23"/>
              <p:cNvSpPr/>
              <p:nvPr/>
            </p:nvSpPr>
            <p:spPr>
              <a:xfrm>
                <a:off x="2790000" y="1010880"/>
                <a:ext cx="798480" cy="411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r>
                  <a:rPr b="1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公务员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2" name="TextBox 25"/>
            <p:cNvSpPr/>
            <p:nvPr/>
          </p:nvSpPr>
          <p:spPr>
            <a:xfrm>
              <a:off x="3503160" y="987480"/>
              <a:ext cx="766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717480"/>
                  <a:tab algn="l" pos="1434960"/>
                  <a:tab algn="l" pos="2152800"/>
                  <a:tab algn="l" pos="2870280"/>
                  <a:tab algn="l" pos="3587760"/>
                  <a:tab algn="l" pos="4305240"/>
                  <a:tab algn="l" pos="5022720"/>
                  <a:tab algn="l" pos="5740560"/>
                  <a:tab algn="l" pos="6458040"/>
                  <a:tab algn="l" pos="7175520"/>
                  <a:tab algn="l" pos="7893000"/>
                  <a:tab algn="l" pos="8610480"/>
                  <a:tab algn="l" pos="9328320"/>
                  <a:tab algn="l" pos="10045800"/>
                  <a:tab algn="l" pos="10763280"/>
                </a:tabLst>
              </a:pPr>
              <a:r>
                <a:rPr b="0" lang="en-US" sz="1800" spc="-1" strike="noStrike">
                  <a:solidFill>
                    <a:srgbClr val="468af0"/>
                  </a:solidFill>
                  <a:latin typeface="Impact"/>
                  <a:ea typeface="微软雅黑"/>
                </a:rPr>
                <a:t>16.8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3" name="组合 1"/>
            <p:cNvGrpSpPr/>
            <p:nvPr/>
          </p:nvGrpSpPr>
          <p:grpSpPr>
            <a:xfrm>
              <a:off x="2340000" y="1050480"/>
              <a:ext cx="238680" cy="606600"/>
              <a:chOff x="2340000" y="1050480"/>
              <a:chExt cx="238680" cy="606600"/>
            </a:xfrm>
          </p:grpSpPr>
          <p:sp>
            <p:nvSpPr>
              <p:cNvPr id="284" name="Freeform 115"/>
              <p:cNvSpPr/>
              <p:nvPr/>
            </p:nvSpPr>
            <p:spPr>
              <a:xfrm>
                <a:off x="2340000" y="1154160"/>
                <a:ext cx="238680" cy="502920"/>
              </a:xfrm>
              <a:prstGeom prst="pie">
                <a:avLst/>
              </a:prstGeom>
              <a:solidFill>
                <a:srgbClr val="378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Oval 116"/>
              <p:cNvSpPr/>
              <p:nvPr/>
            </p:nvSpPr>
            <p:spPr>
              <a:xfrm>
                <a:off x="2411280" y="1050480"/>
                <a:ext cx="95760" cy="95760"/>
              </a:xfrm>
              <a:prstGeom prst="ellipse">
                <a:avLst/>
              </a:prstGeom>
              <a:solidFill>
                <a:srgbClr val="378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86" name="Picture 9" descr="C:\Users\Administrator\Desktop\book.png"/>
            <p:cNvPicPr/>
            <p:nvPr/>
          </p:nvPicPr>
          <p:blipFill>
            <a:blip r:embed="rId16"/>
            <a:stretch/>
          </p:blipFill>
          <p:spPr>
            <a:xfrm>
              <a:off x="6312600" y="1405800"/>
              <a:ext cx="288000" cy="28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7" name="Picture 9" descr="C:\Users\Administrator\Desktop\book.png"/>
            <p:cNvPicPr/>
            <p:nvPr/>
          </p:nvPicPr>
          <p:blipFill>
            <a:blip r:embed="rId17"/>
            <a:stretch/>
          </p:blipFill>
          <p:spPr>
            <a:xfrm>
              <a:off x="6569640" y="1405800"/>
              <a:ext cx="288000" cy="28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8" name="Picture 9" descr="C:\Users\Administrator\Desktop\book.png"/>
            <p:cNvPicPr/>
            <p:nvPr/>
          </p:nvPicPr>
          <p:blipFill>
            <a:blip r:embed="rId18"/>
            <a:stretch/>
          </p:blipFill>
          <p:spPr>
            <a:xfrm>
              <a:off x="6826680" y="1405800"/>
              <a:ext cx="288000" cy="28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9" name="Picture 9" descr="C:\Users\Administrator\Desktop\book.png"/>
            <p:cNvPicPr/>
            <p:nvPr/>
          </p:nvPicPr>
          <p:blipFill>
            <a:blip r:embed="rId19"/>
            <a:stretch/>
          </p:blipFill>
          <p:spPr>
            <a:xfrm>
              <a:off x="7083360" y="1405800"/>
              <a:ext cx="288000" cy="28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0" name="Picture 9" descr="C:\Users\Administrator\Desktop\book.png"/>
            <p:cNvPicPr/>
            <p:nvPr/>
          </p:nvPicPr>
          <p:blipFill>
            <a:blip r:embed="rId20"/>
            <a:stretch/>
          </p:blipFill>
          <p:spPr>
            <a:xfrm>
              <a:off x="7340400" y="1405800"/>
              <a:ext cx="288000" cy="28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1" name="Picture 9" descr="C:\Users\Administrator\Desktop\book.png"/>
            <p:cNvPicPr/>
            <p:nvPr/>
          </p:nvPicPr>
          <p:blipFill>
            <a:blip r:embed="rId21"/>
            <a:stretch/>
          </p:blipFill>
          <p:spPr>
            <a:xfrm>
              <a:off x="7597080" y="1405800"/>
              <a:ext cx="288000" cy="288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92" name="组合 110"/>
          <p:cNvGrpSpPr/>
          <p:nvPr/>
        </p:nvGrpSpPr>
        <p:grpSpPr>
          <a:xfrm>
            <a:off x="2344680" y="1735200"/>
            <a:ext cx="4003560" cy="706320"/>
            <a:chOff x="2344680" y="1735200"/>
            <a:chExt cx="4003560" cy="706320"/>
          </a:xfrm>
        </p:grpSpPr>
        <p:pic>
          <p:nvPicPr>
            <p:cNvPr id="293" name="Picture 9" descr="C:\Users\Administrator\Desktop\book.png"/>
            <p:cNvPicPr/>
            <p:nvPr/>
          </p:nvPicPr>
          <p:blipFill>
            <a:blip r:embed="rId22"/>
            <a:stretch/>
          </p:blipFill>
          <p:spPr>
            <a:xfrm>
              <a:off x="2720880" y="2153520"/>
              <a:ext cx="288000" cy="28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4" name="Picture 9" descr="C:\Users\Administrator\Desktop\book.png"/>
            <p:cNvPicPr/>
            <p:nvPr/>
          </p:nvPicPr>
          <p:blipFill>
            <a:blip r:embed="rId23"/>
            <a:stretch/>
          </p:blipFill>
          <p:spPr>
            <a:xfrm>
              <a:off x="2977560" y="2153520"/>
              <a:ext cx="288000" cy="28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5" name="Picture 9" descr="C:\Users\Administrator\Desktop\book.png"/>
            <p:cNvPicPr/>
            <p:nvPr/>
          </p:nvPicPr>
          <p:blipFill>
            <a:blip r:embed="rId24"/>
            <a:stretch/>
          </p:blipFill>
          <p:spPr>
            <a:xfrm>
              <a:off x="3491640" y="2153520"/>
              <a:ext cx="288000" cy="28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6" name="Picture 9" descr="C:\Users\Administrator\Desktop\book.png"/>
            <p:cNvPicPr/>
            <p:nvPr/>
          </p:nvPicPr>
          <p:blipFill>
            <a:blip r:embed="rId25"/>
            <a:stretch/>
          </p:blipFill>
          <p:spPr>
            <a:xfrm>
              <a:off x="4005360" y="2153520"/>
              <a:ext cx="288000" cy="28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7" name="Picture 9" descr="C:\Users\Administrator\Desktop\book.png"/>
            <p:cNvPicPr/>
            <p:nvPr/>
          </p:nvPicPr>
          <p:blipFill>
            <a:blip r:embed="rId26"/>
            <a:stretch/>
          </p:blipFill>
          <p:spPr>
            <a:xfrm>
              <a:off x="4519080" y="2153520"/>
              <a:ext cx="288000" cy="28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8" name="Picture 9" descr="C:\Users\Administrator\Desktop\book.png"/>
            <p:cNvPicPr/>
            <p:nvPr/>
          </p:nvPicPr>
          <p:blipFill>
            <a:blip r:embed="rId27"/>
            <a:stretch/>
          </p:blipFill>
          <p:spPr>
            <a:xfrm>
              <a:off x="4776120" y="2153520"/>
              <a:ext cx="288000" cy="28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9" name="Picture 9" descr="C:\Users\Administrator\Desktop\book.png"/>
            <p:cNvPicPr/>
            <p:nvPr/>
          </p:nvPicPr>
          <p:blipFill>
            <a:blip r:embed="rId28"/>
            <a:stretch/>
          </p:blipFill>
          <p:spPr>
            <a:xfrm>
              <a:off x="5289840" y="2153520"/>
              <a:ext cx="288000" cy="28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0" name="Picture 9" descr="C:\Users\Administrator\Desktop\book.png"/>
            <p:cNvPicPr/>
            <p:nvPr/>
          </p:nvPicPr>
          <p:blipFill>
            <a:blip r:embed="rId29"/>
            <a:stretch/>
          </p:blipFill>
          <p:spPr>
            <a:xfrm>
              <a:off x="5032800" y="2153520"/>
              <a:ext cx="288000" cy="28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1" name="Picture 9" descr="C:\Users\Administrator\Desktop\book.png"/>
            <p:cNvPicPr/>
            <p:nvPr/>
          </p:nvPicPr>
          <p:blipFill>
            <a:blip r:embed="rId30"/>
            <a:stretch/>
          </p:blipFill>
          <p:spPr>
            <a:xfrm>
              <a:off x="5546520" y="2153520"/>
              <a:ext cx="288000" cy="28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2" name="Picture 9" descr="C:\Users\Administrator\Desktop\book.png"/>
            <p:cNvPicPr/>
            <p:nvPr/>
          </p:nvPicPr>
          <p:blipFill>
            <a:blip r:embed="rId31"/>
            <a:stretch/>
          </p:blipFill>
          <p:spPr>
            <a:xfrm>
              <a:off x="5803560" y="2153520"/>
              <a:ext cx="288000" cy="28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9" descr="C:\Users\Administrator\Desktop\book.png"/>
            <p:cNvPicPr/>
            <p:nvPr/>
          </p:nvPicPr>
          <p:blipFill>
            <a:blip r:embed="rId32"/>
            <a:stretch/>
          </p:blipFill>
          <p:spPr>
            <a:xfrm>
              <a:off x="6060240" y="2153520"/>
              <a:ext cx="288000" cy="28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9" descr="C:\Users\Administrator\Desktop\book.png"/>
            <p:cNvPicPr/>
            <p:nvPr/>
          </p:nvPicPr>
          <p:blipFill>
            <a:blip r:embed="rId33"/>
            <a:stretch/>
          </p:blipFill>
          <p:spPr>
            <a:xfrm>
              <a:off x="3234600" y="2153520"/>
              <a:ext cx="288000" cy="28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5" name="Picture 9" descr="C:\Users\Administrator\Desktop\book.png"/>
            <p:cNvPicPr/>
            <p:nvPr/>
          </p:nvPicPr>
          <p:blipFill>
            <a:blip r:embed="rId34"/>
            <a:stretch/>
          </p:blipFill>
          <p:spPr>
            <a:xfrm>
              <a:off x="3748320" y="2153520"/>
              <a:ext cx="288000" cy="28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6" name="Picture 9" descr="C:\Users\Administrator\Desktop\book.png"/>
            <p:cNvPicPr/>
            <p:nvPr/>
          </p:nvPicPr>
          <p:blipFill>
            <a:blip r:embed="rId35"/>
            <a:stretch/>
          </p:blipFill>
          <p:spPr>
            <a:xfrm>
              <a:off x="4262040" y="2153520"/>
              <a:ext cx="288000" cy="288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07" name="组合 125"/>
            <p:cNvGrpSpPr/>
            <p:nvPr/>
          </p:nvGrpSpPr>
          <p:grpSpPr>
            <a:xfrm>
              <a:off x="2771640" y="1747800"/>
              <a:ext cx="1259640" cy="411480"/>
              <a:chOff x="2771640" y="1747800"/>
              <a:chExt cx="1259640" cy="411480"/>
            </a:xfrm>
          </p:grpSpPr>
          <p:sp>
            <p:nvSpPr>
              <p:cNvPr id="308" name="TextBox 136"/>
              <p:cNvSpPr/>
              <p:nvPr/>
            </p:nvSpPr>
            <p:spPr>
              <a:xfrm>
                <a:off x="2773440" y="1847880"/>
                <a:ext cx="1257840" cy="265680"/>
              </a:xfrm>
              <a:prstGeom prst="rect">
                <a:avLst/>
              </a:prstGeom>
              <a:solidFill>
                <a:srgbClr val="468a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lnSpc>
                    <a:spcPct val="15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矩形 137"/>
              <p:cNvSpPr/>
              <p:nvPr/>
            </p:nvSpPr>
            <p:spPr>
              <a:xfrm>
                <a:off x="2771640" y="1747800"/>
                <a:ext cx="1161360" cy="411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r>
                  <a:rPr b="1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离退休人员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0" name="TextBox 126"/>
            <p:cNvSpPr/>
            <p:nvPr/>
          </p:nvSpPr>
          <p:spPr>
            <a:xfrm>
              <a:off x="3917160" y="1735200"/>
              <a:ext cx="766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717480"/>
                  <a:tab algn="l" pos="1434960"/>
                  <a:tab algn="l" pos="2152800"/>
                  <a:tab algn="l" pos="2870280"/>
                  <a:tab algn="l" pos="3587760"/>
                  <a:tab algn="l" pos="4305240"/>
                  <a:tab algn="l" pos="5022720"/>
                  <a:tab algn="l" pos="5740560"/>
                  <a:tab algn="l" pos="6458040"/>
                  <a:tab algn="l" pos="7175520"/>
                  <a:tab algn="l" pos="7893000"/>
                  <a:tab algn="l" pos="8610480"/>
                  <a:tab algn="l" pos="9328320"/>
                  <a:tab algn="l" pos="10045800"/>
                  <a:tab algn="l" pos="10763280"/>
                </a:tabLst>
              </a:pPr>
              <a:r>
                <a:rPr b="0" lang="en-US" sz="1800" spc="-1" strike="noStrike">
                  <a:solidFill>
                    <a:srgbClr val="468af0"/>
                  </a:solidFill>
                  <a:latin typeface="Impact"/>
                  <a:ea typeface="微软雅黑"/>
                </a:rPr>
                <a:t>10.7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1" name="组合 127"/>
            <p:cNvGrpSpPr/>
            <p:nvPr/>
          </p:nvGrpSpPr>
          <p:grpSpPr>
            <a:xfrm>
              <a:off x="2344680" y="1798200"/>
              <a:ext cx="238680" cy="606600"/>
              <a:chOff x="2344680" y="1798200"/>
              <a:chExt cx="238680" cy="606600"/>
            </a:xfrm>
          </p:grpSpPr>
          <p:sp>
            <p:nvSpPr>
              <p:cNvPr id="312" name="Freeform 115"/>
              <p:cNvSpPr/>
              <p:nvPr/>
            </p:nvSpPr>
            <p:spPr>
              <a:xfrm>
                <a:off x="2344680" y="1901880"/>
                <a:ext cx="238680" cy="502920"/>
              </a:xfrm>
              <a:prstGeom prst="pie">
                <a:avLst/>
              </a:prstGeom>
              <a:solidFill>
                <a:srgbClr val="378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Oval 116"/>
              <p:cNvSpPr/>
              <p:nvPr/>
            </p:nvSpPr>
            <p:spPr>
              <a:xfrm>
                <a:off x="2415960" y="1798200"/>
                <a:ext cx="95760" cy="95760"/>
              </a:xfrm>
              <a:prstGeom prst="ellipse">
                <a:avLst/>
              </a:prstGeom>
              <a:solidFill>
                <a:srgbClr val="378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14" name="组合 166"/>
          <p:cNvGrpSpPr/>
          <p:nvPr/>
        </p:nvGrpSpPr>
        <p:grpSpPr>
          <a:xfrm>
            <a:off x="2352600" y="2503440"/>
            <a:ext cx="3746520" cy="725400"/>
            <a:chOff x="2352600" y="2503440"/>
            <a:chExt cx="3746520" cy="725400"/>
          </a:xfrm>
        </p:grpSpPr>
        <p:pic>
          <p:nvPicPr>
            <p:cNvPr id="315" name="Picture 9" descr="C:\Users\Administrator\Desktop\book.png"/>
            <p:cNvPicPr/>
            <p:nvPr/>
          </p:nvPicPr>
          <p:blipFill>
            <a:blip r:embed="rId36"/>
            <a:stretch/>
          </p:blipFill>
          <p:spPr>
            <a:xfrm>
              <a:off x="2728800" y="2940840"/>
              <a:ext cx="288000" cy="28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6" name="Picture 9" descr="C:\Users\Administrator\Desktop\book.png"/>
            <p:cNvPicPr/>
            <p:nvPr/>
          </p:nvPicPr>
          <p:blipFill>
            <a:blip r:embed="rId37"/>
            <a:stretch/>
          </p:blipFill>
          <p:spPr>
            <a:xfrm>
              <a:off x="2985480" y="2940840"/>
              <a:ext cx="288000" cy="28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7" name="Picture 9" descr="C:\Users\Administrator\Desktop\book.png"/>
            <p:cNvPicPr/>
            <p:nvPr/>
          </p:nvPicPr>
          <p:blipFill>
            <a:blip r:embed="rId38"/>
            <a:stretch/>
          </p:blipFill>
          <p:spPr>
            <a:xfrm>
              <a:off x="3499200" y="2940840"/>
              <a:ext cx="288000" cy="28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8" name="Picture 9" descr="C:\Users\Administrator\Desktop\book.png"/>
            <p:cNvPicPr/>
            <p:nvPr/>
          </p:nvPicPr>
          <p:blipFill>
            <a:blip r:embed="rId39"/>
            <a:stretch/>
          </p:blipFill>
          <p:spPr>
            <a:xfrm>
              <a:off x="4013280" y="2940840"/>
              <a:ext cx="288000" cy="28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9" name="Picture 9" descr="C:\Users\Administrator\Desktop\book.png"/>
            <p:cNvPicPr/>
            <p:nvPr/>
          </p:nvPicPr>
          <p:blipFill>
            <a:blip r:embed="rId40"/>
            <a:stretch/>
          </p:blipFill>
          <p:spPr>
            <a:xfrm>
              <a:off x="4527000" y="2940840"/>
              <a:ext cx="288000" cy="28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0" name="Picture 9" descr="C:\Users\Administrator\Desktop\book.png"/>
            <p:cNvPicPr/>
            <p:nvPr/>
          </p:nvPicPr>
          <p:blipFill>
            <a:blip r:embed="rId41"/>
            <a:stretch/>
          </p:blipFill>
          <p:spPr>
            <a:xfrm>
              <a:off x="4783680" y="2940840"/>
              <a:ext cx="288000" cy="28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1" name="Picture 9" descr="C:\Users\Administrator\Desktop\book.png"/>
            <p:cNvPicPr/>
            <p:nvPr/>
          </p:nvPicPr>
          <p:blipFill>
            <a:blip r:embed="rId42"/>
            <a:stretch/>
          </p:blipFill>
          <p:spPr>
            <a:xfrm>
              <a:off x="5297400" y="2940840"/>
              <a:ext cx="288000" cy="28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2" name="Picture 9" descr="C:\Users\Administrator\Desktop\book.png"/>
            <p:cNvPicPr/>
            <p:nvPr/>
          </p:nvPicPr>
          <p:blipFill>
            <a:blip r:embed="rId43"/>
            <a:stretch/>
          </p:blipFill>
          <p:spPr>
            <a:xfrm>
              <a:off x="5040720" y="2940840"/>
              <a:ext cx="288000" cy="28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3" name="Picture 9" descr="C:\Users\Administrator\Desktop\book.png"/>
            <p:cNvPicPr/>
            <p:nvPr/>
          </p:nvPicPr>
          <p:blipFill>
            <a:blip r:embed="rId44"/>
            <a:stretch/>
          </p:blipFill>
          <p:spPr>
            <a:xfrm>
              <a:off x="5554440" y="2940840"/>
              <a:ext cx="288000" cy="28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4" name="Picture 9" descr="C:\Users\Administrator\Desktop\book.png"/>
            <p:cNvPicPr/>
            <p:nvPr/>
          </p:nvPicPr>
          <p:blipFill>
            <a:blip r:embed="rId45"/>
            <a:stretch/>
          </p:blipFill>
          <p:spPr>
            <a:xfrm>
              <a:off x="5811120" y="2940840"/>
              <a:ext cx="288000" cy="28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5" name="Picture 9" descr="C:\Users\Administrator\Desktop\book.png"/>
            <p:cNvPicPr/>
            <p:nvPr/>
          </p:nvPicPr>
          <p:blipFill>
            <a:blip r:embed="rId46"/>
            <a:stretch/>
          </p:blipFill>
          <p:spPr>
            <a:xfrm>
              <a:off x="3242520" y="2940840"/>
              <a:ext cx="288000" cy="28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6" name="Picture 9" descr="C:\Users\Administrator\Desktop\book.png"/>
            <p:cNvPicPr/>
            <p:nvPr/>
          </p:nvPicPr>
          <p:blipFill>
            <a:blip r:embed="rId47"/>
            <a:stretch/>
          </p:blipFill>
          <p:spPr>
            <a:xfrm>
              <a:off x="3756240" y="2940840"/>
              <a:ext cx="288000" cy="28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7" name="Picture 9" descr="C:\Users\Administrator\Desktop\book.png"/>
            <p:cNvPicPr/>
            <p:nvPr/>
          </p:nvPicPr>
          <p:blipFill>
            <a:blip r:embed="rId48"/>
            <a:stretch/>
          </p:blipFill>
          <p:spPr>
            <a:xfrm>
              <a:off x="4269960" y="2940840"/>
              <a:ext cx="288000" cy="288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28" name="组合 181"/>
            <p:cNvGrpSpPr/>
            <p:nvPr/>
          </p:nvGrpSpPr>
          <p:grpSpPr>
            <a:xfrm>
              <a:off x="2771280" y="2535120"/>
              <a:ext cx="1161360" cy="411480"/>
              <a:chOff x="2771280" y="2535120"/>
              <a:chExt cx="1161360" cy="411480"/>
            </a:xfrm>
          </p:grpSpPr>
          <p:sp>
            <p:nvSpPr>
              <p:cNvPr id="329" name="TextBox 186"/>
              <p:cNvSpPr/>
              <p:nvPr/>
            </p:nvSpPr>
            <p:spPr>
              <a:xfrm>
                <a:off x="2781360" y="2635200"/>
                <a:ext cx="709560" cy="265320"/>
              </a:xfrm>
              <a:prstGeom prst="rect">
                <a:avLst/>
              </a:prstGeom>
              <a:solidFill>
                <a:srgbClr val="468a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lnSpc>
                    <a:spcPct val="15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矩形 187"/>
              <p:cNvSpPr/>
              <p:nvPr/>
            </p:nvSpPr>
            <p:spPr>
              <a:xfrm>
                <a:off x="2771280" y="2535120"/>
                <a:ext cx="1161360" cy="411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r>
                  <a:rPr b="1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教师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1" name="TextBox 182"/>
            <p:cNvSpPr/>
            <p:nvPr/>
          </p:nvSpPr>
          <p:spPr>
            <a:xfrm>
              <a:off x="3356640" y="2503440"/>
              <a:ext cx="766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717480"/>
                  <a:tab algn="l" pos="1434960"/>
                  <a:tab algn="l" pos="2152800"/>
                  <a:tab algn="l" pos="2870280"/>
                  <a:tab algn="l" pos="3587760"/>
                  <a:tab algn="l" pos="4305240"/>
                  <a:tab algn="l" pos="5022720"/>
                  <a:tab algn="l" pos="5740560"/>
                  <a:tab algn="l" pos="6458040"/>
                  <a:tab algn="l" pos="7175520"/>
                  <a:tab algn="l" pos="7893000"/>
                  <a:tab algn="l" pos="8610480"/>
                  <a:tab algn="l" pos="9328320"/>
                  <a:tab algn="l" pos="10045800"/>
                  <a:tab algn="l" pos="10763280"/>
                </a:tabLst>
              </a:pPr>
              <a:r>
                <a:rPr b="0" lang="en-US" sz="1800" spc="-1" strike="noStrike">
                  <a:solidFill>
                    <a:srgbClr val="468af0"/>
                  </a:solidFill>
                  <a:latin typeface="Impact"/>
                  <a:ea typeface="微软雅黑"/>
                </a:rPr>
                <a:t>10.0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2" name="组合 183"/>
            <p:cNvGrpSpPr/>
            <p:nvPr/>
          </p:nvGrpSpPr>
          <p:grpSpPr>
            <a:xfrm>
              <a:off x="2352600" y="2585520"/>
              <a:ext cx="238680" cy="606960"/>
              <a:chOff x="2352600" y="2585520"/>
              <a:chExt cx="238680" cy="606960"/>
            </a:xfrm>
          </p:grpSpPr>
          <p:sp>
            <p:nvSpPr>
              <p:cNvPr id="333" name="Freeform 115"/>
              <p:cNvSpPr/>
              <p:nvPr/>
            </p:nvSpPr>
            <p:spPr>
              <a:xfrm>
                <a:off x="2352600" y="2689200"/>
                <a:ext cx="238680" cy="503280"/>
              </a:xfrm>
              <a:prstGeom prst="pie">
                <a:avLst/>
              </a:prstGeom>
              <a:solidFill>
                <a:srgbClr val="378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Oval 116"/>
              <p:cNvSpPr/>
              <p:nvPr/>
            </p:nvSpPr>
            <p:spPr>
              <a:xfrm>
                <a:off x="2423880" y="2585520"/>
                <a:ext cx="95760" cy="95760"/>
              </a:xfrm>
              <a:prstGeom prst="ellipse">
                <a:avLst/>
              </a:prstGeom>
              <a:solidFill>
                <a:srgbClr val="378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35" name="组合 188"/>
          <p:cNvGrpSpPr/>
          <p:nvPr/>
        </p:nvGrpSpPr>
        <p:grpSpPr>
          <a:xfrm>
            <a:off x="2355840" y="3292560"/>
            <a:ext cx="3490920" cy="723960"/>
            <a:chOff x="2355840" y="3292560"/>
            <a:chExt cx="3490920" cy="723960"/>
          </a:xfrm>
        </p:grpSpPr>
        <p:pic>
          <p:nvPicPr>
            <p:cNvPr id="336" name="Picture 9" descr="C:\Users\Administrator\Desktop\book.png"/>
            <p:cNvPicPr/>
            <p:nvPr/>
          </p:nvPicPr>
          <p:blipFill>
            <a:blip r:embed="rId49"/>
            <a:stretch/>
          </p:blipFill>
          <p:spPr>
            <a:xfrm>
              <a:off x="2732040" y="3729240"/>
              <a:ext cx="288000" cy="28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7" name="Picture 9" descr="C:\Users\Administrator\Desktop\book.png"/>
            <p:cNvPicPr/>
            <p:nvPr/>
          </p:nvPicPr>
          <p:blipFill>
            <a:blip r:embed="rId50"/>
            <a:stretch/>
          </p:blipFill>
          <p:spPr>
            <a:xfrm>
              <a:off x="2989080" y="3729240"/>
              <a:ext cx="288000" cy="28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8" name="Picture 9" descr="C:\Users\Administrator\Desktop\book.png"/>
            <p:cNvPicPr/>
            <p:nvPr/>
          </p:nvPicPr>
          <p:blipFill>
            <a:blip r:embed="rId51"/>
            <a:stretch/>
          </p:blipFill>
          <p:spPr>
            <a:xfrm>
              <a:off x="3503160" y="3729240"/>
              <a:ext cx="288000" cy="28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9" name="Picture 9" descr="C:\Users\Administrator\Desktop\book.png"/>
            <p:cNvPicPr/>
            <p:nvPr/>
          </p:nvPicPr>
          <p:blipFill>
            <a:blip r:embed="rId52"/>
            <a:stretch/>
          </p:blipFill>
          <p:spPr>
            <a:xfrm>
              <a:off x="4016880" y="3729240"/>
              <a:ext cx="288000" cy="28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0" name="Picture 9" descr="C:\Users\Administrator\Desktop\book.png"/>
            <p:cNvPicPr/>
            <p:nvPr/>
          </p:nvPicPr>
          <p:blipFill>
            <a:blip r:embed="rId53"/>
            <a:stretch/>
          </p:blipFill>
          <p:spPr>
            <a:xfrm>
              <a:off x="4530960" y="3729240"/>
              <a:ext cx="288000" cy="28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1" name="Picture 9" descr="C:\Users\Administrator\Desktop\book.png"/>
            <p:cNvPicPr/>
            <p:nvPr/>
          </p:nvPicPr>
          <p:blipFill>
            <a:blip r:embed="rId54"/>
            <a:stretch/>
          </p:blipFill>
          <p:spPr>
            <a:xfrm>
              <a:off x="4788000" y="3729240"/>
              <a:ext cx="288000" cy="28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2" name="Picture 9" descr="C:\Users\Administrator\Desktop\book.png"/>
            <p:cNvPicPr/>
            <p:nvPr/>
          </p:nvPicPr>
          <p:blipFill>
            <a:blip r:embed="rId55"/>
            <a:stretch/>
          </p:blipFill>
          <p:spPr>
            <a:xfrm>
              <a:off x="5301720" y="3729240"/>
              <a:ext cx="288000" cy="28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3" name="Picture 9" descr="C:\Users\Administrator\Desktop\book.png"/>
            <p:cNvPicPr/>
            <p:nvPr/>
          </p:nvPicPr>
          <p:blipFill>
            <a:blip r:embed="rId56"/>
            <a:stretch/>
          </p:blipFill>
          <p:spPr>
            <a:xfrm>
              <a:off x="5045040" y="3729240"/>
              <a:ext cx="288000" cy="28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4" name="Picture 9" descr="C:\Users\Administrator\Desktop\book.png"/>
            <p:cNvPicPr/>
            <p:nvPr/>
          </p:nvPicPr>
          <p:blipFill>
            <a:blip r:embed="rId57"/>
            <a:stretch/>
          </p:blipFill>
          <p:spPr>
            <a:xfrm>
              <a:off x="5558760" y="3729240"/>
              <a:ext cx="288000" cy="28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5" name="Picture 9" descr="C:\Users\Administrator\Desktop\book.png"/>
            <p:cNvPicPr/>
            <p:nvPr/>
          </p:nvPicPr>
          <p:blipFill>
            <a:blip r:embed="rId58"/>
            <a:stretch/>
          </p:blipFill>
          <p:spPr>
            <a:xfrm>
              <a:off x="3246120" y="3729240"/>
              <a:ext cx="288000" cy="28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6" name="Picture 9" descr="C:\Users\Administrator\Desktop\book.png"/>
            <p:cNvPicPr/>
            <p:nvPr/>
          </p:nvPicPr>
          <p:blipFill>
            <a:blip r:embed="rId59"/>
            <a:stretch/>
          </p:blipFill>
          <p:spPr>
            <a:xfrm>
              <a:off x="3759840" y="3729240"/>
              <a:ext cx="288000" cy="28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7" name="Picture 9" descr="C:\Users\Administrator\Desktop\book.png"/>
            <p:cNvPicPr/>
            <p:nvPr/>
          </p:nvPicPr>
          <p:blipFill>
            <a:blip r:embed="rId60"/>
            <a:stretch/>
          </p:blipFill>
          <p:spPr>
            <a:xfrm>
              <a:off x="4273920" y="3729240"/>
              <a:ext cx="288000" cy="287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48" name="组合 202"/>
            <p:cNvGrpSpPr/>
            <p:nvPr/>
          </p:nvGrpSpPr>
          <p:grpSpPr>
            <a:xfrm>
              <a:off x="2774520" y="3324240"/>
              <a:ext cx="1161720" cy="411480"/>
              <a:chOff x="2774520" y="3324240"/>
              <a:chExt cx="1161720" cy="411480"/>
            </a:xfrm>
          </p:grpSpPr>
          <p:sp>
            <p:nvSpPr>
              <p:cNvPr id="349" name="TextBox 207"/>
              <p:cNvSpPr/>
              <p:nvPr/>
            </p:nvSpPr>
            <p:spPr>
              <a:xfrm>
                <a:off x="2784600" y="3423960"/>
                <a:ext cx="862200" cy="276840"/>
              </a:xfrm>
              <a:prstGeom prst="rect">
                <a:avLst/>
              </a:prstGeom>
              <a:solidFill>
                <a:srgbClr val="468a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lnSpc>
                    <a:spcPct val="15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矩形 208"/>
              <p:cNvSpPr/>
              <p:nvPr/>
            </p:nvSpPr>
            <p:spPr>
              <a:xfrm>
                <a:off x="2774520" y="3324240"/>
                <a:ext cx="1161720" cy="411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r>
                  <a:rPr b="1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自由职业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1" name="TextBox 203"/>
            <p:cNvSpPr/>
            <p:nvPr/>
          </p:nvSpPr>
          <p:spPr>
            <a:xfrm>
              <a:off x="3640320" y="3292560"/>
              <a:ext cx="6350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717480"/>
                  <a:tab algn="l" pos="1434960"/>
                  <a:tab algn="l" pos="2152800"/>
                  <a:tab algn="l" pos="2870280"/>
                  <a:tab algn="l" pos="3587760"/>
                  <a:tab algn="l" pos="4305240"/>
                  <a:tab algn="l" pos="5022720"/>
                  <a:tab algn="l" pos="5740560"/>
                  <a:tab algn="l" pos="6458040"/>
                  <a:tab algn="l" pos="7175520"/>
                  <a:tab algn="l" pos="7893000"/>
                  <a:tab algn="l" pos="8610480"/>
                  <a:tab algn="l" pos="9328320"/>
                  <a:tab algn="l" pos="10045800"/>
                  <a:tab algn="l" pos="10763280"/>
                </a:tabLst>
              </a:pPr>
              <a:r>
                <a:rPr b="0" lang="en-US" sz="1800" spc="-1" strike="noStrike">
                  <a:solidFill>
                    <a:srgbClr val="468af0"/>
                  </a:solidFill>
                  <a:latin typeface="Impact"/>
                  <a:ea typeface="微软雅黑"/>
                </a:rPr>
                <a:t>9.7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2" name="组合 204"/>
            <p:cNvGrpSpPr/>
            <p:nvPr/>
          </p:nvGrpSpPr>
          <p:grpSpPr>
            <a:xfrm>
              <a:off x="2355840" y="3374280"/>
              <a:ext cx="238680" cy="605520"/>
              <a:chOff x="2355840" y="3374280"/>
              <a:chExt cx="238680" cy="605520"/>
            </a:xfrm>
          </p:grpSpPr>
          <p:sp>
            <p:nvSpPr>
              <p:cNvPr id="353" name="Freeform 115"/>
              <p:cNvSpPr/>
              <p:nvPr/>
            </p:nvSpPr>
            <p:spPr>
              <a:xfrm>
                <a:off x="2355840" y="3477600"/>
                <a:ext cx="238680" cy="502200"/>
              </a:xfrm>
              <a:prstGeom prst="pie">
                <a:avLst/>
              </a:prstGeom>
              <a:solidFill>
                <a:srgbClr val="378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Oval 116"/>
              <p:cNvSpPr/>
              <p:nvPr/>
            </p:nvSpPr>
            <p:spPr>
              <a:xfrm>
                <a:off x="2427120" y="3374280"/>
                <a:ext cx="95760" cy="95400"/>
              </a:xfrm>
              <a:prstGeom prst="ellipse">
                <a:avLst/>
              </a:prstGeom>
              <a:solidFill>
                <a:srgbClr val="378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55" name="组合 209"/>
          <p:cNvGrpSpPr/>
          <p:nvPr/>
        </p:nvGrpSpPr>
        <p:grpSpPr>
          <a:xfrm>
            <a:off x="2349360" y="4025880"/>
            <a:ext cx="3233880" cy="725400"/>
            <a:chOff x="2349360" y="4025880"/>
            <a:chExt cx="3233880" cy="725400"/>
          </a:xfrm>
        </p:grpSpPr>
        <p:pic>
          <p:nvPicPr>
            <p:cNvPr id="356" name="Picture 9" descr="C:\Users\Administrator\Desktop\book.png"/>
            <p:cNvPicPr/>
            <p:nvPr/>
          </p:nvPicPr>
          <p:blipFill>
            <a:blip r:embed="rId61"/>
            <a:stretch/>
          </p:blipFill>
          <p:spPr>
            <a:xfrm>
              <a:off x="2725560" y="4463280"/>
              <a:ext cx="288000" cy="28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7" name="Picture 9" descr="C:\Users\Administrator\Desktop\book.png"/>
            <p:cNvPicPr/>
            <p:nvPr/>
          </p:nvPicPr>
          <p:blipFill>
            <a:blip r:embed="rId62"/>
            <a:stretch/>
          </p:blipFill>
          <p:spPr>
            <a:xfrm>
              <a:off x="2982600" y="4463280"/>
              <a:ext cx="288000" cy="28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8" name="Picture 9" descr="C:\Users\Administrator\Desktop\book.png"/>
            <p:cNvPicPr/>
            <p:nvPr/>
          </p:nvPicPr>
          <p:blipFill>
            <a:blip r:embed="rId63"/>
            <a:stretch/>
          </p:blipFill>
          <p:spPr>
            <a:xfrm>
              <a:off x="3496680" y="4463280"/>
              <a:ext cx="288000" cy="28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9" name="Picture 9" descr="C:\Users\Administrator\Desktop\book.png"/>
            <p:cNvPicPr/>
            <p:nvPr/>
          </p:nvPicPr>
          <p:blipFill>
            <a:blip r:embed="rId64"/>
            <a:stretch/>
          </p:blipFill>
          <p:spPr>
            <a:xfrm>
              <a:off x="4010400" y="4463280"/>
              <a:ext cx="288000" cy="28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0" name="Picture 9" descr="C:\Users\Administrator\Desktop\book.png"/>
            <p:cNvPicPr/>
            <p:nvPr/>
          </p:nvPicPr>
          <p:blipFill>
            <a:blip r:embed="rId65"/>
            <a:stretch/>
          </p:blipFill>
          <p:spPr>
            <a:xfrm>
              <a:off x="4524480" y="4463280"/>
              <a:ext cx="288000" cy="28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1" name="Picture 9" descr="C:\Users\Administrator\Desktop\book.png"/>
            <p:cNvPicPr/>
            <p:nvPr/>
          </p:nvPicPr>
          <p:blipFill>
            <a:blip r:embed="rId66"/>
            <a:stretch/>
          </p:blipFill>
          <p:spPr>
            <a:xfrm>
              <a:off x="4781520" y="4463280"/>
              <a:ext cx="288000" cy="28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9" descr="C:\Users\Administrator\Desktop\book.png"/>
            <p:cNvPicPr/>
            <p:nvPr/>
          </p:nvPicPr>
          <p:blipFill>
            <a:blip r:embed="rId67"/>
            <a:stretch/>
          </p:blipFill>
          <p:spPr>
            <a:xfrm>
              <a:off x="5295240" y="4463280"/>
              <a:ext cx="288000" cy="28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9" descr="C:\Users\Administrator\Desktop\book.png"/>
            <p:cNvPicPr/>
            <p:nvPr/>
          </p:nvPicPr>
          <p:blipFill>
            <a:blip r:embed="rId68"/>
            <a:stretch/>
          </p:blipFill>
          <p:spPr>
            <a:xfrm>
              <a:off x="5038200" y="4463280"/>
              <a:ext cx="288000" cy="28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4" name="Picture 9" descr="C:\Users\Administrator\Desktop\book.png"/>
            <p:cNvPicPr/>
            <p:nvPr/>
          </p:nvPicPr>
          <p:blipFill>
            <a:blip r:embed="rId69"/>
            <a:stretch/>
          </p:blipFill>
          <p:spPr>
            <a:xfrm>
              <a:off x="3239640" y="4463280"/>
              <a:ext cx="288000" cy="28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5" name="Picture 9" descr="C:\Users\Administrator\Desktop\book.png"/>
            <p:cNvPicPr/>
            <p:nvPr/>
          </p:nvPicPr>
          <p:blipFill>
            <a:blip r:embed="rId70"/>
            <a:stretch/>
          </p:blipFill>
          <p:spPr>
            <a:xfrm>
              <a:off x="3753360" y="4463280"/>
              <a:ext cx="288000" cy="28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6" name="Picture 9" descr="C:\Users\Administrator\Desktop\book.png"/>
            <p:cNvPicPr/>
            <p:nvPr/>
          </p:nvPicPr>
          <p:blipFill>
            <a:blip r:embed="rId71"/>
            <a:stretch/>
          </p:blipFill>
          <p:spPr>
            <a:xfrm>
              <a:off x="4267440" y="4463280"/>
              <a:ext cx="288000" cy="288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67" name="组合 222"/>
            <p:cNvGrpSpPr/>
            <p:nvPr/>
          </p:nvGrpSpPr>
          <p:grpSpPr>
            <a:xfrm>
              <a:off x="2768040" y="4057560"/>
              <a:ext cx="1161720" cy="411480"/>
              <a:chOff x="2768040" y="4057560"/>
              <a:chExt cx="1161720" cy="411480"/>
            </a:xfrm>
          </p:grpSpPr>
          <p:sp>
            <p:nvSpPr>
              <p:cNvPr id="368" name="TextBox 227"/>
              <p:cNvSpPr/>
              <p:nvPr/>
            </p:nvSpPr>
            <p:spPr>
              <a:xfrm>
                <a:off x="2778120" y="4157640"/>
                <a:ext cx="862200" cy="277200"/>
              </a:xfrm>
              <a:prstGeom prst="rect">
                <a:avLst/>
              </a:prstGeom>
              <a:solidFill>
                <a:srgbClr val="468a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lnSpc>
                    <a:spcPct val="15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矩形 228"/>
              <p:cNvSpPr/>
              <p:nvPr/>
            </p:nvSpPr>
            <p:spPr>
              <a:xfrm>
                <a:off x="2768040" y="4057560"/>
                <a:ext cx="1161720" cy="411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r>
                  <a:rPr b="1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学生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0" name="TextBox 223"/>
            <p:cNvSpPr/>
            <p:nvPr/>
          </p:nvSpPr>
          <p:spPr>
            <a:xfrm>
              <a:off x="3633480" y="4025880"/>
              <a:ext cx="6350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717480"/>
                  <a:tab algn="l" pos="1434960"/>
                  <a:tab algn="l" pos="2152800"/>
                  <a:tab algn="l" pos="2870280"/>
                  <a:tab algn="l" pos="3587760"/>
                  <a:tab algn="l" pos="4305240"/>
                  <a:tab algn="l" pos="5022720"/>
                  <a:tab algn="l" pos="5740560"/>
                  <a:tab algn="l" pos="6458040"/>
                  <a:tab algn="l" pos="7175520"/>
                  <a:tab algn="l" pos="7893000"/>
                  <a:tab algn="l" pos="8610480"/>
                  <a:tab algn="l" pos="9328320"/>
                  <a:tab algn="l" pos="10045800"/>
                  <a:tab algn="l" pos="10763280"/>
                </a:tabLst>
              </a:pPr>
              <a:r>
                <a:rPr b="0" lang="en-US" sz="1800" spc="-1" strike="noStrike">
                  <a:solidFill>
                    <a:srgbClr val="468af0"/>
                  </a:solidFill>
                  <a:latin typeface="Impact"/>
                  <a:ea typeface="微软雅黑"/>
                </a:rPr>
                <a:t>9.4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1" name="组合 224"/>
            <p:cNvGrpSpPr/>
            <p:nvPr/>
          </p:nvGrpSpPr>
          <p:grpSpPr>
            <a:xfrm>
              <a:off x="2349360" y="4107960"/>
              <a:ext cx="238680" cy="606960"/>
              <a:chOff x="2349360" y="4107960"/>
              <a:chExt cx="238680" cy="606960"/>
            </a:xfrm>
          </p:grpSpPr>
          <p:sp>
            <p:nvSpPr>
              <p:cNvPr id="372" name="Freeform 115"/>
              <p:cNvSpPr/>
              <p:nvPr/>
            </p:nvSpPr>
            <p:spPr>
              <a:xfrm>
                <a:off x="2349360" y="4211640"/>
                <a:ext cx="238680" cy="503280"/>
              </a:xfrm>
              <a:prstGeom prst="pie">
                <a:avLst/>
              </a:prstGeom>
              <a:solidFill>
                <a:srgbClr val="378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Oval 116"/>
              <p:cNvSpPr/>
              <p:nvPr/>
            </p:nvSpPr>
            <p:spPr>
              <a:xfrm>
                <a:off x="2420640" y="4107960"/>
                <a:ext cx="95760" cy="95760"/>
              </a:xfrm>
              <a:prstGeom prst="ellipse">
                <a:avLst/>
              </a:prstGeom>
              <a:solidFill>
                <a:srgbClr val="378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TextBox 92"/>
          <p:cNvSpPr/>
          <p:nvPr/>
        </p:nvSpPr>
        <p:spPr>
          <a:xfrm>
            <a:off x="0" y="0"/>
            <a:ext cx="9144000" cy="51436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Box 91"/>
          <p:cNvSpPr/>
          <p:nvPr/>
        </p:nvSpPr>
        <p:spPr>
          <a:xfrm>
            <a:off x="3867840" y="50760"/>
            <a:ext cx="12808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r>
              <a:rPr b="1" lang="zh-CN" sz="2400" spc="-1" strike="noStrike">
                <a:solidFill>
                  <a:srgbClr val="e96573"/>
                </a:solidFill>
                <a:latin typeface="Impact"/>
                <a:ea typeface="微软雅黑"/>
              </a:rPr>
              <a:t>阅读载体倾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椭圆 4"/>
          <p:cNvSpPr/>
          <p:nvPr/>
        </p:nvSpPr>
        <p:spPr>
          <a:xfrm>
            <a:off x="2560680" y="1203480"/>
            <a:ext cx="3522600" cy="3524040"/>
          </a:xfrm>
          <a:prstGeom prst="ellipse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椭圆 128"/>
          <p:cNvSpPr/>
          <p:nvPr/>
        </p:nvSpPr>
        <p:spPr>
          <a:xfrm>
            <a:off x="2633760" y="1971720"/>
            <a:ext cx="2181240" cy="2181240"/>
          </a:xfrm>
          <a:prstGeom prst="ellipse">
            <a:avLst/>
          </a:prstGeom>
          <a:solidFill>
            <a:srgbClr val="378a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Box 129"/>
          <p:cNvSpPr/>
          <p:nvPr/>
        </p:nvSpPr>
        <p:spPr>
          <a:xfrm>
            <a:off x="3139560" y="2571840"/>
            <a:ext cx="1331280" cy="8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aettenschweiler"/>
                <a:ea typeface="微软雅黑"/>
              </a:rPr>
              <a:t>74.4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5"/>
          <p:cNvSpPr/>
          <p:nvPr/>
        </p:nvSpPr>
        <p:spPr>
          <a:xfrm>
            <a:off x="4726440" y="2136600"/>
            <a:ext cx="102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r>
              <a:rPr b="1" lang="zh-CN" sz="1200" spc="-1" strike="noStrike">
                <a:solidFill>
                  <a:srgbClr val="378acb"/>
                </a:solidFill>
                <a:latin typeface="微软雅黑"/>
                <a:ea typeface="微软雅黑"/>
              </a:rPr>
              <a:t>电子阅读器</a:t>
            </a:r>
            <a:r>
              <a:rPr b="1" lang="en-US" sz="1200" spc="-1" strike="noStrike">
                <a:solidFill>
                  <a:srgbClr val="378acb"/>
                </a:solidFill>
                <a:latin typeface="微软雅黑"/>
                <a:ea typeface="微软雅黑"/>
              </a:rPr>
              <a:t>2.2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0" name="Picture 4" descr="C:\Users\Administrator\Desktop\ooopic_1371107771.png"/>
          <p:cNvPicPr/>
          <p:nvPr/>
        </p:nvPicPr>
        <p:blipFill>
          <a:blip r:embed="rId2"/>
          <a:stretch/>
        </p:blipFill>
        <p:spPr>
          <a:xfrm>
            <a:off x="4613400" y="1851120"/>
            <a:ext cx="323640" cy="32364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5" descr="C:\Users\Administrator\Desktop\ooopic_1371107832.png"/>
          <p:cNvPicPr/>
          <p:nvPr/>
        </p:nvPicPr>
        <p:blipFill>
          <a:blip r:embed="rId3"/>
          <a:stretch/>
        </p:blipFill>
        <p:spPr>
          <a:xfrm>
            <a:off x="4775040" y="2427120"/>
            <a:ext cx="395280" cy="395280"/>
          </a:xfrm>
          <a:prstGeom prst="rect">
            <a:avLst/>
          </a:prstGeom>
          <a:ln w="0">
            <a:noFill/>
          </a:ln>
        </p:spPr>
      </p:pic>
      <p:sp>
        <p:nvSpPr>
          <p:cNvPr id="382" name="矩形 130"/>
          <p:cNvSpPr/>
          <p:nvPr/>
        </p:nvSpPr>
        <p:spPr>
          <a:xfrm>
            <a:off x="4874760" y="2784600"/>
            <a:ext cx="80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r>
              <a:rPr b="1" lang="zh-CN" sz="1200" spc="-1" strike="noStrike">
                <a:solidFill>
                  <a:srgbClr val="378acb"/>
                </a:solidFill>
                <a:latin typeface="微软雅黑"/>
                <a:ea typeface="微软雅黑"/>
              </a:rPr>
              <a:t>手机阅读</a:t>
            </a:r>
            <a:r>
              <a:rPr b="1" lang="en-US" sz="1200" spc="-1" strike="noStrike">
                <a:solidFill>
                  <a:srgbClr val="378acb"/>
                </a:solidFill>
                <a:latin typeface="微软雅黑"/>
                <a:ea typeface="微软雅黑"/>
              </a:rPr>
              <a:t>9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3" name="Picture 6" descr="C:\Users\Administrator\Desktop\ooopic_1371107947.png"/>
          <p:cNvPicPr/>
          <p:nvPr/>
        </p:nvPicPr>
        <p:blipFill>
          <a:blip r:embed="rId4"/>
          <a:stretch/>
        </p:blipFill>
        <p:spPr>
          <a:xfrm>
            <a:off x="4805280" y="3105000"/>
            <a:ext cx="493920" cy="493920"/>
          </a:xfrm>
          <a:prstGeom prst="rect">
            <a:avLst/>
          </a:prstGeom>
          <a:ln w="0">
            <a:noFill/>
          </a:ln>
        </p:spPr>
      </p:pic>
      <p:sp>
        <p:nvSpPr>
          <p:cNvPr id="384" name="矩形 131"/>
          <p:cNvSpPr/>
          <p:nvPr/>
        </p:nvSpPr>
        <p:spPr>
          <a:xfrm>
            <a:off x="4843800" y="3460680"/>
            <a:ext cx="102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r>
              <a:rPr b="1" lang="zh-CN" sz="1200" spc="-1" strike="noStrike">
                <a:solidFill>
                  <a:srgbClr val="378acb"/>
                </a:solidFill>
                <a:latin typeface="微软雅黑"/>
                <a:ea typeface="微软雅黑"/>
              </a:rPr>
              <a:t>在线阅读</a:t>
            </a:r>
            <a:r>
              <a:rPr b="1" lang="en-US" sz="1200" spc="-1" strike="noStrike">
                <a:solidFill>
                  <a:srgbClr val="378acb"/>
                </a:solidFill>
                <a:latin typeface="微软雅黑"/>
                <a:ea typeface="微软雅黑"/>
              </a:rPr>
              <a:t>13.2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Picture 7" descr="C:\Users\Administrator\Desktop\ooopic_1371107990.png"/>
          <p:cNvPicPr/>
          <p:nvPr/>
        </p:nvPicPr>
        <p:blipFill>
          <a:blip r:embed="rId5"/>
          <a:stretch/>
        </p:blipFill>
        <p:spPr>
          <a:xfrm>
            <a:off x="4613400" y="3730680"/>
            <a:ext cx="422280" cy="422280"/>
          </a:xfrm>
          <a:prstGeom prst="rect">
            <a:avLst/>
          </a:prstGeom>
          <a:ln w="0">
            <a:noFill/>
          </a:ln>
        </p:spPr>
      </p:pic>
      <p:sp>
        <p:nvSpPr>
          <p:cNvPr id="386" name="矩形 132"/>
          <p:cNvSpPr/>
          <p:nvPr/>
        </p:nvSpPr>
        <p:spPr>
          <a:xfrm>
            <a:off x="4294800" y="4083120"/>
            <a:ext cx="102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r>
              <a:rPr b="1" lang="zh-CN" sz="1200" spc="-1" strike="noStrike">
                <a:solidFill>
                  <a:srgbClr val="378acb"/>
                </a:solidFill>
                <a:latin typeface="微软雅黑"/>
                <a:ea typeface="微软雅黑"/>
              </a:rPr>
              <a:t>下载后打印</a:t>
            </a:r>
            <a:r>
              <a:rPr b="1" lang="en-US" sz="1200" spc="-1" strike="noStrike">
                <a:solidFill>
                  <a:srgbClr val="378acb"/>
                </a:solidFill>
                <a:latin typeface="微软雅黑"/>
                <a:ea typeface="微软雅黑"/>
              </a:rPr>
              <a:t>1.3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Picture 8" descr="C:\Users\Administrator\Desktop\ooopic_1371108135.png"/>
          <p:cNvPicPr/>
          <p:nvPr/>
        </p:nvPicPr>
        <p:blipFill>
          <a:blip r:embed="rId6"/>
          <a:stretch/>
        </p:blipFill>
        <p:spPr>
          <a:xfrm>
            <a:off x="2747880" y="2735280"/>
            <a:ext cx="649440" cy="649440"/>
          </a:xfrm>
          <a:prstGeom prst="rect">
            <a:avLst/>
          </a:prstGeom>
          <a:ln w="0">
            <a:noFill/>
          </a:ln>
        </p:spPr>
      </p:pic>
      <p:sp>
        <p:nvSpPr>
          <p:cNvPr id="388" name="矩形 133"/>
          <p:cNvSpPr/>
          <p:nvPr/>
        </p:nvSpPr>
        <p:spPr>
          <a:xfrm>
            <a:off x="3130560" y="326376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纸制图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68360" y="142560"/>
            <a:ext cx="8207280" cy="43020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ctr">
            <a:noAutofit/>
          </a:bodyPr>
          <a:p>
            <a:pPr indent="0" algn="ctr">
              <a:buNone/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108000" y="952560"/>
            <a:ext cx="8928000" cy="391464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t">
            <a:normAutofit fontScale="84000"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Rectangle 7"/>
          <p:cNvSpPr/>
          <p:nvPr/>
        </p:nvSpPr>
        <p:spPr>
          <a:xfrm>
            <a:off x="7286760" y="250920"/>
            <a:ext cx="1388880" cy="26028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99FBF-7546-40F6-A8D2-BA1088DCA39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TextBox 92"/>
          <p:cNvSpPr/>
          <p:nvPr/>
        </p:nvSpPr>
        <p:spPr>
          <a:xfrm>
            <a:off x="0" y="0"/>
            <a:ext cx="9144000" cy="51436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Box 91"/>
          <p:cNvSpPr/>
          <p:nvPr/>
        </p:nvSpPr>
        <p:spPr>
          <a:xfrm>
            <a:off x="3501360" y="50760"/>
            <a:ext cx="20124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r>
              <a:rPr b="1" lang="zh-CN" sz="2400" spc="-1" strike="noStrike">
                <a:solidFill>
                  <a:srgbClr val="e96573"/>
                </a:solidFill>
                <a:latin typeface="Impact"/>
                <a:ea typeface="微软雅黑"/>
              </a:rPr>
              <a:t>数字化阅读的年龄比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4" name="组合 2"/>
          <p:cNvGrpSpPr/>
          <p:nvPr/>
        </p:nvGrpSpPr>
        <p:grpSpPr>
          <a:xfrm>
            <a:off x="1819440" y="843120"/>
            <a:ext cx="5171760" cy="425160"/>
            <a:chOff x="1819440" y="843120"/>
            <a:chExt cx="5171760" cy="425160"/>
          </a:xfrm>
        </p:grpSpPr>
        <p:grpSp>
          <p:nvGrpSpPr>
            <p:cNvPr id="395" name="组合 1"/>
            <p:cNvGrpSpPr/>
            <p:nvPr/>
          </p:nvGrpSpPr>
          <p:grpSpPr>
            <a:xfrm>
              <a:off x="1819440" y="843120"/>
              <a:ext cx="167040" cy="425160"/>
              <a:chOff x="1819440" y="843120"/>
              <a:chExt cx="167040" cy="425160"/>
            </a:xfrm>
          </p:grpSpPr>
          <p:sp>
            <p:nvSpPr>
              <p:cNvPr id="396" name="Freeform 115"/>
              <p:cNvSpPr/>
              <p:nvPr/>
            </p:nvSpPr>
            <p:spPr>
              <a:xfrm>
                <a:off x="1819440" y="915840"/>
                <a:ext cx="167040" cy="352440"/>
              </a:xfrm>
              <a:prstGeom prst="pie">
                <a:avLst/>
              </a:prstGeom>
              <a:solidFill>
                <a:srgbClr val="eb58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Oval 116"/>
              <p:cNvSpPr/>
              <p:nvPr/>
            </p:nvSpPr>
            <p:spPr>
              <a:xfrm>
                <a:off x="1869480" y="843120"/>
                <a:ext cx="66960" cy="66960"/>
              </a:xfrm>
              <a:prstGeom prst="ellipse">
                <a:avLst/>
              </a:prstGeom>
              <a:solidFill>
                <a:srgbClr val="eb58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8" name="组合 20"/>
            <p:cNvGrpSpPr/>
            <p:nvPr/>
          </p:nvGrpSpPr>
          <p:grpSpPr>
            <a:xfrm>
              <a:off x="2036880" y="843120"/>
              <a:ext cx="167040" cy="425160"/>
              <a:chOff x="2036880" y="843120"/>
              <a:chExt cx="167040" cy="425160"/>
            </a:xfrm>
          </p:grpSpPr>
          <p:sp>
            <p:nvSpPr>
              <p:cNvPr id="399" name="Freeform 115"/>
              <p:cNvSpPr/>
              <p:nvPr/>
            </p:nvSpPr>
            <p:spPr>
              <a:xfrm>
                <a:off x="2036880" y="915840"/>
                <a:ext cx="167040" cy="352440"/>
              </a:xfrm>
              <a:prstGeom prst="pie">
                <a:avLst/>
              </a:prstGeom>
              <a:solidFill>
                <a:srgbClr val="eb58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Oval 116"/>
              <p:cNvSpPr/>
              <p:nvPr/>
            </p:nvSpPr>
            <p:spPr>
              <a:xfrm>
                <a:off x="2086920" y="843120"/>
                <a:ext cx="66960" cy="66960"/>
              </a:xfrm>
              <a:prstGeom prst="ellipse">
                <a:avLst/>
              </a:prstGeom>
              <a:solidFill>
                <a:srgbClr val="eb58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1" name="组合 23"/>
            <p:cNvGrpSpPr/>
            <p:nvPr/>
          </p:nvGrpSpPr>
          <p:grpSpPr>
            <a:xfrm>
              <a:off x="2254320" y="843120"/>
              <a:ext cx="167040" cy="425160"/>
              <a:chOff x="2254320" y="843120"/>
              <a:chExt cx="167040" cy="425160"/>
            </a:xfrm>
          </p:grpSpPr>
          <p:sp>
            <p:nvSpPr>
              <p:cNvPr id="402" name="Freeform 115"/>
              <p:cNvSpPr/>
              <p:nvPr/>
            </p:nvSpPr>
            <p:spPr>
              <a:xfrm>
                <a:off x="2254320" y="915840"/>
                <a:ext cx="167040" cy="352440"/>
              </a:xfrm>
              <a:prstGeom prst="pie">
                <a:avLst/>
              </a:prstGeom>
              <a:solidFill>
                <a:srgbClr val="eb58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Oval 116"/>
              <p:cNvSpPr/>
              <p:nvPr/>
            </p:nvSpPr>
            <p:spPr>
              <a:xfrm>
                <a:off x="2304360" y="843120"/>
                <a:ext cx="66960" cy="66960"/>
              </a:xfrm>
              <a:prstGeom prst="ellipse">
                <a:avLst/>
              </a:prstGeom>
              <a:solidFill>
                <a:srgbClr val="eb58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4" name="组合 26"/>
            <p:cNvGrpSpPr/>
            <p:nvPr/>
          </p:nvGrpSpPr>
          <p:grpSpPr>
            <a:xfrm>
              <a:off x="2472120" y="843120"/>
              <a:ext cx="167040" cy="425160"/>
              <a:chOff x="2472120" y="843120"/>
              <a:chExt cx="167040" cy="425160"/>
            </a:xfrm>
          </p:grpSpPr>
          <p:sp>
            <p:nvSpPr>
              <p:cNvPr id="405" name="Freeform 115"/>
              <p:cNvSpPr/>
              <p:nvPr/>
            </p:nvSpPr>
            <p:spPr>
              <a:xfrm>
                <a:off x="2472120" y="915840"/>
                <a:ext cx="167040" cy="352440"/>
              </a:xfrm>
              <a:prstGeom prst="pie">
                <a:avLst/>
              </a:prstGeom>
              <a:solidFill>
                <a:srgbClr val="eb58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Oval 116"/>
              <p:cNvSpPr/>
              <p:nvPr/>
            </p:nvSpPr>
            <p:spPr>
              <a:xfrm>
                <a:off x="2522160" y="843120"/>
                <a:ext cx="66960" cy="66960"/>
              </a:xfrm>
              <a:prstGeom prst="ellipse">
                <a:avLst/>
              </a:prstGeom>
              <a:solidFill>
                <a:srgbClr val="eb58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7" name="组合 29"/>
            <p:cNvGrpSpPr/>
            <p:nvPr/>
          </p:nvGrpSpPr>
          <p:grpSpPr>
            <a:xfrm>
              <a:off x="2689560" y="843120"/>
              <a:ext cx="167040" cy="425160"/>
              <a:chOff x="2689560" y="843120"/>
              <a:chExt cx="167040" cy="425160"/>
            </a:xfrm>
          </p:grpSpPr>
          <p:sp>
            <p:nvSpPr>
              <p:cNvPr id="408" name="Freeform 115"/>
              <p:cNvSpPr/>
              <p:nvPr/>
            </p:nvSpPr>
            <p:spPr>
              <a:xfrm>
                <a:off x="2689560" y="915840"/>
                <a:ext cx="167040" cy="352440"/>
              </a:xfrm>
              <a:prstGeom prst="pie">
                <a:avLst/>
              </a:prstGeom>
              <a:solidFill>
                <a:srgbClr val="eb58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Oval 116"/>
              <p:cNvSpPr/>
              <p:nvPr/>
            </p:nvSpPr>
            <p:spPr>
              <a:xfrm>
                <a:off x="2739600" y="843120"/>
                <a:ext cx="66960" cy="66960"/>
              </a:xfrm>
              <a:prstGeom prst="ellipse">
                <a:avLst/>
              </a:prstGeom>
              <a:solidFill>
                <a:srgbClr val="eb58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0" name="组合 32"/>
            <p:cNvGrpSpPr/>
            <p:nvPr/>
          </p:nvGrpSpPr>
          <p:grpSpPr>
            <a:xfrm>
              <a:off x="2907360" y="843120"/>
              <a:ext cx="167040" cy="425160"/>
              <a:chOff x="2907360" y="843120"/>
              <a:chExt cx="167040" cy="425160"/>
            </a:xfrm>
          </p:grpSpPr>
          <p:sp>
            <p:nvSpPr>
              <p:cNvPr id="411" name="Freeform 115"/>
              <p:cNvSpPr/>
              <p:nvPr/>
            </p:nvSpPr>
            <p:spPr>
              <a:xfrm>
                <a:off x="2907360" y="915840"/>
                <a:ext cx="167040" cy="352440"/>
              </a:xfrm>
              <a:prstGeom prst="pie">
                <a:avLst/>
              </a:prstGeom>
              <a:solidFill>
                <a:srgbClr val="eb58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Oval 116"/>
              <p:cNvSpPr/>
              <p:nvPr/>
            </p:nvSpPr>
            <p:spPr>
              <a:xfrm>
                <a:off x="2957400" y="843120"/>
                <a:ext cx="66960" cy="66960"/>
              </a:xfrm>
              <a:prstGeom prst="ellipse">
                <a:avLst/>
              </a:prstGeom>
              <a:solidFill>
                <a:srgbClr val="eb58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3" name="组合 35"/>
            <p:cNvGrpSpPr/>
            <p:nvPr/>
          </p:nvGrpSpPr>
          <p:grpSpPr>
            <a:xfrm>
              <a:off x="3124800" y="843120"/>
              <a:ext cx="167040" cy="425160"/>
              <a:chOff x="3124800" y="843120"/>
              <a:chExt cx="167040" cy="425160"/>
            </a:xfrm>
          </p:grpSpPr>
          <p:sp>
            <p:nvSpPr>
              <p:cNvPr id="414" name="Freeform 115"/>
              <p:cNvSpPr/>
              <p:nvPr/>
            </p:nvSpPr>
            <p:spPr>
              <a:xfrm>
                <a:off x="3124800" y="915840"/>
                <a:ext cx="167040" cy="352440"/>
              </a:xfrm>
              <a:prstGeom prst="pie">
                <a:avLst/>
              </a:prstGeom>
              <a:solidFill>
                <a:srgbClr val="eb58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Oval 116"/>
              <p:cNvSpPr/>
              <p:nvPr/>
            </p:nvSpPr>
            <p:spPr>
              <a:xfrm>
                <a:off x="3174840" y="843120"/>
                <a:ext cx="66960" cy="66960"/>
              </a:xfrm>
              <a:prstGeom prst="ellipse">
                <a:avLst/>
              </a:prstGeom>
              <a:solidFill>
                <a:srgbClr val="eb58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6" name="组合 38"/>
            <p:cNvGrpSpPr/>
            <p:nvPr/>
          </p:nvGrpSpPr>
          <p:grpSpPr>
            <a:xfrm>
              <a:off x="3342600" y="843120"/>
              <a:ext cx="167040" cy="425160"/>
              <a:chOff x="3342600" y="843120"/>
              <a:chExt cx="167040" cy="425160"/>
            </a:xfrm>
          </p:grpSpPr>
          <p:sp>
            <p:nvSpPr>
              <p:cNvPr id="417" name="Freeform 115"/>
              <p:cNvSpPr/>
              <p:nvPr/>
            </p:nvSpPr>
            <p:spPr>
              <a:xfrm>
                <a:off x="3342600" y="915840"/>
                <a:ext cx="167040" cy="352440"/>
              </a:xfrm>
              <a:prstGeom prst="pie">
                <a:avLst/>
              </a:prstGeom>
              <a:solidFill>
                <a:srgbClr val="eb58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Oval 116"/>
              <p:cNvSpPr/>
              <p:nvPr/>
            </p:nvSpPr>
            <p:spPr>
              <a:xfrm>
                <a:off x="3392640" y="843120"/>
                <a:ext cx="66960" cy="66960"/>
              </a:xfrm>
              <a:prstGeom prst="ellipse">
                <a:avLst/>
              </a:prstGeom>
              <a:solidFill>
                <a:srgbClr val="eb58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9" name="组合 41"/>
            <p:cNvGrpSpPr/>
            <p:nvPr/>
          </p:nvGrpSpPr>
          <p:grpSpPr>
            <a:xfrm>
              <a:off x="3560040" y="843120"/>
              <a:ext cx="167040" cy="425160"/>
              <a:chOff x="3560040" y="843120"/>
              <a:chExt cx="167040" cy="425160"/>
            </a:xfrm>
          </p:grpSpPr>
          <p:sp>
            <p:nvSpPr>
              <p:cNvPr id="420" name="Freeform 115"/>
              <p:cNvSpPr/>
              <p:nvPr/>
            </p:nvSpPr>
            <p:spPr>
              <a:xfrm>
                <a:off x="3560040" y="915840"/>
                <a:ext cx="167040" cy="352440"/>
              </a:xfrm>
              <a:prstGeom prst="pie">
                <a:avLst/>
              </a:prstGeom>
              <a:solidFill>
                <a:srgbClr val="eb58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Oval 116"/>
              <p:cNvSpPr/>
              <p:nvPr/>
            </p:nvSpPr>
            <p:spPr>
              <a:xfrm>
                <a:off x="3610080" y="843120"/>
                <a:ext cx="66960" cy="66960"/>
              </a:xfrm>
              <a:prstGeom prst="ellipse">
                <a:avLst/>
              </a:prstGeom>
              <a:solidFill>
                <a:srgbClr val="eb58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2" name="组合 44"/>
            <p:cNvGrpSpPr/>
            <p:nvPr/>
          </p:nvGrpSpPr>
          <p:grpSpPr>
            <a:xfrm>
              <a:off x="3777840" y="843120"/>
              <a:ext cx="167040" cy="425160"/>
              <a:chOff x="3777840" y="843120"/>
              <a:chExt cx="167040" cy="425160"/>
            </a:xfrm>
          </p:grpSpPr>
          <p:sp>
            <p:nvSpPr>
              <p:cNvPr id="423" name="Freeform 115"/>
              <p:cNvSpPr/>
              <p:nvPr/>
            </p:nvSpPr>
            <p:spPr>
              <a:xfrm>
                <a:off x="3777840" y="915840"/>
                <a:ext cx="167040" cy="352440"/>
              </a:xfrm>
              <a:prstGeom prst="pie">
                <a:avLst/>
              </a:prstGeom>
              <a:solidFill>
                <a:srgbClr val="eb58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Oval 116"/>
              <p:cNvSpPr/>
              <p:nvPr/>
            </p:nvSpPr>
            <p:spPr>
              <a:xfrm>
                <a:off x="3827880" y="843120"/>
                <a:ext cx="66960" cy="66960"/>
              </a:xfrm>
              <a:prstGeom prst="ellipse">
                <a:avLst/>
              </a:prstGeom>
              <a:solidFill>
                <a:srgbClr val="eb58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5" name="组合 47"/>
            <p:cNvGrpSpPr/>
            <p:nvPr/>
          </p:nvGrpSpPr>
          <p:grpSpPr>
            <a:xfrm>
              <a:off x="3995280" y="843120"/>
              <a:ext cx="167040" cy="425160"/>
              <a:chOff x="3995280" y="843120"/>
              <a:chExt cx="167040" cy="425160"/>
            </a:xfrm>
          </p:grpSpPr>
          <p:sp>
            <p:nvSpPr>
              <p:cNvPr id="426" name="Freeform 115"/>
              <p:cNvSpPr/>
              <p:nvPr/>
            </p:nvSpPr>
            <p:spPr>
              <a:xfrm>
                <a:off x="3995280" y="915840"/>
                <a:ext cx="167040" cy="352440"/>
              </a:xfrm>
              <a:prstGeom prst="pie">
                <a:avLst/>
              </a:prstGeom>
              <a:solidFill>
                <a:srgbClr val="eb58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Oval 116"/>
              <p:cNvSpPr/>
              <p:nvPr/>
            </p:nvSpPr>
            <p:spPr>
              <a:xfrm>
                <a:off x="4045320" y="843120"/>
                <a:ext cx="66960" cy="66960"/>
              </a:xfrm>
              <a:prstGeom prst="ellipse">
                <a:avLst/>
              </a:prstGeom>
              <a:solidFill>
                <a:srgbClr val="eb58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8" name="组合 50"/>
            <p:cNvGrpSpPr/>
            <p:nvPr/>
          </p:nvGrpSpPr>
          <p:grpSpPr>
            <a:xfrm>
              <a:off x="4213080" y="843120"/>
              <a:ext cx="167040" cy="425160"/>
              <a:chOff x="4213080" y="843120"/>
              <a:chExt cx="167040" cy="425160"/>
            </a:xfrm>
          </p:grpSpPr>
          <p:sp>
            <p:nvSpPr>
              <p:cNvPr id="429" name="Freeform 115"/>
              <p:cNvSpPr/>
              <p:nvPr/>
            </p:nvSpPr>
            <p:spPr>
              <a:xfrm>
                <a:off x="4213080" y="915840"/>
                <a:ext cx="167040" cy="352440"/>
              </a:xfrm>
              <a:prstGeom prst="pie">
                <a:avLst/>
              </a:prstGeom>
              <a:solidFill>
                <a:srgbClr val="eb58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Oval 116"/>
              <p:cNvSpPr/>
              <p:nvPr/>
            </p:nvSpPr>
            <p:spPr>
              <a:xfrm>
                <a:off x="4263120" y="843120"/>
                <a:ext cx="66960" cy="66960"/>
              </a:xfrm>
              <a:prstGeom prst="ellipse">
                <a:avLst/>
              </a:prstGeom>
              <a:solidFill>
                <a:srgbClr val="eb58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1" name="组合 53"/>
            <p:cNvGrpSpPr/>
            <p:nvPr/>
          </p:nvGrpSpPr>
          <p:grpSpPr>
            <a:xfrm>
              <a:off x="4430520" y="843120"/>
              <a:ext cx="167040" cy="425160"/>
              <a:chOff x="4430520" y="843120"/>
              <a:chExt cx="167040" cy="425160"/>
            </a:xfrm>
          </p:grpSpPr>
          <p:sp>
            <p:nvSpPr>
              <p:cNvPr id="432" name="Freeform 115"/>
              <p:cNvSpPr/>
              <p:nvPr/>
            </p:nvSpPr>
            <p:spPr>
              <a:xfrm>
                <a:off x="4430520" y="915840"/>
                <a:ext cx="167040" cy="352440"/>
              </a:xfrm>
              <a:prstGeom prst="pie">
                <a:avLst/>
              </a:prstGeom>
              <a:solidFill>
                <a:srgbClr val="eb58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Oval 116"/>
              <p:cNvSpPr/>
              <p:nvPr/>
            </p:nvSpPr>
            <p:spPr>
              <a:xfrm>
                <a:off x="4480560" y="843120"/>
                <a:ext cx="66960" cy="66960"/>
              </a:xfrm>
              <a:prstGeom prst="ellipse">
                <a:avLst/>
              </a:prstGeom>
              <a:solidFill>
                <a:srgbClr val="eb58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4" name="组合 56"/>
            <p:cNvGrpSpPr/>
            <p:nvPr/>
          </p:nvGrpSpPr>
          <p:grpSpPr>
            <a:xfrm>
              <a:off x="4647960" y="843120"/>
              <a:ext cx="167040" cy="425160"/>
              <a:chOff x="4647960" y="843120"/>
              <a:chExt cx="167040" cy="425160"/>
            </a:xfrm>
          </p:grpSpPr>
          <p:sp>
            <p:nvSpPr>
              <p:cNvPr id="435" name="Freeform 115"/>
              <p:cNvSpPr/>
              <p:nvPr/>
            </p:nvSpPr>
            <p:spPr>
              <a:xfrm>
                <a:off x="4647960" y="915840"/>
                <a:ext cx="167040" cy="352440"/>
              </a:xfrm>
              <a:prstGeom prst="pie">
                <a:avLst/>
              </a:prstGeom>
              <a:solidFill>
                <a:srgbClr val="eb58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Oval 116"/>
              <p:cNvSpPr/>
              <p:nvPr/>
            </p:nvSpPr>
            <p:spPr>
              <a:xfrm>
                <a:off x="4698000" y="843120"/>
                <a:ext cx="66960" cy="66960"/>
              </a:xfrm>
              <a:prstGeom prst="ellipse">
                <a:avLst/>
              </a:prstGeom>
              <a:solidFill>
                <a:srgbClr val="eb58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7" name="组合 59"/>
            <p:cNvGrpSpPr/>
            <p:nvPr/>
          </p:nvGrpSpPr>
          <p:grpSpPr>
            <a:xfrm>
              <a:off x="4865760" y="843120"/>
              <a:ext cx="167040" cy="425160"/>
              <a:chOff x="4865760" y="843120"/>
              <a:chExt cx="167040" cy="425160"/>
            </a:xfrm>
          </p:grpSpPr>
          <p:sp>
            <p:nvSpPr>
              <p:cNvPr id="438" name="Freeform 115"/>
              <p:cNvSpPr/>
              <p:nvPr/>
            </p:nvSpPr>
            <p:spPr>
              <a:xfrm>
                <a:off x="4865760" y="915840"/>
                <a:ext cx="167040" cy="352440"/>
              </a:xfrm>
              <a:prstGeom prst="pie">
                <a:avLst/>
              </a:prstGeom>
              <a:solidFill>
                <a:srgbClr val="eb58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Oval 116"/>
              <p:cNvSpPr/>
              <p:nvPr/>
            </p:nvSpPr>
            <p:spPr>
              <a:xfrm>
                <a:off x="4915800" y="843120"/>
                <a:ext cx="66960" cy="66960"/>
              </a:xfrm>
              <a:prstGeom prst="ellipse">
                <a:avLst/>
              </a:prstGeom>
              <a:solidFill>
                <a:srgbClr val="eb58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0" name="组合 62"/>
            <p:cNvGrpSpPr/>
            <p:nvPr/>
          </p:nvGrpSpPr>
          <p:grpSpPr>
            <a:xfrm>
              <a:off x="5083200" y="843120"/>
              <a:ext cx="167040" cy="425160"/>
              <a:chOff x="5083200" y="843120"/>
              <a:chExt cx="167040" cy="425160"/>
            </a:xfrm>
          </p:grpSpPr>
          <p:sp>
            <p:nvSpPr>
              <p:cNvPr id="441" name="Freeform 115"/>
              <p:cNvSpPr/>
              <p:nvPr/>
            </p:nvSpPr>
            <p:spPr>
              <a:xfrm>
                <a:off x="5083200" y="915840"/>
                <a:ext cx="167040" cy="352440"/>
              </a:xfrm>
              <a:prstGeom prst="pie">
                <a:avLst/>
              </a:prstGeom>
              <a:solidFill>
                <a:srgbClr val="eb58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Oval 116"/>
              <p:cNvSpPr/>
              <p:nvPr/>
            </p:nvSpPr>
            <p:spPr>
              <a:xfrm>
                <a:off x="5133240" y="843120"/>
                <a:ext cx="66960" cy="66960"/>
              </a:xfrm>
              <a:prstGeom prst="ellipse">
                <a:avLst/>
              </a:prstGeom>
              <a:solidFill>
                <a:srgbClr val="eb58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3" name="组合 65"/>
            <p:cNvGrpSpPr/>
            <p:nvPr/>
          </p:nvGrpSpPr>
          <p:grpSpPr>
            <a:xfrm>
              <a:off x="5301000" y="843120"/>
              <a:ext cx="167040" cy="425160"/>
              <a:chOff x="5301000" y="843120"/>
              <a:chExt cx="167040" cy="425160"/>
            </a:xfrm>
          </p:grpSpPr>
          <p:sp>
            <p:nvSpPr>
              <p:cNvPr id="444" name="Freeform 115"/>
              <p:cNvSpPr/>
              <p:nvPr/>
            </p:nvSpPr>
            <p:spPr>
              <a:xfrm>
                <a:off x="5301000" y="915840"/>
                <a:ext cx="167040" cy="352440"/>
              </a:xfrm>
              <a:prstGeom prst="pie">
                <a:avLst/>
              </a:prstGeom>
              <a:solidFill>
                <a:srgbClr val="eb58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Oval 116"/>
              <p:cNvSpPr/>
              <p:nvPr/>
            </p:nvSpPr>
            <p:spPr>
              <a:xfrm>
                <a:off x="5351040" y="843120"/>
                <a:ext cx="66960" cy="66960"/>
              </a:xfrm>
              <a:prstGeom prst="ellipse">
                <a:avLst/>
              </a:prstGeom>
              <a:solidFill>
                <a:srgbClr val="eb58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6" name="组合 68"/>
            <p:cNvGrpSpPr/>
            <p:nvPr/>
          </p:nvGrpSpPr>
          <p:grpSpPr>
            <a:xfrm>
              <a:off x="5518440" y="843120"/>
              <a:ext cx="167040" cy="425160"/>
              <a:chOff x="5518440" y="843120"/>
              <a:chExt cx="167040" cy="425160"/>
            </a:xfrm>
          </p:grpSpPr>
          <p:sp>
            <p:nvSpPr>
              <p:cNvPr id="447" name="Freeform 115"/>
              <p:cNvSpPr/>
              <p:nvPr/>
            </p:nvSpPr>
            <p:spPr>
              <a:xfrm>
                <a:off x="5518440" y="915840"/>
                <a:ext cx="167040" cy="352440"/>
              </a:xfrm>
              <a:prstGeom prst="pie">
                <a:avLst/>
              </a:prstGeom>
              <a:solidFill>
                <a:srgbClr val="eb58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Oval 116"/>
              <p:cNvSpPr/>
              <p:nvPr/>
            </p:nvSpPr>
            <p:spPr>
              <a:xfrm>
                <a:off x="5568480" y="843120"/>
                <a:ext cx="66960" cy="66960"/>
              </a:xfrm>
              <a:prstGeom prst="ellipse">
                <a:avLst/>
              </a:prstGeom>
              <a:solidFill>
                <a:srgbClr val="eb58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9" name="组合 71"/>
            <p:cNvGrpSpPr/>
            <p:nvPr/>
          </p:nvGrpSpPr>
          <p:grpSpPr>
            <a:xfrm>
              <a:off x="5736240" y="843120"/>
              <a:ext cx="167040" cy="425160"/>
              <a:chOff x="5736240" y="843120"/>
              <a:chExt cx="167040" cy="425160"/>
            </a:xfrm>
          </p:grpSpPr>
          <p:sp>
            <p:nvSpPr>
              <p:cNvPr id="450" name="Freeform 115"/>
              <p:cNvSpPr/>
              <p:nvPr/>
            </p:nvSpPr>
            <p:spPr>
              <a:xfrm>
                <a:off x="5736240" y="915840"/>
                <a:ext cx="167040" cy="352440"/>
              </a:xfrm>
              <a:prstGeom prst="pie">
                <a:avLst/>
              </a:prstGeom>
              <a:solidFill>
                <a:srgbClr val="eb58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Oval 116"/>
              <p:cNvSpPr/>
              <p:nvPr/>
            </p:nvSpPr>
            <p:spPr>
              <a:xfrm>
                <a:off x="5786280" y="843120"/>
                <a:ext cx="66960" cy="66960"/>
              </a:xfrm>
              <a:prstGeom prst="ellipse">
                <a:avLst/>
              </a:prstGeom>
              <a:solidFill>
                <a:srgbClr val="eb58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2" name="组合 74"/>
            <p:cNvGrpSpPr/>
            <p:nvPr/>
          </p:nvGrpSpPr>
          <p:grpSpPr>
            <a:xfrm>
              <a:off x="5953680" y="843120"/>
              <a:ext cx="167040" cy="425160"/>
              <a:chOff x="5953680" y="843120"/>
              <a:chExt cx="167040" cy="425160"/>
            </a:xfrm>
          </p:grpSpPr>
          <p:sp>
            <p:nvSpPr>
              <p:cNvPr id="453" name="Freeform 115"/>
              <p:cNvSpPr/>
              <p:nvPr/>
            </p:nvSpPr>
            <p:spPr>
              <a:xfrm>
                <a:off x="5953680" y="915840"/>
                <a:ext cx="167040" cy="352440"/>
              </a:xfrm>
              <a:prstGeom prst="pie">
                <a:avLst/>
              </a:prstGeom>
              <a:solidFill>
                <a:srgbClr val="eb58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Oval 116"/>
              <p:cNvSpPr/>
              <p:nvPr/>
            </p:nvSpPr>
            <p:spPr>
              <a:xfrm>
                <a:off x="6003720" y="843120"/>
                <a:ext cx="66960" cy="66960"/>
              </a:xfrm>
              <a:prstGeom prst="ellipse">
                <a:avLst/>
              </a:prstGeom>
              <a:solidFill>
                <a:srgbClr val="eb58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5" name="组合 77"/>
            <p:cNvGrpSpPr/>
            <p:nvPr/>
          </p:nvGrpSpPr>
          <p:grpSpPr>
            <a:xfrm>
              <a:off x="6171480" y="843120"/>
              <a:ext cx="167040" cy="425160"/>
              <a:chOff x="6171480" y="843120"/>
              <a:chExt cx="167040" cy="425160"/>
            </a:xfrm>
          </p:grpSpPr>
          <p:sp>
            <p:nvSpPr>
              <p:cNvPr id="456" name="Freeform 115"/>
              <p:cNvSpPr/>
              <p:nvPr/>
            </p:nvSpPr>
            <p:spPr>
              <a:xfrm>
                <a:off x="6171480" y="915840"/>
                <a:ext cx="167040" cy="352440"/>
              </a:xfrm>
              <a:prstGeom prst="pie">
                <a:avLst/>
              </a:prstGeom>
              <a:solidFill>
                <a:srgbClr val="eb58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Oval 116"/>
              <p:cNvSpPr/>
              <p:nvPr/>
            </p:nvSpPr>
            <p:spPr>
              <a:xfrm>
                <a:off x="6221520" y="843120"/>
                <a:ext cx="66960" cy="66960"/>
              </a:xfrm>
              <a:prstGeom prst="ellipse">
                <a:avLst/>
              </a:prstGeom>
              <a:solidFill>
                <a:srgbClr val="eb58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8" name="组合 80"/>
            <p:cNvGrpSpPr/>
            <p:nvPr/>
          </p:nvGrpSpPr>
          <p:grpSpPr>
            <a:xfrm>
              <a:off x="6388920" y="843120"/>
              <a:ext cx="167040" cy="425160"/>
              <a:chOff x="6388920" y="843120"/>
              <a:chExt cx="167040" cy="425160"/>
            </a:xfrm>
          </p:grpSpPr>
          <p:sp>
            <p:nvSpPr>
              <p:cNvPr id="459" name="Freeform 115"/>
              <p:cNvSpPr/>
              <p:nvPr/>
            </p:nvSpPr>
            <p:spPr>
              <a:xfrm>
                <a:off x="6388920" y="915840"/>
                <a:ext cx="167040" cy="352440"/>
              </a:xfrm>
              <a:prstGeom prst="pie">
                <a:avLst/>
              </a:prstGeom>
              <a:solidFill>
                <a:srgbClr val="eb58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Oval 116"/>
              <p:cNvSpPr/>
              <p:nvPr/>
            </p:nvSpPr>
            <p:spPr>
              <a:xfrm>
                <a:off x="6438960" y="843120"/>
                <a:ext cx="66960" cy="66960"/>
              </a:xfrm>
              <a:prstGeom prst="ellipse">
                <a:avLst/>
              </a:prstGeom>
              <a:solidFill>
                <a:srgbClr val="eb58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1" name="组合 83"/>
            <p:cNvGrpSpPr/>
            <p:nvPr/>
          </p:nvGrpSpPr>
          <p:grpSpPr>
            <a:xfrm>
              <a:off x="6606720" y="843120"/>
              <a:ext cx="167040" cy="425160"/>
              <a:chOff x="6606720" y="843120"/>
              <a:chExt cx="167040" cy="425160"/>
            </a:xfrm>
          </p:grpSpPr>
          <p:sp>
            <p:nvSpPr>
              <p:cNvPr id="462" name="Freeform 115"/>
              <p:cNvSpPr/>
              <p:nvPr/>
            </p:nvSpPr>
            <p:spPr>
              <a:xfrm>
                <a:off x="6606720" y="915840"/>
                <a:ext cx="167040" cy="352440"/>
              </a:xfrm>
              <a:prstGeom prst="pie">
                <a:avLst/>
              </a:prstGeom>
              <a:solidFill>
                <a:srgbClr val="eb58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Oval 116"/>
              <p:cNvSpPr/>
              <p:nvPr/>
            </p:nvSpPr>
            <p:spPr>
              <a:xfrm>
                <a:off x="6656760" y="843120"/>
                <a:ext cx="66960" cy="66960"/>
              </a:xfrm>
              <a:prstGeom prst="ellipse">
                <a:avLst/>
              </a:prstGeom>
              <a:solidFill>
                <a:srgbClr val="eb58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4" name="组合 86"/>
            <p:cNvGrpSpPr/>
            <p:nvPr/>
          </p:nvGrpSpPr>
          <p:grpSpPr>
            <a:xfrm>
              <a:off x="6824160" y="843120"/>
              <a:ext cx="167040" cy="425160"/>
              <a:chOff x="6824160" y="843120"/>
              <a:chExt cx="167040" cy="425160"/>
            </a:xfrm>
          </p:grpSpPr>
          <p:sp>
            <p:nvSpPr>
              <p:cNvPr id="465" name="Freeform 115"/>
              <p:cNvSpPr/>
              <p:nvPr/>
            </p:nvSpPr>
            <p:spPr>
              <a:xfrm>
                <a:off x="6824160" y="915840"/>
                <a:ext cx="167040" cy="352440"/>
              </a:xfrm>
              <a:prstGeom prst="pie">
                <a:avLst/>
              </a:prstGeom>
              <a:solidFill>
                <a:srgbClr val="eb58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Oval 116"/>
              <p:cNvSpPr/>
              <p:nvPr/>
            </p:nvSpPr>
            <p:spPr>
              <a:xfrm>
                <a:off x="6874200" y="843120"/>
                <a:ext cx="66960" cy="66960"/>
              </a:xfrm>
              <a:prstGeom prst="ellipse">
                <a:avLst/>
              </a:prstGeom>
              <a:solidFill>
                <a:srgbClr val="eb58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67" name="组合 169"/>
          <p:cNvGrpSpPr/>
          <p:nvPr/>
        </p:nvGrpSpPr>
        <p:grpSpPr>
          <a:xfrm>
            <a:off x="1819440" y="1927080"/>
            <a:ext cx="5171760" cy="424080"/>
            <a:chOff x="1819440" y="1927080"/>
            <a:chExt cx="5171760" cy="424080"/>
          </a:xfrm>
        </p:grpSpPr>
        <p:grpSp>
          <p:nvGrpSpPr>
            <p:cNvPr id="468" name="组合 170"/>
            <p:cNvGrpSpPr/>
            <p:nvPr/>
          </p:nvGrpSpPr>
          <p:grpSpPr>
            <a:xfrm>
              <a:off x="1819440" y="1927080"/>
              <a:ext cx="167040" cy="424080"/>
              <a:chOff x="1819440" y="1927080"/>
              <a:chExt cx="167040" cy="424080"/>
            </a:xfrm>
          </p:grpSpPr>
          <p:sp>
            <p:nvSpPr>
              <p:cNvPr id="469" name="Freeform 115"/>
              <p:cNvSpPr/>
              <p:nvPr/>
            </p:nvSpPr>
            <p:spPr>
              <a:xfrm>
                <a:off x="1819440" y="1999440"/>
                <a:ext cx="167040" cy="351720"/>
              </a:xfrm>
              <a:prstGeom prst="pie">
                <a:avLst/>
              </a:prstGeom>
              <a:solidFill>
                <a:srgbClr val="eb58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Oval 116"/>
              <p:cNvSpPr/>
              <p:nvPr/>
            </p:nvSpPr>
            <p:spPr>
              <a:xfrm>
                <a:off x="1869480" y="1927080"/>
                <a:ext cx="66960" cy="66960"/>
              </a:xfrm>
              <a:prstGeom prst="ellipse">
                <a:avLst/>
              </a:prstGeom>
              <a:solidFill>
                <a:srgbClr val="eb58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1" name="组合 171"/>
            <p:cNvGrpSpPr/>
            <p:nvPr/>
          </p:nvGrpSpPr>
          <p:grpSpPr>
            <a:xfrm>
              <a:off x="2036880" y="1927080"/>
              <a:ext cx="167040" cy="424080"/>
              <a:chOff x="2036880" y="1927080"/>
              <a:chExt cx="167040" cy="424080"/>
            </a:xfrm>
          </p:grpSpPr>
          <p:sp>
            <p:nvSpPr>
              <p:cNvPr id="472" name="Freeform 115"/>
              <p:cNvSpPr/>
              <p:nvPr/>
            </p:nvSpPr>
            <p:spPr>
              <a:xfrm>
                <a:off x="2036880" y="1999440"/>
                <a:ext cx="167040" cy="351720"/>
              </a:xfrm>
              <a:prstGeom prst="pie">
                <a:avLst/>
              </a:prstGeom>
              <a:solidFill>
                <a:srgbClr val="eb58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Oval 116"/>
              <p:cNvSpPr/>
              <p:nvPr/>
            </p:nvSpPr>
            <p:spPr>
              <a:xfrm>
                <a:off x="2086920" y="1927080"/>
                <a:ext cx="66960" cy="66960"/>
              </a:xfrm>
              <a:prstGeom prst="ellipse">
                <a:avLst/>
              </a:prstGeom>
              <a:solidFill>
                <a:srgbClr val="eb58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4" name="组合 172"/>
            <p:cNvGrpSpPr/>
            <p:nvPr/>
          </p:nvGrpSpPr>
          <p:grpSpPr>
            <a:xfrm>
              <a:off x="2254320" y="1927080"/>
              <a:ext cx="167040" cy="424080"/>
              <a:chOff x="2254320" y="1927080"/>
              <a:chExt cx="167040" cy="424080"/>
            </a:xfrm>
          </p:grpSpPr>
          <p:sp>
            <p:nvSpPr>
              <p:cNvPr id="475" name="Freeform 115"/>
              <p:cNvSpPr/>
              <p:nvPr/>
            </p:nvSpPr>
            <p:spPr>
              <a:xfrm>
                <a:off x="2254320" y="1999440"/>
                <a:ext cx="167040" cy="351720"/>
              </a:xfrm>
              <a:prstGeom prst="pie">
                <a:avLst/>
              </a:prstGeom>
              <a:solidFill>
                <a:srgbClr val="eb58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Oval 116"/>
              <p:cNvSpPr/>
              <p:nvPr/>
            </p:nvSpPr>
            <p:spPr>
              <a:xfrm>
                <a:off x="2304360" y="1927080"/>
                <a:ext cx="66960" cy="66960"/>
              </a:xfrm>
              <a:prstGeom prst="ellipse">
                <a:avLst/>
              </a:prstGeom>
              <a:solidFill>
                <a:srgbClr val="eb58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7" name="组合 173"/>
            <p:cNvGrpSpPr/>
            <p:nvPr/>
          </p:nvGrpSpPr>
          <p:grpSpPr>
            <a:xfrm>
              <a:off x="2472120" y="1927080"/>
              <a:ext cx="167040" cy="424080"/>
              <a:chOff x="2472120" y="1927080"/>
              <a:chExt cx="167040" cy="424080"/>
            </a:xfrm>
          </p:grpSpPr>
          <p:sp>
            <p:nvSpPr>
              <p:cNvPr id="478" name="Freeform 115"/>
              <p:cNvSpPr/>
              <p:nvPr/>
            </p:nvSpPr>
            <p:spPr>
              <a:xfrm>
                <a:off x="2472120" y="1999440"/>
                <a:ext cx="167040" cy="351720"/>
              </a:xfrm>
              <a:prstGeom prst="pie">
                <a:avLst/>
              </a:prstGeom>
              <a:solidFill>
                <a:srgbClr val="eb58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Oval 116"/>
              <p:cNvSpPr/>
              <p:nvPr/>
            </p:nvSpPr>
            <p:spPr>
              <a:xfrm>
                <a:off x="2522160" y="1927080"/>
                <a:ext cx="66960" cy="66960"/>
              </a:xfrm>
              <a:prstGeom prst="ellipse">
                <a:avLst/>
              </a:prstGeom>
              <a:solidFill>
                <a:srgbClr val="eb58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0" name="组合 174"/>
            <p:cNvGrpSpPr/>
            <p:nvPr/>
          </p:nvGrpSpPr>
          <p:grpSpPr>
            <a:xfrm>
              <a:off x="2689560" y="1927080"/>
              <a:ext cx="167040" cy="424080"/>
              <a:chOff x="2689560" y="1927080"/>
              <a:chExt cx="167040" cy="424080"/>
            </a:xfrm>
          </p:grpSpPr>
          <p:sp>
            <p:nvSpPr>
              <p:cNvPr id="481" name="Freeform 115"/>
              <p:cNvSpPr/>
              <p:nvPr/>
            </p:nvSpPr>
            <p:spPr>
              <a:xfrm>
                <a:off x="2689560" y="1999440"/>
                <a:ext cx="167040" cy="351720"/>
              </a:xfrm>
              <a:prstGeom prst="pie">
                <a:avLst/>
              </a:prstGeom>
              <a:solidFill>
                <a:srgbClr val="eb58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Oval 116"/>
              <p:cNvSpPr/>
              <p:nvPr/>
            </p:nvSpPr>
            <p:spPr>
              <a:xfrm>
                <a:off x="2739600" y="1927080"/>
                <a:ext cx="66960" cy="66960"/>
              </a:xfrm>
              <a:prstGeom prst="ellipse">
                <a:avLst/>
              </a:prstGeom>
              <a:solidFill>
                <a:srgbClr val="eb58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3" name="组合 175"/>
            <p:cNvGrpSpPr/>
            <p:nvPr/>
          </p:nvGrpSpPr>
          <p:grpSpPr>
            <a:xfrm>
              <a:off x="2907360" y="1927080"/>
              <a:ext cx="167040" cy="424080"/>
              <a:chOff x="2907360" y="1927080"/>
              <a:chExt cx="167040" cy="424080"/>
            </a:xfrm>
          </p:grpSpPr>
          <p:sp>
            <p:nvSpPr>
              <p:cNvPr id="484" name="Freeform 115"/>
              <p:cNvSpPr/>
              <p:nvPr/>
            </p:nvSpPr>
            <p:spPr>
              <a:xfrm>
                <a:off x="2907360" y="1999440"/>
                <a:ext cx="167040" cy="351720"/>
              </a:xfrm>
              <a:prstGeom prst="pie">
                <a:avLst/>
              </a:prstGeom>
              <a:solidFill>
                <a:srgbClr val="eb58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Oval 116"/>
              <p:cNvSpPr/>
              <p:nvPr/>
            </p:nvSpPr>
            <p:spPr>
              <a:xfrm>
                <a:off x="2957400" y="1927080"/>
                <a:ext cx="66960" cy="66960"/>
              </a:xfrm>
              <a:prstGeom prst="ellipse">
                <a:avLst/>
              </a:prstGeom>
              <a:solidFill>
                <a:srgbClr val="eb58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6" name="组合 176"/>
            <p:cNvGrpSpPr/>
            <p:nvPr/>
          </p:nvGrpSpPr>
          <p:grpSpPr>
            <a:xfrm>
              <a:off x="3124800" y="1927080"/>
              <a:ext cx="167040" cy="424080"/>
              <a:chOff x="3124800" y="1927080"/>
              <a:chExt cx="167040" cy="424080"/>
            </a:xfrm>
          </p:grpSpPr>
          <p:sp>
            <p:nvSpPr>
              <p:cNvPr id="487" name="Freeform 115"/>
              <p:cNvSpPr/>
              <p:nvPr/>
            </p:nvSpPr>
            <p:spPr>
              <a:xfrm>
                <a:off x="3124800" y="1999440"/>
                <a:ext cx="167040" cy="351720"/>
              </a:xfrm>
              <a:prstGeom prst="pie">
                <a:avLst/>
              </a:prstGeom>
              <a:solidFill>
                <a:srgbClr val="eb58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Oval 116"/>
              <p:cNvSpPr/>
              <p:nvPr/>
            </p:nvSpPr>
            <p:spPr>
              <a:xfrm>
                <a:off x="3174840" y="1927080"/>
                <a:ext cx="66960" cy="66960"/>
              </a:xfrm>
              <a:prstGeom prst="ellipse">
                <a:avLst/>
              </a:prstGeom>
              <a:solidFill>
                <a:srgbClr val="eb58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9" name="组合 177"/>
            <p:cNvGrpSpPr/>
            <p:nvPr/>
          </p:nvGrpSpPr>
          <p:grpSpPr>
            <a:xfrm>
              <a:off x="3342600" y="1927080"/>
              <a:ext cx="167040" cy="424080"/>
              <a:chOff x="3342600" y="1927080"/>
              <a:chExt cx="167040" cy="424080"/>
            </a:xfrm>
          </p:grpSpPr>
          <p:sp>
            <p:nvSpPr>
              <p:cNvPr id="490" name="Freeform 115"/>
              <p:cNvSpPr/>
              <p:nvPr/>
            </p:nvSpPr>
            <p:spPr>
              <a:xfrm>
                <a:off x="3342600" y="1999440"/>
                <a:ext cx="167040" cy="351720"/>
              </a:xfrm>
              <a:prstGeom prst="pie">
                <a:avLst/>
              </a:prstGeom>
              <a:solidFill>
                <a:srgbClr val="eb58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Oval 116"/>
              <p:cNvSpPr/>
              <p:nvPr/>
            </p:nvSpPr>
            <p:spPr>
              <a:xfrm>
                <a:off x="3392640" y="1927080"/>
                <a:ext cx="66960" cy="66960"/>
              </a:xfrm>
              <a:prstGeom prst="ellipse">
                <a:avLst/>
              </a:prstGeom>
              <a:solidFill>
                <a:srgbClr val="eb58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2" name="组合 178"/>
            <p:cNvGrpSpPr/>
            <p:nvPr/>
          </p:nvGrpSpPr>
          <p:grpSpPr>
            <a:xfrm>
              <a:off x="3560040" y="1927080"/>
              <a:ext cx="167040" cy="424080"/>
              <a:chOff x="3560040" y="1927080"/>
              <a:chExt cx="167040" cy="424080"/>
            </a:xfrm>
          </p:grpSpPr>
          <p:sp>
            <p:nvSpPr>
              <p:cNvPr id="493" name="Freeform 115"/>
              <p:cNvSpPr/>
              <p:nvPr/>
            </p:nvSpPr>
            <p:spPr>
              <a:xfrm>
                <a:off x="3560040" y="1999440"/>
                <a:ext cx="167040" cy="351720"/>
              </a:xfrm>
              <a:prstGeom prst="pie">
                <a:avLst/>
              </a:prstGeom>
              <a:solidFill>
                <a:srgbClr val="eb58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Oval 116"/>
              <p:cNvSpPr/>
              <p:nvPr/>
            </p:nvSpPr>
            <p:spPr>
              <a:xfrm>
                <a:off x="3610080" y="1927080"/>
                <a:ext cx="66960" cy="66960"/>
              </a:xfrm>
              <a:prstGeom prst="ellipse">
                <a:avLst/>
              </a:prstGeom>
              <a:solidFill>
                <a:srgbClr val="eb58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5" name="组合 179"/>
            <p:cNvGrpSpPr/>
            <p:nvPr/>
          </p:nvGrpSpPr>
          <p:grpSpPr>
            <a:xfrm>
              <a:off x="3777840" y="1927080"/>
              <a:ext cx="167040" cy="424080"/>
              <a:chOff x="3777840" y="1927080"/>
              <a:chExt cx="167040" cy="424080"/>
            </a:xfrm>
          </p:grpSpPr>
          <p:sp>
            <p:nvSpPr>
              <p:cNvPr id="496" name="Freeform 115"/>
              <p:cNvSpPr/>
              <p:nvPr/>
            </p:nvSpPr>
            <p:spPr>
              <a:xfrm>
                <a:off x="3777840" y="1999440"/>
                <a:ext cx="167040" cy="351720"/>
              </a:xfrm>
              <a:prstGeom prst="pie">
                <a:avLst/>
              </a:prstGeom>
              <a:solidFill>
                <a:srgbClr val="eb58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Oval 116"/>
              <p:cNvSpPr/>
              <p:nvPr/>
            </p:nvSpPr>
            <p:spPr>
              <a:xfrm>
                <a:off x="3827880" y="1927080"/>
                <a:ext cx="66960" cy="66960"/>
              </a:xfrm>
              <a:prstGeom prst="ellipse">
                <a:avLst/>
              </a:prstGeom>
              <a:solidFill>
                <a:srgbClr val="eb58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8" name="组合 180"/>
            <p:cNvGrpSpPr/>
            <p:nvPr/>
          </p:nvGrpSpPr>
          <p:grpSpPr>
            <a:xfrm>
              <a:off x="3995280" y="1927080"/>
              <a:ext cx="167040" cy="424080"/>
              <a:chOff x="3995280" y="1927080"/>
              <a:chExt cx="167040" cy="424080"/>
            </a:xfrm>
          </p:grpSpPr>
          <p:sp>
            <p:nvSpPr>
              <p:cNvPr id="499" name="Freeform 115"/>
              <p:cNvSpPr/>
              <p:nvPr/>
            </p:nvSpPr>
            <p:spPr>
              <a:xfrm>
                <a:off x="3995280" y="1999440"/>
                <a:ext cx="167040" cy="351720"/>
              </a:xfrm>
              <a:prstGeom prst="pie">
                <a:avLst/>
              </a:prstGeom>
              <a:solidFill>
                <a:srgbClr val="eb58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Oval 116"/>
              <p:cNvSpPr/>
              <p:nvPr/>
            </p:nvSpPr>
            <p:spPr>
              <a:xfrm>
                <a:off x="4045320" y="1927080"/>
                <a:ext cx="66960" cy="66960"/>
              </a:xfrm>
              <a:prstGeom prst="ellipse">
                <a:avLst/>
              </a:prstGeom>
              <a:solidFill>
                <a:srgbClr val="eb58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1" name="组合 181"/>
            <p:cNvGrpSpPr/>
            <p:nvPr/>
          </p:nvGrpSpPr>
          <p:grpSpPr>
            <a:xfrm>
              <a:off x="4213080" y="1927080"/>
              <a:ext cx="167040" cy="424080"/>
              <a:chOff x="4213080" y="1927080"/>
              <a:chExt cx="167040" cy="424080"/>
            </a:xfrm>
          </p:grpSpPr>
          <p:sp>
            <p:nvSpPr>
              <p:cNvPr id="502" name="Freeform 115"/>
              <p:cNvSpPr/>
              <p:nvPr/>
            </p:nvSpPr>
            <p:spPr>
              <a:xfrm>
                <a:off x="4213080" y="1999440"/>
                <a:ext cx="167040" cy="351720"/>
              </a:xfrm>
              <a:prstGeom prst="pie">
                <a:avLst/>
              </a:prstGeom>
              <a:solidFill>
                <a:srgbClr val="eb58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Oval 116"/>
              <p:cNvSpPr/>
              <p:nvPr/>
            </p:nvSpPr>
            <p:spPr>
              <a:xfrm>
                <a:off x="4263120" y="1927080"/>
                <a:ext cx="66960" cy="66960"/>
              </a:xfrm>
              <a:prstGeom prst="ellipse">
                <a:avLst/>
              </a:prstGeom>
              <a:solidFill>
                <a:srgbClr val="eb58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4" name="组合 182"/>
            <p:cNvGrpSpPr/>
            <p:nvPr/>
          </p:nvGrpSpPr>
          <p:grpSpPr>
            <a:xfrm>
              <a:off x="4430520" y="1927080"/>
              <a:ext cx="167040" cy="424080"/>
              <a:chOff x="4430520" y="1927080"/>
              <a:chExt cx="167040" cy="424080"/>
            </a:xfrm>
          </p:grpSpPr>
          <p:sp>
            <p:nvSpPr>
              <p:cNvPr id="505" name="Freeform 115"/>
              <p:cNvSpPr/>
              <p:nvPr/>
            </p:nvSpPr>
            <p:spPr>
              <a:xfrm>
                <a:off x="4430520" y="1999440"/>
                <a:ext cx="167040" cy="351720"/>
              </a:xfrm>
              <a:prstGeom prst="pie">
                <a:avLst/>
              </a:prstGeom>
              <a:solidFill>
                <a:srgbClr val="eb58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Oval 116"/>
              <p:cNvSpPr/>
              <p:nvPr/>
            </p:nvSpPr>
            <p:spPr>
              <a:xfrm>
                <a:off x="4480560" y="1927080"/>
                <a:ext cx="66960" cy="66960"/>
              </a:xfrm>
              <a:prstGeom prst="ellipse">
                <a:avLst/>
              </a:prstGeom>
              <a:solidFill>
                <a:srgbClr val="eb58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7" name="组合 183"/>
            <p:cNvGrpSpPr/>
            <p:nvPr/>
          </p:nvGrpSpPr>
          <p:grpSpPr>
            <a:xfrm>
              <a:off x="4647960" y="1927080"/>
              <a:ext cx="167040" cy="424080"/>
              <a:chOff x="4647960" y="1927080"/>
              <a:chExt cx="167040" cy="424080"/>
            </a:xfrm>
          </p:grpSpPr>
          <p:sp>
            <p:nvSpPr>
              <p:cNvPr id="508" name="Freeform 115"/>
              <p:cNvSpPr/>
              <p:nvPr/>
            </p:nvSpPr>
            <p:spPr>
              <a:xfrm>
                <a:off x="4647960" y="1999440"/>
                <a:ext cx="167040" cy="351720"/>
              </a:xfrm>
              <a:prstGeom prst="pie">
                <a:avLst/>
              </a:prstGeom>
              <a:solidFill>
                <a:srgbClr val="eb58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Oval 116"/>
              <p:cNvSpPr/>
              <p:nvPr/>
            </p:nvSpPr>
            <p:spPr>
              <a:xfrm>
                <a:off x="4698000" y="1927080"/>
                <a:ext cx="66960" cy="66960"/>
              </a:xfrm>
              <a:prstGeom prst="ellipse">
                <a:avLst/>
              </a:prstGeom>
              <a:solidFill>
                <a:srgbClr val="eb58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0" name="组合 184"/>
            <p:cNvGrpSpPr/>
            <p:nvPr/>
          </p:nvGrpSpPr>
          <p:grpSpPr>
            <a:xfrm>
              <a:off x="4865760" y="1927080"/>
              <a:ext cx="167040" cy="424080"/>
              <a:chOff x="4865760" y="1927080"/>
              <a:chExt cx="167040" cy="424080"/>
            </a:xfrm>
          </p:grpSpPr>
          <p:sp>
            <p:nvSpPr>
              <p:cNvPr id="511" name="Freeform 115"/>
              <p:cNvSpPr/>
              <p:nvPr/>
            </p:nvSpPr>
            <p:spPr>
              <a:xfrm>
                <a:off x="4865760" y="1999440"/>
                <a:ext cx="167040" cy="351720"/>
              </a:xfrm>
              <a:prstGeom prst="pie">
                <a:avLst/>
              </a:prstGeom>
              <a:solidFill>
                <a:srgbClr val="eb58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Oval 116"/>
              <p:cNvSpPr/>
              <p:nvPr/>
            </p:nvSpPr>
            <p:spPr>
              <a:xfrm>
                <a:off x="4915800" y="1927080"/>
                <a:ext cx="66960" cy="66960"/>
              </a:xfrm>
              <a:prstGeom prst="ellipse">
                <a:avLst/>
              </a:prstGeom>
              <a:solidFill>
                <a:srgbClr val="eb58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3" name="组合 185"/>
            <p:cNvGrpSpPr/>
            <p:nvPr/>
          </p:nvGrpSpPr>
          <p:grpSpPr>
            <a:xfrm>
              <a:off x="5083200" y="1927080"/>
              <a:ext cx="167040" cy="424080"/>
              <a:chOff x="5083200" y="1927080"/>
              <a:chExt cx="167040" cy="424080"/>
            </a:xfrm>
          </p:grpSpPr>
          <p:sp>
            <p:nvSpPr>
              <p:cNvPr id="514" name="Freeform 115"/>
              <p:cNvSpPr/>
              <p:nvPr/>
            </p:nvSpPr>
            <p:spPr>
              <a:xfrm>
                <a:off x="5083200" y="1999440"/>
                <a:ext cx="167040" cy="351720"/>
              </a:xfrm>
              <a:prstGeom prst="pie">
                <a:avLst/>
              </a:prstGeom>
              <a:solidFill>
                <a:srgbClr val="eb58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Oval 116"/>
              <p:cNvSpPr/>
              <p:nvPr/>
            </p:nvSpPr>
            <p:spPr>
              <a:xfrm>
                <a:off x="5133240" y="1927080"/>
                <a:ext cx="66960" cy="66960"/>
              </a:xfrm>
              <a:prstGeom prst="ellipse">
                <a:avLst/>
              </a:prstGeom>
              <a:solidFill>
                <a:srgbClr val="eb58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6" name="组合 186"/>
            <p:cNvGrpSpPr/>
            <p:nvPr/>
          </p:nvGrpSpPr>
          <p:grpSpPr>
            <a:xfrm>
              <a:off x="5301000" y="1927080"/>
              <a:ext cx="167040" cy="424080"/>
              <a:chOff x="5301000" y="1927080"/>
              <a:chExt cx="167040" cy="424080"/>
            </a:xfrm>
          </p:grpSpPr>
          <p:sp>
            <p:nvSpPr>
              <p:cNvPr id="517" name="Freeform 115"/>
              <p:cNvSpPr/>
              <p:nvPr/>
            </p:nvSpPr>
            <p:spPr>
              <a:xfrm>
                <a:off x="5301000" y="1999440"/>
                <a:ext cx="167040" cy="351720"/>
              </a:xfrm>
              <a:prstGeom prst="pie">
                <a:avLst/>
              </a:prstGeom>
              <a:solidFill>
                <a:srgbClr val="eb58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Oval 116"/>
              <p:cNvSpPr/>
              <p:nvPr/>
            </p:nvSpPr>
            <p:spPr>
              <a:xfrm>
                <a:off x="5351040" y="1927080"/>
                <a:ext cx="66960" cy="66960"/>
              </a:xfrm>
              <a:prstGeom prst="ellipse">
                <a:avLst/>
              </a:prstGeom>
              <a:solidFill>
                <a:srgbClr val="eb58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9" name="组合 187"/>
            <p:cNvGrpSpPr/>
            <p:nvPr/>
          </p:nvGrpSpPr>
          <p:grpSpPr>
            <a:xfrm>
              <a:off x="5518440" y="1927080"/>
              <a:ext cx="167040" cy="424080"/>
              <a:chOff x="5518440" y="1927080"/>
              <a:chExt cx="167040" cy="424080"/>
            </a:xfrm>
          </p:grpSpPr>
          <p:sp>
            <p:nvSpPr>
              <p:cNvPr id="520" name="Freeform 115"/>
              <p:cNvSpPr/>
              <p:nvPr/>
            </p:nvSpPr>
            <p:spPr>
              <a:xfrm>
                <a:off x="5518440" y="1999440"/>
                <a:ext cx="167040" cy="351720"/>
              </a:xfrm>
              <a:prstGeom prst="pie">
                <a:avLst/>
              </a:prstGeom>
              <a:solidFill>
                <a:srgbClr val="eb58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Oval 116"/>
              <p:cNvSpPr/>
              <p:nvPr/>
            </p:nvSpPr>
            <p:spPr>
              <a:xfrm>
                <a:off x="5568480" y="1927080"/>
                <a:ext cx="66960" cy="66960"/>
              </a:xfrm>
              <a:prstGeom prst="ellipse">
                <a:avLst/>
              </a:prstGeom>
              <a:solidFill>
                <a:srgbClr val="eb58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2" name="组合 188"/>
            <p:cNvGrpSpPr/>
            <p:nvPr/>
          </p:nvGrpSpPr>
          <p:grpSpPr>
            <a:xfrm>
              <a:off x="5736240" y="1927080"/>
              <a:ext cx="167040" cy="424080"/>
              <a:chOff x="5736240" y="1927080"/>
              <a:chExt cx="167040" cy="424080"/>
            </a:xfrm>
          </p:grpSpPr>
          <p:sp>
            <p:nvSpPr>
              <p:cNvPr id="523" name="Freeform 115"/>
              <p:cNvSpPr/>
              <p:nvPr/>
            </p:nvSpPr>
            <p:spPr>
              <a:xfrm>
                <a:off x="5736240" y="1999440"/>
                <a:ext cx="167040" cy="351720"/>
              </a:xfrm>
              <a:prstGeom prst="pie">
                <a:avLst/>
              </a:prstGeom>
              <a:solidFill>
                <a:srgbClr val="eb58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Oval 116"/>
              <p:cNvSpPr/>
              <p:nvPr/>
            </p:nvSpPr>
            <p:spPr>
              <a:xfrm>
                <a:off x="5786280" y="1927080"/>
                <a:ext cx="66960" cy="66960"/>
              </a:xfrm>
              <a:prstGeom prst="ellipse">
                <a:avLst/>
              </a:prstGeom>
              <a:solidFill>
                <a:srgbClr val="eb58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5" name="组合 189"/>
            <p:cNvGrpSpPr/>
            <p:nvPr/>
          </p:nvGrpSpPr>
          <p:grpSpPr>
            <a:xfrm>
              <a:off x="5953680" y="1927080"/>
              <a:ext cx="167040" cy="424080"/>
              <a:chOff x="5953680" y="1927080"/>
              <a:chExt cx="167040" cy="424080"/>
            </a:xfrm>
          </p:grpSpPr>
          <p:sp>
            <p:nvSpPr>
              <p:cNvPr id="526" name="Freeform 115"/>
              <p:cNvSpPr/>
              <p:nvPr/>
            </p:nvSpPr>
            <p:spPr>
              <a:xfrm>
                <a:off x="5953680" y="1999440"/>
                <a:ext cx="167040" cy="351720"/>
              </a:xfrm>
              <a:prstGeom prst="pie">
                <a:avLst/>
              </a:prstGeom>
              <a:solidFill>
                <a:srgbClr val="eb58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Oval 116"/>
              <p:cNvSpPr/>
              <p:nvPr/>
            </p:nvSpPr>
            <p:spPr>
              <a:xfrm>
                <a:off x="6003720" y="1927080"/>
                <a:ext cx="66960" cy="66960"/>
              </a:xfrm>
              <a:prstGeom prst="ellipse">
                <a:avLst/>
              </a:prstGeom>
              <a:solidFill>
                <a:srgbClr val="eb58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8" name="组合 190"/>
            <p:cNvGrpSpPr/>
            <p:nvPr/>
          </p:nvGrpSpPr>
          <p:grpSpPr>
            <a:xfrm>
              <a:off x="6171480" y="1927080"/>
              <a:ext cx="167040" cy="424080"/>
              <a:chOff x="6171480" y="1927080"/>
              <a:chExt cx="167040" cy="424080"/>
            </a:xfrm>
          </p:grpSpPr>
          <p:sp>
            <p:nvSpPr>
              <p:cNvPr id="529" name="Freeform 115"/>
              <p:cNvSpPr/>
              <p:nvPr/>
            </p:nvSpPr>
            <p:spPr>
              <a:xfrm>
                <a:off x="6171480" y="1999440"/>
                <a:ext cx="167040" cy="351720"/>
              </a:xfrm>
              <a:prstGeom prst="pie">
                <a:avLst/>
              </a:prstGeom>
              <a:solidFill>
                <a:srgbClr val="eb58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Oval 116"/>
              <p:cNvSpPr/>
              <p:nvPr/>
            </p:nvSpPr>
            <p:spPr>
              <a:xfrm>
                <a:off x="6221520" y="1927080"/>
                <a:ext cx="66960" cy="66960"/>
              </a:xfrm>
              <a:prstGeom prst="ellipse">
                <a:avLst/>
              </a:prstGeom>
              <a:solidFill>
                <a:srgbClr val="eb58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1" name="组合 191"/>
            <p:cNvGrpSpPr/>
            <p:nvPr/>
          </p:nvGrpSpPr>
          <p:grpSpPr>
            <a:xfrm>
              <a:off x="6388920" y="1927080"/>
              <a:ext cx="167040" cy="424080"/>
              <a:chOff x="6388920" y="1927080"/>
              <a:chExt cx="167040" cy="424080"/>
            </a:xfrm>
          </p:grpSpPr>
          <p:sp>
            <p:nvSpPr>
              <p:cNvPr id="532" name="Freeform 115"/>
              <p:cNvSpPr/>
              <p:nvPr/>
            </p:nvSpPr>
            <p:spPr>
              <a:xfrm>
                <a:off x="6388920" y="1999440"/>
                <a:ext cx="167040" cy="351720"/>
              </a:xfrm>
              <a:prstGeom prst="pie">
                <a:avLst/>
              </a:prstGeom>
              <a:solidFill>
                <a:srgbClr val="eb58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Oval 116"/>
              <p:cNvSpPr/>
              <p:nvPr/>
            </p:nvSpPr>
            <p:spPr>
              <a:xfrm>
                <a:off x="6438960" y="1927080"/>
                <a:ext cx="66960" cy="66960"/>
              </a:xfrm>
              <a:prstGeom prst="ellipse">
                <a:avLst/>
              </a:prstGeom>
              <a:solidFill>
                <a:srgbClr val="eb58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4" name="组合 192"/>
            <p:cNvGrpSpPr/>
            <p:nvPr/>
          </p:nvGrpSpPr>
          <p:grpSpPr>
            <a:xfrm>
              <a:off x="6606720" y="1927080"/>
              <a:ext cx="167040" cy="424080"/>
              <a:chOff x="6606720" y="1927080"/>
              <a:chExt cx="167040" cy="424080"/>
            </a:xfrm>
          </p:grpSpPr>
          <p:sp>
            <p:nvSpPr>
              <p:cNvPr id="535" name="Freeform 115"/>
              <p:cNvSpPr/>
              <p:nvPr/>
            </p:nvSpPr>
            <p:spPr>
              <a:xfrm>
                <a:off x="6606720" y="1999440"/>
                <a:ext cx="167040" cy="351720"/>
              </a:xfrm>
              <a:prstGeom prst="pie">
                <a:avLst/>
              </a:prstGeom>
              <a:solidFill>
                <a:srgbClr val="378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Oval 116"/>
              <p:cNvSpPr/>
              <p:nvPr/>
            </p:nvSpPr>
            <p:spPr>
              <a:xfrm>
                <a:off x="6656760" y="1927080"/>
                <a:ext cx="66960" cy="66960"/>
              </a:xfrm>
              <a:prstGeom prst="ellipse">
                <a:avLst/>
              </a:prstGeom>
              <a:solidFill>
                <a:srgbClr val="378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7" name="组合 193"/>
            <p:cNvGrpSpPr/>
            <p:nvPr/>
          </p:nvGrpSpPr>
          <p:grpSpPr>
            <a:xfrm>
              <a:off x="6824160" y="1927080"/>
              <a:ext cx="167040" cy="424080"/>
              <a:chOff x="6824160" y="1927080"/>
              <a:chExt cx="167040" cy="424080"/>
            </a:xfrm>
          </p:grpSpPr>
          <p:sp>
            <p:nvSpPr>
              <p:cNvPr id="538" name="Freeform 115"/>
              <p:cNvSpPr/>
              <p:nvPr/>
            </p:nvSpPr>
            <p:spPr>
              <a:xfrm>
                <a:off x="6824160" y="1999440"/>
                <a:ext cx="167040" cy="351720"/>
              </a:xfrm>
              <a:prstGeom prst="pie">
                <a:avLst/>
              </a:prstGeom>
              <a:solidFill>
                <a:srgbClr val="378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Oval 116"/>
              <p:cNvSpPr/>
              <p:nvPr/>
            </p:nvSpPr>
            <p:spPr>
              <a:xfrm>
                <a:off x="6874200" y="1927080"/>
                <a:ext cx="66960" cy="66960"/>
              </a:xfrm>
              <a:prstGeom prst="ellipse">
                <a:avLst/>
              </a:prstGeom>
              <a:solidFill>
                <a:srgbClr val="378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40" name="组合 242"/>
          <p:cNvGrpSpPr/>
          <p:nvPr/>
        </p:nvGrpSpPr>
        <p:grpSpPr>
          <a:xfrm>
            <a:off x="1819440" y="2468520"/>
            <a:ext cx="5171760" cy="424080"/>
            <a:chOff x="1819440" y="2468520"/>
            <a:chExt cx="5171760" cy="424080"/>
          </a:xfrm>
        </p:grpSpPr>
        <p:grpSp>
          <p:nvGrpSpPr>
            <p:cNvPr id="541" name="组合 243"/>
            <p:cNvGrpSpPr/>
            <p:nvPr/>
          </p:nvGrpSpPr>
          <p:grpSpPr>
            <a:xfrm>
              <a:off x="1819440" y="2468520"/>
              <a:ext cx="167040" cy="424080"/>
              <a:chOff x="1819440" y="2468520"/>
              <a:chExt cx="167040" cy="424080"/>
            </a:xfrm>
          </p:grpSpPr>
          <p:sp>
            <p:nvSpPr>
              <p:cNvPr id="542" name="Freeform 115"/>
              <p:cNvSpPr/>
              <p:nvPr/>
            </p:nvSpPr>
            <p:spPr>
              <a:xfrm>
                <a:off x="1819440" y="2540880"/>
                <a:ext cx="167040" cy="351720"/>
              </a:xfrm>
              <a:prstGeom prst="pie">
                <a:avLst/>
              </a:prstGeom>
              <a:solidFill>
                <a:srgbClr val="378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Oval 116"/>
              <p:cNvSpPr/>
              <p:nvPr/>
            </p:nvSpPr>
            <p:spPr>
              <a:xfrm>
                <a:off x="1869480" y="2468520"/>
                <a:ext cx="66960" cy="66960"/>
              </a:xfrm>
              <a:prstGeom prst="ellipse">
                <a:avLst/>
              </a:prstGeom>
              <a:solidFill>
                <a:srgbClr val="378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4" name="组合 244"/>
            <p:cNvGrpSpPr/>
            <p:nvPr/>
          </p:nvGrpSpPr>
          <p:grpSpPr>
            <a:xfrm>
              <a:off x="2036880" y="2468520"/>
              <a:ext cx="167040" cy="424080"/>
              <a:chOff x="2036880" y="2468520"/>
              <a:chExt cx="167040" cy="424080"/>
            </a:xfrm>
          </p:grpSpPr>
          <p:sp>
            <p:nvSpPr>
              <p:cNvPr id="545" name="Freeform 115"/>
              <p:cNvSpPr/>
              <p:nvPr/>
            </p:nvSpPr>
            <p:spPr>
              <a:xfrm>
                <a:off x="2036880" y="2540880"/>
                <a:ext cx="167040" cy="351720"/>
              </a:xfrm>
              <a:prstGeom prst="pie">
                <a:avLst/>
              </a:prstGeom>
              <a:solidFill>
                <a:srgbClr val="378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Oval 116"/>
              <p:cNvSpPr/>
              <p:nvPr/>
            </p:nvSpPr>
            <p:spPr>
              <a:xfrm>
                <a:off x="2086920" y="2468520"/>
                <a:ext cx="66960" cy="66960"/>
              </a:xfrm>
              <a:prstGeom prst="ellipse">
                <a:avLst/>
              </a:prstGeom>
              <a:solidFill>
                <a:srgbClr val="378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7" name="组合 245"/>
            <p:cNvGrpSpPr/>
            <p:nvPr/>
          </p:nvGrpSpPr>
          <p:grpSpPr>
            <a:xfrm>
              <a:off x="2254320" y="2468520"/>
              <a:ext cx="167040" cy="424080"/>
              <a:chOff x="2254320" y="2468520"/>
              <a:chExt cx="167040" cy="424080"/>
            </a:xfrm>
          </p:grpSpPr>
          <p:sp>
            <p:nvSpPr>
              <p:cNvPr id="548" name="Freeform 115"/>
              <p:cNvSpPr/>
              <p:nvPr/>
            </p:nvSpPr>
            <p:spPr>
              <a:xfrm>
                <a:off x="2254320" y="2540880"/>
                <a:ext cx="167040" cy="351720"/>
              </a:xfrm>
              <a:prstGeom prst="pie">
                <a:avLst/>
              </a:prstGeom>
              <a:solidFill>
                <a:srgbClr val="378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Oval 116"/>
              <p:cNvSpPr/>
              <p:nvPr/>
            </p:nvSpPr>
            <p:spPr>
              <a:xfrm>
                <a:off x="2304360" y="2468520"/>
                <a:ext cx="66960" cy="66960"/>
              </a:xfrm>
              <a:prstGeom prst="ellipse">
                <a:avLst/>
              </a:prstGeom>
              <a:solidFill>
                <a:srgbClr val="378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0" name="组合 246"/>
            <p:cNvGrpSpPr/>
            <p:nvPr/>
          </p:nvGrpSpPr>
          <p:grpSpPr>
            <a:xfrm>
              <a:off x="2472120" y="2468520"/>
              <a:ext cx="167040" cy="424080"/>
              <a:chOff x="2472120" y="2468520"/>
              <a:chExt cx="167040" cy="424080"/>
            </a:xfrm>
          </p:grpSpPr>
          <p:sp>
            <p:nvSpPr>
              <p:cNvPr id="551" name="Freeform 115"/>
              <p:cNvSpPr/>
              <p:nvPr/>
            </p:nvSpPr>
            <p:spPr>
              <a:xfrm>
                <a:off x="2472120" y="2540880"/>
                <a:ext cx="167040" cy="351720"/>
              </a:xfrm>
              <a:prstGeom prst="pie">
                <a:avLst/>
              </a:prstGeom>
              <a:solidFill>
                <a:srgbClr val="378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Oval 116"/>
              <p:cNvSpPr/>
              <p:nvPr/>
            </p:nvSpPr>
            <p:spPr>
              <a:xfrm>
                <a:off x="2522160" y="2468520"/>
                <a:ext cx="66960" cy="66960"/>
              </a:xfrm>
              <a:prstGeom prst="ellipse">
                <a:avLst/>
              </a:prstGeom>
              <a:solidFill>
                <a:srgbClr val="378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3" name="组合 247"/>
            <p:cNvGrpSpPr/>
            <p:nvPr/>
          </p:nvGrpSpPr>
          <p:grpSpPr>
            <a:xfrm>
              <a:off x="2689560" y="2468520"/>
              <a:ext cx="167040" cy="424080"/>
              <a:chOff x="2689560" y="2468520"/>
              <a:chExt cx="167040" cy="424080"/>
            </a:xfrm>
          </p:grpSpPr>
          <p:sp>
            <p:nvSpPr>
              <p:cNvPr id="554" name="Freeform 115"/>
              <p:cNvSpPr/>
              <p:nvPr/>
            </p:nvSpPr>
            <p:spPr>
              <a:xfrm>
                <a:off x="2689560" y="2540880"/>
                <a:ext cx="167040" cy="351720"/>
              </a:xfrm>
              <a:prstGeom prst="pie">
                <a:avLst/>
              </a:prstGeom>
              <a:solidFill>
                <a:srgbClr val="378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Oval 116"/>
              <p:cNvSpPr/>
              <p:nvPr/>
            </p:nvSpPr>
            <p:spPr>
              <a:xfrm>
                <a:off x="2739600" y="2468520"/>
                <a:ext cx="66960" cy="66960"/>
              </a:xfrm>
              <a:prstGeom prst="ellipse">
                <a:avLst/>
              </a:prstGeom>
              <a:solidFill>
                <a:srgbClr val="378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6" name="组合 248"/>
            <p:cNvGrpSpPr/>
            <p:nvPr/>
          </p:nvGrpSpPr>
          <p:grpSpPr>
            <a:xfrm>
              <a:off x="2907360" y="2468520"/>
              <a:ext cx="167040" cy="424080"/>
              <a:chOff x="2907360" y="2468520"/>
              <a:chExt cx="167040" cy="424080"/>
            </a:xfrm>
          </p:grpSpPr>
          <p:sp>
            <p:nvSpPr>
              <p:cNvPr id="557" name="Freeform 115"/>
              <p:cNvSpPr/>
              <p:nvPr/>
            </p:nvSpPr>
            <p:spPr>
              <a:xfrm>
                <a:off x="2907360" y="2540880"/>
                <a:ext cx="167040" cy="351720"/>
              </a:xfrm>
              <a:prstGeom prst="pie">
                <a:avLst/>
              </a:prstGeom>
              <a:solidFill>
                <a:srgbClr val="378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" name="Oval 116"/>
              <p:cNvSpPr/>
              <p:nvPr/>
            </p:nvSpPr>
            <p:spPr>
              <a:xfrm>
                <a:off x="2957400" y="2468520"/>
                <a:ext cx="66960" cy="66960"/>
              </a:xfrm>
              <a:prstGeom prst="ellipse">
                <a:avLst/>
              </a:prstGeom>
              <a:solidFill>
                <a:srgbClr val="378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9" name="组合 249"/>
            <p:cNvGrpSpPr/>
            <p:nvPr/>
          </p:nvGrpSpPr>
          <p:grpSpPr>
            <a:xfrm>
              <a:off x="3124800" y="2468520"/>
              <a:ext cx="167040" cy="424080"/>
              <a:chOff x="3124800" y="2468520"/>
              <a:chExt cx="167040" cy="424080"/>
            </a:xfrm>
          </p:grpSpPr>
          <p:sp>
            <p:nvSpPr>
              <p:cNvPr id="560" name="Freeform 115"/>
              <p:cNvSpPr/>
              <p:nvPr/>
            </p:nvSpPr>
            <p:spPr>
              <a:xfrm>
                <a:off x="3124800" y="2540880"/>
                <a:ext cx="167040" cy="351720"/>
              </a:xfrm>
              <a:prstGeom prst="pie">
                <a:avLst/>
              </a:prstGeom>
              <a:solidFill>
                <a:srgbClr val="378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Oval 116"/>
              <p:cNvSpPr/>
              <p:nvPr/>
            </p:nvSpPr>
            <p:spPr>
              <a:xfrm>
                <a:off x="3174840" y="2468520"/>
                <a:ext cx="66960" cy="66960"/>
              </a:xfrm>
              <a:prstGeom prst="ellipse">
                <a:avLst/>
              </a:prstGeom>
              <a:solidFill>
                <a:srgbClr val="378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2" name="组合 250"/>
            <p:cNvGrpSpPr/>
            <p:nvPr/>
          </p:nvGrpSpPr>
          <p:grpSpPr>
            <a:xfrm>
              <a:off x="3342600" y="2468520"/>
              <a:ext cx="167040" cy="424080"/>
              <a:chOff x="3342600" y="2468520"/>
              <a:chExt cx="167040" cy="424080"/>
            </a:xfrm>
          </p:grpSpPr>
          <p:sp>
            <p:nvSpPr>
              <p:cNvPr id="563" name="Freeform 115"/>
              <p:cNvSpPr/>
              <p:nvPr/>
            </p:nvSpPr>
            <p:spPr>
              <a:xfrm>
                <a:off x="3342600" y="2540880"/>
                <a:ext cx="167040" cy="351720"/>
              </a:xfrm>
              <a:prstGeom prst="pie">
                <a:avLst/>
              </a:prstGeom>
              <a:solidFill>
                <a:srgbClr val="378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Oval 116"/>
              <p:cNvSpPr/>
              <p:nvPr/>
            </p:nvSpPr>
            <p:spPr>
              <a:xfrm>
                <a:off x="3392640" y="2468520"/>
                <a:ext cx="66960" cy="66960"/>
              </a:xfrm>
              <a:prstGeom prst="ellipse">
                <a:avLst/>
              </a:prstGeom>
              <a:solidFill>
                <a:srgbClr val="378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5" name="组合 251"/>
            <p:cNvGrpSpPr/>
            <p:nvPr/>
          </p:nvGrpSpPr>
          <p:grpSpPr>
            <a:xfrm>
              <a:off x="3560040" y="2468520"/>
              <a:ext cx="167040" cy="424080"/>
              <a:chOff x="3560040" y="2468520"/>
              <a:chExt cx="167040" cy="424080"/>
            </a:xfrm>
          </p:grpSpPr>
          <p:sp>
            <p:nvSpPr>
              <p:cNvPr id="566" name="Freeform 115"/>
              <p:cNvSpPr/>
              <p:nvPr/>
            </p:nvSpPr>
            <p:spPr>
              <a:xfrm>
                <a:off x="3560040" y="2540880"/>
                <a:ext cx="167040" cy="351720"/>
              </a:xfrm>
              <a:prstGeom prst="pie">
                <a:avLst/>
              </a:prstGeom>
              <a:solidFill>
                <a:srgbClr val="378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Oval 116"/>
              <p:cNvSpPr/>
              <p:nvPr/>
            </p:nvSpPr>
            <p:spPr>
              <a:xfrm>
                <a:off x="3610080" y="2468520"/>
                <a:ext cx="66960" cy="66960"/>
              </a:xfrm>
              <a:prstGeom prst="ellipse">
                <a:avLst/>
              </a:prstGeom>
              <a:solidFill>
                <a:srgbClr val="378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8" name="组合 252"/>
            <p:cNvGrpSpPr/>
            <p:nvPr/>
          </p:nvGrpSpPr>
          <p:grpSpPr>
            <a:xfrm>
              <a:off x="3777840" y="2468520"/>
              <a:ext cx="167040" cy="424080"/>
              <a:chOff x="3777840" y="2468520"/>
              <a:chExt cx="167040" cy="424080"/>
            </a:xfrm>
          </p:grpSpPr>
          <p:sp>
            <p:nvSpPr>
              <p:cNvPr id="569" name="Freeform 115"/>
              <p:cNvSpPr/>
              <p:nvPr/>
            </p:nvSpPr>
            <p:spPr>
              <a:xfrm>
                <a:off x="3777840" y="2540880"/>
                <a:ext cx="167040" cy="351720"/>
              </a:xfrm>
              <a:prstGeom prst="pie">
                <a:avLst/>
              </a:prstGeom>
              <a:solidFill>
                <a:srgbClr val="378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Oval 116"/>
              <p:cNvSpPr/>
              <p:nvPr/>
            </p:nvSpPr>
            <p:spPr>
              <a:xfrm>
                <a:off x="3827880" y="2468520"/>
                <a:ext cx="66960" cy="66960"/>
              </a:xfrm>
              <a:prstGeom prst="ellipse">
                <a:avLst/>
              </a:prstGeom>
              <a:solidFill>
                <a:srgbClr val="378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1" name="组合 253"/>
            <p:cNvGrpSpPr/>
            <p:nvPr/>
          </p:nvGrpSpPr>
          <p:grpSpPr>
            <a:xfrm>
              <a:off x="3995280" y="2468520"/>
              <a:ext cx="167040" cy="424080"/>
              <a:chOff x="3995280" y="2468520"/>
              <a:chExt cx="167040" cy="424080"/>
            </a:xfrm>
          </p:grpSpPr>
          <p:sp>
            <p:nvSpPr>
              <p:cNvPr id="572" name="Freeform 115"/>
              <p:cNvSpPr/>
              <p:nvPr/>
            </p:nvSpPr>
            <p:spPr>
              <a:xfrm>
                <a:off x="3995280" y="2540880"/>
                <a:ext cx="167040" cy="351720"/>
              </a:xfrm>
              <a:prstGeom prst="pie">
                <a:avLst/>
              </a:prstGeom>
              <a:solidFill>
                <a:srgbClr val="378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Oval 116"/>
              <p:cNvSpPr/>
              <p:nvPr/>
            </p:nvSpPr>
            <p:spPr>
              <a:xfrm>
                <a:off x="4045320" y="2468520"/>
                <a:ext cx="66960" cy="66960"/>
              </a:xfrm>
              <a:prstGeom prst="ellipse">
                <a:avLst/>
              </a:prstGeom>
              <a:solidFill>
                <a:srgbClr val="378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4" name="组合 254"/>
            <p:cNvGrpSpPr/>
            <p:nvPr/>
          </p:nvGrpSpPr>
          <p:grpSpPr>
            <a:xfrm>
              <a:off x="4213080" y="2468520"/>
              <a:ext cx="167040" cy="424080"/>
              <a:chOff x="4213080" y="2468520"/>
              <a:chExt cx="167040" cy="424080"/>
            </a:xfrm>
          </p:grpSpPr>
          <p:sp>
            <p:nvSpPr>
              <p:cNvPr id="575" name="Freeform 115"/>
              <p:cNvSpPr/>
              <p:nvPr/>
            </p:nvSpPr>
            <p:spPr>
              <a:xfrm>
                <a:off x="4213080" y="2540880"/>
                <a:ext cx="167040" cy="351720"/>
              </a:xfrm>
              <a:prstGeom prst="pie">
                <a:avLst/>
              </a:prstGeom>
              <a:solidFill>
                <a:srgbClr val="378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Oval 116"/>
              <p:cNvSpPr/>
              <p:nvPr/>
            </p:nvSpPr>
            <p:spPr>
              <a:xfrm>
                <a:off x="4263120" y="2468520"/>
                <a:ext cx="66960" cy="66960"/>
              </a:xfrm>
              <a:prstGeom prst="ellipse">
                <a:avLst/>
              </a:prstGeom>
              <a:solidFill>
                <a:srgbClr val="378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7" name="组合 255"/>
            <p:cNvGrpSpPr/>
            <p:nvPr/>
          </p:nvGrpSpPr>
          <p:grpSpPr>
            <a:xfrm>
              <a:off x="4430520" y="2468520"/>
              <a:ext cx="167040" cy="424080"/>
              <a:chOff x="4430520" y="2468520"/>
              <a:chExt cx="167040" cy="424080"/>
            </a:xfrm>
          </p:grpSpPr>
          <p:sp>
            <p:nvSpPr>
              <p:cNvPr id="578" name="Freeform 115"/>
              <p:cNvSpPr/>
              <p:nvPr/>
            </p:nvSpPr>
            <p:spPr>
              <a:xfrm>
                <a:off x="4430520" y="2540880"/>
                <a:ext cx="167040" cy="351720"/>
              </a:xfrm>
              <a:prstGeom prst="pie">
                <a:avLst/>
              </a:prstGeom>
              <a:solidFill>
                <a:srgbClr val="378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Oval 116"/>
              <p:cNvSpPr/>
              <p:nvPr/>
            </p:nvSpPr>
            <p:spPr>
              <a:xfrm>
                <a:off x="4480560" y="2468520"/>
                <a:ext cx="66960" cy="66960"/>
              </a:xfrm>
              <a:prstGeom prst="ellipse">
                <a:avLst/>
              </a:prstGeom>
              <a:solidFill>
                <a:srgbClr val="378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0" name="组合 256"/>
            <p:cNvGrpSpPr/>
            <p:nvPr/>
          </p:nvGrpSpPr>
          <p:grpSpPr>
            <a:xfrm>
              <a:off x="4647960" y="2468520"/>
              <a:ext cx="167040" cy="424080"/>
              <a:chOff x="4647960" y="2468520"/>
              <a:chExt cx="167040" cy="424080"/>
            </a:xfrm>
          </p:grpSpPr>
          <p:sp>
            <p:nvSpPr>
              <p:cNvPr id="581" name="Freeform 115"/>
              <p:cNvSpPr/>
              <p:nvPr/>
            </p:nvSpPr>
            <p:spPr>
              <a:xfrm>
                <a:off x="4647960" y="2540880"/>
                <a:ext cx="167040" cy="351720"/>
              </a:xfrm>
              <a:prstGeom prst="pie">
                <a:avLst/>
              </a:prstGeom>
              <a:solidFill>
                <a:srgbClr val="378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Oval 116"/>
              <p:cNvSpPr/>
              <p:nvPr/>
            </p:nvSpPr>
            <p:spPr>
              <a:xfrm>
                <a:off x="4698000" y="2468520"/>
                <a:ext cx="66960" cy="66960"/>
              </a:xfrm>
              <a:prstGeom prst="ellipse">
                <a:avLst/>
              </a:prstGeom>
              <a:solidFill>
                <a:srgbClr val="378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3" name="组合 257"/>
            <p:cNvGrpSpPr/>
            <p:nvPr/>
          </p:nvGrpSpPr>
          <p:grpSpPr>
            <a:xfrm>
              <a:off x="4865760" y="2468520"/>
              <a:ext cx="167040" cy="424080"/>
              <a:chOff x="4865760" y="2468520"/>
              <a:chExt cx="167040" cy="424080"/>
            </a:xfrm>
          </p:grpSpPr>
          <p:sp>
            <p:nvSpPr>
              <p:cNvPr id="584" name="Freeform 115"/>
              <p:cNvSpPr/>
              <p:nvPr/>
            </p:nvSpPr>
            <p:spPr>
              <a:xfrm>
                <a:off x="4865760" y="2540880"/>
                <a:ext cx="167040" cy="351720"/>
              </a:xfrm>
              <a:prstGeom prst="pie">
                <a:avLst/>
              </a:prstGeom>
              <a:solidFill>
                <a:srgbClr val="378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Oval 116"/>
              <p:cNvSpPr/>
              <p:nvPr/>
            </p:nvSpPr>
            <p:spPr>
              <a:xfrm>
                <a:off x="4915800" y="2468520"/>
                <a:ext cx="66960" cy="66960"/>
              </a:xfrm>
              <a:prstGeom prst="ellipse">
                <a:avLst/>
              </a:prstGeom>
              <a:solidFill>
                <a:srgbClr val="378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6" name="组合 258"/>
            <p:cNvGrpSpPr/>
            <p:nvPr/>
          </p:nvGrpSpPr>
          <p:grpSpPr>
            <a:xfrm>
              <a:off x="5083200" y="2468520"/>
              <a:ext cx="167040" cy="424080"/>
              <a:chOff x="5083200" y="2468520"/>
              <a:chExt cx="167040" cy="424080"/>
            </a:xfrm>
          </p:grpSpPr>
          <p:sp>
            <p:nvSpPr>
              <p:cNvPr id="587" name="Freeform 115"/>
              <p:cNvSpPr/>
              <p:nvPr/>
            </p:nvSpPr>
            <p:spPr>
              <a:xfrm>
                <a:off x="5083200" y="2540880"/>
                <a:ext cx="167040" cy="351720"/>
              </a:xfrm>
              <a:prstGeom prst="pie">
                <a:avLst/>
              </a:prstGeom>
              <a:solidFill>
                <a:srgbClr val="378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Oval 116"/>
              <p:cNvSpPr/>
              <p:nvPr/>
            </p:nvSpPr>
            <p:spPr>
              <a:xfrm>
                <a:off x="5133240" y="2468520"/>
                <a:ext cx="66960" cy="66960"/>
              </a:xfrm>
              <a:prstGeom prst="ellipse">
                <a:avLst/>
              </a:prstGeom>
              <a:solidFill>
                <a:srgbClr val="378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9" name="组合 259"/>
            <p:cNvGrpSpPr/>
            <p:nvPr/>
          </p:nvGrpSpPr>
          <p:grpSpPr>
            <a:xfrm>
              <a:off x="5301000" y="2468520"/>
              <a:ext cx="167040" cy="424080"/>
              <a:chOff x="5301000" y="2468520"/>
              <a:chExt cx="167040" cy="424080"/>
            </a:xfrm>
          </p:grpSpPr>
          <p:sp>
            <p:nvSpPr>
              <p:cNvPr id="590" name="Freeform 115"/>
              <p:cNvSpPr/>
              <p:nvPr/>
            </p:nvSpPr>
            <p:spPr>
              <a:xfrm>
                <a:off x="5301000" y="2540880"/>
                <a:ext cx="167040" cy="351720"/>
              </a:xfrm>
              <a:prstGeom prst="pie">
                <a:avLst/>
              </a:prstGeom>
              <a:solidFill>
                <a:srgbClr val="378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Oval 116"/>
              <p:cNvSpPr/>
              <p:nvPr/>
            </p:nvSpPr>
            <p:spPr>
              <a:xfrm>
                <a:off x="5351040" y="2468520"/>
                <a:ext cx="66960" cy="66960"/>
              </a:xfrm>
              <a:prstGeom prst="ellipse">
                <a:avLst/>
              </a:prstGeom>
              <a:solidFill>
                <a:srgbClr val="378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2" name="组合 260"/>
            <p:cNvGrpSpPr/>
            <p:nvPr/>
          </p:nvGrpSpPr>
          <p:grpSpPr>
            <a:xfrm>
              <a:off x="5518440" y="2468520"/>
              <a:ext cx="167040" cy="424080"/>
              <a:chOff x="5518440" y="2468520"/>
              <a:chExt cx="167040" cy="424080"/>
            </a:xfrm>
          </p:grpSpPr>
          <p:sp>
            <p:nvSpPr>
              <p:cNvPr id="593" name="Freeform 115"/>
              <p:cNvSpPr/>
              <p:nvPr/>
            </p:nvSpPr>
            <p:spPr>
              <a:xfrm>
                <a:off x="5518440" y="2540880"/>
                <a:ext cx="167040" cy="351720"/>
              </a:xfrm>
              <a:prstGeom prst="pie">
                <a:avLst/>
              </a:prstGeom>
              <a:solidFill>
                <a:srgbClr val="378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Oval 116"/>
              <p:cNvSpPr/>
              <p:nvPr/>
            </p:nvSpPr>
            <p:spPr>
              <a:xfrm>
                <a:off x="5568480" y="2468520"/>
                <a:ext cx="66960" cy="66960"/>
              </a:xfrm>
              <a:prstGeom prst="ellipse">
                <a:avLst/>
              </a:prstGeom>
              <a:solidFill>
                <a:srgbClr val="378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5" name="组合 261"/>
            <p:cNvGrpSpPr/>
            <p:nvPr/>
          </p:nvGrpSpPr>
          <p:grpSpPr>
            <a:xfrm>
              <a:off x="5736240" y="2468520"/>
              <a:ext cx="167040" cy="424080"/>
              <a:chOff x="5736240" y="2468520"/>
              <a:chExt cx="167040" cy="424080"/>
            </a:xfrm>
          </p:grpSpPr>
          <p:sp>
            <p:nvSpPr>
              <p:cNvPr id="596" name="Freeform 115"/>
              <p:cNvSpPr/>
              <p:nvPr/>
            </p:nvSpPr>
            <p:spPr>
              <a:xfrm>
                <a:off x="5736240" y="2540880"/>
                <a:ext cx="167040" cy="351720"/>
              </a:xfrm>
              <a:prstGeom prst="pie">
                <a:avLst/>
              </a:prstGeom>
              <a:solidFill>
                <a:srgbClr val="378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" name="Oval 116"/>
              <p:cNvSpPr/>
              <p:nvPr/>
            </p:nvSpPr>
            <p:spPr>
              <a:xfrm>
                <a:off x="5786280" y="2468520"/>
                <a:ext cx="66960" cy="66960"/>
              </a:xfrm>
              <a:prstGeom prst="ellipse">
                <a:avLst/>
              </a:prstGeom>
              <a:solidFill>
                <a:srgbClr val="378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8" name="组合 262"/>
            <p:cNvGrpSpPr/>
            <p:nvPr/>
          </p:nvGrpSpPr>
          <p:grpSpPr>
            <a:xfrm>
              <a:off x="5953680" y="2468520"/>
              <a:ext cx="167040" cy="424080"/>
              <a:chOff x="5953680" y="2468520"/>
              <a:chExt cx="167040" cy="424080"/>
            </a:xfrm>
          </p:grpSpPr>
          <p:sp>
            <p:nvSpPr>
              <p:cNvPr id="599" name="Freeform 115"/>
              <p:cNvSpPr/>
              <p:nvPr/>
            </p:nvSpPr>
            <p:spPr>
              <a:xfrm>
                <a:off x="5953680" y="2540880"/>
                <a:ext cx="167040" cy="351720"/>
              </a:xfrm>
              <a:prstGeom prst="pie">
                <a:avLst/>
              </a:prstGeom>
              <a:solidFill>
                <a:srgbClr val="378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Oval 116"/>
              <p:cNvSpPr/>
              <p:nvPr/>
            </p:nvSpPr>
            <p:spPr>
              <a:xfrm>
                <a:off x="6003720" y="2468520"/>
                <a:ext cx="66960" cy="66960"/>
              </a:xfrm>
              <a:prstGeom prst="ellipse">
                <a:avLst/>
              </a:prstGeom>
              <a:solidFill>
                <a:srgbClr val="378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1" name="组合 263"/>
            <p:cNvGrpSpPr/>
            <p:nvPr/>
          </p:nvGrpSpPr>
          <p:grpSpPr>
            <a:xfrm>
              <a:off x="6171480" y="2468520"/>
              <a:ext cx="167040" cy="424080"/>
              <a:chOff x="6171480" y="2468520"/>
              <a:chExt cx="167040" cy="424080"/>
            </a:xfrm>
          </p:grpSpPr>
          <p:sp>
            <p:nvSpPr>
              <p:cNvPr id="602" name="Freeform 115"/>
              <p:cNvSpPr/>
              <p:nvPr/>
            </p:nvSpPr>
            <p:spPr>
              <a:xfrm>
                <a:off x="6171480" y="2540880"/>
                <a:ext cx="167040" cy="351720"/>
              </a:xfrm>
              <a:prstGeom prst="pie">
                <a:avLst/>
              </a:prstGeom>
              <a:solidFill>
                <a:srgbClr val="378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Oval 116"/>
              <p:cNvSpPr/>
              <p:nvPr/>
            </p:nvSpPr>
            <p:spPr>
              <a:xfrm>
                <a:off x="6221520" y="2468520"/>
                <a:ext cx="66960" cy="66960"/>
              </a:xfrm>
              <a:prstGeom prst="ellipse">
                <a:avLst/>
              </a:prstGeom>
              <a:solidFill>
                <a:srgbClr val="378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4" name="组合 264"/>
            <p:cNvGrpSpPr/>
            <p:nvPr/>
          </p:nvGrpSpPr>
          <p:grpSpPr>
            <a:xfrm>
              <a:off x="6388920" y="2468520"/>
              <a:ext cx="167040" cy="424080"/>
              <a:chOff x="6388920" y="2468520"/>
              <a:chExt cx="167040" cy="424080"/>
            </a:xfrm>
          </p:grpSpPr>
          <p:sp>
            <p:nvSpPr>
              <p:cNvPr id="605" name="Freeform 115"/>
              <p:cNvSpPr/>
              <p:nvPr/>
            </p:nvSpPr>
            <p:spPr>
              <a:xfrm>
                <a:off x="6388920" y="2540880"/>
                <a:ext cx="167040" cy="351720"/>
              </a:xfrm>
              <a:prstGeom prst="pie">
                <a:avLst/>
              </a:prstGeom>
              <a:solidFill>
                <a:srgbClr val="378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Oval 116"/>
              <p:cNvSpPr/>
              <p:nvPr/>
            </p:nvSpPr>
            <p:spPr>
              <a:xfrm>
                <a:off x="6438960" y="2468520"/>
                <a:ext cx="66960" cy="66960"/>
              </a:xfrm>
              <a:prstGeom prst="ellipse">
                <a:avLst/>
              </a:prstGeom>
              <a:solidFill>
                <a:srgbClr val="378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7" name="组合 265"/>
            <p:cNvGrpSpPr/>
            <p:nvPr/>
          </p:nvGrpSpPr>
          <p:grpSpPr>
            <a:xfrm>
              <a:off x="6606720" y="2468520"/>
              <a:ext cx="167040" cy="424080"/>
              <a:chOff x="6606720" y="2468520"/>
              <a:chExt cx="167040" cy="424080"/>
            </a:xfrm>
          </p:grpSpPr>
          <p:sp>
            <p:nvSpPr>
              <p:cNvPr id="608" name="Freeform 115"/>
              <p:cNvSpPr/>
              <p:nvPr/>
            </p:nvSpPr>
            <p:spPr>
              <a:xfrm>
                <a:off x="6606720" y="2540880"/>
                <a:ext cx="167040" cy="351720"/>
              </a:xfrm>
              <a:prstGeom prst="pie">
                <a:avLst/>
              </a:prstGeom>
              <a:solidFill>
                <a:srgbClr val="378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Oval 116"/>
              <p:cNvSpPr/>
              <p:nvPr/>
            </p:nvSpPr>
            <p:spPr>
              <a:xfrm>
                <a:off x="6656760" y="2468520"/>
                <a:ext cx="66960" cy="66960"/>
              </a:xfrm>
              <a:prstGeom prst="ellipse">
                <a:avLst/>
              </a:prstGeom>
              <a:solidFill>
                <a:srgbClr val="378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0" name="组合 266"/>
            <p:cNvGrpSpPr/>
            <p:nvPr/>
          </p:nvGrpSpPr>
          <p:grpSpPr>
            <a:xfrm>
              <a:off x="6824160" y="2468520"/>
              <a:ext cx="167040" cy="424080"/>
              <a:chOff x="6824160" y="2468520"/>
              <a:chExt cx="167040" cy="424080"/>
            </a:xfrm>
          </p:grpSpPr>
          <p:sp>
            <p:nvSpPr>
              <p:cNvPr id="611" name="Freeform 115"/>
              <p:cNvSpPr/>
              <p:nvPr/>
            </p:nvSpPr>
            <p:spPr>
              <a:xfrm>
                <a:off x="6824160" y="2540880"/>
                <a:ext cx="167040" cy="351720"/>
              </a:xfrm>
              <a:prstGeom prst="pie">
                <a:avLst/>
              </a:prstGeom>
              <a:solidFill>
                <a:srgbClr val="378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Oval 116"/>
              <p:cNvSpPr/>
              <p:nvPr/>
            </p:nvSpPr>
            <p:spPr>
              <a:xfrm>
                <a:off x="6874200" y="2468520"/>
                <a:ext cx="66960" cy="66960"/>
              </a:xfrm>
              <a:prstGeom prst="ellipse">
                <a:avLst/>
              </a:prstGeom>
              <a:solidFill>
                <a:srgbClr val="378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3" name="组合 315"/>
          <p:cNvGrpSpPr/>
          <p:nvPr/>
        </p:nvGrpSpPr>
        <p:grpSpPr>
          <a:xfrm>
            <a:off x="1819440" y="3009960"/>
            <a:ext cx="5171760" cy="423720"/>
            <a:chOff x="1819440" y="3009960"/>
            <a:chExt cx="5171760" cy="423720"/>
          </a:xfrm>
        </p:grpSpPr>
        <p:grpSp>
          <p:nvGrpSpPr>
            <p:cNvPr id="614" name="组合 316"/>
            <p:cNvGrpSpPr/>
            <p:nvPr/>
          </p:nvGrpSpPr>
          <p:grpSpPr>
            <a:xfrm>
              <a:off x="1819440" y="3009960"/>
              <a:ext cx="167040" cy="423720"/>
              <a:chOff x="1819440" y="3009960"/>
              <a:chExt cx="167040" cy="423720"/>
            </a:xfrm>
          </p:grpSpPr>
          <p:sp>
            <p:nvSpPr>
              <p:cNvPr id="615" name="Freeform 115"/>
              <p:cNvSpPr/>
              <p:nvPr/>
            </p:nvSpPr>
            <p:spPr>
              <a:xfrm>
                <a:off x="1819440" y="3082320"/>
                <a:ext cx="167040" cy="351360"/>
              </a:xfrm>
              <a:prstGeom prst="pie">
                <a:avLst/>
              </a:prstGeom>
              <a:solidFill>
                <a:srgbClr val="2cb4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Oval 116"/>
              <p:cNvSpPr/>
              <p:nvPr/>
            </p:nvSpPr>
            <p:spPr>
              <a:xfrm>
                <a:off x="1869480" y="3009960"/>
                <a:ext cx="66960" cy="66600"/>
              </a:xfrm>
              <a:prstGeom prst="ellipse">
                <a:avLst/>
              </a:prstGeom>
              <a:solidFill>
                <a:srgbClr val="2cb4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7" name="组合 317"/>
            <p:cNvGrpSpPr/>
            <p:nvPr/>
          </p:nvGrpSpPr>
          <p:grpSpPr>
            <a:xfrm>
              <a:off x="2036880" y="3009960"/>
              <a:ext cx="167040" cy="423720"/>
              <a:chOff x="2036880" y="3009960"/>
              <a:chExt cx="167040" cy="423720"/>
            </a:xfrm>
          </p:grpSpPr>
          <p:sp>
            <p:nvSpPr>
              <p:cNvPr id="618" name="Freeform 115"/>
              <p:cNvSpPr/>
              <p:nvPr/>
            </p:nvSpPr>
            <p:spPr>
              <a:xfrm>
                <a:off x="2036880" y="3082320"/>
                <a:ext cx="167040" cy="351360"/>
              </a:xfrm>
              <a:prstGeom prst="pie">
                <a:avLst/>
              </a:prstGeom>
              <a:solidFill>
                <a:srgbClr val="2cb4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" name="Oval 116"/>
              <p:cNvSpPr/>
              <p:nvPr/>
            </p:nvSpPr>
            <p:spPr>
              <a:xfrm>
                <a:off x="2086920" y="3009960"/>
                <a:ext cx="66960" cy="66600"/>
              </a:xfrm>
              <a:prstGeom prst="ellipse">
                <a:avLst/>
              </a:prstGeom>
              <a:solidFill>
                <a:srgbClr val="2cb4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0" name="组合 318"/>
            <p:cNvGrpSpPr/>
            <p:nvPr/>
          </p:nvGrpSpPr>
          <p:grpSpPr>
            <a:xfrm>
              <a:off x="2254320" y="3009960"/>
              <a:ext cx="167040" cy="423720"/>
              <a:chOff x="2254320" y="3009960"/>
              <a:chExt cx="167040" cy="423720"/>
            </a:xfrm>
          </p:grpSpPr>
          <p:sp>
            <p:nvSpPr>
              <p:cNvPr id="621" name="Freeform 115"/>
              <p:cNvSpPr/>
              <p:nvPr/>
            </p:nvSpPr>
            <p:spPr>
              <a:xfrm>
                <a:off x="2254320" y="3082320"/>
                <a:ext cx="167040" cy="351360"/>
              </a:xfrm>
              <a:prstGeom prst="pie">
                <a:avLst/>
              </a:prstGeom>
              <a:solidFill>
                <a:srgbClr val="2cb4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" name="Oval 116"/>
              <p:cNvSpPr/>
              <p:nvPr/>
            </p:nvSpPr>
            <p:spPr>
              <a:xfrm>
                <a:off x="2304360" y="3009960"/>
                <a:ext cx="66960" cy="66600"/>
              </a:xfrm>
              <a:prstGeom prst="ellipse">
                <a:avLst/>
              </a:prstGeom>
              <a:solidFill>
                <a:srgbClr val="2cb4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3" name="组合 319"/>
            <p:cNvGrpSpPr/>
            <p:nvPr/>
          </p:nvGrpSpPr>
          <p:grpSpPr>
            <a:xfrm>
              <a:off x="2472120" y="3009960"/>
              <a:ext cx="167040" cy="423720"/>
              <a:chOff x="2472120" y="3009960"/>
              <a:chExt cx="167040" cy="423720"/>
            </a:xfrm>
          </p:grpSpPr>
          <p:sp>
            <p:nvSpPr>
              <p:cNvPr id="624" name="Freeform 115"/>
              <p:cNvSpPr/>
              <p:nvPr/>
            </p:nvSpPr>
            <p:spPr>
              <a:xfrm>
                <a:off x="2472120" y="3082320"/>
                <a:ext cx="167040" cy="351360"/>
              </a:xfrm>
              <a:prstGeom prst="pie">
                <a:avLst/>
              </a:prstGeom>
              <a:solidFill>
                <a:srgbClr val="2cb4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Oval 116"/>
              <p:cNvSpPr/>
              <p:nvPr/>
            </p:nvSpPr>
            <p:spPr>
              <a:xfrm>
                <a:off x="2522160" y="3009960"/>
                <a:ext cx="66960" cy="66600"/>
              </a:xfrm>
              <a:prstGeom prst="ellipse">
                <a:avLst/>
              </a:prstGeom>
              <a:solidFill>
                <a:srgbClr val="2cb4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6" name="组合 320"/>
            <p:cNvGrpSpPr/>
            <p:nvPr/>
          </p:nvGrpSpPr>
          <p:grpSpPr>
            <a:xfrm>
              <a:off x="2689560" y="3009960"/>
              <a:ext cx="167040" cy="423720"/>
              <a:chOff x="2689560" y="3009960"/>
              <a:chExt cx="167040" cy="423720"/>
            </a:xfrm>
          </p:grpSpPr>
          <p:sp>
            <p:nvSpPr>
              <p:cNvPr id="627" name="Freeform 115"/>
              <p:cNvSpPr/>
              <p:nvPr/>
            </p:nvSpPr>
            <p:spPr>
              <a:xfrm>
                <a:off x="2689560" y="3082320"/>
                <a:ext cx="167040" cy="351360"/>
              </a:xfrm>
              <a:prstGeom prst="pie">
                <a:avLst/>
              </a:prstGeom>
              <a:solidFill>
                <a:srgbClr val="2cb4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Oval 116"/>
              <p:cNvSpPr/>
              <p:nvPr/>
            </p:nvSpPr>
            <p:spPr>
              <a:xfrm>
                <a:off x="2739600" y="3009960"/>
                <a:ext cx="66960" cy="66600"/>
              </a:xfrm>
              <a:prstGeom prst="ellipse">
                <a:avLst/>
              </a:prstGeom>
              <a:solidFill>
                <a:srgbClr val="2cb4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9" name="组合 321"/>
            <p:cNvGrpSpPr/>
            <p:nvPr/>
          </p:nvGrpSpPr>
          <p:grpSpPr>
            <a:xfrm>
              <a:off x="2907360" y="3009960"/>
              <a:ext cx="167040" cy="423720"/>
              <a:chOff x="2907360" y="3009960"/>
              <a:chExt cx="167040" cy="423720"/>
            </a:xfrm>
          </p:grpSpPr>
          <p:sp>
            <p:nvSpPr>
              <p:cNvPr id="630" name="Freeform 115"/>
              <p:cNvSpPr/>
              <p:nvPr/>
            </p:nvSpPr>
            <p:spPr>
              <a:xfrm>
                <a:off x="2907360" y="3082320"/>
                <a:ext cx="167040" cy="351360"/>
              </a:xfrm>
              <a:prstGeom prst="pie">
                <a:avLst/>
              </a:prstGeom>
              <a:solidFill>
                <a:srgbClr val="2cb4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Oval 116"/>
              <p:cNvSpPr/>
              <p:nvPr/>
            </p:nvSpPr>
            <p:spPr>
              <a:xfrm>
                <a:off x="2957400" y="3009960"/>
                <a:ext cx="66960" cy="66600"/>
              </a:xfrm>
              <a:prstGeom prst="ellipse">
                <a:avLst/>
              </a:prstGeom>
              <a:solidFill>
                <a:srgbClr val="2cb4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2" name="组合 322"/>
            <p:cNvGrpSpPr/>
            <p:nvPr/>
          </p:nvGrpSpPr>
          <p:grpSpPr>
            <a:xfrm>
              <a:off x="3124800" y="3009960"/>
              <a:ext cx="167040" cy="423720"/>
              <a:chOff x="3124800" y="3009960"/>
              <a:chExt cx="167040" cy="423720"/>
            </a:xfrm>
          </p:grpSpPr>
          <p:sp>
            <p:nvSpPr>
              <p:cNvPr id="633" name="Freeform 115"/>
              <p:cNvSpPr/>
              <p:nvPr/>
            </p:nvSpPr>
            <p:spPr>
              <a:xfrm>
                <a:off x="3124800" y="3082320"/>
                <a:ext cx="167040" cy="351360"/>
              </a:xfrm>
              <a:prstGeom prst="pie">
                <a:avLst/>
              </a:prstGeom>
              <a:solidFill>
                <a:srgbClr val="2cb4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Oval 116"/>
              <p:cNvSpPr/>
              <p:nvPr/>
            </p:nvSpPr>
            <p:spPr>
              <a:xfrm>
                <a:off x="3174840" y="3009960"/>
                <a:ext cx="66960" cy="66600"/>
              </a:xfrm>
              <a:prstGeom prst="ellipse">
                <a:avLst/>
              </a:prstGeom>
              <a:solidFill>
                <a:srgbClr val="2cb4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5" name="组合 323"/>
            <p:cNvGrpSpPr/>
            <p:nvPr/>
          </p:nvGrpSpPr>
          <p:grpSpPr>
            <a:xfrm>
              <a:off x="3342600" y="3009960"/>
              <a:ext cx="167040" cy="423720"/>
              <a:chOff x="3342600" y="3009960"/>
              <a:chExt cx="167040" cy="423720"/>
            </a:xfrm>
          </p:grpSpPr>
          <p:sp>
            <p:nvSpPr>
              <p:cNvPr id="636" name="Freeform 115"/>
              <p:cNvSpPr/>
              <p:nvPr/>
            </p:nvSpPr>
            <p:spPr>
              <a:xfrm>
                <a:off x="3342600" y="3082320"/>
                <a:ext cx="167040" cy="351360"/>
              </a:xfrm>
              <a:prstGeom prst="pie">
                <a:avLst/>
              </a:prstGeom>
              <a:solidFill>
                <a:srgbClr val="2cb4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" name="Oval 116"/>
              <p:cNvSpPr/>
              <p:nvPr/>
            </p:nvSpPr>
            <p:spPr>
              <a:xfrm>
                <a:off x="3392640" y="3009960"/>
                <a:ext cx="66960" cy="66600"/>
              </a:xfrm>
              <a:prstGeom prst="ellipse">
                <a:avLst/>
              </a:prstGeom>
              <a:solidFill>
                <a:srgbClr val="2cb4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8" name="组合 324"/>
            <p:cNvGrpSpPr/>
            <p:nvPr/>
          </p:nvGrpSpPr>
          <p:grpSpPr>
            <a:xfrm>
              <a:off x="3560040" y="3009960"/>
              <a:ext cx="167040" cy="423720"/>
              <a:chOff x="3560040" y="3009960"/>
              <a:chExt cx="167040" cy="423720"/>
            </a:xfrm>
          </p:grpSpPr>
          <p:sp>
            <p:nvSpPr>
              <p:cNvPr id="639" name="Freeform 115"/>
              <p:cNvSpPr/>
              <p:nvPr/>
            </p:nvSpPr>
            <p:spPr>
              <a:xfrm>
                <a:off x="3560040" y="3082320"/>
                <a:ext cx="167040" cy="351360"/>
              </a:xfrm>
              <a:prstGeom prst="pie">
                <a:avLst/>
              </a:prstGeom>
              <a:solidFill>
                <a:srgbClr val="2cb4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Oval 116"/>
              <p:cNvSpPr/>
              <p:nvPr/>
            </p:nvSpPr>
            <p:spPr>
              <a:xfrm>
                <a:off x="3610080" y="3009960"/>
                <a:ext cx="66960" cy="66600"/>
              </a:xfrm>
              <a:prstGeom prst="ellipse">
                <a:avLst/>
              </a:prstGeom>
              <a:solidFill>
                <a:srgbClr val="2cb4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1" name="组合 325"/>
            <p:cNvGrpSpPr/>
            <p:nvPr/>
          </p:nvGrpSpPr>
          <p:grpSpPr>
            <a:xfrm>
              <a:off x="3777840" y="3009960"/>
              <a:ext cx="167040" cy="423720"/>
              <a:chOff x="3777840" y="3009960"/>
              <a:chExt cx="167040" cy="423720"/>
            </a:xfrm>
          </p:grpSpPr>
          <p:sp>
            <p:nvSpPr>
              <p:cNvPr id="642" name="Freeform 115"/>
              <p:cNvSpPr/>
              <p:nvPr/>
            </p:nvSpPr>
            <p:spPr>
              <a:xfrm>
                <a:off x="3777840" y="3082320"/>
                <a:ext cx="167040" cy="351360"/>
              </a:xfrm>
              <a:prstGeom prst="pie">
                <a:avLst/>
              </a:prstGeom>
              <a:solidFill>
                <a:srgbClr val="2cb4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Oval 116"/>
              <p:cNvSpPr/>
              <p:nvPr/>
            </p:nvSpPr>
            <p:spPr>
              <a:xfrm>
                <a:off x="3827880" y="3009960"/>
                <a:ext cx="66960" cy="66600"/>
              </a:xfrm>
              <a:prstGeom prst="ellipse">
                <a:avLst/>
              </a:prstGeom>
              <a:solidFill>
                <a:srgbClr val="2cb4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4" name="组合 326"/>
            <p:cNvGrpSpPr/>
            <p:nvPr/>
          </p:nvGrpSpPr>
          <p:grpSpPr>
            <a:xfrm>
              <a:off x="3995280" y="3009960"/>
              <a:ext cx="167040" cy="423720"/>
              <a:chOff x="3995280" y="3009960"/>
              <a:chExt cx="167040" cy="423720"/>
            </a:xfrm>
          </p:grpSpPr>
          <p:sp>
            <p:nvSpPr>
              <p:cNvPr id="645" name="Freeform 115"/>
              <p:cNvSpPr/>
              <p:nvPr/>
            </p:nvSpPr>
            <p:spPr>
              <a:xfrm>
                <a:off x="3995280" y="3082320"/>
                <a:ext cx="167040" cy="351360"/>
              </a:xfrm>
              <a:prstGeom prst="pie">
                <a:avLst/>
              </a:prstGeom>
              <a:solidFill>
                <a:srgbClr val="2cb4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Oval 116"/>
              <p:cNvSpPr/>
              <p:nvPr/>
            </p:nvSpPr>
            <p:spPr>
              <a:xfrm>
                <a:off x="4045320" y="3009960"/>
                <a:ext cx="66960" cy="66600"/>
              </a:xfrm>
              <a:prstGeom prst="ellipse">
                <a:avLst/>
              </a:prstGeom>
              <a:solidFill>
                <a:srgbClr val="2cb4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7" name="组合 327"/>
            <p:cNvGrpSpPr/>
            <p:nvPr/>
          </p:nvGrpSpPr>
          <p:grpSpPr>
            <a:xfrm>
              <a:off x="4213080" y="3009960"/>
              <a:ext cx="167040" cy="423720"/>
              <a:chOff x="4213080" y="3009960"/>
              <a:chExt cx="167040" cy="423720"/>
            </a:xfrm>
          </p:grpSpPr>
          <p:sp>
            <p:nvSpPr>
              <p:cNvPr id="648" name="Freeform 115"/>
              <p:cNvSpPr/>
              <p:nvPr/>
            </p:nvSpPr>
            <p:spPr>
              <a:xfrm>
                <a:off x="4213080" y="3082320"/>
                <a:ext cx="167040" cy="351360"/>
              </a:xfrm>
              <a:prstGeom prst="pie">
                <a:avLst/>
              </a:prstGeom>
              <a:solidFill>
                <a:srgbClr val="2cb4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Oval 116"/>
              <p:cNvSpPr/>
              <p:nvPr/>
            </p:nvSpPr>
            <p:spPr>
              <a:xfrm>
                <a:off x="4263120" y="3009960"/>
                <a:ext cx="66960" cy="66600"/>
              </a:xfrm>
              <a:prstGeom prst="ellipse">
                <a:avLst/>
              </a:prstGeom>
              <a:solidFill>
                <a:srgbClr val="2cb4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0" name="组合 328"/>
            <p:cNvGrpSpPr/>
            <p:nvPr/>
          </p:nvGrpSpPr>
          <p:grpSpPr>
            <a:xfrm>
              <a:off x="4430520" y="3009960"/>
              <a:ext cx="167040" cy="423720"/>
              <a:chOff x="4430520" y="3009960"/>
              <a:chExt cx="167040" cy="423720"/>
            </a:xfrm>
          </p:grpSpPr>
          <p:sp>
            <p:nvSpPr>
              <p:cNvPr id="651" name="Freeform 115"/>
              <p:cNvSpPr/>
              <p:nvPr/>
            </p:nvSpPr>
            <p:spPr>
              <a:xfrm>
                <a:off x="4430520" y="3082320"/>
                <a:ext cx="167040" cy="351360"/>
              </a:xfrm>
              <a:prstGeom prst="pie">
                <a:avLst/>
              </a:prstGeom>
              <a:solidFill>
                <a:srgbClr val="2cb4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" name="Oval 116"/>
              <p:cNvSpPr/>
              <p:nvPr/>
            </p:nvSpPr>
            <p:spPr>
              <a:xfrm>
                <a:off x="4480560" y="3009960"/>
                <a:ext cx="66960" cy="66600"/>
              </a:xfrm>
              <a:prstGeom prst="ellipse">
                <a:avLst/>
              </a:prstGeom>
              <a:solidFill>
                <a:srgbClr val="2cb4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3" name="组合 329"/>
            <p:cNvGrpSpPr/>
            <p:nvPr/>
          </p:nvGrpSpPr>
          <p:grpSpPr>
            <a:xfrm>
              <a:off x="4647960" y="3009960"/>
              <a:ext cx="167040" cy="423720"/>
              <a:chOff x="4647960" y="3009960"/>
              <a:chExt cx="167040" cy="423720"/>
            </a:xfrm>
          </p:grpSpPr>
          <p:sp>
            <p:nvSpPr>
              <p:cNvPr id="654" name="Freeform 115"/>
              <p:cNvSpPr/>
              <p:nvPr/>
            </p:nvSpPr>
            <p:spPr>
              <a:xfrm>
                <a:off x="4647960" y="3082320"/>
                <a:ext cx="167040" cy="351360"/>
              </a:xfrm>
              <a:prstGeom prst="pie">
                <a:avLst/>
              </a:prstGeom>
              <a:solidFill>
                <a:srgbClr val="2cb4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Oval 116"/>
              <p:cNvSpPr/>
              <p:nvPr/>
            </p:nvSpPr>
            <p:spPr>
              <a:xfrm>
                <a:off x="4698000" y="3009960"/>
                <a:ext cx="66960" cy="66600"/>
              </a:xfrm>
              <a:prstGeom prst="ellipse">
                <a:avLst/>
              </a:prstGeom>
              <a:solidFill>
                <a:srgbClr val="2cb4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6" name="组合 330"/>
            <p:cNvGrpSpPr/>
            <p:nvPr/>
          </p:nvGrpSpPr>
          <p:grpSpPr>
            <a:xfrm>
              <a:off x="4865760" y="3009960"/>
              <a:ext cx="167040" cy="423720"/>
              <a:chOff x="4865760" y="3009960"/>
              <a:chExt cx="167040" cy="423720"/>
            </a:xfrm>
          </p:grpSpPr>
          <p:sp>
            <p:nvSpPr>
              <p:cNvPr id="657" name="Freeform 115"/>
              <p:cNvSpPr/>
              <p:nvPr/>
            </p:nvSpPr>
            <p:spPr>
              <a:xfrm>
                <a:off x="4865760" y="3082320"/>
                <a:ext cx="167040" cy="351360"/>
              </a:xfrm>
              <a:prstGeom prst="pie">
                <a:avLst/>
              </a:prstGeom>
              <a:solidFill>
                <a:srgbClr val="2cb4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" name="Oval 116"/>
              <p:cNvSpPr/>
              <p:nvPr/>
            </p:nvSpPr>
            <p:spPr>
              <a:xfrm>
                <a:off x="4915800" y="3009960"/>
                <a:ext cx="66960" cy="66600"/>
              </a:xfrm>
              <a:prstGeom prst="ellipse">
                <a:avLst/>
              </a:prstGeom>
              <a:solidFill>
                <a:srgbClr val="2cb4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9" name="组合 331"/>
            <p:cNvGrpSpPr/>
            <p:nvPr/>
          </p:nvGrpSpPr>
          <p:grpSpPr>
            <a:xfrm>
              <a:off x="5083200" y="3009960"/>
              <a:ext cx="167040" cy="423720"/>
              <a:chOff x="5083200" y="3009960"/>
              <a:chExt cx="167040" cy="423720"/>
            </a:xfrm>
          </p:grpSpPr>
          <p:sp>
            <p:nvSpPr>
              <p:cNvPr id="660" name="Freeform 115"/>
              <p:cNvSpPr/>
              <p:nvPr/>
            </p:nvSpPr>
            <p:spPr>
              <a:xfrm>
                <a:off x="5083200" y="3082320"/>
                <a:ext cx="167040" cy="351360"/>
              </a:xfrm>
              <a:prstGeom prst="pie">
                <a:avLst/>
              </a:prstGeom>
              <a:solidFill>
                <a:srgbClr val="2cb4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Oval 116"/>
              <p:cNvSpPr/>
              <p:nvPr/>
            </p:nvSpPr>
            <p:spPr>
              <a:xfrm>
                <a:off x="5133240" y="3009960"/>
                <a:ext cx="66960" cy="66600"/>
              </a:xfrm>
              <a:prstGeom prst="ellipse">
                <a:avLst/>
              </a:prstGeom>
              <a:solidFill>
                <a:srgbClr val="2cb4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2" name="组合 332"/>
            <p:cNvGrpSpPr/>
            <p:nvPr/>
          </p:nvGrpSpPr>
          <p:grpSpPr>
            <a:xfrm>
              <a:off x="5301000" y="3009960"/>
              <a:ext cx="167040" cy="423720"/>
              <a:chOff x="5301000" y="3009960"/>
              <a:chExt cx="167040" cy="423720"/>
            </a:xfrm>
          </p:grpSpPr>
          <p:sp>
            <p:nvSpPr>
              <p:cNvPr id="663" name="Freeform 115"/>
              <p:cNvSpPr/>
              <p:nvPr/>
            </p:nvSpPr>
            <p:spPr>
              <a:xfrm>
                <a:off x="5301000" y="3082320"/>
                <a:ext cx="167040" cy="351360"/>
              </a:xfrm>
              <a:prstGeom prst="pie">
                <a:avLst/>
              </a:prstGeom>
              <a:solidFill>
                <a:srgbClr val="2cb4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Oval 116"/>
              <p:cNvSpPr/>
              <p:nvPr/>
            </p:nvSpPr>
            <p:spPr>
              <a:xfrm>
                <a:off x="5351040" y="3009960"/>
                <a:ext cx="66960" cy="66600"/>
              </a:xfrm>
              <a:prstGeom prst="ellipse">
                <a:avLst/>
              </a:prstGeom>
              <a:solidFill>
                <a:srgbClr val="2cb4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5" name="组合 333"/>
            <p:cNvGrpSpPr/>
            <p:nvPr/>
          </p:nvGrpSpPr>
          <p:grpSpPr>
            <a:xfrm>
              <a:off x="5518440" y="3009960"/>
              <a:ext cx="167040" cy="423720"/>
              <a:chOff x="5518440" y="3009960"/>
              <a:chExt cx="167040" cy="423720"/>
            </a:xfrm>
          </p:grpSpPr>
          <p:sp>
            <p:nvSpPr>
              <p:cNvPr id="666" name="Freeform 115"/>
              <p:cNvSpPr/>
              <p:nvPr/>
            </p:nvSpPr>
            <p:spPr>
              <a:xfrm>
                <a:off x="5518440" y="3082320"/>
                <a:ext cx="167040" cy="351360"/>
              </a:xfrm>
              <a:prstGeom prst="pie">
                <a:avLst/>
              </a:prstGeom>
              <a:solidFill>
                <a:srgbClr val="2cb4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Oval 116"/>
              <p:cNvSpPr/>
              <p:nvPr/>
            </p:nvSpPr>
            <p:spPr>
              <a:xfrm>
                <a:off x="5568480" y="3009960"/>
                <a:ext cx="66960" cy="66600"/>
              </a:xfrm>
              <a:prstGeom prst="ellipse">
                <a:avLst/>
              </a:prstGeom>
              <a:solidFill>
                <a:srgbClr val="2cb4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8" name="组合 334"/>
            <p:cNvGrpSpPr/>
            <p:nvPr/>
          </p:nvGrpSpPr>
          <p:grpSpPr>
            <a:xfrm>
              <a:off x="5736240" y="3009960"/>
              <a:ext cx="167040" cy="423720"/>
              <a:chOff x="5736240" y="3009960"/>
              <a:chExt cx="167040" cy="423720"/>
            </a:xfrm>
          </p:grpSpPr>
          <p:sp>
            <p:nvSpPr>
              <p:cNvPr id="669" name="Freeform 115"/>
              <p:cNvSpPr/>
              <p:nvPr/>
            </p:nvSpPr>
            <p:spPr>
              <a:xfrm>
                <a:off x="5736240" y="3082320"/>
                <a:ext cx="167040" cy="351360"/>
              </a:xfrm>
              <a:prstGeom prst="pie">
                <a:avLst/>
              </a:prstGeom>
              <a:solidFill>
                <a:srgbClr val="2cb4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Oval 116"/>
              <p:cNvSpPr/>
              <p:nvPr/>
            </p:nvSpPr>
            <p:spPr>
              <a:xfrm>
                <a:off x="5786280" y="3009960"/>
                <a:ext cx="66960" cy="66600"/>
              </a:xfrm>
              <a:prstGeom prst="ellipse">
                <a:avLst/>
              </a:prstGeom>
              <a:solidFill>
                <a:srgbClr val="2cb4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1" name="组合 335"/>
            <p:cNvGrpSpPr/>
            <p:nvPr/>
          </p:nvGrpSpPr>
          <p:grpSpPr>
            <a:xfrm>
              <a:off x="5953680" y="3009960"/>
              <a:ext cx="167040" cy="423720"/>
              <a:chOff x="5953680" y="3009960"/>
              <a:chExt cx="167040" cy="423720"/>
            </a:xfrm>
          </p:grpSpPr>
          <p:sp>
            <p:nvSpPr>
              <p:cNvPr id="672" name="Freeform 115"/>
              <p:cNvSpPr/>
              <p:nvPr/>
            </p:nvSpPr>
            <p:spPr>
              <a:xfrm>
                <a:off x="5953680" y="3082320"/>
                <a:ext cx="167040" cy="351360"/>
              </a:xfrm>
              <a:prstGeom prst="pie">
                <a:avLst/>
              </a:prstGeom>
              <a:solidFill>
                <a:srgbClr val="2cb4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Oval 116"/>
              <p:cNvSpPr/>
              <p:nvPr/>
            </p:nvSpPr>
            <p:spPr>
              <a:xfrm>
                <a:off x="6003720" y="3009960"/>
                <a:ext cx="66960" cy="66600"/>
              </a:xfrm>
              <a:prstGeom prst="ellipse">
                <a:avLst/>
              </a:prstGeom>
              <a:solidFill>
                <a:srgbClr val="2cb4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4" name="组合 336"/>
            <p:cNvGrpSpPr/>
            <p:nvPr/>
          </p:nvGrpSpPr>
          <p:grpSpPr>
            <a:xfrm>
              <a:off x="6171480" y="3009960"/>
              <a:ext cx="167040" cy="423720"/>
              <a:chOff x="6171480" y="3009960"/>
              <a:chExt cx="167040" cy="423720"/>
            </a:xfrm>
          </p:grpSpPr>
          <p:sp>
            <p:nvSpPr>
              <p:cNvPr id="675" name="Freeform 115"/>
              <p:cNvSpPr/>
              <p:nvPr/>
            </p:nvSpPr>
            <p:spPr>
              <a:xfrm>
                <a:off x="6171480" y="3082320"/>
                <a:ext cx="167040" cy="351360"/>
              </a:xfrm>
              <a:prstGeom prst="pie">
                <a:avLst/>
              </a:prstGeom>
              <a:solidFill>
                <a:srgbClr val="2cb4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Oval 116"/>
              <p:cNvSpPr/>
              <p:nvPr/>
            </p:nvSpPr>
            <p:spPr>
              <a:xfrm>
                <a:off x="6221520" y="3009960"/>
                <a:ext cx="66960" cy="66600"/>
              </a:xfrm>
              <a:prstGeom prst="ellipse">
                <a:avLst/>
              </a:prstGeom>
              <a:solidFill>
                <a:srgbClr val="2cb4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7" name="组合 337"/>
            <p:cNvGrpSpPr/>
            <p:nvPr/>
          </p:nvGrpSpPr>
          <p:grpSpPr>
            <a:xfrm>
              <a:off x="6388920" y="3009960"/>
              <a:ext cx="167040" cy="423720"/>
              <a:chOff x="6388920" y="3009960"/>
              <a:chExt cx="167040" cy="423720"/>
            </a:xfrm>
          </p:grpSpPr>
          <p:sp>
            <p:nvSpPr>
              <p:cNvPr id="678" name="Freeform 115"/>
              <p:cNvSpPr/>
              <p:nvPr/>
            </p:nvSpPr>
            <p:spPr>
              <a:xfrm>
                <a:off x="6388920" y="3082320"/>
                <a:ext cx="167040" cy="351360"/>
              </a:xfrm>
              <a:prstGeom prst="pie">
                <a:avLst/>
              </a:prstGeom>
              <a:solidFill>
                <a:srgbClr val="2cb4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Oval 116"/>
              <p:cNvSpPr/>
              <p:nvPr/>
            </p:nvSpPr>
            <p:spPr>
              <a:xfrm>
                <a:off x="6438960" y="3009960"/>
                <a:ext cx="66960" cy="66600"/>
              </a:xfrm>
              <a:prstGeom prst="ellipse">
                <a:avLst/>
              </a:prstGeom>
              <a:solidFill>
                <a:srgbClr val="2cb4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80" name="组合 338"/>
            <p:cNvGrpSpPr/>
            <p:nvPr/>
          </p:nvGrpSpPr>
          <p:grpSpPr>
            <a:xfrm>
              <a:off x="6606720" y="3009960"/>
              <a:ext cx="167040" cy="423720"/>
              <a:chOff x="6606720" y="3009960"/>
              <a:chExt cx="167040" cy="423720"/>
            </a:xfrm>
          </p:grpSpPr>
          <p:sp>
            <p:nvSpPr>
              <p:cNvPr id="681" name="Freeform 115"/>
              <p:cNvSpPr/>
              <p:nvPr/>
            </p:nvSpPr>
            <p:spPr>
              <a:xfrm>
                <a:off x="6606720" y="3082320"/>
                <a:ext cx="167040" cy="351360"/>
              </a:xfrm>
              <a:prstGeom prst="pie">
                <a:avLst/>
              </a:prstGeom>
              <a:solidFill>
                <a:srgbClr val="2cb4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2" name="Oval 116"/>
              <p:cNvSpPr/>
              <p:nvPr/>
            </p:nvSpPr>
            <p:spPr>
              <a:xfrm>
                <a:off x="6656760" y="3009960"/>
                <a:ext cx="66960" cy="66600"/>
              </a:xfrm>
              <a:prstGeom prst="ellipse">
                <a:avLst/>
              </a:prstGeom>
              <a:solidFill>
                <a:srgbClr val="2cb4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83" name="组合 339"/>
            <p:cNvGrpSpPr/>
            <p:nvPr/>
          </p:nvGrpSpPr>
          <p:grpSpPr>
            <a:xfrm>
              <a:off x="6824160" y="3009960"/>
              <a:ext cx="167040" cy="423720"/>
              <a:chOff x="6824160" y="3009960"/>
              <a:chExt cx="167040" cy="423720"/>
            </a:xfrm>
          </p:grpSpPr>
          <p:sp>
            <p:nvSpPr>
              <p:cNvPr id="684" name="Freeform 115"/>
              <p:cNvSpPr/>
              <p:nvPr/>
            </p:nvSpPr>
            <p:spPr>
              <a:xfrm>
                <a:off x="6824160" y="3082320"/>
                <a:ext cx="167040" cy="351360"/>
              </a:xfrm>
              <a:prstGeom prst="pie">
                <a:avLst/>
              </a:prstGeom>
              <a:solidFill>
                <a:srgbClr val="2cb4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" name="Oval 116"/>
              <p:cNvSpPr/>
              <p:nvPr/>
            </p:nvSpPr>
            <p:spPr>
              <a:xfrm>
                <a:off x="6874200" y="3009960"/>
                <a:ext cx="66960" cy="66600"/>
              </a:xfrm>
              <a:prstGeom prst="ellipse">
                <a:avLst/>
              </a:prstGeom>
              <a:solidFill>
                <a:srgbClr val="2cb4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86" name="组合 389"/>
          <p:cNvGrpSpPr/>
          <p:nvPr/>
        </p:nvGrpSpPr>
        <p:grpSpPr>
          <a:xfrm>
            <a:off x="1819440" y="3551400"/>
            <a:ext cx="166680" cy="423720"/>
            <a:chOff x="1819440" y="3551400"/>
            <a:chExt cx="166680" cy="423720"/>
          </a:xfrm>
        </p:grpSpPr>
        <p:sp>
          <p:nvSpPr>
            <p:cNvPr id="687" name="Freeform 115"/>
            <p:cNvSpPr/>
            <p:nvPr/>
          </p:nvSpPr>
          <p:spPr>
            <a:xfrm>
              <a:off x="1819440" y="3623760"/>
              <a:ext cx="166680" cy="351360"/>
            </a:xfrm>
            <a:prstGeom prst="pie">
              <a:avLst/>
            </a:prstGeom>
            <a:solidFill>
              <a:srgbClr val="2cb4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17480"/>
                  <a:tab algn="l" pos="1434960"/>
                  <a:tab algn="l" pos="2152800"/>
                  <a:tab algn="l" pos="2870280"/>
                  <a:tab algn="l" pos="3587760"/>
                  <a:tab algn="l" pos="4305240"/>
                  <a:tab algn="l" pos="5022720"/>
                  <a:tab algn="l" pos="5740560"/>
                  <a:tab algn="l" pos="6458040"/>
                  <a:tab algn="l" pos="7175520"/>
                  <a:tab algn="l" pos="7893000"/>
                  <a:tab algn="l" pos="8610480"/>
                  <a:tab algn="l" pos="9328320"/>
                  <a:tab algn="l" pos="10045800"/>
                  <a:tab algn="l" pos="107632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Oval 116"/>
            <p:cNvSpPr/>
            <p:nvPr/>
          </p:nvSpPr>
          <p:spPr>
            <a:xfrm>
              <a:off x="1869120" y="3551400"/>
              <a:ext cx="66960" cy="66600"/>
            </a:xfrm>
            <a:prstGeom prst="ellipse">
              <a:avLst/>
            </a:prstGeom>
            <a:solidFill>
              <a:srgbClr val="2cb4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17480"/>
                  <a:tab algn="l" pos="1434960"/>
                  <a:tab algn="l" pos="2152800"/>
                  <a:tab algn="l" pos="2870280"/>
                  <a:tab algn="l" pos="3587760"/>
                  <a:tab algn="l" pos="4305240"/>
                  <a:tab algn="l" pos="5022720"/>
                  <a:tab algn="l" pos="5740560"/>
                  <a:tab algn="l" pos="6458040"/>
                  <a:tab algn="l" pos="7175520"/>
                  <a:tab algn="l" pos="7893000"/>
                  <a:tab algn="l" pos="8610480"/>
                  <a:tab algn="l" pos="9328320"/>
                  <a:tab algn="l" pos="10045800"/>
                  <a:tab algn="l" pos="107632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9" name="组合 390"/>
          <p:cNvGrpSpPr/>
          <p:nvPr/>
        </p:nvGrpSpPr>
        <p:grpSpPr>
          <a:xfrm>
            <a:off x="2035080" y="3551400"/>
            <a:ext cx="168480" cy="423720"/>
            <a:chOff x="2035080" y="3551400"/>
            <a:chExt cx="168480" cy="423720"/>
          </a:xfrm>
        </p:grpSpPr>
        <p:sp>
          <p:nvSpPr>
            <p:cNvPr id="690" name="Freeform 115"/>
            <p:cNvSpPr/>
            <p:nvPr/>
          </p:nvSpPr>
          <p:spPr>
            <a:xfrm>
              <a:off x="2035080" y="3623760"/>
              <a:ext cx="168480" cy="351360"/>
            </a:xfrm>
            <a:prstGeom prst="pie">
              <a:avLst/>
            </a:prstGeom>
            <a:solidFill>
              <a:srgbClr val="2cb4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17480"/>
                  <a:tab algn="l" pos="1434960"/>
                  <a:tab algn="l" pos="2152800"/>
                  <a:tab algn="l" pos="2870280"/>
                  <a:tab algn="l" pos="3587760"/>
                  <a:tab algn="l" pos="4305240"/>
                  <a:tab algn="l" pos="5022720"/>
                  <a:tab algn="l" pos="5740560"/>
                  <a:tab algn="l" pos="6458040"/>
                  <a:tab algn="l" pos="7175520"/>
                  <a:tab algn="l" pos="7893000"/>
                  <a:tab algn="l" pos="8610480"/>
                  <a:tab algn="l" pos="9328320"/>
                  <a:tab algn="l" pos="10045800"/>
                  <a:tab algn="l" pos="107632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Oval 116"/>
            <p:cNvSpPr/>
            <p:nvPr/>
          </p:nvSpPr>
          <p:spPr>
            <a:xfrm>
              <a:off x="2085480" y="3551400"/>
              <a:ext cx="67680" cy="66600"/>
            </a:xfrm>
            <a:prstGeom prst="ellipse">
              <a:avLst/>
            </a:prstGeom>
            <a:solidFill>
              <a:srgbClr val="2cb4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17480"/>
                  <a:tab algn="l" pos="1434960"/>
                  <a:tab algn="l" pos="2152800"/>
                  <a:tab algn="l" pos="2870280"/>
                  <a:tab algn="l" pos="3587760"/>
                  <a:tab algn="l" pos="4305240"/>
                  <a:tab algn="l" pos="5022720"/>
                  <a:tab algn="l" pos="5740560"/>
                  <a:tab algn="l" pos="6458040"/>
                  <a:tab algn="l" pos="7175520"/>
                  <a:tab algn="l" pos="7893000"/>
                  <a:tab algn="l" pos="8610480"/>
                  <a:tab algn="l" pos="9328320"/>
                  <a:tab algn="l" pos="10045800"/>
                  <a:tab algn="l" pos="107632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2" name="组合 391"/>
          <p:cNvGrpSpPr/>
          <p:nvPr/>
        </p:nvGrpSpPr>
        <p:grpSpPr>
          <a:xfrm>
            <a:off x="2254320" y="3551400"/>
            <a:ext cx="166680" cy="423720"/>
            <a:chOff x="2254320" y="3551400"/>
            <a:chExt cx="166680" cy="423720"/>
          </a:xfrm>
        </p:grpSpPr>
        <p:sp>
          <p:nvSpPr>
            <p:cNvPr id="693" name="Freeform 115"/>
            <p:cNvSpPr/>
            <p:nvPr/>
          </p:nvSpPr>
          <p:spPr>
            <a:xfrm>
              <a:off x="2254320" y="3623760"/>
              <a:ext cx="166680" cy="351360"/>
            </a:xfrm>
            <a:prstGeom prst="pie">
              <a:avLst/>
            </a:prstGeom>
            <a:solidFill>
              <a:srgbClr val="2cb4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17480"/>
                  <a:tab algn="l" pos="1434960"/>
                  <a:tab algn="l" pos="2152800"/>
                  <a:tab algn="l" pos="2870280"/>
                  <a:tab algn="l" pos="3587760"/>
                  <a:tab algn="l" pos="4305240"/>
                  <a:tab algn="l" pos="5022720"/>
                  <a:tab algn="l" pos="5740560"/>
                  <a:tab algn="l" pos="6458040"/>
                  <a:tab algn="l" pos="7175520"/>
                  <a:tab algn="l" pos="7893000"/>
                  <a:tab algn="l" pos="8610480"/>
                  <a:tab algn="l" pos="9328320"/>
                  <a:tab algn="l" pos="10045800"/>
                  <a:tab algn="l" pos="107632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Oval 116"/>
            <p:cNvSpPr/>
            <p:nvPr/>
          </p:nvSpPr>
          <p:spPr>
            <a:xfrm>
              <a:off x="2304000" y="3551400"/>
              <a:ext cx="66960" cy="66600"/>
            </a:xfrm>
            <a:prstGeom prst="ellipse">
              <a:avLst/>
            </a:prstGeom>
            <a:solidFill>
              <a:srgbClr val="2cb4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17480"/>
                  <a:tab algn="l" pos="1434960"/>
                  <a:tab algn="l" pos="2152800"/>
                  <a:tab algn="l" pos="2870280"/>
                  <a:tab algn="l" pos="3587760"/>
                  <a:tab algn="l" pos="4305240"/>
                  <a:tab algn="l" pos="5022720"/>
                  <a:tab algn="l" pos="5740560"/>
                  <a:tab algn="l" pos="6458040"/>
                  <a:tab algn="l" pos="7175520"/>
                  <a:tab algn="l" pos="7893000"/>
                  <a:tab algn="l" pos="8610480"/>
                  <a:tab algn="l" pos="9328320"/>
                  <a:tab algn="l" pos="10045800"/>
                  <a:tab algn="l" pos="107632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5" name="组合 392"/>
          <p:cNvGrpSpPr/>
          <p:nvPr/>
        </p:nvGrpSpPr>
        <p:grpSpPr>
          <a:xfrm>
            <a:off x="2471760" y="3551400"/>
            <a:ext cx="166680" cy="423720"/>
            <a:chOff x="2471760" y="3551400"/>
            <a:chExt cx="166680" cy="423720"/>
          </a:xfrm>
        </p:grpSpPr>
        <p:sp>
          <p:nvSpPr>
            <p:cNvPr id="696" name="Freeform 115"/>
            <p:cNvSpPr/>
            <p:nvPr/>
          </p:nvSpPr>
          <p:spPr>
            <a:xfrm>
              <a:off x="2471760" y="3623760"/>
              <a:ext cx="166680" cy="351360"/>
            </a:xfrm>
            <a:prstGeom prst="pie">
              <a:avLst/>
            </a:prstGeom>
            <a:solidFill>
              <a:srgbClr val="2cb4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17480"/>
                  <a:tab algn="l" pos="1434960"/>
                  <a:tab algn="l" pos="2152800"/>
                  <a:tab algn="l" pos="2870280"/>
                  <a:tab algn="l" pos="3587760"/>
                  <a:tab algn="l" pos="4305240"/>
                  <a:tab algn="l" pos="5022720"/>
                  <a:tab algn="l" pos="5740560"/>
                  <a:tab algn="l" pos="6458040"/>
                  <a:tab algn="l" pos="7175520"/>
                  <a:tab algn="l" pos="7893000"/>
                  <a:tab algn="l" pos="8610480"/>
                  <a:tab algn="l" pos="9328320"/>
                  <a:tab algn="l" pos="10045800"/>
                  <a:tab algn="l" pos="107632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Oval 116"/>
            <p:cNvSpPr/>
            <p:nvPr/>
          </p:nvSpPr>
          <p:spPr>
            <a:xfrm>
              <a:off x="2521440" y="3551400"/>
              <a:ext cx="66960" cy="66600"/>
            </a:xfrm>
            <a:prstGeom prst="ellipse">
              <a:avLst/>
            </a:prstGeom>
            <a:solidFill>
              <a:srgbClr val="2cb4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17480"/>
                  <a:tab algn="l" pos="1434960"/>
                  <a:tab algn="l" pos="2152800"/>
                  <a:tab algn="l" pos="2870280"/>
                  <a:tab algn="l" pos="3587760"/>
                  <a:tab algn="l" pos="4305240"/>
                  <a:tab algn="l" pos="5022720"/>
                  <a:tab algn="l" pos="5740560"/>
                  <a:tab algn="l" pos="6458040"/>
                  <a:tab algn="l" pos="7175520"/>
                  <a:tab algn="l" pos="7893000"/>
                  <a:tab algn="l" pos="8610480"/>
                  <a:tab algn="l" pos="9328320"/>
                  <a:tab algn="l" pos="10045800"/>
                  <a:tab algn="l" pos="107632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8" name="组合 393"/>
          <p:cNvGrpSpPr/>
          <p:nvPr/>
        </p:nvGrpSpPr>
        <p:grpSpPr>
          <a:xfrm>
            <a:off x="2689200" y="3551400"/>
            <a:ext cx="166680" cy="423720"/>
            <a:chOff x="2689200" y="3551400"/>
            <a:chExt cx="166680" cy="423720"/>
          </a:xfrm>
        </p:grpSpPr>
        <p:sp>
          <p:nvSpPr>
            <p:cNvPr id="699" name="Freeform 115"/>
            <p:cNvSpPr/>
            <p:nvPr/>
          </p:nvSpPr>
          <p:spPr>
            <a:xfrm>
              <a:off x="2689200" y="3623760"/>
              <a:ext cx="166680" cy="351360"/>
            </a:xfrm>
            <a:prstGeom prst="pie">
              <a:avLst/>
            </a:prstGeom>
            <a:solidFill>
              <a:srgbClr val="2cb4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17480"/>
                  <a:tab algn="l" pos="1434960"/>
                  <a:tab algn="l" pos="2152800"/>
                  <a:tab algn="l" pos="2870280"/>
                  <a:tab algn="l" pos="3587760"/>
                  <a:tab algn="l" pos="4305240"/>
                  <a:tab algn="l" pos="5022720"/>
                  <a:tab algn="l" pos="5740560"/>
                  <a:tab algn="l" pos="6458040"/>
                  <a:tab algn="l" pos="7175520"/>
                  <a:tab algn="l" pos="7893000"/>
                  <a:tab algn="l" pos="8610480"/>
                  <a:tab algn="l" pos="9328320"/>
                  <a:tab algn="l" pos="10045800"/>
                  <a:tab algn="l" pos="107632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Oval 116"/>
            <p:cNvSpPr/>
            <p:nvPr/>
          </p:nvSpPr>
          <p:spPr>
            <a:xfrm>
              <a:off x="2738880" y="3551400"/>
              <a:ext cx="66960" cy="66600"/>
            </a:xfrm>
            <a:prstGeom prst="ellipse">
              <a:avLst/>
            </a:prstGeom>
            <a:solidFill>
              <a:srgbClr val="2cb4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17480"/>
                  <a:tab algn="l" pos="1434960"/>
                  <a:tab algn="l" pos="2152800"/>
                  <a:tab algn="l" pos="2870280"/>
                  <a:tab algn="l" pos="3587760"/>
                  <a:tab algn="l" pos="4305240"/>
                  <a:tab algn="l" pos="5022720"/>
                  <a:tab algn="l" pos="5740560"/>
                  <a:tab algn="l" pos="6458040"/>
                  <a:tab algn="l" pos="7175520"/>
                  <a:tab algn="l" pos="7893000"/>
                  <a:tab algn="l" pos="8610480"/>
                  <a:tab algn="l" pos="9328320"/>
                  <a:tab algn="l" pos="10045800"/>
                  <a:tab algn="l" pos="107632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1" name="组合 394"/>
          <p:cNvGrpSpPr/>
          <p:nvPr/>
        </p:nvGrpSpPr>
        <p:grpSpPr>
          <a:xfrm>
            <a:off x="2906640" y="3551400"/>
            <a:ext cx="166680" cy="423720"/>
            <a:chOff x="2906640" y="3551400"/>
            <a:chExt cx="166680" cy="423720"/>
          </a:xfrm>
        </p:grpSpPr>
        <p:sp>
          <p:nvSpPr>
            <p:cNvPr id="702" name="Freeform 115"/>
            <p:cNvSpPr/>
            <p:nvPr/>
          </p:nvSpPr>
          <p:spPr>
            <a:xfrm>
              <a:off x="2906640" y="3623760"/>
              <a:ext cx="166680" cy="351360"/>
            </a:xfrm>
            <a:prstGeom prst="pie">
              <a:avLst/>
            </a:prstGeom>
            <a:solidFill>
              <a:srgbClr val="2cb4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17480"/>
                  <a:tab algn="l" pos="1434960"/>
                  <a:tab algn="l" pos="2152800"/>
                  <a:tab algn="l" pos="2870280"/>
                  <a:tab algn="l" pos="3587760"/>
                  <a:tab algn="l" pos="4305240"/>
                  <a:tab algn="l" pos="5022720"/>
                  <a:tab algn="l" pos="5740560"/>
                  <a:tab algn="l" pos="6458040"/>
                  <a:tab algn="l" pos="7175520"/>
                  <a:tab algn="l" pos="7893000"/>
                  <a:tab algn="l" pos="8610480"/>
                  <a:tab algn="l" pos="9328320"/>
                  <a:tab algn="l" pos="10045800"/>
                  <a:tab algn="l" pos="107632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Oval 116"/>
            <p:cNvSpPr/>
            <p:nvPr/>
          </p:nvSpPr>
          <p:spPr>
            <a:xfrm>
              <a:off x="2956320" y="3551400"/>
              <a:ext cx="66960" cy="66600"/>
            </a:xfrm>
            <a:prstGeom prst="ellipse">
              <a:avLst/>
            </a:prstGeom>
            <a:solidFill>
              <a:srgbClr val="2cb4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17480"/>
                  <a:tab algn="l" pos="1434960"/>
                  <a:tab algn="l" pos="2152800"/>
                  <a:tab algn="l" pos="2870280"/>
                  <a:tab algn="l" pos="3587760"/>
                  <a:tab algn="l" pos="4305240"/>
                  <a:tab algn="l" pos="5022720"/>
                  <a:tab algn="l" pos="5740560"/>
                  <a:tab algn="l" pos="6458040"/>
                  <a:tab algn="l" pos="7175520"/>
                  <a:tab algn="l" pos="7893000"/>
                  <a:tab algn="l" pos="8610480"/>
                  <a:tab algn="l" pos="9328320"/>
                  <a:tab algn="l" pos="10045800"/>
                  <a:tab algn="l" pos="107632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4" name="组合 395"/>
          <p:cNvGrpSpPr/>
          <p:nvPr/>
        </p:nvGrpSpPr>
        <p:grpSpPr>
          <a:xfrm>
            <a:off x="3124080" y="3551400"/>
            <a:ext cx="166680" cy="423720"/>
            <a:chOff x="3124080" y="3551400"/>
            <a:chExt cx="166680" cy="423720"/>
          </a:xfrm>
        </p:grpSpPr>
        <p:sp>
          <p:nvSpPr>
            <p:cNvPr id="705" name="Freeform 115"/>
            <p:cNvSpPr/>
            <p:nvPr/>
          </p:nvSpPr>
          <p:spPr>
            <a:xfrm>
              <a:off x="3124080" y="3623760"/>
              <a:ext cx="166680" cy="351360"/>
            </a:xfrm>
            <a:prstGeom prst="pie">
              <a:avLst/>
            </a:prstGeom>
            <a:solidFill>
              <a:srgbClr val="2cb4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17480"/>
                  <a:tab algn="l" pos="1434960"/>
                  <a:tab algn="l" pos="2152800"/>
                  <a:tab algn="l" pos="2870280"/>
                  <a:tab algn="l" pos="3587760"/>
                  <a:tab algn="l" pos="4305240"/>
                  <a:tab algn="l" pos="5022720"/>
                  <a:tab algn="l" pos="5740560"/>
                  <a:tab algn="l" pos="6458040"/>
                  <a:tab algn="l" pos="7175520"/>
                  <a:tab algn="l" pos="7893000"/>
                  <a:tab algn="l" pos="8610480"/>
                  <a:tab algn="l" pos="9328320"/>
                  <a:tab algn="l" pos="10045800"/>
                  <a:tab algn="l" pos="107632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Oval 116"/>
            <p:cNvSpPr/>
            <p:nvPr/>
          </p:nvSpPr>
          <p:spPr>
            <a:xfrm>
              <a:off x="3173760" y="3551400"/>
              <a:ext cx="66960" cy="66600"/>
            </a:xfrm>
            <a:prstGeom prst="ellipse">
              <a:avLst/>
            </a:prstGeom>
            <a:solidFill>
              <a:srgbClr val="2cb4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17480"/>
                  <a:tab algn="l" pos="1434960"/>
                  <a:tab algn="l" pos="2152800"/>
                  <a:tab algn="l" pos="2870280"/>
                  <a:tab algn="l" pos="3587760"/>
                  <a:tab algn="l" pos="4305240"/>
                  <a:tab algn="l" pos="5022720"/>
                  <a:tab algn="l" pos="5740560"/>
                  <a:tab algn="l" pos="6458040"/>
                  <a:tab algn="l" pos="7175520"/>
                  <a:tab algn="l" pos="7893000"/>
                  <a:tab algn="l" pos="8610480"/>
                  <a:tab algn="l" pos="9328320"/>
                  <a:tab algn="l" pos="10045800"/>
                  <a:tab algn="l" pos="107632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7" name="组合 396"/>
          <p:cNvGrpSpPr/>
          <p:nvPr/>
        </p:nvGrpSpPr>
        <p:grpSpPr>
          <a:xfrm>
            <a:off x="3341520" y="3551400"/>
            <a:ext cx="166680" cy="423720"/>
            <a:chOff x="3341520" y="3551400"/>
            <a:chExt cx="166680" cy="423720"/>
          </a:xfrm>
        </p:grpSpPr>
        <p:sp>
          <p:nvSpPr>
            <p:cNvPr id="708" name="Freeform 115"/>
            <p:cNvSpPr/>
            <p:nvPr/>
          </p:nvSpPr>
          <p:spPr>
            <a:xfrm>
              <a:off x="3341520" y="3623760"/>
              <a:ext cx="166680" cy="351360"/>
            </a:xfrm>
            <a:prstGeom prst="pie">
              <a:avLst/>
            </a:prstGeom>
            <a:solidFill>
              <a:srgbClr val="2cb4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17480"/>
                  <a:tab algn="l" pos="1434960"/>
                  <a:tab algn="l" pos="2152800"/>
                  <a:tab algn="l" pos="2870280"/>
                  <a:tab algn="l" pos="3587760"/>
                  <a:tab algn="l" pos="4305240"/>
                  <a:tab algn="l" pos="5022720"/>
                  <a:tab algn="l" pos="5740560"/>
                  <a:tab algn="l" pos="6458040"/>
                  <a:tab algn="l" pos="7175520"/>
                  <a:tab algn="l" pos="7893000"/>
                  <a:tab algn="l" pos="8610480"/>
                  <a:tab algn="l" pos="9328320"/>
                  <a:tab algn="l" pos="10045800"/>
                  <a:tab algn="l" pos="107632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Oval 116"/>
            <p:cNvSpPr/>
            <p:nvPr/>
          </p:nvSpPr>
          <p:spPr>
            <a:xfrm>
              <a:off x="3391200" y="3551400"/>
              <a:ext cx="66960" cy="66600"/>
            </a:xfrm>
            <a:prstGeom prst="ellipse">
              <a:avLst/>
            </a:prstGeom>
            <a:solidFill>
              <a:srgbClr val="2cb4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17480"/>
                  <a:tab algn="l" pos="1434960"/>
                  <a:tab algn="l" pos="2152800"/>
                  <a:tab algn="l" pos="2870280"/>
                  <a:tab algn="l" pos="3587760"/>
                  <a:tab algn="l" pos="4305240"/>
                  <a:tab algn="l" pos="5022720"/>
                  <a:tab algn="l" pos="5740560"/>
                  <a:tab algn="l" pos="6458040"/>
                  <a:tab algn="l" pos="7175520"/>
                  <a:tab algn="l" pos="7893000"/>
                  <a:tab algn="l" pos="8610480"/>
                  <a:tab algn="l" pos="9328320"/>
                  <a:tab algn="l" pos="10045800"/>
                  <a:tab algn="l" pos="107632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0" name="组合 397"/>
          <p:cNvGrpSpPr/>
          <p:nvPr/>
        </p:nvGrpSpPr>
        <p:grpSpPr>
          <a:xfrm>
            <a:off x="3559320" y="3551400"/>
            <a:ext cx="168120" cy="423720"/>
            <a:chOff x="3559320" y="3551400"/>
            <a:chExt cx="168120" cy="423720"/>
          </a:xfrm>
        </p:grpSpPr>
        <p:sp>
          <p:nvSpPr>
            <p:cNvPr id="711" name="Freeform 115"/>
            <p:cNvSpPr/>
            <p:nvPr/>
          </p:nvSpPr>
          <p:spPr>
            <a:xfrm>
              <a:off x="3559320" y="3623760"/>
              <a:ext cx="168120" cy="351360"/>
            </a:xfrm>
            <a:prstGeom prst="pie">
              <a:avLst/>
            </a:prstGeom>
            <a:solidFill>
              <a:srgbClr val="2cb4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17480"/>
                  <a:tab algn="l" pos="1434960"/>
                  <a:tab algn="l" pos="2152800"/>
                  <a:tab algn="l" pos="2870280"/>
                  <a:tab algn="l" pos="3587760"/>
                  <a:tab algn="l" pos="4305240"/>
                  <a:tab algn="l" pos="5022720"/>
                  <a:tab algn="l" pos="5740560"/>
                  <a:tab algn="l" pos="6458040"/>
                  <a:tab algn="l" pos="7175520"/>
                  <a:tab algn="l" pos="7893000"/>
                  <a:tab algn="l" pos="8610480"/>
                  <a:tab algn="l" pos="9328320"/>
                  <a:tab algn="l" pos="10045800"/>
                  <a:tab algn="l" pos="107632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Oval 116"/>
            <p:cNvSpPr/>
            <p:nvPr/>
          </p:nvSpPr>
          <p:spPr>
            <a:xfrm>
              <a:off x="3609720" y="3551400"/>
              <a:ext cx="67320" cy="66600"/>
            </a:xfrm>
            <a:prstGeom prst="ellipse">
              <a:avLst/>
            </a:prstGeom>
            <a:solidFill>
              <a:srgbClr val="2cb4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17480"/>
                  <a:tab algn="l" pos="1434960"/>
                  <a:tab algn="l" pos="2152800"/>
                  <a:tab algn="l" pos="2870280"/>
                  <a:tab algn="l" pos="3587760"/>
                  <a:tab algn="l" pos="4305240"/>
                  <a:tab algn="l" pos="5022720"/>
                  <a:tab algn="l" pos="5740560"/>
                  <a:tab algn="l" pos="6458040"/>
                  <a:tab algn="l" pos="7175520"/>
                  <a:tab algn="l" pos="7893000"/>
                  <a:tab algn="l" pos="8610480"/>
                  <a:tab algn="l" pos="9328320"/>
                  <a:tab algn="l" pos="10045800"/>
                  <a:tab algn="l" pos="107632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3" name="组合 398"/>
          <p:cNvGrpSpPr/>
          <p:nvPr/>
        </p:nvGrpSpPr>
        <p:grpSpPr>
          <a:xfrm>
            <a:off x="3778200" y="3551400"/>
            <a:ext cx="166680" cy="423720"/>
            <a:chOff x="3778200" y="3551400"/>
            <a:chExt cx="166680" cy="423720"/>
          </a:xfrm>
        </p:grpSpPr>
        <p:sp>
          <p:nvSpPr>
            <p:cNvPr id="714" name="Freeform 115"/>
            <p:cNvSpPr/>
            <p:nvPr/>
          </p:nvSpPr>
          <p:spPr>
            <a:xfrm>
              <a:off x="3778200" y="3623760"/>
              <a:ext cx="166680" cy="351360"/>
            </a:xfrm>
            <a:prstGeom prst="pie">
              <a:avLst/>
            </a:prstGeom>
            <a:solidFill>
              <a:srgbClr val="2cb4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17480"/>
                  <a:tab algn="l" pos="1434960"/>
                  <a:tab algn="l" pos="2152800"/>
                  <a:tab algn="l" pos="2870280"/>
                  <a:tab algn="l" pos="3587760"/>
                  <a:tab algn="l" pos="4305240"/>
                  <a:tab algn="l" pos="5022720"/>
                  <a:tab algn="l" pos="5740560"/>
                  <a:tab algn="l" pos="6458040"/>
                  <a:tab algn="l" pos="7175520"/>
                  <a:tab algn="l" pos="7893000"/>
                  <a:tab algn="l" pos="8610480"/>
                  <a:tab algn="l" pos="9328320"/>
                  <a:tab algn="l" pos="10045800"/>
                  <a:tab algn="l" pos="107632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Oval 116"/>
            <p:cNvSpPr/>
            <p:nvPr/>
          </p:nvSpPr>
          <p:spPr>
            <a:xfrm>
              <a:off x="3827880" y="3551400"/>
              <a:ext cx="66960" cy="66600"/>
            </a:xfrm>
            <a:prstGeom prst="ellipse">
              <a:avLst/>
            </a:prstGeom>
            <a:solidFill>
              <a:srgbClr val="2cb4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17480"/>
                  <a:tab algn="l" pos="1434960"/>
                  <a:tab algn="l" pos="2152800"/>
                  <a:tab algn="l" pos="2870280"/>
                  <a:tab algn="l" pos="3587760"/>
                  <a:tab algn="l" pos="4305240"/>
                  <a:tab algn="l" pos="5022720"/>
                  <a:tab algn="l" pos="5740560"/>
                  <a:tab algn="l" pos="6458040"/>
                  <a:tab algn="l" pos="7175520"/>
                  <a:tab algn="l" pos="7893000"/>
                  <a:tab algn="l" pos="8610480"/>
                  <a:tab algn="l" pos="9328320"/>
                  <a:tab algn="l" pos="10045800"/>
                  <a:tab algn="l" pos="107632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6" name="组合 399"/>
          <p:cNvGrpSpPr/>
          <p:nvPr/>
        </p:nvGrpSpPr>
        <p:grpSpPr>
          <a:xfrm>
            <a:off x="3994200" y="3551400"/>
            <a:ext cx="168120" cy="423720"/>
            <a:chOff x="3994200" y="3551400"/>
            <a:chExt cx="168120" cy="423720"/>
          </a:xfrm>
        </p:grpSpPr>
        <p:sp>
          <p:nvSpPr>
            <p:cNvPr id="717" name="Freeform 115"/>
            <p:cNvSpPr/>
            <p:nvPr/>
          </p:nvSpPr>
          <p:spPr>
            <a:xfrm>
              <a:off x="3994200" y="3623760"/>
              <a:ext cx="168120" cy="351360"/>
            </a:xfrm>
            <a:prstGeom prst="pie">
              <a:avLst/>
            </a:prstGeom>
            <a:solidFill>
              <a:srgbClr val="2cb4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17480"/>
                  <a:tab algn="l" pos="1434960"/>
                  <a:tab algn="l" pos="2152800"/>
                  <a:tab algn="l" pos="2870280"/>
                  <a:tab algn="l" pos="3587760"/>
                  <a:tab algn="l" pos="4305240"/>
                  <a:tab algn="l" pos="5022720"/>
                  <a:tab algn="l" pos="5740560"/>
                  <a:tab algn="l" pos="6458040"/>
                  <a:tab algn="l" pos="7175520"/>
                  <a:tab algn="l" pos="7893000"/>
                  <a:tab algn="l" pos="8610480"/>
                  <a:tab algn="l" pos="9328320"/>
                  <a:tab algn="l" pos="10045800"/>
                  <a:tab algn="l" pos="107632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Oval 116"/>
            <p:cNvSpPr/>
            <p:nvPr/>
          </p:nvSpPr>
          <p:spPr>
            <a:xfrm>
              <a:off x="4044600" y="3551400"/>
              <a:ext cx="67320" cy="66600"/>
            </a:xfrm>
            <a:prstGeom prst="ellipse">
              <a:avLst/>
            </a:prstGeom>
            <a:solidFill>
              <a:srgbClr val="2cb4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17480"/>
                  <a:tab algn="l" pos="1434960"/>
                  <a:tab algn="l" pos="2152800"/>
                  <a:tab algn="l" pos="2870280"/>
                  <a:tab algn="l" pos="3587760"/>
                  <a:tab algn="l" pos="4305240"/>
                  <a:tab algn="l" pos="5022720"/>
                  <a:tab algn="l" pos="5740560"/>
                  <a:tab algn="l" pos="6458040"/>
                  <a:tab algn="l" pos="7175520"/>
                  <a:tab algn="l" pos="7893000"/>
                  <a:tab algn="l" pos="8610480"/>
                  <a:tab algn="l" pos="9328320"/>
                  <a:tab algn="l" pos="10045800"/>
                  <a:tab algn="l" pos="107632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9" name="组合 400"/>
          <p:cNvGrpSpPr/>
          <p:nvPr/>
        </p:nvGrpSpPr>
        <p:grpSpPr>
          <a:xfrm>
            <a:off x="4213080" y="3551400"/>
            <a:ext cx="166680" cy="423720"/>
            <a:chOff x="4213080" y="3551400"/>
            <a:chExt cx="166680" cy="423720"/>
          </a:xfrm>
        </p:grpSpPr>
        <p:sp>
          <p:nvSpPr>
            <p:cNvPr id="720" name="Freeform 115"/>
            <p:cNvSpPr/>
            <p:nvPr/>
          </p:nvSpPr>
          <p:spPr>
            <a:xfrm>
              <a:off x="4213080" y="3623760"/>
              <a:ext cx="166680" cy="351360"/>
            </a:xfrm>
            <a:prstGeom prst="pie">
              <a:avLst/>
            </a:prstGeom>
            <a:solidFill>
              <a:srgbClr val="2cb4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17480"/>
                  <a:tab algn="l" pos="1434960"/>
                  <a:tab algn="l" pos="2152800"/>
                  <a:tab algn="l" pos="2870280"/>
                  <a:tab algn="l" pos="3587760"/>
                  <a:tab algn="l" pos="4305240"/>
                  <a:tab algn="l" pos="5022720"/>
                  <a:tab algn="l" pos="5740560"/>
                  <a:tab algn="l" pos="6458040"/>
                  <a:tab algn="l" pos="7175520"/>
                  <a:tab algn="l" pos="7893000"/>
                  <a:tab algn="l" pos="8610480"/>
                  <a:tab algn="l" pos="9328320"/>
                  <a:tab algn="l" pos="10045800"/>
                  <a:tab algn="l" pos="107632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Oval 116"/>
            <p:cNvSpPr/>
            <p:nvPr/>
          </p:nvSpPr>
          <p:spPr>
            <a:xfrm>
              <a:off x="4262760" y="3551400"/>
              <a:ext cx="66960" cy="66600"/>
            </a:xfrm>
            <a:prstGeom prst="ellipse">
              <a:avLst/>
            </a:prstGeom>
            <a:solidFill>
              <a:srgbClr val="2cb4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17480"/>
                  <a:tab algn="l" pos="1434960"/>
                  <a:tab algn="l" pos="2152800"/>
                  <a:tab algn="l" pos="2870280"/>
                  <a:tab algn="l" pos="3587760"/>
                  <a:tab algn="l" pos="4305240"/>
                  <a:tab algn="l" pos="5022720"/>
                  <a:tab algn="l" pos="5740560"/>
                  <a:tab algn="l" pos="6458040"/>
                  <a:tab algn="l" pos="7175520"/>
                  <a:tab algn="l" pos="7893000"/>
                  <a:tab algn="l" pos="8610480"/>
                  <a:tab algn="l" pos="9328320"/>
                  <a:tab algn="l" pos="10045800"/>
                  <a:tab algn="l" pos="107632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2" name="组合 401"/>
          <p:cNvGrpSpPr/>
          <p:nvPr/>
        </p:nvGrpSpPr>
        <p:grpSpPr>
          <a:xfrm>
            <a:off x="4430880" y="3551400"/>
            <a:ext cx="166680" cy="423720"/>
            <a:chOff x="4430880" y="3551400"/>
            <a:chExt cx="166680" cy="423720"/>
          </a:xfrm>
        </p:grpSpPr>
        <p:sp>
          <p:nvSpPr>
            <p:cNvPr id="723" name="Freeform 115"/>
            <p:cNvSpPr/>
            <p:nvPr/>
          </p:nvSpPr>
          <p:spPr>
            <a:xfrm>
              <a:off x="4430880" y="3623760"/>
              <a:ext cx="166680" cy="351360"/>
            </a:xfrm>
            <a:prstGeom prst="pie">
              <a:avLst/>
            </a:prstGeom>
            <a:solidFill>
              <a:srgbClr val="2cb4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17480"/>
                  <a:tab algn="l" pos="1434960"/>
                  <a:tab algn="l" pos="2152800"/>
                  <a:tab algn="l" pos="2870280"/>
                  <a:tab algn="l" pos="3587760"/>
                  <a:tab algn="l" pos="4305240"/>
                  <a:tab algn="l" pos="5022720"/>
                  <a:tab algn="l" pos="5740560"/>
                  <a:tab algn="l" pos="6458040"/>
                  <a:tab algn="l" pos="7175520"/>
                  <a:tab algn="l" pos="7893000"/>
                  <a:tab algn="l" pos="8610480"/>
                  <a:tab algn="l" pos="9328320"/>
                  <a:tab algn="l" pos="10045800"/>
                  <a:tab algn="l" pos="107632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Oval 116"/>
            <p:cNvSpPr/>
            <p:nvPr/>
          </p:nvSpPr>
          <p:spPr>
            <a:xfrm>
              <a:off x="4480560" y="3551400"/>
              <a:ext cx="66960" cy="66600"/>
            </a:xfrm>
            <a:prstGeom prst="ellipse">
              <a:avLst/>
            </a:prstGeom>
            <a:solidFill>
              <a:srgbClr val="2cb4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17480"/>
                  <a:tab algn="l" pos="1434960"/>
                  <a:tab algn="l" pos="2152800"/>
                  <a:tab algn="l" pos="2870280"/>
                  <a:tab algn="l" pos="3587760"/>
                  <a:tab algn="l" pos="4305240"/>
                  <a:tab algn="l" pos="5022720"/>
                  <a:tab algn="l" pos="5740560"/>
                  <a:tab algn="l" pos="6458040"/>
                  <a:tab algn="l" pos="7175520"/>
                  <a:tab algn="l" pos="7893000"/>
                  <a:tab algn="l" pos="8610480"/>
                  <a:tab algn="l" pos="9328320"/>
                  <a:tab algn="l" pos="10045800"/>
                  <a:tab algn="l" pos="107632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5" name="组合 402"/>
          <p:cNvGrpSpPr/>
          <p:nvPr/>
        </p:nvGrpSpPr>
        <p:grpSpPr>
          <a:xfrm>
            <a:off x="4648320" y="3551400"/>
            <a:ext cx="166680" cy="423720"/>
            <a:chOff x="4648320" y="3551400"/>
            <a:chExt cx="166680" cy="423720"/>
          </a:xfrm>
        </p:grpSpPr>
        <p:sp>
          <p:nvSpPr>
            <p:cNvPr id="726" name="Freeform 115"/>
            <p:cNvSpPr/>
            <p:nvPr/>
          </p:nvSpPr>
          <p:spPr>
            <a:xfrm>
              <a:off x="4648320" y="3623760"/>
              <a:ext cx="166680" cy="351360"/>
            </a:xfrm>
            <a:prstGeom prst="pie">
              <a:avLst/>
            </a:prstGeom>
            <a:solidFill>
              <a:srgbClr val="2cb4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17480"/>
                  <a:tab algn="l" pos="1434960"/>
                  <a:tab algn="l" pos="2152800"/>
                  <a:tab algn="l" pos="2870280"/>
                  <a:tab algn="l" pos="3587760"/>
                  <a:tab algn="l" pos="4305240"/>
                  <a:tab algn="l" pos="5022720"/>
                  <a:tab algn="l" pos="5740560"/>
                  <a:tab algn="l" pos="6458040"/>
                  <a:tab algn="l" pos="7175520"/>
                  <a:tab algn="l" pos="7893000"/>
                  <a:tab algn="l" pos="8610480"/>
                  <a:tab algn="l" pos="9328320"/>
                  <a:tab algn="l" pos="10045800"/>
                  <a:tab algn="l" pos="107632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Oval 116"/>
            <p:cNvSpPr/>
            <p:nvPr/>
          </p:nvSpPr>
          <p:spPr>
            <a:xfrm>
              <a:off x="4698000" y="3551400"/>
              <a:ext cx="66960" cy="66600"/>
            </a:xfrm>
            <a:prstGeom prst="ellipse">
              <a:avLst/>
            </a:prstGeom>
            <a:solidFill>
              <a:srgbClr val="2cb4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17480"/>
                  <a:tab algn="l" pos="1434960"/>
                  <a:tab algn="l" pos="2152800"/>
                  <a:tab algn="l" pos="2870280"/>
                  <a:tab algn="l" pos="3587760"/>
                  <a:tab algn="l" pos="4305240"/>
                  <a:tab algn="l" pos="5022720"/>
                  <a:tab algn="l" pos="5740560"/>
                  <a:tab algn="l" pos="6458040"/>
                  <a:tab algn="l" pos="7175520"/>
                  <a:tab algn="l" pos="7893000"/>
                  <a:tab algn="l" pos="8610480"/>
                  <a:tab algn="l" pos="9328320"/>
                  <a:tab algn="l" pos="10045800"/>
                  <a:tab algn="l" pos="107632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8" name="组合 403"/>
          <p:cNvGrpSpPr/>
          <p:nvPr/>
        </p:nvGrpSpPr>
        <p:grpSpPr>
          <a:xfrm>
            <a:off x="4865760" y="3551400"/>
            <a:ext cx="166680" cy="423720"/>
            <a:chOff x="4865760" y="3551400"/>
            <a:chExt cx="166680" cy="423720"/>
          </a:xfrm>
        </p:grpSpPr>
        <p:sp>
          <p:nvSpPr>
            <p:cNvPr id="729" name="Freeform 115"/>
            <p:cNvSpPr/>
            <p:nvPr/>
          </p:nvSpPr>
          <p:spPr>
            <a:xfrm>
              <a:off x="4865760" y="3623760"/>
              <a:ext cx="166680" cy="351360"/>
            </a:xfrm>
            <a:prstGeom prst="pie">
              <a:avLst/>
            </a:prstGeom>
            <a:solidFill>
              <a:srgbClr val="2cb4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17480"/>
                  <a:tab algn="l" pos="1434960"/>
                  <a:tab algn="l" pos="2152800"/>
                  <a:tab algn="l" pos="2870280"/>
                  <a:tab algn="l" pos="3587760"/>
                  <a:tab algn="l" pos="4305240"/>
                  <a:tab algn="l" pos="5022720"/>
                  <a:tab algn="l" pos="5740560"/>
                  <a:tab algn="l" pos="6458040"/>
                  <a:tab algn="l" pos="7175520"/>
                  <a:tab algn="l" pos="7893000"/>
                  <a:tab algn="l" pos="8610480"/>
                  <a:tab algn="l" pos="9328320"/>
                  <a:tab algn="l" pos="10045800"/>
                  <a:tab algn="l" pos="107632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Oval 116"/>
            <p:cNvSpPr/>
            <p:nvPr/>
          </p:nvSpPr>
          <p:spPr>
            <a:xfrm>
              <a:off x="4915440" y="3551400"/>
              <a:ext cx="66960" cy="66600"/>
            </a:xfrm>
            <a:prstGeom prst="ellipse">
              <a:avLst/>
            </a:prstGeom>
            <a:solidFill>
              <a:srgbClr val="2cb4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17480"/>
                  <a:tab algn="l" pos="1434960"/>
                  <a:tab algn="l" pos="2152800"/>
                  <a:tab algn="l" pos="2870280"/>
                  <a:tab algn="l" pos="3587760"/>
                  <a:tab algn="l" pos="4305240"/>
                  <a:tab algn="l" pos="5022720"/>
                  <a:tab algn="l" pos="5740560"/>
                  <a:tab algn="l" pos="6458040"/>
                  <a:tab algn="l" pos="7175520"/>
                  <a:tab algn="l" pos="7893000"/>
                  <a:tab algn="l" pos="8610480"/>
                  <a:tab algn="l" pos="9328320"/>
                  <a:tab algn="l" pos="10045800"/>
                  <a:tab algn="l" pos="107632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1" name="组合 404"/>
          <p:cNvGrpSpPr/>
          <p:nvPr/>
        </p:nvGrpSpPr>
        <p:grpSpPr>
          <a:xfrm>
            <a:off x="5083200" y="3551400"/>
            <a:ext cx="166680" cy="423720"/>
            <a:chOff x="5083200" y="3551400"/>
            <a:chExt cx="166680" cy="423720"/>
          </a:xfrm>
        </p:grpSpPr>
        <p:sp>
          <p:nvSpPr>
            <p:cNvPr id="732" name="Freeform 115"/>
            <p:cNvSpPr/>
            <p:nvPr/>
          </p:nvSpPr>
          <p:spPr>
            <a:xfrm>
              <a:off x="5083200" y="3623760"/>
              <a:ext cx="166680" cy="351360"/>
            </a:xfrm>
            <a:prstGeom prst="pie">
              <a:avLst/>
            </a:prstGeom>
            <a:solidFill>
              <a:srgbClr val="41c1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17480"/>
                  <a:tab algn="l" pos="1434960"/>
                  <a:tab algn="l" pos="2152800"/>
                  <a:tab algn="l" pos="2870280"/>
                  <a:tab algn="l" pos="3587760"/>
                  <a:tab algn="l" pos="4305240"/>
                  <a:tab algn="l" pos="5022720"/>
                  <a:tab algn="l" pos="5740560"/>
                  <a:tab algn="l" pos="6458040"/>
                  <a:tab algn="l" pos="7175520"/>
                  <a:tab algn="l" pos="7893000"/>
                  <a:tab algn="l" pos="8610480"/>
                  <a:tab algn="l" pos="9328320"/>
                  <a:tab algn="l" pos="10045800"/>
                  <a:tab algn="l" pos="107632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Oval 116"/>
            <p:cNvSpPr/>
            <p:nvPr/>
          </p:nvSpPr>
          <p:spPr>
            <a:xfrm>
              <a:off x="5132880" y="3551400"/>
              <a:ext cx="66960" cy="66600"/>
            </a:xfrm>
            <a:prstGeom prst="ellipse">
              <a:avLst/>
            </a:prstGeom>
            <a:solidFill>
              <a:srgbClr val="41c1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17480"/>
                  <a:tab algn="l" pos="1434960"/>
                  <a:tab algn="l" pos="2152800"/>
                  <a:tab algn="l" pos="2870280"/>
                  <a:tab algn="l" pos="3587760"/>
                  <a:tab algn="l" pos="4305240"/>
                  <a:tab algn="l" pos="5022720"/>
                  <a:tab algn="l" pos="5740560"/>
                  <a:tab algn="l" pos="6458040"/>
                  <a:tab algn="l" pos="7175520"/>
                  <a:tab algn="l" pos="7893000"/>
                  <a:tab algn="l" pos="8610480"/>
                  <a:tab algn="l" pos="9328320"/>
                  <a:tab algn="l" pos="10045800"/>
                  <a:tab algn="l" pos="107632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4" name="组合 405"/>
          <p:cNvGrpSpPr/>
          <p:nvPr/>
        </p:nvGrpSpPr>
        <p:grpSpPr>
          <a:xfrm>
            <a:off x="5300640" y="3551400"/>
            <a:ext cx="166680" cy="423720"/>
            <a:chOff x="5300640" y="3551400"/>
            <a:chExt cx="166680" cy="423720"/>
          </a:xfrm>
        </p:grpSpPr>
        <p:sp>
          <p:nvSpPr>
            <p:cNvPr id="735" name="Freeform 115"/>
            <p:cNvSpPr/>
            <p:nvPr/>
          </p:nvSpPr>
          <p:spPr>
            <a:xfrm>
              <a:off x="5300640" y="3623760"/>
              <a:ext cx="166680" cy="351360"/>
            </a:xfrm>
            <a:prstGeom prst="pie">
              <a:avLst/>
            </a:prstGeom>
            <a:solidFill>
              <a:srgbClr val="41c1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17480"/>
                  <a:tab algn="l" pos="1434960"/>
                  <a:tab algn="l" pos="2152800"/>
                  <a:tab algn="l" pos="2870280"/>
                  <a:tab algn="l" pos="3587760"/>
                  <a:tab algn="l" pos="4305240"/>
                  <a:tab algn="l" pos="5022720"/>
                  <a:tab algn="l" pos="5740560"/>
                  <a:tab algn="l" pos="6458040"/>
                  <a:tab algn="l" pos="7175520"/>
                  <a:tab algn="l" pos="7893000"/>
                  <a:tab algn="l" pos="8610480"/>
                  <a:tab algn="l" pos="9328320"/>
                  <a:tab algn="l" pos="10045800"/>
                  <a:tab algn="l" pos="107632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Oval 116"/>
            <p:cNvSpPr/>
            <p:nvPr/>
          </p:nvSpPr>
          <p:spPr>
            <a:xfrm>
              <a:off x="5350320" y="3551400"/>
              <a:ext cx="66960" cy="66600"/>
            </a:xfrm>
            <a:prstGeom prst="ellipse">
              <a:avLst/>
            </a:prstGeom>
            <a:solidFill>
              <a:srgbClr val="41c1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17480"/>
                  <a:tab algn="l" pos="1434960"/>
                  <a:tab algn="l" pos="2152800"/>
                  <a:tab algn="l" pos="2870280"/>
                  <a:tab algn="l" pos="3587760"/>
                  <a:tab algn="l" pos="4305240"/>
                  <a:tab algn="l" pos="5022720"/>
                  <a:tab algn="l" pos="5740560"/>
                  <a:tab algn="l" pos="6458040"/>
                  <a:tab algn="l" pos="7175520"/>
                  <a:tab algn="l" pos="7893000"/>
                  <a:tab algn="l" pos="8610480"/>
                  <a:tab algn="l" pos="9328320"/>
                  <a:tab algn="l" pos="10045800"/>
                  <a:tab algn="l" pos="107632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7" name="组合 406"/>
          <p:cNvGrpSpPr/>
          <p:nvPr/>
        </p:nvGrpSpPr>
        <p:grpSpPr>
          <a:xfrm>
            <a:off x="5518080" y="3551400"/>
            <a:ext cx="168480" cy="423720"/>
            <a:chOff x="5518080" y="3551400"/>
            <a:chExt cx="168480" cy="423720"/>
          </a:xfrm>
        </p:grpSpPr>
        <p:sp>
          <p:nvSpPr>
            <p:cNvPr id="738" name="Freeform 115"/>
            <p:cNvSpPr/>
            <p:nvPr/>
          </p:nvSpPr>
          <p:spPr>
            <a:xfrm>
              <a:off x="5518080" y="3623760"/>
              <a:ext cx="168480" cy="351360"/>
            </a:xfrm>
            <a:prstGeom prst="pie">
              <a:avLst/>
            </a:prstGeom>
            <a:solidFill>
              <a:srgbClr val="41c1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17480"/>
                  <a:tab algn="l" pos="1434960"/>
                  <a:tab algn="l" pos="2152800"/>
                  <a:tab algn="l" pos="2870280"/>
                  <a:tab algn="l" pos="3587760"/>
                  <a:tab algn="l" pos="4305240"/>
                  <a:tab algn="l" pos="5022720"/>
                  <a:tab algn="l" pos="5740560"/>
                  <a:tab algn="l" pos="6458040"/>
                  <a:tab algn="l" pos="7175520"/>
                  <a:tab algn="l" pos="7893000"/>
                  <a:tab algn="l" pos="8610480"/>
                  <a:tab algn="l" pos="9328320"/>
                  <a:tab algn="l" pos="10045800"/>
                  <a:tab algn="l" pos="107632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Oval 116"/>
            <p:cNvSpPr/>
            <p:nvPr/>
          </p:nvSpPr>
          <p:spPr>
            <a:xfrm>
              <a:off x="5568480" y="3551400"/>
              <a:ext cx="67680" cy="66600"/>
            </a:xfrm>
            <a:prstGeom prst="ellipse">
              <a:avLst/>
            </a:prstGeom>
            <a:solidFill>
              <a:srgbClr val="41c1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17480"/>
                  <a:tab algn="l" pos="1434960"/>
                  <a:tab algn="l" pos="2152800"/>
                  <a:tab algn="l" pos="2870280"/>
                  <a:tab algn="l" pos="3587760"/>
                  <a:tab algn="l" pos="4305240"/>
                  <a:tab algn="l" pos="5022720"/>
                  <a:tab algn="l" pos="5740560"/>
                  <a:tab algn="l" pos="6458040"/>
                  <a:tab algn="l" pos="7175520"/>
                  <a:tab algn="l" pos="7893000"/>
                  <a:tab algn="l" pos="8610480"/>
                  <a:tab algn="l" pos="9328320"/>
                  <a:tab algn="l" pos="10045800"/>
                  <a:tab algn="l" pos="107632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0" name="组合 407"/>
          <p:cNvGrpSpPr/>
          <p:nvPr/>
        </p:nvGrpSpPr>
        <p:grpSpPr>
          <a:xfrm>
            <a:off x="5735520" y="3551400"/>
            <a:ext cx="166680" cy="423720"/>
            <a:chOff x="5735520" y="3551400"/>
            <a:chExt cx="166680" cy="423720"/>
          </a:xfrm>
        </p:grpSpPr>
        <p:sp>
          <p:nvSpPr>
            <p:cNvPr id="741" name="Freeform 115"/>
            <p:cNvSpPr/>
            <p:nvPr/>
          </p:nvSpPr>
          <p:spPr>
            <a:xfrm>
              <a:off x="5735520" y="3623760"/>
              <a:ext cx="166680" cy="351360"/>
            </a:xfrm>
            <a:prstGeom prst="pie">
              <a:avLst/>
            </a:prstGeom>
            <a:solidFill>
              <a:srgbClr val="41c1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17480"/>
                  <a:tab algn="l" pos="1434960"/>
                  <a:tab algn="l" pos="2152800"/>
                  <a:tab algn="l" pos="2870280"/>
                  <a:tab algn="l" pos="3587760"/>
                  <a:tab algn="l" pos="4305240"/>
                  <a:tab algn="l" pos="5022720"/>
                  <a:tab algn="l" pos="5740560"/>
                  <a:tab algn="l" pos="6458040"/>
                  <a:tab algn="l" pos="7175520"/>
                  <a:tab algn="l" pos="7893000"/>
                  <a:tab algn="l" pos="8610480"/>
                  <a:tab algn="l" pos="9328320"/>
                  <a:tab algn="l" pos="10045800"/>
                  <a:tab algn="l" pos="107632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Oval 116"/>
            <p:cNvSpPr/>
            <p:nvPr/>
          </p:nvSpPr>
          <p:spPr>
            <a:xfrm>
              <a:off x="5785200" y="3551400"/>
              <a:ext cx="66960" cy="66600"/>
            </a:xfrm>
            <a:prstGeom prst="ellipse">
              <a:avLst/>
            </a:prstGeom>
            <a:solidFill>
              <a:srgbClr val="41c1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17480"/>
                  <a:tab algn="l" pos="1434960"/>
                  <a:tab algn="l" pos="2152800"/>
                  <a:tab algn="l" pos="2870280"/>
                  <a:tab algn="l" pos="3587760"/>
                  <a:tab algn="l" pos="4305240"/>
                  <a:tab algn="l" pos="5022720"/>
                  <a:tab algn="l" pos="5740560"/>
                  <a:tab algn="l" pos="6458040"/>
                  <a:tab algn="l" pos="7175520"/>
                  <a:tab algn="l" pos="7893000"/>
                  <a:tab algn="l" pos="8610480"/>
                  <a:tab algn="l" pos="9328320"/>
                  <a:tab algn="l" pos="10045800"/>
                  <a:tab algn="l" pos="107632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3" name="组合 408"/>
          <p:cNvGrpSpPr/>
          <p:nvPr/>
        </p:nvGrpSpPr>
        <p:grpSpPr>
          <a:xfrm>
            <a:off x="5952960" y="3551400"/>
            <a:ext cx="168480" cy="423720"/>
            <a:chOff x="5952960" y="3551400"/>
            <a:chExt cx="168480" cy="423720"/>
          </a:xfrm>
        </p:grpSpPr>
        <p:sp>
          <p:nvSpPr>
            <p:cNvPr id="744" name="Freeform 115"/>
            <p:cNvSpPr/>
            <p:nvPr/>
          </p:nvSpPr>
          <p:spPr>
            <a:xfrm>
              <a:off x="5952960" y="3623760"/>
              <a:ext cx="168480" cy="351360"/>
            </a:xfrm>
            <a:prstGeom prst="pie">
              <a:avLst/>
            </a:prstGeom>
            <a:solidFill>
              <a:srgbClr val="41c1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17480"/>
                  <a:tab algn="l" pos="1434960"/>
                  <a:tab algn="l" pos="2152800"/>
                  <a:tab algn="l" pos="2870280"/>
                  <a:tab algn="l" pos="3587760"/>
                  <a:tab algn="l" pos="4305240"/>
                  <a:tab algn="l" pos="5022720"/>
                  <a:tab algn="l" pos="5740560"/>
                  <a:tab algn="l" pos="6458040"/>
                  <a:tab algn="l" pos="7175520"/>
                  <a:tab algn="l" pos="7893000"/>
                  <a:tab algn="l" pos="8610480"/>
                  <a:tab algn="l" pos="9328320"/>
                  <a:tab algn="l" pos="10045800"/>
                  <a:tab algn="l" pos="107632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Oval 116"/>
            <p:cNvSpPr/>
            <p:nvPr/>
          </p:nvSpPr>
          <p:spPr>
            <a:xfrm>
              <a:off x="6003360" y="3551400"/>
              <a:ext cx="67680" cy="66600"/>
            </a:xfrm>
            <a:prstGeom prst="ellipse">
              <a:avLst/>
            </a:prstGeom>
            <a:solidFill>
              <a:srgbClr val="41c1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17480"/>
                  <a:tab algn="l" pos="1434960"/>
                  <a:tab algn="l" pos="2152800"/>
                  <a:tab algn="l" pos="2870280"/>
                  <a:tab algn="l" pos="3587760"/>
                  <a:tab algn="l" pos="4305240"/>
                  <a:tab algn="l" pos="5022720"/>
                  <a:tab algn="l" pos="5740560"/>
                  <a:tab algn="l" pos="6458040"/>
                  <a:tab algn="l" pos="7175520"/>
                  <a:tab algn="l" pos="7893000"/>
                  <a:tab algn="l" pos="8610480"/>
                  <a:tab algn="l" pos="9328320"/>
                  <a:tab algn="l" pos="10045800"/>
                  <a:tab algn="l" pos="107632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6" name="组合 409"/>
          <p:cNvGrpSpPr/>
          <p:nvPr/>
        </p:nvGrpSpPr>
        <p:grpSpPr>
          <a:xfrm>
            <a:off x="6172200" y="3551400"/>
            <a:ext cx="166680" cy="423720"/>
            <a:chOff x="6172200" y="3551400"/>
            <a:chExt cx="166680" cy="423720"/>
          </a:xfrm>
        </p:grpSpPr>
        <p:sp>
          <p:nvSpPr>
            <p:cNvPr id="747" name="Freeform 115"/>
            <p:cNvSpPr/>
            <p:nvPr/>
          </p:nvSpPr>
          <p:spPr>
            <a:xfrm>
              <a:off x="6172200" y="3623760"/>
              <a:ext cx="166680" cy="351360"/>
            </a:xfrm>
            <a:prstGeom prst="pie">
              <a:avLst/>
            </a:prstGeom>
            <a:solidFill>
              <a:srgbClr val="41c1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17480"/>
                  <a:tab algn="l" pos="1434960"/>
                  <a:tab algn="l" pos="2152800"/>
                  <a:tab algn="l" pos="2870280"/>
                  <a:tab algn="l" pos="3587760"/>
                  <a:tab algn="l" pos="4305240"/>
                  <a:tab algn="l" pos="5022720"/>
                  <a:tab algn="l" pos="5740560"/>
                  <a:tab algn="l" pos="6458040"/>
                  <a:tab algn="l" pos="7175520"/>
                  <a:tab algn="l" pos="7893000"/>
                  <a:tab algn="l" pos="8610480"/>
                  <a:tab algn="l" pos="9328320"/>
                  <a:tab algn="l" pos="10045800"/>
                  <a:tab algn="l" pos="107632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Oval 116"/>
            <p:cNvSpPr/>
            <p:nvPr/>
          </p:nvSpPr>
          <p:spPr>
            <a:xfrm>
              <a:off x="6221880" y="3551400"/>
              <a:ext cx="66960" cy="66600"/>
            </a:xfrm>
            <a:prstGeom prst="ellipse">
              <a:avLst/>
            </a:prstGeom>
            <a:solidFill>
              <a:srgbClr val="41c1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17480"/>
                  <a:tab algn="l" pos="1434960"/>
                  <a:tab algn="l" pos="2152800"/>
                  <a:tab algn="l" pos="2870280"/>
                  <a:tab algn="l" pos="3587760"/>
                  <a:tab algn="l" pos="4305240"/>
                  <a:tab algn="l" pos="5022720"/>
                  <a:tab algn="l" pos="5740560"/>
                  <a:tab algn="l" pos="6458040"/>
                  <a:tab algn="l" pos="7175520"/>
                  <a:tab algn="l" pos="7893000"/>
                  <a:tab algn="l" pos="8610480"/>
                  <a:tab algn="l" pos="9328320"/>
                  <a:tab algn="l" pos="10045800"/>
                  <a:tab algn="l" pos="107632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9" name="组合 410"/>
          <p:cNvGrpSpPr/>
          <p:nvPr/>
        </p:nvGrpSpPr>
        <p:grpSpPr>
          <a:xfrm>
            <a:off x="6389640" y="3551400"/>
            <a:ext cx="166680" cy="423720"/>
            <a:chOff x="6389640" y="3551400"/>
            <a:chExt cx="166680" cy="423720"/>
          </a:xfrm>
        </p:grpSpPr>
        <p:sp>
          <p:nvSpPr>
            <p:cNvPr id="750" name="Freeform 115"/>
            <p:cNvSpPr/>
            <p:nvPr/>
          </p:nvSpPr>
          <p:spPr>
            <a:xfrm>
              <a:off x="6389640" y="3623760"/>
              <a:ext cx="166680" cy="351360"/>
            </a:xfrm>
            <a:prstGeom prst="pie">
              <a:avLst/>
            </a:prstGeom>
            <a:solidFill>
              <a:srgbClr val="41c1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17480"/>
                  <a:tab algn="l" pos="1434960"/>
                  <a:tab algn="l" pos="2152800"/>
                  <a:tab algn="l" pos="2870280"/>
                  <a:tab algn="l" pos="3587760"/>
                  <a:tab algn="l" pos="4305240"/>
                  <a:tab algn="l" pos="5022720"/>
                  <a:tab algn="l" pos="5740560"/>
                  <a:tab algn="l" pos="6458040"/>
                  <a:tab algn="l" pos="7175520"/>
                  <a:tab algn="l" pos="7893000"/>
                  <a:tab algn="l" pos="8610480"/>
                  <a:tab algn="l" pos="9328320"/>
                  <a:tab algn="l" pos="10045800"/>
                  <a:tab algn="l" pos="107632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Oval 116"/>
            <p:cNvSpPr/>
            <p:nvPr/>
          </p:nvSpPr>
          <p:spPr>
            <a:xfrm>
              <a:off x="6439320" y="3551400"/>
              <a:ext cx="66960" cy="66600"/>
            </a:xfrm>
            <a:prstGeom prst="ellipse">
              <a:avLst/>
            </a:prstGeom>
            <a:solidFill>
              <a:srgbClr val="41c1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17480"/>
                  <a:tab algn="l" pos="1434960"/>
                  <a:tab algn="l" pos="2152800"/>
                  <a:tab algn="l" pos="2870280"/>
                  <a:tab algn="l" pos="3587760"/>
                  <a:tab algn="l" pos="4305240"/>
                  <a:tab algn="l" pos="5022720"/>
                  <a:tab algn="l" pos="5740560"/>
                  <a:tab algn="l" pos="6458040"/>
                  <a:tab algn="l" pos="7175520"/>
                  <a:tab algn="l" pos="7893000"/>
                  <a:tab algn="l" pos="8610480"/>
                  <a:tab algn="l" pos="9328320"/>
                  <a:tab algn="l" pos="10045800"/>
                  <a:tab algn="l" pos="107632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2" name="组合 411"/>
          <p:cNvGrpSpPr/>
          <p:nvPr/>
        </p:nvGrpSpPr>
        <p:grpSpPr>
          <a:xfrm>
            <a:off x="6607080" y="3551400"/>
            <a:ext cx="166680" cy="423720"/>
            <a:chOff x="6607080" y="3551400"/>
            <a:chExt cx="166680" cy="423720"/>
          </a:xfrm>
        </p:grpSpPr>
        <p:sp>
          <p:nvSpPr>
            <p:cNvPr id="753" name="Freeform 115"/>
            <p:cNvSpPr/>
            <p:nvPr/>
          </p:nvSpPr>
          <p:spPr>
            <a:xfrm>
              <a:off x="6607080" y="3623760"/>
              <a:ext cx="166680" cy="351360"/>
            </a:xfrm>
            <a:prstGeom prst="pie">
              <a:avLst/>
            </a:prstGeom>
            <a:solidFill>
              <a:srgbClr val="41c1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17480"/>
                  <a:tab algn="l" pos="1434960"/>
                  <a:tab algn="l" pos="2152800"/>
                  <a:tab algn="l" pos="2870280"/>
                  <a:tab algn="l" pos="3587760"/>
                  <a:tab algn="l" pos="4305240"/>
                  <a:tab algn="l" pos="5022720"/>
                  <a:tab algn="l" pos="5740560"/>
                  <a:tab algn="l" pos="6458040"/>
                  <a:tab algn="l" pos="7175520"/>
                  <a:tab algn="l" pos="7893000"/>
                  <a:tab algn="l" pos="8610480"/>
                  <a:tab algn="l" pos="9328320"/>
                  <a:tab algn="l" pos="10045800"/>
                  <a:tab algn="l" pos="107632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Oval 116"/>
            <p:cNvSpPr/>
            <p:nvPr/>
          </p:nvSpPr>
          <p:spPr>
            <a:xfrm>
              <a:off x="6656760" y="3551400"/>
              <a:ext cx="66960" cy="66600"/>
            </a:xfrm>
            <a:prstGeom prst="ellipse">
              <a:avLst/>
            </a:prstGeom>
            <a:solidFill>
              <a:srgbClr val="41c1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17480"/>
                  <a:tab algn="l" pos="1434960"/>
                  <a:tab algn="l" pos="2152800"/>
                  <a:tab algn="l" pos="2870280"/>
                  <a:tab algn="l" pos="3587760"/>
                  <a:tab algn="l" pos="4305240"/>
                  <a:tab algn="l" pos="5022720"/>
                  <a:tab algn="l" pos="5740560"/>
                  <a:tab algn="l" pos="6458040"/>
                  <a:tab algn="l" pos="7175520"/>
                  <a:tab algn="l" pos="7893000"/>
                  <a:tab algn="l" pos="8610480"/>
                  <a:tab algn="l" pos="9328320"/>
                  <a:tab algn="l" pos="10045800"/>
                  <a:tab algn="l" pos="107632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5" name="组合 412"/>
          <p:cNvGrpSpPr/>
          <p:nvPr/>
        </p:nvGrpSpPr>
        <p:grpSpPr>
          <a:xfrm>
            <a:off x="6824520" y="3551400"/>
            <a:ext cx="166680" cy="423720"/>
            <a:chOff x="6824520" y="3551400"/>
            <a:chExt cx="166680" cy="423720"/>
          </a:xfrm>
        </p:grpSpPr>
        <p:sp>
          <p:nvSpPr>
            <p:cNvPr id="756" name="Freeform 115"/>
            <p:cNvSpPr/>
            <p:nvPr/>
          </p:nvSpPr>
          <p:spPr>
            <a:xfrm>
              <a:off x="6824520" y="3623760"/>
              <a:ext cx="166680" cy="351360"/>
            </a:xfrm>
            <a:prstGeom prst="pie">
              <a:avLst/>
            </a:prstGeom>
            <a:solidFill>
              <a:srgbClr val="41c1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17480"/>
                  <a:tab algn="l" pos="1434960"/>
                  <a:tab algn="l" pos="2152800"/>
                  <a:tab algn="l" pos="2870280"/>
                  <a:tab algn="l" pos="3587760"/>
                  <a:tab algn="l" pos="4305240"/>
                  <a:tab algn="l" pos="5022720"/>
                  <a:tab algn="l" pos="5740560"/>
                  <a:tab algn="l" pos="6458040"/>
                  <a:tab algn="l" pos="7175520"/>
                  <a:tab algn="l" pos="7893000"/>
                  <a:tab algn="l" pos="8610480"/>
                  <a:tab algn="l" pos="9328320"/>
                  <a:tab algn="l" pos="10045800"/>
                  <a:tab algn="l" pos="107632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Oval 116"/>
            <p:cNvSpPr/>
            <p:nvPr/>
          </p:nvSpPr>
          <p:spPr>
            <a:xfrm>
              <a:off x="6874200" y="3551400"/>
              <a:ext cx="66960" cy="66600"/>
            </a:xfrm>
            <a:prstGeom prst="ellipse">
              <a:avLst/>
            </a:prstGeom>
            <a:solidFill>
              <a:srgbClr val="41c1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17480"/>
                  <a:tab algn="l" pos="1434960"/>
                  <a:tab algn="l" pos="2152800"/>
                  <a:tab algn="l" pos="2870280"/>
                  <a:tab algn="l" pos="3587760"/>
                  <a:tab algn="l" pos="4305240"/>
                  <a:tab algn="l" pos="5022720"/>
                  <a:tab algn="l" pos="5740560"/>
                  <a:tab algn="l" pos="6458040"/>
                  <a:tab algn="l" pos="7175520"/>
                  <a:tab algn="l" pos="7893000"/>
                  <a:tab algn="l" pos="8610480"/>
                  <a:tab algn="l" pos="9328320"/>
                  <a:tab algn="l" pos="10045800"/>
                  <a:tab algn="l" pos="107632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8" name="组合 461"/>
          <p:cNvGrpSpPr/>
          <p:nvPr/>
        </p:nvGrpSpPr>
        <p:grpSpPr>
          <a:xfrm>
            <a:off x="1819440" y="1384200"/>
            <a:ext cx="5171760" cy="425520"/>
            <a:chOff x="1819440" y="1384200"/>
            <a:chExt cx="5171760" cy="425520"/>
          </a:xfrm>
        </p:grpSpPr>
        <p:grpSp>
          <p:nvGrpSpPr>
            <p:cNvPr id="759" name="组合 462"/>
            <p:cNvGrpSpPr/>
            <p:nvPr/>
          </p:nvGrpSpPr>
          <p:grpSpPr>
            <a:xfrm>
              <a:off x="1819440" y="1384200"/>
              <a:ext cx="167040" cy="425520"/>
              <a:chOff x="1819440" y="1384200"/>
              <a:chExt cx="167040" cy="425520"/>
            </a:xfrm>
          </p:grpSpPr>
          <p:sp>
            <p:nvSpPr>
              <p:cNvPr id="760" name="Freeform 115"/>
              <p:cNvSpPr/>
              <p:nvPr/>
            </p:nvSpPr>
            <p:spPr>
              <a:xfrm>
                <a:off x="1819440" y="1456920"/>
                <a:ext cx="167040" cy="352800"/>
              </a:xfrm>
              <a:prstGeom prst="pie">
                <a:avLst/>
              </a:prstGeom>
              <a:solidFill>
                <a:srgbClr val="eb58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1" name="Oval 116"/>
              <p:cNvSpPr/>
              <p:nvPr/>
            </p:nvSpPr>
            <p:spPr>
              <a:xfrm>
                <a:off x="1869480" y="1384200"/>
                <a:ext cx="66960" cy="66960"/>
              </a:xfrm>
              <a:prstGeom prst="ellipse">
                <a:avLst/>
              </a:prstGeom>
              <a:solidFill>
                <a:srgbClr val="eb58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2" name="组合 463"/>
            <p:cNvGrpSpPr/>
            <p:nvPr/>
          </p:nvGrpSpPr>
          <p:grpSpPr>
            <a:xfrm>
              <a:off x="2036880" y="1384200"/>
              <a:ext cx="167040" cy="425520"/>
              <a:chOff x="2036880" y="1384200"/>
              <a:chExt cx="167040" cy="425520"/>
            </a:xfrm>
          </p:grpSpPr>
          <p:sp>
            <p:nvSpPr>
              <p:cNvPr id="763" name="Freeform 115"/>
              <p:cNvSpPr/>
              <p:nvPr/>
            </p:nvSpPr>
            <p:spPr>
              <a:xfrm>
                <a:off x="2036880" y="1456920"/>
                <a:ext cx="167040" cy="352800"/>
              </a:xfrm>
              <a:prstGeom prst="pie">
                <a:avLst/>
              </a:prstGeom>
              <a:solidFill>
                <a:srgbClr val="eb58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4" name="Oval 116"/>
              <p:cNvSpPr/>
              <p:nvPr/>
            </p:nvSpPr>
            <p:spPr>
              <a:xfrm>
                <a:off x="2086920" y="1384200"/>
                <a:ext cx="66960" cy="66960"/>
              </a:xfrm>
              <a:prstGeom prst="ellipse">
                <a:avLst/>
              </a:prstGeom>
              <a:solidFill>
                <a:srgbClr val="eb58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5" name="组合 464"/>
            <p:cNvGrpSpPr/>
            <p:nvPr/>
          </p:nvGrpSpPr>
          <p:grpSpPr>
            <a:xfrm>
              <a:off x="2254320" y="1384200"/>
              <a:ext cx="167040" cy="425520"/>
              <a:chOff x="2254320" y="1384200"/>
              <a:chExt cx="167040" cy="425520"/>
            </a:xfrm>
          </p:grpSpPr>
          <p:sp>
            <p:nvSpPr>
              <p:cNvPr id="766" name="Freeform 115"/>
              <p:cNvSpPr/>
              <p:nvPr/>
            </p:nvSpPr>
            <p:spPr>
              <a:xfrm>
                <a:off x="2254320" y="1456920"/>
                <a:ext cx="167040" cy="352800"/>
              </a:xfrm>
              <a:prstGeom prst="pie">
                <a:avLst/>
              </a:prstGeom>
              <a:solidFill>
                <a:srgbClr val="eb58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7" name="Oval 116"/>
              <p:cNvSpPr/>
              <p:nvPr/>
            </p:nvSpPr>
            <p:spPr>
              <a:xfrm>
                <a:off x="2304360" y="1384200"/>
                <a:ext cx="66960" cy="66960"/>
              </a:xfrm>
              <a:prstGeom prst="ellipse">
                <a:avLst/>
              </a:prstGeom>
              <a:solidFill>
                <a:srgbClr val="eb58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8" name="组合 465"/>
            <p:cNvGrpSpPr/>
            <p:nvPr/>
          </p:nvGrpSpPr>
          <p:grpSpPr>
            <a:xfrm>
              <a:off x="2472120" y="1384200"/>
              <a:ext cx="167040" cy="425520"/>
              <a:chOff x="2472120" y="1384200"/>
              <a:chExt cx="167040" cy="425520"/>
            </a:xfrm>
          </p:grpSpPr>
          <p:sp>
            <p:nvSpPr>
              <p:cNvPr id="769" name="Freeform 115"/>
              <p:cNvSpPr/>
              <p:nvPr/>
            </p:nvSpPr>
            <p:spPr>
              <a:xfrm>
                <a:off x="2472120" y="1456920"/>
                <a:ext cx="167040" cy="352800"/>
              </a:xfrm>
              <a:prstGeom prst="pie">
                <a:avLst/>
              </a:prstGeom>
              <a:solidFill>
                <a:srgbClr val="eb58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Oval 116"/>
              <p:cNvSpPr/>
              <p:nvPr/>
            </p:nvSpPr>
            <p:spPr>
              <a:xfrm>
                <a:off x="2522160" y="1384200"/>
                <a:ext cx="66960" cy="66960"/>
              </a:xfrm>
              <a:prstGeom prst="ellipse">
                <a:avLst/>
              </a:prstGeom>
              <a:solidFill>
                <a:srgbClr val="eb58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1" name="组合 466"/>
            <p:cNvGrpSpPr/>
            <p:nvPr/>
          </p:nvGrpSpPr>
          <p:grpSpPr>
            <a:xfrm>
              <a:off x="2689560" y="1384200"/>
              <a:ext cx="167040" cy="425520"/>
              <a:chOff x="2689560" y="1384200"/>
              <a:chExt cx="167040" cy="425520"/>
            </a:xfrm>
          </p:grpSpPr>
          <p:sp>
            <p:nvSpPr>
              <p:cNvPr id="772" name="Freeform 115"/>
              <p:cNvSpPr/>
              <p:nvPr/>
            </p:nvSpPr>
            <p:spPr>
              <a:xfrm>
                <a:off x="2689560" y="1456920"/>
                <a:ext cx="167040" cy="352800"/>
              </a:xfrm>
              <a:prstGeom prst="pie">
                <a:avLst/>
              </a:prstGeom>
              <a:solidFill>
                <a:srgbClr val="eb58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Oval 116"/>
              <p:cNvSpPr/>
              <p:nvPr/>
            </p:nvSpPr>
            <p:spPr>
              <a:xfrm>
                <a:off x="2739600" y="1384200"/>
                <a:ext cx="66960" cy="66960"/>
              </a:xfrm>
              <a:prstGeom prst="ellipse">
                <a:avLst/>
              </a:prstGeom>
              <a:solidFill>
                <a:srgbClr val="eb58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467"/>
            <p:cNvGrpSpPr/>
            <p:nvPr/>
          </p:nvGrpSpPr>
          <p:grpSpPr>
            <a:xfrm>
              <a:off x="2907360" y="1384200"/>
              <a:ext cx="167040" cy="425520"/>
              <a:chOff x="2907360" y="1384200"/>
              <a:chExt cx="167040" cy="425520"/>
            </a:xfrm>
          </p:grpSpPr>
          <p:sp>
            <p:nvSpPr>
              <p:cNvPr id="775" name="Freeform 115"/>
              <p:cNvSpPr/>
              <p:nvPr/>
            </p:nvSpPr>
            <p:spPr>
              <a:xfrm>
                <a:off x="2907360" y="1456920"/>
                <a:ext cx="167040" cy="352800"/>
              </a:xfrm>
              <a:prstGeom prst="pie">
                <a:avLst/>
              </a:prstGeom>
              <a:solidFill>
                <a:srgbClr val="eb58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Oval 116"/>
              <p:cNvSpPr/>
              <p:nvPr/>
            </p:nvSpPr>
            <p:spPr>
              <a:xfrm>
                <a:off x="2957400" y="1384200"/>
                <a:ext cx="66960" cy="66960"/>
              </a:xfrm>
              <a:prstGeom prst="ellipse">
                <a:avLst/>
              </a:prstGeom>
              <a:solidFill>
                <a:srgbClr val="eb58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7" name="组合 468"/>
            <p:cNvGrpSpPr/>
            <p:nvPr/>
          </p:nvGrpSpPr>
          <p:grpSpPr>
            <a:xfrm>
              <a:off x="3124800" y="1384200"/>
              <a:ext cx="167040" cy="425520"/>
              <a:chOff x="3124800" y="1384200"/>
              <a:chExt cx="167040" cy="425520"/>
            </a:xfrm>
          </p:grpSpPr>
          <p:sp>
            <p:nvSpPr>
              <p:cNvPr id="778" name="Freeform 115"/>
              <p:cNvSpPr/>
              <p:nvPr/>
            </p:nvSpPr>
            <p:spPr>
              <a:xfrm>
                <a:off x="3124800" y="1456920"/>
                <a:ext cx="167040" cy="352800"/>
              </a:xfrm>
              <a:prstGeom prst="pie">
                <a:avLst/>
              </a:prstGeom>
              <a:solidFill>
                <a:srgbClr val="eb58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9" name="Oval 116"/>
              <p:cNvSpPr/>
              <p:nvPr/>
            </p:nvSpPr>
            <p:spPr>
              <a:xfrm>
                <a:off x="3174840" y="1384200"/>
                <a:ext cx="66960" cy="66960"/>
              </a:xfrm>
              <a:prstGeom prst="ellipse">
                <a:avLst/>
              </a:prstGeom>
              <a:solidFill>
                <a:srgbClr val="eb58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0" name="组合 469"/>
            <p:cNvGrpSpPr/>
            <p:nvPr/>
          </p:nvGrpSpPr>
          <p:grpSpPr>
            <a:xfrm>
              <a:off x="3342600" y="1384200"/>
              <a:ext cx="167040" cy="425520"/>
              <a:chOff x="3342600" y="1384200"/>
              <a:chExt cx="167040" cy="425520"/>
            </a:xfrm>
          </p:grpSpPr>
          <p:sp>
            <p:nvSpPr>
              <p:cNvPr id="781" name="Freeform 115"/>
              <p:cNvSpPr/>
              <p:nvPr/>
            </p:nvSpPr>
            <p:spPr>
              <a:xfrm>
                <a:off x="3342600" y="1456920"/>
                <a:ext cx="167040" cy="352800"/>
              </a:xfrm>
              <a:prstGeom prst="pie">
                <a:avLst/>
              </a:prstGeom>
              <a:solidFill>
                <a:srgbClr val="eb58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2" name="Oval 116"/>
              <p:cNvSpPr/>
              <p:nvPr/>
            </p:nvSpPr>
            <p:spPr>
              <a:xfrm>
                <a:off x="3392640" y="1384200"/>
                <a:ext cx="66960" cy="66960"/>
              </a:xfrm>
              <a:prstGeom prst="ellipse">
                <a:avLst/>
              </a:prstGeom>
              <a:solidFill>
                <a:srgbClr val="eb58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3" name="组合 470"/>
            <p:cNvGrpSpPr/>
            <p:nvPr/>
          </p:nvGrpSpPr>
          <p:grpSpPr>
            <a:xfrm>
              <a:off x="3560040" y="1384200"/>
              <a:ext cx="167040" cy="425520"/>
              <a:chOff x="3560040" y="1384200"/>
              <a:chExt cx="167040" cy="425520"/>
            </a:xfrm>
          </p:grpSpPr>
          <p:sp>
            <p:nvSpPr>
              <p:cNvPr id="784" name="Freeform 115"/>
              <p:cNvSpPr/>
              <p:nvPr/>
            </p:nvSpPr>
            <p:spPr>
              <a:xfrm>
                <a:off x="3560040" y="1456920"/>
                <a:ext cx="167040" cy="352800"/>
              </a:xfrm>
              <a:prstGeom prst="pie">
                <a:avLst/>
              </a:prstGeom>
              <a:solidFill>
                <a:srgbClr val="eb58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5" name="Oval 116"/>
              <p:cNvSpPr/>
              <p:nvPr/>
            </p:nvSpPr>
            <p:spPr>
              <a:xfrm>
                <a:off x="3610080" y="1384200"/>
                <a:ext cx="66960" cy="66960"/>
              </a:xfrm>
              <a:prstGeom prst="ellipse">
                <a:avLst/>
              </a:prstGeom>
              <a:solidFill>
                <a:srgbClr val="eb58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6" name="组合 471"/>
            <p:cNvGrpSpPr/>
            <p:nvPr/>
          </p:nvGrpSpPr>
          <p:grpSpPr>
            <a:xfrm>
              <a:off x="3777840" y="1384200"/>
              <a:ext cx="167040" cy="425520"/>
              <a:chOff x="3777840" y="1384200"/>
              <a:chExt cx="167040" cy="425520"/>
            </a:xfrm>
          </p:grpSpPr>
          <p:sp>
            <p:nvSpPr>
              <p:cNvPr id="787" name="Freeform 115"/>
              <p:cNvSpPr/>
              <p:nvPr/>
            </p:nvSpPr>
            <p:spPr>
              <a:xfrm>
                <a:off x="3777840" y="1456920"/>
                <a:ext cx="167040" cy="352800"/>
              </a:xfrm>
              <a:prstGeom prst="pie">
                <a:avLst/>
              </a:prstGeom>
              <a:solidFill>
                <a:srgbClr val="eb58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8" name="Oval 116"/>
              <p:cNvSpPr/>
              <p:nvPr/>
            </p:nvSpPr>
            <p:spPr>
              <a:xfrm>
                <a:off x="3827880" y="1384200"/>
                <a:ext cx="66960" cy="66960"/>
              </a:xfrm>
              <a:prstGeom prst="ellipse">
                <a:avLst/>
              </a:prstGeom>
              <a:solidFill>
                <a:srgbClr val="eb58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9" name="组合 472"/>
            <p:cNvGrpSpPr/>
            <p:nvPr/>
          </p:nvGrpSpPr>
          <p:grpSpPr>
            <a:xfrm>
              <a:off x="3995280" y="1384200"/>
              <a:ext cx="167040" cy="425520"/>
              <a:chOff x="3995280" y="1384200"/>
              <a:chExt cx="167040" cy="425520"/>
            </a:xfrm>
          </p:grpSpPr>
          <p:sp>
            <p:nvSpPr>
              <p:cNvPr id="790" name="Freeform 115"/>
              <p:cNvSpPr/>
              <p:nvPr/>
            </p:nvSpPr>
            <p:spPr>
              <a:xfrm>
                <a:off x="3995280" y="1456920"/>
                <a:ext cx="167040" cy="352800"/>
              </a:xfrm>
              <a:prstGeom prst="pie">
                <a:avLst/>
              </a:prstGeom>
              <a:solidFill>
                <a:srgbClr val="eb58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1" name="Oval 116"/>
              <p:cNvSpPr/>
              <p:nvPr/>
            </p:nvSpPr>
            <p:spPr>
              <a:xfrm>
                <a:off x="4045320" y="1384200"/>
                <a:ext cx="66960" cy="66960"/>
              </a:xfrm>
              <a:prstGeom prst="ellipse">
                <a:avLst/>
              </a:prstGeom>
              <a:solidFill>
                <a:srgbClr val="eb58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2" name="组合 473"/>
            <p:cNvGrpSpPr/>
            <p:nvPr/>
          </p:nvGrpSpPr>
          <p:grpSpPr>
            <a:xfrm>
              <a:off x="4213080" y="1384200"/>
              <a:ext cx="167040" cy="425520"/>
              <a:chOff x="4213080" y="1384200"/>
              <a:chExt cx="167040" cy="425520"/>
            </a:xfrm>
          </p:grpSpPr>
          <p:sp>
            <p:nvSpPr>
              <p:cNvPr id="793" name="Freeform 115"/>
              <p:cNvSpPr/>
              <p:nvPr/>
            </p:nvSpPr>
            <p:spPr>
              <a:xfrm>
                <a:off x="4213080" y="1456920"/>
                <a:ext cx="167040" cy="352800"/>
              </a:xfrm>
              <a:prstGeom prst="pie">
                <a:avLst/>
              </a:prstGeom>
              <a:solidFill>
                <a:srgbClr val="eb58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4" name="Oval 116"/>
              <p:cNvSpPr/>
              <p:nvPr/>
            </p:nvSpPr>
            <p:spPr>
              <a:xfrm>
                <a:off x="4263120" y="1384200"/>
                <a:ext cx="66960" cy="66960"/>
              </a:xfrm>
              <a:prstGeom prst="ellipse">
                <a:avLst/>
              </a:prstGeom>
              <a:solidFill>
                <a:srgbClr val="eb58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5" name="组合 474"/>
            <p:cNvGrpSpPr/>
            <p:nvPr/>
          </p:nvGrpSpPr>
          <p:grpSpPr>
            <a:xfrm>
              <a:off x="4430520" y="1384200"/>
              <a:ext cx="167040" cy="425520"/>
              <a:chOff x="4430520" y="1384200"/>
              <a:chExt cx="167040" cy="425520"/>
            </a:xfrm>
          </p:grpSpPr>
          <p:sp>
            <p:nvSpPr>
              <p:cNvPr id="796" name="Freeform 115"/>
              <p:cNvSpPr/>
              <p:nvPr/>
            </p:nvSpPr>
            <p:spPr>
              <a:xfrm>
                <a:off x="4430520" y="1456920"/>
                <a:ext cx="167040" cy="352800"/>
              </a:xfrm>
              <a:prstGeom prst="pie">
                <a:avLst/>
              </a:prstGeom>
              <a:solidFill>
                <a:srgbClr val="eb58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7" name="Oval 116"/>
              <p:cNvSpPr/>
              <p:nvPr/>
            </p:nvSpPr>
            <p:spPr>
              <a:xfrm>
                <a:off x="4480560" y="1384200"/>
                <a:ext cx="66960" cy="66960"/>
              </a:xfrm>
              <a:prstGeom prst="ellipse">
                <a:avLst/>
              </a:prstGeom>
              <a:solidFill>
                <a:srgbClr val="eb58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8" name="组合 475"/>
            <p:cNvGrpSpPr/>
            <p:nvPr/>
          </p:nvGrpSpPr>
          <p:grpSpPr>
            <a:xfrm>
              <a:off x="4647960" y="1384200"/>
              <a:ext cx="167040" cy="425520"/>
              <a:chOff x="4647960" y="1384200"/>
              <a:chExt cx="167040" cy="425520"/>
            </a:xfrm>
          </p:grpSpPr>
          <p:sp>
            <p:nvSpPr>
              <p:cNvPr id="799" name="Freeform 115"/>
              <p:cNvSpPr/>
              <p:nvPr/>
            </p:nvSpPr>
            <p:spPr>
              <a:xfrm>
                <a:off x="4647960" y="1456920"/>
                <a:ext cx="167040" cy="352800"/>
              </a:xfrm>
              <a:prstGeom prst="pie">
                <a:avLst/>
              </a:prstGeom>
              <a:solidFill>
                <a:srgbClr val="eb58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" name="Oval 116"/>
              <p:cNvSpPr/>
              <p:nvPr/>
            </p:nvSpPr>
            <p:spPr>
              <a:xfrm>
                <a:off x="4698000" y="1384200"/>
                <a:ext cx="66960" cy="66960"/>
              </a:xfrm>
              <a:prstGeom prst="ellipse">
                <a:avLst/>
              </a:prstGeom>
              <a:solidFill>
                <a:srgbClr val="eb58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1" name="组合 476"/>
            <p:cNvGrpSpPr/>
            <p:nvPr/>
          </p:nvGrpSpPr>
          <p:grpSpPr>
            <a:xfrm>
              <a:off x="4865760" y="1384200"/>
              <a:ext cx="167040" cy="425520"/>
              <a:chOff x="4865760" y="1384200"/>
              <a:chExt cx="167040" cy="425520"/>
            </a:xfrm>
          </p:grpSpPr>
          <p:sp>
            <p:nvSpPr>
              <p:cNvPr id="802" name="Freeform 115"/>
              <p:cNvSpPr/>
              <p:nvPr/>
            </p:nvSpPr>
            <p:spPr>
              <a:xfrm>
                <a:off x="4865760" y="1456920"/>
                <a:ext cx="167040" cy="352800"/>
              </a:xfrm>
              <a:prstGeom prst="pie">
                <a:avLst/>
              </a:prstGeom>
              <a:solidFill>
                <a:srgbClr val="eb58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3" name="Oval 116"/>
              <p:cNvSpPr/>
              <p:nvPr/>
            </p:nvSpPr>
            <p:spPr>
              <a:xfrm>
                <a:off x="4915800" y="1384200"/>
                <a:ext cx="66960" cy="66960"/>
              </a:xfrm>
              <a:prstGeom prst="ellipse">
                <a:avLst/>
              </a:prstGeom>
              <a:solidFill>
                <a:srgbClr val="eb58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4" name="组合 477"/>
            <p:cNvGrpSpPr/>
            <p:nvPr/>
          </p:nvGrpSpPr>
          <p:grpSpPr>
            <a:xfrm>
              <a:off x="5083200" y="1384200"/>
              <a:ext cx="167040" cy="425520"/>
              <a:chOff x="5083200" y="1384200"/>
              <a:chExt cx="167040" cy="425520"/>
            </a:xfrm>
          </p:grpSpPr>
          <p:sp>
            <p:nvSpPr>
              <p:cNvPr id="805" name="Freeform 115"/>
              <p:cNvSpPr/>
              <p:nvPr/>
            </p:nvSpPr>
            <p:spPr>
              <a:xfrm>
                <a:off x="5083200" y="1456920"/>
                <a:ext cx="167040" cy="352800"/>
              </a:xfrm>
              <a:prstGeom prst="pie">
                <a:avLst/>
              </a:prstGeom>
              <a:solidFill>
                <a:srgbClr val="eb58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6" name="Oval 116"/>
              <p:cNvSpPr/>
              <p:nvPr/>
            </p:nvSpPr>
            <p:spPr>
              <a:xfrm>
                <a:off x="5133240" y="1384200"/>
                <a:ext cx="66960" cy="66960"/>
              </a:xfrm>
              <a:prstGeom prst="ellipse">
                <a:avLst/>
              </a:prstGeom>
              <a:solidFill>
                <a:srgbClr val="eb58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7" name="组合 478"/>
            <p:cNvGrpSpPr/>
            <p:nvPr/>
          </p:nvGrpSpPr>
          <p:grpSpPr>
            <a:xfrm>
              <a:off x="5301000" y="1384200"/>
              <a:ext cx="167040" cy="425520"/>
              <a:chOff x="5301000" y="1384200"/>
              <a:chExt cx="167040" cy="425520"/>
            </a:xfrm>
          </p:grpSpPr>
          <p:sp>
            <p:nvSpPr>
              <p:cNvPr id="808" name="Freeform 115"/>
              <p:cNvSpPr/>
              <p:nvPr/>
            </p:nvSpPr>
            <p:spPr>
              <a:xfrm>
                <a:off x="5301000" y="1456920"/>
                <a:ext cx="167040" cy="352800"/>
              </a:xfrm>
              <a:prstGeom prst="pie">
                <a:avLst/>
              </a:prstGeom>
              <a:solidFill>
                <a:srgbClr val="eb58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9" name="Oval 116"/>
              <p:cNvSpPr/>
              <p:nvPr/>
            </p:nvSpPr>
            <p:spPr>
              <a:xfrm>
                <a:off x="5351040" y="1384200"/>
                <a:ext cx="66960" cy="66960"/>
              </a:xfrm>
              <a:prstGeom prst="ellipse">
                <a:avLst/>
              </a:prstGeom>
              <a:solidFill>
                <a:srgbClr val="eb58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0" name="组合 479"/>
            <p:cNvGrpSpPr/>
            <p:nvPr/>
          </p:nvGrpSpPr>
          <p:grpSpPr>
            <a:xfrm>
              <a:off x="5518440" y="1384200"/>
              <a:ext cx="167040" cy="425520"/>
              <a:chOff x="5518440" y="1384200"/>
              <a:chExt cx="167040" cy="425520"/>
            </a:xfrm>
          </p:grpSpPr>
          <p:sp>
            <p:nvSpPr>
              <p:cNvPr id="811" name="Freeform 115"/>
              <p:cNvSpPr/>
              <p:nvPr/>
            </p:nvSpPr>
            <p:spPr>
              <a:xfrm>
                <a:off x="5518440" y="1456920"/>
                <a:ext cx="167040" cy="352800"/>
              </a:xfrm>
              <a:prstGeom prst="pie">
                <a:avLst/>
              </a:prstGeom>
              <a:solidFill>
                <a:srgbClr val="eb58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2" name="Oval 116"/>
              <p:cNvSpPr/>
              <p:nvPr/>
            </p:nvSpPr>
            <p:spPr>
              <a:xfrm>
                <a:off x="5568480" y="1384200"/>
                <a:ext cx="66960" cy="66960"/>
              </a:xfrm>
              <a:prstGeom prst="ellipse">
                <a:avLst/>
              </a:prstGeom>
              <a:solidFill>
                <a:srgbClr val="eb58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3" name="组合 480"/>
            <p:cNvGrpSpPr/>
            <p:nvPr/>
          </p:nvGrpSpPr>
          <p:grpSpPr>
            <a:xfrm>
              <a:off x="5736240" y="1384200"/>
              <a:ext cx="167040" cy="425520"/>
              <a:chOff x="5736240" y="1384200"/>
              <a:chExt cx="167040" cy="425520"/>
            </a:xfrm>
          </p:grpSpPr>
          <p:sp>
            <p:nvSpPr>
              <p:cNvPr id="814" name="Freeform 115"/>
              <p:cNvSpPr/>
              <p:nvPr/>
            </p:nvSpPr>
            <p:spPr>
              <a:xfrm>
                <a:off x="5736240" y="1456920"/>
                <a:ext cx="167040" cy="352800"/>
              </a:xfrm>
              <a:prstGeom prst="pie">
                <a:avLst/>
              </a:prstGeom>
              <a:solidFill>
                <a:srgbClr val="eb58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5" name="Oval 116"/>
              <p:cNvSpPr/>
              <p:nvPr/>
            </p:nvSpPr>
            <p:spPr>
              <a:xfrm>
                <a:off x="5786280" y="1384200"/>
                <a:ext cx="66960" cy="66960"/>
              </a:xfrm>
              <a:prstGeom prst="ellipse">
                <a:avLst/>
              </a:prstGeom>
              <a:solidFill>
                <a:srgbClr val="eb58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6" name="组合 481"/>
            <p:cNvGrpSpPr/>
            <p:nvPr/>
          </p:nvGrpSpPr>
          <p:grpSpPr>
            <a:xfrm>
              <a:off x="5953680" y="1384200"/>
              <a:ext cx="167040" cy="425520"/>
              <a:chOff x="5953680" y="1384200"/>
              <a:chExt cx="167040" cy="425520"/>
            </a:xfrm>
          </p:grpSpPr>
          <p:sp>
            <p:nvSpPr>
              <p:cNvPr id="817" name="Freeform 115"/>
              <p:cNvSpPr/>
              <p:nvPr/>
            </p:nvSpPr>
            <p:spPr>
              <a:xfrm>
                <a:off x="5953680" y="1456920"/>
                <a:ext cx="167040" cy="352800"/>
              </a:xfrm>
              <a:prstGeom prst="pie">
                <a:avLst/>
              </a:prstGeom>
              <a:solidFill>
                <a:srgbClr val="eb58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8" name="Oval 116"/>
              <p:cNvSpPr/>
              <p:nvPr/>
            </p:nvSpPr>
            <p:spPr>
              <a:xfrm>
                <a:off x="6003720" y="1384200"/>
                <a:ext cx="66960" cy="66960"/>
              </a:xfrm>
              <a:prstGeom prst="ellipse">
                <a:avLst/>
              </a:prstGeom>
              <a:solidFill>
                <a:srgbClr val="eb58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9" name="组合 482"/>
            <p:cNvGrpSpPr/>
            <p:nvPr/>
          </p:nvGrpSpPr>
          <p:grpSpPr>
            <a:xfrm>
              <a:off x="6171480" y="1384200"/>
              <a:ext cx="167040" cy="425520"/>
              <a:chOff x="6171480" y="1384200"/>
              <a:chExt cx="167040" cy="425520"/>
            </a:xfrm>
          </p:grpSpPr>
          <p:sp>
            <p:nvSpPr>
              <p:cNvPr id="820" name="Freeform 115"/>
              <p:cNvSpPr/>
              <p:nvPr/>
            </p:nvSpPr>
            <p:spPr>
              <a:xfrm>
                <a:off x="6171480" y="1456920"/>
                <a:ext cx="167040" cy="352800"/>
              </a:xfrm>
              <a:prstGeom prst="pie">
                <a:avLst/>
              </a:prstGeom>
              <a:solidFill>
                <a:srgbClr val="eb58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1" name="Oval 116"/>
              <p:cNvSpPr/>
              <p:nvPr/>
            </p:nvSpPr>
            <p:spPr>
              <a:xfrm>
                <a:off x="6221520" y="1384200"/>
                <a:ext cx="66960" cy="66960"/>
              </a:xfrm>
              <a:prstGeom prst="ellipse">
                <a:avLst/>
              </a:prstGeom>
              <a:solidFill>
                <a:srgbClr val="eb58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2" name="组合 483"/>
            <p:cNvGrpSpPr/>
            <p:nvPr/>
          </p:nvGrpSpPr>
          <p:grpSpPr>
            <a:xfrm>
              <a:off x="6388920" y="1384200"/>
              <a:ext cx="167040" cy="425520"/>
              <a:chOff x="6388920" y="1384200"/>
              <a:chExt cx="167040" cy="425520"/>
            </a:xfrm>
          </p:grpSpPr>
          <p:sp>
            <p:nvSpPr>
              <p:cNvPr id="823" name="Freeform 115"/>
              <p:cNvSpPr/>
              <p:nvPr/>
            </p:nvSpPr>
            <p:spPr>
              <a:xfrm>
                <a:off x="6388920" y="1456920"/>
                <a:ext cx="167040" cy="352800"/>
              </a:xfrm>
              <a:prstGeom prst="pie">
                <a:avLst/>
              </a:prstGeom>
              <a:solidFill>
                <a:srgbClr val="eb58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4" name="Oval 116"/>
              <p:cNvSpPr/>
              <p:nvPr/>
            </p:nvSpPr>
            <p:spPr>
              <a:xfrm>
                <a:off x="6438960" y="1384200"/>
                <a:ext cx="66960" cy="66960"/>
              </a:xfrm>
              <a:prstGeom prst="ellipse">
                <a:avLst/>
              </a:prstGeom>
              <a:solidFill>
                <a:srgbClr val="eb58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5" name="组合 484"/>
            <p:cNvGrpSpPr/>
            <p:nvPr/>
          </p:nvGrpSpPr>
          <p:grpSpPr>
            <a:xfrm>
              <a:off x="6606720" y="1384200"/>
              <a:ext cx="167040" cy="425520"/>
              <a:chOff x="6606720" y="1384200"/>
              <a:chExt cx="167040" cy="425520"/>
            </a:xfrm>
          </p:grpSpPr>
          <p:sp>
            <p:nvSpPr>
              <p:cNvPr id="826" name="Freeform 115"/>
              <p:cNvSpPr/>
              <p:nvPr/>
            </p:nvSpPr>
            <p:spPr>
              <a:xfrm>
                <a:off x="6606720" y="1456920"/>
                <a:ext cx="167040" cy="352800"/>
              </a:xfrm>
              <a:prstGeom prst="pie">
                <a:avLst/>
              </a:prstGeom>
              <a:solidFill>
                <a:srgbClr val="eb58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7" name="Oval 116"/>
              <p:cNvSpPr/>
              <p:nvPr/>
            </p:nvSpPr>
            <p:spPr>
              <a:xfrm>
                <a:off x="6656760" y="1384200"/>
                <a:ext cx="66960" cy="66960"/>
              </a:xfrm>
              <a:prstGeom prst="ellipse">
                <a:avLst/>
              </a:prstGeom>
              <a:solidFill>
                <a:srgbClr val="eb58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8" name="组合 485"/>
            <p:cNvGrpSpPr/>
            <p:nvPr/>
          </p:nvGrpSpPr>
          <p:grpSpPr>
            <a:xfrm>
              <a:off x="6824160" y="1384200"/>
              <a:ext cx="167040" cy="425520"/>
              <a:chOff x="6824160" y="1384200"/>
              <a:chExt cx="167040" cy="425520"/>
            </a:xfrm>
          </p:grpSpPr>
          <p:sp>
            <p:nvSpPr>
              <p:cNvPr id="829" name="Freeform 115"/>
              <p:cNvSpPr/>
              <p:nvPr/>
            </p:nvSpPr>
            <p:spPr>
              <a:xfrm>
                <a:off x="6824160" y="1456920"/>
                <a:ext cx="167040" cy="352800"/>
              </a:xfrm>
              <a:prstGeom prst="pie">
                <a:avLst/>
              </a:prstGeom>
              <a:solidFill>
                <a:srgbClr val="eb58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0" name="Oval 116"/>
              <p:cNvSpPr/>
              <p:nvPr/>
            </p:nvSpPr>
            <p:spPr>
              <a:xfrm>
                <a:off x="6874200" y="1384200"/>
                <a:ext cx="66960" cy="66960"/>
              </a:xfrm>
              <a:prstGeom prst="ellipse">
                <a:avLst/>
              </a:prstGeom>
              <a:solidFill>
                <a:srgbClr val="eb58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31" name="流程图: 终止 7"/>
          <p:cNvSpPr/>
          <p:nvPr/>
        </p:nvSpPr>
        <p:spPr>
          <a:xfrm>
            <a:off x="1979640" y="4119480"/>
            <a:ext cx="995400" cy="287280"/>
          </a:xfrm>
          <a:prstGeom prst="flowChartTerminator">
            <a:avLst/>
          </a:prstGeom>
          <a:solidFill>
            <a:srgbClr val="eb58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18-2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流程图: 终止 534"/>
          <p:cNvSpPr/>
          <p:nvPr/>
        </p:nvSpPr>
        <p:spPr>
          <a:xfrm>
            <a:off x="3273480" y="4119480"/>
            <a:ext cx="995400" cy="287280"/>
          </a:xfrm>
          <a:prstGeom prst="flowChartTerminator">
            <a:avLst/>
          </a:prstGeom>
          <a:solidFill>
            <a:srgbClr val="1370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30-3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流程图: 终止 535"/>
          <p:cNvSpPr/>
          <p:nvPr/>
        </p:nvSpPr>
        <p:spPr>
          <a:xfrm>
            <a:off x="4565520" y="4119480"/>
            <a:ext cx="995400" cy="287280"/>
          </a:xfrm>
          <a:prstGeom prst="flowChartTerminator">
            <a:avLst/>
          </a:prstGeom>
          <a:solidFill>
            <a:srgbClr val="2cb4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40-4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流程图: 终止 536"/>
          <p:cNvSpPr/>
          <p:nvPr/>
        </p:nvSpPr>
        <p:spPr>
          <a:xfrm>
            <a:off x="5859360" y="4119480"/>
            <a:ext cx="995400" cy="287280"/>
          </a:xfrm>
          <a:prstGeom prst="flowChartTerminator">
            <a:avLst/>
          </a:prstGeom>
          <a:solidFill>
            <a:srgbClr val="41c1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50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组合 2"/>
          <p:cNvGrpSpPr/>
          <p:nvPr/>
        </p:nvGrpSpPr>
        <p:grpSpPr>
          <a:xfrm>
            <a:off x="1150560" y="1995480"/>
            <a:ext cx="1034280" cy="1768320"/>
            <a:chOff x="1150560" y="1995480"/>
            <a:chExt cx="1034280" cy="1768320"/>
          </a:xfrm>
        </p:grpSpPr>
        <p:pic>
          <p:nvPicPr>
            <p:cNvPr id="60" name="Picture 7" descr="C:\Users\Administrator\Desktop\ooopic_1370423128.png"/>
            <p:cNvPicPr/>
            <p:nvPr/>
          </p:nvPicPr>
          <p:blipFill>
            <a:blip r:embed="rId2"/>
            <a:stretch/>
          </p:blipFill>
          <p:spPr>
            <a:xfrm>
              <a:off x="1253880" y="1995480"/>
              <a:ext cx="720000" cy="72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TextBox 8"/>
            <p:cNvSpPr/>
            <p:nvPr/>
          </p:nvSpPr>
          <p:spPr>
            <a:xfrm>
              <a:off x="1150560" y="2799360"/>
              <a:ext cx="10342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717480"/>
                  <a:tab algn="l" pos="1434960"/>
                  <a:tab algn="l" pos="2152800"/>
                  <a:tab algn="l" pos="2870280"/>
                  <a:tab algn="l" pos="3587760"/>
                  <a:tab algn="l" pos="4305240"/>
                  <a:tab algn="l" pos="5022720"/>
                  <a:tab algn="l" pos="5740560"/>
                  <a:tab algn="l" pos="6458040"/>
                  <a:tab algn="l" pos="7175520"/>
                  <a:tab algn="l" pos="7893000"/>
                  <a:tab algn="l" pos="8610480"/>
                  <a:tab algn="l" pos="9328320"/>
                  <a:tab algn="l" pos="10045800"/>
                  <a:tab algn="l" pos="10763280"/>
                </a:tabLst>
              </a:pPr>
              <a:r>
                <a:rPr b="0" lang="zh-CN" sz="1600" spc="-1" strike="noStrike">
                  <a:solidFill>
                    <a:srgbClr val="019ed5"/>
                  </a:solidFill>
                  <a:latin typeface="微软雅黑"/>
                  <a:ea typeface="微软雅黑"/>
                </a:rPr>
                <a:t>纸质图书（本）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TextBox 12"/>
            <p:cNvSpPr/>
            <p:nvPr/>
          </p:nvSpPr>
          <p:spPr>
            <a:xfrm>
              <a:off x="1172520" y="3030120"/>
              <a:ext cx="883440" cy="7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717480"/>
                  <a:tab algn="l" pos="1434960"/>
                  <a:tab algn="l" pos="2152800"/>
                  <a:tab algn="l" pos="2870280"/>
                  <a:tab algn="l" pos="3587760"/>
                  <a:tab algn="l" pos="4305240"/>
                  <a:tab algn="l" pos="5022720"/>
                  <a:tab algn="l" pos="5740560"/>
                  <a:tab algn="l" pos="6458040"/>
                  <a:tab algn="l" pos="7175520"/>
                  <a:tab algn="l" pos="7893000"/>
                  <a:tab algn="l" pos="8610480"/>
                  <a:tab algn="l" pos="9328320"/>
                  <a:tab algn="l" pos="10045800"/>
                  <a:tab algn="l" pos="10763280"/>
                </a:tabLst>
              </a:pPr>
              <a:r>
                <a:rPr b="0" lang="en-US" sz="2800" spc="-1" strike="noStrike">
                  <a:solidFill>
                    <a:srgbClr val="e96573"/>
                  </a:solidFill>
                  <a:latin typeface="Impact"/>
                  <a:ea typeface="微软雅黑"/>
                </a:rPr>
                <a:t>4.39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组合 3"/>
          <p:cNvGrpSpPr/>
          <p:nvPr/>
        </p:nvGrpSpPr>
        <p:grpSpPr>
          <a:xfrm>
            <a:off x="3111840" y="1995480"/>
            <a:ext cx="1001160" cy="1768320"/>
            <a:chOff x="3111840" y="1995480"/>
            <a:chExt cx="1001160" cy="1768320"/>
          </a:xfrm>
        </p:grpSpPr>
        <p:pic>
          <p:nvPicPr>
            <p:cNvPr id="64" name="Picture 5" descr="C:\Users\Administrator\Desktop\ooopic_1370423056.png"/>
            <p:cNvPicPr/>
            <p:nvPr/>
          </p:nvPicPr>
          <p:blipFill>
            <a:blip r:embed="rId3"/>
            <a:stretch/>
          </p:blipFill>
          <p:spPr>
            <a:xfrm>
              <a:off x="3193560" y="1995480"/>
              <a:ext cx="719640" cy="72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TextBox 9"/>
            <p:cNvSpPr/>
            <p:nvPr/>
          </p:nvSpPr>
          <p:spPr>
            <a:xfrm>
              <a:off x="3322800" y="2799360"/>
              <a:ext cx="7902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717480"/>
                  <a:tab algn="l" pos="1434960"/>
                  <a:tab algn="l" pos="2152800"/>
                  <a:tab algn="l" pos="2870280"/>
                  <a:tab algn="l" pos="3587760"/>
                  <a:tab algn="l" pos="4305240"/>
                  <a:tab algn="l" pos="5022720"/>
                  <a:tab algn="l" pos="5740560"/>
                  <a:tab algn="l" pos="6458040"/>
                  <a:tab algn="l" pos="7175520"/>
                  <a:tab algn="l" pos="7893000"/>
                  <a:tab algn="l" pos="8610480"/>
                  <a:tab algn="l" pos="9328320"/>
                  <a:tab algn="l" pos="10045800"/>
                  <a:tab algn="l" pos="10763280"/>
                </a:tabLst>
              </a:pPr>
              <a:r>
                <a:rPr b="0" lang="zh-CN" sz="1600" spc="-1" strike="noStrike">
                  <a:solidFill>
                    <a:srgbClr val="019ed5"/>
                  </a:solidFill>
                  <a:latin typeface="微软雅黑"/>
                  <a:ea typeface="微软雅黑"/>
                </a:rPr>
                <a:t>报纸（份）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TextBox 13"/>
            <p:cNvSpPr/>
            <p:nvPr/>
          </p:nvSpPr>
          <p:spPr>
            <a:xfrm>
              <a:off x="3111840" y="3030120"/>
              <a:ext cx="883440" cy="7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717480"/>
                  <a:tab algn="l" pos="1434960"/>
                  <a:tab algn="l" pos="2152800"/>
                  <a:tab algn="l" pos="2870280"/>
                  <a:tab algn="l" pos="3587760"/>
                  <a:tab algn="l" pos="4305240"/>
                  <a:tab algn="l" pos="5022720"/>
                  <a:tab algn="l" pos="5740560"/>
                  <a:tab algn="l" pos="6458040"/>
                  <a:tab algn="l" pos="7175520"/>
                  <a:tab algn="l" pos="7893000"/>
                  <a:tab algn="l" pos="8610480"/>
                  <a:tab algn="l" pos="9328320"/>
                  <a:tab algn="l" pos="10045800"/>
                  <a:tab algn="l" pos="10763280"/>
                </a:tabLst>
              </a:pPr>
              <a:r>
                <a:rPr b="0" lang="en-US" sz="2800" spc="-1" strike="noStrike">
                  <a:solidFill>
                    <a:srgbClr val="e96573"/>
                  </a:solidFill>
                  <a:latin typeface="Impact"/>
                  <a:ea typeface="微软雅黑"/>
                </a:rPr>
                <a:t>77.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" name="组合 4"/>
          <p:cNvGrpSpPr/>
          <p:nvPr/>
        </p:nvGrpSpPr>
        <p:grpSpPr>
          <a:xfrm>
            <a:off x="5048640" y="1995480"/>
            <a:ext cx="910440" cy="1768320"/>
            <a:chOff x="5048640" y="1995480"/>
            <a:chExt cx="910440" cy="1768320"/>
          </a:xfrm>
        </p:grpSpPr>
        <p:pic>
          <p:nvPicPr>
            <p:cNvPr id="68" name="Picture 8" descr="C:\Users\Administrator\Desktop\ooopic_1370423149.png"/>
            <p:cNvPicPr/>
            <p:nvPr/>
          </p:nvPicPr>
          <p:blipFill>
            <a:blip r:embed="rId4"/>
            <a:stretch/>
          </p:blipFill>
          <p:spPr>
            <a:xfrm>
              <a:off x="5134320" y="1995480"/>
              <a:ext cx="719280" cy="72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TextBox 10"/>
            <p:cNvSpPr/>
            <p:nvPr/>
          </p:nvSpPr>
          <p:spPr>
            <a:xfrm>
              <a:off x="5168880" y="2799360"/>
              <a:ext cx="7902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717480"/>
                  <a:tab algn="l" pos="1434960"/>
                  <a:tab algn="l" pos="2152800"/>
                  <a:tab algn="l" pos="2870280"/>
                  <a:tab algn="l" pos="3587760"/>
                  <a:tab algn="l" pos="4305240"/>
                  <a:tab algn="l" pos="5022720"/>
                  <a:tab algn="l" pos="5740560"/>
                  <a:tab algn="l" pos="6458040"/>
                  <a:tab algn="l" pos="7175520"/>
                  <a:tab algn="l" pos="7893000"/>
                  <a:tab algn="l" pos="8610480"/>
                  <a:tab algn="l" pos="9328320"/>
                  <a:tab algn="l" pos="10045800"/>
                  <a:tab algn="l" pos="10763280"/>
                </a:tabLst>
              </a:pPr>
              <a:r>
                <a:rPr b="0" lang="zh-CN" sz="1600" spc="-1" strike="noStrike">
                  <a:solidFill>
                    <a:srgbClr val="019ed5"/>
                  </a:solidFill>
                  <a:latin typeface="微软雅黑"/>
                  <a:ea typeface="微软雅黑"/>
                </a:rPr>
                <a:t>期刊（份）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TextBox 14"/>
            <p:cNvSpPr/>
            <p:nvPr/>
          </p:nvSpPr>
          <p:spPr>
            <a:xfrm>
              <a:off x="5048640" y="3030120"/>
              <a:ext cx="883440" cy="7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717480"/>
                  <a:tab algn="l" pos="1434960"/>
                  <a:tab algn="l" pos="2152800"/>
                  <a:tab algn="l" pos="2870280"/>
                  <a:tab algn="l" pos="3587760"/>
                  <a:tab algn="l" pos="4305240"/>
                  <a:tab algn="l" pos="5022720"/>
                  <a:tab algn="l" pos="5740560"/>
                  <a:tab algn="l" pos="6458040"/>
                  <a:tab algn="l" pos="7175520"/>
                  <a:tab algn="l" pos="7893000"/>
                  <a:tab algn="l" pos="8610480"/>
                  <a:tab algn="l" pos="9328320"/>
                  <a:tab algn="l" pos="10045800"/>
                  <a:tab algn="l" pos="10763280"/>
                </a:tabLst>
              </a:pPr>
              <a:r>
                <a:rPr b="0" lang="en-US" sz="2800" spc="-1" strike="noStrike">
                  <a:solidFill>
                    <a:srgbClr val="e96573"/>
                  </a:solidFill>
                  <a:latin typeface="Impact"/>
                  <a:ea typeface="微软雅黑"/>
                </a:rPr>
                <a:t>6.5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组合 5"/>
          <p:cNvGrpSpPr/>
          <p:nvPr/>
        </p:nvGrpSpPr>
        <p:grpSpPr>
          <a:xfrm>
            <a:off x="7028280" y="1995480"/>
            <a:ext cx="939960" cy="1768320"/>
            <a:chOff x="7028280" y="1995480"/>
            <a:chExt cx="939960" cy="1768320"/>
          </a:xfrm>
        </p:grpSpPr>
        <p:pic>
          <p:nvPicPr>
            <p:cNvPr id="72" name="Picture 6" descr="C:\Users\Administrator\Desktop\ooopic_1370423089.png"/>
            <p:cNvPicPr/>
            <p:nvPr/>
          </p:nvPicPr>
          <p:blipFill>
            <a:blip r:embed="rId5"/>
            <a:stretch/>
          </p:blipFill>
          <p:spPr>
            <a:xfrm>
              <a:off x="7073640" y="1995480"/>
              <a:ext cx="720360" cy="72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TextBox 11"/>
            <p:cNvSpPr/>
            <p:nvPr/>
          </p:nvSpPr>
          <p:spPr>
            <a:xfrm>
              <a:off x="7056000" y="2799360"/>
              <a:ext cx="912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717480"/>
                  <a:tab algn="l" pos="1434960"/>
                  <a:tab algn="l" pos="2152800"/>
                  <a:tab algn="l" pos="2870280"/>
                  <a:tab algn="l" pos="3587760"/>
                  <a:tab algn="l" pos="4305240"/>
                  <a:tab algn="l" pos="5022720"/>
                  <a:tab algn="l" pos="5740560"/>
                  <a:tab algn="l" pos="6458040"/>
                  <a:tab algn="l" pos="7175520"/>
                  <a:tab algn="l" pos="7893000"/>
                  <a:tab algn="l" pos="8610480"/>
                  <a:tab algn="l" pos="9328320"/>
                  <a:tab algn="l" pos="10045800"/>
                  <a:tab algn="l" pos="10763280"/>
                </a:tabLst>
              </a:pPr>
              <a:r>
                <a:rPr b="0" lang="zh-CN" sz="1600" spc="-1" strike="noStrike">
                  <a:solidFill>
                    <a:srgbClr val="019ed5"/>
                  </a:solidFill>
                  <a:latin typeface="微软雅黑"/>
                  <a:ea typeface="微软雅黑"/>
                </a:rPr>
                <a:t>电子书（本）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TextBox 15"/>
            <p:cNvSpPr/>
            <p:nvPr/>
          </p:nvSpPr>
          <p:spPr>
            <a:xfrm>
              <a:off x="7028280" y="3030120"/>
              <a:ext cx="883440" cy="7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717480"/>
                  <a:tab algn="l" pos="1434960"/>
                  <a:tab algn="l" pos="2152800"/>
                  <a:tab algn="l" pos="2870280"/>
                  <a:tab algn="l" pos="3587760"/>
                  <a:tab algn="l" pos="4305240"/>
                  <a:tab algn="l" pos="5022720"/>
                  <a:tab algn="l" pos="5740560"/>
                  <a:tab algn="l" pos="6458040"/>
                  <a:tab algn="l" pos="7175520"/>
                  <a:tab algn="l" pos="7893000"/>
                  <a:tab algn="l" pos="8610480"/>
                  <a:tab algn="l" pos="9328320"/>
                  <a:tab algn="l" pos="10045800"/>
                  <a:tab algn="l" pos="10763280"/>
                </a:tabLst>
              </a:pPr>
              <a:r>
                <a:rPr b="0" lang="en-US" sz="2800" spc="-1" strike="noStrike">
                  <a:solidFill>
                    <a:srgbClr val="e96573"/>
                  </a:solidFill>
                  <a:latin typeface="Impact"/>
                  <a:ea typeface="微软雅黑"/>
                </a:rPr>
                <a:t>2.3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" name="TextBox 17"/>
          <p:cNvSpPr/>
          <p:nvPr/>
        </p:nvSpPr>
        <p:spPr>
          <a:xfrm>
            <a:off x="3080520" y="411120"/>
            <a:ext cx="2999880" cy="109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r>
              <a:rPr b="1" lang="en-US" sz="2800" spc="-1" strike="noStrike">
                <a:solidFill>
                  <a:srgbClr val="e96573"/>
                </a:solidFill>
                <a:latin typeface="微软雅黑"/>
                <a:ea typeface="微软雅黑"/>
              </a:rPr>
              <a:t>2012</a:t>
            </a:r>
            <a:r>
              <a:rPr b="1" lang="zh-CN" sz="2800" spc="-1" strike="noStrike">
                <a:solidFill>
                  <a:srgbClr val="e96573"/>
                </a:solidFill>
                <a:latin typeface="Impact"/>
                <a:ea typeface="微软雅黑"/>
              </a:rPr>
              <a:t>年中国人平均阅读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r>
              <a:rPr b="0" lang="zh-CN" sz="1600" spc="-1" strike="noStrike">
                <a:solidFill>
                  <a:srgbClr val="e96573"/>
                </a:solidFill>
                <a:latin typeface="微软雅黑"/>
                <a:ea typeface="微软雅黑"/>
              </a:rPr>
              <a:t>（统计数据为</a:t>
            </a:r>
            <a:r>
              <a:rPr b="0" lang="en-US" sz="1600" spc="-1" strike="noStrike">
                <a:solidFill>
                  <a:srgbClr val="e96573"/>
                </a:solidFill>
                <a:latin typeface="微软雅黑"/>
                <a:ea typeface="微软雅黑"/>
              </a:rPr>
              <a:t>18-70</a:t>
            </a:r>
            <a:r>
              <a:rPr b="0" lang="zh-CN" sz="1600" spc="-1" strike="noStrike">
                <a:solidFill>
                  <a:srgbClr val="e96573"/>
                </a:solidFill>
                <a:latin typeface="微软雅黑"/>
                <a:ea typeface="微软雅黑"/>
              </a:rPr>
              <a:t>周岁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Box 92"/>
          <p:cNvSpPr/>
          <p:nvPr/>
        </p:nvSpPr>
        <p:spPr>
          <a:xfrm>
            <a:off x="0" y="0"/>
            <a:ext cx="9144000" cy="51436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组合 26"/>
          <p:cNvGrpSpPr/>
          <p:nvPr/>
        </p:nvGrpSpPr>
        <p:grpSpPr>
          <a:xfrm>
            <a:off x="1492200" y="1101600"/>
            <a:ext cx="3656160" cy="808200"/>
            <a:chOff x="1492200" y="1101600"/>
            <a:chExt cx="3656160" cy="808200"/>
          </a:xfrm>
        </p:grpSpPr>
        <p:grpSp>
          <p:nvGrpSpPr>
            <p:cNvPr id="78" name="组合 21"/>
            <p:cNvGrpSpPr/>
            <p:nvPr/>
          </p:nvGrpSpPr>
          <p:grpSpPr>
            <a:xfrm>
              <a:off x="1492200" y="1618560"/>
              <a:ext cx="3656160" cy="291240"/>
              <a:chOff x="1492200" y="1618560"/>
              <a:chExt cx="3656160" cy="291240"/>
            </a:xfrm>
          </p:grpSpPr>
          <p:pic>
            <p:nvPicPr>
              <p:cNvPr id="79" name="Picture 9" descr="C:\Users\Administrator\Desktop\book.png"/>
              <p:cNvPicPr/>
              <p:nvPr/>
            </p:nvPicPr>
            <p:blipFill>
              <a:blip r:embed="rId2"/>
              <a:stretch/>
            </p:blipFill>
            <p:spPr>
              <a:xfrm>
                <a:off x="1492200" y="1618560"/>
                <a:ext cx="288000" cy="2880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80" name="组合 20"/>
              <p:cNvGrpSpPr/>
              <p:nvPr/>
            </p:nvGrpSpPr>
            <p:grpSpPr>
              <a:xfrm>
                <a:off x="1751040" y="1618560"/>
                <a:ext cx="3397320" cy="291240"/>
                <a:chOff x="1751040" y="1618560"/>
                <a:chExt cx="3397320" cy="291240"/>
              </a:xfrm>
            </p:grpSpPr>
            <p:pic>
              <p:nvPicPr>
                <p:cNvPr id="81" name="Picture 9" descr="C:\Users\Administrator\Desktop\book.png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751040" y="1618560"/>
                  <a:ext cx="288000" cy="2880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2" name="Picture 9" descr="C:\Users\Administrator\Desktop\book.png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2269080" y="1618560"/>
                  <a:ext cx="288000" cy="2880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3" name="Picture 9" descr="C:\Users\Administrator\Desktop\book.png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2787480" y="1618560"/>
                  <a:ext cx="288000" cy="2880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4" name="Picture 9" descr="C:\Users\Administrator\Desktop\book.png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3305520" y="1618560"/>
                  <a:ext cx="288000" cy="2880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5" name="Picture 9" descr="C:\Users\Administrator\Desktop\book.png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3564720" y="1618560"/>
                  <a:ext cx="288000" cy="2880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6" name="Picture 9" descr="C:\Users\Administrator\Desktop\book.png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4083120" y="1618560"/>
                  <a:ext cx="288000" cy="2880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7" name="Picture 9" descr="C:\Users\Administrator\Desktop\book.png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3823920" y="1618560"/>
                  <a:ext cx="288000" cy="2880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8" name="Picture 9" descr="C:\Users\Administrator\Desktop\book.png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4342320" y="1618560"/>
                  <a:ext cx="288000" cy="2880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9" name="Picture 9" descr="C:\Users\Administrator\Desktop\book.png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4601520" y="1618560"/>
                  <a:ext cx="288000" cy="2880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0" name="Picture 9" descr="C:\Users\Administrator\Desktop\book.png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4860360" y="1621800"/>
                  <a:ext cx="288000" cy="2880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1" name="Picture 9" descr="C:\Users\Administrator\Desktop\book.png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2009880" y="1618560"/>
                  <a:ext cx="288000" cy="2880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2" name="Picture 9" descr="C:\Users\Administrator\Desktop\book.png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2528280" y="1618560"/>
                  <a:ext cx="288000" cy="2880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3" name="Picture 9" descr="C:\Users\Administrator\Desktop\book.png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3046680" y="1618560"/>
                  <a:ext cx="288000" cy="2880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94" name="组合 24"/>
            <p:cNvGrpSpPr/>
            <p:nvPr/>
          </p:nvGrpSpPr>
          <p:grpSpPr>
            <a:xfrm>
              <a:off x="1544760" y="1223640"/>
              <a:ext cx="819360" cy="411480"/>
              <a:chOff x="1544760" y="1223640"/>
              <a:chExt cx="819360" cy="411480"/>
            </a:xfrm>
          </p:grpSpPr>
          <p:sp>
            <p:nvSpPr>
              <p:cNvPr id="95" name="TextBox 22"/>
              <p:cNvSpPr/>
              <p:nvPr/>
            </p:nvSpPr>
            <p:spPr>
              <a:xfrm>
                <a:off x="1544760" y="1312920"/>
                <a:ext cx="819360" cy="265320"/>
              </a:xfrm>
              <a:prstGeom prst="rect">
                <a:avLst/>
              </a:prstGeom>
              <a:solidFill>
                <a:srgbClr val="468a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lnSpc>
                    <a:spcPct val="15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矩形 23"/>
              <p:cNvSpPr/>
              <p:nvPr/>
            </p:nvSpPr>
            <p:spPr>
              <a:xfrm>
                <a:off x="1565640" y="1223640"/>
                <a:ext cx="798480" cy="411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r>
                  <a:rPr b="1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以色列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7" name="TextBox 25"/>
            <p:cNvSpPr/>
            <p:nvPr/>
          </p:nvSpPr>
          <p:spPr>
            <a:xfrm>
              <a:off x="2397600" y="1101600"/>
              <a:ext cx="5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717480"/>
                  <a:tab algn="l" pos="1434960"/>
                  <a:tab algn="l" pos="2152800"/>
                  <a:tab algn="l" pos="2870280"/>
                  <a:tab algn="l" pos="3587760"/>
                  <a:tab algn="l" pos="4305240"/>
                  <a:tab algn="l" pos="5022720"/>
                  <a:tab algn="l" pos="5740560"/>
                  <a:tab algn="l" pos="6458040"/>
                  <a:tab algn="l" pos="7175520"/>
                  <a:tab algn="l" pos="7893000"/>
                  <a:tab algn="l" pos="8610480"/>
                  <a:tab algn="l" pos="9328320"/>
                  <a:tab algn="l" pos="10045800"/>
                  <a:tab algn="l" pos="10763280"/>
                </a:tabLst>
              </a:pPr>
              <a:r>
                <a:rPr b="0" lang="en-US" sz="2400" spc="-1" strike="noStrike">
                  <a:solidFill>
                    <a:srgbClr val="468af0"/>
                  </a:solidFill>
                  <a:latin typeface="Impact"/>
                  <a:ea typeface="微软雅黑"/>
                </a:rPr>
                <a:t>6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组合 90"/>
          <p:cNvGrpSpPr/>
          <p:nvPr/>
        </p:nvGrpSpPr>
        <p:grpSpPr>
          <a:xfrm>
            <a:off x="1492200" y="2044800"/>
            <a:ext cx="1433160" cy="806400"/>
            <a:chOff x="1492200" y="2044800"/>
            <a:chExt cx="1433160" cy="806400"/>
          </a:xfrm>
        </p:grpSpPr>
        <p:grpSp>
          <p:nvGrpSpPr>
            <p:cNvPr id="99" name="组合 27"/>
            <p:cNvGrpSpPr/>
            <p:nvPr/>
          </p:nvGrpSpPr>
          <p:grpSpPr>
            <a:xfrm>
              <a:off x="1492200" y="2044800"/>
              <a:ext cx="1433160" cy="806400"/>
              <a:chOff x="1492200" y="2044800"/>
              <a:chExt cx="1433160" cy="806400"/>
            </a:xfrm>
          </p:grpSpPr>
          <p:grpSp>
            <p:nvGrpSpPr>
              <p:cNvPr id="100" name="组合 28"/>
              <p:cNvGrpSpPr/>
              <p:nvPr/>
            </p:nvGrpSpPr>
            <p:grpSpPr>
              <a:xfrm>
                <a:off x="1492200" y="2562840"/>
                <a:ext cx="805680" cy="288360"/>
                <a:chOff x="1492200" y="2562840"/>
                <a:chExt cx="805680" cy="288360"/>
              </a:xfrm>
            </p:grpSpPr>
            <p:pic>
              <p:nvPicPr>
                <p:cNvPr id="101" name="Picture 9" descr="C:\Users\Administrator\Desktop\book.png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1492200" y="2562840"/>
                  <a:ext cx="287640" cy="28836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02" name="组合 34"/>
                <p:cNvGrpSpPr/>
                <p:nvPr/>
              </p:nvGrpSpPr>
              <p:grpSpPr>
                <a:xfrm>
                  <a:off x="1751040" y="2562840"/>
                  <a:ext cx="546840" cy="288360"/>
                  <a:chOff x="1751040" y="2562840"/>
                  <a:chExt cx="546840" cy="288360"/>
                </a:xfrm>
              </p:grpSpPr>
              <p:pic>
                <p:nvPicPr>
                  <p:cNvPr id="103" name="Picture 9" descr="C:\Users\Administrator\Desktop\book.png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1751040" y="2562840"/>
                    <a:ext cx="288000" cy="28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04" name="Picture 9" descr="C:\Users\Administrator\Desktop\book.png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2009880" y="2562840"/>
                    <a:ext cx="288000" cy="28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</p:grpSp>
          <p:grpSp>
            <p:nvGrpSpPr>
              <p:cNvPr id="105" name="组合 29"/>
              <p:cNvGrpSpPr/>
              <p:nvPr/>
            </p:nvGrpSpPr>
            <p:grpSpPr>
              <a:xfrm>
                <a:off x="1544760" y="2167200"/>
                <a:ext cx="863640" cy="411480"/>
                <a:chOff x="1544760" y="2167200"/>
                <a:chExt cx="863640" cy="411480"/>
              </a:xfrm>
            </p:grpSpPr>
            <p:sp>
              <p:nvSpPr>
                <p:cNvPr id="106" name="TextBox 31"/>
                <p:cNvSpPr/>
                <p:nvPr/>
              </p:nvSpPr>
              <p:spPr>
                <a:xfrm>
                  <a:off x="1544760" y="2256480"/>
                  <a:ext cx="819360" cy="266040"/>
                </a:xfrm>
                <a:prstGeom prst="rect">
                  <a:avLst/>
                </a:prstGeom>
                <a:solidFill>
                  <a:srgbClr val="468a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lnSpc>
                      <a:spcPct val="150000"/>
                    </a:lnSpc>
                    <a:tabLst>
                      <a:tab algn="l" pos="0"/>
                      <a:tab algn="l" pos="717480"/>
                      <a:tab algn="l" pos="1434960"/>
                      <a:tab algn="l" pos="2152800"/>
                      <a:tab algn="l" pos="2870280"/>
                      <a:tab algn="l" pos="3587760"/>
                      <a:tab algn="l" pos="4305240"/>
                      <a:tab algn="l" pos="5022720"/>
                      <a:tab algn="l" pos="5740560"/>
                      <a:tab algn="l" pos="6458040"/>
                      <a:tab algn="l" pos="7175520"/>
                      <a:tab algn="l" pos="7893000"/>
                      <a:tab algn="l" pos="8610480"/>
                      <a:tab algn="l" pos="9328320"/>
                      <a:tab algn="l" pos="10045800"/>
                      <a:tab algn="l" pos="1076328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矩形 32"/>
                <p:cNvSpPr/>
                <p:nvPr/>
              </p:nvSpPr>
              <p:spPr>
                <a:xfrm>
                  <a:off x="1609920" y="2167200"/>
                  <a:ext cx="798480" cy="411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717480"/>
                      <a:tab algn="l" pos="1434960"/>
                      <a:tab algn="l" pos="2152800"/>
                      <a:tab algn="l" pos="2870280"/>
                      <a:tab algn="l" pos="3587760"/>
                      <a:tab algn="l" pos="4305240"/>
                      <a:tab algn="l" pos="5022720"/>
                      <a:tab algn="l" pos="5740560"/>
                      <a:tab algn="l" pos="6458040"/>
                      <a:tab algn="l" pos="7175520"/>
                      <a:tab algn="l" pos="7893000"/>
                      <a:tab algn="l" pos="8610480"/>
                      <a:tab algn="l" pos="9328320"/>
                      <a:tab algn="l" pos="10045800"/>
                      <a:tab algn="l" pos="10763280"/>
                    </a:tabLst>
                  </a:pPr>
                  <a:r>
                    <a:rPr b="1" lang="zh-CN" sz="1400" spc="-1" strike="noStrike">
                      <a:solidFill>
                        <a:srgbClr val="ffffff"/>
                      </a:solidFill>
                      <a:latin typeface="微软雅黑"/>
                      <a:ea typeface="微软雅黑"/>
                    </a:rPr>
                    <a:t>韩  国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TextBox 30"/>
              <p:cNvSpPr/>
              <p:nvPr/>
            </p:nvSpPr>
            <p:spPr>
              <a:xfrm>
                <a:off x="2397240" y="2044800"/>
                <a:ext cx="5281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5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r>
                  <a:rPr b="0" lang="en-US" sz="2400" spc="-1" strike="noStrike">
                    <a:solidFill>
                      <a:srgbClr val="468af0"/>
                    </a:solidFill>
                    <a:latin typeface="Impact"/>
                    <a:ea typeface="微软雅黑"/>
                  </a:rPr>
                  <a:t>1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09" name="Picture 9" descr="C:\Users\Administrator\Desktop\book.png"/>
            <p:cNvPicPr/>
            <p:nvPr/>
          </p:nvPicPr>
          <p:blipFill>
            <a:blip r:embed="rId19"/>
            <a:srcRect l="0" t="0" r="50126" b="0"/>
            <a:stretch/>
          </p:blipFill>
          <p:spPr>
            <a:xfrm>
              <a:off x="2293560" y="2562840"/>
              <a:ext cx="143640" cy="288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0" name="组合 89"/>
          <p:cNvGrpSpPr/>
          <p:nvPr/>
        </p:nvGrpSpPr>
        <p:grpSpPr>
          <a:xfrm>
            <a:off x="1492200" y="2986200"/>
            <a:ext cx="1561680" cy="804600"/>
            <a:chOff x="1492200" y="2986200"/>
            <a:chExt cx="1561680" cy="804600"/>
          </a:xfrm>
        </p:grpSpPr>
        <p:grpSp>
          <p:nvGrpSpPr>
            <p:cNvPr id="111" name="组合 58"/>
            <p:cNvGrpSpPr/>
            <p:nvPr/>
          </p:nvGrpSpPr>
          <p:grpSpPr>
            <a:xfrm>
              <a:off x="1492200" y="2986200"/>
              <a:ext cx="1561680" cy="804600"/>
              <a:chOff x="1492200" y="2986200"/>
              <a:chExt cx="1561680" cy="804600"/>
            </a:xfrm>
          </p:grpSpPr>
          <p:grpSp>
            <p:nvGrpSpPr>
              <p:cNvPr id="112" name="组合 59"/>
              <p:cNvGrpSpPr/>
              <p:nvPr/>
            </p:nvGrpSpPr>
            <p:grpSpPr>
              <a:xfrm>
                <a:off x="1492200" y="3503160"/>
                <a:ext cx="547200" cy="287640"/>
                <a:chOff x="1492200" y="3503160"/>
                <a:chExt cx="547200" cy="287640"/>
              </a:xfrm>
            </p:grpSpPr>
            <p:pic>
              <p:nvPicPr>
                <p:cNvPr id="113" name="Picture 9" descr="C:\Users\Administrator\Desktop\book.png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1492200" y="3503160"/>
                  <a:ext cx="288000" cy="28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9" descr="C:\Users\Administrator\Desktop\book.png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1751400" y="3503160"/>
                  <a:ext cx="288000" cy="28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15" name="组合 60"/>
              <p:cNvGrpSpPr/>
              <p:nvPr/>
            </p:nvGrpSpPr>
            <p:grpSpPr>
              <a:xfrm>
                <a:off x="1544760" y="3108240"/>
                <a:ext cx="936360" cy="411480"/>
                <a:chOff x="1544760" y="3108240"/>
                <a:chExt cx="936360" cy="411480"/>
              </a:xfrm>
            </p:grpSpPr>
            <p:sp>
              <p:nvSpPr>
                <p:cNvPr id="116" name="TextBox 62"/>
                <p:cNvSpPr/>
                <p:nvPr/>
              </p:nvSpPr>
              <p:spPr>
                <a:xfrm>
                  <a:off x="1544760" y="3197520"/>
                  <a:ext cx="820080" cy="265320"/>
                </a:xfrm>
                <a:prstGeom prst="rect">
                  <a:avLst/>
                </a:prstGeom>
                <a:solidFill>
                  <a:srgbClr val="468a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lnSpc>
                      <a:spcPct val="150000"/>
                    </a:lnSpc>
                    <a:tabLst>
                      <a:tab algn="l" pos="0"/>
                      <a:tab algn="l" pos="717480"/>
                      <a:tab algn="l" pos="1434960"/>
                      <a:tab algn="l" pos="2152800"/>
                      <a:tab algn="l" pos="2870280"/>
                      <a:tab algn="l" pos="3587760"/>
                      <a:tab algn="l" pos="4305240"/>
                      <a:tab algn="l" pos="5022720"/>
                      <a:tab algn="l" pos="5740560"/>
                      <a:tab algn="l" pos="6458040"/>
                      <a:tab algn="l" pos="7175520"/>
                      <a:tab algn="l" pos="7893000"/>
                      <a:tab algn="l" pos="8610480"/>
                      <a:tab algn="l" pos="9328320"/>
                      <a:tab algn="l" pos="10045800"/>
                      <a:tab algn="l" pos="1076328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" name="矩形 63"/>
                <p:cNvSpPr/>
                <p:nvPr/>
              </p:nvSpPr>
              <p:spPr>
                <a:xfrm>
                  <a:off x="1682280" y="3108240"/>
                  <a:ext cx="798840" cy="411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717480"/>
                      <a:tab algn="l" pos="1434960"/>
                      <a:tab algn="l" pos="2152800"/>
                      <a:tab algn="l" pos="2870280"/>
                      <a:tab algn="l" pos="3587760"/>
                      <a:tab algn="l" pos="4305240"/>
                      <a:tab algn="l" pos="5022720"/>
                      <a:tab algn="l" pos="5740560"/>
                      <a:tab algn="l" pos="6458040"/>
                      <a:tab algn="l" pos="7175520"/>
                      <a:tab algn="l" pos="7893000"/>
                      <a:tab algn="l" pos="8610480"/>
                      <a:tab algn="l" pos="9328320"/>
                      <a:tab algn="l" pos="10045800"/>
                      <a:tab algn="l" pos="10763280"/>
                    </a:tabLst>
                  </a:pPr>
                  <a:r>
                    <a:rPr b="1" lang="zh-CN" sz="1400" spc="-1" strike="noStrike">
                      <a:solidFill>
                        <a:srgbClr val="ffffff"/>
                      </a:solidFill>
                      <a:latin typeface="微软雅黑"/>
                      <a:ea typeface="微软雅黑"/>
                    </a:rPr>
                    <a:t>日  本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8" name="TextBox 61"/>
              <p:cNvSpPr/>
              <p:nvPr/>
            </p:nvSpPr>
            <p:spPr>
              <a:xfrm>
                <a:off x="2269800" y="2986200"/>
                <a:ext cx="7840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5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r>
                  <a:rPr b="0" lang="en-US" sz="2400" spc="-1" strike="noStrike">
                    <a:solidFill>
                      <a:srgbClr val="468af0"/>
                    </a:solidFill>
                    <a:latin typeface="Impact"/>
                    <a:ea typeface="微软雅黑"/>
                  </a:rPr>
                  <a:t>8.45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19" name="Picture 9" descr="C:\Users\Administrator\Desktop\book.png"/>
            <p:cNvPicPr/>
            <p:nvPr/>
          </p:nvPicPr>
          <p:blipFill>
            <a:blip r:embed="rId22"/>
            <a:srcRect l="0" t="0" r="50126" b="0"/>
            <a:stretch/>
          </p:blipFill>
          <p:spPr>
            <a:xfrm>
              <a:off x="2026800" y="3503160"/>
              <a:ext cx="144000" cy="287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0" name="组合 81"/>
          <p:cNvGrpSpPr/>
          <p:nvPr/>
        </p:nvGrpSpPr>
        <p:grpSpPr>
          <a:xfrm>
            <a:off x="1492200" y="3927600"/>
            <a:ext cx="1561680" cy="804600"/>
            <a:chOff x="1492200" y="3927600"/>
            <a:chExt cx="1561680" cy="804600"/>
          </a:xfrm>
        </p:grpSpPr>
        <p:pic>
          <p:nvPicPr>
            <p:cNvPr id="121" name="Picture 9" descr="C:\Users\Administrator\Desktop\book.png"/>
            <p:cNvPicPr/>
            <p:nvPr/>
          </p:nvPicPr>
          <p:blipFill>
            <a:blip r:embed="rId23"/>
            <a:stretch/>
          </p:blipFill>
          <p:spPr>
            <a:xfrm>
              <a:off x="1492200" y="4444560"/>
              <a:ext cx="288000" cy="287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2" name="组合 83"/>
            <p:cNvGrpSpPr/>
            <p:nvPr/>
          </p:nvGrpSpPr>
          <p:grpSpPr>
            <a:xfrm>
              <a:off x="1544760" y="4049640"/>
              <a:ext cx="867240" cy="411480"/>
              <a:chOff x="1544760" y="4049640"/>
              <a:chExt cx="867240" cy="411480"/>
            </a:xfrm>
          </p:grpSpPr>
          <p:sp>
            <p:nvSpPr>
              <p:cNvPr id="123" name="TextBox 85"/>
              <p:cNvSpPr/>
              <p:nvPr/>
            </p:nvSpPr>
            <p:spPr>
              <a:xfrm>
                <a:off x="1544760" y="4138920"/>
                <a:ext cx="819720" cy="265320"/>
              </a:xfrm>
              <a:prstGeom prst="rect">
                <a:avLst/>
              </a:prstGeom>
              <a:solidFill>
                <a:srgbClr val="e965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lnSpc>
                    <a:spcPct val="15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矩形 86"/>
              <p:cNvSpPr/>
              <p:nvPr/>
            </p:nvSpPr>
            <p:spPr>
              <a:xfrm>
                <a:off x="1613160" y="4049640"/>
                <a:ext cx="798840" cy="411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717480"/>
                    <a:tab algn="l" pos="1434960"/>
                    <a:tab algn="l" pos="2152800"/>
                    <a:tab algn="l" pos="2870280"/>
                    <a:tab algn="l" pos="3587760"/>
                    <a:tab algn="l" pos="4305240"/>
                    <a:tab algn="l" pos="5022720"/>
                    <a:tab algn="l" pos="5740560"/>
                    <a:tab algn="l" pos="6458040"/>
                    <a:tab algn="l" pos="7175520"/>
                    <a:tab algn="l" pos="7893000"/>
                    <a:tab algn="l" pos="8610480"/>
                    <a:tab algn="l" pos="9328320"/>
                    <a:tab algn="l" pos="10045800"/>
                    <a:tab algn="l" pos="10763280"/>
                  </a:tabLst>
                </a:pPr>
                <a:r>
                  <a:rPr b="1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中  国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5" name="TextBox 84"/>
            <p:cNvSpPr/>
            <p:nvPr/>
          </p:nvSpPr>
          <p:spPr>
            <a:xfrm>
              <a:off x="2269800" y="3927600"/>
              <a:ext cx="784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717480"/>
                  <a:tab algn="l" pos="1434960"/>
                  <a:tab algn="l" pos="2152800"/>
                  <a:tab algn="l" pos="2870280"/>
                  <a:tab algn="l" pos="3587760"/>
                  <a:tab algn="l" pos="4305240"/>
                  <a:tab algn="l" pos="5022720"/>
                  <a:tab algn="l" pos="5740560"/>
                  <a:tab algn="l" pos="6458040"/>
                  <a:tab algn="l" pos="7175520"/>
                  <a:tab algn="l" pos="7893000"/>
                  <a:tab algn="l" pos="8610480"/>
                  <a:tab algn="l" pos="9328320"/>
                  <a:tab algn="l" pos="10045800"/>
                  <a:tab algn="l" pos="10763280"/>
                </a:tabLst>
              </a:pPr>
              <a:r>
                <a:rPr b="0" lang="en-US" sz="2400" spc="-1" strike="noStrike">
                  <a:solidFill>
                    <a:srgbClr val="e96573"/>
                  </a:solidFill>
                  <a:latin typeface="Impact"/>
                  <a:ea typeface="微软雅黑"/>
                </a:rPr>
                <a:t>8.4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TextBox 91"/>
          <p:cNvSpPr/>
          <p:nvPr/>
        </p:nvSpPr>
        <p:spPr>
          <a:xfrm>
            <a:off x="3661920" y="195120"/>
            <a:ext cx="274392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r>
              <a:rPr b="1" lang="zh-CN" sz="2800" spc="-1" strike="noStrike">
                <a:solidFill>
                  <a:srgbClr val="e96573"/>
                </a:solidFill>
                <a:latin typeface="Impact"/>
                <a:ea typeface="微软雅黑"/>
              </a:rPr>
              <a:t>纸质图书年人均阅读量对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Box 92"/>
          <p:cNvSpPr/>
          <p:nvPr/>
        </p:nvSpPr>
        <p:spPr>
          <a:xfrm>
            <a:off x="0" y="0"/>
            <a:ext cx="9468000" cy="51436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组合 36"/>
          <p:cNvGrpSpPr/>
          <p:nvPr/>
        </p:nvGrpSpPr>
        <p:grpSpPr>
          <a:xfrm>
            <a:off x="2106720" y="1419120"/>
            <a:ext cx="5256000" cy="3421080"/>
            <a:chOff x="2106720" y="1419120"/>
            <a:chExt cx="5256000" cy="3421080"/>
          </a:xfrm>
        </p:grpSpPr>
        <p:pic>
          <p:nvPicPr>
            <p:cNvPr id="129" name="图表 1" descr=""/>
            <p:cNvPicPr/>
            <p:nvPr/>
          </p:nvPicPr>
          <p:blipFill>
            <a:blip r:embed="rId2"/>
            <a:stretch/>
          </p:blipFill>
          <p:spPr>
            <a:xfrm>
              <a:off x="2106720" y="1419120"/>
              <a:ext cx="5256000" cy="342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" name="图表 2" descr=""/>
            <p:cNvPicPr/>
            <p:nvPr/>
          </p:nvPicPr>
          <p:blipFill>
            <a:blip r:embed="rId3"/>
            <a:stretch/>
          </p:blipFill>
          <p:spPr>
            <a:xfrm>
              <a:off x="2816640" y="1899000"/>
              <a:ext cx="3490560" cy="2461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1" name="TextBox 91"/>
          <p:cNvSpPr/>
          <p:nvPr/>
        </p:nvSpPr>
        <p:spPr>
          <a:xfrm>
            <a:off x="4068360" y="195120"/>
            <a:ext cx="103716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r>
              <a:rPr b="1" lang="zh-CN" sz="2800" spc="-1" strike="noStrike">
                <a:solidFill>
                  <a:srgbClr val="e96573"/>
                </a:solidFill>
                <a:latin typeface="Impact"/>
                <a:ea typeface="微软雅黑"/>
              </a:rPr>
              <a:t>阅读时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组合 3"/>
          <p:cNvGrpSpPr/>
          <p:nvPr/>
        </p:nvGrpSpPr>
        <p:grpSpPr>
          <a:xfrm>
            <a:off x="4365720" y="2333520"/>
            <a:ext cx="412560" cy="927360"/>
            <a:chOff x="4365720" y="2333520"/>
            <a:chExt cx="412560" cy="927360"/>
          </a:xfrm>
        </p:grpSpPr>
        <p:sp>
          <p:nvSpPr>
            <p:cNvPr id="133" name="圆角矩形 39"/>
            <p:cNvSpPr/>
            <p:nvPr/>
          </p:nvSpPr>
          <p:spPr>
            <a:xfrm>
              <a:off x="4500360" y="2333520"/>
              <a:ext cx="143280" cy="720360"/>
            </a:xfrm>
            <a:custGeom>
              <a:avLst/>
              <a:gdLst>
                <a:gd name="textAreaLeft" fmla="*/ 6840 w 143280"/>
                <a:gd name="textAreaRight" fmla="*/ 136440 w 143280"/>
                <a:gd name="textAreaTop" fmla="*/ 6840 h 720360"/>
                <a:gd name="textAreaBottom" fmla="*/ 713520 h 720360"/>
              </a:gdLst>
              <a:ahLst/>
              <a:rect l="textAreaLeft" t="textAreaTop" r="textAreaRight" b="textAreaBottom"/>
              <a:pathLst>
                <a:path w="21600" h="108379">
                  <a:moveTo>
                    <a:pt x="3600" y="0"/>
                  </a:moveTo>
                  <a:arcTo wR="3600" hR="3600" stAng="16200000" swAng="-5400000"/>
                  <a:lnTo>
                    <a:pt x="0" y="104779"/>
                  </a:lnTo>
                  <a:arcTo wR="3600" hR="3600" stAng="10800000" swAng="-5400000"/>
                  <a:lnTo>
                    <a:pt x="18000" y="10837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17480"/>
                  <a:tab algn="l" pos="1434960"/>
                  <a:tab algn="l" pos="2152800"/>
                  <a:tab algn="l" pos="2870280"/>
                  <a:tab algn="l" pos="3587760"/>
                  <a:tab algn="l" pos="4305240"/>
                  <a:tab algn="l" pos="5022720"/>
                  <a:tab algn="l" pos="5740560"/>
                  <a:tab algn="l" pos="6458040"/>
                  <a:tab algn="l" pos="7175520"/>
                  <a:tab algn="l" pos="7893000"/>
                  <a:tab algn="l" pos="8610480"/>
                  <a:tab algn="l" pos="9328320"/>
                  <a:tab algn="l" pos="10045800"/>
                  <a:tab algn="l" pos="107632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椭圆 8"/>
            <p:cNvSpPr/>
            <p:nvPr/>
          </p:nvSpPr>
          <p:spPr>
            <a:xfrm>
              <a:off x="4365720" y="2846880"/>
              <a:ext cx="412560" cy="4140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17480"/>
                  <a:tab algn="l" pos="1434960"/>
                  <a:tab algn="l" pos="2152800"/>
                  <a:tab algn="l" pos="2870280"/>
                  <a:tab algn="l" pos="3587760"/>
                  <a:tab algn="l" pos="4305240"/>
                  <a:tab algn="l" pos="5022720"/>
                  <a:tab algn="l" pos="5740560"/>
                  <a:tab algn="l" pos="6458040"/>
                  <a:tab algn="l" pos="7175520"/>
                  <a:tab algn="l" pos="7893000"/>
                  <a:tab algn="l" pos="8610480"/>
                  <a:tab algn="l" pos="9328320"/>
                  <a:tab algn="l" pos="10045800"/>
                  <a:tab algn="l" pos="107632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流程图: 终止 6"/>
          <p:cNvSpPr/>
          <p:nvPr/>
        </p:nvSpPr>
        <p:spPr>
          <a:xfrm rot="4140000">
            <a:off x="4326120" y="3354840"/>
            <a:ext cx="798480" cy="289080"/>
          </a:xfrm>
          <a:prstGeom prst="flowChartTerminator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椭圆 9"/>
          <p:cNvSpPr/>
          <p:nvPr/>
        </p:nvSpPr>
        <p:spPr>
          <a:xfrm>
            <a:off x="4427640" y="2909880"/>
            <a:ext cx="288720" cy="287280"/>
          </a:xfrm>
          <a:prstGeom prst="ellipse">
            <a:avLst/>
          </a:prstGeom>
          <a:solidFill>
            <a:srgbClr val="019ed5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流程图: 终止 15"/>
          <p:cNvSpPr/>
          <p:nvPr/>
        </p:nvSpPr>
        <p:spPr>
          <a:xfrm rot="4140000">
            <a:off x="4456080" y="3476160"/>
            <a:ext cx="554040" cy="131760"/>
          </a:xfrm>
          <a:prstGeom prst="flowChartTerminator">
            <a:avLst/>
          </a:prstGeom>
          <a:solidFill>
            <a:srgbClr val="468a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流程图: 终止 16"/>
          <p:cNvSpPr/>
          <p:nvPr/>
        </p:nvSpPr>
        <p:spPr>
          <a:xfrm rot="4140000">
            <a:off x="4504320" y="3488400"/>
            <a:ext cx="539640" cy="71280"/>
          </a:xfrm>
          <a:prstGeom prst="flowChartTerminator">
            <a:avLst/>
          </a:prstGeom>
          <a:solidFill>
            <a:srgbClr val="db00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680" bIns="4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7"/>
          <p:cNvSpPr/>
          <p:nvPr/>
        </p:nvSpPr>
        <p:spPr>
          <a:xfrm>
            <a:off x="3651840" y="3300480"/>
            <a:ext cx="732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新兴媒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矩形 18"/>
          <p:cNvSpPr/>
          <p:nvPr/>
        </p:nvSpPr>
        <p:spPr>
          <a:xfrm>
            <a:off x="3655080" y="3605040"/>
            <a:ext cx="10702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Impact"/>
                <a:ea typeface="微软雅黑"/>
              </a:rPr>
              <a:t>66.23 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分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19"/>
          <p:cNvSpPr/>
          <p:nvPr/>
        </p:nvSpPr>
        <p:spPr>
          <a:xfrm>
            <a:off x="4883040" y="2419200"/>
            <a:ext cx="671400" cy="5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传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纸质媒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20"/>
          <p:cNvSpPr/>
          <p:nvPr/>
        </p:nvSpPr>
        <p:spPr>
          <a:xfrm>
            <a:off x="4761000" y="3013200"/>
            <a:ext cx="1010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Impact"/>
                <a:ea typeface="微软雅黑"/>
              </a:rPr>
              <a:t>47.48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分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圆角矩形 12"/>
          <p:cNvSpPr/>
          <p:nvPr/>
        </p:nvSpPr>
        <p:spPr>
          <a:xfrm rot="900000">
            <a:off x="4722480" y="1395360"/>
            <a:ext cx="649440" cy="432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读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圆角矩形 23"/>
          <p:cNvSpPr/>
          <p:nvPr/>
        </p:nvSpPr>
        <p:spPr>
          <a:xfrm rot="3600000">
            <a:off x="5533920" y="1978920"/>
            <a:ext cx="647640" cy="432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读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圆角矩形 24"/>
          <p:cNvSpPr/>
          <p:nvPr/>
        </p:nvSpPr>
        <p:spPr>
          <a:xfrm rot="18294000">
            <a:off x="5468400" y="3778560"/>
            <a:ext cx="851040" cy="4316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 rot="-54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期刊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圆角矩形 25"/>
          <p:cNvSpPr/>
          <p:nvPr/>
        </p:nvSpPr>
        <p:spPr>
          <a:xfrm rot="3866400">
            <a:off x="2760480" y="3575160"/>
            <a:ext cx="850680" cy="4316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 rot="-54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网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圆角矩形 26"/>
          <p:cNvSpPr/>
          <p:nvPr/>
        </p:nvSpPr>
        <p:spPr>
          <a:xfrm rot="18032400">
            <a:off x="2708280" y="2036160"/>
            <a:ext cx="1155960" cy="432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手机阅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圆角矩形 27"/>
          <p:cNvSpPr/>
          <p:nvPr/>
        </p:nvSpPr>
        <p:spPr>
          <a:xfrm rot="20522400">
            <a:off x="3530160" y="1155240"/>
            <a:ext cx="1155960" cy="432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r>
              <a:rPr b="1" lang="zh-CN" sz="1000" spc="-1" strike="noStrike">
                <a:solidFill>
                  <a:srgbClr val="019ed5"/>
                </a:solidFill>
                <a:latin typeface="微软雅黑"/>
                <a:ea typeface="微软雅黑"/>
              </a:rPr>
              <a:t>电子阅读器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Box 92"/>
          <p:cNvSpPr/>
          <p:nvPr/>
        </p:nvSpPr>
        <p:spPr>
          <a:xfrm>
            <a:off x="0" y="0"/>
            <a:ext cx="9468000" cy="51436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91"/>
          <p:cNvSpPr/>
          <p:nvPr/>
        </p:nvSpPr>
        <p:spPr>
          <a:xfrm>
            <a:off x="3695040" y="0"/>
            <a:ext cx="189036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r>
              <a:rPr b="1" lang="zh-CN" sz="2800" spc="-1" strike="noStrike">
                <a:solidFill>
                  <a:srgbClr val="e96573"/>
                </a:solidFill>
                <a:latin typeface="Impact"/>
                <a:ea typeface="微软雅黑"/>
              </a:rPr>
              <a:t>喜欢阅读书籍类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组合 5"/>
          <p:cNvGrpSpPr/>
          <p:nvPr/>
        </p:nvGrpSpPr>
        <p:grpSpPr>
          <a:xfrm>
            <a:off x="2050920" y="708120"/>
            <a:ext cx="4969080" cy="3717720"/>
            <a:chOff x="2050920" y="708120"/>
            <a:chExt cx="4969080" cy="3717720"/>
          </a:xfrm>
        </p:grpSpPr>
        <p:sp>
          <p:nvSpPr>
            <p:cNvPr id="152" name="矩形 4"/>
            <p:cNvSpPr/>
            <p:nvPr/>
          </p:nvSpPr>
          <p:spPr>
            <a:xfrm>
              <a:off x="2050920" y="708120"/>
              <a:ext cx="1517400" cy="2503800"/>
            </a:xfrm>
            <a:prstGeom prst="rect">
              <a:avLst/>
            </a:prstGeom>
            <a:solidFill>
              <a:srgbClr val="546e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17480"/>
                  <a:tab algn="l" pos="1434960"/>
                  <a:tab algn="l" pos="2152800"/>
                  <a:tab algn="l" pos="2870280"/>
                  <a:tab algn="l" pos="3587760"/>
                  <a:tab algn="l" pos="4305240"/>
                  <a:tab algn="l" pos="5022720"/>
                  <a:tab algn="l" pos="5740560"/>
                  <a:tab algn="l" pos="6458040"/>
                  <a:tab algn="l" pos="7175520"/>
                  <a:tab algn="l" pos="7893000"/>
                  <a:tab algn="l" pos="8610480"/>
                  <a:tab algn="l" pos="9328320"/>
                  <a:tab algn="l" pos="10045800"/>
                  <a:tab algn="l" pos="107632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3" name="Picture 3" descr=""/>
            <p:cNvPicPr/>
            <p:nvPr/>
          </p:nvPicPr>
          <p:blipFill>
            <a:blip r:embed="rId2"/>
            <a:stretch/>
          </p:blipFill>
          <p:spPr>
            <a:xfrm>
              <a:off x="2222280" y="1507320"/>
              <a:ext cx="1173960" cy="64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矩形 28"/>
            <p:cNvSpPr/>
            <p:nvPr/>
          </p:nvSpPr>
          <p:spPr>
            <a:xfrm>
              <a:off x="3587400" y="708120"/>
              <a:ext cx="1251360" cy="2503800"/>
            </a:xfrm>
            <a:prstGeom prst="rect">
              <a:avLst/>
            </a:prstGeom>
            <a:solidFill>
              <a:srgbClr val="eb58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17480"/>
                  <a:tab algn="l" pos="1434960"/>
                  <a:tab algn="l" pos="2152800"/>
                  <a:tab algn="l" pos="2870280"/>
                  <a:tab algn="l" pos="3587760"/>
                  <a:tab algn="l" pos="4305240"/>
                  <a:tab algn="l" pos="5022720"/>
                  <a:tab algn="l" pos="5740560"/>
                  <a:tab algn="l" pos="6458040"/>
                  <a:tab algn="l" pos="7175520"/>
                  <a:tab algn="l" pos="7893000"/>
                  <a:tab algn="l" pos="8610480"/>
                  <a:tab algn="l" pos="9328320"/>
                  <a:tab algn="l" pos="10045800"/>
                  <a:tab algn="l" pos="107632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矩形 29"/>
            <p:cNvSpPr/>
            <p:nvPr/>
          </p:nvSpPr>
          <p:spPr>
            <a:xfrm>
              <a:off x="4857840" y="708120"/>
              <a:ext cx="1397160" cy="929160"/>
            </a:xfrm>
            <a:prstGeom prst="rect">
              <a:avLst/>
            </a:prstGeom>
            <a:solidFill>
              <a:srgbClr val="449b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17480"/>
                  <a:tab algn="l" pos="1434960"/>
                  <a:tab algn="l" pos="2152800"/>
                  <a:tab algn="l" pos="2870280"/>
                  <a:tab algn="l" pos="3587760"/>
                  <a:tab algn="l" pos="4305240"/>
                  <a:tab algn="l" pos="5022720"/>
                  <a:tab algn="l" pos="5740560"/>
                  <a:tab algn="l" pos="6458040"/>
                  <a:tab algn="l" pos="7175520"/>
                  <a:tab algn="l" pos="7893000"/>
                  <a:tab algn="l" pos="8610480"/>
                  <a:tab algn="l" pos="9328320"/>
                  <a:tab algn="l" pos="10045800"/>
                  <a:tab algn="l" pos="107632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矩形 30"/>
            <p:cNvSpPr/>
            <p:nvPr/>
          </p:nvSpPr>
          <p:spPr>
            <a:xfrm>
              <a:off x="3587400" y="3233160"/>
              <a:ext cx="1251360" cy="1192680"/>
            </a:xfrm>
            <a:prstGeom prst="rect">
              <a:avLst/>
            </a:prstGeom>
            <a:solidFill>
              <a:srgbClr val="327c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17480"/>
                  <a:tab algn="l" pos="1434960"/>
                  <a:tab algn="l" pos="2152800"/>
                  <a:tab algn="l" pos="2870280"/>
                  <a:tab algn="l" pos="3587760"/>
                  <a:tab algn="l" pos="4305240"/>
                  <a:tab algn="l" pos="5022720"/>
                  <a:tab algn="l" pos="5740560"/>
                  <a:tab algn="l" pos="6458040"/>
                  <a:tab algn="l" pos="7175520"/>
                  <a:tab algn="l" pos="7893000"/>
                  <a:tab algn="l" pos="8610480"/>
                  <a:tab algn="l" pos="9328320"/>
                  <a:tab algn="l" pos="10045800"/>
                  <a:tab algn="l" pos="107632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矩形 31"/>
            <p:cNvSpPr/>
            <p:nvPr/>
          </p:nvSpPr>
          <p:spPr>
            <a:xfrm>
              <a:off x="2054520" y="3233160"/>
              <a:ext cx="1517400" cy="1192680"/>
            </a:xfrm>
            <a:prstGeom prst="rect">
              <a:avLst/>
            </a:prstGeom>
            <a:solidFill>
              <a:srgbClr val="e965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17480"/>
                  <a:tab algn="l" pos="1434960"/>
                  <a:tab algn="l" pos="2152800"/>
                  <a:tab algn="l" pos="2870280"/>
                  <a:tab algn="l" pos="3587760"/>
                  <a:tab algn="l" pos="4305240"/>
                  <a:tab algn="l" pos="5022720"/>
                  <a:tab algn="l" pos="5740560"/>
                  <a:tab algn="l" pos="6458040"/>
                  <a:tab algn="l" pos="7175520"/>
                  <a:tab algn="l" pos="7893000"/>
                  <a:tab algn="l" pos="8610480"/>
                  <a:tab algn="l" pos="9328320"/>
                  <a:tab algn="l" pos="10045800"/>
                  <a:tab algn="l" pos="107632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8" name="Picture 4" descr=""/>
            <p:cNvPicPr/>
            <p:nvPr/>
          </p:nvPicPr>
          <p:blipFill>
            <a:blip r:embed="rId3"/>
            <a:stretch/>
          </p:blipFill>
          <p:spPr>
            <a:xfrm>
              <a:off x="3700080" y="1712520"/>
              <a:ext cx="1063800" cy="36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9" name="Picture 5" descr=""/>
            <p:cNvPicPr/>
            <p:nvPr/>
          </p:nvPicPr>
          <p:blipFill>
            <a:blip r:embed="rId4"/>
            <a:stretch/>
          </p:blipFill>
          <p:spPr>
            <a:xfrm>
              <a:off x="2287440" y="3695040"/>
              <a:ext cx="1043640" cy="431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0" name="Picture 6" descr=""/>
            <p:cNvPicPr/>
            <p:nvPr/>
          </p:nvPicPr>
          <p:blipFill>
            <a:blip r:embed="rId5"/>
            <a:stretch/>
          </p:blipFill>
          <p:spPr>
            <a:xfrm>
              <a:off x="3626280" y="3675240"/>
              <a:ext cx="1123920" cy="45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矩形 33"/>
            <p:cNvSpPr/>
            <p:nvPr/>
          </p:nvSpPr>
          <p:spPr>
            <a:xfrm>
              <a:off x="4857840" y="1654920"/>
              <a:ext cx="1397160" cy="929160"/>
            </a:xfrm>
            <a:prstGeom prst="rect">
              <a:avLst/>
            </a:prstGeom>
            <a:solidFill>
              <a:srgbClr val="2cb4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17480"/>
                  <a:tab algn="l" pos="1434960"/>
                  <a:tab algn="l" pos="2152800"/>
                  <a:tab algn="l" pos="2870280"/>
                  <a:tab algn="l" pos="3587760"/>
                  <a:tab algn="l" pos="4305240"/>
                  <a:tab algn="l" pos="5022720"/>
                  <a:tab algn="l" pos="5740560"/>
                  <a:tab algn="l" pos="6458040"/>
                  <a:tab algn="l" pos="7175520"/>
                  <a:tab algn="l" pos="7893000"/>
                  <a:tab algn="l" pos="8610480"/>
                  <a:tab algn="l" pos="9328320"/>
                  <a:tab algn="l" pos="10045800"/>
                  <a:tab algn="l" pos="107632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矩形 34"/>
            <p:cNvSpPr/>
            <p:nvPr/>
          </p:nvSpPr>
          <p:spPr>
            <a:xfrm>
              <a:off x="4857840" y="2604960"/>
              <a:ext cx="1397160" cy="859680"/>
            </a:xfrm>
            <a:prstGeom prst="rect">
              <a:avLst/>
            </a:prstGeom>
            <a:solidFill>
              <a:srgbClr val="378a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17480"/>
                  <a:tab algn="l" pos="1434960"/>
                  <a:tab algn="l" pos="2152800"/>
                  <a:tab algn="l" pos="2870280"/>
                  <a:tab algn="l" pos="3587760"/>
                  <a:tab algn="l" pos="4305240"/>
                  <a:tab algn="l" pos="5022720"/>
                  <a:tab algn="l" pos="5740560"/>
                  <a:tab algn="l" pos="6458040"/>
                  <a:tab algn="l" pos="7175520"/>
                  <a:tab algn="l" pos="7893000"/>
                  <a:tab algn="l" pos="8610480"/>
                  <a:tab algn="l" pos="9328320"/>
                  <a:tab algn="l" pos="10045800"/>
                  <a:tab algn="l" pos="107632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矩形 35"/>
            <p:cNvSpPr/>
            <p:nvPr/>
          </p:nvSpPr>
          <p:spPr>
            <a:xfrm>
              <a:off x="4857840" y="3487320"/>
              <a:ext cx="1397160" cy="934560"/>
            </a:xfrm>
            <a:prstGeom prst="rect">
              <a:avLst/>
            </a:prstGeom>
            <a:solidFill>
              <a:srgbClr val="41a3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17480"/>
                  <a:tab algn="l" pos="1434960"/>
                  <a:tab algn="l" pos="2152800"/>
                  <a:tab algn="l" pos="2870280"/>
                  <a:tab algn="l" pos="3587760"/>
                  <a:tab algn="l" pos="4305240"/>
                  <a:tab algn="l" pos="5022720"/>
                  <a:tab algn="l" pos="5740560"/>
                  <a:tab algn="l" pos="6458040"/>
                  <a:tab algn="l" pos="7175520"/>
                  <a:tab algn="l" pos="7893000"/>
                  <a:tab algn="l" pos="8610480"/>
                  <a:tab algn="l" pos="9328320"/>
                  <a:tab algn="l" pos="10045800"/>
                  <a:tab algn="l" pos="107632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4" name="Picture 7" descr=""/>
            <p:cNvPicPr/>
            <p:nvPr/>
          </p:nvPicPr>
          <p:blipFill>
            <a:blip r:embed="rId6"/>
            <a:stretch/>
          </p:blipFill>
          <p:spPr>
            <a:xfrm>
              <a:off x="5024880" y="956880"/>
              <a:ext cx="1063800" cy="431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" name="Picture 8" descr=""/>
            <p:cNvPicPr/>
            <p:nvPr/>
          </p:nvPicPr>
          <p:blipFill>
            <a:blip r:embed="rId7"/>
            <a:stretch/>
          </p:blipFill>
          <p:spPr>
            <a:xfrm>
              <a:off x="5052600" y="1818720"/>
              <a:ext cx="943200" cy="60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6" name="Picture 9" descr=""/>
            <p:cNvPicPr/>
            <p:nvPr/>
          </p:nvPicPr>
          <p:blipFill>
            <a:blip r:embed="rId8"/>
            <a:stretch/>
          </p:blipFill>
          <p:spPr>
            <a:xfrm>
              <a:off x="5009760" y="2820240"/>
              <a:ext cx="1043640" cy="44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7" name="Picture 10" descr=""/>
            <p:cNvPicPr/>
            <p:nvPr/>
          </p:nvPicPr>
          <p:blipFill>
            <a:blip r:embed="rId9"/>
            <a:stretch/>
          </p:blipFill>
          <p:spPr>
            <a:xfrm>
              <a:off x="5079960" y="3829680"/>
              <a:ext cx="953280" cy="44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矩形 40"/>
            <p:cNvSpPr/>
            <p:nvPr/>
          </p:nvSpPr>
          <p:spPr>
            <a:xfrm>
              <a:off x="6261480" y="708120"/>
              <a:ext cx="758520" cy="1876320"/>
            </a:xfrm>
            <a:prstGeom prst="rect">
              <a:avLst/>
            </a:prstGeom>
            <a:solidFill>
              <a:srgbClr val="1370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17480"/>
                  <a:tab algn="l" pos="1434960"/>
                  <a:tab algn="l" pos="2152800"/>
                  <a:tab algn="l" pos="2870280"/>
                  <a:tab algn="l" pos="3587760"/>
                  <a:tab algn="l" pos="4305240"/>
                  <a:tab algn="l" pos="5022720"/>
                  <a:tab algn="l" pos="5740560"/>
                  <a:tab algn="l" pos="6458040"/>
                  <a:tab algn="l" pos="7175520"/>
                  <a:tab algn="l" pos="7893000"/>
                  <a:tab algn="l" pos="8610480"/>
                  <a:tab algn="l" pos="9328320"/>
                  <a:tab algn="l" pos="10045800"/>
                  <a:tab algn="l" pos="107632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矩形 41"/>
            <p:cNvSpPr/>
            <p:nvPr/>
          </p:nvSpPr>
          <p:spPr>
            <a:xfrm>
              <a:off x="6261480" y="2604960"/>
              <a:ext cx="758520" cy="1820880"/>
            </a:xfrm>
            <a:prstGeom prst="rect">
              <a:avLst/>
            </a:prstGeom>
            <a:solidFill>
              <a:srgbClr val="eb58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17480"/>
                  <a:tab algn="l" pos="1434960"/>
                  <a:tab algn="l" pos="2152800"/>
                  <a:tab algn="l" pos="2870280"/>
                  <a:tab algn="l" pos="3587760"/>
                  <a:tab algn="l" pos="4305240"/>
                  <a:tab algn="l" pos="5022720"/>
                  <a:tab algn="l" pos="5740560"/>
                  <a:tab algn="l" pos="6458040"/>
                  <a:tab algn="l" pos="7175520"/>
                  <a:tab algn="l" pos="7893000"/>
                  <a:tab algn="l" pos="8610480"/>
                  <a:tab algn="l" pos="9328320"/>
                  <a:tab algn="l" pos="10045800"/>
                  <a:tab algn="l" pos="107632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0" name="Picture 11" descr=""/>
            <p:cNvPicPr/>
            <p:nvPr/>
          </p:nvPicPr>
          <p:blipFill>
            <a:blip r:embed="rId10"/>
            <a:stretch/>
          </p:blipFill>
          <p:spPr>
            <a:xfrm>
              <a:off x="6410160" y="1303560"/>
              <a:ext cx="461520" cy="702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1" name="Picture 12" descr=""/>
            <p:cNvPicPr/>
            <p:nvPr/>
          </p:nvPicPr>
          <p:blipFill>
            <a:blip r:embed="rId11"/>
            <a:stretch/>
          </p:blipFill>
          <p:spPr>
            <a:xfrm>
              <a:off x="6416640" y="3224520"/>
              <a:ext cx="454680" cy="582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2" name="TextBox 45"/>
          <p:cNvSpPr/>
          <p:nvPr/>
        </p:nvSpPr>
        <p:spPr>
          <a:xfrm>
            <a:off x="4366440" y="4483080"/>
            <a:ext cx="2948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r>
              <a:rPr b="0" lang="zh-CN" sz="1800" spc="-1" strike="noStrike">
                <a:solidFill>
                  <a:srgbClr val="1370b6"/>
                </a:solidFill>
                <a:latin typeface="Impact"/>
                <a:ea typeface="微软雅黑"/>
              </a:rPr>
              <a:t>在读者最喜爱的十大类型书里，文学稳坐头把交椅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" name="组合 5"/>
          <p:cNvGrpSpPr/>
          <p:nvPr/>
        </p:nvGrpSpPr>
        <p:grpSpPr>
          <a:xfrm>
            <a:off x="5148360" y="222120"/>
            <a:ext cx="1655640" cy="2132280"/>
            <a:chOff x="5148360" y="222120"/>
            <a:chExt cx="1655640" cy="2132280"/>
          </a:xfrm>
        </p:grpSpPr>
        <p:pic>
          <p:nvPicPr>
            <p:cNvPr id="174" name="Picture 2" descr=""/>
            <p:cNvPicPr/>
            <p:nvPr/>
          </p:nvPicPr>
          <p:blipFill>
            <a:blip r:embed="rId1"/>
            <a:stretch/>
          </p:blipFill>
          <p:spPr>
            <a:xfrm>
              <a:off x="5148360" y="222120"/>
              <a:ext cx="1655640" cy="213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任意多边形 2"/>
            <p:cNvSpPr/>
            <p:nvPr/>
          </p:nvSpPr>
          <p:spPr>
            <a:xfrm>
              <a:off x="5148360" y="260280"/>
              <a:ext cx="1467360" cy="2055960"/>
            </a:xfrm>
            <a:prstGeom prst="pie">
              <a:avLst/>
            </a:prstGeom>
            <a:noFill/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17480"/>
                  <a:tab algn="l" pos="1434960"/>
                  <a:tab algn="l" pos="2152800"/>
                  <a:tab algn="l" pos="2870280"/>
                  <a:tab algn="l" pos="3587760"/>
                  <a:tab algn="l" pos="4305240"/>
                  <a:tab algn="l" pos="5022720"/>
                  <a:tab algn="l" pos="5740560"/>
                  <a:tab algn="l" pos="6458040"/>
                  <a:tab algn="l" pos="7175520"/>
                  <a:tab algn="l" pos="7893000"/>
                  <a:tab algn="l" pos="8610480"/>
                  <a:tab algn="l" pos="9328320"/>
                  <a:tab algn="l" pos="10045800"/>
                  <a:tab algn="l" pos="107632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组合 7"/>
          <p:cNvGrpSpPr/>
          <p:nvPr/>
        </p:nvGrpSpPr>
        <p:grpSpPr>
          <a:xfrm>
            <a:off x="2411640" y="706320"/>
            <a:ext cx="1576800" cy="1430640"/>
            <a:chOff x="2411640" y="706320"/>
            <a:chExt cx="1576800" cy="1430640"/>
          </a:xfrm>
        </p:grpSpPr>
        <p:sp>
          <p:nvSpPr>
            <p:cNvPr id="177" name="TextBox 6"/>
            <p:cNvSpPr/>
            <p:nvPr/>
          </p:nvSpPr>
          <p:spPr>
            <a:xfrm>
              <a:off x="2411640" y="706320"/>
              <a:ext cx="1576800" cy="11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717480"/>
                  <a:tab algn="l" pos="1434960"/>
                  <a:tab algn="l" pos="2152800"/>
                  <a:tab algn="l" pos="2870280"/>
                  <a:tab algn="l" pos="3587760"/>
                  <a:tab algn="l" pos="4305240"/>
                  <a:tab algn="l" pos="5022720"/>
                  <a:tab algn="l" pos="5740560"/>
                  <a:tab algn="l" pos="6458040"/>
                  <a:tab algn="l" pos="7175520"/>
                  <a:tab algn="l" pos="7893000"/>
                  <a:tab algn="l" pos="8610480"/>
                  <a:tab algn="l" pos="9328320"/>
                  <a:tab algn="l" pos="10045800"/>
                  <a:tab algn="l" pos="10763280"/>
                </a:tabLst>
              </a:pPr>
              <a:r>
                <a:rPr b="0" lang="en-US" sz="4800" spc="-1" strike="noStrike">
                  <a:solidFill>
                    <a:srgbClr val="1370b6"/>
                  </a:solidFill>
                  <a:latin typeface="Haettenschweiler"/>
                  <a:ea typeface="微软雅黑"/>
                </a:rPr>
                <a:t>2012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矩形 3"/>
            <p:cNvSpPr/>
            <p:nvPr/>
          </p:nvSpPr>
          <p:spPr>
            <a:xfrm>
              <a:off x="2444040" y="1616400"/>
              <a:ext cx="1396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17480"/>
                  <a:tab algn="l" pos="1434960"/>
                  <a:tab algn="l" pos="2152800"/>
                  <a:tab algn="l" pos="2870280"/>
                  <a:tab algn="l" pos="3587760"/>
                  <a:tab algn="l" pos="4305240"/>
                  <a:tab algn="l" pos="5022720"/>
                  <a:tab algn="l" pos="5740560"/>
                  <a:tab algn="l" pos="6458040"/>
                  <a:tab algn="l" pos="7175520"/>
                  <a:tab algn="l" pos="7893000"/>
                  <a:tab algn="l" pos="8610480"/>
                  <a:tab algn="l" pos="9328320"/>
                  <a:tab algn="l" pos="10045800"/>
                  <a:tab algn="l" pos="10763280"/>
                </a:tabLst>
              </a:pPr>
              <a:r>
                <a:rPr b="1" lang="en-US" sz="2800" spc="-1" strike="noStrike">
                  <a:solidFill>
                    <a:srgbClr val="1370b6"/>
                  </a:solidFill>
                  <a:latin typeface="Haettenschweiler"/>
                </a:rPr>
                <a:t>TOP.3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" name="组合 4"/>
          <p:cNvGrpSpPr/>
          <p:nvPr/>
        </p:nvGrpSpPr>
        <p:grpSpPr>
          <a:xfrm>
            <a:off x="2556000" y="195120"/>
            <a:ext cx="2374920" cy="4561200"/>
            <a:chOff x="2556000" y="195120"/>
            <a:chExt cx="2374920" cy="4561200"/>
          </a:xfrm>
        </p:grpSpPr>
        <p:pic>
          <p:nvPicPr>
            <p:cNvPr id="180" name="Picture 2" descr=""/>
            <p:cNvPicPr/>
            <p:nvPr/>
          </p:nvPicPr>
          <p:blipFill>
            <a:blip r:embed="rId2"/>
            <a:stretch/>
          </p:blipFill>
          <p:spPr>
            <a:xfrm>
              <a:off x="2556000" y="2710800"/>
              <a:ext cx="2374920" cy="2045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1" name="Picture 3" descr=""/>
            <p:cNvPicPr/>
            <p:nvPr/>
          </p:nvPicPr>
          <p:blipFill>
            <a:blip r:embed="rId3"/>
            <a:srcRect l="10235" t="0" r="11979" b="0"/>
            <a:stretch/>
          </p:blipFill>
          <p:spPr>
            <a:xfrm>
              <a:off x="3743280" y="195120"/>
              <a:ext cx="1108440" cy="2579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2" name="TextBox 13"/>
          <p:cNvSpPr/>
          <p:nvPr/>
        </p:nvSpPr>
        <p:spPr>
          <a:xfrm>
            <a:off x="4983840" y="1851120"/>
            <a:ext cx="6285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r>
              <a:rPr b="1" lang="zh-CN" sz="2400" spc="-1" strike="noStrike">
                <a:solidFill>
                  <a:srgbClr val="1370b6"/>
                </a:solidFill>
                <a:latin typeface="微软雅黑"/>
                <a:ea typeface="微软雅黑"/>
              </a:rPr>
              <a:t>莫 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Box 14"/>
          <p:cNvSpPr/>
          <p:nvPr/>
        </p:nvSpPr>
        <p:spPr>
          <a:xfrm>
            <a:off x="5776560" y="1925640"/>
            <a:ext cx="1184760" cy="10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r>
              <a:rPr b="0" lang="en-US" sz="4000" spc="-1" strike="noStrike">
                <a:solidFill>
                  <a:srgbClr val="e96573"/>
                </a:solidFill>
                <a:latin typeface="Haettenschweiler"/>
                <a:ea typeface="微软雅黑"/>
              </a:rPr>
              <a:t>83%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矩形 8"/>
          <p:cNvSpPr/>
          <p:nvPr/>
        </p:nvSpPr>
        <p:spPr>
          <a:xfrm>
            <a:off x="4725360" y="2352600"/>
            <a:ext cx="11757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r>
              <a:rPr b="0" lang="en-US" sz="2400" spc="-1" strike="noStrike">
                <a:solidFill>
                  <a:srgbClr val="1370b6"/>
                </a:solidFill>
                <a:latin typeface="Haettenschweiler"/>
              </a:rPr>
              <a:t>MoY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矩形 9"/>
          <p:cNvSpPr/>
          <p:nvPr/>
        </p:nvSpPr>
        <p:spPr>
          <a:xfrm>
            <a:off x="5203080" y="2765520"/>
            <a:ext cx="142992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r>
              <a:rPr b="0" lang="en-US" sz="1200" spc="-1" strike="noStrike">
                <a:solidFill>
                  <a:srgbClr val="1370b6"/>
                </a:solidFill>
                <a:latin typeface="微软雅黑"/>
                <a:ea typeface="微软雅黑"/>
              </a:rPr>
              <a:t>2012</a:t>
            </a:r>
            <a:r>
              <a:rPr b="0" lang="zh-CN" sz="1200" spc="-1" strike="noStrike">
                <a:solidFill>
                  <a:srgbClr val="1370b6"/>
                </a:solidFill>
                <a:latin typeface="微软雅黑"/>
                <a:ea typeface="微软雅黑"/>
              </a:rPr>
              <a:t>年诺贝尔文学奖 得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直接连接符 11"/>
          <p:cNvSpPr/>
          <p:nvPr/>
        </p:nvSpPr>
        <p:spPr>
          <a:xfrm>
            <a:off x="4930920" y="3057480"/>
            <a:ext cx="1974600" cy="18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矩形 20"/>
          <p:cNvSpPr/>
          <p:nvPr/>
        </p:nvSpPr>
        <p:spPr>
          <a:xfrm>
            <a:off x="4930920" y="3139920"/>
            <a:ext cx="208908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r>
              <a:rPr b="0" lang="zh-CN" sz="1200" spc="-1" strike="noStrike">
                <a:solidFill>
                  <a:srgbClr val="1370b6"/>
                </a:solidFill>
                <a:latin typeface="微软雅黑"/>
                <a:ea typeface="微软雅黑"/>
              </a:rPr>
              <a:t>莫言图书成为</a:t>
            </a:r>
            <a:r>
              <a:rPr b="0" lang="en-US" sz="1200" spc="-1" strike="noStrike">
                <a:solidFill>
                  <a:srgbClr val="1370b6"/>
                </a:solidFill>
                <a:latin typeface="微软雅黑"/>
                <a:ea typeface="微软雅黑"/>
              </a:rPr>
              <a:t>2012</a:t>
            </a:r>
            <a:r>
              <a:rPr b="0" lang="zh-CN" sz="1200" spc="-1" strike="noStrike">
                <a:solidFill>
                  <a:srgbClr val="1370b6"/>
                </a:solidFill>
                <a:latin typeface="微软雅黑"/>
                <a:ea typeface="微软雅黑"/>
              </a:rPr>
              <a:t>年年度畅销热点，虚构类畅销书榜单</a:t>
            </a:r>
            <a:r>
              <a:rPr b="0" lang="en-US" sz="1200" spc="-1" strike="noStrike">
                <a:solidFill>
                  <a:srgbClr val="1370b6"/>
                </a:solidFill>
                <a:latin typeface="微软雅黑"/>
                <a:ea typeface="微软雅黑"/>
              </a:rPr>
              <a:t>top30</a:t>
            </a:r>
            <a:r>
              <a:rPr b="0" lang="zh-CN" sz="1200" spc="-1" strike="noStrike">
                <a:solidFill>
                  <a:srgbClr val="1370b6"/>
                </a:solidFill>
                <a:latin typeface="微软雅黑"/>
                <a:ea typeface="微软雅黑"/>
              </a:rPr>
              <a:t>中，有</a:t>
            </a:r>
            <a:r>
              <a:rPr b="0" lang="en-US" sz="1200" spc="-1" strike="noStrike">
                <a:solidFill>
                  <a:srgbClr val="1370b6"/>
                </a:solidFill>
                <a:latin typeface="微软雅黑"/>
                <a:ea typeface="微软雅黑"/>
              </a:rPr>
              <a:t>25</a:t>
            </a:r>
            <a:r>
              <a:rPr b="0" lang="zh-CN" sz="1200" spc="-1" strike="noStrike">
                <a:solidFill>
                  <a:srgbClr val="1370b6"/>
                </a:solidFill>
                <a:latin typeface="微软雅黑"/>
                <a:ea typeface="微软雅黑"/>
              </a:rPr>
              <a:t>种莫言作品在榜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Box 21"/>
          <p:cNvSpPr/>
          <p:nvPr/>
        </p:nvSpPr>
        <p:spPr>
          <a:xfrm>
            <a:off x="2859840" y="2135160"/>
            <a:ext cx="73224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r>
              <a:rPr b="1" lang="zh-CN" sz="2400" spc="-1" strike="noStrike">
                <a:solidFill>
                  <a:srgbClr val="e96573"/>
                </a:solidFill>
                <a:latin typeface="微软雅黑"/>
                <a:ea typeface="微软雅黑"/>
              </a:rPr>
              <a:t>畅销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828720" y="473220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ppt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Box 18"/>
          <p:cNvSpPr/>
          <p:nvPr/>
        </p:nvSpPr>
        <p:spPr>
          <a:xfrm>
            <a:off x="2926080" y="0"/>
            <a:ext cx="342648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r>
              <a:rPr b="1" lang="en-US" sz="2800" spc="-1" strike="noStrike">
                <a:solidFill>
                  <a:srgbClr val="e96573"/>
                </a:solidFill>
                <a:latin typeface="微软雅黑"/>
                <a:ea typeface="微软雅黑"/>
              </a:rPr>
              <a:t>2012</a:t>
            </a:r>
            <a:r>
              <a:rPr b="1" lang="zh-CN" sz="2800" spc="-1" strike="noStrike">
                <a:solidFill>
                  <a:srgbClr val="e96573"/>
                </a:solidFill>
                <a:latin typeface="微软雅黑"/>
                <a:ea typeface="微软雅黑"/>
              </a:rPr>
              <a:t>年读者最喜爱的十大作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8" descr="http://a0.att.hudong.com/86/25/01300000214331123485257733011.jpg"/>
          <p:cNvPicPr/>
          <p:nvPr/>
        </p:nvPicPr>
        <p:blipFill>
          <a:blip r:embed="rId1"/>
          <a:srcRect l="0" t="0" r="0" b="15719"/>
          <a:stretch/>
        </p:blipFill>
        <p:spPr>
          <a:xfrm>
            <a:off x="4037040" y="1071720"/>
            <a:ext cx="1281240" cy="10792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192" name="Picture 12" descr="http://paper.people.com.cn/rmrbhwb/images/2007-07/13/11842655163128267133829255852.jpg"/>
          <p:cNvPicPr/>
          <p:nvPr/>
        </p:nvPicPr>
        <p:blipFill>
          <a:blip r:embed="rId2"/>
          <a:srcRect l="0" t="0" r="6483" b="40807"/>
          <a:stretch/>
        </p:blipFill>
        <p:spPr>
          <a:xfrm>
            <a:off x="7245360" y="1071720"/>
            <a:ext cx="1222200" cy="10792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193" name="Picture 14" descr="http://a4.att.hudong.com/56/17/01300000329092124068170731614.jpg"/>
          <p:cNvPicPr/>
          <p:nvPr/>
        </p:nvPicPr>
        <p:blipFill>
          <a:blip r:embed="rId3"/>
          <a:srcRect l="0" t="0" r="0" b="26041"/>
          <a:stretch/>
        </p:blipFill>
        <p:spPr>
          <a:xfrm>
            <a:off x="755640" y="2787480"/>
            <a:ext cx="1182600" cy="10796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194" name="Picture 16" descr="http://photocdn.sohu.com/20130606/Img378161517.jpg"/>
          <p:cNvPicPr/>
          <p:nvPr/>
        </p:nvPicPr>
        <p:blipFill>
          <a:blip r:embed="rId4"/>
          <a:srcRect l="0" t="9895" r="0" b="0"/>
          <a:stretch/>
        </p:blipFill>
        <p:spPr>
          <a:xfrm>
            <a:off x="2425680" y="1071720"/>
            <a:ext cx="1219320" cy="10792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195" name="Picture 18" descr="http://en.dogeno.us/wp-content/uploads/2011/12/11458726aaf.jpg"/>
          <p:cNvPicPr/>
          <p:nvPr/>
        </p:nvPicPr>
        <p:blipFill>
          <a:blip r:embed="rId5"/>
          <a:stretch/>
        </p:blipFill>
        <p:spPr>
          <a:xfrm>
            <a:off x="5710320" y="1071720"/>
            <a:ext cx="1143000" cy="10792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196" name="Picture 20" descr="http://www.cs.com.cn/ssgs/hyzx/201210/W020121016413814745798.jpg"/>
          <p:cNvPicPr/>
          <p:nvPr/>
        </p:nvPicPr>
        <p:blipFill>
          <a:blip r:embed="rId6"/>
          <a:srcRect l="0" t="5123" r="0" b="19108"/>
          <a:stretch/>
        </p:blipFill>
        <p:spPr>
          <a:xfrm>
            <a:off x="917640" y="1071720"/>
            <a:ext cx="1116000" cy="10792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197" name="Picture 22" descr="http://www.sinaimg.cn/hs/2012/1012/U6675P667DT20121012165945.jpg"/>
          <p:cNvPicPr/>
          <p:nvPr/>
        </p:nvPicPr>
        <p:blipFill>
          <a:blip r:embed="rId7"/>
          <a:srcRect l="23817" t="8216" r="0" b="18998"/>
          <a:stretch/>
        </p:blipFill>
        <p:spPr>
          <a:xfrm>
            <a:off x="2417760" y="2787480"/>
            <a:ext cx="1203480" cy="10796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198" name="Picture 23" descr=""/>
          <p:cNvPicPr/>
          <p:nvPr/>
        </p:nvPicPr>
        <p:blipFill>
          <a:blip r:embed="rId8"/>
          <a:stretch/>
        </p:blipFill>
        <p:spPr>
          <a:xfrm>
            <a:off x="4092480" y="2787480"/>
            <a:ext cx="1225800" cy="10796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199" name="Picture 24" descr=""/>
          <p:cNvPicPr/>
          <p:nvPr/>
        </p:nvPicPr>
        <p:blipFill>
          <a:blip r:embed="rId9"/>
          <a:stretch/>
        </p:blipFill>
        <p:spPr>
          <a:xfrm>
            <a:off x="5702400" y="2787480"/>
            <a:ext cx="1150920" cy="10796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200" name="Picture 26" descr="http://szb.dongyingnews.cn:8018/dyrb/20120331/RB12033106_2.jpg"/>
          <p:cNvPicPr/>
          <p:nvPr/>
        </p:nvPicPr>
        <p:blipFill>
          <a:blip r:embed="rId10"/>
          <a:srcRect l="0" t="9628" r="0" b="25897"/>
          <a:stretch/>
        </p:blipFill>
        <p:spPr>
          <a:xfrm>
            <a:off x="7245360" y="2787480"/>
            <a:ext cx="1152360" cy="10796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201" name="TextBox 32"/>
          <p:cNvSpPr/>
          <p:nvPr/>
        </p:nvSpPr>
        <p:spPr>
          <a:xfrm>
            <a:off x="1234800" y="2133720"/>
            <a:ext cx="48096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r>
              <a:rPr b="0" lang="zh-CN" sz="1600" spc="-1" strike="noStrike">
                <a:solidFill>
                  <a:srgbClr val="1370b6"/>
                </a:solidFill>
                <a:latin typeface="微软雅黑"/>
                <a:ea typeface="微软雅黑"/>
              </a:rPr>
              <a:t>莫 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Box 33"/>
          <p:cNvSpPr/>
          <p:nvPr/>
        </p:nvSpPr>
        <p:spPr>
          <a:xfrm>
            <a:off x="2804760" y="2133720"/>
            <a:ext cx="42732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r>
              <a:rPr b="0" lang="zh-CN" sz="1600" spc="-1" strike="noStrike">
                <a:solidFill>
                  <a:srgbClr val="1370b6"/>
                </a:solidFill>
                <a:latin typeface="微软雅黑"/>
                <a:ea typeface="微软雅黑"/>
              </a:rPr>
              <a:t>金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Box 34"/>
          <p:cNvSpPr/>
          <p:nvPr/>
        </p:nvSpPr>
        <p:spPr>
          <a:xfrm>
            <a:off x="4492440" y="2133720"/>
            <a:ext cx="42732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r>
              <a:rPr b="0" lang="zh-CN" sz="1600" spc="-1" strike="noStrike">
                <a:solidFill>
                  <a:srgbClr val="1370b6"/>
                </a:solidFill>
                <a:latin typeface="微软雅黑"/>
                <a:ea typeface="微软雅黑"/>
              </a:rPr>
              <a:t>鲁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Box 35"/>
          <p:cNvSpPr/>
          <p:nvPr/>
        </p:nvSpPr>
        <p:spPr>
          <a:xfrm>
            <a:off x="6068160" y="2133720"/>
            <a:ext cx="42732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r>
              <a:rPr b="0" lang="zh-CN" sz="1600" spc="-1" strike="noStrike">
                <a:solidFill>
                  <a:srgbClr val="1370b6"/>
                </a:solidFill>
                <a:latin typeface="微软雅黑"/>
                <a:ea typeface="微软雅黑"/>
              </a:rPr>
              <a:t>韩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Box 36"/>
          <p:cNvSpPr/>
          <p:nvPr/>
        </p:nvSpPr>
        <p:spPr>
          <a:xfrm>
            <a:off x="7581600" y="2133720"/>
            <a:ext cx="54936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r>
              <a:rPr b="0" lang="zh-CN" sz="1600" spc="-1" strike="noStrike">
                <a:solidFill>
                  <a:srgbClr val="1370b6"/>
                </a:solidFill>
                <a:latin typeface="微软雅黑"/>
                <a:ea typeface="微软雅黑"/>
              </a:rPr>
              <a:t>琼阿姨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Box 37"/>
          <p:cNvSpPr/>
          <p:nvPr/>
        </p:nvSpPr>
        <p:spPr>
          <a:xfrm>
            <a:off x="1188720" y="3929040"/>
            <a:ext cx="42732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r>
              <a:rPr b="0" lang="zh-CN" sz="1600" spc="-1" strike="noStrike">
                <a:solidFill>
                  <a:srgbClr val="1370b6"/>
                </a:solidFill>
                <a:latin typeface="微软雅黑"/>
                <a:ea typeface="微软雅黑"/>
              </a:rPr>
              <a:t>老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Box 38"/>
          <p:cNvSpPr/>
          <p:nvPr/>
        </p:nvSpPr>
        <p:spPr>
          <a:xfrm>
            <a:off x="2791440" y="3929040"/>
            <a:ext cx="42732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r>
              <a:rPr b="0" lang="zh-CN" sz="1600" spc="-1" strike="noStrike">
                <a:solidFill>
                  <a:srgbClr val="1370b6"/>
                </a:solidFill>
                <a:latin typeface="微软雅黑"/>
                <a:ea typeface="微软雅黑"/>
              </a:rPr>
              <a:t>小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39"/>
          <p:cNvSpPr/>
          <p:nvPr/>
        </p:nvSpPr>
        <p:spPr>
          <a:xfrm>
            <a:off x="4402080" y="3929040"/>
            <a:ext cx="54936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r>
              <a:rPr b="0" lang="zh-CN" sz="1600" spc="-1" strike="noStrike">
                <a:solidFill>
                  <a:srgbClr val="1370b6"/>
                </a:solidFill>
                <a:latin typeface="微软雅黑"/>
                <a:ea typeface="微软雅黑"/>
              </a:rPr>
              <a:t>曹雪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Box 40"/>
          <p:cNvSpPr/>
          <p:nvPr/>
        </p:nvSpPr>
        <p:spPr>
          <a:xfrm>
            <a:off x="6024240" y="3929040"/>
            <a:ext cx="42732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r>
              <a:rPr b="0" lang="zh-CN" sz="1600" spc="-1" strike="noStrike">
                <a:solidFill>
                  <a:srgbClr val="1370b6"/>
                </a:solidFill>
                <a:latin typeface="微软雅黑"/>
                <a:ea typeface="微软雅黑"/>
              </a:rPr>
              <a:t>巴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41"/>
          <p:cNvSpPr/>
          <p:nvPr/>
        </p:nvSpPr>
        <p:spPr>
          <a:xfrm>
            <a:off x="7642800" y="3929040"/>
            <a:ext cx="42732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r>
              <a:rPr b="0" lang="zh-CN" sz="1600" spc="-1" strike="noStrike">
                <a:solidFill>
                  <a:srgbClr val="1370b6"/>
                </a:solidFill>
                <a:latin typeface="微软雅黑"/>
                <a:ea typeface="微软雅黑"/>
              </a:rPr>
              <a:t>冰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Box 18"/>
          <p:cNvSpPr/>
          <p:nvPr/>
        </p:nvSpPr>
        <p:spPr>
          <a:xfrm>
            <a:off x="3032640" y="0"/>
            <a:ext cx="321336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r>
              <a:rPr b="1" lang="en-US" sz="2800" spc="-1" strike="noStrike">
                <a:solidFill>
                  <a:srgbClr val="e96573"/>
                </a:solidFill>
                <a:latin typeface="微软雅黑"/>
                <a:ea typeface="微软雅黑"/>
              </a:rPr>
              <a:t>2012</a:t>
            </a:r>
            <a:r>
              <a:rPr b="1" lang="zh-CN" sz="2800" spc="-1" strike="noStrike">
                <a:solidFill>
                  <a:srgbClr val="e96573"/>
                </a:solidFill>
                <a:latin typeface="微软雅黑"/>
                <a:ea typeface="微软雅黑"/>
              </a:rPr>
              <a:t>年读者最喜爱的十本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c:\users\ADMINI~1\appdata\roaming\360se6\USERDA~1\Temp\s1966381.jpg"/>
          <p:cNvPicPr/>
          <p:nvPr/>
        </p:nvPicPr>
        <p:blipFill>
          <a:blip r:embed="rId1"/>
          <a:stretch/>
        </p:blipFill>
        <p:spPr>
          <a:xfrm>
            <a:off x="984240" y="1144440"/>
            <a:ext cx="498600" cy="7192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213" name="Picture 6" descr="c:\users\ADMINI~1\appdata\roaming\360se6\USERDA~1\Temp\s1076932.jpg"/>
          <p:cNvPicPr/>
          <p:nvPr/>
        </p:nvPicPr>
        <p:blipFill>
          <a:blip r:embed="rId2"/>
          <a:srcRect l="0" t="6041" r="14455" b="9717"/>
          <a:stretch/>
        </p:blipFill>
        <p:spPr>
          <a:xfrm>
            <a:off x="2016000" y="1149480"/>
            <a:ext cx="497160" cy="7189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214" name="Picture 8" descr="c:\users\ADMINI~1\appdata\roaming\360se6\USERDA~1\Temp\s1627374.jpg"/>
          <p:cNvPicPr/>
          <p:nvPr/>
        </p:nvPicPr>
        <p:blipFill>
          <a:blip r:embed="rId3"/>
          <a:stretch/>
        </p:blipFill>
        <p:spPr>
          <a:xfrm>
            <a:off x="3959280" y="1198440"/>
            <a:ext cx="498600" cy="72072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10" descr="c:\users\ADMINI~1\appdata\roaming\360se6\USERDA~1\Temp\s1436519.jpg"/>
          <p:cNvPicPr/>
          <p:nvPr/>
        </p:nvPicPr>
        <p:blipFill>
          <a:blip r:embed="rId4"/>
          <a:stretch/>
        </p:blipFill>
        <p:spPr>
          <a:xfrm>
            <a:off x="3298680" y="2120760"/>
            <a:ext cx="481320" cy="72072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12" descr="c:\users\ADMINI~1\appdata\roaming\360se6\USERDA~1\Temp\S23632~1.JPG"/>
          <p:cNvPicPr/>
          <p:nvPr/>
        </p:nvPicPr>
        <p:blipFill>
          <a:blip r:embed="rId5"/>
          <a:stretch/>
        </p:blipFill>
        <p:spPr>
          <a:xfrm>
            <a:off x="5075280" y="1868400"/>
            <a:ext cx="490320" cy="72072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14" descr="c:\users\ADMINI~1\appdata\roaming\360se6\USERDA~1\Temp\s3539812.jpg"/>
          <p:cNvPicPr/>
          <p:nvPr/>
        </p:nvPicPr>
        <p:blipFill>
          <a:blip r:embed="rId6"/>
          <a:stretch/>
        </p:blipFill>
        <p:spPr>
          <a:xfrm>
            <a:off x="6948360" y="2571840"/>
            <a:ext cx="497160" cy="72072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16" descr="c:\users\ADMINI~1\appdata\roaming\360se6\USERDA~1\Temp\s4104535.jpg"/>
          <p:cNvPicPr/>
          <p:nvPr/>
        </p:nvPicPr>
        <p:blipFill>
          <a:blip r:embed="rId7"/>
          <a:stretch/>
        </p:blipFill>
        <p:spPr>
          <a:xfrm>
            <a:off x="6818400" y="1405080"/>
            <a:ext cx="480960" cy="71892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8" descr="c:\users\ADMINI~1\appdata\roaming\360se6\USERDA~1\Temp\s1070222.jpg"/>
          <p:cNvPicPr/>
          <p:nvPr/>
        </p:nvPicPr>
        <p:blipFill>
          <a:blip r:embed="rId8"/>
          <a:stretch/>
        </p:blipFill>
        <p:spPr>
          <a:xfrm>
            <a:off x="4797360" y="3438360"/>
            <a:ext cx="486000" cy="7207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20" descr="c:\users\ADMINI~1\appdata\roaming\360se6\USERDA~1\Temp\s2241708.jpg"/>
          <p:cNvPicPr/>
          <p:nvPr/>
        </p:nvPicPr>
        <p:blipFill>
          <a:blip r:embed="rId9"/>
          <a:stretch/>
        </p:blipFill>
        <p:spPr>
          <a:xfrm>
            <a:off x="2781360" y="3454560"/>
            <a:ext cx="490320" cy="720720"/>
          </a:xfrm>
          <a:prstGeom prst="rect">
            <a:avLst/>
          </a:prstGeom>
          <a:ln w="0">
            <a:noFill/>
          </a:ln>
        </p:spPr>
      </p:pic>
      <p:cxnSp>
        <p:nvCxnSpPr>
          <p:cNvPr id="221" name="肘形连接符 2"/>
          <p:cNvCxnSpPr/>
          <p:nvPr/>
        </p:nvCxnSpPr>
        <p:spPr>
          <a:xfrm flipV="1">
            <a:off x="250560" y="1149120"/>
            <a:ext cx="3529800" cy="770400"/>
          </a:xfrm>
          <a:prstGeom prst="bentConnector3">
            <a:avLst>
              <a:gd name="adj1" fmla="val 50000"/>
            </a:avLst>
          </a:prstGeom>
          <a:ln w="19080">
            <a:solidFill>
              <a:srgbClr val="7f7f7f"/>
            </a:solidFill>
            <a:prstDash val="sysDot"/>
            <a:miter/>
          </a:ln>
        </p:spPr>
      </p:cxnSp>
      <p:sp>
        <p:nvSpPr>
          <p:cNvPr id="222" name="TextBox 42"/>
          <p:cNvSpPr/>
          <p:nvPr/>
        </p:nvSpPr>
        <p:spPr>
          <a:xfrm>
            <a:off x="360360" y="700200"/>
            <a:ext cx="663840" cy="15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Impact"/>
                <a:ea typeface="宋体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Box 43"/>
          <p:cNvSpPr/>
          <p:nvPr/>
        </p:nvSpPr>
        <p:spPr>
          <a:xfrm>
            <a:off x="2435040" y="700200"/>
            <a:ext cx="663840" cy="15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Impact"/>
                <a:ea typeface="宋体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4" name="肘形连接符 4"/>
          <p:cNvCxnSpPr/>
          <p:nvPr/>
        </p:nvCxnSpPr>
        <p:spPr>
          <a:xfrm rot="5400000">
            <a:off x="2288160" y="1524600"/>
            <a:ext cx="1867320" cy="1116720"/>
          </a:xfrm>
          <a:prstGeom prst="bentConnector3">
            <a:avLst>
              <a:gd name="adj1" fmla="val 50000"/>
            </a:avLst>
          </a:prstGeom>
          <a:ln w="19080">
            <a:solidFill>
              <a:srgbClr val="7f7f7f"/>
            </a:solidFill>
            <a:prstDash val="sysDot"/>
            <a:miter/>
          </a:ln>
        </p:spPr>
      </p:cxnSp>
      <p:sp>
        <p:nvSpPr>
          <p:cNvPr id="225" name="TextBox 44"/>
          <p:cNvSpPr/>
          <p:nvPr/>
        </p:nvSpPr>
        <p:spPr>
          <a:xfrm>
            <a:off x="2624040" y="1635120"/>
            <a:ext cx="663840" cy="15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Impact"/>
                <a:ea typeface="宋体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6" name="肘形连接符 8"/>
          <p:cNvCxnSpPr/>
          <p:nvPr/>
        </p:nvCxnSpPr>
        <p:spPr>
          <a:xfrm flipV="1">
            <a:off x="2679480" y="1143720"/>
            <a:ext cx="2361240" cy="1872360"/>
          </a:xfrm>
          <a:prstGeom prst="bentConnector3">
            <a:avLst>
              <a:gd name="adj1" fmla="val 50000"/>
            </a:avLst>
          </a:prstGeom>
          <a:ln w="19080">
            <a:solidFill>
              <a:srgbClr val="7f7f7f"/>
            </a:solidFill>
            <a:prstDash val="sysDot"/>
            <a:miter/>
          </a:ln>
        </p:spPr>
      </p:cxnSp>
      <p:sp>
        <p:nvSpPr>
          <p:cNvPr id="227" name="TextBox 45"/>
          <p:cNvSpPr/>
          <p:nvPr/>
        </p:nvSpPr>
        <p:spPr>
          <a:xfrm>
            <a:off x="4440960" y="700200"/>
            <a:ext cx="663840" cy="15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Impact"/>
                <a:ea typeface="宋体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8" name="肘形连接符 10"/>
          <p:cNvCxnSpPr/>
          <p:nvPr/>
        </p:nvCxnSpPr>
        <p:spPr>
          <a:xfrm rot="5400000">
            <a:off x="3512520" y="1488600"/>
            <a:ext cx="1873800" cy="1181880"/>
          </a:xfrm>
          <a:prstGeom prst="bentConnector3">
            <a:avLst>
              <a:gd name="adj1" fmla="val 50000"/>
            </a:avLst>
          </a:prstGeom>
          <a:ln w="19080">
            <a:solidFill>
              <a:srgbClr val="7f7f7f"/>
            </a:solidFill>
            <a:prstDash val="sysDot"/>
            <a:miter/>
          </a:ln>
        </p:spPr>
      </p:cxnSp>
      <p:sp>
        <p:nvSpPr>
          <p:cNvPr id="229" name="TextBox 47"/>
          <p:cNvSpPr/>
          <p:nvPr/>
        </p:nvSpPr>
        <p:spPr>
          <a:xfrm>
            <a:off x="5504760" y="1419120"/>
            <a:ext cx="663840" cy="15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Impact"/>
                <a:ea typeface="宋体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0" name="肘形连接符 15"/>
          <p:cNvCxnSpPr/>
          <p:nvPr/>
        </p:nvCxnSpPr>
        <p:spPr>
          <a:xfrm flipH="1" rot="16200000">
            <a:off x="4426560" y="1760760"/>
            <a:ext cx="2934360" cy="1710720"/>
          </a:xfrm>
          <a:prstGeom prst="bentConnector3">
            <a:avLst>
              <a:gd name="adj1" fmla="val 50000"/>
            </a:avLst>
          </a:prstGeom>
          <a:ln w="19080">
            <a:solidFill>
              <a:srgbClr val="7f7f7f"/>
            </a:solidFill>
            <a:prstDash val="sysDot"/>
            <a:miter/>
          </a:ln>
        </p:spPr>
      </p:cxnSp>
      <p:cxnSp>
        <p:nvCxnSpPr>
          <p:cNvPr id="231" name="肘形连接符 17"/>
          <p:cNvCxnSpPr/>
          <p:nvPr/>
        </p:nvCxnSpPr>
        <p:spPr>
          <a:xfrm flipV="1">
            <a:off x="6748200" y="2364840"/>
            <a:ext cx="1748520" cy="1720080"/>
          </a:xfrm>
          <a:prstGeom prst="bentConnector3">
            <a:avLst>
              <a:gd name="adj1" fmla="val 50000"/>
            </a:avLst>
          </a:prstGeom>
          <a:ln w="19080">
            <a:solidFill>
              <a:srgbClr val="7f7f7f"/>
            </a:solidFill>
            <a:prstDash val="sysDot"/>
            <a:miter/>
          </a:ln>
        </p:spPr>
      </p:cxnSp>
      <p:sp>
        <p:nvSpPr>
          <p:cNvPr id="232" name="TextBox 55"/>
          <p:cNvSpPr/>
          <p:nvPr/>
        </p:nvSpPr>
        <p:spPr>
          <a:xfrm>
            <a:off x="6891840" y="2860560"/>
            <a:ext cx="663840" cy="15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Impact"/>
                <a:ea typeface="宋体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直接连接符 22"/>
          <p:cNvSpPr/>
          <p:nvPr/>
        </p:nvSpPr>
        <p:spPr>
          <a:xfrm flipV="1">
            <a:off x="8496360" y="1275840"/>
            <a:ext cx="0" cy="1065240"/>
          </a:xfrm>
          <a:prstGeom prst="line">
            <a:avLst/>
          </a:prstGeom>
          <a:ln w="19080">
            <a:solidFill>
              <a:srgbClr val="7f7f7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直接连接符 24"/>
          <p:cNvSpPr/>
          <p:nvPr/>
        </p:nvSpPr>
        <p:spPr>
          <a:xfrm flipH="1">
            <a:off x="6519960" y="1276200"/>
            <a:ext cx="1976400" cy="0"/>
          </a:xfrm>
          <a:prstGeom prst="line">
            <a:avLst/>
          </a:prstGeom>
          <a:ln w="19080">
            <a:solidFill>
              <a:srgbClr val="7f7f7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直接连接符 26"/>
          <p:cNvSpPr/>
          <p:nvPr/>
        </p:nvSpPr>
        <p:spPr>
          <a:xfrm>
            <a:off x="6519960" y="1276200"/>
            <a:ext cx="0" cy="952560"/>
          </a:xfrm>
          <a:prstGeom prst="line">
            <a:avLst/>
          </a:prstGeom>
          <a:ln w="19080">
            <a:solidFill>
              <a:srgbClr val="7f7f7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直接连接符 28"/>
          <p:cNvSpPr/>
          <p:nvPr/>
        </p:nvSpPr>
        <p:spPr>
          <a:xfrm>
            <a:off x="6519960" y="2228760"/>
            <a:ext cx="1103040" cy="0"/>
          </a:xfrm>
          <a:prstGeom prst="line">
            <a:avLst/>
          </a:prstGeom>
          <a:ln w="19080">
            <a:solidFill>
              <a:srgbClr val="7f7f7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直接连接符 30"/>
          <p:cNvSpPr/>
          <p:nvPr/>
        </p:nvSpPr>
        <p:spPr>
          <a:xfrm>
            <a:off x="7623000" y="2228760"/>
            <a:ext cx="0" cy="112680"/>
          </a:xfrm>
          <a:prstGeom prst="line">
            <a:avLst/>
          </a:prstGeom>
          <a:ln w="19080">
            <a:solidFill>
              <a:srgbClr val="1370b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Box 68"/>
          <p:cNvSpPr/>
          <p:nvPr/>
        </p:nvSpPr>
        <p:spPr>
          <a:xfrm>
            <a:off x="7612920" y="915840"/>
            <a:ext cx="663840" cy="15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Impact"/>
                <a:ea typeface="宋体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直接连接符 2050"/>
          <p:cNvSpPr/>
          <p:nvPr/>
        </p:nvSpPr>
        <p:spPr>
          <a:xfrm>
            <a:off x="8496360" y="2365200"/>
            <a:ext cx="0" cy="2295720"/>
          </a:xfrm>
          <a:prstGeom prst="line">
            <a:avLst/>
          </a:prstGeom>
          <a:ln w="19080">
            <a:solidFill>
              <a:srgbClr val="7f7f7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直接连接符 2052"/>
          <p:cNvSpPr/>
          <p:nvPr/>
        </p:nvSpPr>
        <p:spPr>
          <a:xfrm flipH="1">
            <a:off x="4640040" y="4660920"/>
            <a:ext cx="3855960" cy="0"/>
          </a:xfrm>
          <a:prstGeom prst="line">
            <a:avLst/>
          </a:prstGeom>
          <a:ln w="19080">
            <a:solidFill>
              <a:srgbClr val="7f7f7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直接连接符 2054"/>
          <p:cNvSpPr/>
          <p:nvPr/>
        </p:nvSpPr>
        <p:spPr>
          <a:xfrm flipV="1">
            <a:off x="4640400" y="3223800"/>
            <a:ext cx="0" cy="1436760"/>
          </a:xfrm>
          <a:prstGeom prst="line">
            <a:avLst/>
          </a:prstGeom>
          <a:ln w="19080">
            <a:solidFill>
              <a:srgbClr val="7f7f7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直接连接符 2057"/>
          <p:cNvSpPr/>
          <p:nvPr/>
        </p:nvSpPr>
        <p:spPr>
          <a:xfrm>
            <a:off x="4640400" y="3224160"/>
            <a:ext cx="1587240" cy="1800"/>
          </a:xfrm>
          <a:prstGeom prst="line">
            <a:avLst/>
          </a:prstGeom>
          <a:ln w="19080">
            <a:solidFill>
              <a:srgbClr val="7f7f7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直接连接符 2060"/>
          <p:cNvSpPr/>
          <p:nvPr/>
        </p:nvSpPr>
        <p:spPr>
          <a:xfrm>
            <a:off x="6227640" y="3224160"/>
            <a:ext cx="1800" cy="1147680"/>
          </a:xfrm>
          <a:prstGeom prst="line">
            <a:avLst/>
          </a:prstGeom>
          <a:ln w="19080">
            <a:solidFill>
              <a:srgbClr val="7f7f7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直接连接符 2064"/>
          <p:cNvSpPr/>
          <p:nvPr/>
        </p:nvSpPr>
        <p:spPr>
          <a:xfrm flipH="1">
            <a:off x="1618920" y="4371840"/>
            <a:ext cx="4608360" cy="0"/>
          </a:xfrm>
          <a:prstGeom prst="line">
            <a:avLst/>
          </a:prstGeom>
          <a:ln w="19080">
            <a:solidFill>
              <a:srgbClr val="7f7f7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直接连接符 2068"/>
          <p:cNvSpPr/>
          <p:nvPr/>
        </p:nvSpPr>
        <p:spPr>
          <a:xfrm flipV="1">
            <a:off x="2462040" y="3147840"/>
            <a:ext cx="1800" cy="1224000"/>
          </a:xfrm>
          <a:prstGeom prst="line">
            <a:avLst/>
          </a:prstGeom>
          <a:ln w="19080">
            <a:solidFill>
              <a:srgbClr val="7f7f7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直接连接符 2074"/>
          <p:cNvSpPr/>
          <p:nvPr/>
        </p:nvSpPr>
        <p:spPr>
          <a:xfrm flipH="1">
            <a:off x="-360" y="3147840"/>
            <a:ext cx="2462040" cy="0"/>
          </a:xfrm>
          <a:prstGeom prst="line">
            <a:avLst/>
          </a:prstGeom>
          <a:ln w="19080">
            <a:solidFill>
              <a:srgbClr val="7f7f7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Box 89"/>
          <p:cNvSpPr/>
          <p:nvPr/>
        </p:nvSpPr>
        <p:spPr>
          <a:xfrm>
            <a:off x="5311800" y="2955960"/>
            <a:ext cx="663840" cy="15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Impact"/>
                <a:ea typeface="宋体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Box 91"/>
          <p:cNvSpPr/>
          <p:nvPr/>
        </p:nvSpPr>
        <p:spPr>
          <a:xfrm>
            <a:off x="3407400" y="2932200"/>
            <a:ext cx="663840" cy="15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Impact"/>
                <a:ea typeface="宋体"/>
              </a:rPr>
              <a:t>9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22" descr=""/>
          <p:cNvPicPr/>
          <p:nvPr/>
        </p:nvPicPr>
        <p:blipFill>
          <a:blip r:embed="rId10"/>
          <a:stretch/>
        </p:blipFill>
        <p:spPr>
          <a:xfrm>
            <a:off x="1809720" y="3454560"/>
            <a:ext cx="480960" cy="720720"/>
          </a:xfrm>
          <a:prstGeom prst="rect">
            <a:avLst/>
          </a:prstGeom>
          <a:ln w="0">
            <a:noFill/>
          </a:ln>
        </p:spPr>
      </p:pic>
      <p:sp>
        <p:nvSpPr>
          <p:cNvPr id="250" name="TextBox 93"/>
          <p:cNvSpPr/>
          <p:nvPr/>
        </p:nvSpPr>
        <p:spPr>
          <a:xfrm>
            <a:off x="567360" y="2951280"/>
            <a:ext cx="1143720" cy="15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Impact"/>
                <a:ea typeface="宋体"/>
              </a:rPr>
              <a:t>10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TextBox 18"/>
          <p:cNvSpPr/>
          <p:nvPr/>
        </p:nvSpPr>
        <p:spPr>
          <a:xfrm>
            <a:off x="3032640" y="0"/>
            <a:ext cx="321336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r>
              <a:rPr b="1" lang="en-US" sz="2800" spc="-1" strike="noStrike">
                <a:solidFill>
                  <a:srgbClr val="e96573"/>
                </a:solidFill>
                <a:latin typeface="微软雅黑"/>
                <a:ea typeface="微软雅黑"/>
              </a:rPr>
              <a:t>2012</a:t>
            </a:r>
            <a:r>
              <a:rPr b="1" lang="zh-CN" sz="2800" spc="-1" strike="noStrike">
                <a:solidFill>
                  <a:srgbClr val="e96573"/>
                </a:solidFill>
                <a:latin typeface="微软雅黑"/>
                <a:ea typeface="微软雅黑"/>
              </a:rPr>
              <a:t>年读者最喜爱的十本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4" descr="c:\users\ADMINI~1\appdata\roaming\360se6\USERDA~1\Temp\s1966381.jpg"/>
          <p:cNvPicPr/>
          <p:nvPr/>
        </p:nvPicPr>
        <p:blipFill>
          <a:blip r:embed="rId1"/>
          <a:stretch/>
        </p:blipFill>
        <p:spPr>
          <a:xfrm>
            <a:off x="1073160" y="1104840"/>
            <a:ext cx="996840" cy="14400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253" name="Picture 6" descr="c:\users\ADMINI~1\appdata\roaming\360se6\USERDA~1\Temp\s1076932.jpg"/>
          <p:cNvPicPr/>
          <p:nvPr/>
        </p:nvPicPr>
        <p:blipFill>
          <a:blip r:embed="rId2"/>
          <a:srcRect l="0" t="6041" r="14480" b="9717"/>
          <a:stretch/>
        </p:blipFill>
        <p:spPr>
          <a:xfrm>
            <a:off x="2554200" y="1104840"/>
            <a:ext cx="993960" cy="14400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254" name="Picture 8" descr="c:\users\ADMINI~1\appdata\roaming\360se6\USERDA~1\Temp\s1627374.jpg"/>
          <p:cNvPicPr/>
          <p:nvPr/>
        </p:nvPicPr>
        <p:blipFill>
          <a:blip r:embed="rId3"/>
          <a:stretch/>
        </p:blipFill>
        <p:spPr>
          <a:xfrm>
            <a:off x="5479920" y="1104840"/>
            <a:ext cx="997200" cy="144000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10" descr="c:\users\ADMINI~1\appdata\roaming\360se6\USERDA~1\Temp\s1436519.jpg"/>
          <p:cNvPicPr/>
          <p:nvPr/>
        </p:nvPicPr>
        <p:blipFill>
          <a:blip r:embed="rId4"/>
          <a:stretch/>
        </p:blipFill>
        <p:spPr>
          <a:xfrm>
            <a:off x="4032360" y="1104840"/>
            <a:ext cx="963360" cy="144000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12" descr="c:\users\ADMINI~1\appdata\roaming\360se6\USERDA~1\Temp\S23632~1.JPG"/>
          <p:cNvPicPr/>
          <p:nvPr/>
        </p:nvPicPr>
        <p:blipFill>
          <a:blip r:embed="rId5"/>
          <a:stretch/>
        </p:blipFill>
        <p:spPr>
          <a:xfrm>
            <a:off x="6959520" y="1104840"/>
            <a:ext cx="979560" cy="144000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14" descr="c:\users\ADMINI~1\appdata\roaming\360se6\USERDA~1\Temp\s3539812.jpg"/>
          <p:cNvPicPr/>
          <p:nvPr/>
        </p:nvPicPr>
        <p:blipFill>
          <a:blip r:embed="rId6"/>
          <a:stretch/>
        </p:blipFill>
        <p:spPr>
          <a:xfrm>
            <a:off x="6959520" y="3292560"/>
            <a:ext cx="997200" cy="143964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16" descr="c:\users\ADMINI~1\appdata\roaming\360se6\USERDA~1\Temp\s4104535.jpg"/>
          <p:cNvPicPr/>
          <p:nvPr/>
        </p:nvPicPr>
        <p:blipFill>
          <a:blip r:embed="rId7"/>
          <a:stretch/>
        </p:blipFill>
        <p:spPr>
          <a:xfrm>
            <a:off x="5495760" y="3292560"/>
            <a:ext cx="963720" cy="143964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18" descr="c:\users\ADMINI~1\appdata\roaming\360se6\USERDA~1\Temp\s1070222.jpg"/>
          <p:cNvPicPr/>
          <p:nvPr/>
        </p:nvPicPr>
        <p:blipFill>
          <a:blip r:embed="rId8"/>
          <a:stretch/>
        </p:blipFill>
        <p:spPr>
          <a:xfrm>
            <a:off x="4022640" y="3292560"/>
            <a:ext cx="971640" cy="143964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20" descr="c:\users\ADMINI~1\appdata\roaming\360se6\USERDA~1\Temp\s2241708.jpg"/>
          <p:cNvPicPr/>
          <p:nvPr/>
        </p:nvPicPr>
        <p:blipFill>
          <a:blip r:embed="rId9"/>
          <a:stretch/>
        </p:blipFill>
        <p:spPr>
          <a:xfrm>
            <a:off x="2538360" y="3292560"/>
            <a:ext cx="982800" cy="143964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22" descr=""/>
          <p:cNvPicPr/>
          <p:nvPr/>
        </p:nvPicPr>
        <p:blipFill>
          <a:blip r:embed="rId10"/>
          <a:stretch/>
        </p:blipFill>
        <p:spPr>
          <a:xfrm>
            <a:off x="1073160" y="3292560"/>
            <a:ext cx="963720" cy="14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25T08:56:18Z</dcterms:created>
  <dc:creator>Administrator</dc:creator>
  <dc:description/>
  <dc:language>en-US</dc:language>
  <cp:lastModifiedBy>SUNNY-PC</cp:lastModifiedBy>
  <dcterms:modified xsi:type="dcterms:W3CDTF">2015-08-03T12:30:36Z</dcterms:modified>
  <cp:revision>116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