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341-57FD-4403-8B17-341154F9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320-8CE5-4A56-82AE-DB0EE7F6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3FD-CF64-40C0-908E-CA8097A6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750-8ABB-46B0-A2BC-89CEA87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9AD-8511-448C-8FC7-E19C0067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5FF-CCD9-413D-AF81-0762BAC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847-15D9-44CC-91B0-553A734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6A8-72C3-48C0-99B4-ED9275C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890-23B0-4782-9B2F-58C2A8E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6D4-97BF-4ED9-A2BC-68A74602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7E1-E209-4756-9282-BDB46BEE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D53-1FD7-43E0-B319-787E02F2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810144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810144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810144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E4B3AEEC-0241-4C4B-8164-B0EF95D69B91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731AD9D8-F5E3-4396-969E-FB8EDC1091FD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3" descr=""/>
          <p:cNvPicPr/>
          <p:nvPr/>
        </p:nvPicPr>
        <p:blipFill>
          <a:blip r:embed="rId1"/>
          <a:stretch/>
        </p:blipFill>
        <p:spPr>
          <a:xfrm>
            <a:off x="-9360" y="2536920"/>
            <a:ext cx="9177120" cy="17859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" descr=""/>
          <p:cNvPicPr/>
          <p:nvPr/>
        </p:nvPicPr>
        <p:blipFill>
          <a:blip r:embed="rId2"/>
          <a:stretch/>
        </p:blipFill>
        <p:spPr>
          <a:xfrm>
            <a:off x="108000" y="1604880"/>
            <a:ext cx="2519280" cy="43452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4319640" y="44406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45880" y="32004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质量分析会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修障满意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3096720" y="692280"/>
            <a:ext cx="14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800" spc="-1" strike="noStrike">
                <a:solidFill>
                  <a:srgbClr val="c11103"/>
                </a:solidFill>
                <a:latin typeface="Arial"/>
                <a:ea typeface="微软雅黑"/>
              </a:rPr>
              <a:t>10010</a:t>
            </a: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投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大客户故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大面积故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3400920" y="69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小组内部横向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3213360" y="69228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专项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3213360" y="69228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网优网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1619280" y="41068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右箭头 26"/>
          <p:cNvSpPr/>
          <p:nvPr/>
        </p:nvSpPr>
        <p:spPr>
          <a:xfrm>
            <a:off x="1951200" y="3797280"/>
            <a:ext cx="431640" cy="27324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下月工作计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 rot="10800000">
            <a:off x="1330200" y="1628280"/>
            <a:ext cx="25718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 rot="10800000">
            <a:off x="5290920" y="1628280"/>
            <a:ext cx="25700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5284800" y="2374920"/>
            <a:ext cx="2849400" cy="275256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5348160" y="2440080"/>
            <a:ext cx="2703600" cy="2611440"/>
          </a:xfrm>
          <a:prstGeom prst="roundRect">
            <a:avLst>
              <a:gd name="adj" fmla="val 7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8"/>
          <p:cNvGrpSpPr/>
          <p:nvPr/>
        </p:nvGrpSpPr>
        <p:grpSpPr>
          <a:xfrm>
            <a:off x="974880" y="1660680"/>
            <a:ext cx="2856960" cy="466560"/>
            <a:chOff x="974880" y="1660680"/>
            <a:chExt cx="2856960" cy="466560"/>
          </a:xfrm>
        </p:grpSpPr>
        <p:sp>
          <p:nvSpPr>
            <p:cNvPr id="312" name="AutoShape 6"/>
            <p:cNvSpPr/>
            <p:nvPr/>
          </p:nvSpPr>
          <p:spPr>
            <a:xfrm>
              <a:off x="974880" y="1660680"/>
              <a:ext cx="285696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7"/>
            <p:cNvSpPr/>
            <p:nvPr/>
          </p:nvSpPr>
          <p:spPr>
            <a:xfrm flipH="1">
              <a:off x="36892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8"/>
            <p:cNvSpPr/>
            <p:nvPr/>
          </p:nvSpPr>
          <p:spPr>
            <a:xfrm>
              <a:off x="100512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5259240" y="1660680"/>
            <a:ext cx="2857320" cy="466560"/>
            <a:chOff x="5259240" y="1660680"/>
            <a:chExt cx="2857320" cy="466560"/>
          </a:xfrm>
        </p:grpSpPr>
        <p:sp>
          <p:nvSpPr>
            <p:cNvPr id="316" name="AutoShape 10"/>
            <p:cNvSpPr/>
            <p:nvPr/>
          </p:nvSpPr>
          <p:spPr>
            <a:xfrm>
              <a:off x="5259240" y="1660680"/>
              <a:ext cx="285732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 flipH="1">
              <a:off x="797400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2"/>
            <p:cNvSpPr/>
            <p:nvPr/>
          </p:nvSpPr>
          <p:spPr>
            <a:xfrm>
              <a:off x="52894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3"/>
          <p:cNvSpPr/>
          <p:nvPr/>
        </p:nvSpPr>
        <p:spPr>
          <a:xfrm>
            <a:off x="974880" y="2374920"/>
            <a:ext cx="2849400" cy="271152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124128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上月完成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558000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6"/>
          <p:cNvSpPr/>
          <p:nvPr/>
        </p:nvSpPr>
        <p:spPr>
          <a:xfrm flipH="1" flipV="1" rot="10806000">
            <a:off x="3906360" y="2918880"/>
            <a:ext cx="1293840" cy="756000"/>
          </a:xfrm>
          <a:prstGeom prst="rightArrow">
            <a:avLst>
              <a:gd name="adj1" fmla="val 46509"/>
              <a:gd name="adj2" fmla="val 376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5527800" y="251604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8"/>
          <p:cNvSpPr/>
          <p:nvPr/>
        </p:nvSpPr>
        <p:spPr>
          <a:xfrm>
            <a:off x="5516640" y="37958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5657760" y="28209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5657760" y="40417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4"/>
          <p:cNvGrpSpPr/>
          <p:nvPr/>
        </p:nvGrpSpPr>
        <p:grpSpPr>
          <a:xfrm>
            <a:off x="5416560" y="2585880"/>
            <a:ext cx="168120" cy="168480"/>
            <a:chOff x="5416560" y="2585880"/>
            <a:chExt cx="168120" cy="168480"/>
          </a:xfrm>
        </p:grpSpPr>
        <p:sp>
          <p:nvSpPr>
            <p:cNvPr id="328" name="Oval 22"/>
            <p:cNvSpPr/>
            <p:nvPr/>
          </p:nvSpPr>
          <p:spPr>
            <a:xfrm>
              <a:off x="5416560" y="2585880"/>
              <a:ext cx="16812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3"/>
            <p:cNvSpPr/>
            <p:nvPr/>
          </p:nvSpPr>
          <p:spPr>
            <a:xfrm>
              <a:off x="5429160" y="259992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7"/>
          <p:cNvGrpSpPr/>
          <p:nvPr/>
        </p:nvGrpSpPr>
        <p:grpSpPr>
          <a:xfrm>
            <a:off x="5416560" y="3876840"/>
            <a:ext cx="168120" cy="168120"/>
            <a:chOff x="5416560" y="3876840"/>
            <a:chExt cx="168120" cy="168120"/>
          </a:xfrm>
        </p:grpSpPr>
        <p:sp>
          <p:nvSpPr>
            <p:cNvPr id="331" name="Oval 25"/>
            <p:cNvSpPr/>
            <p:nvPr/>
          </p:nvSpPr>
          <p:spPr>
            <a:xfrm>
              <a:off x="5416560" y="3876840"/>
              <a:ext cx="1681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6"/>
            <p:cNvSpPr/>
            <p:nvPr/>
          </p:nvSpPr>
          <p:spPr>
            <a:xfrm>
              <a:off x="5429160" y="389088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27"/>
          <p:cNvSpPr/>
          <p:nvPr/>
        </p:nvSpPr>
        <p:spPr>
          <a:xfrm>
            <a:off x="1127160" y="43657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8"/>
          <p:cNvSpPr/>
          <p:nvPr/>
        </p:nvSpPr>
        <p:spPr>
          <a:xfrm>
            <a:off x="1050840" y="260208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9"/>
          <p:cNvSpPr/>
          <p:nvPr/>
        </p:nvSpPr>
        <p:spPr>
          <a:xfrm>
            <a:off x="1050840" y="3186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0"/>
          <p:cNvSpPr/>
          <p:nvPr/>
        </p:nvSpPr>
        <p:spPr>
          <a:xfrm>
            <a:off x="1050840" y="37465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1283760" y="2674800"/>
            <a:ext cx="99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2"/>
          <p:cNvSpPr/>
          <p:nvPr/>
        </p:nvSpPr>
        <p:spPr>
          <a:xfrm>
            <a:off x="1283760" y="3259080"/>
            <a:ext cx="99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3"/>
          <p:cNvSpPr/>
          <p:nvPr/>
        </p:nvSpPr>
        <p:spPr>
          <a:xfrm>
            <a:off x="1283760" y="3817800"/>
            <a:ext cx="991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4"/>
          <p:cNvSpPr/>
          <p:nvPr/>
        </p:nvSpPr>
        <p:spPr>
          <a:xfrm flipV="1" rot="10794000">
            <a:off x="3874320" y="3524400"/>
            <a:ext cx="1297080" cy="755640"/>
          </a:xfrm>
          <a:prstGeom prst="rightArrow">
            <a:avLst>
              <a:gd name="adj1" fmla="val 46509"/>
              <a:gd name="adj2" fmla="val 377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6"/>
          <p:cNvSpPr/>
          <p:nvPr/>
        </p:nvSpPr>
        <p:spPr>
          <a:xfrm>
            <a:off x="1530720" y="5292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月工作完成情况的大体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7"/>
          <p:cNvSpPr/>
          <p:nvPr/>
        </p:nvSpPr>
        <p:spPr>
          <a:xfrm>
            <a:off x="5961960" y="529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的简要概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638360" y="4754520"/>
            <a:ext cx="5870520" cy="617760"/>
            <a:chOff x="1638360" y="4754520"/>
            <a:chExt cx="5870520" cy="617760"/>
          </a:xfrm>
        </p:grpSpPr>
        <p:grpSp>
          <p:nvGrpSpPr>
            <p:cNvPr id="344" name="Group 3"/>
            <p:cNvGrpSpPr/>
            <p:nvPr/>
          </p:nvGrpSpPr>
          <p:grpSpPr>
            <a:xfrm>
              <a:off x="1638360" y="4754520"/>
              <a:ext cx="5870520" cy="617760"/>
              <a:chOff x="1638360" y="4754520"/>
              <a:chExt cx="5870520" cy="617760"/>
            </a:xfrm>
          </p:grpSpPr>
          <p:sp>
            <p:nvSpPr>
              <p:cNvPr id="345" name="Rectangle 33"/>
              <p:cNvSpPr/>
              <p:nvPr/>
            </p:nvSpPr>
            <p:spPr>
              <a:xfrm>
                <a:off x="1638360" y="5186520"/>
                <a:ext cx="587052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12"/>
              <p:cNvSpPr/>
              <p:nvPr/>
            </p:nvSpPr>
            <p:spPr>
              <a:xfrm>
                <a:off x="1675080" y="4754520"/>
                <a:ext cx="5833800" cy="53388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AutoShape 28"/>
            <p:cNvSpPr/>
            <p:nvPr/>
          </p:nvSpPr>
          <p:spPr>
            <a:xfrm>
              <a:off x="1675080" y="4754520"/>
              <a:ext cx="5833800" cy="5338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右箭头 26"/>
          <p:cNvSpPr/>
          <p:nvPr/>
        </p:nvSpPr>
        <p:spPr>
          <a:xfrm>
            <a:off x="1951200" y="4854600"/>
            <a:ext cx="431640" cy="2728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26"/>
          <p:cNvSpPr/>
          <p:nvPr/>
        </p:nvSpPr>
        <p:spPr>
          <a:xfrm>
            <a:off x="1946160" y="1685880"/>
            <a:ext cx="432000" cy="2732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问题反馈及工作思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80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图片 5" descr=""/>
          <p:cNvPicPr/>
          <p:nvPr/>
        </p:nvPicPr>
        <p:blipFill>
          <a:blip r:embed="rId1"/>
          <a:stretch/>
        </p:blipFill>
        <p:spPr>
          <a:xfrm>
            <a:off x="-9360" y="2536920"/>
            <a:ext cx="9177120" cy="1785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3081600" y="2997360"/>
            <a:ext cx="29394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汇报完毕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854600" y="5037120"/>
            <a:ext cx="40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：　　片区装拆移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   月   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3"/>
          <p:cNvSpPr/>
          <p:nvPr/>
        </p:nvSpPr>
        <p:spPr>
          <a:xfrm>
            <a:off x="191772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维护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79040" y="1988640"/>
            <a:ext cx="55566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9040" y="3429000"/>
            <a:ext cx="55566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73280" y="486900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1964160" y="162864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2837160" y="436572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3307320" y="692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片区维护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190760" y="69228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1619280" y="1533600"/>
            <a:ext cx="5870520" cy="606240"/>
            <a:chOff x="1619280" y="1533600"/>
            <a:chExt cx="5870520" cy="606240"/>
          </a:xfrm>
        </p:grpSpPr>
        <p:sp>
          <p:nvSpPr>
            <p:cNvPr id="207" name="Rectangle 31"/>
            <p:cNvSpPr/>
            <p:nvPr/>
          </p:nvSpPr>
          <p:spPr>
            <a:xfrm>
              <a:off x="1619280" y="195408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片区（部门）概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1619280" y="3666960"/>
            <a:ext cx="5870520" cy="603360"/>
            <a:chOff x="1619280" y="3666960"/>
            <a:chExt cx="5870520" cy="603360"/>
          </a:xfrm>
        </p:grpSpPr>
        <p:sp>
          <p:nvSpPr>
            <p:cNvPr id="211" name="Rectangle 33"/>
            <p:cNvSpPr/>
            <p:nvPr/>
          </p:nvSpPr>
          <p:spPr>
            <a:xfrm>
              <a:off x="1619280" y="4084200"/>
              <a:ext cx="5870520" cy="1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1656000" y="3674880"/>
              <a:ext cx="5833800" cy="53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7"/>
            <p:cNvSpPr/>
            <p:nvPr/>
          </p:nvSpPr>
          <p:spPr>
            <a:xfrm>
              <a:off x="1656000" y="3666960"/>
              <a:ext cx="5833800" cy="53460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下月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"/>
          <p:cNvGrpSpPr/>
          <p:nvPr/>
        </p:nvGrpSpPr>
        <p:grpSpPr>
          <a:xfrm>
            <a:off x="1619280" y="4724280"/>
            <a:ext cx="5870520" cy="606600"/>
            <a:chOff x="1619280" y="4724280"/>
            <a:chExt cx="5870520" cy="606600"/>
          </a:xfrm>
        </p:grpSpPr>
        <p:sp>
          <p:nvSpPr>
            <p:cNvPr id="215" name="Rectangle 34"/>
            <p:cNvSpPr/>
            <p:nvPr/>
          </p:nvSpPr>
          <p:spPr>
            <a:xfrm>
              <a:off x="1619280" y="514512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8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箭头 26"/>
          <p:cNvSpPr/>
          <p:nvPr/>
        </p:nvSpPr>
        <p:spPr>
          <a:xfrm>
            <a:off x="1946160" y="2749680"/>
            <a:ext cx="432000" cy="2728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本月质量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6920" y="1979280"/>
            <a:ext cx="304344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9880" y="4257360"/>
            <a:ext cx="3155760" cy="14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装满意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障满意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投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客户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面积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小组内部横向比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238720" y="1989000"/>
            <a:ext cx="300672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29480" y="3887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装机、修障满意度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6"/>
          <p:cNvSpPr/>
          <p:nvPr/>
        </p:nvSpPr>
        <p:spPr>
          <a:xfrm>
            <a:off x="1165680" y="1619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代维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7"/>
          <p:cNvSpPr/>
          <p:nvPr/>
        </p:nvSpPr>
        <p:spPr>
          <a:xfrm>
            <a:off x="5424840" y="162864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专项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占位符 3"/>
          <p:cNvSpPr/>
          <p:nvPr/>
        </p:nvSpPr>
        <p:spPr>
          <a:xfrm>
            <a:off x="5232240" y="4246560"/>
            <a:ext cx="29401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本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5417640" y="388620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网优网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871280" y="1773000"/>
            <a:ext cx="237492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869840" y="3860280"/>
            <a:ext cx="23778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895640" y="1773000"/>
            <a:ext cx="237636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878000" y="3860280"/>
            <a:ext cx="241308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326052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c11103"/>
              </a:buClr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装机满意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01:51Z</dcterms:created>
  <dc:creator>Administrator</dc:creator>
  <dc:description/>
  <dc:language>en-US</dc:language>
  <cp:lastModifiedBy>微软用户</cp:lastModifiedBy>
  <dcterms:modified xsi:type="dcterms:W3CDTF">2015-08-03T12:35:08Z</dcterms:modified>
  <cp:revision>3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