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987A3-4A2D-4E91-8316-FE459BEE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E0B75-9DBB-47F8-A4B0-E1A6889E3D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C9ED57-C5B8-4C0C-A3D9-71177FFF15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32D-3D46-423E-80E1-2F1CA5E3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44B-FEF3-4C4B-9329-59BEC46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999-9D0E-4D5F-985B-6EE38CD7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D9D-F020-4626-9658-ED045AEC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006-77A9-4DFC-844C-0433075E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01E-5DF6-4B44-9FCF-39867A57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28C-DDF8-4AC7-82E9-7ECF866E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3E0-8AE1-440B-83A0-6D907D25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2085-630C-4DE9-82EC-FA71B4D8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0B15-9848-44F1-AE19-141E823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96D-5153-4C7D-9E20-33B0A9ED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518-9B23-44A1-BEFA-98C48C58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4FE-1D4A-4DDD-8D04-D418FD7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61C-C7A0-4474-ACF4-EA4283A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B4E-804D-4A1C-9D9C-551078F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D557-B307-42E3-9230-9D179AE6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5767-8C50-4B25-8426-95F8067E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5D75-BB0E-4B69-A96C-C1062F13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0097-3014-42F1-86BC-3181D2F2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8BBB-DAF6-444F-B19B-0805017D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1629-39A2-4210-B30C-30A13A6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D33B-546E-443D-B53F-03949EC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E3E-8050-46D5-BD8E-E82FC80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D5D9-60E7-4E54-8385-92CA8D48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0269-F4D5-49C6-8EFE-8062858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90B0-BC22-413E-AD72-1FDA334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465E-5283-4C88-9984-C8887C46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79B6-C1D4-40C9-9B29-7BBBFE2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6383-A15D-4B81-A61C-1835A431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E32A-63C0-4E19-BB40-A3F3ED3E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6A31-A514-490A-9314-5F311023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F9D59-5DE5-4E12-970F-DA12F560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0039-5F30-4DF9-93BF-2EF384D4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CC3-CB1F-4893-91E3-090E1965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05F1-9CBC-402D-BC58-4E4FDEE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22AA-B837-4F25-BF49-C52749C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64E8-5895-4B0D-BB35-4CE19B9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C95E-56BE-4173-B608-5647D93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DCA5-5791-4C45-9F4A-A0F4BC2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F337-174E-45ED-A703-C470945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71D3-8B89-4415-B727-514482E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729D-43D4-42C4-8F4A-4A2464B4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EFAF-D53A-4387-8EDF-8287A369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D9F-E60A-4F6C-B749-668AFC7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C44-5F45-4C2F-B59F-6F5F70C3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596-4C0B-4BA1-90A0-15DA0F6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28F-086E-4864-90CE-F3C65261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605-61C1-4B21-BBFC-92C66455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650464-484A-4FAA-BE85-A952F04478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4ED54-152A-428E-928C-C7C3424D4FD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1FA40F-FF34-4296-B7C3-B4100C1F9C6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E1BD31-05D6-4639-B446-26E512DB1F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31"/>
          <p:cNvPicPr/>
          <p:nvPr/>
        </p:nvPicPr>
        <p:blipFill>
          <a:blip r:embed="rId1"/>
          <a:stretch/>
        </p:blipFill>
        <p:spPr>
          <a:xfrm>
            <a:off x="3059280" y="1557360"/>
            <a:ext cx="2916000" cy="871200"/>
          </a:xfrm>
          <a:prstGeom prst="rect">
            <a:avLst/>
          </a:prstGeom>
          <a:ln w="9525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345080" cy="10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标兵毕业答辩</a:t>
            </a:r>
            <a:r>
              <a:rPr b="0" lang="en-US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3"/>
          <p:cNvPicPr/>
          <p:nvPr/>
        </p:nvPicPr>
        <p:blipFill>
          <a:blip r:embed="rId2"/>
          <a:stretch/>
        </p:blipFill>
        <p:spPr>
          <a:xfrm>
            <a:off x="179280" y="333360"/>
            <a:ext cx="774360" cy="772920"/>
          </a:xfrm>
          <a:prstGeom prst="rect">
            <a:avLst/>
          </a:prstGeom>
          <a:ln w="9525">
            <a:noFill/>
          </a:ln>
        </p:spPr>
      </p:pic>
      <p:sp>
        <p:nvSpPr>
          <p:cNvPr id="17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6"/>
          <p:cNvSpPr/>
          <p:nvPr/>
        </p:nvSpPr>
        <p:spPr>
          <a:xfrm>
            <a:off x="2649600" y="2205000"/>
            <a:ext cx="4659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1835640" y="2193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2602080" y="387828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毅力行，在实践中检验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847160" y="3066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2602080" y="475632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1835640" y="3866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1835640" y="474372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649600" y="3078000"/>
            <a:ext cx="5378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9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992160" y="126828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毅力行，在实践中检验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226080" y="1256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4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4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17604 -0.38287 E">
                                      <p:cBhvr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7407E-006 L -0.17309 -0.37199 E">
                                      <p:cBhvr>
                                        <p:cTn id="6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"/>
          <p:cNvSpPr/>
          <p:nvPr/>
        </p:nvSpPr>
        <p:spPr>
          <a:xfrm>
            <a:off x="2340000" y="2401920"/>
            <a:ext cx="216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校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995640" y="436572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农村建设考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3995640" y="1844640"/>
            <a:ext cx="12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绿化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3995640" y="278136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义务献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3995640" y="227664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命不息 运动不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1"/>
          <p:cNvSpPr/>
          <p:nvPr/>
        </p:nvSpPr>
        <p:spPr>
          <a:xfrm>
            <a:off x="2411280" y="4724280"/>
            <a:ext cx="230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校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71280" y="3492360"/>
            <a:ext cx="1907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果毅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左大括号 23"/>
          <p:cNvSpPr/>
          <p:nvPr/>
        </p:nvSpPr>
        <p:spPr>
          <a:xfrm>
            <a:off x="1908000" y="2421000"/>
            <a:ext cx="431280" cy="28080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TextBox 24"/>
          <p:cNvSpPr/>
          <p:nvPr/>
        </p:nvSpPr>
        <p:spPr>
          <a:xfrm>
            <a:off x="3995640" y="3284640"/>
            <a:ext cx="187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阳光书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6"/>
          <p:cNvSpPr/>
          <p:nvPr/>
        </p:nvSpPr>
        <p:spPr>
          <a:xfrm>
            <a:off x="3990960" y="5229360"/>
            <a:ext cx="2668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耐克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Gamechange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7"/>
          <p:cNvSpPr/>
          <p:nvPr/>
        </p:nvSpPr>
        <p:spPr>
          <a:xfrm>
            <a:off x="3970440" y="4797360"/>
            <a:ext cx="2833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北京之行，协和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3976560" y="5732640"/>
            <a:ext cx="268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耐克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Beyound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暑期实践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8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24192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1042920" y="119700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6"/>
          <p:cNvSpPr/>
          <p:nvPr/>
        </p:nvSpPr>
        <p:spPr>
          <a:xfrm>
            <a:off x="2649600" y="2205000"/>
            <a:ext cx="4659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835640" y="2193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2602080" y="387828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毅力行，在实践中检验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847160" y="3066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2602080" y="475632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835640" y="3866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835640" y="474372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2649600" y="3078000"/>
            <a:ext cx="5378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9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971640" y="119700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0520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4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4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4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4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-0.17604 -0.54213 E">
                                      <p:cBhvr>
                                        <p:cTn id="8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14097 -0.54213 E">
                                      <p:cBhvr>
                                        <p:cTn id="8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6"/>
          <p:cNvSpPr/>
          <p:nvPr/>
        </p:nvSpPr>
        <p:spPr>
          <a:xfrm>
            <a:off x="360360" y="2781360"/>
            <a:ext cx="291600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党组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铸就红色灵魂          构建和谐校园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3384720" y="4221000"/>
            <a:ext cx="543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社会主义新农村建设研究”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赴上王村考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3348000" y="1773360"/>
            <a:ext cx="345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梦同程”高端学术系列讲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3348000" y="2781360"/>
            <a:ext cx="3887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凌云赛场”系列体育竞技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3348000" y="2276640"/>
            <a:ext cx="345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焦点论坛”党员组织生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3419640" y="4653000"/>
            <a:ext cx="4465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健康绿色”世园系列活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3348000" y="3716280"/>
            <a:ext cx="467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宿舍我做主”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宿舍健康文化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3348000" y="3213000"/>
            <a:ext cx="352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缅怀革命先烈”清明扫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左大括号 22"/>
          <p:cNvSpPr/>
          <p:nvPr/>
        </p:nvSpPr>
        <p:spPr>
          <a:xfrm>
            <a:off x="2843280" y="1916280"/>
            <a:ext cx="433080" cy="331272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7" name="TextBox 41"/>
          <p:cNvSpPr/>
          <p:nvPr/>
        </p:nvSpPr>
        <p:spPr>
          <a:xfrm>
            <a:off x="3492360" y="5084640"/>
            <a:ext cx="42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BL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例分析与讨论会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5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971640" y="119700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20520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3"/>
          <p:cNvSpPr/>
          <p:nvPr/>
        </p:nvSpPr>
        <p:spPr>
          <a:xfrm>
            <a:off x="360360" y="2781360"/>
            <a:ext cx="197928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团任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服务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同进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47"/>
          <p:cNvSpPr/>
          <p:nvPr/>
        </p:nvSpPr>
        <p:spPr>
          <a:xfrm>
            <a:off x="2556000" y="2492280"/>
            <a:ext cx="1510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书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左大括号 51"/>
          <p:cNvSpPr/>
          <p:nvPr/>
        </p:nvSpPr>
        <p:spPr>
          <a:xfrm>
            <a:off x="2124000" y="1989000"/>
            <a:ext cx="431280" cy="33112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4" name="TextBox 53"/>
          <p:cNvSpPr/>
          <p:nvPr/>
        </p:nvSpPr>
        <p:spPr>
          <a:xfrm>
            <a:off x="4211640" y="248292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级社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直接箭头连接符 55"/>
          <p:cNvCxnSpPr/>
          <p:nvPr/>
        </p:nvCxnSpPr>
        <p:spPr>
          <a:xfrm>
            <a:off x="3635280" y="2636640"/>
            <a:ext cx="6494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46" name="TextBox 58"/>
          <p:cNvSpPr/>
          <p:nvPr/>
        </p:nvSpPr>
        <p:spPr>
          <a:xfrm>
            <a:off x="2556000" y="306864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理委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9"/>
          <p:cNvSpPr/>
          <p:nvPr/>
        </p:nvSpPr>
        <p:spPr>
          <a:xfrm>
            <a:off x="2556000" y="414036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长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0"/>
          <p:cNvSpPr/>
          <p:nvPr/>
        </p:nvSpPr>
        <p:spPr>
          <a:xfrm>
            <a:off x="3419640" y="4076640"/>
            <a:ext cx="194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组织冬至饺子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1"/>
          <p:cNvSpPr/>
          <p:nvPr/>
        </p:nvSpPr>
        <p:spPr>
          <a:xfrm>
            <a:off x="3419640" y="3645000"/>
            <a:ext cx="31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兄弟班携手举办趣味联谊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2"/>
          <p:cNvSpPr/>
          <p:nvPr/>
        </p:nvSpPr>
        <p:spPr>
          <a:xfrm>
            <a:off x="3419640" y="4508640"/>
            <a:ext cx="3528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校级趣味运动会获第三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3"/>
          <p:cNvSpPr/>
          <p:nvPr/>
        </p:nvSpPr>
        <p:spPr>
          <a:xfrm>
            <a:off x="3419640" y="4941720"/>
            <a:ext cx="3673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杯”羽毛球赛并夺得第一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4"/>
          <p:cNvSpPr/>
          <p:nvPr/>
        </p:nvSpPr>
        <p:spPr>
          <a:xfrm>
            <a:off x="6443640" y="3357720"/>
            <a:ext cx="1441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右大括号 65"/>
          <p:cNvSpPr/>
          <p:nvPr/>
        </p:nvSpPr>
        <p:spPr>
          <a:xfrm>
            <a:off x="6588000" y="3645000"/>
            <a:ext cx="215640" cy="165528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354" name="直接箭头连接符 66"/>
          <p:cNvCxnSpPr>
            <a:stCxn id="353" idx="1"/>
            <a:endCxn id="355" idx="1"/>
          </p:cNvCxnSpPr>
          <p:nvPr/>
        </p:nvCxnSpPr>
        <p:spPr>
          <a:xfrm flipV="1">
            <a:off x="6804000" y="4471920"/>
            <a:ext cx="5763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5" name="TextBox 67"/>
          <p:cNvSpPr/>
          <p:nvPr/>
        </p:nvSpPr>
        <p:spPr>
          <a:xfrm>
            <a:off x="7380360" y="4149720"/>
            <a:ext cx="17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荣获优秀班级体推荐名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7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971640" y="119700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20520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9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5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5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4"/>
          <p:cNvGrpSpPr/>
          <p:nvPr/>
        </p:nvGrpSpPr>
        <p:grpSpPr>
          <a:xfrm>
            <a:off x="2987640" y="1916280"/>
            <a:ext cx="3335040" cy="3335040"/>
            <a:chOff x="2987640" y="1916280"/>
            <a:chExt cx="3335040" cy="3335040"/>
          </a:xfrm>
        </p:grpSpPr>
        <p:sp>
          <p:nvSpPr>
            <p:cNvPr id="360" name="任意多边形 6"/>
            <p:cNvSpPr/>
            <p:nvPr/>
          </p:nvSpPr>
          <p:spPr>
            <a:xfrm>
              <a:off x="3171240" y="2099880"/>
              <a:ext cx="2967480" cy="296748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483673" y="0"/>
                  </a:moveTo>
                  <a:cubicBezTo>
                    <a:pt x="2013738" y="0"/>
                    <a:pt x="2503539" y="282786"/>
                    <a:pt x="2768572" y="741836"/>
                  </a:cubicBezTo>
                  <a:cubicBezTo>
                    <a:pt x="3033605" y="1200886"/>
                    <a:pt x="3033605" y="1766459"/>
                    <a:pt x="2768572" y="2225509"/>
                  </a:cubicBezTo>
                  <a:lnTo>
                    <a:pt x="1483673" y="1483673"/>
                  </a:lnTo>
                  <a:lnTo>
                    <a:pt x="1483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589400" rIns="3690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二、主要事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环形箭头 9"/>
            <p:cNvSpPr/>
            <p:nvPr/>
          </p:nvSpPr>
          <p:spPr>
            <a:xfrm>
              <a:off x="2987640" y="1916280"/>
              <a:ext cx="3335040" cy="3335040"/>
            </a:xfrm>
            <a:prstGeom prst="circularArrow">
              <a:avLst>
                <a:gd name="adj1" fmla="val 5085"/>
                <a:gd name="adj2" fmla="val 327528"/>
                <a:gd name="adj3" fmla="val 1472472"/>
                <a:gd name="adj4" fmla="val 1619943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16"/>
          <p:cNvGrpSpPr/>
          <p:nvPr/>
        </p:nvGrpSpPr>
        <p:grpSpPr>
          <a:xfrm>
            <a:off x="2916360" y="2060640"/>
            <a:ext cx="3333240" cy="3335040"/>
            <a:chOff x="2916360" y="2060640"/>
            <a:chExt cx="3333240" cy="3335040"/>
          </a:xfrm>
        </p:grpSpPr>
        <p:sp>
          <p:nvSpPr>
            <p:cNvPr id="363" name="任意多边形 7"/>
            <p:cNvSpPr/>
            <p:nvPr/>
          </p:nvSpPr>
          <p:spPr>
            <a:xfrm>
              <a:off x="3099960" y="2244600"/>
              <a:ext cx="2966040" cy="2967480"/>
            </a:xfrm>
            <a:custGeom>
              <a:avLst/>
              <a:gdLst>
                <a:gd name="textAreaLeft" fmla="*/ 0 w 2966040"/>
                <a:gd name="textAreaRight" fmla="*/ 2966400 w 296604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2768572" y="2225510"/>
                  </a:moveTo>
                  <a:cubicBezTo>
                    <a:pt x="2503539" y="2684560"/>
                    <a:pt x="2013739" y="2967347"/>
                    <a:pt x="1483673" y="2967347"/>
                  </a:cubicBezTo>
                  <a:cubicBezTo>
                    <a:pt x="953608" y="2967347"/>
                    <a:pt x="463807" y="2684561"/>
                    <a:pt x="198774" y="2225511"/>
                  </a:cubicBezTo>
                  <a:lnTo>
                    <a:pt x="1483673" y="1483673"/>
                  </a:lnTo>
                  <a:lnTo>
                    <a:pt x="2768572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731880" rIns="696600" tIns="1950480" bIns="29052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三、精益求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环形箭头 10"/>
            <p:cNvSpPr/>
            <p:nvPr/>
          </p:nvSpPr>
          <p:spPr>
            <a:xfrm>
              <a:off x="2916360" y="2060640"/>
              <a:ext cx="3333240" cy="3335040"/>
            </a:xfrm>
            <a:prstGeom prst="circularArrow">
              <a:avLst>
                <a:gd name="adj1" fmla="val 5085"/>
                <a:gd name="adj2" fmla="val 327528"/>
                <a:gd name="adj3" fmla="val 8671970"/>
                <a:gd name="adj4" fmla="val 180050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15"/>
          <p:cNvGrpSpPr/>
          <p:nvPr/>
        </p:nvGrpSpPr>
        <p:grpSpPr>
          <a:xfrm>
            <a:off x="2820960" y="1967040"/>
            <a:ext cx="3335040" cy="3333240"/>
            <a:chOff x="2820960" y="1967040"/>
            <a:chExt cx="3335040" cy="3333240"/>
          </a:xfrm>
        </p:grpSpPr>
        <p:sp>
          <p:nvSpPr>
            <p:cNvPr id="366" name="任意多边形 8"/>
            <p:cNvSpPr/>
            <p:nvPr/>
          </p:nvSpPr>
          <p:spPr>
            <a:xfrm>
              <a:off x="3004920" y="2150640"/>
              <a:ext cx="2967480" cy="296604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6040"/>
                <a:gd name="textAreaBottom" fmla="*/ 2966400 h 296604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98774" y="2225510"/>
                  </a:moveTo>
                  <a:cubicBezTo>
                    <a:pt x="-66259" y="1766460"/>
                    <a:pt x="-66259" y="1200887"/>
                    <a:pt x="198774" y="741837"/>
                  </a:cubicBezTo>
                  <a:cubicBezTo>
                    <a:pt x="463807" y="282787"/>
                    <a:pt x="953607" y="0"/>
                    <a:pt x="1483673" y="0"/>
                  </a:cubicBezTo>
                  <a:lnTo>
                    <a:pt x="1483673" y="1483673"/>
                  </a:lnTo>
                  <a:lnTo>
                    <a:pt x="198774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369000" rIns="15894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一、个人简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环形箭头 11"/>
            <p:cNvSpPr/>
            <p:nvPr/>
          </p:nvSpPr>
          <p:spPr>
            <a:xfrm>
              <a:off x="2820960" y="1967040"/>
              <a:ext cx="3335040" cy="3333240"/>
            </a:xfrm>
            <a:prstGeom prst="circularArrow">
              <a:avLst>
                <a:gd name="adj1" fmla="val 5085"/>
                <a:gd name="adj2" fmla="val 327528"/>
                <a:gd name="adj3" fmla="val 15873039"/>
                <a:gd name="adj4" fmla="val 9000000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4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精益求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14" dur="500" fill="hold"/>
                                        <p:tgtEl>
                                          <p:spTgt spid="362"/>
                                        </p:tgtEl>
                                      </p:cBhvr>
                                      <p:by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33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3"/>
          <p:cNvSpPr/>
          <p:nvPr/>
        </p:nvSpPr>
        <p:spPr>
          <a:xfrm>
            <a:off x="1332000" y="1795320"/>
            <a:ext cx="2949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胸怀大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1"/>
          <p:cNvSpPr/>
          <p:nvPr/>
        </p:nvSpPr>
        <p:spPr>
          <a:xfrm>
            <a:off x="1403280" y="2781360"/>
            <a:ext cx="2952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服务同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2"/>
          <p:cNvSpPr/>
          <p:nvPr/>
        </p:nvSpPr>
        <p:spPr>
          <a:xfrm>
            <a:off x="1258920" y="3716280"/>
            <a:ext cx="30967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3"/>
          <p:cNvSpPr/>
          <p:nvPr/>
        </p:nvSpPr>
        <p:spPr>
          <a:xfrm>
            <a:off x="1332000" y="4675320"/>
            <a:ext cx="2734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奉献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"/>
          <p:cNvSpPr/>
          <p:nvPr/>
        </p:nvSpPr>
        <p:spPr>
          <a:xfrm>
            <a:off x="5182200" y="179532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敢于承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"/>
          <p:cNvSpPr/>
          <p:nvPr/>
        </p:nvSpPr>
        <p:spPr>
          <a:xfrm>
            <a:off x="5182200" y="278136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影响深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"/>
          <p:cNvSpPr/>
          <p:nvPr/>
        </p:nvSpPr>
        <p:spPr>
          <a:xfrm>
            <a:off x="5212440" y="371628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勇于实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7"/>
          <p:cNvSpPr/>
          <p:nvPr/>
        </p:nvSpPr>
        <p:spPr>
          <a:xfrm>
            <a:off x="5209200" y="467532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成就自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4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精益求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3"/>
          <p:cNvSpPr/>
          <p:nvPr/>
        </p:nvSpPr>
        <p:spPr>
          <a:xfrm>
            <a:off x="3771000" y="1412640"/>
            <a:ext cx="141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结束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1187280" y="2637000"/>
            <a:ext cx="7056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501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秀，不是一个结果，更不只是一个荣誉，而是一个过程，一种责任。在交大这所百年大树的拂照下，我一定会通过自己逐步的努力，将优秀变成一种习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7">
                                  <p:stCondLst>
                                    <p:cond delay="25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25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1"/>
          <p:cNvSpPr/>
          <p:nvPr/>
        </p:nvSpPr>
        <p:spPr>
          <a:xfrm>
            <a:off x="3213000" y="2525040"/>
            <a:ext cx="3533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ff9855"/>
                </a:solidFill>
                <a:latin typeface="华文行楷"/>
                <a:ea typeface="华文行楷"/>
              </a:rPr>
              <a:t>谢谢大家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4"/>
          <p:cNvGrpSpPr/>
          <p:nvPr/>
        </p:nvGrpSpPr>
        <p:grpSpPr>
          <a:xfrm>
            <a:off x="2987640" y="1916280"/>
            <a:ext cx="3335040" cy="3335040"/>
            <a:chOff x="2987640" y="1916280"/>
            <a:chExt cx="3335040" cy="3335040"/>
          </a:xfrm>
        </p:grpSpPr>
        <p:sp>
          <p:nvSpPr>
            <p:cNvPr id="176" name="任意多边形 6"/>
            <p:cNvSpPr/>
            <p:nvPr/>
          </p:nvSpPr>
          <p:spPr>
            <a:xfrm>
              <a:off x="3171240" y="2099880"/>
              <a:ext cx="2967480" cy="296748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483673" y="0"/>
                  </a:moveTo>
                  <a:cubicBezTo>
                    <a:pt x="2013738" y="0"/>
                    <a:pt x="2503539" y="282786"/>
                    <a:pt x="2768572" y="741836"/>
                  </a:cubicBezTo>
                  <a:cubicBezTo>
                    <a:pt x="3033605" y="1200886"/>
                    <a:pt x="3033605" y="1766459"/>
                    <a:pt x="2768572" y="2225509"/>
                  </a:cubicBezTo>
                  <a:lnTo>
                    <a:pt x="1483673" y="1483673"/>
                  </a:lnTo>
                  <a:lnTo>
                    <a:pt x="1483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589400" rIns="3690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二、主要事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环形箭头 9"/>
            <p:cNvSpPr/>
            <p:nvPr/>
          </p:nvSpPr>
          <p:spPr>
            <a:xfrm>
              <a:off x="2987640" y="1916280"/>
              <a:ext cx="3335040" cy="3335040"/>
            </a:xfrm>
            <a:prstGeom prst="circularArrow">
              <a:avLst>
                <a:gd name="adj1" fmla="val 5085"/>
                <a:gd name="adj2" fmla="val 327528"/>
                <a:gd name="adj3" fmla="val 1472472"/>
                <a:gd name="adj4" fmla="val 1619943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6"/>
          <p:cNvGrpSpPr/>
          <p:nvPr/>
        </p:nvGrpSpPr>
        <p:grpSpPr>
          <a:xfrm>
            <a:off x="2916360" y="2060640"/>
            <a:ext cx="3333240" cy="3335040"/>
            <a:chOff x="2916360" y="2060640"/>
            <a:chExt cx="3333240" cy="3335040"/>
          </a:xfrm>
        </p:grpSpPr>
        <p:sp>
          <p:nvSpPr>
            <p:cNvPr id="179" name="任意多边形 7"/>
            <p:cNvSpPr/>
            <p:nvPr/>
          </p:nvSpPr>
          <p:spPr>
            <a:xfrm>
              <a:off x="3099960" y="2244600"/>
              <a:ext cx="2966040" cy="2967480"/>
            </a:xfrm>
            <a:custGeom>
              <a:avLst/>
              <a:gdLst>
                <a:gd name="textAreaLeft" fmla="*/ 0 w 2966040"/>
                <a:gd name="textAreaRight" fmla="*/ 2966400 w 296604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2768572" y="2225510"/>
                  </a:moveTo>
                  <a:cubicBezTo>
                    <a:pt x="2503539" y="2684560"/>
                    <a:pt x="2013739" y="2967347"/>
                    <a:pt x="1483673" y="2967347"/>
                  </a:cubicBezTo>
                  <a:cubicBezTo>
                    <a:pt x="953608" y="2967347"/>
                    <a:pt x="463807" y="2684561"/>
                    <a:pt x="198774" y="2225511"/>
                  </a:cubicBezTo>
                  <a:lnTo>
                    <a:pt x="1483673" y="1483673"/>
                  </a:lnTo>
                  <a:lnTo>
                    <a:pt x="2768572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731880" rIns="696600" tIns="1950480" bIns="29052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三、精益求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环形箭头 10"/>
            <p:cNvSpPr/>
            <p:nvPr/>
          </p:nvSpPr>
          <p:spPr>
            <a:xfrm>
              <a:off x="2916360" y="2060640"/>
              <a:ext cx="3333240" cy="3335040"/>
            </a:xfrm>
            <a:prstGeom prst="circularArrow">
              <a:avLst>
                <a:gd name="adj1" fmla="val 5085"/>
                <a:gd name="adj2" fmla="val 327528"/>
                <a:gd name="adj3" fmla="val 8671970"/>
                <a:gd name="adj4" fmla="val 180050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5"/>
          <p:cNvGrpSpPr/>
          <p:nvPr/>
        </p:nvGrpSpPr>
        <p:grpSpPr>
          <a:xfrm>
            <a:off x="2820960" y="1967040"/>
            <a:ext cx="3335040" cy="3333240"/>
            <a:chOff x="2820960" y="1967040"/>
            <a:chExt cx="3335040" cy="3333240"/>
          </a:xfrm>
        </p:grpSpPr>
        <p:sp>
          <p:nvSpPr>
            <p:cNvPr id="182" name="任意多边形 8"/>
            <p:cNvSpPr/>
            <p:nvPr/>
          </p:nvSpPr>
          <p:spPr>
            <a:xfrm>
              <a:off x="3004920" y="2150640"/>
              <a:ext cx="2967480" cy="296604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6040"/>
                <a:gd name="textAreaBottom" fmla="*/ 2966400 h 296604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98774" y="2225510"/>
                  </a:moveTo>
                  <a:cubicBezTo>
                    <a:pt x="-66259" y="1766460"/>
                    <a:pt x="-66259" y="1200887"/>
                    <a:pt x="198774" y="741837"/>
                  </a:cubicBezTo>
                  <a:cubicBezTo>
                    <a:pt x="463807" y="282787"/>
                    <a:pt x="953607" y="0"/>
                    <a:pt x="1483673" y="0"/>
                  </a:cubicBezTo>
                  <a:lnTo>
                    <a:pt x="1483673" y="1483673"/>
                  </a:lnTo>
                  <a:lnTo>
                    <a:pt x="198774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369000" rIns="15894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一、个人简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环形箭头 11"/>
            <p:cNvSpPr/>
            <p:nvPr/>
          </p:nvSpPr>
          <p:spPr>
            <a:xfrm>
              <a:off x="2820960" y="1967040"/>
              <a:ext cx="3335040" cy="3333240"/>
            </a:xfrm>
            <a:prstGeom prst="circularArrow">
              <a:avLst>
                <a:gd name="adj1" fmla="val 5085"/>
                <a:gd name="adj2" fmla="val 327528"/>
                <a:gd name="adj3" fmla="val 15873039"/>
                <a:gd name="adj4" fmla="val 9000000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4"/>
          <p:cNvSpPr/>
          <p:nvPr/>
        </p:nvSpPr>
        <p:spPr>
          <a:xfrm>
            <a:off x="6674760" y="214200"/>
            <a:ext cx="1461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个人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by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33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3"/>
          <p:cNvPicPr/>
          <p:nvPr/>
        </p:nvPicPr>
        <p:blipFill>
          <a:blip r:embed="rId1"/>
          <a:stretch/>
        </p:blipFill>
        <p:spPr>
          <a:xfrm>
            <a:off x="-593640" y="-1536840"/>
            <a:ext cx="1547280" cy="1547280"/>
          </a:xfrm>
          <a:prstGeom prst="rect">
            <a:avLst/>
          </a:prstGeom>
          <a:ln w="9525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-1332000" y="557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6674760" y="214200"/>
            <a:ext cx="1461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个人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4"/>
          <p:cNvGrpSpPr/>
          <p:nvPr/>
        </p:nvGrpSpPr>
        <p:grpSpPr>
          <a:xfrm>
            <a:off x="2987640" y="1916280"/>
            <a:ext cx="3335040" cy="3335040"/>
            <a:chOff x="2987640" y="1916280"/>
            <a:chExt cx="3335040" cy="3335040"/>
          </a:xfrm>
        </p:grpSpPr>
        <p:sp>
          <p:nvSpPr>
            <p:cNvPr id="189" name="任意多边形 6"/>
            <p:cNvSpPr/>
            <p:nvPr/>
          </p:nvSpPr>
          <p:spPr>
            <a:xfrm>
              <a:off x="3171240" y="2099880"/>
              <a:ext cx="2967480" cy="296748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483673" y="0"/>
                  </a:moveTo>
                  <a:cubicBezTo>
                    <a:pt x="2013738" y="0"/>
                    <a:pt x="2503539" y="282786"/>
                    <a:pt x="2768572" y="741836"/>
                  </a:cubicBezTo>
                  <a:cubicBezTo>
                    <a:pt x="3033605" y="1200886"/>
                    <a:pt x="3033605" y="1766459"/>
                    <a:pt x="2768572" y="2225509"/>
                  </a:cubicBezTo>
                  <a:lnTo>
                    <a:pt x="1483673" y="1483673"/>
                  </a:lnTo>
                  <a:lnTo>
                    <a:pt x="1483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589400" rIns="3690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二、主要事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环形箭头 9"/>
            <p:cNvSpPr/>
            <p:nvPr/>
          </p:nvSpPr>
          <p:spPr>
            <a:xfrm>
              <a:off x="2987640" y="1916280"/>
              <a:ext cx="3335040" cy="3335040"/>
            </a:xfrm>
            <a:prstGeom prst="circularArrow">
              <a:avLst>
                <a:gd name="adj1" fmla="val 5085"/>
                <a:gd name="adj2" fmla="val 327528"/>
                <a:gd name="adj3" fmla="val 1472472"/>
                <a:gd name="adj4" fmla="val 1619943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16"/>
          <p:cNvGrpSpPr/>
          <p:nvPr/>
        </p:nvGrpSpPr>
        <p:grpSpPr>
          <a:xfrm>
            <a:off x="2916360" y="2060640"/>
            <a:ext cx="3333240" cy="3335040"/>
            <a:chOff x="2916360" y="2060640"/>
            <a:chExt cx="3333240" cy="3335040"/>
          </a:xfrm>
        </p:grpSpPr>
        <p:sp>
          <p:nvSpPr>
            <p:cNvPr id="192" name="任意多边形 7"/>
            <p:cNvSpPr/>
            <p:nvPr/>
          </p:nvSpPr>
          <p:spPr>
            <a:xfrm>
              <a:off x="3099960" y="2244600"/>
              <a:ext cx="2966040" cy="2967480"/>
            </a:xfrm>
            <a:custGeom>
              <a:avLst/>
              <a:gdLst>
                <a:gd name="textAreaLeft" fmla="*/ 0 w 2966040"/>
                <a:gd name="textAreaRight" fmla="*/ 2966400 w 2966040"/>
                <a:gd name="textAreaTop" fmla="*/ 0 h 2967480"/>
                <a:gd name="textAreaBottom" fmla="*/ 2967840 h 296748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2768572" y="2225510"/>
                  </a:moveTo>
                  <a:cubicBezTo>
                    <a:pt x="2503539" y="2684560"/>
                    <a:pt x="2013739" y="2967347"/>
                    <a:pt x="1483673" y="2967347"/>
                  </a:cubicBezTo>
                  <a:cubicBezTo>
                    <a:pt x="953608" y="2967347"/>
                    <a:pt x="463807" y="2684561"/>
                    <a:pt x="198774" y="2225511"/>
                  </a:cubicBezTo>
                  <a:lnTo>
                    <a:pt x="1483673" y="1483673"/>
                  </a:lnTo>
                  <a:lnTo>
                    <a:pt x="2768572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731880" rIns="696600" tIns="1950480" bIns="29052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三、精益求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环形箭头 10"/>
            <p:cNvSpPr/>
            <p:nvPr/>
          </p:nvSpPr>
          <p:spPr>
            <a:xfrm>
              <a:off x="2916360" y="2060640"/>
              <a:ext cx="3333240" cy="3335040"/>
            </a:xfrm>
            <a:prstGeom prst="circularArrow">
              <a:avLst>
                <a:gd name="adj1" fmla="val 5085"/>
                <a:gd name="adj2" fmla="val 327528"/>
                <a:gd name="adj3" fmla="val 8671970"/>
                <a:gd name="adj4" fmla="val 1800502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5"/>
          <p:cNvGrpSpPr/>
          <p:nvPr/>
        </p:nvGrpSpPr>
        <p:grpSpPr>
          <a:xfrm>
            <a:off x="2820960" y="1967040"/>
            <a:ext cx="3335040" cy="3333240"/>
            <a:chOff x="2820960" y="1967040"/>
            <a:chExt cx="3335040" cy="3333240"/>
          </a:xfrm>
        </p:grpSpPr>
        <p:sp>
          <p:nvSpPr>
            <p:cNvPr id="195" name="任意多边形 8"/>
            <p:cNvSpPr/>
            <p:nvPr/>
          </p:nvSpPr>
          <p:spPr>
            <a:xfrm>
              <a:off x="3004920" y="2150640"/>
              <a:ext cx="2967480" cy="2966040"/>
            </a:xfrm>
            <a:custGeom>
              <a:avLst/>
              <a:gdLst>
                <a:gd name="textAreaLeft" fmla="*/ 0 w 2967480"/>
                <a:gd name="textAreaRight" fmla="*/ 2967840 w 2967480"/>
                <a:gd name="textAreaTop" fmla="*/ 0 h 2966040"/>
                <a:gd name="textAreaBottom" fmla="*/ 2966400 h 2966040"/>
              </a:gdLst>
              <a:ahLst/>
              <a:rect l="textAreaLeft" t="textAreaTop" r="textAreaRight" b="textAreaBottom"/>
              <a:pathLst>
                <a:path w="2967346" h="2967346">
                  <a:moveTo>
                    <a:pt x="198774" y="2225510"/>
                  </a:moveTo>
                  <a:cubicBezTo>
                    <a:pt x="-66259" y="1766460"/>
                    <a:pt x="-66259" y="1200887"/>
                    <a:pt x="198774" y="741837"/>
                  </a:cubicBezTo>
                  <a:cubicBezTo>
                    <a:pt x="463807" y="282787"/>
                    <a:pt x="953607" y="0"/>
                    <a:pt x="1483673" y="0"/>
                  </a:cubicBezTo>
                  <a:lnTo>
                    <a:pt x="1483673" y="1483673"/>
                  </a:lnTo>
                  <a:lnTo>
                    <a:pt x="198774" y="2225510"/>
                  </a:lnTo>
                  <a:close/>
                </a:path>
              </a:pathLst>
            </a:custGeom>
            <a:gradFill rotWithShape="0">
              <a:gsLst>
                <a:gs pos="0">
                  <a:srgbClr val="cc6d20"/>
                </a:gs>
                <a:gs pos="100000">
                  <a:srgbClr val="ff9033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prstMaterial="plastic">
              <a:bevelT w="120900" h="88900"/>
              <a:bevelB prst="angle" w="88900" h="3175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369000" rIns="1589400" tIns="654120" bIns="14806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一、个人简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环形箭头 11"/>
            <p:cNvSpPr/>
            <p:nvPr/>
          </p:nvSpPr>
          <p:spPr>
            <a:xfrm>
              <a:off x="2820960" y="1967040"/>
              <a:ext cx="3335040" cy="3333240"/>
            </a:xfrm>
            <a:prstGeom prst="circularArrow">
              <a:avLst>
                <a:gd name="adj1" fmla="val 5085"/>
                <a:gd name="adj2" fmla="val 327528"/>
                <a:gd name="adj3" fmla="val 15873039"/>
                <a:gd name="adj4" fmla="val 9000000"/>
                <a:gd name="adj5" fmla="val 5932"/>
              </a:avLst>
            </a:prstGeom>
            <a:gradFill rotWithShape="0">
              <a:gsLst>
                <a:gs pos="0">
                  <a:srgbClr val="c2927b"/>
                </a:gs>
                <a:gs pos="100000">
                  <a:srgbClr val="fdbd9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  <a:scene3d>
              <a:camera prst="orthographicFront"/>
              <a:lightRig dir="t" rig="flat"/>
            </a:scene3d>
            <a:sp3d z="127000" prstMaterial="plastic">
              <a:bevelT w="50800" h="50800"/>
              <a:bevelB prst="angle" w="25400" h="25400"/>
            </a:sp3d>
          </p:spPr>
          <p:style>
            <a:lnRef idx="0">
              <a:schemeClr val="accent6">
                <a:tint val="60000"/>
                <a:hueOff val="0"/>
                <a:satOff val="0"/>
                <a:lumOff val="0"/>
                <a:alphaOff val="0"/>
              </a:schemeClr>
            </a:lnRef>
            <a:fillRef idx="3">
              <a:schemeClr val="accent6">
                <a:tint val="6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6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4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</p:cBhvr>
                                      <p:by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33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2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6"/>
          <p:cNvSpPr/>
          <p:nvPr/>
        </p:nvSpPr>
        <p:spPr>
          <a:xfrm>
            <a:off x="2649600" y="2205000"/>
            <a:ext cx="4659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835640" y="2193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2602080" y="387828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毅力行，在实践中检验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847160" y="3066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2602080" y="475632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1835640" y="3866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835640" y="474372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2649600" y="3078000"/>
            <a:ext cx="5378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9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963720" y="1197000"/>
            <a:ext cx="4660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51200" y="118548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4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4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4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2948E-006 L -0.18403 -0.13873 E">
                                      <p:cBhvr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08092E-006 L -0.20989 -0.1489 E">
                                      <p:cBhvr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4932360" y="3500280"/>
            <a:ext cx="2518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校优秀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4932360" y="2833560"/>
            <a:ext cx="2447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思源奖学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4932360" y="2205000"/>
            <a:ext cx="2015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开放性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5003640" y="4202280"/>
            <a:ext cx="2952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社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4932360" y="4921200"/>
            <a:ext cx="2376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国家奖学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395280" y="3429000"/>
            <a:ext cx="518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专业领域里的执着追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963720" y="1197000"/>
            <a:ext cx="4660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51200" y="118548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0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0" y="3357720"/>
            <a:ext cx="4463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全面发展的内心渴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4067280" y="2133720"/>
            <a:ext cx="230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文学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067280" y="3429000"/>
            <a:ext cx="216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体育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4067280" y="4724280"/>
            <a:ext cx="230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他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084720" y="530064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理竞赛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7704000" y="3573360"/>
            <a:ext cx="2114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院运动会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5796000" y="2276640"/>
            <a:ext cx="230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货币战争》、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6875640" y="190800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红与黑》、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5796000" y="1908000"/>
            <a:ext cx="165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子夜》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7308720" y="2266920"/>
            <a:ext cx="1836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狼图腾》、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804000" y="3203640"/>
            <a:ext cx="2009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足球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6012000" y="3213000"/>
            <a:ext cx="12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篮球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6084720" y="450864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秋晚会合唱比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6084720" y="486900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生杯辩论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2"/>
          <p:cNvSpPr/>
          <p:nvPr/>
        </p:nvSpPr>
        <p:spPr>
          <a:xfrm>
            <a:off x="6012000" y="386064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广播操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6012000" y="357336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生杯羽毛球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7596360" y="3203640"/>
            <a:ext cx="2273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乒乓赛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左大括号 25"/>
          <p:cNvSpPr/>
          <p:nvPr/>
        </p:nvSpPr>
        <p:spPr>
          <a:xfrm>
            <a:off x="3851280" y="2421000"/>
            <a:ext cx="288720" cy="2663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5796000" y="2637000"/>
            <a:ext cx="4679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》、《春》、《秋》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»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63720" y="1197000"/>
            <a:ext cx="4660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51200" y="118548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3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07160" y="6448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6"/>
          <p:cNvSpPr/>
          <p:nvPr/>
        </p:nvSpPr>
        <p:spPr>
          <a:xfrm>
            <a:off x="2649600" y="2205000"/>
            <a:ext cx="46591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勤求学，在学习中完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1835640" y="2193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2602080" y="387828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果毅力行，在实践中检验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1847160" y="306684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2602080" y="4756320"/>
            <a:ext cx="464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恕任事，在工作中锤炼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1835640" y="3866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1835640" y="474372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2649600" y="3078000"/>
            <a:ext cx="5378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9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24192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1042920" y="119700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4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4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4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00694 L -0.18125 -0.27315 E">
                                      <p:cBhvr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0.17829 -0.26597 E">
                                      <p:cBhvr>
                                        <p:cTn id="4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7"/>
          <p:cNvSpPr/>
          <p:nvPr/>
        </p:nvSpPr>
        <p:spPr>
          <a:xfrm>
            <a:off x="2340000" y="1628640"/>
            <a:ext cx="2303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活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340000" y="2637000"/>
            <a:ext cx="216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思想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340000" y="3986280"/>
            <a:ext cx="2303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995640" y="479736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演讲社社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5580000" y="270036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云南干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851280" y="1700280"/>
            <a:ext cx="230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«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勤工助学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5580000" y="2349360"/>
            <a:ext cx="136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批团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995640" y="2349360"/>
            <a:ext cx="12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少先队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3995640" y="407664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英语四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5735520" y="405756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3995640" y="314172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留守儿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3995640" y="270828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汶川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7129440" y="2349360"/>
            <a:ext cx="1545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学党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2411280" y="5229360"/>
            <a:ext cx="230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工作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71280" y="3492360"/>
            <a:ext cx="1907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敦笃励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左大括号 23"/>
          <p:cNvSpPr/>
          <p:nvPr/>
        </p:nvSpPr>
        <p:spPr>
          <a:xfrm>
            <a:off x="1908000" y="1916280"/>
            <a:ext cx="431280" cy="36730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5580000" y="3132000"/>
            <a:ext cx="187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陕西儿童福利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5"/>
          <p:cNvSpPr/>
          <p:nvPr/>
        </p:nvSpPr>
        <p:spPr>
          <a:xfrm>
            <a:off x="5867280" y="514188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秘书部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6"/>
          <p:cNvSpPr/>
          <p:nvPr/>
        </p:nvSpPr>
        <p:spPr>
          <a:xfrm>
            <a:off x="3990960" y="550872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理委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3970440" y="515772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书社干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8"/>
          <p:cNvSpPr/>
          <p:nvPr/>
        </p:nvSpPr>
        <p:spPr>
          <a:xfrm>
            <a:off x="6141960" y="478620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优秀干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9"/>
          <p:cNvSpPr/>
          <p:nvPr/>
        </p:nvSpPr>
        <p:spPr>
          <a:xfrm>
            <a:off x="5519880" y="547704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0"/>
          <p:cNvSpPr/>
          <p:nvPr/>
        </p:nvSpPr>
        <p:spPr>
          <a:xfrm>
            <a:off x="3976560" y="587700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党支部副书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1"/>
          <p:cNvSpPr/>
          <p:nvPr/>
        </p:nvSpPr>
        <p:spPr>
          <a:xfrm>
            <a:off x="5932440" y="5862600"/>
            <a:ext cx="180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党支部书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箭头连接符 32"/>
          <p:cNvCxnSpPr/>
          <p:nvPr/>
        </p:nvCxnSpPr>
        <p:spPr>
          <a:xfrm>
            <a:off x="5076720" y="249228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7" name="直接箭头连接符 33"/>
          <p:cNvCxnSpPr/>
          <p:nvPr/>
        </p:nvCxnSpPr>
        <p:spPr>
          <a:xfrm>
            <a:off x="6659280" y="2492280"/>
            <a:ext cx="5054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8" name="直接箭头连接符 34"/>
          <p:cNvCxnSpPr/>
          <p:nvPr/>
        </p:nvCxnSpPr>
        <p:spPr>
          <a:xfrm>
            <a:off x="5076720" y="285264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79" name="直接箭头连接符 35"/>
          <p:cNvCxnSpPr/>
          <p:nvPr/>
        </p:nvCxnSpPr>
        <p:spPr>
          <a:xfrm>
            <a:off x="5076720" y="328428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0" name="直接箭头连接符 36"/>
          <p:cNvCxnSpPr/>
          <p:nvPr/>
        </p:nvCxnSpPr>
        <p:spPr>
          <a:xfrm>
            <a:off x="5765760" y="3860640"/>
            <a:ext cx="50328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1" name="直接箭头连接符 37"/>
          <p:cNvCxnSpPr/>
          <p:nvPr/>
        </p:nvCxnSpPr>
        <p:spPr>
          <a:xfrm>
            <a:off x="5430600" y="530064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2" name="直接箭头连接符 38"/>
          <p:cNvCxnSpPr/>
          <p:nvPr/>
        </p:nvCxnSpPr>
        <p:spPr>
          <a:xfrm>
            <a:off x="5689440" y="497196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3" name="直接箭头连接符 39"/>
          <p:cNvCxnSpPr/>
          <p:nvPr/>
        </p:nvCxnSpPr>
        <p:spPr>
          <a:xfrm>
            <a:off x="5459400" y="6046560"/>
            <a:ext cx="50508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4" name="直接箭头连接符 40"/>
          <p:cNvCxnSpPr/>
          <p:nvPr/>
        </p:nvCxnSpPr>
        <p:spPr>
          <a:xfrm>
            <a:off x="5000400" y="5661000"/>
            <a:ext cx="5036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5" name="TextBox 41"/>
          <p:cNvSpPr/>
          <p:nvPr/>
        </p:nvSpPr>
        <p:spPr>
          <a:xfrm>
            <a:off x="6227640" y="3675240"/>
            <a:ext cx="244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英语辩论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2"/>
          <p:cNvSpPr/>
          <p:nvPr/>
        </p:nvSpPr>
        <p:spPr>
          <a:xfrm>
            <a:off x="3995640" y="3686040"/>
            <a:ext cx="187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堂英语主持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直接箭头连接符 43"/>
          <p:cNvCxnSpPr/>
          <p:nvPr/>
        </p:nvCxnSpPr>
        <p:spPr>
          <a:xfrm>
            <a:off x="5249520" y="4236840"/>
            <a:ext cx="50544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8" name="矩形 44"/>
          <p:cNvSpPr/>
          <p:nvPr/>
        </p:nvSpPr>
        <p:spPr>
          <a:xfrm>
            <a:off x="7233120" y="214200"/>
            <a:ext cx="344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主要事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41920" y="1184760"/>
            <a:ext cx="485640" cy="485280"/>
          </a:xfrm>
          <a:prstGeom prst="roundRect">
            <a:avLst>
              <a:gd name="adj" fmla="val 6667"/>
            </a:avLst>
          </a:prstGeom>
          <a:gradFill rotWithShape="0">
            <a:gsLst>
              <a:gs pos="0">
                <a:srgbClr val="f79646"/>
              </a:gs>
              <a:gs pos="100000">
                <a:srgbClr val="632523"/>
              </a:gs>
            </a:gsLst>
            <a:lin ang="2700000"/>
          </a:gradFill>
          <a:ln w="9525">
            <a:noFill/>
          </a:ln>
          <a:effectLst>
            <a:outerShdw algn="ctr" blurRad="152280" dir="8405413" dist="152061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contrasting"/>
          </a:scene3d>
          <a:sp3d prstMaterial="matte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1042920" y="1197000"/>
            <a:ext cx="5379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敦笃励志，在逆境中超越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  <Words>901</Words>
  <Paragraphs>2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6:12:44Z</dcterms:created>
  <dc:creator>ppt宝藏</dc:creator>
  <dc:description/>
  <dc:language>en-US</dc:language>
  <cp:lastModifiedBy>yu wang</cp:lastModifiedBy>
  <dcterms:modified xsi:type="dcterms:W3CDTF">2015-08-03T12:22:46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