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DA7-5564-41F0-81C1-455F7676F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8831-C4DA-45B8-A911-DF0F7225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7A37-2008-4C79-A357-1D90E7859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83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928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83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928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6DC-D64A-4F71-A125-6763C75A6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8020B-8B07-4A07-914C-561E19CB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1974-DDDA-4660-B962-8D5382BC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A8F8-DF03-473A-B0C3-1E73D111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F628-3BBA-4AA4-B383-2B0D5D9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CD66-0D84-4E38-8AF2-715ECD0E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CC8-67B3-4A09-953A-C3728D3B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0F7F-311B-4A9D-BF78-6032ED48B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5AA-ADD0-4209-968F-83610591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29A4C-313A-4143-8061-CF2E3626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C1ED-57CC-4BC6-AE9C-DE1C94F3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F64A-CDC2-4D60-A112-672817B9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4A79-AB81-43AD-B82A-995C08BF3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8832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9280" y="142236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77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8832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9280" y="352332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0A13-8BD4-4A5F-94C0-862D9E505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8220-C62B-4A62-9B8B-1B305C63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CA9C-3AA9-4786-A75C-9A81662F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9B8-388D-474D-A2F5-974CC1EFD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456840"/>
            <a:ext cx="75438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6D12-1FAB-4CE8-B267-6EE5D2A1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64C-784A-4D48-B0C8-6BBC3516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3400" y="352332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CF4F-AC8D-47B4-B0C8-4DBCD19C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3400" y="142236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352332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5FA5-B495-4791-B272-6567721D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5624280"/>
            <a:ext cx="16765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242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24280"/>
            <a:ext cx="1752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E28E-9B6A-4438-AA3C-F81534C25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6720" y="5609880"/>
            <a:ext cx="213372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09880"/>
            <a:ext cx="28958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5609880"/>
            <a:ext cx="1828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249A-3918-48E6-B564-5DA928878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52120" y="24001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笔墨卷香中国风</a:t>
            </a:r>
            <a:r>
              <a:rPr b="1" lang="en-US" sz="3200" spc="-1" strike="noStrike">
                <a:solidFill>
                  <a:srgbClr val="ffc000"/>
                </a:solidFill>
                <a:latin typeface="Arial"/>
              </a:rPr>
              <a:t>PPT</a:t>
            </a:r>
            <a:r>
              <a:rPr b="1" lang="zh-CN" sz="3200" spc="-1" strike="noStrike">
                <a:solidFill>
                  <a:srgbClr val="ffc000"/>
                </a:solidFill>
                <a:latin typeface="Arial"/>
              </a:rPr>
              <a:t>模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52120" y="3606480"/>
            <a:ext cx="571500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  <a:ea typeface="黑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663480" y="5562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5438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一下添加标题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42236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标题和文本格式的设置在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默认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首页主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副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内页标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中文黑体英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ial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1ppt.com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加粗；内页内容文字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号（宋体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1752480" y="2400480"/>
            <a:ext cx="5715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谢谢关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94000" y="617400"/>
            <a:ext cx="6156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42884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608880" y="72540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hea</dc:creator>
  <dc:description>www.nordridesign.cn
</dc:description>
  <dc:language>en-US</dc:language>
  <cp:lastModifiedBy>yu wang</cp:lastModifiedBy>
  <dcterms:modified xsi:type="dcterms:W3CDTF">2015-08-03T12:23:39Z</dcterms:modified>
  <cp:revision>22</cp:revision>
  <dc:subject>China</dc:subject>
  <dc:title>中國風_筆墨卷香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