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5BF-BFDF-43B5-89BE-80407E60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20F-9897-460A-A27C-5A87600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E98-6108-415A-A6D8-221789DD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2CF-7870-47C4-95FF-C964B2A1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404-C3B7-4399-BEDD-29F724F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473-E58D-4B8A-9F2D-C8BF66DC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D22-5125-4006-B557-EF2993A3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E38-B7C1-4AA8-92DC-9ACC2B1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B25-1ECB-4193-8318-00D3CC91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2E8-EFDC-4936-B120-3B7D3CD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300-ABC5-476A-824B-442F119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766-311B-48EC-82EA-F44F9F3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78B-82D4-422D-B85D-61A8AA9C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2057400" y="990720"/>
            <a:ext cx="2721960" cy="812520"/>
            <a:chOff x="2057400" y="990720"/>
            <a:chExt cx="2721960" cy="812520"/>
          </a:xfrm>
        </p:grpSpPr>
        <p:pic>
          <p:nvPicPr>
            <p:cNvPr id="42" name="Picture 3" descr="E:\ppt模板\商务\24\Red Flag.png"/>
            <p:cNvPicPr/>
            <p:nvPr/>
          </p:nvPicPr>
          <p:blipFill>
            <a:blip r:embed="rId1"/>
            <a:stretch/>
          </p:blipFill>
          <p:spPr>
            <a:xfrm>
              <a:off x="2057400" y="9907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>
              <a:off x="3501360" y="114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14"/>
          <p:cNvGrpSpPr/>
          <p:nvPr/>
        </p:nvGrpSpPr>
        <p:grpSpPr>
          <a:xfrm>
            <a:off x="2209680" y="2514600"/>
            <a:ext cx="2721960" cy="812880"/>
            <a:chOff x="2209680" y="2514600"/>
            <a:chExt cx="2721960" cy="812880"/>
          </a:xfrm>
        </p:grpSpPr>
        <p:pic>
          <p:nvPicPr>
            <p:cNvPr id="45" name="Picture 2" descr="E:\ppt模板\商务\24\Yellow Flag.png"/>
            <p:cNvPicPr/>
            <p:nvPr/>
          </p:nvPicPr>
          <p:blipFill>
            <a:blip r:embed="rId2"/>
            <a:stretch/>
          </p:blipFill>
          <p:spPr>
            <a:xfrm>
              <a:off x="2209680" y="251460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9"/>
            <p:cNvSpPr/>
            <p:nvPr/>
          </p:nvSpPr>
          <p:spPr>
            <a:xfrm>
              <a:off x="3653640" y="2666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3"/>
          <p:cNvGrpSpPr/>
          <p:nvPr/>
        </p:nvGrpSpPr>
        <p:grpSpPr>
          <a:xfrm>
            <a:off x="2209680" y="3962520"/>
            <a:ext cx="2645640" cy="812520"/>
            <a:chOff x="2209680" y="3962520"/>
            <a:chExt cx="2645640" cy="812520"/>
          </a:xfrm>
        </p:grpSpPr>
        <p:pic>
          <p:nvPicPr>
            <p:cNvPr id="48" name="Picture 5" descr="E:\ppt模板\商务\24\Blue Flag.png"/>
            <p:cNvPicPr/>
            <p:nvPr/>
          </p:nvPicPr>
          <p:blipFill>
            <a:blip r:embed="rId3"/>
            <a:stretch/>
          </p:blipFill>
          <p:spPr>
            <a:xfrm>
              <a:off x="2209680" y="3962520"/>
              <a:ext cx="81288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10"/>
            <p:cNvSpPr/>
            <p:nvPr/>
          </p:nvSpPr>
          <p:spPr>
            <a:xfrm>
              <a:off x="3577320" y="4114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2"/>
          <p:cNvGrpSpPr/>
          <p:nvPr/>
        </p:nvGrpSpPr>
        <p:grpSpPr>
          <a:xfrm>
            <a:off x="2362320" y="5410080"/>
            <a:ext cx="2645640" cy="812880"/>
            <a:chOff x="2362320" y="5410080"/>
            <a:chExt cx="2645640" cy="812880"/>
          </a:xfrm>
        </p:grpSpPr>
        <p:pic>
          <p:nvPicPr>
            <p:cNvPr id="51" name="Picture 4" descr="E:\ppt模板\商务\24\Green Flag.png"/>
            <p:cNvPicPr/>
            <p:nvPr/>
          </p:nvPicPr>
          <p:blipFill>
            <a:blip r:embed="rId4"/>
            <a:stretch/>
          </p:blipFill>
          <p:spPr>
            <a:xfrm>
              <a:off x="2362320" y="5410080"/>
              <a:ext cx="81288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1"/>
            <p:cNvSpPr/>
            <p:nvPr/>
          </p:nvSpPr>
          <p:spPr>
            <a:xfrm>
              <a:off x="3729960" y="548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输入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"/>
          <p:cNvSpPr/>
          <p:nvPr/>
        </p:nvSpPr>
        <p:spPr>
          <a:xfrm>
            <a:off x="1972080" y="235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7"/>
          <p:cNvGrpSpPr/>
          <p:nvPr/>
        </p:nvGrpSpPr>
        <p:grpSpPr>
          <a:xfrm>
            <a:off x="1600200" y="1523880"/>
            <a:ext cx="6324480" cy="4572000"/>
            <a:chOff x="1600200" y="1523880"/>
            <a:chExt cx="6324480" cy="4572000"/>
          </a:xfrm>
        </p:grpSpPr>
        <p:sp>
          <p:nvSpPr>
            <p:cNvPr id="56" name="折角形 5"/>
            <p:cNvSpPr/>
            <p:nvPr/>
          </p:nvSpPr>
          <p:spPr>
            <a:xfrm>
              <a:off x="1600200" y="1523880"/>
              <a:ext cx="6019920" cy="426744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E:\ppt模板\商务\24\Compas.png"/>
            <p:cNvPicPr/>
            <p:nvPr/>
          </p:nvPicPr>
          <p:blipFill>
            <a:blip r:embed="rId1"/>
            <a:stretch/>
          </p:blipFill>
          <p:spPr>
            <a:xfrm>
              <a:off x="6781680" y="495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5"/>
          <p:cNvGrpSpPr/>
          <p:nvPr/>
        </p:nvGrpSpPr>
        <p:grpSpPr>
          <a:xfrm>
            <a:off x="3505320" y="2743200"/>
            <a:ext cx="1981080" cy="1828800"/>
            <a:chOff x="3505320" y="2743200"/>
            <a:chExt cx="1981080" cy="1828800"/>
          </a:xfrm>
        </p:grpSpPr>
        <p:pic>
          <p:nvPicPr>
            <p:cNvPr id="59" name="Picture 2" descr="E:\ppt模板\商务\24\Arrow Down.png"/>
            <p:cNvPicPr/>
            <p:nvPr/>
          </p:nvPicPr>
          <p:blipFill>
            <a:blip r:embed="rId1"/>
            <a:stretch/>
          </p:blipFill>
          <p:spPr>
            <a:xfrm>
              <a:off x="4194720" y="3886200"/>
              <a:ext cx="677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E:\ppt模板\商务\24\Arrow Left.png"/>
            <p:cNvPicPr/>
            <p:nvPr/>
          </p:nvPicPr>
          <p:blipFill>
            <a:blip r:embed="rId2"/>
            <a:stretch/>
          </p:blipFill>
          <p:spPr>
            <a:xfrm>
              <a:off x="4781880" y="3261240"/>
              <a:ext cx="70452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E:\ppt模板\商务\24\Arrow Right.png"/>
            <p:cNvPicPr/>
            <p:nvPr/>
          </p:nvPicPr>
          <p:blipFill>
            <a:blip r:embed="rId3"/>
            <a:stretch/>
          </p:blipFill>
          <p:spPr>
            <a:xfrm>
              <a:off x="3505320" y="3340440"/>
              <a:ext cx="70452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E:\ppt模板\商务\24\Arrow Up.png"/>
            <p:cNvPicPr/>
            <p:nvPr/>
          </p:nvPicPr>
          <p:blipFill>
            <a:blip r:embed="rId4"/>
            <a:stretch/>
          </p:blipFill>
          <p:spPr>
            <a:xfrm>
              <a:off x="4119480" y="2743200"/>
              <a:ext cx="6775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8"/>
          <p:cNvSpPr/>
          <p:nvPr/>
        </p:nvSpPr>
        <p:spPr>
          <a:xfrm>
            <a:off x="3805920" y="1905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2240" y="5105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609192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51992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ppt模板\商务\24\Chart.png"/>
          <p:cNvPicPr/>
          <p:nvPr/>
        </p:nvPicPr>
        <p:blipFill>
          <a:blip r:embed="rId1"/>
          <a:stretch/>
        </p:blipFill>
        <p:spPr>
          <a:xfrm>
            <a:off x="457200" y="533520"/>
            <a:ext cx="99072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31665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插入表格正交表格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5228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3471480" y="2819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分析方差分析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:\ppt模板\商务\24\Presentation Graph.png"/>
          <p:cNvPicPr/>
          <p:nvPr/>
        </p:nvPicPr>
        <p:blipFill>
          <a:blip r:embed="rId1"/>
          <a:stretch/>
        </p:blipFill>
        <p:spPr>
          <a:xfrm>
            <a:off x="7391520" y="53341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694680" y="266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得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E:\ppt模板\商务\24\Document Edit.png"/>
          <p:cNvPicPr/>
          <p:nvPr/>
        </p:nvPicPr>
        <p:blipFill>
          <a:blip r:embed="rId1"/>
          <a:stretch/>
        </p:blipFill>
        <p:spPr>
          <a:xfrm>
            <a:off x="1371600" y="1600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2"/>
          <p:cNvGrpSpPr/>
          <p:nvPr/>
        </p:nvGrpSpPr>
        <p:grpSpPr>
          <a:xfrm>
            <a:off x="1523880" y="1284120"/>
            <a:ext cx="6658200" cy="4761000"/>
            <a:chOff x="1523880" y="1284120"/>
            <a:chExt cx="6658200" cy="4761000"/>
          </a:xfrm>
        </p:grpSpPr>
        <p:sp>
          <p:nvSpPr>
            <p:cNvPr id="75" name="单圆角矩形 9"/>
            <p:cNvSpPr/>
            <p:nvPr/>
          </p:nvSpPr>
          <p:spPr>
            <a:xfrm>
              <a:off x="1523880" y="1701360"/>
              <a:ext cx="6172560" cy="4343760"/>
            </a:xfrm>
            <a:custGeom>
              <a:avLst/>
              <a:gdLst/>
              <a:ahLst/>
              <a:rect l="l" t="t" r="r" b="b"/>
              <a:pathLst>
                <a:path w="6171612" h="4343036">
                  <a:moveTo>
                    <a:pt x="723854" y="0"/>
                  </a:moveTo>
                  <a:lnTo>
                    <a:pt x="5447758" y="0"/>
                  </a:lnTo>
                  <a:lnTo>
                    <a:pt x="6171612" y="723854"/>
                  </a:lnTo>
                  <a:lnTo>
                    <a:pt x="6171612" y="4343036"/>
                  </a:lnTo>
                  <a:lnTo>
                    <a:pt x="0" y="4343036"/>
                  </a:lnTo>
                  <a:lnTo>
                    <a:pt x="0" y="723854"/>
                  </a:lnTo>
                  <a:cubicBezTo>
                    <a:pt x="0" y="324080"/>
                    <a:pt x="324080" y="0"/>
                    <a:pt x="723854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5" descr="E:\ppt模板\商务\24\Magnet.png"/>
            <p:cNvPicPr/>
            <p:nvPr/>
          </p:nvPicPr>
          <p:blipFill>
            <a:blip r:embed="rId1"/>
            <a:stretch/>
          </p:blipFill>
          <p:spPr>
            <a:xfrm rot="13321200">
              <a:off x="6761520" y="1523520"/>
              <a:ext cx="1172880" cy="119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2380680" y="3352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E:\ppt模板\商务\24\Drink.png"/>
          <p:cNvPicPr/>
          <p:nvPr/>
        </p:nvPicPr>
        <p:blipFill>
          <a:blip r:embed="rId1"/>
          <a:stretch/>
        </p:blipFill>
        <p:spPr>
          <a:xfrm>
            <a:off x="1143000" y="160020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yu wang</cp:lastModifiedBy>
  <dcterms:modified xsi:type="dcterms:W3CDTF">2015-08-03T12:23:00Z</dcterms:modified>
  <cp:revision>1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