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59A-DD99-4ABE-99A9-F847CF67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F35-D0FF-46EB-BEFC-A1B2C3F5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237-5B5D-4387-8C96-279EFA82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F07-B0AF-4355-818A-C4734BC3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4AC-8C0F-464B-8F85-894F4204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D83-92D6-46AE-A4D0-0618FEB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DE6-104F-403B-9933-62B2B5BC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07A-D2BA-450A-A9AF-59AA5947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3B1-82DE-4975-89C3-BE6F8178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C6E-1F51-4485-BE5E-DA8C2065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C96-1D8B-4B97-9EA8-929D9436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C4D-6F99-45C0-ACAD-683DB2E8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C2A5-FAF9-4182-B0BF-5F68CF4657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71640" y="861840"/>
            <a:ext cx="71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毕业论文答辩实用主题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1480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论文答辩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500960" y="6000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14072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713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5640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698868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19875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283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571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426560" y="348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694908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283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54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09200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714840" y="1357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2836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640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6480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694908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783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092000" y="607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2283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926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3:06Z</dcterms:modified>
  <cp:revision>43</cp:revision>
  <dc:subject/>
  <dc:title>幻灯片 1</dc:title>
</cp:coreProperties>
</file>