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6FCB-FCA7-490E-829A-AB58948C1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0964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3BD7-7D07-4B9B-969F-542B1CFC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964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92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CC43-78C3-439B-8AD5-F495913A1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376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52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096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376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52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BD61-8864-41C2-8D73-EC71583D0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0F870-AD5C-4983-9AFC-899B8630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096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6270-7A1B-43A3-A4BD-ECC34009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45D4-E84B-433C-AF55-D8DB2950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363B-F4CE-4BC6-899F-F24F83B9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F9F5B-1604-47F6-866E-096CB675B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0964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9E563-E167-4842-8A5B-E827EE100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0964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EE0A-B091-4A61-8264-C7462215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096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398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CD0-E45C-42F7-A86D-BD0304A9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92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EF94-60C7-41A5-AE78-04C14D83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0964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C497A-8EB3-4DCC-947F-685A3BCE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0964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DFD3-B55E-4680-9C52-09E42B50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964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92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982C-AFA8-4D3F-BF3F-0374DAB04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3764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65280" y="13716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096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3764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65280" y="3521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247B-5D8A-48DA-8323-C6D0D574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1EA5-183A-4909-BFBC-08A510E0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B7CD-6E7B-4C1A-8D70-8108FCF5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A424-155F-4ADC-8543-7F89DAFB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09640" y="3808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398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7261-CAA5-4F49-A068-05E29596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0964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A05B-07A9-4770-BBEF-0493F4DA5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92320" y="3521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C57C-05FC-4F5B-9F40-25D575AD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92320" y="13716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09640" y="3521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736-0421-43CB-AAFB-FFCE5007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66320" cy="68785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tretch/>
        </p:blipFill>
        <p:spPr>
          <a:xfrm>
            <a:off x="685800" y="5483160"/>
            <a:ext cx="690480" cy="838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-윤체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096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DDB3-1501-4441-96F6-BBC7334C9947}" type="slidenum">
              <a:rPr b="0" lang="en-US" sz="14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59840" cy="6867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942840" y="5562720"/>
            <a:ext cx="533520" cy="588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-윤체B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096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1" marL="743040" indent="-28584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2" marL="1143000" indent="-22860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3" marL="1600200" indent="-22860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4" marL="2057400" indent="-228600">
              <a:lnSpc>
                <a:spcPts val="2398"/>
              </a:lnSpc>
              <a:spcBef>
                <a:spcPts val="550"/>
              </a:spcBef>
              <a:buClr>
                <a:srgbClr val="ffffff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5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  <a:p>
            <a:pPr lvl="6" marL="2057400" indent="-228600">
              <a:lnSpc>
                <a:spcPts val="2398"/>
              </a:lnSpc>
              <a:spcBef>
                <a:spcPts val="550"/>
              </a:spcBef>
              <a:buClr>
                <a:srgbClr val="000000"/>
              </a:buClr>
              <a:buFont typeface="-윤고딕1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-윤고딕140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-윤고딕140"/>
                <a:ea typeface="-윤고딕1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6A2D0-FA26-4C6D-8E5F-D14075B12D85}" type="slidenum">
              <a:rPr b="0" lang="en-US" sz="1400" spc="-1" strike="noStrike">
                <a:solidFill>
                  <a:srgbClr val="ffffff"/>
                </a:solidFill>
                <a:latin typeface="-윤고딕140"/>
                <a:ea typeface="-윤고딕1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-윤체B"/>
              </a:rPr>
              <a:t>毕业论文答辩主题</a:t>
            </a:r>
            <a:r>
              <a:rPr b="0" lang="en-US" sz="4000" spc="-1" strike="noStrike">
                <a:solidFill>
                  <a:srgbClr val="ffffff"/>
                </a:solidFill>
                <a:latin typeface="-윤체B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-윤체B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-윤고딕140"/>
              </a:rPr>
              <a:t>XXXX</a:t>
            </a:r>
            <a:endParaRPr b="0" lang="en-US" sz="32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0964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0964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2398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200" spc="-1" strike="noStrike">
              <a:solidFill>
                <a:srgbClr val="ffffff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259092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-윤체B"/>
              </a:rPr>
              <a:t>请指正</a:t>
            </a:r>
            <a:endParaRPr b="0" lang="en-US" sz="40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342864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-윤고딕140"/>
              </a:rPr>
              <a:t>XXXX</a:t>
            </a:r>
            <a:endParaRPr b="0" lang="en-US" sz="3200" spc="-1" strike="noStrike">
              <a:solidFill>
                <a:srgbClr val="ffffff"/>
              </a:solidFill>
              <a:latin typeface="-윤고딕140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-윤체B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-윤체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站点介绍：</a:t>
            </a:r>
            <a:endParaRPr b="0" lang="en-US" sz="10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-윤고딕140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-윤고딕140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-윤고딕140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-윤고딕140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-윤고딕140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-윤고딕140"/>
              </a:rPr>
              <a:t> </a:t>
            </a:r>
            <a:r>
              <a:rPr b="0" lang="zh-CN" sz="1000" spc="-1" strike="noStrike" u="sng">
                <a:solidFill>
                  <a:srgbClr val="ccccff"/>
                </a:solidFill>
                <a:uFillTx/>
                <a:latin typeface="-윤고딕140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-윤고딕140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特别说明：</a:t>
            </a:r>
            <a:endParaRPr b="0" lang="en-US" sz="10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-윤고딕140"/>
              </a:rPr>
              <a:t>栏目推荐：</a:t>
            </a:r>
            <a:endParaRPr b="0" lang="en-US" sz="10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dongtai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chuangyi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gongzuo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kejian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shangwu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sucai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fengjing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jianjie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ccccff"/>
                </a:solidFill>
                <a:uFillTx/>
                <a:latin typeface="-윤고딕140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jiaoyu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lunwen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-윤고딕140"/>
              </a:rPr>
              <a:t>http://www.eeppt.com/moban/yiliao/</a:t>
            </a: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-윤고딕140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yu wang</cp:lastModifiedBy>
  <dcterms:modified xsi:type="dcterms:W3CDTF">2015-08-03T12:23:05Z</dcterms:modified>
  <cp:revision>118</cp:revision>
  <dc:subject/>
  <dc:title>PowerPoint 프레젠테이션</dc:title>
</cp:coreProperties>
</file>