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4A9-781A-4DE5-B3FF-5DB490FB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D02-1304-4A33-9088-7A54D815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8B5-D5DA-456C-854C-B928D69A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C59-0E72-47E4-8D4F-CBA90319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620-0F4F-4062-AED8-9AACE941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87C-BB4A-41BD-B9D4-850D8388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A19-F195-424F-899A-93BD6DD9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358-AC2E-42A9-AA02-D7EA2274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603-66D2-42A4-A923-CFDD0BC9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74E-E26F-4CB5-8075-97597F23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AED-9897-43B4-9207-690C3606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912-843A-4FE1-B3E7-E483FF9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2306-8DC1-48D2-8321-38C0E3752284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0"/>
          <p:cNvSpPr/>
          <p:nvPr/>
        </p:nvSpPr>
        <p:spPr>
          <a:xfrm>
            <a:off x="716040" y="486900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  <a:ea typeface="宋体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1268280" y="357336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船舵领导向心力企业文化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u wang</cp:lastModifiedBy>
  <dcterms:modified xsi:type="dcterms:W3CDTF">2015-08-03T12:24:45Z</dcterms:modified>
  <cp:revision>763</cp:revision>
  <dc:subject/>
  <dc:title>Diapositiva 1</dc:title>
</cp:coreProperties>
</file>