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D0CF-3C11-4C3A-A31D-AD569C7B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A1F8-D3F8-4D01-BA0F-5C13021A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57B9-A952-4373-BCFB-F9A60952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375D-D2F9-4962-8263-B1C304DF0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E27F-0824-439D-86E8-042CA0A3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A4AE-ECB9-48B7-BE66-5CE34FF4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1607-0B70-4156-A618-27FFF075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ED02-C97E-4FD9-B9F2-87183AD0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75AD-9E57-4DA8-86B7-19A15566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79DF-8590-4365-83FC-2303A668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1CB1-053E-400A-BFBE-C112BD4D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071D-094D-4223-8190-DECBC6F3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718F-8D35-4FA5-BE11-BC723749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AE0C-4790-4219-9E00-E437685B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99CB-71F9-4A5D-8373-7FDEC9FD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EA2B-90EA-4695-95EA-969BA145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228E-BA46-4734-B578-08F5C373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8C13-ED73-40D0-A98F-14962370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E6C3-B9F8-4C29-9BFA-EA2D4F2F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417-697D-41A1-975F-214BE573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EE75-D865-40AD-A863-F34848BC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0A32-E2C8-433B-BF3B-8C06AC67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8B34-947F-46D1-B689-22545D71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3247-E524-45AC-87E2-E73C2C69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7977-7F19-42F2-991C-9EC54BBEEEF0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81B5-E80E-44A4-823F-881D1DABFC0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2"/>
          <p:cNvSpPr/>
          <p:nvPr/>
        </p:nvSpPr>
        <p:spPr>
          <a:xfrm>
            <a:off x="3851280" y="2492280"/>
            <a:ext cx="1549440" cy="158436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"/>
          <p:cNvSpPr/>
          <p:nvPr/>
        </p:nvSpPr>
        <p:spPr>
          <a:xfrm>
            <a:off x="1838160" y="909720"/>
            <a:ext cx="3024360" cy="3024000"/>
          </a:xfrm>
          <a:prstGeom prst="ellipse">
            <a:avLst/>
          </a:prstGeom>
          <a:solidFill>
            <a:srgbClr val="fb9d17"/>
          </a:solidFill>
          <a:ln w="9360">
            <a:solidFill>
              <a:srgbClr val="fb9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1477800" y="2744640"/>
            <a:ext cx="1873440" cy="180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"/>
          <p:cNvSpPr/>
          <p:nvPr/>
        </p:nvSpPr>
        <p:spPr>
          <a:xfrm>
            <a:off x="4321080" y="1413000"/>
            <a:ext cx="1079640" cy="1079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6445080" y="4078440"/>
            <a:ext cx="1297080" cy="1296720"/>
          </a:xfrm>
          <a:prstGeom prst="ellipse">
            <a:avLst/>
          </a:prstGeom>
          <a:solidFill>
            <a:srgbClr val="fb9d17"/>
          </a:solidFill>
          <a:ln w="9360">
            <a:solidFill>
              <a:srgbClr val="fb9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013440" y="4545000"/>
            <a:ext cx="792000" cy="828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079720" y="1413000"/>
            <a:ext cx="25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 Rounded MT Bold"/>
                <a:ea typeface="宋体"/>
              </a:rPr>
              <a:t>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6920" y="334800"/>
            <a:ext cx="864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橙黄圆圈简洁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6732720" y="4438800"/>
            <a:ext cx="9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Rounded MT Bold"/>
                <a:ea typeface="幼圆"/>
              </a:rPr>
              <a:t>201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幼圆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Oval 2"/>
          <p:cNvSpPr/>
          <p:nvPr/>
        </p:nvSpPr>
        <p:spPr>
          <a:xfrm>
            <a:off x="468360" y="404640"/>
            <a:ext cx="1511280" cy="1513080"/>
          </a:xfrm>
          <a:prstGeom prst="ellipse">
            <a:avLst/>
          </a:prstGeom>
          <a:solidFill>
            <a:srgbClr val="fb9d17"/>
          </a:solidFill>
          <a:ln w="9360">
            <a:solidFill>
              <a:srgbClr val="fb9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"/>
          <p:cNvSpPr/>
          <p:nvPr/>
        </p:nvSpPr>
        <p:spPr>
          <a:xfrm>
            <a:off x="468360" y="1449360"/>
            <a:ext cx="952560" cy="936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1706400" y="512640"/>
            <a:ext cx="547920" cy="541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98520" y="809640"/>
            <a:ext cx="185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 Rounded MT Bold"/>
                <a:ea typeface="幼圆"/>
              </a:rPr>
              <a:t>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2556000" y="1936800"/>
            <a:ext cx="360360" cy="36036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967120" y="193680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9d17"/>
                </a:solidFill>
                <a:latin typeface="Arial Rounded MT Bold"/>
                <a:ea typeface="幼圆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8"/>
          <p:cNvSpPr/>
          <p:nvPr/>
        </p:nvSpPr>
        <p:spPr>
          <a:xfrm>
            <a:off x="2556000" y="2492280"/>
            <a:ext cx="360360" cy="36036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2967120" y="2523960"/>
            <a:ext cx="153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9d17"/>
                </a:solidFill>
                <a:latin typeface="Arial Rounded MT Bold"/>
                <a:ea typeface="幼圆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3081240" y="3035160"/>
            <a:ext cx="125640" cy="11124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3206880" y="2921040"/>
            <a:ext cx="100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b9d17"/>
                </a:solidFill>
                <a:latin typeface="Arial Rounded MT Bold"/>
                <a:ea typeface="幼圆"/>
              </a:rPr>
              <a:t>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b9d17"/>
                </a:solidFill>
                <a:latin typeface="Arial Rounded MT Bold"/>
                <a:ea typeface="幼圆"/>
              </a:rPr>
              <a:t>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b9d17"/>
                </a:solidFill>
                <a:latin typeface="Arial Rounded MT Bold"/>
                <a:ea typeface="幼圆"/>
              </a:rPr>
              <a:t>Th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2"/>
          <p:cNvSpPr/>
          <p:nvPr/>
        </p:nvSpPr>
        <p:spPr>
          <a:xfrm>
            <a:off x="3081240" y="3230640"/>
            <a:ext cx="125640" cy="10944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3"/>
          <p:cNvSpPr/>
          <p:nvPr/>
        </p:nvSpPr>
        <p:spPr>
          <a:xfrm>
            <a:off x="3081240" y="3441600"/>
            <a:ext cx="125640" cy="10980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4"/>
          <p:cNvSpPr/>
          <p:nvPr/>
        </p:nvSpPr>
        <p:spPr>
          <a:xfrm>
            <a:off x="2556000" y="3862440"/>
            <a:ext cx="360360" cy="36036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978640" y="386064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9d17"/>
                </a:solidFill>
                <a:latin typeface="Arial Rounded MT Bold"/>
                <a:ea typeface="幼圆"/>
              </a:rPr>
              <a:t>Beni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6"/>
          <p:cNvSpPr/>
          <p:nvPr/>
        </p:nvSpPr>
        <p:spPr>
          <a:xfrm>
            <a:off x="2556000" y="4402080"/>
            <a:ext cx="360360" cy="36036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2980080" y="4364640"/>
            <a:ext cx="13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9d17"/>
                </a:solidFill>
                <a:latin typeface="Arial Rounded MT Bold"/>
                <a:ea typeface="幼圆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2"/>
          <p:cNvSpPr/>
          <p:nvPr/>
        </p:nvSpPr>
        <p:spPr>
          <a:xfrm>
            <a:off x="2916360" y="1557360"/>
            <a:ext cx="2952720" cy="2951280"/>
          </a:xfrm>
          <a:prstGeom prst="ellipse">
            <a:avLst/>
          </a:prstGeom>
          <a:solidFill>
            <a:srgbClr val="fb9d17"/>
          </a:solidFill>
          <a:ln w="9360">
            <a:solidFill>
              <a:srgbClr val="fb9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087640" y="2852640"/>
            <a:ext cx="1655640" cy="165600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5508720" y="2276640"/>
            <a:ext cx="1152360" cy="1152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192480" y="3063960"/>
            <a:ext cx="231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236760" y="2089800"/>
            <a:ext cx="233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  <a:ea typeface="幼圆"/>
              </a:rPr>
              <a:t>The fi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209040" y="313848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幼圆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5653080" y="4076640"/>
            <a:ext cx="431640" cy="43200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2"/>
          <p:cNvSpPr/>
          <p:nvPr/>
        </p:nvSpPr>
        <p:spPr>
          <a:xfrm>
            <a:off x="179280" y="189000"/>
            <a:ext cx="2016360" cy="2016000"/>
          </a:xfrm>
          <a:prstGeom prst="ellipse">
            <a:avLst/>
          </a:prstGeom>
          <a:solidFill>
            <a:srgbClr val="fb9d17"/>
          </a:solidFill>
          <a:ln w="9360">
            <a:solidFill>
              <a:srgbClr val="fb9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"/>
          <p:cNvSpPr/>
          <p:nvPr/>
        </p:nvSpPr>
        <p:spPr>
          <a:xfrm>
            <a:off x="179280" y="1665360"/>
            <a:ext cx="1081080" cy="1081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1619280" y="189000"/>
            <a:ext cx="576360" cy="57600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181080" y="6381720"/>
            <a:ext cx="287280" cy="28728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8677440" y="6381720"/>
            <a:ext cx="285480" cy="28728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8677440" y="189000"/>
            <a:ext cx="285480" cy="28872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195640" y="1953360"/>
            <a:ext cx="5761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幼圆"/>
              </a:rPr>
              <a:t>   </a:t>
            </a:r>
            <a:r>
              <a:rPr b="0" lang="en-US" sz="1800" spc="-1" strike="noStrike">
                <a:solidFill>
                  <a:srgbClr val="fb9d17"/>
                </a:solidFill>
                <a:latin typeface="Arial"/>
                <a:ea typeface="幼圆"/>
              </a:rPr>
              <a:t>      </a:t>
            </a:r>
            <a:r>
              <a:rPr b="0" lang="zh-CN" sz="2000" spc="-1" strike="noStrike">
                <a:solidFill>
                  <a:srgbClr val="fb9d17"/>
                </a:solidFill>
                <a:latin typeface="Arial Rounded MT Bold"/>
                <a:ea typeface="幼圆"/>
              </a:rPr>
              <a:t>The political purpose of the event, in order to have guaranteed rights. A new working environment, the first thing you should do is to understand the real people in power </a:t>
            </a:r>
            <a:r>
              <a:rPr b="0" lang="en-US" sz="2000" spc="-1" strike="noStrike">
                <a:solidFill>
                  <a:srgbClr val="fb9d17"/>
                </a:solidFill>
                <a:latin typeface="Arial Rounded MT Bold"/>
                <a:ea typeface="幼圆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9d17"/>
                </a:solidFill>
                <a:latin typeface="Arial Rounded MT Bold"/>
                <a:ea typeface="幼圆"/>
              </a:rPr>
              <a:t> </a:t>
            </a:r>
            <a:r>
              <a:rPr b="0" lang="en-US" sz="2000" spc="-1" strike="noStrike">
                <a:solidFill>
                  <a:srgbClr val="fb9d17"/>
                </a:solidFill>
                <a:latin typeface="Arial Rounded MT Bold"/>
                <a:ea typeface="幼圆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9d17"/>
                </a:solidFill>
                <a:latin typeface="Arial Rounded MT Bold"/>
                <a:ea typeface="幼圆"/>
              </a:rPr>
              <a:t>          </a:t>
            </a:r>
            <a:r>
              <a:rPr b="0" lang="zh-CN" sz="2000" spc="-1" strike="noStrike">
                <a:solidFill>
                  <a:srgbClr val="ffcc00"/>
                </a:solidFill>
                <a:latin typeface="Arial Rounded MT Bold"/>
                <a:ea typeface="幼圆"/>
              </a:rPr>
              <a:t>In addition to all levels of management</a:t>
            </a:r>
            <a:r>
              <a:rPr b="0" lang="en-US" sz="2000" spc="-1" strike="noStrike">
                <a:solidFill>
                  <a:srgbClr val="ffcc00"/>
                </a:solidFill>
                <a:latin typeface="Arial Rounded MT Bold"/>
                <a:ea typeface="幼圆"/>
              </a:rPr>
              <a:t> </a:t>
            </a:r>
            <a:r>
              <a:rPr b="0" lang="zh-CN" sz="2000" spc="-1" strike="noStrike">
                <a:solidFill>
                  <a:srgbClr val="ffcc00"/>
                </a:solidFill>
                <a:latin typeface="Arial Rounded MT Bold"/>
                <a:ea typeface="幼圆"/>
              </a:rPr>
              <a:t>titles boss list may also include a number of titles</a:t>
            </a:r>
            <a:r>
              <a:rPr b="0" lang="en-US" sz="2000" spc="-1" strike="noStrike">
                <a:solidFill>
                  <a:srgbClr val="ffcc00"/>
                </a:solidFill>
                <a:latin typeface="Arial Rounded MT Bold"/>
                <a:ea typeface="幼圆"/>
              </a:rPr>
              <a:t>.   </a:t>
            </a:r>
            <a:r>
              <a:rPr b="0" lang="zh-CN" sz="2000" spc="-1" strike="noStrike">
                <a:solidFill>
                  <a:srgbClr val="ffcc00"/>
                </a:solidFill>
                <a:latin typeface="Arial Rounded MT Bold"/>
                <a:ea typeface="幼圆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Rounded MT Bold"/>
                <a:ea typeface="幼圆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49560" y="763920"/>
            <a:ext cx="17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  <a:ea typeface="幼圆"/>
              </a:rPr>
              <a:t>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63072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2"/>
          <p:cNvSpPr/>
          <p:nvPr/>
        </p:nvSpPr>
        <p:spPr>
          <a:xfrm>
            <a:off x="4824360" y="1211400"/>
            <a:ext cx="1655640" cy="1726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"/>
          <p:cNvSpPr/>
          <p:nvPr/>
        </p:nvSpPr>
        <p:spPr>
          <a:xfrm>
            <a:off x="3132000" y="1714680"/>
            <a:ext cx="2521080" cy="2519280"/>
          </a:xfrm>
          <a:prstGeom prst="ellipse">
            <a:avLst/>
          </a:prstGeom>
          <a:solidFill>
            <a:srgbClr val="fb9d17"/>
          </a:solidFill>
          <a:ln w="9360">
            <a:solidFill>
              <a:srgbClr val="fb9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2197080" y="2938320"/>
            <a:ext cx="1295280" cy="129564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5"/>
          <p:cNvSpPr/>
          <p:nvPr/>
        </p:nvSpPr>
        <p:spPr>
          <a:xfrm>
            <a:off x="6156360" y="3657600"/>
            <a:ext cx="576360" cy="57636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276720" y="2216160"/>
            <a:ext cx="2468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  <a:ea typeface="幼圆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幼圆"/>
              </a:rPr>
              <a:t>for watc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www.pptbz.com</dc:creator>
  <dc:description/>
  <dc:language>en-US</dc:language>
  <cp:lastModifiedBy>yu wang</cp:lastModifiedBy>
  <dcterms:modified xsi:type="dcterms:W3CDTF">2015-08-03T12:22:49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