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282-FCC5-4FCD-B741-5E87377A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F54-164C-4DE1-9F2D-72A159B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BE3-23CC-415E-ACEA-1C1E33FE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06B-64D6-4B0A-B513-C782A2FB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08C0-5B65-44DE-9415-1908714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035-0229-4681-99D1-3B47A77C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8CE8-A6FB-43DB-B15C-3C8D545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49AB-3119-4089-B836-2AF9CAA1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59D0-CB22-47C4-82FB-3BEED4A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CBCB-09DF-4ECF-B60F-6486DB5F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BBC8-3D63-4A1C-996D-0D74C44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EEC-F72B-470D-B38E-EE60D00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F4B3-F411-4A9A-973A-96D83DF3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9221-93D3-413C-A72A-39294CB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7FFA-8656-43D3-8C71-64DCB4F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6720-2907-40A0-9E60-CA0CA99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992A-134D-4D1E-A3DF-816D71DF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7DA-3345-4C77-921A-2677092C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9CF-A1BD-4B83-834D-54907B9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069-29A0-4A82-836D-7F4057DA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AF9-CB5D-4D6A-8E97-FAE2DAA3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20B-5838-4598-9D49-D504E85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630-0F0E-4691-AE31-6576B5AB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F1A-0D26-40BE-878A-E68F5BB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A49B4-0D89-45F4-8234-8262EF49F86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0C54C8-0DBB-4C0A-9386-5D23F80FBDF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729480" y="928800"/>
            <a:ext cx="119988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904080" y="4214880"/>
            <a:ext cx="953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500880" y="1000080"/>
            <a:ext cx="76968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177280" y="25668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城市简约创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5140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506880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1418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4492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354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71168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28328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854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5286240" y="22147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140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3354480" y="398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5140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4492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072040" y="185724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406872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8546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354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62618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9482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354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140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3140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87660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28544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5568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28544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  <Words>260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0:1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