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10A3-522E-4816-A40F-DCE578B89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9D55-F3DD-43D3-8F31-00ACD767B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0A9D-AF72-49AE-AE1A-D61A8E9D7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BFFF-E7F4-4A78-BB9C-40987B601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4910-83FD-400D-A91D-AF6993075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CD5A-D46C-49CA-97E2-50094643C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888E-509B-4317-B07B-4DCF67423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C498-C8F0-4F81-B7B2-0892221B1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F6B3-36C8-4663-B714-796BB98AC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5FD1-E6E8-4BC7-87FA-C57E7756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51D6-EA81-46C2-821F-13999093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6256-DD8A-4C66-AED2-16DCF2F4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DB29E-3367-4CE6-BC1C-DD0C607380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22" descr=""/>
          <p:cNvPicPr/>
          <p:nvPr/>
        </p:nvPicPr>
        <p:blipFill>
          <a:blip r:embed="rId3"/>
          <a:stretch/>
        </p:blipFill>
        <p:spPr>
          <a:xfrm>
            <a:off x="0" y="0"/>
            <a:ext cx="2916360" cy="1000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5" descr=""/>
          <p:cNvPicPr/>
          <p:nvPr/>
        </p:nvPicPr>
        <p:blipFill>
          <a:blip r:embed="rId2"/>
          <a:stretch/>
        </p:blipFill>
        <p:spPr>
          <a:xfrm>
            <a:off x="0" y="3240"/>
            <a:ext cx="8244000" cy="68547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6" descr=""/>
          <p:cNvPicPr/>
          <p:nvPr/>
        </p:nvPicPr>
        <p:blipFill>
          <a:blip r:embed="rId3"/>
          <a:stretch/>
        </p:blipFill>
        <p:spPr>
          <a:xfrm>
            <a:off x="8220240" y="4005360"/>
            <a:ext cx="923760" cy="28526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1"/>
          <p:cNvSpPr/>
          <p:nvPr/>
        </p:nvSpPr>
        <p:spPr>
          <a:xfrm>
            <a:off x="1848960" y="278136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50021"/>
                </a:solidFill>
                <a:latin typeface="Arial"/>
                <a:ea typeface="宋体"/>
              </a:rPr>
              <a:t>橙色热情型公司介绍</a:t>
            </a:r>
            <a:r>
              <a:rPr b="0" lang="zh-CN" sz="4000" spc="-1" strike="noStrike">
                <a:solidFill>
                  <a:srgbClr val="a50021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a50021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5"/>
          <p:cNvSpPr/>
          <p:nvPr/>
        </p:nvSpPr>
        <p:spPr>
          <a:xfrm>
            <a:off x="0" y="1484280"/>
            <a:ext cx="8928000" cy="24494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168560" indent="-711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4" name="Text Box 16"/>
          <p:cNvSpPr/>
          <p:nvPr/>
        </p:nvSpPr>
        <p:spPr>
          <a:xfrm>
            <a:off x="900000" y="49320"/>
            <a:ext cx="74358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5002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教育教学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5:46:57Z</dcterms:created>
  <dc:creator>antonio.c.pires</dc:creator>
  <dc:description/>
  <dc:language>en-US</dc:language>
  <cp:lastModifiedBy>yu wang</cp:lastModifiedBy>
  <dcterms:modified xsi:type="dcterms:W3CDTF">2015-08-03T12:22:48Z</dcterms:modified>
  <cp:revision>33</cp:revision>
  <dc:subject/>
  <dc:title>Slide 1</dc:title>
</cp:coreProperties>
</file>