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BD6-6A0C-4402-89B9-B1B263AB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502-B51B-4839-9F5A-8D0E5C91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17C-A227-4FAB-86D8-CB68E5B8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90E-5FF0-42A5-A496-32D41813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B75-B315-439F-9860-C882E0C0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233E-A2CA-43E2-B40F-9CA8A603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258-2979-49C2-8BAF-43093DFA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BBD5-BE58-4F49-85CD-4B5A529D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E63-07B1-49C7-8A4B-BDD1DADE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517-C18E-4CDC-9C36-5549B9EA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C61-CEC8-4A69-B836-48BF2002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B83-F001-4641-BE76-CF6FD790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D0AD-07DD-4207-80CD-A66B51F85D92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8AED-3E52-48BB-9157-DBF13894D8E3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9" descr="PPT01.jpg"/>
          <p:cNvPicPr/>
          <p:nvPr/>
        </p:nvPicPr>
        <p:blipFill>
          <a:blip r:embed="rId1"/>
          <a:srcRect l="0" t="0" r="0" b="38250"/>
          <a:stretch/>
        </p:blipFill>
        <p:spPr>
          <a:xfrm>
            <a:off x="754200" y="0"/>
            <a:ext cx="8359560" cy="386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2200" y="3687480"/>
            <a:ext cx="817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彩条简洁色块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857560"/>
            <a:ext cx="64008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571840" y="4929120"/>
            <a:ext cx="635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5"/>
          <p:cNvSpPr/>
          <p:nvPr/>
        </p:nvSpPr>
        <p:spPr>
          <a:xfrm flipV="1">
            <a:off x="331920" y="765000"/>
            <a:ext cx="7912080" cy="12960"/>
          </a:xfrm>
          <a:prstGeom prst="line">
            <a:avLst/>
          </a:prstGeom>
          <a:ln w="28440">
            <a:solidFill>
              <a:srgbClr val="93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9" descr="PPT01.jpg"/>
          <p:cNvPicPr/>
          <p:nvPr/>
        </p:nvPicPr>
        <p:blipFill>
          <a:blip r:embed="rId1"/>
          <a:srcRect l="0" t="0" r="0" b="38263"/>
          <a:stretch/>
        </p:blipFill>
        <p:spPr>
          <a:xfrm>
            <a:off x="7236000" y="0"/>
            <a:ext cx="190800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rcRect l="218" t="92229" r="19959" b="4445"/>
          <a:stretch/>
        </p:blipFill>
        <p:spPr>
          <a:xfrm>
            <a:off x="0" y="6627960"/>
            <a:ext cx="7380360" cy="230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308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</a:rPr>
              <a:t>目  录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5"/>
          <p:cNvSpPr/>
          <p:nvPr/>
        </p:nvSpPr>
        <p:spPr>
          <a:xfrm flipV="1">
            <a:off x="331920" y="765000"/>
            <a:ext cx="7912080" cy="12960"/>
          </a:xfrm>
          <a:prstGeom prst="line">
            <a:avLst/>
          </a:prstGeom>
          <a:ln w="28440">
            <a:solidFill>
              <a:srgbClr val="93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9" descr="PPT01.jpg"/>
          <p:cNvPicPr/>
          <p:nvPr/>
        </p:nvPicPr>
        <p:blipFill>
          <a:blip r:embed="rId1"/>
          <a:srcRect l="0" t="0" r="0" b="38263"/>
          <a:stretch/>
        </p:blipFill>
        <p:spPr>
          <a:xfrm>
            <a:off x="7236000" y="0"/>
            <a:ext cx="190800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rcRect l="218" t="92229" r="19959" b="4445"/>
          <a:stretch/>
        </p:blipFill>
        <p:spPr>
          <a:xfrm>
            <a:off x="0" y="6627960"/>
            <a:ext cx="7380360" cy="2300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080" y="1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微软雅黑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微软雅黑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03:58:00Z</dcterms:created>
  <dc:creator>ppt宝藏</dc:creator>
  <dc:description/>
  <dc:language>en-US</dc:language>
  <cp:lastModifiedBy>yu wang</cp:lastModifiedBy>
  <dcterms:modified xsi:type="dcterms:W3CDTF">2015-08-03T12:21:48Z</dcterms:modified>
  <cp:revision>3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