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570D-31D1-4275-8D4B-A8CB8335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E0D5-C042-479F-AB40-334BC2A7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D90-C61D-4E3A-9E23-63F34DED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1EA-E9DD-4521-9A15-9E8BD47A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3752-55B3-4244-8F30-3BE5DE21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CE48-2F96-4EE3-8ECE-8BF60637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3316-4838-4559-995A-25EE582B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904C-2DFC-4CE7-85E9-9879AFAD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1883-C2B6-4DAE-97E9-CD429B99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F305-E703-496F-933A-1E195D9A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F804-C239-4CDB-BA56-7AE7CA43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177-4E95-49E9-91A8-F5E3290C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6D36-CF03-48DB-8C81-E004C923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AAA8-7A26-4F49-A86A-6BCD2FBB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3564-A3C1-4F96-B22E-0E25C9A3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46E8-DBC6-48C2-AA87-272B89DE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FFA0-EF7B-40B2-B5BD-2F28EE9A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F0B2F-6020-4CA3-8619-13A78236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DFEAF-35F2-4CA3-B85F-11A92392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DC87-903C-4F2A-93F1-4D07ADF9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C2C6-BD9B-4582-B0B7-473FD8D8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4D4DB-0174-4284-81FA-ECF149D8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FBC-04A6-4D38-BC54-8AA5449D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3EB57-A279-4CDF-851E-75818AAC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37BB4-FBE8-4861-ABE1-E0AA1B34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3D9CA-E444-4FD9-9104-BCD59D42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1CBA-80C0-4AA5-BFD9-EA41D7C2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3C0D8-3FB7-464B-BF09-F6E84EDA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19F5E-0845-46B7-BEC8-090399D5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8C720-A782-43FC-84F0-2EB94CCC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8DF-7792-4B05-99D7-01D7C05D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FD7C-338C-4D05-91DB-B6520666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2E5-B7BE-436A-9E2D-3B68E13E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E4F5-EFF4-4C44-9F73-E1CC4143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B54-A866-49D8-913D-1D692A1B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1FC-4A35-4537-A6AC-2BD9F4C9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"/>
          <p:cNvPicPr/>
          <p:nvPr/>
        </p:nvPicPr>
        <p:blipFill>
          <a:blip r:embed="rId2"/>
          <a:stretch/>
        </p:blipFill>
        <p:spPr>
          <a:xfrm>
            <a:off x="36360" y="17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BB11-6F5E-436A-A5ED-CCFBC66106F1}" type="slidenum"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"/>
          <p:cNvPicPr/>
          <p:nvPr/>
        </p:nvPicPr>
        <p:blipFill>
          <a:blip r:embed="rId2"/>
          <a:stretch/>
        </p:blipFill>
        <p:spPr>
          <a:xfrm>
            <a:off x="0" y="442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96720" y="8366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161E-47CA-496F-9ADD-9471921AAE8D}" type="slidenum"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E474-1289-4D5E-8986-103066E68DA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logo2"/>
          <p:cNvPicPr/>
          <p:nvPr/>
        </p:nvPicPr>
        <p:blipFill>
          <a:blip r:embed="rId3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8">
            <a:hlinkClick r:id="rId4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"/>
          <p:cNvSpPr/>
          <p:nvPr/>
        </p:nvSpPr>
        <p:spPr>
          <a:xfrm>
            <a:off x="2373840" y="476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春天小草简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华文细黑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PPT  www.1ppt.com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24000" y="1483920"/>
            <a:ext cx="338616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感谢您的关注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华文细黑"/>
              </a:rPr>
              <a:t>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华文细黑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e2d700"/>
                </a:solidFill>
                <a:uFillTx/>
                <a:latin typeface="华文细黑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d700"/>
                </a:solidFill>
                <a:uFillTx/>
                <a:latin typeface="华文细黑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           </a:t>
            </a:r>
            <a:r>
              <a:rPr b="0" lang="zh-CN" sz="900" spc="-1" strike="noStrike" u="sng">
                <a:solidFill>
                  <a:srgbClr val="e2d700"/>
                </a:solidFill>
                <a:uFillTx/>
                <a:latin typeface="华文细黑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d700"/>
                </a:solidFill>
                <a:uFillTx/>
                <a:latin typeface="华文细黑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           </a:t>
            </a:r>
            <a:r>
              <a:rPr b="0" lang="zh-CN" sz="900" spc="-1" strike="noStrike" u="sng">
                <a:solidFill>
                  <a:srgbClr val="e2d700"/>
                </a:solidFill>
                <a:uFillTx/>
                <a:latin typeface="华文细黑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d700"/>
                </a:solidFill>
                <a:uFillTx/>
                <a:latin typeface="华文细黑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e2d700"/>
                </a:solidFill>
                <a:uFillTx/>
                <a:latin typeface="华文细黑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d700"/>
                </a:solidFill>
                <a:uFillTx/>
                <a:latin typeface="华文细黑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e2d700"/>
                </a:solidFill>
                <a:uFillTx/>
                <a:latin typeface="华文细黑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d700"/>
                </a:solidFill>
                <a:uFillTx/>
                <a:latin typeface="华文细黑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e2d700"/>
                </a:solidFill>
                <a:uFillTx/>
                <a:latin typeface="华文细黑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d700"/>
                </a:solidFill>
                <a:uFillTx/>
                <a:latin typeface="华文细黑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e2d700"/>
                </a:solidFill>
                <a:uFillTx/>
                <a:latin typeface="华文细黑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d700"/>
                </a:solidFill>
                <a:uFillTx/>
                <a:latin typeface="华文细黑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e2d700"/>
                </a:solidFill>
                <a:uFillTx/>
                <a:latin typeface="华文细黑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d700"/>
                </a:solidFill>
                <a:uFillTx/>
                <a:latin typeface="华文细黑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e2d700"/>
                </a:solidFill>
                <a:uFillTx/>
                <a:latin typeface="华文细黑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d700"/>
                </a:solidFill>
                <a:uFillTx/>
                <a:latin typeface="华文细黑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细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3:16:42Z</dcterms:created>
  <dc:creator>PowerBar_lxym148</dc:creator>
  <dc:description>PowerBar：中国专业ppt设计交流论坛，是基于PowerPoint软件，以设计，创意，技巧，讨论，赏析，模板发布内容为主。
通过Nordri设计团队并汇集国内优秀PowerPoint设计者/爱好者的原创力量，建立更多与PPT相关的专业内容，为网友共享。 
</dc:description>
  <cp:keywords>ppt模板 PPT专业模板 PowerBar 专业PPT论坛</cp:keywords>
  <dc:language>en-US</dc:language>
  <cp:lastModifiedBy>yu wang</cp:lastModifiedBy>
  <cp:lastPrinted>1899-12-30T00:00:00Z</cp:lastPrinted>
  <dcterms:modified xsi:type="dcterms:W3CDTF">2015-08-03T12:22:35Z</dcterms:modified>
  <cp:revision>36</cp:revision>
  <dc:subject>PowerBar原创专业PPT模板</dc:subject>
  <dc:title>PowerBar原创专业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1</vt:lpwstr>
  </property>
</Properties>
</file>