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5D5-9336-44A4-AA10-D2C74C6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F54-7275-41B6-9FBA-C67B06A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73E-0886-4BB9-8F92-A2D2FD74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BF3-BC22-4728-984D-52B6F2C7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088-B9A0-4B2C-A2FD-6F15D52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02E-6B04-42CA-BC36-67A9EE0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337-8609-4529-B561-422B98EA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4F4-14BD-42EF-B01E-EDF1417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C8E-8004-4C19-B252-51D9A6B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B5F-1FD9-4BFA-A9DE-18A0A53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99D-9D87-4BA4-B1A9-FB88615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370-1513-4EA7-8387-E3926BD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b8aa"/>
            </a:gs>
            <a:gs pos="100000">
              <a:srgbClr val="efd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4F9B-9EFE-4B29-B04B-939343BC60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创意广告设计</a:t>
            </a:r>
            <a:r>
              <a:rPr b="0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禁烟广告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95280" y="4428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微软雅黑"/>
              </a:rPr>
              <a:t>禁烟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2010518103441859"/>
          <p:cNvPicPr/>
          <p:nvPr/>
        </p:nvPicPr>
        <p:blipFill>
          <a:blip r:embed="rId1"/>
          <a:stretch/>
        </p:blipFill>
        <p:spPr>
          <a:xfrm>
            <a:off x="34920" y="469800"/>
            <a:ext cx="91076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10518103453317"/>
          <p:cNvPicPr/>
          <p:nvPr/>
        </p:nvPicPr>
        <p:blipFill>
          <a:blip r:embed="rId1"/>
          <a:stretch/>
        </p:blipFill>
        <p:spPr>
          <a:xfrm>
            <a:off x="34920" y="830160"/>
            <a:ext cx="9109080" cy="5694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95280" y="4428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微软雅黑"/>
              </a:rPr>
              <a:t>饮料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0105181034594"/>
          <p:cNvPicPr/>
          <p:nvPr/>
        </p:nvPicPr>
        <p:blipFill>
          <a:blip r:embed="rId1"/>
          <a:stretch/>
        </p:blipFill>
        <p:spPr>
          <a:xfrm>
            <a:off x="34920" y="333360"/>
            <a:ext cx="9099720" cy="568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752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10518103552179"/>
          <p:cNvPicPr/>
          <p:nvPr/>
        </p:nvPicPr>
        <p:blipFill>
          <a:blip r:embed="rId1"/>
          <a:stretch/>
        </p:blipFill>
        <p:spPr>
          <a:xfrm>
            <a:off x="34920" y="907920"/>
            <a:ext cx="9099720" cy="5689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4428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微软雅黑"/>
              </a:rPr>
              <a:t>环保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051810352787"/>
          <p:cNvPicPr/>
          <p:nvPr/>
        </p:nvPicPr>
        <p:blipFill>
          <a:blip r:embed="rId1"/>
          <a:stretch/>
        </p:blipFill>
        <p:spPr>
          <a:xfrm>
            <a:off x="34920" y="692280"/>
            <a:ext cx="9099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1:00:12Z</dcterms:created>
  <dc:creator>ppt宝藏</dc:creator>
  <dc:description/>
  <dc:language>en-US</dc:language>
  <cp:lastModifiedBy>yu wang</cp:lastModifiedBy>
  <cp:lastPrinted>1899-12-30T00:00:00Z</cp:lastPrinted>
  <dcterms:modified xsi:type="dcterms:W3CDTF">2015-08-03T12:19:00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