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7.jpeg" ContentType="image/jpeg"/>
  <Override PartName="/ppt/media/image126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84.jpeg" ContentType="image/jpeg"/>
  <Override PartName="/ppt/media/image104.jpeg" ContentType="image/jpeg"/>
  <Override PartName="/ppt/media/image4.jpeg" ContentType="image/jpeg"/>
  <Override PartName="/ppt/media/image105.jpeg" ContentType="image/jpeg"/>
  <Override PartName="/ppt/media/image26.jpeg" ContentType="image/jpeg"/>
  <Override PartName="/ppt/media/image85.jpeg" ContentType="image/jpeg"/>
  <Override PartName="/ppt/media/image5.jpeg" ContentType="image/jpeg"/>
  <Override PartName="/ppt/media/image97.jpeg" ContentType="image/jpeg"/>
  <Override PartName="/ppt/media/image38.jpeg" ContentType="image/jpeg"/>
  <Override PartName="/ppt/media/image108.jpeg" ContentType="image/jpeg"/>
  <Override PartName="/ppt/media/image12.jpeg" ContentType="image/jpeg"/>
  <Override PartName="/ppt/media/image29.jpeg" ContentType="image/jpeg"/>
  <Override PartName="/ppt/media/image88.jpeg" ContentType="image/jpeg"/>
  <Override PartName="/ppt/media/image52.jpeg" ContentType="image/jpeg"/>
  <Override PartName="/ppt/media/image106.jpeg" ContentType="image/jpeg"/>
  <Override PartName="/ppt/media/image86.jpeg" ContentType="image/jpeg"/>
  <Override PartName="/ppt/media/image27.jpeg" ContentType="image/jpeg"/>
  <Override PartName="/ppt/media/image10.jpeg" ContentType="image/jpeg"/>
  <Override PartName="/ppt/media/image50.jpeg" ContentType="image/jpeg"/>
  <Override PartName="/ppt/media/image24.jpeg" ContentType="image/jpeg"/>
  <Override PartName="/ppt/media/image83.jpeg" ContentType="image/jpeg"/>
  <Override PartName="/ppt/media/image103.jpeg" ContentType="image/jpeg"/>
  <Override PartName="/ppt/media/image98.jpeg" ContentType="image/jpeg"/>
  <Override PartName="/ppt/media/image39.jpeg" ContentType="image/jpeg"/>
  <Override PartName="/ppt/media/image8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6.jpeg" ContentType="image/jpeg"/>
  <Override PartName="/ppt/media/image128.jpeg" ContentType="image/jpeg"/>
  <Override PartName="/ppt/media/image55.jpeg" ContentType="image/jpeg"/>
  <Override PartName="/ppt/media/image7.jpeg" ContentType="image/jpeg"/>
  <Override PartName="/ppt/media/image129.jpeg" ContentType="image/jpeg"/>
  <Override PartName="/ppt/media/image56.jpeg" ContentType="image/jpeg"/>
  <Override PartName="/ppt/media/image87.jpeg" ContentType="image/jpeg"/>
  <Override PartName="/ppt/media/image28.jpeg" ContentType="image/jpeg"/>
  <Override PartName="/ppt/media/image107.jpeg" ContentType="image/jpeg"/>
  <Override PartName="/ppt/media/image11.jpeg" ContentType="image/jpeg"/>
  <Override PartName="/ppt/media/image57.jpeg" ContentType="image/jpeg"/>
  <Override PartName="/ppt/media/image58.jpeg" ContentType="image/jpeg"/>
  <Override PartName="/ppt/media/image42.jpeg" ContentType="image/jpeg"/>
  <Override PartName="/ppt/media/image59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51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40.jpeg" ContentType="image/jpeg"/>
  <Override PartName="/ppt/media/image13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82.jpeg" ContentType="image/jpeg"/>
  <Override PartName="/ppt/media/image102.jpeg" ContentType="image/jpeg"/>
  <Override PartName="/ppt/media/image119.jpeg" ContentType="image/jpeg"/>
  <Override PartName="/ppt/media/image35.jpeg" ContentType="image/jpeg"/>
  <Override PartName="/ppt/media/image1.jpeg" ContentType="image/jpeg"/>
  <Override PartName="/ppt/media/image89.jpeg" ContentType="image/jpeg"/>
  <Override PartName="/ppt/media/image22.jpeg" ContentType="image/jpeg"/>
  <Override PartName="/ppt/media/image81.jpeg" ContentType="image/jpeg"/>
  <Override PartName="/ppt/media/image101.jpeg" ContentType="image/jpeg"/>
  <Override PartName="/ppt/media/image118.jpeg" ContentType="image/jpeg"/>
  <Override PartName="/ppt/media/image41.jpeg" ContentType="image/jpeg"/>
  <Override PartName="/ppt/media/image120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09.jpeg" ContentType="image/jpeg"/>
  <Override PartName="/ppt/media/image20.jpeg" ContentType="image/jpeg"/>
  <Override PartName="/ppt/media/image116.jpeg" ContentType="image/jpeg"/>
  <Override PartName="/ppt/media/image21.jpeg" ContentType="image/jpeg"/>
  <Override PartName="/ppt/media/image80.jpeg" ContentType="image/jpeg"/>
  <Override PartName="/ppt/media/image100.jpeg" ContentType="image/jpeg"/>
  <Override PartName="/ppt/media/image117.jpeg" ContentType="image/jpeg"/>
  <Override PartName="/ppt/media/image60.jpeg" ContentType="image/jpeg"/>
  <Override PartName="/ppt/media/image77.jpeg" ContentType="image/jpeg"/>
  <Override PartName="/ppt/media/image61.jpeg" ContentType="image/jpeg"/>
  <Override PartName="/ppt/media/image78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64.jpeg" ContentType="image/jpeg"/>
  <Override PartName="/ppt/media/image65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0.jpeg" ContentType="image/jpeg"/>
  <Override PartName="/ppt/media/image71.jpeg" ContentType="image/jpeg"/>
  <Override PartName="/ppt/media/image72.jpeg" ContentType="image/jpeg"/>
  <Override PartName="/ppt/media/image73.jpeg" ContentType="image/jpeg"/>
  <Override PartName="/ppt/media/image74.jpeg" ContentType="image/jpeg"/>
  <Override PartName="/ppt/media/image75.jpeg" ContentType="image/jpeg"/>
  <Override PartName="/ppt/media/image76.jpeg" ContentType="image/jpeg"/>
  <Override PartName="/ppt/media/image17.jpeg" ContentType="image/jpeg"/>
  <Override PartName="/ppt/media/image90.jpeg" ContentType="image/jpeg"/>
  <Override PartName="/ppt/media/image110.jpeg" ContentType="image/jpeg"/>
  <Override PartName="/ppt/media/image18.jpeg" ContentType="image/jpeg"/>
  <Override PartName="/ppt/media/image91.jpeg" ContentType="image/jpeg"/>
  <Override PartName="/ppt/media/image111.jpeg" ContentType="image/jpeg"/>
  <Override PartName="/ppt/media/image19.jpeg" ContentType="image/jpeg"/>
  <Override PartName="/ppt/media/image92.jpeg" ContentType="image/jpeg"/>
  <Override PartName="/ppt/media/image112.jpeg" ContentType="image/jpeg"/>
  <Override PartName="/ppt/media/image93.jpeg" ContentType="image/jpeg"/>
  <Override PartName="/ppt/media/image94.jpeg" ContentType="image/jpeg"/>
  <Override PartName="/ppt/media/image95.jpeg" ContentType="image/jpeg"/>
  <Override PartName="/ppt/media/image96.jpeg" ContentType="image/jpeg"/>
  <Override PartName="/ppt/media/image99.jpeg" ContentType="image/jpeg"/>
  <Override PartName="/ppt/media/image113.jpeg" ContentType="image/jpeg"/>
  <Override PartName="/ppt/media/image114.jpeg" ContentType="image/jpeg"/>
  <Override PartName="/ppt/media/image115.jpeg" ContentType="image/jpeg"/>
  <Override PartName="/ppt/media/image121.jpeg" ContentType="image/jpeg"/>
  <Override PartName="/ppt/media/image122.jpeg" ContentType="image/jpeg"/>
  <Override PartName="/ppt/media/image123.jpeg" ContentType="image/jpeg"/>
  <Override PartName="/ppt/media/image124.jpeg" ContentType="image/jpeg"/>
  <Override PartName="/ppt/media/image12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D5B7-A694-4B28-B806-A12EEB0FD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2B2C-BC36-451C-9506-950AF2891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3966-32EE-4D1B-8C10-AD5ADE972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EA56-CD40-446F-B035-57543BA67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6635F-51C6-4CC7-9105-5F71750D4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B70C8-69B0-4EC4-B52B-2F3B3EBC1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9259E-C0F1-4E84-9DE3-8187374C6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86AC7-41A8-48FB-8A41-1021E0E51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560E2-A83B-4EEB-A580-BCE874424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4108E-B0B5-4AB5-B87D-F9C2C1DF5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CA640-EF1F-4278-84D0-2D77E9A2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7EF1-4A35-4C7A-B503-4B4AC1926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B85FF-A379-4448-ADC4-EB6A0F70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93079-4E36-48DF-8987-FB76C9EA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BCCDD-F797-4498-A09E-0FDE4C27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E05FC-70A9-490A-ABA4-ED176E7BD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16220-813E-42AC-974B-26D7F75BB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B0F0-ABB0-4DDB-A2F2-29EDF5F01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1239-A9A7-4267-A8DE-B50A0AE2E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B19C-BBEB-45D1-9D64-D801870F5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5A03-2AAE-4F4C-BC74-B6EDE2AB6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286E-87BD-4407-A735-F7C62FC7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82E0-674A-40A2-815D-495C3263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07CF-6911-4FEF-944D-DB75CF38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E05CB4A-72FE-4FC1-B9B5-8B55311A7E25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60E28FC-4A7E-49D8-8F39-F0926B5F2DE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thetasgroup.com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thetasgroup.com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108.jpeg"/><Relationship Id="rId6" Type="http://schemas.openxmlformats.org/officeDocument/2006/relationships/image" Target="../media/image109.jpeg"/><Relationship Id="rId7" Type="http://schemas.openxmlformats.org/officeDocument/2006/relationships/image" Target="../media/image110.jpeg"/><Relationship Id="rId8" Type="http://schemas.openxmlformats.org/officeDocument/2006/relationships/image" Target="../media/image111.jpeg"/><Relationship Id="rId9" Type="http://schemas.openxmlformats.org/officeDocument/2006/relationships/image" Target="../media/image112.jpeg"/><Relationship Id="rId10" Type="http://schemas.openxmlformats.org/officeDocument/2006/relationships/image" Target="../media/image113.jpeg"/><Relationship Id="rId11" Type="http://schemas.openxmlformats.org/officeDocument/2006/relationships/image" Target="../media/image114.jpeg"/><Relationship Id="rId12" Type="http://schemas.openxmlformats.org/officeDocument/2006/relationships/image" Target="../media/image115.jpeg"/><Relationship Id="rId13" Type="http://schemas.openxmlformats.org/officeDocument/2006/relationships/image" Target="../media/image116.jpeg"/><Relationship Id="rId14" Type="http://schemas.openxmlformats.org/officeDocument/2006/relationships/image" Target="../media/image117.jpeg"/><Relationship Id="rId15" Type="http://schemas.openxmlformats.org/officeDocument/2006/relationships/image" Target="../media/image118.jpeg"/><Relationship Id="rId16" Type="http://schemas.openxmlformats.org/officeDocument/2006/relationships/image" Target="../media/image119.jpeg"/><Relationship Id="rId17" Type="http://schemas.openxmlformats.org/officeDocument/2006/relationships/image" Target="../media/image120.jpeg"/><Relationship Id="rId18" Type="http://schemas.openxmlformats.org/officeDocument/2006/relationships/image" Target="../media/image121.jpeg"/><Relationship Id="rId19" Type="http://schemas.openxmlformats.org/officeDocument/2006/relationships/image" Target="../media/image122.jpeg"/><Relationship Id="rId20" Type="http://schemas.openxmlformats.org/officeDocument/2006/relationships/image" Target="../media/image123.jpeg"/><Relationship Id="rId21" Type="http://schemas.openxmlformats.org/officeDocument/2006/relationships/hyperlink" Target="http://www.yanj.cn/" TargetMode="External"/><Relationship Id="rId2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4.jpeg"/><Relationship Id="rId2" Type="http://schemas.openxmlformats.org/officeDocument/2006/relationships/hyperlink" Target="http://www.thetasgroup.com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www.thetasgroup.com" TargetMode="External"/><Relationship Id="rId5" Type="http://schemas.openxmlformats.org/officeDocument/2006/relationships/image" Target="../media/image3.jpeg"/><Relationship Id="rId6" Type="http://schemas.openxmlformats.org/officeDocument/2006/relationships/image" Target="../media/image125.jpeg"/><Relationship Id="rId7" Type="http://schemas.openxmlformats.org/officeDocument/2006/relationships/image" Target="../media/image126.jpeg"/><Relationship Id="rId8" Type="http://schemas.openxmlformats.org/officeDocument/2006/relationships/image" Target="../media/image127.jpeg"/><Relationship Id="rId9" Type="http://schemas.openxmlformats.org/officeDocument/2006/relationships/image" Target="../media/image128.jpeg"/><Relationship Id="rId10" Type="http://schemas.openxmlformats.org/officeDocument/2006/relationships/image" Target="../media/image129.jpeg"/><Relationship Id="rId11" Type="http://schemas.openxmlformats.org/officeDocument/2006/relationships/hyperlink" Target="http://www.yanj.cn/" TargetMode="External"/><Relationship Id="rId1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thetasgroup.com/?utm_source=SlideShare&amp;utm_medium=SlideShareCTA&amp;utm_campaign=SalesVelocityEquation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thetasgroup.com/?utm_source=SlideShare&amp;utm_medium=SlideShareCTA&amp;utm_campaign=SalesVelocityEquation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image" Target="../media/image11.jpeg"/><Relationship Id="rId13" Type="http://schemas.openxmlformats.org/officeDocument/2006/relationships/image" Target="../media/image12.jpeg"/><Relationship Id="rId14" Type="http://schemas.openxmlformats.org/officeDocument/2006/relationships/image" Target="../media/image13.jpeg"/><Relationship Id="rId15" Type="http://schemas.openxmlformats.org/officeDocument/2006/relationships/image" Target="../media/image14.jpeg"/><Relationship Id="rId16" Type="http://schemas.openxmlformats.org/officeDocument/2006/relationships/image" Target="../media/image15.jpeg"/><Relationship Id="rId17" Type="http://schemas.openxmlformats.org/officeDocument/2006/relationships/hyperlink" Target="http://www.yanj.cn/" TargetMode="External"/><Relationship Id="rId18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thetasgroup.com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thetasgroup.com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image" Target="../media/image22.jpeg"/><Relationship Id="rId12" Type="http://schemas.openxmlformats.org/officeDocument/2006/relationships/image" Target="../media/image23.jpeg"/><Relationship Id="rId13" Type="http://schemas.openxmlformats.org/officeDocument/2006/relationships/image" Target="../media/image24.jpeg"/><Relationship Id="rId14" Type="http://schemas.openxmlformats.org/officeDocument/2006/relationships/hyperlink" Target="http://www.yanj.cn/" TargetMode="External"/><Relationship Id="rId1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thetasgroup.com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thetasgroup.com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image" Target="../media/image30.jpeg"/><Relationship Id="rId11" Type="http://schemas.openxmlformats.org/officeDocument/2006/relationships/image" Target="../media/image31.jpeg"/><Relationship Id="rId12" Type="http://schemas.openxmlformats.org/officeDocument/2006/relationships/image" Target="../media/image32.jpeg"/><Relationship Id="rId13" Type="http://schemas.openxmlformats.org/officeDocument/2006/relationships/image" Target="../media/image33.jpeg"/><Relationship Id="rId14" Type="http://schemas.openxmlformats.org/officeDocument/2006/relationships/image" Target="../media/image34.jpeg"/><Relationship Id="rId15" Type="http://schemas.openxmlformats.org/officeDocument/2006/relationships/image" Target="../media/image35.jpeg"/><Relationship Id="rId16" Type="http://schemas.openxmlformats.org/officeDocument/2006/relationships/image" Target="../media/image36.jpeg"/><Relationship Id="rId17" Type="http://schemas.openxmlformats.org/officeDocument/2006/relationships/image" Target="../media/image37.jpeg"/><Relationship Id="rId18" Type="http://schemas.openxmlformats.org/officeDocument/2006/relationships/image" Target="../media/image38.jpeg"/><Relationship Id="rId19" Type="http://schemas.openxmlformats.org/officeDocument/2006/relationships/image" Target="../media/image39.jpeg"/><Relationship Id="rId20" Type="http://schemas.openxmlformats.org/officeDocument/2006/relationships/image" Target="../media/image40.jpeg"/><Relationship Id="rId21" Type="http://schemas.openxmlformats.org/officeDocument/2006/relationships/image" Target="../media/image41.jpeg"/><Relationship Id="rId22" Type="http://schemas.openxmlformats.org/officeDocument/2006/relationships/hyperlink" Target="https://twitter.com/intent/tweet?text=The+best+sales+reps+are+250+percent+better+at+qualifying+leads+@thetasgroup+http://tas.gr/EdyOA+" TargetMode="External"/><Relationship Id="rId23" Type="http://schemas.openxmlformats.org/officeDocument/2006/relationships/image" Target="../media/image42.jpeg"/><Relationship Id="rId24" Type="http://schemas.openxmlformats.org/officeDocument/2006/relationships/hyperlink" Target="http://www.yanj.cn/" TargetMode="External"/><Relationship Id="rId2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hyperlink" Target="http://www.thetasgroup.com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www.thetasgroup.com" TargetMode="External"/><Relationship Id="rId5" Type="http://schemas.openxmlformats.org/officeDocument/2006/relationships/image" Target="../media/image3.jpeg"/><Relationship Id="rId6" Type="http://schemas.openxmlformats.org/officeDocument/2006/relationships/image" Target="../media/image44.jpeg"/><Relationship Id="rId7" Type="http://schemas.openxmlformats.org/officeDocument/2006/relationships/image" Target="../media/image45.jpeg"/><Relationship Id="rId8" Type="http://schemas.openxmlformats.org/officeDocument/2006/relationships/image" Target="../media/image46.jpeg"/><Relationship Id="rId9" Type="http://schemas.openxmlformats.org/officeDocument/2006/relationships/image" Target="../media/image47.jpeg"/><Relationship Id="rId10" Type="http://schemas.openxmlformats.org/officeDocument/2006/relationships/image" Target="../media/image48.jpeg"/><Relationship Id="rId11" Type="http://schemas.openxmlformats.org/officeDocument/2006/relationships/image" Target="../media/image49.jpeg"/><Relationship Id="rId12" Type="http://schemas.openxmlformats.org/officeDocument/2006/relationships/image" Target="../media/image50.jpeg"/><Relationship Id="rId13" Type="http://schemas.openxmlformats.org/officeDocument/2006/relationships/image" Target="../media/image51.jpeg"/><Relationship Id="rId14" Type="http://schemas.openxmlformats.org/officeDocument/2006/relationships/image" Target="../media/image52.jpeg"/><Relationship Id="rId15" Type="http://schemas.openxmlformats.org/officeDocument/2006/relationships/image" Target="../media/image53.jpeg"/><Relationship Id="rId16" Type="http://schemas.openxmlformats.org/officeDocument/2006/relationships/image" Target="../media/image54.jpeg"/><Relationship Id="rId17" Type="http://schemas.openxmlformats.org/officeDocument/2006/relationships/image" Target="../media/image55.jpeg"/><Relationship Id="rId18" Type="http://schemas.openxmlformats.org/officeDocument/2006/relationships/image" Target="../media/image56.jpeg"/><Relationship Id="rId19" Type="http://schemas.openxmlformats.org/officeDocument/2006/relationships/hyperlink" Target="https://twitter.com/intent/tweet?text=40+percent+of+all+salespeople+can&apos;t+understand+customer+pain+@thetasgroup+http://tas.gr/EdyOA+" TargetMode="External"/><Relationship Id="rId20" Type="http://schemas.openxmlformats.org/officeDocument/2006/relationships/image" Target="../media/image57.jpeg"/><Relationship Id="rId21" Type="http://schemas.openxmlformats.org/officeDocument/2006/relationships/hyperlink" Target="http://www.yanj.cn/" TargetMode="External"/><Relationship Id="rId2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hetasgroup.co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image" Target="../media/image60.jpeg"/><Relationship Id="rId6" Type="http://schemas.openxmlformats.org/officeDocument/2006/relationships/image" Target="../media/image61.jpeg"/><Relationship Id="rId7" Type="http://schemas.openxmlformats.org/officeDocument/2006/relationships/image" Target="../media/image62.jpeg"/><Relationship Id="rId8" Type="http://schemas.openxmlformats.org/officeDocument/2006/relationships/image" Target="../media/image63.jpeg"/><Relationship Id="rId9" Type="http://schemas.openxmlformats.org/officeDocument/2006/relationships/image" Target="../media/image64.jpeg"/><Relationship Id="rId10" Type="http://schemas.openxmlformats.org/officeDocument/2006/relationships/image" Target="../media/image65.jpeg"/><Relationship Id="rId11" Type="http://schemas.openxmlformats.org/officeDocument/2006/relationships/image" Target="../media/image66.jpeg"/><Relationship Id="rId12" Type="http://schemas.openxmlformats.org/officeDocument/2006/relationships/image" Target="../media/image67.jpeg"/><Relationship Id="rId13" Type="http://schemas.openxmlformats.org/officeDocument/2006/relationships/image" Target="../media/image68.jpeg"/><Relationship Id="rId14" Type="http://schemas.openxmlformats.org/officeDocument/2006/relationships/image" Target="../media/image69.jpeg"/><Relationship Id="rId15" Type="http://schemas.openxmlformats.org/officeDocument/2006/relationships/hyperlink" Target="http://www.thetasgroup.com" TargetMode="External"/><Relationship Id="rId16" Type="http://schemas.openxmlformats.org/officeDocument/2006/relationships/image" Target="../media/image3.jpeg"/><Relationship Id="rId17" Type="http://schemas.openxmlformats.org/officeDocument/2006/relationships/hyperlink" Target="https://twitter.com/intent/tweet?text=Only+46+percent+of+reps+feel+their+pipeline+is+accurate+@thetasgroup+http://tas.gr/EdyOA+" TargetMode="External"/><Relationship Id="rId18" Type="http://schemas.openxmlformats.org/officeDocument/2006/relationships/image" Target="../media/image70.jpeg"/><Relationship Id="rId19" Type="http://schemas.openxmlformats.org/officeDocument/2006/relationships/hyperlink" Target="http://www.yanj.cn/" TargetMode="External"/><Relationship Id="rId20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thetasgroup.co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72.jpeg"/><Relationship Id="rId4" Type="http://schemas.openxmlformats.org/officeDocument/2006/relationships/image" Target="../media/image73.jpeg"/><Relationship Id="rId5" Type="http://schemas.openxmlformats.org/officeDocument/2006/relationships/image" Target="../media/image74.jpeg"/><Relationship Id="rId6" Type="http://schemas.openxmlformats.org/officeDocument/2006/relationships/hyperlink" Target="http://www.thetasgroup.com" TargetMode="External"/><Relationship Id="rId7" Type="http://schemas.openxmlformats.org/officeDocument/2006/relationships/image" Target="../media/image3.jpeg"/><Relationship Id="rId8" Type="http://schemas.openxmlformats.org/officeDocument/2006/relationships/image" Target="../media/image75.jpeg"/><Relationship Id="rId9" Type="http://schemas.openxmlformats.org/officeDocument/2006/relationships/image" Target="../media/image76.jpeg"/><Relationship Id="rId10" Type="http://schemas.openxmlformats.org/officeDocument/2006/relationships/image" Target="../media/image77.jpeg"/><Relationship Id="rId11" Type="http://schemas.openxmlformats.org/officeDocument/2006/relationships/image" Target="../media/image78.jpeg"/><Relationship Id="rId12" Type="http://schemas.openxmlformats.org/officeDocument/2006/relationships/image" Target="../media/image79.jpeg"/><Relationship Id="rId13" Type="http://schemas.openxmlformats.org/officeDocument/2006/relationships/image" Target="../media/image80.jpeg"/><Relationship Id="rId14" Type="http://schemas.openxmlformats.org/officeDocument/2006/relationships/image" Target="../media/image81.jpeg"/><Relationship Id="rId15" Type="http://schemas.openxmlformats.org/officeDocument/2006/relationships/image" Target="../media/image82.jpeg"/><Relationship Id="rId16" Type="http://schemas.openxmlformats.org/officeDocument/2006/relationships/image" Target="../media/image83.jpeg"/><Relationship Id="rId17" Type="http://schemas.openxmlformats.org/officeDocument/2006/relationships/image" Target="../media/image84.jpeg"/><Relationship Id="rId18" Type="http://schemas.openxmlformats.org/officeDocument/2006/relationships/image" Target="../media/image85.jpeg"/><Relationship Id="rId19" Type="http://schemas.openxmlformats.org/officeDocument/2006/relationships/image" Target="../media/image86.jpeg"/><Relationship Id="rId20" Type="http://schemas.openxmlformats.org/officeDocument/2006/relationships/hyperlink" Target="https://twitter.com/intent/tweet?text=Only+52+percent+of+salespeople+can+access+key+players+@thetasgroup+http://tas.gr/EdyOA+" TargetMode="External"/><Relationship Id="rId21" Type="http://schemas.openxmlformats.org/officeDocument/2006/relationships/image" Target="../media/image87.jpeg"/><Relationship Id="rId22" Type="http://schemas.openxmlformats.org/officeDocument/2006/relationships/hyperlink" Target="http://www.yanj.cn/" TargetMode="External"/><Relationship Id="rId2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hyperlink" Target="http://www.thetasgroup.com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www.thetasgroup.com" TargetMode="External"/><Relationship Id="rId5" Type="http://schemas.openxmlformats.org/officeDocument/2006/relationships/image" Target="../media/image3.jpeg"/><Relationship Id="rId6" Type="http://schemas.openxmlformats.org/officeDocument/2006/relationships/image" Target="../media/image89.jpeg"/><Relationship Id="rId7" Type="http://schemas.openxmlformats.org/officeDocument/2006/relationships/image" Target="../media/image90.jpeg"/><Relationship Id="rId8" Type="http://schemas.openxmlformats.org/officeDocument/2006/relationships/image" Target="../media/image91.jpeg"/><Relationship Id="rId9" Type="http://schemas.openxmlformats.org/officeDocument/2006/relationships/image" Target="../media/image92.jpeg"/><Relationship Id="rId10" Type="http://schemas.openxmlformats.org/officeDocument/2006/relationships/image" Target="../media/image93.jpeg"/><Relationship Id="rId11" Type="http://schemas.openxmlformats.org/officeDocument/2006/relationships/image" Target="../media/image94.jpeg"/><Relationship Id="rId12" Type="http://schemas.openxmlformats.org/officeDocument/2006/relationships/image" Target="../media/image95.jpeg"/><Relationship Id="rId13" Type="http://schemas.openxmlformats.org/officeDocument/2006/relationships/image" Target="../media/image96.jpeg"/><Relationship Id="rId14" Type="http://schemas.openxmlformats.org/officeDocument/2006/relationships/image" Target="../media/image97.jpeg"/><Relationship Id="rId15" Type="http://schemas.openxmlformats.org/officeDocument/2006/relationships/image" Target="../media/image98.jpeg"/><Relationship Id="rId16" Type="http://schemas.openxmlformats.org/officeDocument/2006/relationships/image" Target="../media/image99.jpeg"/><Relationship Id="rId17" Type="http://schemas.openxmlformats.org/officeDocument/2006/relationships/image" Target="../media/image100.jpeg"/><Relationship Id="rId18" Type="http://schemas.openxmlformats.org/officeDocument/2006/relationships/image" Target="../media/image101.jpeg"/><Relationship Id="rId19" Type="http://schemas.openxmlformats.org/officeDocument/2006/relationships/image" Target="../media/image102.jpeg"/><Relationship Id="rId20" Type="http://schemas.openxmlformats.org/officeDocument/2006/relationships/image" Target="../media/image103.jpeg"/><Relationship Id="rId21" Type="http://schemas.openxmlformats.org/officeDocument/2006/relationships/image" Target="../media/image104.jpeg"/><Relationship Id="rId22" Type="http://schemas.openxmlformats.org/officeDocument/2006/relationships/image" Target="../media/image105.jpeg"/><Relationship Id="rId23" Type="http://schemas.openxmlformats.org/officeDocument/2006/relationships/image" Target="../media/image106.jpeg"/><Relationship Id="rId24" Type="http://schemas.openxmlformats.org/officeDocument/2006/relationships/hyperlink" Target="https://twitter.com/intent/tweet?text=Align+sales+and+marketing+to+add+25+percent+quota+achievement+and+15+percent+win+rate+@thetasgroup+http://tas.gr/EdyOA+" TargetMode="External"/><Relationship Id="rId25" Type="http://schemas.openxmlformats.org/officeDocument/2006/relationships/image" Target="../media/image107.jpeg"/><Relationship Id="rId26" Type="http://schemas.openxmlformats.org/officeDocument/2006/relationships/hyperlink" Target="http://www.yanj.cn/" TargetMode="External"/><Relationship Id="rId27" Type="http://schemas.openxmlformats.org/officeDocument/2006/relationships/hyperlink" Target="http://www.eeppt.com" TargetMode="External"/><Relationship Id="rId28" Type="http://schemas.openxmlformats.org/officeDocument/2006/relationships/hyperlink" Target="http://www.eeppt.com" TargetMode="External"/><Relationship Id="rId2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83" name="矩形 2">
            <a:hlinkClick r:id="rId2"/>
          </p:cNvPr>
          <p:cNvSpPr/>
          <p:nvPr/>
        </p:nvSpPr>
        <p:spPr>
          <a:xfrm>
            <a:off x="526680" y="0"/>
            <a:ext cx="828072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59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矩形 1"/>
          <p:cNvSpPr/>
          <p:nvPr/>
        </p:nvSpPr>
        <p:spPr>
          <a:xfrm>
            <a:off x="1774800" y="228600"/>
            <a:ext cx="51562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创意欧式设计的商务图表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Freeform 3"/>
          <p:cNvSpPr/>
          <p:nvPr/>
        </p:nvSpPr>
        <p:spPr>
          <a:xfrm>
            <a:off x="216000" y="6539040"/>
            <a:ext cx="88200" cy="88920"/>
          </a:xfrm>
          <a:custGeom>
            <a:avLst/>
            <a:gdLst>
              <a:gd name="textAreaLeft" fmla="*/ 0 w 88200"/>
              <a:gd name="textAreaRight" fmla="*/ 88560 w 8820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88595" h="89458">
                <a:moveTo>
                  <a:pt x="0" y="89458"/>
                </a:moveTo>
                <a:lnTo>
                  <a:pt x="43395" y="0"/>
                </a:lnTo>
                <a:lnTo>
                  <a:pt x="88595" y="89458"/>
                </a:lnTo>
                <a:lnTo>
                  <a:pt x="71056" y="89458"/>
                </a:lnTo>
                <a:lnTo>
                  <a:pt x="44297" y="30874"/>
                </a:lnTo>
                <a:lnTo>
                  <a:pt x="17386" y="89458"/>
                </a:lnTo>
                <a:lnTo>
                  <a:pt x="0" y="89458"/>
                </a:lnTo>
              </a:path>
            </a:pathLst>
          </a:custGeom>
          <a:solidFill>
            <a:srgbClr val="80808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4280" bIns="44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2" name="Freeform 3"/>
          <p:cNvSpPr/>
          <p:nvPr/>
        </p:nvSpPr>
        <p:spPr>
          <a:xfrm>
            <a:off x="237600" y="6595200"/>
            <a:ext cx="47520" cy="10800"/>
          </a:xfrm>
          <a:custGeom>
            <a:avLst/>
            <a:gdLst>
              <a:gd name="textAreaLeft" fmla="*/ 0 w 47520"/>
              <a:gd name="textAreaRight" fmla="*/ 47880 w 4752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47980" h="11138">
                <a:moveTo>
                  <a:pt x="0" y="5568"/>
                </a:moveTo>
                <a:lnTo>
                  <a:pt x="47980" y="5568"/>
                </a:lnTo>
              </a:path>
            </a:pathLst>
          </a:custGeom>
          <a:noFill/>
          <a:ln w="0">
            <a:solidFill>
              <a:srgbClr val="808080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3840" bIns="-33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Freeform 3"/>
          <p:cNvSpPr/>
          <p:nvPr/>
        </p:nvSpPr>
        <p:spPr>
          <a:xfrm>
            <a:off x="164520" y="6539040"/>
            <a:ext cx="61920" cy="88920"/>
          </a:xfrm>
          <a:custGeom>
            <a:avLst/>
            <a:gdLst>
              <a:gd name="textAreaLeft" fmla="*/ 0 w 61920"/>
              <a:gd name="textAreaRight" fmla="*/ 62280 w 6192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62141" h="89434">
                <a:moveTo>
                  <a:pt x="0" y="0"/>
                </a:moveTo>
                <a:lnTo>
                  <a:pt x="0" y="16357"/>
                </a:lnTo>
                <a:lnTo>
                  <a:pt x="22263" y="16357"/>
                </a:lnTo>
                <a:lnTo>
                  <a:pt x="22263" y="89433"/>
                </a:lnTo>
                <a:lnTo>
                  <a:pt x="39700" y="89433"/>
                </a:lnTo>
                <a:lnTo>
                  <a:pt x="39700" y="16878"/>
                </a:lnTo>
                <a:lnTo>
                  <a:pt x="62141" y="16878"/>
                </a:lnTo>
                <a:lnTo>
                  <a:pt x="62141" y="0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4280" bIns="44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4" name="Freeform 3"/>
          <p:cNvSpPr/>
          <p:nvPr/>
        </p:nvSpPr>
        <p:spPr>
          <a:xfrm>
            <a:off x="307080" y="6538320"/>
            <a:ext cx="56520" cy="90720"/>
          </a:xfrm>
          <a:custGeom>
            <a:avLst/>
            <a:gdLst>
              <a:gd name="textAreaLeft" fmla="*/ 0 w 56520"/>
              <a:gd name="textAreaRight" fmla="*/ 56880 w 56520"/>
              <a:gd name="textAreaTop" fmla="*/ 0 h 90720"/>
              <a:gd name="textAreaBottom" fmla="*/ 91080 h 90720"/>
            </a:gdLst>
            <a:ahLst/>
            <a:rect l="textAreaLeft" t="textAreaTop" r="textAreaRight" b="textAreaBottom"/>
            <a:pathLst>
              <a:path w="56959" h="90995">
                <a:moveTo>
                  <a:pt x="30873" y="36258"/>
                </a:moveTo>
                <a:cubicBezTo>
                  <a:pt x="45440" y="40919"/>
                  <a:pt x="58064" y="46456"/>
                  <a:pt x="56959" y="66459"/>
                </a:cubicBezTo>
                <a:cubicBezTo>
                  <a:pt x="56095" y="82219"/>
                  <a:pt x="42722" y="92316"/>
                  <a:pt x="24117" y="90995"/>
                </a:cubicBezTo>
                <a:cubicBezTo>
                  <a:pt x="12750" y="90182"/>
                  <a:pt x="6324" y="84429"/>
                  <a:pt x="0" y="77723"/>
                </a:cubicBezTo>
                <a:cubicBezTo>
                  <a:pt x="3581" y="73367"/>
                  <a:pt x="7556" y="69367"/>
                  <a:pt x="11722" y="65582"/>
                </a:cubicBezTo>
                <a:cubicBezTo>
                  <a:pt x="14960" y="70345"/>
                  <a:pt x="20891" y="75615"/>
                  <a:pt x="29133" y="74917"/>
                </a:cubicBezTo>
                <a:cubicBezTo>
                  <a:pt x="34925" y="74434"/>
                  <a:pt x="41821" y="68795"/>
                  <a:pt x="38696" y="61239"/>
                </a:cubicBezTo>
                <a:cubicBezTo>
                  <a:pt x="36360" y="55588"/>
                  <a:pt x="27304" y="53327"/>
                  <a:pt x="21081" y="51041"/>
                </a:cubicBezTo>
                <a:cubicBezTo>
                  <a:pt x="9855" y="46863"/>
                  <a:pt x="266" y="41097"/>
                  <a:pt x="1511" y="23659"/>
                </a:cubicBezTo>
                <a:cubicBezTo>
                  <a:pt x="2514" y="9690"/>
                  <a:pt x="13830" y="927"/>
                  <a:pt x="28486" y="0"/>
                </a:cubicBezTo>
                <a:cubicBezTo>
                  <a:pt x="41490" y="-837"/>
                  <a:pt x="49072" y="4953"/>
                  <a:pt x="55422" y="11709"/>
                </a:cubicBezTo>
                <a:cubicBezTo>
                  <a:pt x="52298" y="16141"/>
                  <a:pt x="48425" y="19773"/>
                  <a:pt x="45224" y="24092"/>
                </a:cubicBezTo>
                <a:cubicBezTo>
                  <a:pt x="41871" y="21425"/>
                  <a:pt x="37934" y="17043"/>
                  <a:pt x="31965" y="16281"/>
                </a:cubicBezTo>
                <a:cubicBezTo>
                  <a:pt x="23634" y="15227"/>
                  <a:pt x="17005" y="20269"/>
                  <a:pt x="19329" y="28879"/>
                </a:cubicBezTo>
                <a:cubicBezTo>
                  <a:pt x="20548" y="33363"/>
                  <a:pt x="26263" y="34785"/>
                  <a:pt x="30873" y="36258"/>
                </a:cubicBezTo>
              </a:path>
            </a:pathLst>
          </a:custGeom>
          <a:solidFill>
            <a:srgbClr val="80808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5" name="Freeform 3"/>
          <p:cNvSpPr/>
          <p:nvPr/>
        </p:nvSpPr>
        <p:spPr>
          <a:xfrm>
            <a:off x="393480" y="6538320"/>
            <a:ext cx="77400" cy="90720"/>
          </a:xfrm>
          <a:custGeom>
            <a:avLst/>
            <a:gdLst>
              <a:gd name="textAreaLeft" fmla="*/ 0 w 77400"/>
              <a:gd name="textAreaRight" fmla="*/ 77760 w 77400"/>
              <a:gd name="textAreaTop" fmla="*/ 0 h 90720"/>
              <a:gd name="textAreaBottom" fmla="*/ 91080 h 90720"/>
            </a:gdLst>
            <a:ahLst/>
            <a:rect l="textAreaLeft" t="textAreaTop" r="textAreaRight" b="textAreaBottom"/>
            <a:pathLst>
              <a:path w="77914" h="90992">
                <a:moveTo>
                  <a:pt x="77914" y="60350"/>
                </a:moveTo>
                <a:lnTo>
                  <a:pt x="77914" y="78244"/>
                </a:lnTo>
                <a:cubicBezTo>
                  <a:pt x="76987" y="81395"/>
                  <a:pt x="68516" y="85445"/>
                  <a:pt x="65443" y="86792"/>
                </a:cubicBezTo>
                <a:cubicBezTo>
                  <a:pt x="31889" y="101600"/>
                  <a:pt x="-3302" y="77470"/>
                  <a:pt x="0" y="39687"/>
                </a:cubicBezTo>
                <a:cubicBezTo>
                  <a:pt x="1879" y="18098"/>
                  <a:pt x="19786" y="1778"/>
                  <a:pt x="41313" y="0"/>
                </a:cubicBezTo>
                <a:cubicBezTo>
                  <a:pt x="57391" y="-1282"/>
                  <a:pt x="66484" y="4229"/>
                  <a:pt x="75945" y="10909"/>
                </a:cubicBezTo>
                <a:lnTo>
                  <a:pt x="71272" y="17526"/>
                </a:lnTo>
                <a:cubicBezTo>
                  <a:pt x="63906" y="13475"/>
                  <a:pt x="57835" y="8141"/>
                  <a:pt x="47536" y="7797"/>
                </a:cubicBezTo>
                <a:cubicBezTo>
                  <a:pt x="23291" y="7036"/>
                  <a:pt x="7429" y="26734"/>
                  <a:pt x="8978" y="47879"/>
                </a:cubicBezTo>
                <a:cubicBezTo>
                  <a:pt x="9867" y="60579"/>
                  <a:pt x="17170" y="71958"/>
                  <a:pt x="26898" y="77851"/>
                </a:cubicBezTo>
                <a:cubicBezTo>
                  <a:pt x="37871" y="84544"/>
                  <a:pt x="59829" y="84976"/>
                  <a:pt x="69341" y="74345"/>
                </a:cubicBezTo>
                <a:lnTo>
                  <a:pt x="69341" y="49822"/>
                </a:lnTo>
                <a:lnTo>
                  <a:pt x="40881" y="49822"/>
                </a:lnTo>
                <a:lnTo>
                  <a:pt x="43256" y="41656"/>
                </a:lnTo>
                <a:lnTo>
                  <a:pt x="77914" y="41656"/>
                </a:lnTo>
                <a:lnTo>
                  <a:pt x="77914" y="60350"/>
                </a:lnTo>
              </a:path>
            </a:pathLst>
          </a:custGeom>
          <a:solidFill>
            <a:srgbClr val="80808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6" name="Freeform 3"/>
          <p:cNvSpPr/>
          <p:nvPr/>
        </p:nvSpPr>
        <p:spPr>
          <a:xfrm>
            <a:off x="779040" y="6539040"/>
            <a:ext cx="6840" cy="11160"/>
          </a:xfrm>
          <a:custGeom>
            <a:avLst/>
            <a:gdLst>
              <a:gd name="textAreaLeft" fmla="*/ 0 w 6840"/>
              <a:gd name="textAreaRight" fmla="*/ 7200 w 68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7124" h="11696">
                <a:moveTo>
                  <a:pt x="4444" y="1663"/>
                </a:moveTo>
                <a:lnTo>
                  <a:pt x="4444" y="11696"/>
                </a:lnTo>
                <a:lnTo>
                  <a:pt x="2679" y="11696"/>
                </a:lnTo>
                <a:lnTo>
                  <a:pt x="2679" y="1663"/>
                </a:lnTo>
                <a:lnTo>
                  <a:pt x="0" y="1663"/>
                </a:lnTo>
                <a:lnTo>
                  <a:pt x="0" y="0"/>
                </a:lnTo>
                <a:lnTo>
                  <a:pt x="7124" y="0"/>
                </a:lnTo>
                <a:lnTo>
                  <a:pt x="7124" y="1663"/>
                </a:lnTo>
                <a:lnTo>
                  <a:pt x="4444" y="1663"/>
                </a:lnTo>
              </a:path>
            </a:pathLst>
          </a:custGeom>
          <a:solidFill>
            <a:srgbClr val="80808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3480" bIns="-33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7" name="Freeform 3"/>
          <p:cNvSpPr/>
          <p:nvPr/>
        </p:nvSpPr>
        <p:spPr>
          <a:xfrm>
            <a:off x="787320" y="6538320"/>
            <a:ext cx="12600" cy="12600"/>
          </a:xfrm>
          <a:custGeom>
            <a:avLst/>
            <a:gdLst>
              <a:gd name="textAreaLeft" fmla="*/ 0 w 12600"/>
              <a:gd name="textAreaRight" fmla="*/ 12960 w 1260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12839" h="13106">
                <a:moveTo>
                  <a:pt x="0" y="12572"/>
                </a:moveTo>
                <a:lnTo>
                  <a:pt x="2463" y="0"/>
                </a:lnTo>
                <a:lnTo>
                  <a:pt x="6477" y="9093"/>
                </a:lnTo>
                <a:lnTo>
                  <a:pt x="10629" y="0"/>
                </a:lnTo>
                <a:lnTo>
                  <a:pt x="12839" y="12572"/>
                </a:lnTo>
                <a:lnTo>
                  <a:pt x="11023" y="12572"/>
                </a:lnTo>
                <a:lnTo>
                  <a:pt x="9906" y="5512"/>
                </a:lnTo>
                <a:lnTo>
                  <a:pt x="6438" y="13106"/>
                </a:lnTo>
                <a:lnTo>
                  <a:pt x="3086" y="5512"/>
                </a:lnTo>
                <a:lnTo>
                  <a:pt x="1828" y="12572"/>
                </a:lnTo>
                <a:lnTo>
                  <a:pt x="0" y="12572"/>
                </a:lnTo>
              </a:path>
            </a:pathLst>
          </a:custGeom>
          <a:solidFill>
            <a:srgbClr val="80808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2040" bIns="-320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8" name="Freeform 3"/>
          <p:cNvSpPr/>
          <p:nvPr/>
        </p:nvSpPr>
        <p:spPr>
          <a:xfrm>
            <a:off x="7284240" y="127080"/>
            <a:ext cx="1732320" cy="1732320"/>
          </a:xfrm>
          <a:custGeom>
            <a:avLst/>
            <a:gdLst>
              <a:gd name="textAreaLeft" fmla="*/ 0 w 1732320"/>
              <a:gd name="textAreaRight" fmla="*/ 1732680 w 1732320"/>
              <a:gd name="textAreaTop" fmla="*/ 0 h 1732320"/>
              <a:gd name="textAreaBottom" fmla="*/ 1732680 h 1732320"/>
            </a:gdLst>
            <a:ahLst/>
            <a:rect l="textAreaLeft" t="textAreaTop" r="textAreaRight" b="textAreaBottom"/>
            <a:pathLst>
              <a:path w="1732788" h="1732788">
                <a:moveTo>
                  <a:pt x="866394" y="1732788"/>
                </a:moveTo>
                <a:cubicBezTo>
                  <a:pt x="1344891" y="1732788"/>
                  <a:pt x="1732788" y="1344891"/>
                  <a:pt x="1732788" y="866394"/>
                </a:cubicBezTo>
                <a:cubicBezTo>
                  <a:pt x="1732788" y="387896"/>
                  <a:pt x="1344891" y="0"/>
                  <a:pt x="866394" y="0"/>
                </a:cubicBezTo>
                <a:cubicBezTo>
                  <a:pt x="387896" y="0"/>
                  <a:pt x="0" y="387896"/>
                  <a:pt x="0" y="866394"/>
                </a:cubicBezTo>
                <a:cubicBezTo>
                  <a:pt x="0" y="1344891"/>
                  <a:pt x="387896" y="1732788"/>
                  <a:pt x="866394" y="1732788"/>
                </a:cubicBezTo>
              </a:path>
            </a:pathLst>
          </a:custGeom>
          <a:solidFill>
            <a:srgbClr val="fccf38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9" name="Freeform 3"/>
          <p:cNvSpPr/>
          <p:nvPr/>
        </p:nvSpPr>
        <p:spPr>
          <a:xfrm>
            <a:off x="951120" y="191880"/>
            <a:ext cx="126720" cy="734760"/>
          </a:xfrm>
          <a:custGeom>
            <a:avLst/>
            <a:gdLst>
              <a:gd name="textAreaLeft" fmla="*/ 0 w 126720"/>
              <a:gd name="textAreaRight" fmla="*/ 127080 w 126720"/>
              <a:gd name="textAreaTop" fmla="*/ 0 h 734760"/>
              <a:gd name="textAreaBottom" fmla="*/ 735120 h 734760"/>
            </a:gdLst>
            <a:ahLst/>
            <a:rect l="textAreaLeft" t="textAreaTop" r="textAreaRight" b="textAreaBottom"/>
            <a:pathLst>
              <a:path w="127000" h="735228">
                <a:moveTo>
                  <a:pt x="31750" y="31750"/>
                </a:moveTo>
                <a:lnTo>
                  <a:pt x="31750" y="703478"/>
                </a:lnTo>
              </a:path>
            </a:pathLst>
          </a:custGeom>
          <a:noFill/>
          <a:ln w="63500">
            <a:solidFill>
              <a:srgbClr val="fccf38"/>
            </a:solidFill>
            <a:prstDash val="dash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Freeform 3"/>
          <p:cNvSpPr/>
          <p:nvPr/>
        </p:nvSpPr>
        <p:spPr>
          <a:xfrm>
            <a:off x="1143360" y="959760"/>
            <a:ext cx="5927040" cy="126720"/>
          </a:xfrm>
          <a:custGeom>
            <a:avLst/>
            <a:gdLst>
              <a:gd name="textAreaLeft" fmla="*/ 0 w 5927040"/>
              <a:gd name="textAreaRight" fmla="*/ 5927400 w 5927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5927255" h="127000">
                <a:moveTo>
                  <a:pt x="31750" y="31750"/>
                </a:moveTo>
                <a:lnTo>
                  <a:pt x="5895504" y="31750"/>
                </a:lnTo>
              </a:path>
            </a:pathLst>
          </a:custGeom>
          <a:noFill/>
          <a:ln w="63500">
            <a:solidFill>
              <a:srgbClr val="fccf38"/>
            </a:solidFill>
            <a:prstDash val="dash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Freeform 3"/>
          <p:cNvSpPr/>
          <p:nvPr/>
        </p:nvSpPr>
        <p:spPr>
          <a:xfrm>
            <a:off x="8118720" y="2141280"/>
            <a:ext cx="126720" cy="4654440"/>
          </a:xfrm>
          <a:custGeom>
            <a:avLst/>
            <a:gdLst>
              <a:gd name="textAreaLeft" fmla="*/ 0 w 126720"/>
              <a:gd name="textAreaRight" fmla="*/ 127080 w 126720"/>
              <a:gd name="textAreaTop" fmla="*/ 0 h 4654440"/>
              <a:gd name="textAreaBottom" fmla="*/ 4654800 h 4654440"/>
            </a:gdLst>
            <a:ahLst/>
            <a:rect l="textAreaLeft" t="textAreaTop" r="textAreaRight" b="textAreaBottom"/>
            <a:pathLst>
              <a:path w="127000" h="4654638">
                <a:moveTo>
                  <a:pt x="31750" y="31750"/>
                </a:moveTo>
                <a:lnTo>
                  <a:pt x="31750" y="4622888"/>
                </a:lnTo>
              </a:path>
            </a:pathLst>
          </a:custGeom>
          <a:noFill/>
          <a:ln w="63500">
            <a:solidFill>
              <a:srgbClr val="fccf38"/>
            </a:solidFill>
            <a:prstDash val="dash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Freeform 3"/>
          <p:cNvSpPr/>
          <p:nvPr/>
        </p:nvSpPr>
        <p:spPr>
          <a:xfrm>
            <a:off x="1017360" y="3597480"/>
            <a:ext cx="63720" cy="63720"/>
          </a:xfrm>
          <a:custGeom>
            <a:avLst/>
            <a:gdLst>
              <a:gd name="textAreaLeft" fmla="*/ 0 w 63720"/>
              <a:gd name="textAreaRight" fmla="*/ 64080 w 6372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64007" h="64007">
                <a:moveTo>
                  <a:pt x="32003" y="64008"/>
                </a:moveTo>
                <a:cubicBezTo>
                  <a:pt x="49682" y="64008"/>
                  <a:pt x="64008" y="49682"/>
                  <a:pt x="64008" y="32003"/>
                </a:cubicBezTo>
                <a:cubicBezTo>
                  <a:pt x="64008" y="14325"/>
                  <a:pt x="49682" y="0"/>
                  <a:pt x="32003" y="0"/>
                </a:cubicBezTo>
                <a:cubicBezTo>
                  <a:pt x="14325" y="0"/>
                  <a:pt x="0" y="14325"/>
                  <a:pt x="0" y="32003"/>
                </a:cubicBezTo>
                <a:cubicBezTo>
                  <a:pt x="0" y="49682"/>
                  <a:pt x="14325" y="64008"/>
                  <a:pt x="32003" y="64008"/>
                </a:cubicBezTo>
              </a:path>
            </a:pathLst>
          </a:custGeom>
          <a:solidFill>
            <a:srgbClr val="459ddc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3" name="Freeform 3"/>
          <p:cNvSpPr/>
          <p:nvPr/>
        </p:nvSpPr>
        <p:spPr>
          <a:xfrm>
            <a:off x="5765040" y="6011640"/>
            <a:ext cx="473400" cy="635760"/>
          </a:xfrm>
          <a:custGeom>
            <a:avLst/>
            <a:gdLst>
              <a:gd name="textAreaLeft" fmla="*/ 0 w 473400"/>
              <a:gd name="textAreaRight" fmla="*/ 473760 w 473400"/>
              <a:gd name="textAreaTop" fmla="*/ 0 h 635760"/>
              <a:gd name="textAreaBottom" fmla="*/ 636120 h 635760"/>
            </a:gdLst>
            <a:ahLst/>
            <a:rect l="textAreaLeft" t="textAreaTop" r="textAreaRight" b="textAreaBottom"/>
            <a:pathLst>
              <a:path w="473722" h="636142">
                <a:moveTo>
                  <a:pt x="473722" y="636142"/>
                </a:moveTo>
                <a:lnTo>
                  <a:pt x="0" y="636142"/>
                </a:lnTo>
                <a:lnTo>
                  <a:pt x="0" y="0"/>
                </a:lnTo>
                <a:lnTo>
                  <a:pt x="473722" y="0"/>
                </a:lnTo>
                <a:lnTo>
                  <a:pt x="473722" y="636142"/>
                </a:lnTo>
              </a:path>
            </a:pathLst>
          </a:custGeom>
          <a:solidFill>
            <a:srgbClr val="99331e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4" name="Freeform 3"/>
          <p:cNvSpPr/>
          <p:nvPr/>
        </p:nvSpPr>
        <p:spPr>
          <a:xfrm>
            <a:off x="5223600" y="579060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63" h="127">
                <a:moveTo>
                  <a:pt x="0" y="0"/>
                </a:moveTo>
                <a:cubicBezTo>
                  <a:pt x="25" y="37"/>
                  <a:pt x="50" y="88"/>
                  <a:pt x="63" y="126"/>
                </a:cubicBezTo>
                <a:cubicBezTo>
                  <a:pt x="50" y="88"/>
                  <a:pt x="25" y="37"/>
                  <a:pt x="0" y="0"/>
                </a:cubicBezTo>
              </a:path>
            </a:pathLst>
          </a:custGeom>
          <a:solidFill>
            <a:srgbClr val="99331e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5" name="Freeform 3"/>
          <p:cNvSpPr/>
          <p:nvPr/>
        </p:nvSpPr>
        <p:spPr>
          <a:xfrm>
            <a:off x="5222160" y="578772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190" h="343">
                <a:moveTo>
                  <a:pt x="0" y="0"/>
                </a:moveTo>
                <a:cubicBezTo>
                  <a:pt x="63" y="114"/>
                  <a:pt x="126" y="228"/>
                  <a:pt x="190" y="343"/>
                </a:cubicBezTo>
                <a:cubicBezTo>
                  <a:pt x="139" y="228"/>
                  <a:pt x="63" y="101"/>
                  <a:pt x="0" y="0"/>
                </a:cubicBezTo>
              </a:path>
            </a:pathLst>
          </a:custGeom>
          <a:solidFill>
            <a:srgbClr val="99331e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6" name="Freeform 3"/>
          <p:cNvSpPr/>
          <p:nvPr/>
        </p:nvSpPr>
        <p:spPr>
          <a:xfrm>
            <a:off x="5221440" y="578628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79" h="482">
                <a:moveTo>
                  <a:pt x="0" y="0"/>
                </a:moveTo>
                <a:cubicBezTo>
                  <a:pt x="88" y="165"/>
                  <a:pt x="177" y="330"/>
                  <a:pt x="279" y="482"/>
                </a:cubicBezTo>
                <a:cubicBezTo>
                  <a:pt x="177" y="317"/>
                  <a:pt x="101" y="177"/>
                  <a:pt x="0" y="0"/>
                </a:cubicBezTo>
              </a:path>
            </a:pathLst>
          </a:custGeom>
          <a:solidFill>
            <a:srgbClr val="99331e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7" name="Freeform 3"/>
          <p:cNvSpPr/>
          <p:nvPr/>
        </p:nvSpPr>
        <p:spPr>
          <a:xfrm>
            <a:off x="5220720" y="578484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431" h="761">
                <a:moveTo>
                  <a:pt x="0" y="0"/>
                </a:moveTo>
                <a:cubicBezTo>
                  <a:pt x="139" y="253"/>
                  <a:pt x="279" y="507"/>
                  <a:pt x="431" y="761"/>
                </a:cubicBezTo>
                <a:cubicBezTo>
                  <a:pt x="279" y="507"/>
                  <a:pt x="139" y="253"/>
                  <a:pt x="0" y="0"/>
                </a:cubicBezTo>
              </a:path>
            </a:pathLst>
          </a:custGeom>
          <a:solidFill>
            <a:srgbClr val="99331e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8" name="Freeform 3"/>
          <p:cNvSpPr/>
          <p:nvPr/>
        </p:nvSpPr>
        <p:spPr>
          <a:xfrm>
            <a:off x="5219640" y="578376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431" h="761">
                <a:moveTo>
                  <a:pt x="0" y="0"/>
                </a:moveTo>
                <a:cubicBezTo>
                  <a:pt x="152" y="253"/>
                  <a:pt x="292" y="507"/>
                  <a:pt x="431" y="761"/>
                </a:cubicBezTo>
                <a:cubicBezTo>
                  <a:pt x="292" y="507"/>
                  <a:pt x="152" y="253"/>
                  <a:pt x="0" y="0"/>
                </a:cubicBezTo>
              </a:path>
            </a:pathLst>
          </a:custGeom>
          <a:solidFill>
            <a:srgbClr val="99331e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9" name="Freeform 3"/>
          <p:cNvSpPr/>
          <p:nvPr/>
        </p:nvSpPr>
        <p:spPr>
          <a:xfrm>
            <a:off x="5218920" y="578232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431" h="761">
                <a:moveTo>
                  <a:pt x="0" y="0"/>
                </a:moveTo>
                <a:cubicBezTo>
                  <a:pt x="139" y="253"/>
                  <a:pt x="292" y="508"/>
                  <a:pt x="431" y="761"/>
                </a:cubicBezTo>
                <a:cubicBezTo>
                  <a:pt x="292" y="508"/>
                  <a:pt x="139" y="253"/>
                  <a:pt x="0" y="0"/>
                </a:cubicBezTo>
              </a:path>
            </a:pathLst>
          </a:custGeom>
          <a:solidFill>
            <a:srgbClr val="99331e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0" name="Freeform 3"/>
          <p:cNvSpPr/>
          <p:nvPr/>
        </p:nvSpPr>
        <p:spPr>
          <a:xfrm>
            <a:off x="5218200" y="5780880"/>
            <a:ext cx="360" cy="720"/>
          </a:xfrm>
          <a:custGeom>
            <a:avLst/>
            <a:gdLst>
              <a:gd name="textAreaLeft" fmla="*/ 0 w 360"/>
              <a:gd name="textAreaRight" fmla="*/ 720 w 360"/>
              <a:gd name="textAreaTop" fmla="*/ 0 h 720"/>
              <a:gd name="textAreaBottom" fmla="*/ 1080 h 720"/>
            </a:gdLst>
            <a:ahLst/>
            <a:rect l="textAreaLeft" t="textAreaTop" r="textAreaRight" b="textAreaBottom"/>
            <a:pathLst>
              <a:path w="647" h="1142">
                <a:moveTo>
                  <a:pt x="0" y="0"/>
                </a:moveTo>
                <a:cubicBezTo>
                  <a:pt x="215" y="380"/>
                  <a:pt x="431" y="761"/>
                  <a:pt x="648" y="1142"/>
                </a:cubicBezTo>
                <a:cubicBezTo>
                  <a:pt x="431" y="761"/>
                  <a:pt x="215" y="368"/>
                  <a:pt x="0" y="0"/>
                </a:cubicBezTo>
              </a:path>
            </a:pathLst>
          </a:custGeom>
          <a:solidFill>
            <a:srgbClr val="99331e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3920" bIns="-43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1" name="Freeform 3"/>
          <p:cNvSpPr/>
          <p:nvPr/>
        </p:nvSpPr>
        <p:spPr>
          <a:xfrm>
            <a:off x="5650560" y="5002200"/>
            <a:ext cx="487440" cy="466560"/>
          </a:xfrm>
          <a:custGeom>
            <a:avLst/>
            <a:gdLst>
              <a:gd name="textAreaLeft" fmla="*/ 0 w 487440"/>
              <a:gd name="textAreaRight" fmla="*/ 487800 w 487440"/>
              <a:gd name="textAreaTop" fmla="*/ 0 h 466560"/>
              <a:gd name="textAreaBottom" fmla="*/ 466920 h 466560"/>
            </a:gdLst>
            <a:ahLst/>
            <a:rect l="textAreaLeft" t="textAreaTop" r="textAreaRight" b="textAreaBottom"/>
            <a:pathLst>
              <a:path w="487845" h="466852">
                <a:moveTo>
                  <a:pt x="386740" y="466852"/>
                </a:moveTo>
                <a:cubicBezTo>
                  <a:pt x="383870" y="466852"/>
                  <a:pt x="381012" y="465975"/>
                  <a:pt x="378586" y="464210"/>
                </a:cubicBezTo>
                <a:lnTo>
                  <a:pt x="252145" y="372084"/>
                </a:lnTo>
                <a:cubicBezTo>
                  <a:pt x="249720" y="370332"/>
                  <a:pt x="246875" y="369404"/>
                  <a:pt x="243865" y="369404"/>
                </a:cubicBezTo>
                <a:cubicBezTo>
                  <a:pt x="240881" y="369404"/>
                  <a:pt x="238023" y="370332"/>
                  <a:pt x="235610" y="372097"/>
                </a:cubicBezTo>
                <a:lnTo>
                  <a:pt x="109156" y="463930"/>
                </a:lnTo>
                <a:cubicBezTo>
                  <a:pt x="106718" y="465696"/>
                  <a:pt x="103860" y="466572"/>
                  <a:pt x="101028" y="466572"/>
                </a:cubicBezTo>
                <a:cubicBezTo>
                  <a:pt x="98171" y="466572"/>
                  <a:pt x="95313" y="465696"/>
                  <a:pt x="92887" y="463918"/>
                </a:cubicBezTo>
                <a:cubicBezTo>
                  <a:pt x="88036" y="460400"/>
                  <a:pt x="86004" y="454164"/>
                  <a:pt x="87858" y="448449"/>
                </a:cubicBezTo>
                <a:lnTo>
                  <a:pt x="136144" y="300101"/>
                </a:lnTo>
                <a:cubicBezTo>
                  <a:pt x="137998" y="294385"/>
                  <a:pt x="136093" y="288797"/>
                  <a:pt x="131026" y="285102"/>
                </a:cubicBezTo>
                <a:lnTo>
                  <a:pt x="5092" y="194589"/>
                </a:lnTo>
                <a:cubicBezTo>
                  <a:pt x="215" y="191084"/>
                  <a:pt x="-1854" y="185102"/>
                  <a:pt x="0" y="179400"/>
                </a:cubicBezTo>
                <a:cubicBezTo>
                  <a:pt x="1841" y="173672"/>
                  <a:pt x="7162" y="170065"/>
                  <a:pt x="13170" y="170065"/>
                </a:cubicBezTo>
                <a:lnTo>
                  <a:pt x="169024" y="170065"/>
                </a:lnTo>
                <a:cubicBezTo>
                  <a:pt x="174815" y="170065"/>
                  <a:pt x="180454" y="165392"/>
                  <a:pt x="182410" y="159321"/>
                </a:cubicBezTo>
                <a:lnTo>
                  <a:pt x="223977" y="10045"/>
                </a:lnTo>
                <a:cubicBezTo>
                  <a:pt x="225831" y="4330"/>
                  <a:pt x="230390" y="0"/>
                  <a:pt x="230390" y="0"/>
                </a:cubicBezTo>
                <a:lnTo>
                  <a:pt x="230390" y="165"/>
                </a:lnTo>
                <a:cubicBezTo>
                  <a:pt x="243916" y="165"/>
                  <a:pt x="248437" y="4114"/>
                  <a:pt x="250278" y="9817"/>
                </a:cubicBezTo>
                <a:lnTo>
                  <a:pt x="301980" y="159499"/>
                </a:lnTo>
                <a:cubicBezTo>
                  <a:pt x="303961" y="165531"/>
                  <a:pt x="312813" y="170065"/>
                  <a:pt x="318732" y="170065"/>
                </a:cubicBezTo>
                <a:lnTo>
                  <a:pt x="474675" y="170065"/>
                </a:lnTo>
                <a:cubicBezTo>
                  <a:pt x="480682" y="170065"/>
                  <a:pt x="486003" y="173672"/>
                  <a:pt x="487845" y="179400"/>
                </a:cubicBezTo>
                <a:cubicBezTo>
                  <a:pt x="489686" y="185115"/>
                  <a:pt x="487629" y="191211"/>
                  <a:pt x="482752" y="194729"/>
                </a:cubicBezTo>
                <a:lnTo>
                  <a:pt x="356692" y="285229"/>
                </a:lnTo>
                <a:cubicBezTo>
                  <a:pt x="351764" y="288810"/>
                  <a:pt x="349758" y="294779"/>
                  <a:pt x="351625" y="300520"/>
                </a:cubicBezTo>
                <a:lnTo>
                  <a:pt x="399884" y="448741"/>
                </a:lnTo>
                <a:cubicBezTo>
                  <a:pt x="401751" y="454456"/>
                  <a:pt x="399732" y="460705"/>
                  <a:pt x="394855" y="464223"/>
                </a:cubicBezTo>
                <a:cubicBezTo>
                  <a:pt x="392442" y="465988"/>
                  <a:pt x="389585" y="466852"/>
                  <a:pt x="386740" y="466852"/>
                </a:cubicBezTo>
              </a:path>
            </a:pathLst>
          </a:custGeom>
          <a:solidFill>
            <a:srgbClr val="99331e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2" name="Freeform 3"/>
          <p:cNvSpPr/>
          <p:nvPr/>
        </p:nvSpPr>
        <p:spPr>
          <a:xfrm>
            <a:off x="5705640" y="5956200"/>
            <a:ext cx="473400" cy="635760"/>
          </a:xfrm>
          <a:custGeom>
            <a:avLst/>
            <a:gdLst>
              <a:gd name="textAreaLeft" fmla="*/ 0 w 473400"/>
              <a:gd name="textAreaRight" fmla="*/ 473760 w 473400"/>
              <a:gd name="textAreaTop" fmla="*/ 0 h 635760"/>
              <a:gd name="textAreaBottom" fmla="*/ 636120 h 635760"/>
            </a:gdLst>
            <a:ahLst/>
            <a:rect l="textAreaLeft" t="textAreaTop" r="textAreaRight" b="textAreaBottom"/>
            <a:pathLst>
              <a:path w="473722" h="636143">
                <a:moveTo>
                  <a:pt x="473722" y="636143"/>
                </a:moveTo>
                <a:lnTo>
                  <a:pt x="0" y="636143"/>
                </a:lnTo>
                <a:lnTo>
                  <a:pt x="0" y="0"/>
                </a:lnTo>
                <a:lnTo>
                  <a:pt x="473722" y="0"/>
                </a:lnTo>
                <a:lnTo>
                  <a:pt x="473722" y="636143"/>
                </a:lnTo>
              </a:path>
            </a:pathLst>
          </a:custGeom>
          <a:solidFill>
            <a:srgbClr val="cb4d2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3" name="Freeform 3"/>
          <p:cNvSpPr/>
          <p:nvPr/>
        </p:nvSpPr>
        <p:spPr>
          <a:xfrm>
            <a:off x="5240520" y="6463080"/>
            <a:ext cx="1416960" cy="399600"/>
          </a:xfrm>
          <a:custGeom>
            <a:avLst/>
            <a:gdLst>
              <a:gd name="textAreaLeft" fmla="*/ 0 w 1416960"/>
              <a:gd name="textAreaRight" fmla="*/ 1417320 w 1416960"/>
              <a:gd name="textAreaTop" fmla="*/ 0 h 399600"/>
              <a:gd name="textAreaBottom" fmla="*/ 399960 h 399600"/>
            </a:gdLst>
            <a:ahLst/>
            <a:rect l="textAreaLeft" t="textAreaTop" r="textAreaRight" b="textAreaBottom"/>
            <a:pathLst>
              <a:path w="1417370" h="400063">
                <a:moveTo>
                  <a:pt x="708685" y="0"/>
                </a:moveTo>
                <a:cubicBezTo>
                  <a:pt x="317284" y="0"/>
                  <a:pt x="0" y="102286"/>
                  <a:pt x="0" y="400063"/>
                </a:cubicBezTo>
                <a:lnTo>
                  <a:pt x="1417371" y="400063"/>
                </a:lnTo>
                <a:cubicBezTo>
                  <a:pt x="1417371" y="102286"/>
                  <a:pt x="1100086" y="0"/>
                  <a:pt x="708685" y="0"/>
                </a:cubicBezTo>
              </a:path>
            </a:pathLst>
          </a:custGeom>
          <a:solidFill>
            <a:srgbClr val="cb4d2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4" name="Freeform 3"/>
          <p:cNvSpPr/>
          <p:nvPr/>
        </p:nvSpPr>
        <p:spPr>
          <a:xfrm>
            <a:off x="5164200" y="573516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63" h="127">
                <a:moveTo>
                  <a:pt x="0" y="0"/>
                </a:moveTo>
                <a:cubicBezTo>
                  <a:pt x="25" y="37"/>
                  <a:pt x="50" y="88"/>
                  <a:pt x="63" y="126"/>
                </a:cubicBezTo>
                <a:cubicBezTo>
                  <a:pt x="50" y="88"/>
                  <a:pt x="25" y="37"/>
                  <a:pt x="0" y="0"/>
                </a:cubicBezTo>
              </a:path>
            </a:pathLst>
          </a:custGeom>
          <a:solidFill>
            <a:srgbClr val="e6e6e6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5" name="Freeform 3"/>
          <p:cNvSpPr/>
          <p:nvPr/>
        </p:nvSpPr>
        <p:spPr>
          <a:xfrm>
            <a:off x="5162760" y="573228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190" h="343">
                <a:moveTo>
                  <a:pt x="0" y="0"/>
                </a:moveTo>
                <a:cubicBezTo>
                  <a:pt x="63" y="114"/>
                  <a:pt x="127" y="228"/>
                  <a:pt x="190" y="343"/>
                </a:cubicBezTo>
                <a:cubicBezTo>
                  <a:pt x="139" y="228"/>
                  <a:pt x="63" y="101"/>
                  <a:pt x="0" y="0"/>
                </a:cubicBezTo>
              </a:path>
            </a:pathLst>
          </a:custGeom>
          <a:solidFill>
            <a:srgbClr val="e6e6e6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6" name="Freeform 3"/>
          <p:cNvSpPr/>
          <p:nvPr/>
        </p:nvSpPr>
        <p:spPr>
          <a:xfrm>
            <a:off x="5162040" y="573084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79" h="482">
                <a:moveTo>
                  <a:pt x="0" y="0"/>
                </a:moveTo>
                <a:cubicBezTo>
                  <a:pt x="88" y="165"/>
                  <a:pt x="177" y="330"/>
                  <a:pt x="279" y="482"/>
                </a:cubicBezTo>
                <a:cubicBezTo>
                  <a:pt x="177" y="317"/>
                  <a:pt x="101" y="177"/>
                  <a:pt x="0" y="0"/>
                </a:cubicBezTo>
              </a:path>
            </a:pathLst>
          </a:custGeom>
          <a:solidFill>
            <a:srgbClr val="e6e6e6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7" name="Freeform 3"/>
          <p:cNvSpPr/>
          <p:nvPr/>
        </p:nvSpPr>
        <p:spPr>
          <a:xfrm>
            <a:off x="5161320" y="572976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431" h="761">
                <a:moveTo>
                  <a:pt x="0" y="0"/>
                </a:moveTo>
                <a:cubicBezTo>
                  <a:pt x="139" y="253"/>
                  <a:pt x="279" y="507"/>
                  <a:pt x="431" y="761"/>
                </a:cubicBezTo>
                <a:cubicBezTo>
                  <a:pt x="279" y="507"/>
                  <a:pt x="139" y="253"/>
                  <a:pt x="0" y="0"/>
                </a:cubicBezTo>
              </a:path>
            </a:pathLst>
          </a:custGeom>
          <a:solidFill>
            <a:srgbClr val="e6e6e6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8" name="Freeform 3"/>
          <p:cNvSpPr/>
          <p:nvPr/>
        </p:nvSpPr>
        <p:spPr>
          <a:xfrm>
            <a:off x="5160240" y="572832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431" h="761">
                <a:moveTo>
                  <a:pt x="0" y="0"/>
                </a:moveTo>
                <a:cubicBezTo>
                  <a:pt x="152" y="253"/>
                  <a:pt x="291" y="508"/>
                  <a:pt x="431" y="761"/>
                </a:cubicBezTo>
                <a:cubicBezTo>
                  <a:pt x="291" y="508"/>
                  <a:pt x="152" y="253"/>
                  <a:pt x="0" y="0"/>
                </a:cubicBezTo>
              </a:path>
            </a:pathLst>
          </a:custGeom>
          <a:solidFill>
            <a:srgbClr val="e6e6e6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9" name="Freeform 3"/>
          <p:cNvSpPr/>
          <p:nvPr/>
        </p:nvSpPr>
        <p:spPr>
          <a:xfrm>
            <a:off x="5159520" y="572688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431" h="761">
                <a:moveTo>
                  <a:pt x="0" y="0"/>
                </a:moveTo>
                <a:cubicBezTo>
                  <a:pt x="139" y="253"/>
                  <a:pt x="292" y="508"/>
                  <a:pt x="431" y="761"/>
                </a:cubicBezTo>
                <a:cubicBezTo>
                  <a:pt x="292" y="508"/>
                  <a:pt x="139" y="253"/>
                  <a:pt x="0" y="0"/>
                </a:cubicBezTo>
              </a:path>
            </a:pathLst>
          </a:custGeom>
          <a:solidFill>
            <a:srgbClr val="e6e6e6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0" name="Freeform 3"/>
          <p:cNvSpPr/>
          <p:nvPr/>
        </p:nvSpPr>
        <p:spPr>
          <a:xfrm>
            <a:off x="5158800" y="5725440"/>
            <a:ext cx="360" cy="720"/>
          </a:xfrm>
          <a:custGeom>
            <a:avLst/>
            <a:gdLst>
              <a:gd name="textAreaLeft" fmla="*/ 0 w 360"/>
              <a:gd name="textAreaRight" fmla="*/ 720 w 360"/>
              <a:gd name="textAreaTop" fmla="*/ 0 h 720"/>
              <a:gd name="textAreaBottom" fmla="*/ 1080 h 720"/>
            </a:gdLst>
            <a:ahLst/>
            <a:rect l="textAreaLeft" t="textAreaTop" r="textAreaRight" b="textAreaBottom"/>
            <a:pathLst>
              <a:path w="647" h="1142">
                <a:moveTo>
                  <a:pt x="0" y="0"/>
                </a:moveTo>
                <a:cubicBezTo>
                  <a:pt x="215" y="380"/>
                  <a:pt x="431" y="761"/>
                  <a:pt x="647" y="1142"/>
                </a:cubicBezTo>
                <a:cubicBezTo>
                  <a:pt x="431" y="761"/>
                  <a:pt x="215" y="368"/>
                  <a:pt x="0" y="0"/>
                </a:cubicBezTo>
              </a:path>
            </a:pathLst>
          </a:custGeom>
          <a:solidFill>
            <a:srgbClr val="e6e6e6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3920" bIns="-43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1" name="Freeform 3"/>
          <p:cNvSpPr/>
          <p:nvPr/>
        </p:nvSpPr>
        <p:spPr>
          <a:xfrm>
            <a:off x="5705280" y="4947120"/>
            <a:ext cx="487440" cy="466560"/>
          </a:xfrm>
          <a:custGeom>
            <a:avLst/>
            <a:gdLst>
              <a:gd name="textAreaLeft" fmla="*/ 0 w 487440"/>
              <a:gd name="textAreaRight" fmla="*/ 487800 w 487440"/>
              <a:gd name="textAreaTop" fmla="*/ 0 h 466560"/>
              <a:gd name="textAreaBottom" fmla="*/ 466920 h 466560"/>
            </a:gdLst>
            <a:ahLst/>
            <a:rect l="textAreaLeft" t="textAreaTop" r="textAreaRight" b="textAreaBottom"/>
            <a:pathLst>
              <a:path w="487845" h="466851">
                <a:moveTo>
                  <a:pt x="386740" y="466851"/>
                </a:moveTo>
                <a:cubicBezTo>
                  <a:pt x="383870" y="466851"/>
                  <a:pt x="381012" y="465975"/>
                  <a:pt x="378586" y="464210"/>
                </a:cubicBezTo>
                <a:lnTo>
                  <a:pt x="252145" y="372084"/>
                </a:lnTo>
                <a:cubicBezTo>
                  <a:pt x="249720" y="370331"/>
                  <a:pt x="246875" y="369404"/>
                  <a:pt x="243865" y="369404"/>
                </a:cubicBezTo>
                <a:cubicBezTo>
                  <a:pt x="240881" y="369404"/>
                  <a:pt x="238023" y="370331"/>
                  <a:pt x="235610" y="372097"/>
                </a:cubicBezTo>
                <a:lnTo>
                  <a:pt x="109156" y="463930"/>
                </a:lnTo>
                <a:cubicBezTo>
                  <a:pt x="106718" y="465695"/>
                  <a:pt x="103860" y="466572"/>
                  <a:pt x="101028" y="466572"/>
                </a:cubicBezTo>
                <a:cubicBezTo>
                  <a:pt x="98171" y="466572"/>
                  <a:pt x="95313" y="465695"/>
                  <a:pt x="92887" y="463918"/>
                </a:cubicBezTo>
                <a:cubicBezTo>
                  <a:pt x="88036" y="460400"/>
                  <a:pt x="86004" y="454164"/>
                  <a:pt x="87858" y="448449"/>
                </a:cubicBezTo>
                <a:lnTo>
                  <a:pt x="136144" y="300100"/>
                </a:lnTo>
                <a:cubicBezTo>
                  <a:pt x="137998" y="294385"/>
                  <a:pt x="136093" y="288797"/>
                  <a:pt x="131026" y="285101"/>
                </a:cubicBezTo>
                <a:lnTo>
                  <a:pt x="5092" y="194589"/>
                </a:lnTo>
                <a:cubicBezTo>
                  <a:pt x="215" y="191084"/>
                  <a:pt x="-1854" y="185102"/>
                  <a:pt x="0" y="179399"/>
                </a:cubicBezTo>
                <a:cubicBezTo>
                  <a:pt x="1841" y="173672"/>
                  <a:pt x="7162" y="170065"/>
                  <a:pt x="13170" y="170065"/>
                </a:cubicBezTo>
                <a:lnTo>
                  <a:pt x="169024" y="170065"/>
                </a:lnTo>
                <a:cubicBezTo>
                  <a:pt x="174815" y="170065"/>
                  <a:pt x="180454" y="165391"/>
                  <a:pt x="182410" y="159321"/>
                </a:cubicBezTo>
                <a:lnTo>
                  <a:pt x="223977" y="10045"/>
                </a:lnTo>
                <a:cubicBezTo>
                  <a:pt x="225831" y="4330"/>
                  <a:pt x="230390" y="0"/>
                  <a:pt x="230390" y="0"/>
                </a:cubicBezTo>
                <a:lnTo>
                  <a:pt x="230390" y="164"/>
                </a:lnTo>
                <a:cubicBezTo>
                  <a:pt x="243916" y="164"/>
                  <a:pt x="248437" y="4114"/>
                  <a:pt x="250278" y="9816"/>
                </a:cubicBezTo>
                <a:lnTo>
                  <a:pt x="301980" y="159499"/>
                </a:lnTo>
                <a:cubicBezTo>
                  <a:pt x="303961" y="165531"/>
                  <a:pt x="312813" y="170065"/>
                  <a:pt x="318732" y="170065"/>
                </a:cubicBezTo>
                <a:lnTo>
                  <a:pt x="474675" y="170065"/>
                </a:lnTo>
                <a:cubicBezTo>
                  <a:pt x="480682" y="170065"/>
                  <a:pt x="486003" y="173672"/>
                  <a:pt x="487845" y="179399"/>
                </a:cubicBezTo>
                <a:cubicBezTo>
                  <a:pt x="489686" y="185115"/>
                  <a:pt x="487629" y="191211"/>
                  <a:pt x="482752" y="194728"/>
                </a:cubicBezTo>
                <a:lnTo>
                  <a:pt x="356692" y="285229"/>
                </a:lnTo>
                <a:cubicBezTo>
                  <a:pt x="351764" y="288810"/>
                  <a:pt x="349758" y="294779"/>
                  <a:pt x="351625" y="300520"/>
                </a:cubicBezTo>
                <a:lnTo>
                  <a:pt x="399884" y="448741"/>
                </a:lnTo>
                <a:cubicBezTo>
                  <a:pt x="401751" y="454456"/>
                  <a:pt x="399732" y="460704"/>
                  <a:pt x="394855" y="464222"/>
                </a:cubicBezTo>
                <a:cubicBezTo>
                  <a:pt x="392442" y="465988"/>
                  <a:pt x="389585" y="466851"/>
                  <a:pt x="386740" y="466851"/>
                </a:cubicBezTo>
              </a:path>
            </a:pathLst>
          </a:custGeom>
          <a:solidFill>
            <a:srgbClr val="fccf38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2" name="Freeform 3"/>
          <p:cNvSpPr/>
          <p:nvPr/>
        </p:nvSpPr>
        <p:spPr>
          <a:xfrm>
            <a:off x="4917960" y="6249240"/>
            <a:ext cx="241200" cy="241200"/>
          </a:xfrm>
          <a:custGeom>
            <a:avLst/>
            <a:gdLst>
              <a:gd name="textAreaLeft" fmla="*/ 0 w 241200"/>
              <a:gd name="textAreaRight" fmla="*/ 241560 w 2412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241401" h="241401">
                <a:moveTo>
                  <a:pt x="120700" y="241401"/>
                </a:moveTo>
                <a:cubicBezTo>
                  <a:pt x="187362" y="241401"/>
                  <a:pt x="241401" y="187362"/>
                  <a:pt x="241401" y="120700"/>
                </a:cubicBezTo>
                <a:cubicBezTo>
                  <a:pt x="241401" y="54038"/>
                  <a:pt x="187362" y="0"/>
                  <a:pt x="120700" y="0"/>
                </a:cubicBezTo>
                <a:cubicBezTo>
                  <a:pt x="54038" y="0"/>
                  <a:pt x="0" y="54038"/>
                  <a:pt x="0" y="120700"/>
                </a:cubicBezTo>
                <a:cubicBezTo>
                  <a:pt x="0" y="187362"/>
                  <a:pt x="54038" y="241401"/>
                  <a:pt x="120700" y="241401"/>
                </a:cubicBezTo>
              </a:path>
            </a:pathLst>
          </a:custGeom>
          <a:solidFill>
            <a:srgbClr val="459ddc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3" name="Freeform 3"/>
          <p:cNvSpPr/>
          <p:nvPr/>
        </p:nvSpPr>
        <p:spPr>
          <a:xfrm>
            <a:off x="4971960" y="6315480"/>
            <a:ext cx="133560" cy="108360"/>
          </a:xfrm>
          <a:custGeom>
            <a:avLst/>
            <a:gdLst>
              <a:gd name="textAreaLeft" fmla="*/ 0 w 133560"/>
              <a:gd name="textAreaRight" fmla="*/ 133920 w 133560"/>
              <a:gd name="textAreaTop" fmla="*/ 0 h 108360"/>
              <a:gd name="textAreaBottom" fmla="*/ 108720 h 108360"/>
            </a:gdLst>
            <a:ahLst/>
            <a:rect l="textAreaLeft" t="textAreaTop" r="textAreaRight" b="textAreaBottom"/>
            <a:pathLst>
              <a:path w="133794" h="108737">
                <a:moveTo>
                  <a:pt x="120103" y="27089"/>
                </a:moveTo>
                <a:cubicBezTo>
                  <a:pt x="120167" y="28269"/>
                  <a:pt x="120180" y="29438"/>
                  <a:pt x="120180" y="30632"/>
                </a:cubicBezTo>
                <a:cubicBezTo>
                  <a:pt x="120180" y="66903"/>
                  <a:pt x="92570" y="108737"/>
                  <a:pt x="42075" y="108737"/>
                </a:cubicBezTo>
                <a:cubicBezTo>
                  <a:pt x="26568" y="108737"/>
                  <a:pt x="12141" y="104203"/>
                  <a:pt x="0" y="96405"/>
                </a:cubicBezTo>
                <a:cubicBezTo>
                  <a:pt x="2146" y="96659"/>
                  <a:pt x="4330" y="96786"/>
                  <a:pt x="6540" y="96786"/>
                </a:cubicBezTo>
                <a:cubicBezTo>
                  <a:pt x="19418" y="96786"/>
                  <a:pt x="31242" y="92405"/>
                  <a:pt x="40627" y="85038"/>
                </a:cubicBezTo>
                <a:cubicBezTo>
                  <a:pt x="28625" y="84810"/>
                  <a:pt x="18478" y="76872"/>
                  <a:pt x="14998" y="65976"/>
                </a:cubicBezTo>
                <a:cubicBezTo>
                  <a:pt x="16675" y="66294"/>
                  <a:pt x="18389" y="66471"/>
                  <a:pt x="20154" y="66471"/>
                </a:cubicBezTo>
                <a:cubicBezTo>
                  <a:pt x="22669" y="66471"/>
                  <a:pt x="25095" y="66128"/>
                  <a:pt x="27381" y="65506"/>
                </a:cubicBezTo>
                <a:cubicBezTo>
                  <a:pt x="14846" y="62966"/>
                  <a:pt x="5372" y="51879"/>
                  <a:pt x="5372" y="38582"/>
                </a:cubicBezTo>
                <a:lnTo>
                  <a:pt x="5372" y="38239"/>
                </a:lnTo>
                <a:cubicBezTo>
                  <a:pt x="9080" y="40297"/>
                  <a:pt x="13309" y="41528"/>
                  <a:pt x="17805" y="41668"/>
                </a:cubicBezTo>
                <a:cubicBezTo>
                  <a:pt x="10439" y="36753"/>
                  <a:pt x="5600" y="28346"/>
                  <a:pt x="5600" y="18821"/>
                </a:cubicBezTo>
                <a:cubicBezTo>
                  <a:pt x="5600" y="13792"/>
                  <a:pt x="6946" y="9067"/>
                  <a:pt x="9309" y="5016"/>
                </a:cubicBezTo>
                <a:cubicBezTo>
                  <a:pt x="22847" y="21628"/>
                  <a:pt x="43078" y="32562"/>
                  <a:pt x="65887" y="33705"/>
                </a:cubicBezTo>
                <a:cubicBezTo>
                  <a:pt x="65430" y="31699"/>
                  <a:pt x="65176" y="29603"/>
                  <a:pt x="65176" y="27444"/>
                </a:cubicBezTo>
                <a:cubicBezTo>
                  <a:pt x="65176" y="12293"/>
                  <a:pt x="77470" y="0"/>
                  <a:pt x="92633" y="0"/>
                </a:cubicBezTo>
                <a:cubicBezTo>
                  <a:pt x="100533" y="0"/>
                  <a:pt x="107670" y="3340"/>
                  <a:pt x="112674" y="8661"/>
                </a:cubicBezTo>
                <a:cubicBezTo>
                  <a:pt x="118922" y="7442"/>
                  <a:pt x="124802" y="5155"/>
                  <a:pt x="130111" y="1993"/>
                </a:cubicBezTo>
                <a:cubicBezTo>
                  <a:pt x="128054" y="8420"/>
                  <a:pt x="123710" y="13792"/>
                  <a:pt x="118033" y="17183"/>
                </a:cubicBezTo>
                <a:cubicBezTo>
                  <a:pt x="123596" y="16535"/>
                  <a:pt x="128879" y="15049"/>
                  <a:pt x="133794" y="12877"/>
                </a:cubicBezTo>
                <a:cubicBezTo>
                  <a:pt x="130124" y="18376"/>
                  <a:pt x="125463" y="23215"/>
                  <a:pt x="120103" y="27089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434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6489720"/>
            <a:ext cx="88560" cy="5040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9800" y="6527880"/>
            <a:ext cx="317160" cy="1141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3" descr=""/>
          <p:cNvPicPr/>
          <p:nvPr/>
        </p:nvPicPr>
        <p:blipFill>
          <a:blip r:embed="rId5"/>
          <a:stretch/>
        </p:blipFill>
        <p:spPr>
          <a:xfrm>
            <a:off x="1003320" y="1549440"/>
            <a:ext cx="5689080" cy="43128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3" descr=""/>
          <p:cNvPicPr/>
          <p:nvPr/>
        </p:nvPicPr>
        <p:blipFill>
          <a:blip r:embed="rId6"/>
          <a:stretch/>
        </p:blipFill>
        <p:spPr>
          <a:xfrm>
            <a:off x="7734240" y="469800"/>
            <a:ext cx="837720" cy="10918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3" descr=""/>
          <p:cNvPicPr/>
          <p:nvPr/>
        </p:nvPicPr>
        <p:blipFill>
          <a:blip r:embed="rId7"/>
          <a:stretch/>
        </p:blipFill>
        <p:spPr>
          <a:xfrm>
            <a:off x="977760" y="2171880"/>
            <a:ext cx="4177800" cy="43128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3" descr=""/>
          <p:cNvPicPr/>
          <p:nvPr/>
        </p:nvPicPr>
        <p:blipFill>
          <a:blip r:embed="rId8"/>
          <a:stretch/>
        </p:blipFill>
        <p:spPr>
          <a:xfrm>
            <a:off x="5283360" y="2070000"/>
            <a:ext cx="1244160" cy="4694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3" descr=""/>
          <p:cNvPicPr/>
          <p:nvPr/>
        </p:nvPicPr>
        <p:blipFill>
          <a:blip r:embed="rId9"/>
          <a:stretch/>
        </p:blipFill>
        <p:spPr>
          <a:xfrm>
            <a:off x="1003320" y="2857680"/>
            <a:ext cx="1104480" cy="27900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3" descr=""/>
          <p:cNvPicPr/>
          <p:nvPr/>
        </p:nvPicPr>
        <p:blipFill>
          <a:blip r:embed="rId10"/>
          <a:stretch/>
        </p:blipFill>
        <p:spPr>
          <a:xfrm>
            <a:off x="2260440" y="2654280"/>
            <a:ext cx="4723920" cy="57132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3" descr=""/>
          <p:cNvPicPr/>
          <p:nvPr/>
        </p:nvPicPr>
        <p:blipFill>
          <a:blip r:embed="rId11"/>
          <a:stretch/>
        </p:blipFill>
        <p:spPr>
          <a:xfrm>
            <a:off x="1168560" y="3556080"/>
            <a:ext cx="4431960" cy="16488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3" descr=""/>
          <p:cNvPicPr/>
          <p:nvPr/>
        </p:nvPicPr>
        <p:blipFill>
          <a:blip r:embed="rId12"/>
          <a:stretch/>
        </p:blipFill>
        <p:spPr>
          <a:xfrm>
            <a:off x="1168560" y="3759120"/>
            <a:ext cx="2133360" cy="16488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3" descr=""/>
          <p:cNvPicPr/>
          <p:nvPr/>
        </p:nvPicPr>
        <p:blipFill>
          <a:blip r:embed="rId13"/>
          <a:stretch/>
        </p:blipFill>
        <p:spPr>
          <a:xfrm>
            <a:off x="3314880" y="3759120"/>
            <a:ext cx="2526840" cy="16488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3" descr=""/>
          <p:cNvPicPr/>
          <p:nvPr/>
        </p:nvPicPr>
        <p:blipFill>
          <a:blip r:embed="rId14"/>
          <a:stretch/>
        </p:blipFill>
        <p:spPr>
          <a:xfrm>
            <a:off x="1168560" y="3962520"/>
            <a:ext cx="4723920" cy="16488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3" descr=""/>
          <p:cNvPicPr/>
          <p:nvPr/>
        </p:nvPicPr>
        <p:blipFill>
          <a:blip r:embed="rId15"/>
          <a:stretch/>
        </p:blipFill>
        <p:spPr>
          <a:xfrm>
            <a:off x="1168560" y="4165560"/>
            <a:ext cx="2958840" cy="1648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3" descr=""/>
          <p:cNvPicPr/>
          <p:nvPr/>
        </p:nvPicPr>
        <p:blipFill>
          <a:blip r:embed="rId16"/>
          <a:stretch/>
        </p:blipFill>
        <p:spPr>
          <a:xfrm>
            <a:off x="1168560" y="4368960"/>
            <a:ext cx="2908080" cy="16488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3" descr=""/>
          <p:cNvPicPr/>
          <p:nvPr/>
        </p:nvPicPr>
        <p:blipFill>
          <a:blip r:embed="rId17"/>
          <a:stretch/>
        </p:blipFill>
        <p:spPr>
          <a:xfrm>
            <a:off x="1168560" y="4572000"/>
            <a:ext cx="2857320" cy="16488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3" descr=""/>
          <p:cNvPicPr/>
          <p:nvPr/>
        </p:nvPicPr>
        <p:blipFill>
          <a:blip r:embed="rId18"/>
          <a:stretch/>
        </p:blipFill>
        <p:spPr>
          <a:xfrm>
            <a:off x="1168560" y="4775040"/>
            <a:ext cx="990360" cy="1648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3" descr=""/>
          <p:cNvPicPr/>
          <p:nvPr/>
        </p:nvPicPr>
        <p:blipFill>
          <a:blip r:embed="rId19"/>
          <a:stretch/>
        </p:blipFill>
        <p:spPr>
          <a:xfrm>
            <a:off x="4572000" y="4495680"/>
            <a:ext cx="2819160" cy="16761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3" descr=""/>
          <p:cNvPicPr/>
          <p:nvPr/>
        </p:nvPicPr>
        <p:blipFill>
          <a:blip r:embed="rId20"/>
          <a:stretch/>
        </p:blipFill>
        <p:spPr>
          <a:xfrm>
            <a:off x="4775040" y="6464160"/>
            <a:ext cx="1942920" cy="393480"/>
          </a:xfrm>
          <a:prstGeom prst="rect">
            <a:avLst/>
          </a:prstGeom>
          <a:ln w="0">
            <a:noFill/>
          </a:ln>
        </p:spPr>
      </p:pic>
      <p:sp>
        <p:nvSpPr>
          <p:cNvPr id="452" name="矩形 52">
            <a:hlinkClick r:id="rId21"/>
          </p:cNvPr>
          <p:cNvSpPr/>
          <p:nvPr/>
        </p:nvSpPr>
        <p:spPr>
          <a:xfrm>
            <a:off x="526680" y="0"/>
            <a:ext cx="828072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59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Freeform 3"/>
          <p:cNvSpPr/>
          <p:nvPr/>
        </p:nvSpPr>
        <p:spPr>
          <a:xfrm>
            <a:off x="216000" y="6539040"/>
            <a:ext cx="88200" cy="88920"/>
          </a:xfrm>
          <a:custGeom>
            <a:avLst/>
            <a:gdLst>
              <a:gd name="textAreaLeft" fmla="*/ 0 w 88200"/>
              <a:gd name="textAreaRight" fmla="*/ 88560 w 8820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88595" h="89458">
                <a:moveTo>
                  <a:pt x="0" y="89458"/>
                </a:moveTo>
                <a:lnTo>
                  <a:pt x="43395" y="0"/>
                </a:lnTo>
                <a:lnTo>
                  <a:pt x="88595" y="89458"/>
                </a:lnTo>
                <a:lnTo>
                  <a:pt x="71056" y="89458"/>
                </a:lnTo>
                <a:lnTo>
                  <a:pt x="44297" y="30874"/>
                </a:lnTo>
                <a:lnTo>
                  <a:pt x="17386" y="89458"/>
                </a:lnTo>
                <a:lnTo>
                  <a:pt x="0" y="89458"/>
                </a:lnTo>
              </a:path>
            </a:pathLst>
          </a:custGeom>
          <a:solidFill>
            <a:srgbClr val="80808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4280" bIns="44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4" name="Freeform 3"/>
          <p:cNvSpPr/>
          <p:nvPr/>
        </p:nvSpPr>
        <p:spPr>
          <a:xfrm>
            <a:off x="237600" y="6595200"/>
            <a:ext cx="47520" cy="10800"/>
          </a:xfrm>
          <a:custGeom>
            <a:avLst/>
            <a:gdLst>
              <a:gd name="textAreaLeft" fmla="*/ 0 w 47520"/>
              <a:gd name="textAreaRight" fmla="*/ 47880 w 4752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47980" h="11138">
                <a:moveTo>
                  <a:pt x="0" y="5568"/>
                </a:moveTo>
                <a:lnTo>
                  <a:pt x="47980" y="5568"/>
                </a:lnTo>
              </a:path>
            </a:pathLst>
          </a:custGeom>
          <a:noFill/>
          <a:ln w="0">
            <a:solidFill>
              <a:srgbClr val="808080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3840" bIns="-33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reeform 3"/>
          <p:cNvSpPr/>
          <p:nvPr/>
        </p:nvSpPr>
        <p:spPr>
          <a:xfrm>
            <a:off x="164520" y="6539040"/>
            <a:ext cx="61920" cy="88920"/>
          </a:xfrm>
          <a:custGeom>
            <a:avLst/>
            <a:gdLst>
              <a:gd name="textAreaLeft" fmla="*/ 0 w 61920"/>
              <a:gd name="textAreaRight" fmla="*/ 62280 w 6192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62141" h="89434">
                <a:moveTo>
                  <a:pt x="0" y="0"/>
                </a:moveTo>
                <a:lnTo>
                  <a:pt x="0" y="16357"/>
                </a:lnTo>
                <a:lnTo>
                  <a:pt x="22263" y="16357"/>
                </a:lnTo>
                <a:lnTo>
                  <a:pt x="22263" y="89433"/>
                </a:lnTo>
                <a:lnTo>
                  <a:pt x="39700" y="89433"/>
                </a:lnTo>
                <a:lnTo>
                  <a:pt x="39700" y="16878"/>
                </a:lnTo>
                <a:lnTo>
                  <a:pt x="62141" y="16878"/>
                </a:lnTo>
                <a:lnTo>
                  <a:pt x="62141" y="0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4280" bIns="44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6" name="Freeform 3"/>
          <p:cNvSpPr/>
          <p:nvPr/>
        </p:nvSpPr>
        <p:spPr>
          <a:xfrm>
            <a:off x="307080" y="6538320"/>
            <a:ext cx="56520" cy="90720"/>
          </a:xfrm>
          <a:custGeom>
            <a:avLst/>
            <a:gdLst>
              <a:gd name="textAreaLeft" fmla="*/ 0 w 56520"/>
              <a:gd name="textAreaRight" fmla="*/ 56880 w 56520"/>
              <a:gd name="textAreaTop" fmla="*/ 0 h 90720"/>
              <a:gd name="textAreaBottom" fmla="*/ 91080 h 90720"/>
            </a:gdLst>
            <a:ahLst/>
            <a:rect l="textAreaLeft" t="textAreaTop" r="textAreaRight" b="textAreaBottom"/>
            <a:pathLst>
              <a:path w="56959" h="90995">
                <a:moveTo>
                  <a:pt x="30873" y="36258"/>
                </a:moveTo>
                <a:cubicBezTo>
                  <a:pt x="45440" y="40919"/>
                  <a:pt x="58064" y="46456"/>
                  <a:pt x="56959" y="66459"/>
                </a:cubicBezTo>
                <a:cubicBezTo>
                  <a:pt x="56095" y="82219"/>
                  <a:pt x="42722" y="92316"/>
                  <a:pt x="24117" y="90995"/>
                </a:cubicBezTo>
                <a:cubicBezTo>
                  <a:pt x="12750" y="90182"/>
                  <a:pt x="6324" y="84429"/>
                  <a:pt x="0" y="77723"/>
                </a:cubicBezTo>
                <a:cubicBezTo>
                  <a:pt x="3581" y="73367"/>
                  <a:pt x="7556" y="69367"/>
                  <a:pt x="11722" y="65582"/>
                </a:cubicBezTo>
                <a:cubicBezTo>
                  <a:pt x="14960" y="70345"/>
                  <a:pt x="20891" y="75615"/>
                  <a:pt x="29133" y="74917"/>
                </a:cubicBezTo>
                <a:cubicBezTo>
                  <a:pt x="34925" y="74434"/>
                  <a:pt x="41821" y="68795"/>
                  <a:pt x="38696" y="61239"/>
                </a:cubicBezTo>
                <a:cubicBezTo>
                  <a:pt x="36360" y="55588"/>
                  <a:pt x="27304" y="53327"/>
                  <a:pt x="21081" y="51041"/>
                </a:cubicBezTo>
                <a:cubicBezTo>
                  <a:pt x="9855" y="46863"/>
                  <a:pt x="266" y="41097"/>
                  <a:pt x="1511" y="23659"/>
                </a:cubicBezTo>
                <a:cubicBezTo>
                  <a:pt x="2514" y="9690"/>
                  <a:pt x="13830" y="927"/>
                  <a:pt x="28486" y="0"/>
                </a:cubicBezTo>
                <a:cubicBezTo>
                  <a:pt x="41490" y="-837"/>
                  <a:pt x="49072" y="4953"/>
                  <a:pt x="55422" y="11709"/>
                </a:cubicBezTo>
                <a:cubicBezTo>
                  <a:pt x="52298" y="16141"/>
                  <a:pt x="48425" y="19773"/>
                  <a:pt x="45224" y="24092"/>
                </a:cubicBezTo>
                <a:cubicBezTo>
                  <a:pt x="41871" y="21425"/>
                  <a:pt x="37934" y="17043"/>
                  <a:pt x="31965" y="16281"/>
                </a:cubicBezTo>
                <a:cubicBezTo>
                  <a:pt x="23634" y="15227"/>
                  <a:pt x="17005" y="20269"/>
                  <a:pt x="19329" y="28879"/>
                </a:cubicBezTo>
                <a:cubicBezTo>
                  <a:pt x="20548" y="33363"/>
                  <a:pt x="26263" y="34785"/>
                  <a:pt x="30873" y="36258"/>
                </a:cubicBezTo>
              </a:path>
            </a:pathLst>
          </a:custGeom>
          <a:solidFill>
            <a:srgbClr val="80808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7" name="Freeform 3"/>
          <p:cNvSpPr/>
          <p:nvPr/>
        </p:nvSpPr>
        <p:spPr>
          <a:xfrm>
            <a:off x="393480" y="6538320"/>
            <a:ext cx="77400" cy="90720"/>
          </a:xfrm>
          <a:custGeom>
            <a:avLst/>
            <a:gdLst>
              <a:gd name="textAreaLeft" fmla="*/ 0 w 77400"/>
              <a:gd name="textAreaRight" fmla="*/ 77760 w 77400"/>
              <a:gd name="textAreaTop" fmla="*/ 0 h 90720"/>
              <a:gd name="textAreaBottom" fmla="*/ 91080 h 90720"/>
            </a:gdLst>
            <a:ahLst/>
            <a:rect l="textAreaLeft" t="textAreaTop" r="textAreaRight" b="textAreaBottom"/>
            <a:pathLst>
              <a:path w="77914" h="90992">
                <a:moveTo>
                  <a:pt x="77914" y="60350"/>
                </a:moveTo>
                <a:lnTo>
                  <a:pt x="77914" y="78244"/>
                </a:lnTo>
                <a:cubicBezTo>
                  <a:pt x="76987" y="81395"/>
                  <a:pt x="68516" y="85445"/>
                  <a:pt x="65443" y="86792"/>
                </a:cubicBezTo>
                <a:cubicBezTo>
                  <a:pt x="31889" y="101600"/>
                  <a:pt x="-3302" y="77470"/>
                  <a:pt x="0" y="39687"/>
                </a:cubicBezTo>
                <a:cubicBezTo>
                  <a:pt x="1879" y="18098"/>
                  <a:pt x="19786" y="1778"/>
                  <a:pt x="41313" y="0"/>
                </a:cubicBezTo>
                <a:cubicBezTo>
                  <a:pt x="57391" y="-1282"/>
                  <a:pt x="66484" y="4229"/>
                  <a:pt x="75945" y="10909"/>
                </a:cubicBezTo>
                <a:lnTo>
                  <a:pt x="71272" y="17526"/>
                </a:lnTo>
                <a:cubicBezTo>
                  <a:pt x="63906" y="13475"/>
                  <a:pt x="57835" y="8141"/>
                  <a:pt x="47536" y="7797"/>
                </a:cubicBezTo>
                <a:cubicBezTo>
                  <a:pt x="23291" y="7036"/>
                  <a:pt x="7429" y="26734"/>
                  <a:pt x="8978" y="47879"/>
                </a:cubicBezTo>
                <a:cubicBezTo>
                  <a:pt x="9867" y="60579"/>
                  <a:pt x="17170" y="71958"/>
                  <a:pt x="26898" y="77851"/>
                </a:cubicBezTo>
                <a:cubicBezTo>
                  <a:pt x="37871" y="84544"/>
                  <a:pt x="59829" y="84976"/>
                  <a:pt x="69341" y="74345"/>
                </a:cubicBezTo>
                <a:lnTo>
                  <a:pt x="69341" y="49822"/>
                </a:lnTo>
                <a:lnTo>
                  <a:pt x="40881" y="49822"/>
                </a:lnTo>
                <a:lnTo>
                  <a:pt x="43256" y="41656"/>
                </a:lnTo>
                <a:lnTo>
                  <a:pt x="77914" y="41656"/>
                </a:lnTo>
                <a:lnTo>
                  <a:pt x="77914" y="60350"/>
                </a:lnTo>
              </a:path>
            </a:pathLst>
          </a:custGeom>
          <a:solidFill>
            <a:srgbClr val="80808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8" name="Freeform 3"/>
          <p:cNvSpPr/>
          <p:nvPr/>
        </p:nvSpPr>
        <p:spPr>
          <a:xfrm>
            <a:off x="779040" y="6539040"/>
            <a:ext cx="6840" cy="11160"/>
          </a:xfrm>
          <a:custGeom>
            <a:avLst/>
            <a:gdLst>
              <a:gd name="textAreaLeft" fmla="*/ 0 w 6840"/>
              <a:gd name="textAreaRight" fmla="*/ 7200 w 68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7124" h="11696">
                <a:moveTo>
                  <a:pt x="4444" y="1663"/>
                </a:moveTo>
                <a:lnTo>
                  <a:pt x="4444" y="11696"/>
                </a:lnTo>
                <a:lnTo>
                  <a:pt x="2679" y="11696"/>
                </a:lnTo>
                <a:lnTo>
                  <a:pt x="2679" y="1663"/>
                </a:lnTo>
                <a:lnTo>
                  <a:pt x="0" y="1663"/>
                </a:lnTo>
                <a:lnTo>
                  <a:pt x="0" y="0"/>
                </a:lnTo>
                <a:lnTo>
                  <a:pt x="7124" y="0"/>
                </a:lnTo>
                <a:lnTo>
                  <a:pt x="7124" y="1663"/>
                </a:lnTo>
                <a:lnTo>
                  <a:pt x="4444" y="1663"/>
                </a:lnTo>
              </a:path>
            </a:pathLst>
          </a:custGeom>
          <a:solidFill>
            <a:srgbClr val="80808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3480" bIns="-33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9" name="Freeform 3"/>
          <p:cNvSpPr/>
          <p:nvPr/>
        </p:nvSpPr>
        <p:spPr>
          <a:xfrm>
            <a:off x="787320" y="6538320"/>
            <a:ext cx="12600" cy="12600"/>
          </a:xfrm>
          <a:custGeom>
            <a:avLst/>
            <a:gdLst>
              <a:gd name="textAreaLeft" fmla="*/ 0 w 12600"/>
              <a:gd name="textAreaRight" fmla="*/ 12960 w 1260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12839" h="13106">
                <a:moveTo>
                  <a:pt x="0" y="12572"/>
                </a:moveTo>
                <a:lnTo>
                  <a:pt x="2463" y="0"/>
                </a:lnTo>
                <a:lnTo>
                  <a:pt x="6477" y="9093"/>
                </a:lnTo>
                <a:lnTo>
                  <a:pt x="10629" y="0"/>
                </a:lnTo>
                <a:lnTo>
                  <a:pt x="12839" y="12572"/>
                </a:lnTo>
                <a:lnTo>
                  <a:pt x="11023" y="12572"/>
                </a:lnTo>
                <a:lnTo>
                  <a:pt x="9906" y="5512"/>
                </a:lnTo>
                <a:lnTo>
                  <a:pt x="6438" y="13106"/>
                </a:lnTo>
                <a:lnTo>
                  <a:pt x="3086" y="5512"/>
                </a:lnTo>
                <a:lnTo>
                  <a:pt x="1828" y="12572"/>
                </a:lnTo>
                <a:lnTo>
                  <a:pt x="0" y="12572"/>
                </a:lnTo>
              </a:path>
            </a:pathLst>
          </a:custGeom>
          <a:solidFill>
            <a:srgbClr val="80808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2040" bIns="-320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0" name="Freeform 3"/>
          <p:cNvSpPr/>
          <p:nvPr/>
        </p:nvSpPr>
        <p:spPr>
          <a:xfrm>
            <a:off x="137520" y="121320"/>
            <a:ext cx="1732320" cy="1732320"/>
          </a:xfrm>
          <a:custGeom>
            <a:avLst/>
            <a:gdLst>
              <a:gd name="textAreaLeft" fmla="*/ 0 w 1732320"/>
              <a:gd name="textAreaRight" fmla="*/ 1732680 w 1732320"/>
              <a:gd name="textAreaTop" fmla="*/ 0 h 1732320"/>
              <a:gd name="textAreaBottom" fmla="*/ 1732680 h 1732320"/>
            </a:gdLst>
            <a:ahLst/>
            <a:rect l="textAreaLeft" t="textAreaTop" r="textAreaRight" b="textAreaBottom"/>
            <a:pathLst>
              <a:path w="1732788" h="1732788">
                <a:moveTo>
                  <a:pt x="866394" y="1732787"/>
                </a:moveTo>
                <a:cubicBezTo>
                  <a:pt x="1344891" y="1732787"/>
                  <a:pt x="1732787" y="1344891"/>
                  <a:pt x="1732787" y="866393"/>
                </a:cubicBezTo>
                <a:cubicBezTo>
                  <a:pt x="1732787" y="387896"/>
                  <a:pt x="1344891" y="0"/>
                  <a:pt x="866393" y="0"/>
                </a:cubicBezTo>
                <a:cubicBezTo>
                  <a:pt x="387896" y="0"/>
                  <a:pt x="0" y="387896"/>
                  <a:pt x="0" y="866393"/>
                </a:cubicBezTo>
                <a:cubicBezTo>
                  <a:pt x="0" y="1344891"/>
                  <a:pt x="387896" y="1732787"/>
                  <a:pt x="866393" y="1732787"/>
                </a:cubicBezTo>
              </a:path>
            </a:pathLst>
          </a:custGeom>
          <a:solidFill>
            <a:srgbClr val="fccf38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1" name="Freeform 3"/>
          <p:cNvSpPr/>
          <p:nvPr/>
        </p:nvSpPr>
        <p:spPr>
          <a:xfrm>
            <a:off x="8055360" y="191880"/>
            <a:ext cx="126720" cy="734760"/>
          </a:xfrm>
          <a:custGeom>
            <a:avLst/>
            <a:gdLst>
              <a:gd name="textAreaLeft" fmla="*/ 0 w 126720"/>
              <a:gd name="textAreaRight" fmla="*/ 127080 w 126720"/>
              <a:gd name="textAreaTop" fmla="*/ 0 h 734760"/>
              <a:gd name="textAreaBottom" fmla="*/ 735120 h 734760"/>
            </a:gdLst>
            <a:ahLst/>
            <a:rect l="textAreaLeft" t="textAreaTop" r="textAreaRight" b="textAreaBottom"/>
            <a:pathLst>
              <a:path w="127000" h="735228">
                <a:moveTo>
                  <a:pt x="31750" y="31750"/>
                </a:moveTo>
                <a:lnTo>
                  <a:pt x="31750" y="703478"/>
                </a:lnTo>
              </a:path>
            </a:pathLst>
          </a:custGeom>
          <a:noFill/>
          <a:ln w="63500">
            <a:solidFill>
              <a:srgbClr val="fccf38"/>
            </a:solidFill>
            <a:prstDash val="dash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reeform 3"/>
          <p:cNvSpPr/>
          <p:nvPr/>
        </p:nvSpPr>
        <p:spPr>
          <a:xfrm>
            <a:off x="2084400" y="959760"/>
            <a:ext cx="5844600" cy="126720"/>
          </a:xfrm>
          <a:custGeom>
            <a:avLst/>
            <a:gdLst>
              <a:gd name="textAreaLeft" fmla="*/ 0 w 5844600"/>
              <a:gd name="textAreaRight" fmla="*/ 5844960 w 584460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5844908" h="127000">
                <a:moveTo>
                  <a:pt x="5813157" y="31750"/>
                </a:moveTo>
                <a:lnTo>
                  <a:pt x="31750" y="31750"/>
                </a:lnTo>
              </a:path>
            </a:pathLst>
          </a:custGeom>
          <a:noFill/>
          <a:ln w="63500">
            <a:solidFill>
              <a:srgbClr val="fccf38"/>
            </a:solidFill>
            <a:prstDash val="dash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reeform 3"/>
          <p:cNvSpPr/>
          <p:nvPr/>
        </p:nvSpPr>
        <p:spPr>
          <a:xfrm>
            <a:off x="959760" y="2135160"/>
            <a:ext cx="126720" cy="4654440"/>
          </a:xfrm>
          <a:custGeom>
            <a:avLst/>
            <a:gdLst>
              <a:gd name="textAreaLeft" fmla="*/ 0 w 126720"/>
              <a:gd name="textAreaRight" fmla="*/ 127080 w 126720"/>
              <a:gd name="textAreaTop" fmla="*/ 0 h 4654440"/>
              <a:gd name="textAreaBottom" fmla="*/ 4654800 h 4654440"/>
            </a:gdLst>
            <a:ahLst/>
            <a:rect l="textAreaLeft" t="textAreaTop" r="textAreaRight" b="textAreaBottom"/>
            <a:pathLst>
              <a:path w="127000" h="4654638">
                <a:moveTo>
                  <a:pt x="31750" y="31750"/>
                </a:moveTo>
                <a:lnTo>
                  <a:pt x="31750" y="4622888"/>
                </a:lnTo>
              </a:path>
            </a:pathLst>
          </a:custGeom>
          <a:noFill/>
          <a:ln w="63500">
            <a:solidFill>
              <a:srgbClr val="fccf38"/>
            </a:solidFill>
            <a:prstDash val="dash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4" name="Picture 3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1485720" cy="109188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3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2280" y="6489720"/>
            <a:ext cx="88560" cy="5040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3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9800" y="6527880"/>
            <a:ext cx="317160" cy="11412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3" descr=""/>
          <p:cNvPicPr/>
          <p:nvPr/>
        </p:nvPicPr>
        <p:blipFill>
          <a:blip r:embed="rId6"/>
          <a:stretch/>
        </p:blipFill>
        <p:spPr>
          <a:xfrm>
            <a:off x="2070000" y="1574640"/>
            <a:ext cx="4457520" cy="36792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3" descr=""/>
          <p:cNvPicPr/>
          <p:nvPr/>
        </p:nvPicPr>
        <p:blipFill>
          <a:blip r:embed="rId7"/>
          <a:stretch/>
        </p:blipFill>
        <p:spPr>
          <a:xfrm>
            <a:off x="2070000" y="2197080"/>
            <a:ext cx="3682800" cy="40608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3" descr=""/>
          <p:cNvPicPr/>
          <p:nvPr/>
        </p:nvPicPr>
        <p:blipFill>
          <a:blip r:embed="rId8"/>
          <a:stretch/>
        </p:blipFill>
        <p:spPr>
          <a:xfrm>
            <a:off x="5892840" y="2070000"/>
            <a:ext cx="1117080" cy="46944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"/>
          <p:cNvPicPr/>
          <p:nvPr/>
        </p:nvPicPr>
        <p:blipFill>
          <a:blip r:embed="rId9"/>
          <a:stretch/>
        </p:blipFill>
        <p:spPr>
          <a:xfrm>
            <a:off x="2095560" y="2654280"/>
            <a:ext cx="4939920" cy="48240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3" descr=""/>
          <p:cNvPicPr/>
          <p:nvPr/>
        </p:nvPicPr>
        <p:blipFill>
          <a:blip r:embed="rId10"/>
          <a:stretch/>
        </p:blipFill>
        <p:spPr>
          <a:xfrm>
            <a:off x="2095560" y="3492360"/>
            <a:ext cx="6184440" cy="3365280"/>
          </a:xfrm>
          <a:prstGeom prst="rect">
            <a:avLst/>
          </a:prstGeom>
          <a:ln w="0">
            <a:noFill/>
          </a:ln>
        </p:spPr>
      </p:pic>
      <p:sp>
        <p:nvSpPr>
          <p:cNvPr id="472" name="矩形 20">
            <a:hlinkClick r:id="rId11"/>
          </p:cNvPr>
          <p:cNvSpPr/>
          <p:nvPr/>
        </p:nvSpPr>
        <p:spPr>
          <a:xfrm>
            <a:off x="526680" y="0"/>
            <a:ext cx="828072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59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3"/>
          <p:cNvSpPr/>
          <p:nvPr/>
        </p:nvSpPr>
        <p:spPr>
          <a:xfrm>
            <a:off x="216000" y="6539040"/>
            <a:ext cx="88200" cy="88920"/>
          </a:xfrm>
          <a:custGeom>
            <a:avLst/>
            <a:gdLst>
              <a:gd name="textAreaLeft" fmla="*/ 0 w 88200"/>
              <a:gd name="textAreaRight" fmla="*/ 88560 w 8820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88595" h="89458">
                <a:moveTo>
                  <a:pt x="0" y="89458"/>
                </a:moveTo>
                <a:lnTo>
                  <a:pt x="43395" y="0"/>
                </a:lnTo>
                <a:lnTo>
                  <a:pt x="88595" y="89458"/>
                </a:lnTo>
                <a:lnTo>
                  <a:pt x="71056" y="89458"/>
                </a:lnTo>
                <a:lnTo>
                  <a:pt x="44297" y="30874"/>
                </a:lnTo>
                <a:lnTo>
                  <a:pt x="17386" y="89458"/>
                </a:lnTo>
                <a:lnTo>
                  <a:pt x="0" y="89458"/>
                </a:lnTo>
              </a:path>
            </a:pathLst>
          </a:custGeom>
          <a:solidFill>
            <a:srgbClr val="80808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4280" bIns="44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7" name="Freeform 3"/>
          <p:cNvSpPr/>
          <p:nvPr/>
        </p:nvSpPr>
        <p:spPr>
          <a:xfrm>
            <a:off x="237600" y="6595200"/>
            <a:ext cx="47520" cy="10800"/>
          </a:xfrm>
          <a:custGeom>
            <a:avLst/>
            <a:gdLst>
              <a:gd name="textAreaLeft" fmla="*/ 0 w 47520"/>
              <a:gd name="textAreaRight" fmla="*/ 47880 w 4752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47980" h="11138">
                <a:moveTo>
                  <a:pt x="0" y="5568"/>
                </a:moveTo>
                <a:lnTo>
                  <a:pt x="47980" y="5568"/>
                </a:lnTo>
              </a:path>
            </a:pathLst>
          </a:custGeom>
          <a:noFill/>
          <a:ln w="0">
            <a:solidFill>
              <a:srgbClr val="808080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3840" bIns="-33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Freeform 3"/>
          <p:cNvSpPr/>
          <p:nvPr/>
        </p:nvSpPr>
        <p:spPr>
          <a:xfrm>
            <a:off x="164520" y="6539040"/>
            <a:ext cx="61920" cy="88920"/>
          </a:xfrm>
          <a:custGeom>
            <a:avLst/>
            <a:gdLst>
              <a:gd name="textAreaLeft" fmla="*/ 0 w 61920"/>
              <a:gd name="textAreaRight" fmla="*/ 62280 w 6192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62141" h="89434">
                <a:moveTo>
                  <a:pt x="0" y="0"/>
                </a:moveTo>
                <a:lnTo>
                  <a:pt x="0" y="16357"/>
                </a:lnTo>
                <a:lnTo>
                  <a:pt x="22263" y="16357"/>
                </a:lnTo>
                <a:lnTo>
                  <a:pt x="22263" y="89433"/>
                </a:lnTo>
                <a:lnTo>
                  <a:pt x="39700" y="89433"/>
                </a:lnTo>
                <a:lnTo>
                  <a:pt x="39700" y="16878"/>
                </a:lnTo>
                <a:lnTo>
                  <a:pt x="62141" y="16878"/>
                </a:lnTo>
                <a:lnTo>
                  <a:pt x="62141" y="0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4280" bIns="44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9" name="Freeform 3"/>
          <p:cNvSpPr/>
          <p:nvPr/>
        </p:nvSpPr>
        <p:spPr>
          <a:xfrm>
            <a:off x="307080" y="6538320"/>
            <a:ext cx="56520" cy="90720"/>
          </a:xfrm>
          <a:custGeom>
            <a:avLst/>
            <a:gdLst>
              <a:gd name="textAreaLeft" fmla="*/ 0 w 56520"/>
              <a:gd name="textAreaRight" fmla="*/ 56880 w 56520"/>
              <a:gd name="textAreaTop" fmla="*/ 0 h 90720"/>
              <a:gd name="textAreaBottom" fmla="*/ 91080 h 90720"/>
            </a:gdLst>
            <a:ahLst/>
            <a:rect l="textAreaLeft" t="textAreaTop" r="textAreaRight" b="textAreaBottom"/>
            <a:pathLst>
              <a:path w="56959" h="90995">
                <a:moveTo>
                  <a:pt x="30873" y="36258"/>
                </a:moveTo>
                <a:cubicBezTo>
                  <a:pt x="45440" y="40919"/>
                  <a:pt x="58064" y="46456"/>
                  <a:pt x="56959" y="66459"/>
                </a:cubicBezTo>
                <a:cubicBezTo>
                  <a:pt x="56095" y="82219"/>
                  <a:pt x="42722" y="92316"/>
                  <a:pt x="24117" y="90995"/>
                </a:cubicBezTo>
                <a:cubicBezTo>
                  <a:pt x="12750" y="90182"/>
                  <a:pt x="6324" y="84429"/>
                  <a:pt x="0" y="77723"/>
                </a:cubicBezTo>
                <a:cubicBezTo>
                  <a:pt x="3581" y="73367"/>
                  <a:pt x="7556" y="69367"/>
                  <a:pt x="11722" y="65582"/>
                </a:cubicBezTo>
                <a:cubicBezTo>
                  <a:pt x="14960" y="70345"/>
                  <a:pt x="20891" y="75615"/>
                  <a:pt x="29133" y="74917"/>
                </a:cubicBezTo>
                <a:cubicBezTo>
                  <a:pt x="34925" y="74434"/>
                  <a:pt x="41821" y="68795"/>
                  <a:pt x="38696" y="61239"/>
                </a:cubicBezTo>
                <a:cubicBezTo>
                  <a:pt x="36360" y="55588"/>
                  <a:pt x="27304" y="53327"/>
                  <a:pt x="21081" y="51041"/>
                </a:cubicBezTo>
                <a:cubicBezTo>
                  <a:pt x="9855" y="46863"/>
                  <a:pt x="266" y="41097"/>
                  <a:pt x="1511" y="23659"/>
                </a:cubicBezTo>
                <a:cubicBezTo>
                  <a:pt x="2514" y="9690"/>
                  <a:pt x="13830" y="927"/>
                  <a:pt x="28486" y="0"/>
                </a:cubicBezTo>
                <a:cubicBezTo>
                  <a:pt x="41490" y="-837"/>
                  <a:pt x="49072" y="4953"/>
                  <a:pt x="55422" y="11709"/>
                </a:cubicBezTo>
                <a:cubicBezTo>
                  <a:pt x="52298" y="16141"/>
                  <a:pt x="48425" y="19773"/>
                  <a:pt x="45224" y="24092"/>
                </a:cubicBezTo>
                <a:cubicBezTo>
                  <a:pt x="41871" y="21425"/>
                  <a:pt x="37934" y="17043"/>
                  <a:pt x="31965" y="16281"/>
                </a:cubicBezTo>
                <a:cubicBezTo>
                  <a:pt x="23634" y="15227"/>
                  <a:pt x="17005" y="20269"/>
                  <a:pt x="19329" y="28879"/>
                </a:cubicBezTo>
                <a:cubicBezTo>
                  <a:pt x="20548" y="33363"/>
                  <a:pt x="26263" y="34785"/>
                  <a:pt x="30873" y="36258"/>
                </a:cubicBezTo>
              </a:path>
            </a:pathLst>
          </a:custGeom>
          <a:solidFill>
            <a:srgbClr val="80808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0" name="Freeform 3"/>
          <p:cNvSpPr/>
          <p:nvPr/>
        </p:nvSpPr>
        <p:spPr>
          <a:xfrm>
            <a:off x="393480" y="6538320"/>
            <a:ext cx="77400" cy="90720"/>
          </a:xfrm>
          <a:custGeom>
            <a:avLst/>
            <a:gdLst>
              <a:gd name="textAreaLeft" fmla="*/ 0 w 77400"/>
              <a:gd name="textAreaRight" fmla="*/ 77760 w 77400"/>
              <a:gd name="textAreaTop" fmla="*/ 0 h 90720"/>
              <a:gd name="textAreaBottom" fmla="*/ 91080 h 90720"/>
            </a:gdLst>
            <a:ahLst/>
            <a:rect l="textAreaLeft" t="textAreaTop" r="textAreaRight" b="textAreaBottom"/>
            <a:pathLst>
              <a:path w="77914" h="90992">
                <a:moveTo>
                  <a:pt x="77914" y="60350"/>
                </a:moveTo>
                <a:lnTo>
                  <a:pt x="77914" y="78244"/>
                </a:lnTo>
                <a:cubicBezTo>
                  <a:pt x="76987" y="81395"/>
                  <a:pt x="68516" y="85445"/>
                  <a:pt x="65443" y="86792"/>
                </a:cubicBezTo>
                <a:cubicBezTo>
                  <a:pt x="31889" y="101600"/>
                  <a:pt x="-3302" y="77470"/>
                  <a:pt x="0" y="39687"/>
                </a:cubicBezTo>
                <a:cubicBezTo>
                  <a:pt x="1879" y="18098"/>
                  <a:pt x="19786" y="1778"/>
                  <a:pt x="41313" y="0"/>
                </a:cubicBezTo>
                <a:cubicBezTo>
                  <a:pt x="57391" y="-1282"/>
                  <a:pt x="66484" y="4229"/>
                  <a:pt x="75945" y="10909"/>
                </a:cubicBezTo>
                <a:lnTo>
                  <a:pt x="71272" y="17526"/>
                </a:lnTo>
                <a:cubicBezTo>
                  <a:pt x="63906" y="13475"/>
                  <a:pt x="57835" y="8141"/>
                  <a:pt x="47536" y="7797"/>
                </a:cubicBezTo>
                <a:cubicBezTo>
                  <a:pt x="23291" y="7036"/>
                  <a:pt x="7429" y="26734"/>
                  <a:pt x="8978" y="47879"/>
                </a:cubicBezTo>
                <a:cubicBezTo>
                  <a:pt x="9867" y="60579"/>
                  <a:pt x="17170" y="71958"/>
                  <a:pt x="26898" y="77851"/>
                </a:cubicBezTo>
                <a:cubicBezTo>
                  <a:pt x="37871" y="84544"/>
                  <a:pt x="59829" y="84976"/>
                  <a:pt x="69341" y="74345"/>
                </a:cubicBezTo>
                <a:lnTo>
                  <a:pt x="69341" y="49822"/>
                </a:lnTo>
                <a:lnTo>
                  <a:pt x="40881" y="49822"/>
                </a:lnTo>
                <a:lnTo>
                  <a:pt x="43256" y="41656"/>
                </a:lnTo>
                <a:lnTo>
                  <a:pt x="77914" y="41656"/>
                </a:lnTo>
                <a:lnTo>
                  <a:pt x="77914" y="60350"/>
                </a:lnTo>
              </a:path>
            </a:pathLst>
          </a:custGeom>
          <a:solidFill>
            <a:srgbClr val="80808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1" name="Freeform 3"/>
          <p:cNvSpPr/>
          <p:nvPr/>
        </p:nvSpPr>
        <p:spPr>
          <a:xfrm>
            <a:off x="779040" y="6539040"/>
            <a:ext cx="6840" cy="11160"/>
          </a:xfrm>
          <a:custGeom>
            <a:avLst/>
            <a:gdLst>
              <a:gd name="textAreaLeft" fmla="*/ 0 w 6840"/>
              <a:gd name="textAreaRight" fmla="*/ 7200 w 68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7124" h="11696">
                <a:moveTo>
                  <a:pt x="4444" y="1663"/>
                </a:moveTo>
                <a:lnTo>
                  <a:pt x="4444" y="11696"/>
                </a:lnTo>
                <a:lnTo>
                  <a:pt x="2679" y="11696"/>
                </a:lnTo>
                <a:lnTo>
                  <a:pt x="2679" y="1663"/>
                </a:lnTo>
                <a:lnTo>
                  <a:pt x="0" y="1663"/>
                </a:lnTo>
                <a:lnTo>
                  <a:pt x="0" y="0"/>
                </a:lnTo>
                <a:lnTo>
                  <a:pt x="7124" y="0"/>
                </a:lnTo>
                <a:lnTo>
                  <a:pt x="7124" y="1663"/>
                </a:lnTo>
                <a:lnTo>
                  <a:pt x="4444" y="1663"/>
                </a:lnTo>
              </a:path>
            </a:pathLst>
          </a:custGeom>
          <a:solidFill>
            <a:srgbClr val="80808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3480" bIns="-33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2" name="Freeform 3"/>
          <p:cNvSpPr/>
          <p:nvPr/>
        </p:nvSpPr>
        <p:spPr>
          <a:xfrm>
            <a:off x="787320" y="6538320"/>
            <a:ext cx="12600" cy="12600"/>
          </a:xfrm>
          <a:custGeom>
            <a:avLst/>
            <a:gdLst>
              <a:gd name="textAreaLeft" fmla="*/ 0 w 12600"/>
              <a:gd name="textAreaRight" fmla="*/ 12960 w 1260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12839" h="13106">
                <a:moveTo>
                  <a:pt x="0" y="12572"/>
                </a:moveTo>
                <a:lnTo>
                  <a:pt x="2463" y="0"/>
                </a:lnTo>
                <a:lnTo>
                  <a:pt x="6477" y="9093"/>
                </a:lnTo>
                <a:lnTo>
                  <a:pt x="10629" y="0"/>
                </a:lnTo>
                <a:lnTo>
                  <a:pt x="12839" y="12572"/>
                </a:lnTo>
                <a:lnTo>
                  <a:pt x="11023" y="12572"/>
                </a:lnTo>
                <a:lnTo>
                  <a:pt x="9906" y="5512"/>
                </a:lnTo>
                <a:lnTo>
                  <a:pt x="6438" y="13106"/>
                </a:lnTo>
                <a:lnTo>
                  <a:pt x="3086" y="5512"/>
                </a:lnTo>
                <a:lnTo>
                  <a:pt x="1828" y="12572"/>
                </a:lnTo>
                <a:lnTo>
                  <a:pt x="0" y="12572"/>
                </a:lnTo>
              </a:path>
            </a:pathLst>
          </a:custGeom>
          <a:solidFill>
            <a:srgbClr val="80808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2040" bIns="-320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3" name="Freeform 3"/>
          <p:cNvSpPr/>
          <p:nvPr/>
        </p:nvSpPr>
        <p:spPr>
          <a:xfrm>
            <a:off x="1061280" y="3204720"/>
            <a:ext cx="717480" cy="3652920"/>
          </a:xfrm>
          <a:custGeom>
            <a:avLst/>
            <a:gdLst>
              <a:gd name="textAreaLeft" fmla="*/ 0 w 717480"/>
              <a:gd name="textAreaRight" fmla="*/ 717840 w 717480"/>
              <a:gd name="textAreaTop" fmla="*/ 0 h 3652920"/>
              <a:gd name="textAreaBottom" fmla="*/ 3653280 h 3652920"/>
            </a:gdLst>
            <a:ahLst/>
            <a:rect l="textAreaLeft" t="textAreaTop" r="textAreaRight" b="textAreaBottom"/>
            <a:pathLst>
              <a:path w="717816" h="3653307">
                <a:moveTo>
                  <a:pt x="0" y="3653307"/>
                </a:moveTo>
                <a:lnTo>
                  <a:pt x="717816" y="3653307"/>
                </a:lnTo>
                <a:lnTo>
                  <a:pt x="717816" y="0"/>
                </a:lnTo>
                <a:lnTo>
                  <a:pt x="0" y="0"/>
                </a:lnTo>
                <a:lnTo>
                  <a:pt x="0" y="3653307"/>
                </a:lnTo>
              </a:path>
            </a:pathLst>
          </a:custGeom>
          <a:solidFill>
            <a:srgbClr val="99331e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4" name="Freeform 3"/>
          <p:cNvSpPr/>
          <p:nvPr/>
        </p:nvSpPr>
        <p:spPr>
          <a:xfrm>
            <a:off x="1879200" y="5636520"/>
            <a:ext cx="717480" cy="1221120"/>
          </a:xfrm>
          <a:custGeom>
            <a:avLst/>
            <a:gdLst>
              <a:gd name="textAreaLeft" fmla="*/ 0 w 717480"/>
              <a:gd name="textAreaRight" fmla="*/ 717840 w 717480"/>
              <a:gd name="textAreaTop" fmla="*/ 0 h 1221120"/>
              <a:gd name="textAreaBottom" fmla="*/ 1221480 h 1221120"/>
            </a:gdLst>
            <a:ahLst/>
            <a:rect l="textAreaLeft" t="textAreaTop" r="textAreaRight" b="textAreaBottom"/>
            <a:pathLst>
              <a:path w="717804" h="1221587">
                <a:moveTo>
                  <a:pt x="0" y="1221587"/>
                </a:moveTo>
                <a:lnTo>
                  <a:pt x="717803" y="1221587"/>
                </a:lnTo>
                <a:lnTo>
                  <a:pt x="717803" y="0"/>
                </a:lnTo>
                <a:lnTo>
                  <a:pt x="0" y="0"/>
                </a:lnTo>
                <a:lnTo>
                  <a:pt x="0" y="1221587"/>
                </a:lnTo>
              </a:path>
            </a:pathLst>
          </a:custGeom>
          <a:solidFill>
            <a:srgbClr val="3e552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5" name="Freeform 3"/>
          <p:cNvSpPr/>
          <p:nvPr/>
        </p:nvSpPr>
        <p:spPr>
          <a:xfrm>
            <a:off x="7284240" y="127080"/>
            <a:ext cx="1732320" cy="1732320"/>
          </a:xfrm>
          <a:custGeom>
            <a:avLst/>
            <a:gdLst>
              <a:gd name="textAreaLeft" fmla="*/ 0 w 1732320"/>
              <a:gd name="textAreaRight" fmla="*/ 1732680 w 1732320"/>
              <a:gd name="textAreaTop" fmla="*/ 0 h 1732320"/>
              <a:gd name="textAreaBottom" fmla="*/ 1732680 h 1732320"/>
            </a:gdLst>
            <a:ahLst/>
            <a:rect l="textAreaLeft" t="textAreaTop" r="textAreaRight" b="textAreaBottom"/>
            <a:pathLst>
              <a:path w="1732788" h="1732788">
                <a:moveTo>
                  <a:pt x="866394" y="1732788"/>
                </a:moveTo>
                <a:cubicBezTo>
                  <a:pt x="1344891" y="1732788"/>
                  <a:pt x="1732788" y="1344891"/>
                  <a:pt x="1732788" y="866394"/>
                </a:cubicBezTo>
                <a:cubicBezTo>
                  <a:pt x="1732788" y="387896"/>
                  <a:pt x="1344891" y="0"/>
                  <a:pt x="866394" y="0"/>
                </a:cubicBezTo>
                <a:cubicBezTo>
                  <a:pt x="387896" y="0"/>
                  <a:pt x="0" y="387896"/>
                  <a:pt x="0" y="866394"/>
                </a:cubicBezTo>
                <a:cubicBezTo>
                  <a:pt x="0" y="1344891"/>
                  <a:pt x="387896" y="1732788"/>
                  <a:pt x="866394" y="1732788"/>
                </a:cubicBezTo>
              </a:path>
            </a:pathLst>
          </a:custGeom>
          <a:solidFill>
            <a:srgbClr val="fccf38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6" name="Freeform 3"/>
          <p:cNvSpPr/>
          <p:nvPr/>
        </p:nvSpPr>
        <p:spPr>
          <a:xfrm>
            <a:off x="1938960" y="191880"/>
            <a:ext cx="126720" cy="734760"/>
          </a:xfrm>
          <a:custGeom>
            <a:avLst/>
            <a:gdLst>
              <a:gd name="textAreaLeft" fmla="*/ 0 w 126720"/>
              <a:gd name="textAreaRight" fmla="*/ 127080 w 126720"/>
              <a:gd name="textAreaTop" fmla="*/ 0 h 734760"/>
              <a:gd name="textAreaBottom" fmla="*/ 735120 h 734760"/>
            </a:gdLst>
            <a:ahLst/>
            <a:rect l="textAreaLeft" t="textAreaTop" r="textAreaRight" b="textAreaBottom"/>
            <a:pathLst>
              <a:path w="127000" h="735228">
                <a:moveTo>
                  <a:pt x="31750" y="31750"/>
                </a:moveTo>
                <a:lnTo>
                  <a:pt x="31750" y="703478"/>
                </a:lnTo>
              </a:path>
            </a:pathLst>
          </a:custGeom>
          <a:noFill/>
          <a:ln w="63500">
            <a:solidFill>
              <a:srgbClr val="fccf38"/>
            </a:solidFill>
            <a:prstDash val="dash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reeform 3"/>
          <p:cNvSpPr/>
          <p:nvPr/>
        </p:nvSpPr>
        <p:spPr>
          <a:xfrm>
            <a:off x="2130480" y="959760"/>
            <a:ext cx="4940280" cy="12672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4940643" h="127000">
                <a:moveTo>
                  <a:pt x="31750" y="31750"/>
                </a:moveTo>
                <a:lnTo>
                  <a:pt x="4908893" y="31750"/>
                </a:lnTo>
              </a:path>
            </a:pathLst>
          </a:custGeom>
          <a:noFill/>
          <a:ln w="63500">
            <a:solidFill>
              <a:srgbClr val="fccf38"/>
            </a:solidFill>
            <a:prstDash val="dash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3"/>
          <p:cNvSpPr/>
          <p:nvPr/>
        </p:nvSpPr>
        <p:spPr>
          <a:xfrm>
            <a:off x="7874640" y="522720"/>
            <a:ext cx="436320" cy="1005120"/>
          </a:xfrm>
          <a:custGeom>
            <a:avLst/>
            <a:gdLst>
              <a:gd name="textAreaLeft" fmla="*/ 0 w 436320"/>
              <a:gd name="textAreaRight" fmla="*/ 436680 w 436320"/>
              <a:gd name="textAreaTop" fmla="*/ 0 h 1005120"/>
              <a:gd name="textAreaBottom" fmla="*/ 1005480 h 1005120"/>
            </a:gdLst>
            <a:ahLst/>
            <a:rect l="textAreaLeft" t="textAreaTop" r="textAreaRight" b="textAreaBottom"/>
            <a:pathLst>
              <a:path w="436575" h="1005446">
                <a:moveTo>
                  <a:pt x="219684" y="222465"/>
                </a:moveTo>
                <a:lnTo>
                  <a:pt x="45605" y="265290"/>
                </a:lnTo>
                <a:lnTo>
                  <a:pt x="0" y="85648"/>
                </a:lnTo>
                <a:lnTo>
                  <a:pt x="286867" y="0"/>
                </a:lnTo>
                <a:lnTo>
                  <a:pt x="436574" y="0"/>
                </a:lnTo>
                <a:lnTo>
                  <a:pt x="436574" y="1005446"/>
                </a:lnTo>
                <a:lnTo>
                  <a:pt x="219684" y="1005446"/>
                </a:lnTo>
                <a:lnTo>
                  <a:pt x="219684" y="222465"/>
                </a:lnTo>
              </a:path>
            </a:pathLst>
          </a:custGeom>
          <a:solidFill>
            <a:srgbClr val="dca83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9" name="Freeform 3"/>
          <p:cNvSpPr/>
          <p:nvPr/>
        </p:nvSpPr>
        <p:spPr>
          <a:xfrm>
            <a:off x="7842600" y="488880"/>
            <a:ext cx="436320" cy="1005120"/>
          </a:xfrm>
          <a:custGeom>
            <a:avLst/>
            <a:gdLst>
              <a:gd name="textAreaLeft" fmla="*/ 0 w 436320"/>
              <a:gd name="textAreaRight" fmla="*/ 436680 w 436320"/>
              <a:gd name="textAreaTop" fmla="*/ 0 h 1005120"/>
              <a:gd name="textAreaBottom" fmla="*/ 1005480 h 1005120"/>
            </a:gdLst>
            <a:ahLst/>
            <a:rect l="textAreaLeft" t="textAreaTop" r="textAreaRight" b="textAreaBottom"/>
            <a:pathLst>
              <a:path w="436575" h="1005446">
                <a:moveTo>
                  <a:pt x="219685" y="222465"/>
                </a:moveTo>
                <a:lnTo>
                  <a:pt x="45605" y="265290"/>
                </a:lnTo>
                <a:lnTo>
                  <a:pt x="0" y="85636"/>
                </a:lnTo>
                <a:lnTo>
                  <a:pt x="286867" y="0"/>
                </a:lnTo>
                <a:lnTo>
                  <a:pt x="436575" y="0"/>
                </a:lnTo>
                <a:lnTo>
                  <a:pt x="436575" y="1005446"/>
                </a:lnTo>
                <a:lnTo>
                  <a:pt x="219685" y="1005446"/>
                </a:lnTo>
                <a:lnTo>
                  <a:pt x="219685" y="222465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0" name="Freeform 3"/>
          <p:cNvSpPr/>
          <p:nvPr/>
        </p:nvSpPr>
        <p:spPr>
          <a:xfrm>
            <a:off x="8118720" y="2141280"/>
            <a:ext cx="126720" cy="4654440"/>
          </a:xfrm>
          <a:custGeom>
            <a:avLst/>
            <a:gdLst>
              <a:gd name="textAreaLeft" fmla="*/ 0 w 126720"/>
              <a:gd name="textAreaRight" fmla="*/ 127080 w 126720"/>
              <a:gd name="textAreaTop" fmla="*/ 0 h 4654440"/>
              <a:gd name="textAreaBottom" fmla="*/ 4654800 h 4654440"/>
            </a:gdLst>
            <a:ahLst/>
            <a:rect l="textAreaLeft" t="textAreaTop" r="textAreaRight" b="textAreaBottom"/>
            <a:pathLst>
              <a:path w="127000" h="4654638">
                <a:moveTo>
                  <a:pt x="31750" y="31750"/>
                </a:moveTo>
                <a:lnTo>
                  <a:pt x="31750" y="4622888"/>
                </a:lnTo>
              </a:path>
            </a:pathLst>
          </a:custGeom>
          <a:noFill/>
          <a:ln w="63500">
            <a:solidFill>
              <a:srgbClr val="fccf38"/>
            </a:solidFill>
            <a:prstDash val="dash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3"/>
          <p:cNvSpPr/>
          <p:nvPr/>
        </p:nvSpPr>
        <p:spPr>
          <a:xfrm>
            <a:off x="3265560" y="4143600"/>
            <a:ext cx="63720" cy="63720"/>
          </a:xfrm>
          <a:custGeom>
            <a:avLst/>
            <a:gdLst>
              <a:gd name="textAreaLeft" fmla="*/ 0 w 63720"/>
              <a:gd name="textAreaRight" fmla="*/ 64080 w 6372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64008" h="64007">
                <a:moveTo>
                  <a:pt x="32004" y="64008"/>
                </a:moveTo>
                <a:cubicBezTo>
                  <a:pt x="49682" y="64008"/>
                  <a:pt x="64008" y="49682"/>
                  <a:pt x="64008" y="32003"/>
                </a:cubicBezTo>
                <a:cubicBezTo>
                  <a:pt x="64008" y="14325"/>
                  <a:pt x="49682" y="0"/>
                  <a:pt x="32004" y="0"/>
                </a:cubicBezTo>
                <a:cubicBezTo>
                  <a:pt x="14325" y="0"/>
                  <a:pt x="0" y="14325"/>
                  <a:pt x="0" y="32003"/>
                </a:cubicBezTo>
                <a:cubicBezTo>
                  <a:pt x="0" y="49682"/>
                  <a:pt x="14325" y="64008"/>
                  <a:pt x="32004" y="64008"/>
                </a:cubicBezTo>
              </a:path>
            </a:pathLst>
          </a:custGeom>
          <a:solidFill>
            <a:srgbClr val="459ddc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3265560" y="4754880"/>
            <a:ext cx="63720" cy="63720"/>
          </a:xfrm>
          <a:custGeom>
            <a:avLst/>
            <a:gdLst>
              <a:gd name="textAreaLeft" fmla="*/ 0 w 63720"/>
              <a:gd name="textAreaRight" fmla="*/ 64080 w 6372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64008" h="64008">
                <a:moveTo>
                  <a:pt x="32004" y="64008"/>
                </a:moveTo>
                <a:cubicBezTo>
                  <a:pt x="49682" y="64008"/>
                  <a:pt x="64008" y="49682"/>
                  <a:pt x="64008" y="32004"/>
                </a:cubicBezTo>
                <a:cubicBezTo>
                  <a:pt x="64008" y="14325"/>
                  <a:pt x="49682" y="0"/>
                  <a:pt x="32004" y="0"/>
                </a:cubicBezTo>
                <a:cubicBezTo>
                  <a:pt x="14325" y="0"/>
                  <a:pt x="0" y="14325"/>
                  <a:pt x="0" y="32004"/>
                </a:cubicBezTo>
                <a:cubicBezTo>
                  <a:pt x="0" y="49682"/>
                  <a:pt x="14325" y="64008"/>
                  <a:pt x="32004" y="64008"/>
                </a:cubicBezTo>
              </a:path>
            </a:pathLst>
          </a:custGeom>
          <a:solidFill>
            <a:srgbClr val="459ddc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3" name="Freeform 3"/>
          <p:cNvSpPr/>
          <p:nvPr/>
        </p:nvSpPr>
        <p:spPr>
          <a:xfrm>
            <a:off x="1015560" y="3147480"/>
            <a:ext cx="717480" cy="3710160"/>
          </a:xfrm>
          <a:custGeom>
            <a:avLst/>
            <a:gdLst>
              <a:gd name="textAreaLeft" fmla="*/ 0 w 717480"/>
              <a:gd name="textAreaRight" fmla="*/ 717840 w 717480"/>
              <a:gd name="textAreaTop" fmla="*/ 0 h 3710160"/>
              <a:gd name="textAreaBottom" fmla="*/ 3710520 h 3710160"/>
            </a:gdLst>
            <a:ahLst/>
            <a:rect l="textAreaLeft" t="textAreaTop" r="textAreaRight" b="textAreaBottom"/>
            <a:pathLst>
              <a:path w="717816" h="3710685">
                <a:moveTo>
                  <a:pt x="0" y="3710685"/>
                </a:moveTo>
                <a:lnTo>
                  <a:pt x="717816" y="3710685"/>
                </a:lnTo>
                <a:lnTo>
                  <a:pt x="717816" y="0"/>
                </a:lnTo>
                <a:lnTo>
                  <a:pt x="0" y="0"/>
                </a:lnTo>
                <a:lnTo>
                  <a:pt x="0" y="3710685"/>
                </a:lnTo>
              </a:path>
            </a:pathLst>
          </a:custGeom>
          <a:solidFill>
            <a:srgbClr val="cb4d2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4" name="Freeform 3"/>
          <p:cNvSpPr/>
          <p:nvPr/>
        </p:nvSpPr>
        <p:spPr>
          <a:xfrm>
            <a:off x="1833120" y="5578920"/>
            <a:ext cx="717480" cy="1278720"/>
          </a:xfrm>
          <a:custGeom>
            <a:avLst/>
            <a:gdLst>
              <a:gd name="textAreaLeft" fmla="*/ 0 w 717480"/>
              <a:gd name="textAreaRight" fmla="*/ 717840 w 717480"/>
              <a:gd name="textAreaTop" fmla="*/ 0 h 1278720"/>
              <a:gd name="textAreaBottom" fmla="*/ 1279080 h 1278720"/>
            </a:gdLst>
            <a:ahLst/>
            <a:rect l="textAreaLeft" t="textAreaTop" r="textAreaRight" b="textAreaBottom"/>
            <a:pathLst>
              <a:path w="717804" h="1278966">
                <a:moveTo>
                  <a:pt x="0" y="1278966"/>
                </a:moveTo>
                <a:lnTo>
                  <a:pt x="717804" y="1278966"/>
                </a:lnTo>
                <a:lnTo>
                  <a:pt x="717804" y="0"/>
                </a:lnTo>
                <a:lnTo>
                  <a:pt x="0" y="0"/>
                </a:lnTo>
                <a:lnTo>
                  <a:pt x="0" y="1278966"/>
                </a:lnTo>
              </a:path>
            </a:pathLst>
          </a:custGeom>
          <a:solidFill>
            <a:srgbClr val="6a943c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05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6489720"/>
            <a:ext cx="88560" cy="50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9800" y="6527880"/>
            <a:ext cx="317160" cy="114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5"/>
          <a:stretch/>
        </p:blipFill>
        <p:spPr>
          <a:xfrm>
            <a:off x="1130400" y="3276720"/>
            <a:ext cx="482400" cy="495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"/>
          <p:cNvPicPr/>
          <p:nvPr/>
        </p:nvPicPr>
        <p:blipFill>
          <a:blip r:embed="rId6"/>
          <a:stretch/>
        </p:blipFill>
        <p:spPr>
          <a:xfrm>
            <a:off x="3200400" y="2260440"/>
            <a:ext cx="1091880" cy="367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7"/>
          <a:stretch/>
        </p:blipFill>
        <p:spPr>
          <a:xfrm>
            <a:off x="4495680" y="2108160"/>
            <a:ext cx="1002960" cy="596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8"/>
          <a:stretch/>
        </p:blipFill>
        <p:spPr>
          <a:xfrm>
            <a:off x="3200400" y="2781360"/>
            <a:ext cx="3708000" cy="444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9"/>
          <a:stretch/>
        </p:blipFill>
        <p:spPr>
          <a:xfrm>
            <a:off x="3225960" y="3352680"/>
            <a:ext cx="3860280" cy="469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10"/>
          <a:stretch/>
        </p:blipFill>
        <p:spPr>
          <a:xfrm>
            <a:off x="3429000" y="4089240"/>
            <a:ext cx="1917360" cy="164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11"/>
          <a:stretch/>
        </p:blipFill>
        <p:spPr>
          <a:xfrm>
            <a:off x="5372280" y="4089240"/>
            <a:ext cx="939600" cy="1393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12"/>
          <a:stretch/>
        </p:blipFill>
        <p:spPr>
          <a:xfrm>
            <a:off x="3429000" y="4292640"/>
            <a:ext cx="1269720" cy="1648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"/>
          <p:cNvPicPr/>
          <p:nvPr/>
        </p:nvPicPr>
        <p:blipFill>
          <a:blip r:embed="rId13"/>
          <a:stretch/>
        </p:blipFill>
        <p:spPr>
          <a:xfrm>
            <a:off x="3429000" y="4699080"/>
            <a:ext cx="2031480" cy="164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"/>
          <p:cNvPicPr/>
          <p:nvPr/>
        </p:nvPicPr>
        <p:blipFill>
          <a:blip r:embed="rId14"/>
          <a:stretch/>
        </p:blipFill>
        <p:spPr>
          <a:xfrm>
            <a:off x="5499000" y="4699080"/>
            <a:ext cx="1206000" cy="1393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15"/>
          <a:stretch/>
        </p:blipFill>
        <p:spPr>
          <a:xfrm>
            <a:off x="3429000" y="4902120"/>
            <a:ext cx="2908080" cy="164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16"/>
          <a:stretch/>
        </p:blipFill>
        <p:spPr>
          <a:xfrm>
            <a:off x="1955880" y="5702400"/>
            <a:ext cx="482400" cy="495000"/>
          </a:xfrm>
          <a:prstGeom prst="rect">
            <a:avLst/>
          </a:prstGeom>
          <a:ln w="0">
            <a:noFill/>
          </a:ln>
        </p:spPr>
      </p:pic>
      <p:sp>
        <p:nvSpPr>
          <p:cNvPr id="119" name="矩形 34">
            <a:hlinkClick r:id="rId17"/>
          </p:cNvPr>
          <p:cNvSpPr/>
          <p:nvPr/>
        </p:nvSpPr>
        <p:spPr>
          <a:xfrm>
            <a:off x="526680" y="0"/>
            <a:ext cx="828072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59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reeform 3"/>
          <p:cNvSpPr/>
          <p:nvPr/>
        </p:nvSpPr>
        <p:spPr>
          <a:xfrm>
            <a:off x="216000" y="6539040"/>
            <a:ext cx="88200" cy="88920"/>
          </a:xfrm>
          <a:custGeom>
            <a:avLst/>
            <a:gdLst>
              <a:gd name="textAreaLeft" fmla="*/ 0 w 88200"/>
              <a:gd name="textAreaRight" fmla="*/ 88560 w 8820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88595" h="89458">
                <a:moveTo>
                  <a:pt x="0" y="89458"/>
                </a:moveTo>
                <a:lnTo>
                  <a:pt x="43395" y="0"/>
                </a:lnTo>
                <a:lnTo>
                  <a:pt x="88595" y="89458"/>
                </a:lnTo>
                <a:lnTo>
                  <a:pt x="71056" y="89458"/>
                </a:lnTo>
                <a:lnTo>
                  <a:pt x="44297" y="30874"/>
                </a:lnTo>
                <a:lnTo>
                  <a:pt x="17386" y="89458"/>
                </a:lnTo>
                <a:lnTo>
                  <a:pt x="0" y="89458"/>
                </a:lnTo>
              </a:path>
            </a:pathLst>
          </a:custGeom>
          <a:solidFill>
            <a:srgbClr val="80808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4280" bIns="44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1" name="Freeform 3"/>
          <p:cNvSpPr/>
          <p:nvPr/>
        </p:nvSpPr>
        <p:spPr>
          <a:xfrm>
            <a:off x="237600" y="6595200"/>
            <a:ext cx="47520" cy="10800"/>
          </a:xfrm>
          <a:custGeom>
            <a:avLst/>
            <a:gdLst>
              <a:gd name="textAreaLeft" fmla="*/ 0 w 47520"/>
              <a:gd name="textAreaRight" fmla="*/ 47880 w 4752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47980" h="11138">
                <a:moveTo>
                  <a:pt x="0" y="5568"/>
                </a:moveTo>
                <a:lnTo>
                  <a:pt x="47980" y="5568"/>
                </a:lnTo>
              </a:path>
            </a:pathLst>
          </a:custGeom>
          <a:noFill/>
          <a:ln w="0">
            <a:solidFill>
              <a:srgbClr val="808080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3840" bIns="-33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Freeform 3"/>
          <p:cNvSpPr/>
          <p:nvPr/>
        </p:nvSpPr>
        <p:spPr>
          <a:xfrm>
            <a:off x="164520" y="6539040"/>
            <a:ext cx="61920" cy="88920"/>
          </a:xfrm>
          <a:custGeom>
            <a:avLst/>
            <a:gdLst>
              <a:gd name="textAreaLeft" fmla="*/ 0 w 61920"/>
              <a:gd name="textAreaRight" fmla="*/ 62280 w 6192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62141" h="89434">
                <a:moveTo>
                  <a:pt x="0" y="0"/>
                </a:moveTo>
                <a:lnTo>
                  <a:pt x="0" y="16357"/>
                </a:lnTo>
                <a:lnTo>
                  <a:pt x="22263" y="16357"/>
                </a:lnTo>
                <a:lnTo>
                  <a:pt x="22263" y="89433"/>
                </a:lnTo>
                <a:lnTo>
                  <a:pt x="39700" y="89433"/>
                </a:lnTo>
                <a:lnTo>
                  <a:pt x="39700" y="16878"/>
                </a:lnTo>
                <a:lnTo>
                  <a:pt x="62141" y="16878"/>
                </a:lnTo>
                <a:lnTo>
                  <a:pt x="62141" y="0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4280" bIns="44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3" name="Freeform 3"/>
          <p:cNvSpPr/>
          <p:nvPr/>
        </p:nvSpPr>
        <p:spPr>
          <a:xfrm>
            <a:off x="307080" y="6538320"/>
            <a:ext cx="56520" cy="90720"/>
          </a:xfrm>
          <a:custGeom>
            <a:avLst/>
            <a:gdLst>
              <a:gd name="textAreaLeft" fmla="*/ 0 w 56520"/>
              <a:gd name="textAreaRight" fmla="*/ 56880 w 56520"/>
              <a:gd name="textAreaTop" fmla="*/ 0 h 90720"/>
              <a:gd name="textAreaBottom" fmla="*/ 91080 h 90720"/>
            </a:gdLst>
            <a:ahLst/>
            <a:rect l="textAreaLeft" t="textAreaTop" r="textAreaRight" b="textAreaBottom"/>
            <a:pathLst>
              <a:path w="56959" h="90995">
                <a:moveTo>
                  <a:pt x="30873" y="36258"/>
                </a:moveTo>
                <a:cubicBezTo>
                  <a:pt x="45440" y="40919"/>
                  <a:pt x="58064" y="46456"/>
                  <a:pt x="56959" y="66459"/>
                </a:cubicBezTo>
                <a:cubicBezTo>
                  <a:pt x="56095" y="82219"/>
                  <a:pt x="42722" y="92316"/>
                  <a:pt x="24117" y="90995"/>
                </a:cubicBezTo>
                <a:cubicBezTo>
                  <a:pt x="12750" y="90182"/>
                  <a:pt x="6324" y="84429"/>
                  <a:pt x="0" y="77723"/>
                </a:cubicBezTo>
                <a:cubicBezTo>
                  <a:pt x="3581" y="73367"/>
                  <a:pt x="7556" y="69367"/>
                  <a:pt x="11722" y="65582"/>
                </a:cubicBezTo>
                <a:cubicBezTo>
                  <a:pt x="14960" y="70345"/>
                  <a:pt x="20891" y="75615"/>
                  <a:pt x="29133" y="74917"/>
                </a:cubicBezTo>
                <a:cubicBezTo>
                  <a:pt x="34925" y="74434"/>
                  <a:pt x="41821" y="68795"/>
                  <a:pt x="38696" y="61239"/>
                </a:cubicBezTo>
                <a:cubicBezTo>
                  <a:pt x="36360" y="55588"/>
                  <a:pt x="27304" y="53327"/>
                  <a:pt x="21081" y="51041"/>
                </a:cubicBezTo>
                <a:cubicBezTo>
                  <a:pt x="9855" y="46863"/>
                  <a:pt x="266" y="41097"/>
                  <a:pt x="1511" y="23659"/>
                </a:cubicBezTo>
                <a:cubicBezTo>
                  <a:pt x="2514" y="9690"/>
                  <a:pt x="13830" y="927"/>
                  <a:pt x="28486" y="0"/>
                </a:cubicBezTo>
                <a:cubicBezTo>
                  <a:pt x="41490" y="-837"/>
                  <a:pt x="49072" y="4953"/>
                  <a:pt x="55422" y="11709"/>
                </a:cubicBezTo>
                <a:cubicBezTo>
                  <a:pt x="52298" y="16141"/>
                  <a:pt x="48425" y="19773"/>
                  <a:pt x="45224" y="24092"/>
                </a:cubicBezTo>
                <a:cubicBezTo>
                  <a:pt x="41871" y="21425"/>
                  <a:pt x="37934" y="17043"/>
                  <a:pt x="31965" y="16281"/>
                </a:cubicBezTo>
                <a:cubicBezTo>
                  <a:pt x="23634" y="15227"/>
                  <a:pt x="17005" y="20269"/>
                  <a:pt x="19329" y="28879"/>
                </a:cubicBezTo>
                <a:cubicBezTo>
                  <a:pt x="20548" y="33363"/>
                  <a:pt x="26263" y="34785"/>
                  <a:pt x="30873" y="36258"/>
                </a:cubicBezTo>
              </a:path>
            </a:pathLst>
          </a:custGeom>
          <a:solidFill>
            <a:srgbClr val="80808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4" name="Freeform 3"/>
          <p:cNvSpPr/>
          <p:nvPr/>
        </p:nvSpPr>
        <p:spPr>
          <a:xfrm>
            <a:off x="393480" y="6538320"/>
            <a:ext cx="77400" cy="90720"/>
          </a:xfrm>
          <a:custGeom>
            <a:avLst/>
            <a:gdLst>
              <a:gd name="textAreaLeft" fmla="*/ 0 w 77400"/>
              <a:gd name="textAreaRight" fmla="*/ 77760 w 77400"/>
              <a:gd name="textAreaTop" fmla="*/ 0 h 90720"/>
              <a:gd name="textAreaBottom" fmla="*/ 91080 h 90720"/>
            </a:gdLst>
            <a:ahLst/>
            <a:rect l="textAreaLeft" t="textAreaTop" r="textAreaRight" b="textAreaBottom"/>
            <a:pathLst>
              <a:path w="77914" h="90992">
                <a:moveTo>
                  <a:pt x="77914" y="60350"/>
                </a:moveTo>
                <a:lnTo>
                  <a:pt x="77914" y="78244"/>
                </a:lnTo>
                <a:cubicBezTo>
                  <a:pt x="76987" y="81395"/>
                  <a:pt x="68516" y="85445"/>
                  <a:pt x="65443" y="86792"/>
                </a:cubicBezTo>
                <a:cubicBezTo>
                  <a:pt x="31889" y="101600"/>
                  <a:pt x="-3302" y="77470"/>
                  <a:pt x="0" y="39687"/>
                </a:cubicBezTo>
                <a:cubicBezTo>
                  <a:pt x="1879" y="18098"/>
                  <a:pt x="19786" y="1778"/>
                  <a:pt x="41313" y="0"/>
                </a:cubicBezTo>
                <a:cubicBezTo>
                  <a:pt x="57391" y="-1282"/>
                  <a:pt x="66484" y="4229"/>
                  <a:pt x="75945" y="10909"/>
                </a:cubicBezTo>
                <a:lnTo>
                  <a:pt x="71272" y="17526"/>
                </a:lnTo>
                <a:cubicBezTo>
                  <a:pt x="63906" y="13475"/>
                  <a:pt x="57835" y="8141"/>
                  <a:pt x="47536" y="7797"/>
                </a:cubicBezTo>
                <a:cubicBezTo>
                  <a:pt x="23291" y="7036"/>
                  <a:pt x="7429" y="26734"/>
                  <a:pt x="8978" y="47879"/>
                </a:cubicBezTo>
                <a:cubicBezTo>
                  <a:pt x="9867" y="60579"/>
                  <a:pt x="17170" y="71958"/>
                  <a:pt x="26898" y="77851"/>
                </a:cubicBezTo>
                <a:cubicBezTo>
                  <a:pt x="37871" y="84544"/>
                  <a:pt x="59829" y="84976"/>
                  <a:pt x="69341" y="74345"/>
                </a:cubicBezTo>
                <a:lnTo>
                  <a:pt x="69341" y="49822"/>
                </a:lnTo>
                <a:lnTo>
                  <a:pt x="40881" y="49822"/>
                </a:lnTo>
                <a:lnTo>
                  <a:pt x="43256" y="41656"/>
                </a:lnTo>
                <a:lnTo>
                  <a:pt x="77914" y="41656"/>
                </a:lnTo>
                <a:lnTo>
                  <a:pt x="77914" y="60350"/>
                </a:lnTo>
              </a:path>
            </a:pathLst>
          </a:custGeom>
          <a:solidFill>
            <a:srgbClr val="80808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5" name="Freeform 3"/>
          <p:cNvSpPr/>
          <p:nvPr/>
        </p:nvSpPr>
        <p:spPr>
          <a:xfrm>
            <a:off x="779040" y="6539040"/>
            <a:ext cx="6840" cy="11160"/>
          </a:xfrm>
          <a:custGeom>
            <a:avLst/>
            <a:gdLst>
              <a:gd name="textAreaLeft" fmla="*/ 0 w 6840"/>
              <a:gd name="textAreaRight" fmla="*/ 7200 w 68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7124" h="11696">
                <a:moveTo>
                  <a:pt x="4444" y="1663"/>
                </a:moveTo>
                <a:lnTo>
                  <a:pt x="4444" y="11696"/>
                </a:lnTo>
                <a:lnTo>
                  <a:pt x="2679" y="11696"/>
                </a:lnTo>
                <a:lnTo>
                  <a:pt x="2679" y="1663"/>
                </a:lnTo>
                <a:lnTo>
                  <a:pt x="0" y="1663"/>
                </a:lnTo>
                <a:lnTo>
                  <a:pt x="0" y="0"/>
                </a:lnTo>
                <a:lnTo>
                  <a:pt x="7124" y="0"/>
                </a:lnTo>
                <a:lnTo>
                  <a:pt x="7124" y="1663"/>
                </a:lnTo>
                <a:lnTo>
                  <a:pt x="4444" y="1663"/>
                </a:lnTo>
              </a:path>
            </a:pathLst>
          </a:custGeom>
          <a:solidFill>
            <a:srgbClr val="80808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3480" bIns="-33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6" name="Freeform 3"/>
          <p:cNvSpPr/>
          <p:nvPr/>
        </p:nvSpPr>
        <p:spPr>
          <a:xfrm>
            <a:off x="787320" y="6538320"/>
            <a:ext cx="12600" cy="12600"/>
          </a:xfrm>
          <a:custGeom>
            <a:avLst/>
            <a:gdLst>
              <a:gd name="textAreaLeft" fmla="*/ 0 w 12600"/>
              <a:gd name="textAreaRight" fmla="*/ 12960 w 1260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12839" h="13106">
                <a:moveTo>
                  <a:pt x="0" y="12572"/>
                </a:moveTo>
                <a:lnTo>
                  <a:pt x="2463" y="0"/>
                </a:lnTo>
                <a:lnTo>
                  <a:pt x="6477" y="9093"/>
                </a:lnTo>
                <a:lnTo>
                  <a:pt x="10629" y="0"/>
                </a:lnTo>
                <a:lnTo>
                  <a:pt x="12839" y="12572"/>
                </a:lnTo>
                <a:lnTo>
                  <a:pt x="11023" y="12572"/>
                </a:lnTo>
                <a:lnTo>
                  <a:pt x="9906" y="5512"/>
                </a:lnTo>
                <a:lnTo>
                  <a:pt x="6438" y="13106"/>
                </a:lnTo>
                <a:lnTo>
                  <a:pt x="3086" y="5512"/>
                </a:lnTo>
                <a:lnTo>
                  <a:pt x="1828" y="12572"/>
                </a:lnTo>
                <a:lnTo>
                  <a:pt x="0" y="12572"/>
                </a:lnTo>
              </a:path>
            </a:pathLst>
          </a:custGeom>
          <a:solidFill>
            <a:srgbClr val="80808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2040" bIns="-320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7" name="Freeform 3"/>
          <p:cNvSpPr/>
          <p:nvPr/>
        </p:nvSpPr>
        <p:spPr>
          <a:xfrm>
            <a:off x="2404440" y="5120640"/>
            <a:ext cx="185400" cy="185400"/>
          </a:xfrm>
          <a:custGeom>
            <a:avLst/>
            <a:gdLst>
              <a:gd name="textAreaLeft" fmla="*/ 0 w 185400"/>
              <a:gd name="textAreaRight" fmla="*/ 185760 w 185400"/>
              <a:gd name="textAreaTop" fmla="*/ 0 h 185400"/>
              <a:gd name="textAreaBottom" fmla="*/ 185760 h 185400"/>
            </a:gdLst>
            <a:ahLst/>
            <a:rect l="textAreaLeft" t="textAreaTop" r="textAreaRight" b="textAreaBottom"/>
            <a:pathLst>
              <a:path w="185648" h="185749">
                <a:moveTo>
                  <a:pt x="92798" y="185749"/>
                </a:moveTo>
                <a:cubicBezTo>
                  <a:pt x="41579" y="185749"/>
                  <a:pt x="0" y="144119"/>
                  <a:pt x="0" y="92849"/>
                </a:cubicBezTo>
                <a:cubicBezTo>
                  <a:pt x="0" y="41630"/>
                  <a:pt x="41579" y="0"/>
                  <a:pt x="92798" y="0"/>
                </a:cubicBezTo>
                <a:cubicBezTo>
                  <a:pt x="144119" y="0"/>
                  <a:pt x="185648" y="41630"/>
                  <a:pt x="185648" y="92849"/>
                </a:cubicBezTo>
                <a:cubicBezTo>
                  <a:pt x="185699" y="144170"/>
                  <a:pt x="144119" y="185749"/>
                  <a:pt x="92798" y="185749"/>
                </a:cubicBezTo>
              </a:path>
            </a:pathLst>
          </a:custGeom>
          <a:solidFill>
            <a:srgbClr val="3e552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8" name="Freeform 3"/>
          <p:cNvSpPr/>
          <p:nvPr/>
        </p:nvSpPr>
        <p:spPr>
          <a:xfrm>
            <a:off x="2267640" y="5325480"/>
            <a:ext cx="458280" cy="933120"/>
          </a:xfrm>
          <a:custGeom>
            <a:avLst/>
            <a:gdLst>
              <a:gd name="textAreaLeft" fmla="*/ 0 w 458280"/>
              <a:gd name="textAreaRight" fmla="*/ 458640 w 458280"/>
              <a:gd name="textAreaTop" fmla="*/ 0 h 933120"/>
              <a:gd name="textAreaBottom" fmla="*/ 933480 h 933120"/>
            </a:gdLst>
            <a:ahLst/>
            <a:rect l="textAreaLeft" t="textAreaTop" r="textAreaRight" b="textAreaBottom"/>
            <a:pathLst>
              <a:path w="458800" h="933462">
                <a:moveTo>
                  <a:pt x="108153" y="881278"/>
                </a:moveTo>
                <a:lnTo>
                  <a:pt x="108254" y="128092"/>
                </a:lnTo>
                <a:lnTo>
                  <a:pt x="73253" y="128092"/>
                </a:lnTo>
                <a:lnTo>
                  <a:pt x="73253" y="405688"/>
                </a:lnTo>
                <a:cubicBezTo>
                  <a:pt x="73253" y="461212"/>
                  <a:pt x="0" y="461212"/>
                  <a:pt x="0" y="405688"/>
                </a:cubicBezTo>
                <a:lnTo>
                  <a:pt x="0" y="120446"/>
                </a:lnTo>
                <a:cubicBezTo>
                  <a:pt x="0" y="53441"/>
                  <a:pt x="52870" y="0"/>
                  <a:pt x="118706" y="0"/>
                </a:cubicBezTo>
                <a:lnTo>
                  <a:pt x="338645" y="0"/>
                </a:lnTo>
                <a:cubicBezTo>
                  <a:pt x="410819" y="0"/>
                  <a:pt x="458800" y="60502"/>
                  <a:pt x="458800" y="122237"/>
                </a:cubicBezTo>
                <a:lnTo>
                  <a:pt x="458800" y="405688"/>
                </a:lnTo>
                <a:cubicBezTo>
                  <a:pt x="458939" y="461555"/>
                  <a:pt x="386130" y="461555"/>
                  <a:pt x="386130" y="405688"/>
                </a:cubicBezTo>
                <a:lnTo>
                  <a:pt x="386130" y="128092"/>
                </a:lnTo>
                <a:lnTo>
                  <a:pt x="351421" y="128092"/>
                </a:lnTo>
                <a:lnTo>
                  <a:pt x="351421" y="881278"/>
                </a:lnTo>
                <a:cubicBezTo>
                  <a:pt x="351421" y="910132"/>
                  <a:pt x="327990" y="933462"/>
                  <a:pt x="299097" y="933462"/>
                </a:cubicBezTo>
                <a:cubicBezTo>
                  <a:pt x="270421" y="933462"/>
                  <a:pt x="247141" y="910082"/>
                  <a:pt x="247141" y="881278"/>
                </a:cubicBezTo>
                <a:lnTo>
                  <a:pt x="247332" y="444410"/>
                </a:lnTo>
                <a:lnTo>
                  <a:pt x="212343" y="444410"/>
                </a:lnTo>
                <a:lnTo>
                  <a:pt x="212343" y="881278"/>
                </a:lnTo>
                <a:cubicBezTo>
                  <a:pt x="212343" y="910132"/>
                  <a:pt x="189001" y="933462"/>
                  <a:pt x="160299" y="933462"/>
                </a:cubicBezTo>
                <a:cubicBezTo>
                  <a:pt x="131394" y="933411"/>
                  <a:pt x="108153" y="910132"/>
                  <a:pt x="108153" y="881278"/>
                </a:cubicBezTo>
              </a:path>
            </a:pathLst>
          </a:custGeom>
          <a:solidFill>
            <a:srgbClr val="3e552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9" name="Freeform 3"/>
          <p:cNvSpPr/>
          <p:nvPr/>
        </p:nvSpPr>
        <p:spPr>
          <a:xfrm>
            <a:off x="2966040" y="5120640"/>
            <a:ext cx="185400" cy="185400"/>
          </a:xfrm>
          <a:custGeom>
            <a:avLst/>
            <a:gdLst>
              <a:gd name="textAreaLeft" fmla="*/ 0 w 185400"/>
              <a:gd name="textAreaRight" fmla="*/ 185760 w 185400"/>
              <a:gd name="textAreaTop" fmla="*/ 0 h 185400"/>
              <a:gd name="textAreaBottom" fmla="*/ 185760 h 185400"/>
            </a:gdLst>
            <a:ahLst/>
            <a:rect l="textAreaLeft" t="textAreaTop" r="textAreaRight" b="textAreaBottom"/>
            <a:pathLst>
              <a:path w="185648" h="185749">
                <a:moveTo>
                  <a:pt x="92798" y="185749"/>
                </a:moveTo>
                <a:cubicBezTo>
                  <a:pt x="41579" y="185749"/>
                  <a:pt x="0" y="144119"/>
                  <a:pt x="0" y="92849"/>
                </a:cubicBezTo>
                <a:cubicBezTo>
                  <a:pt x="0" y="41630"/>
                  <a:pt x="41579" y="0"/>
                  <a:pt x="92798" y="0"/>
                </a:cubicBezTo>
                <a:cubicBezTo>
                  <a:pt x="144119" y="0"/>
                  <a:pt x="185648" y="41630"/>
                  <a:pt x="185648" y="92849"/>
                </a:cubicBezTo>
                <a:cubicBezTo>
                  <a:pt x="185699" y="144170"/>
                  <a:pt x="144119" y="185749"/>
                  <a:pt x="92798" y="185749"/>
                </a:cubicBezTo>
              </a:path>
            </a:pathLst>
          </a:custGeom>
          <a:solidFill>
            <a:srgbClr val="3e552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0" name="Freeform 3"/>
          <p:cNvSpPr/>
          <p:nvPr/>
        </p:nvSpPr>
        <p:spPr>
          <a:xfrm>
            <a:off x="2829240" y="5325480"/>
            <a:ext cx="458280" cy="933120"/>
          </a:xfrm>
          <a:custGeom>
            <a:avLst/>
            <a:gdLst>
              <a:gd name="textAreaLeft" fmla="*/ 0 w 458280"/>
              <a:gd name="textAreaRight" fmla="*/ 458640 w 458280"/>
              <a:gd name="textAreaTop" fmla="*/ 0 h 933120"/>
              <a:gd name="textAreaBottom" fmla="*/ 933480 h 933120"/>
            </a:gdLst>
            <a:ahLst/>
            <a:rect l="textAreaLeft" t="textAreaTop" r="textAreaRight" b="textAreaBottom"/>
            <a:pathLst>
              <a:path w="458800" h="933462">
                <a:moveTo>
                  <a:pt x="108153" y="881278"/>
                </a:moveTo>
                <a:lnTo>
                  <a:pt x="108254" y="128092"/>
                </a:lnTo>
                <a:lnTo>
                  <a:pt x="73253" y="128092"/>
                </a:lnTo>
                <a:lnTo>
                  <a:pt x="73253" y="405688"/>
                </a:lnTo>
                <a:cubicBezTo>
                  <a:pt x="73253" y="461212"/>
                  <a:pt x="0" y="461212"/>
                  <a:pt x="0" y="405688"/>
                </a:cubicBezTo>
                <a:lnTo>
                  <a:pt x="0" y="120446"/>
                </a:lnTo>
                <a:cubicBezTo>
                  <a:pt x="0" y="53441"/>
                  <a:pt x="52870" y="0"/>
                  <a:pt x="118706" y="0"/>
                </a:cubicBezTo>
                <a:lnTo>
                  <a:pt x="338645" y="0"/>
                </a:lnTo>
                <a:cubicBezTo>
                  <a:pt x="410832" y="0"/>
                  <a:pt x="458800" y="60502"/>
                  <a:pt x="458800" y="122237"/>
                </a:cubicBezTo>
                <a:lnTo>
                  <a:pt x="458800" y="405688"/>
                </a:lnTo>
                <a:cubicBezTo>
                  <a:pt x="458940" y="461555"/>
                  <a:pt x="386130" y="461555"/>
                  <a:pt x="386130" y="405688"/>
                </a:cubicBezTo>
                <a:lnTo>
                  <a:pt x="386130" y="128092"/>
                </a:lnTo>
                <a:lnTo>
                  <a:pt x="351421" y="128092"/>
                </a:lnTo>
                <a:lnTo>
                  <a:pt x="351421" y="881278"/>
                </a:lnTo>
                <a:cubicBezTo>
                  <a:pt x="351421" y="910132"/>
                  <a:pt x="327990" y="933462"/>
                  <a:pt x="299097" y="933462"/>
                </a:cubicBezTo>
                <a:cubicBezTo>
                  <a:pt x="270421" y="933462"/>
                  <a:pt x="247141" y="910082"/>
                  <a:pt x="247141" y="881278"/>
                </a:cubicBezTo>
                <a:lnTo>
                  <a:pt x="247332" y="444410"/>
                </a:lnTo>
                <a:lnTo>
                  <a:pt x="212344" y="444410"/>
                </a:lnTo>
                <a:lnTo>
                  <a:pt x="212344" y="881278"/>
                </a:lnTo>
                <a:cubicBezTo>
                  <a:pt x="212344" y="910132"/>
                  <a:pt x="189001" y="933462"/>
                  <a:pt x="160299" y="933462"/>
                </a:cubicBezTo>
                <a:cubicBezTo>
                  <a:pt x="131394" y="933411"/>
                  <a:pt x="108153" y="910132"/>
                  <a:pt x="108153" y="881278"/>
                </a:cubicBezTo>
              </a:path>
            </a:pathLst>
          </a:custGeom>
          <a:solidFill>
            <a:srgbClr val="3e552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1" name="Freeform 3"/>
          <p:cNvSpPr/>
          <p:nvPr/>
        </p:nvSpPr>
        <p:spPr>
          <a:xfrm>
            <a:off x="3527280" y="5120640"/>
            <a:ext cx="185400" cy="185400"/>
          </a:xfrm>
          <a:custGeom>
            <a:avLst/>
            <a:gdLst>
              <a:gd name="textAreaLeft" fmla="*/ 0 w 185400"/>
              <a:gd name="textAreaRight" fmla="*/ 185760 w 185400"/>
              <a:gd name="textAreaTop" fmla="*/ 0 h 185400"/>
              <a:gd name="textAreaBottom" fmla="*/ 185760 h 185400"/>
            </a:gdLst>
            <a:ahLst/>
            <a:rect l="textAreaLeft" t="textAreaTop" r="textAreaRight" b="textAreaBottom"/>
            <a:pathLst>
              <a:path w="185648" h="185749">
                <a:moveTo>
                  <a:pt x="92798" y="185749"/>
                </a:moveTo>
                <a:cubicBezTo>
                  <a:pt x="41579" y="185749"/>
                  <a:pt x="0" y="144119"/>
                  <a:pt x="0" y="92849"/>
                </a:cubicBezTo>
                <a:cubicBezTo>
                  <a:pt x="0" y="41630"/>
                  <a:pt x="41579" y="0"/>
                  <a:pt x="92798" y="0"/>
                </a:cubicBezTo>
                <a:cubicBezTo>
                  <a:pt x="144119" y="0"/>
                  <a:pt x="185648" y="41630"/>
                  <a:pt x="185648" y="92849"/>
                </a:cubicBezTo>
                <a:cubicBezTo>
                  <a:pt x="185699" y="144170"/>
                  <a:pt x="144119" y="185749"/>
                  <a:pt x="92798" y="185749"/>
                </a:cubicBezTo>
              </a:path>
            </a:pathLst>
          </a:custGeom>
          <a:solidFill>
            <a:srgbClr val="3e552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2" name="Freeform 3"/>
          <p:cNvSpPr/>
          <p:nvPr/>
        </p:nvSpPr>
        <p:spPr>
          <a:xfrm>
            <a:off x="3390480" y="5325480"/>
            <a:ext cx="458280" cy="933120"/>
          </a:xfrm>
          <a:custGeom>
            <a:avLst/>
            <a:gdLst>
              <a:gd name="textAreaLeft" fmla="*/ 0 w 458280"/>
              <a:gd name="textAreaRight" fmla="*/ 458640 w 458280"/>
              <a:gd name="textAreaTop" fmla="*/ 0 h 933120"/>
              <a:gd name="textAreaBottom" fmla="*/ 933480 h 933120"/>
            </a:gdLst>
            <a:ahLst/>
            <a:rect l="textAreaLeft" t="textAreaTop" r="textAreaRight" b="textAreaBottom"/>
            <a:pathLst>
              <a:path w="458800" h="933462">
                <a:moveTo>
                  <a:pt x="108153" y="881278"/>
                </a:moveTo>
                <a:lnTo>
                  <a:pt x="108255" y="128092"/>
                </a:lnTo>
                <a:lnTo>
                  <a:pt x="73253" y="128092"/>
                </a:lnTo>
                <a:lnTo>
                  <a:pt x="73253" y="405688"/>
                </a:lnTo>
                <a:cubicBezTo>
                  <a:pt x="73253" y="461212"/>
                  <a:pt x="0" y="461212"/>
                  <a:pt x="0" y="405688"/>
                </a:cubicBezTo>
                <a:lnTo>
                  <a:pt x="0" y="120446"/>
                </a:lnTo>
                <a:cubicBezTo>
                  <a:pt x="0" y="53441"/>
                  <a:pt x="52870" y="0"/>
                  <a:pt x="118707" y="0"/>
                </a:cubicBezTo>
                <a:lnTo>
                  <a:pt x="338645" y="0"/>
                </a:lnTo>
                <a:cubicBezTo>
                  <a:pt x="410819" y="0"/>
                  <a:pt x="458800" y="60502"/>
                  <a:pt x="458800" y="122237"/>
                </a:cubicBezTo>
                <a:lnTo>
                  <a:pt x="458800" y="405688"/>
                </a:lnTo>
                <a:cubicBezTo>
                  <a:pt x="458939" y="461555"/>
                  <a:pt x="386130" y="461555"/>
                  <a:pt x="386130" y="405688"/>
                </a:cubicBezTo>
                <a:lnTo>
                  <a:pt x="386130" y="128092"/>
                </a:lnTo>
                <a:lnTo>
                  <a:pt x="351421" y="128092"/>
                </a:lnTo>
                <a:lnTo>
                  <a:pt x="351421" y="881278"/>
                </a:lnTo>
                <a:cubicBezTo>
                  <a:pt x="351421" y="910132"/>
                  <a:pt x="327990" y="933462"/>
                  <a:pt x="299085" y="933462"/>
                </a:cubicBezTo>
                <a:cubicBezTo>
                  <a:pt x="270421" y="933462"/>
                  <a:pt x="247141" y="910082"/>
                  <a:pt x="247141" y="881278"/>
                </a:cubicBezTo>
                <a:lnTo>
                  <a:pt x="247332" y="444410"/>
                </a:lnTo>
                <a:lnTo>
                  <a:pt x="212331" y="444410"/>
                </a:lnTo>
                <a:lnTo>
                  <a:pt x="212331" y="881278"/>
                </a:lnTo>
                <a:cubicBezTo>
                  <a:pt x="212331" y="910132"/>
                  <a:pt x="189001" y="933462"/>
                  <a:pt x="160299" y="933462"/>
                </a:cubicBezTo>
                <a:cubicBezTo>
                  <a:pt x="131394" y="933411"/>
                  <a:pt x="108153" y="910132"/>
                  <a:pt x="108153" y="881278"/>
                </a:cubicBezTo>
              </a:path>
            </a:pathLst>
          </a:custGeom>
          <a:solidFill>
            <a:srgbClr val="3e552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3" name="Freeform 3"/>
          <p:cNvSpPr/>
          <p:nvPr/>
        </p:nvSpPr>
        <p:spPr>
          <a:xfrm>
            <a:off x="4088880" y="5120640"/>
            <a:ext cx="185400" cy="185400"/>
          </a:xfrm>
          <a:custGeom>
            <a:avLst/>
            <a:gdLst>
              <a:gd name="textAreaLeft" fmla="*/ 0 w 185400"/>
              <a:gd name="textAreaRight" fmla="*/ 185760 w 185400"/>
              <a:gd name="textAreaTop" fmla="*/ 0 h 185400"/>
              <a:gd name="textAreaBottom" fmla="*/ 185760 h 185400"/>
            </a:gdLst>
            <a:ahLst/>
            <a:rect l="textAreaLeft" t="textAreaTop" r="textAreaRight" b="textAreaBottom"/>
            <a:pathLst>
              <a:path w="185648" h="185749">
                <a:moveTo>
                  <a:pt x="92798" y="185749"/>
                </a:moveTo>
                <a:cubicBezTo>
                  <a:pt x="41579" y="185749"/>
                  <a:pt x="0" y="144119"/>
                  <a:pt x="0" y="92849"/>
                </a:cubicBezTo>
                <a:cubicBezTo>
                  <a:pt x="0" y="41630"/>
                  <a:pt x="41579" y="0"/>
                  <a:pt x="92798" y="0"/>
                </a:cubicBezTo>
                <a:cubicBezTo>
                  <a:pt x="144119" y="0"/>
                  <a:pt x="185648" y="41630"/>
                  <a:pt x="185648" y="92849"/>
                </a:cubicBezTo>
                <a:cubicBezTo>
                  <a:pt x="185699" y="144170"/>
                  <a:pt x="144119" y="185749"/>
                  <a:pt x="92798" y="185749"/>
                </a:cubicBezTo>
              </a:path>
            </a:pathLst>
          </a:custGeom>
          <a:solidFill>
            <a:srgbClr val="3e552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4" name="Freeform 3"/>
          <p:cNvSpPr/>
          <p:nvPr/>
        </p:nvSpPr>
        <p:spPr>
          <a:xfrm>
            <a:off x="3951720" y="5325480"/>
            <a:ext cx="458280" cy="933120"/>
          </a:xfrm>
          <a:custGeom>
            <a:avLst/>
            <a:gdLst>
              <a:gd name="textAreaLeft" fmla="*/ 0 w 458280"/>
              <a:gd name="textAreaRight" fmla="*/ 458640 w 458280"/>
              <a:gd name="textAreaTop" fmla="*/ 0 h 933120"/>
              <a:gd name="textAreaBottom" fmla="*/ 933480 h 933120"/>
            </a:gdLst>
            <a:ahLst/>
            <a:rect l="textAreaLeft" t="textAreaTop" r="textAreaRight" b="textAreaBottom"/>
            <a:pathLst>
              <a:path w="458800" h="933462">
                <a:moveTo>
                  <a:pt x="108153" y="881278"/>
                </a:moveTo>
                <a:lnTo>
                  <a:pt x="108254" y="128092"/>
                </a:lnTo>
                <a:lnTo>
                  <a:pt x="73253" y="128092"/>
                </a:lnTo>
                <a:lnTo>
                  <a:pt x="73253" y="405688"/>
                </a:lnTo>
                <a:cubicBezTo>
                  <a:pt x="73253" y="461212"/>
                  <a:pt x="0" y="461212"/>
                  <a:pt x="0" y="405688"/>
                </a:cubicBezTo>
                <a:lnTo>
                  <a:pt x="0" y="120446"/>
                </a:lnTo>
                <a:cubicBezTo>
                  <a:pt x="0" y="53441"/>
                  <a:pt x="52870" y="0"/>
                  <a:pt x="118706" y="0"/>
                </a:cubicBezTo>
                <a:lnTo>
                  <a:pt x="338645" y="0"/>
                </a:lnTo>
                <a:cubicBezTo>
                  <a:pt x="410819" y="0"/>
                  <a:pt x="458800" y="60502"/>
                  <a:pt x="458800" y="122237"/>
                </a:cubicBezTo>
                <a:lnTo>
                  <a:pt x="458800" y="405688"/>
                </a:lnTo>
                <a:cubicBezTo>
                  <a:pt x="458939" y="461555"/>
                  <a:pt x="386130" y="461555"/>
                  <a:pt x="386130" y="405688"/>
                </a:cubicBezTo>
                <a:lnTo>
                  <a:pt x="386130" y="128092"/>
                </a:lnTo>
                <a:lnTo>
                  <a:pt x="351421" y="128092"/>
                </a:lnTo>
                <a:lnTo>
                  <a:pt x="351421" y="881278"/>
                </a:lnTo>
                <a:cubicBezTo>
                  <a:pt x="351421" y="910132"/>
                  <a:pt x="327990" y="933462"/>
                  <a:pt x="299084" y="933462"/>
                </a:cubicBezTo>
                <a:cubicBezTo>
                  <a:pt x="270421" y="933462"/>
                  <a:pt x="247141" y="910082"/>
                  <a:pt x="247141" y="881278"/>
                </a:cubicBezTo>
                <a:lnTo>
                  <a:pt x="247332" y="444410"/>
                </a:lnTo>
                <a:lnTo>
                  <a:pt x="212344" y="444410"/>
                </a:lnTo>
                <a:lnTo>
                  <a:pt x="212344" y="881278"/>
                </a:lnTo>
                <a:cubicBezTo>
                  <a:pt x="212344" y="910132"/>
                  <a:pt x="189001" y="933462"/>
                  <a:pt x="160299" y="933462"/>
                </a:cubicBezTo>
                <a:cubicBezTo>
                  <a:pt x="131394" y="933411"/>
                  <a:pt x="108153" y="910132"/>
                  <a:pt x="108153" y="881278"/>
                </a:cubicBezTo>
              </a:path>
            </a:pathLst>
          </a:custGeom>
          <a:solidFill>
            <a:srgbClr val="3e552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5" name="Freeform 3"/>
          <p:cNvSpPr/>
          <p:nvPr/>
        </p:nvSpPr>
        <p:spPr>
          <a:xfrm>
            <a:off x="4650120" y="5120640"/>
            <a:ext cx="185400" cy="185400"/>
          </a:xfrm>
          <a:custGeom>
            <a:avLst/>
            <a:gdLst>
              <a:gd name="textAreaLeft" fmla="*/ 0 w 185400"/>
              <a:gd name="textAreaRight" fmla="*/ 185760 w 185400"/>
              <a:gd name="textAreaTop" fmla="*/ 0 h 185400"/>
              <a:gd name="textAreaBottom" fmla="*/ 185760 h 185400"/>
            </a:gdLst>
            <a:ahLst/>
            <a:rect l="textAreaLeft" t="textAreaTop" r="textAreaRight" b="textAreaBottom"/>
            <a:pathLst>
              <a:path w="185648" h="185749">
                <a:moveTo>
                  <a:pt x="92798" y="185749"/>
                </a:moveTo>
                <a:cubicBezTo>
                  <a:pt x="41580" y="185749"/>
                  <a:pt x="0" y="144119"/>
                  <a:pt x="0" y="92849"/>
                </a:cubicBezTo>
                <a:cubicBezTo>
                  <a:pt x="0" y="41630"/>
                  <a:pt x="41580" y="0"/>
                  <a:pt x="92798" y="0"/>
                </a:cubicBezTo>
                <a:cubicBezTo>
                  <a:pt x="144119" y="0"/>
                  <a:pt x="185648" y="41630"/>
                  <a:pt x="185648" y="92849"/>
                </a:cubicBezTo>
                <a:cubicBezTo>
                  <a:pt x="185699" y="144170"/>
                  <a:pt x="144119" y="185749"/>
                  <a:pt x="92798" y="185749"/>
                </a:cubicBezTo>
              </a:path>
            </a:pathLst>
          </a:custGeom>
          <a:solidFill>
            <a:srgbClr val="3e552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6" name="Freeform 3"/>
          <p:cNvSpPr/>
          <p:nvPr/>
        </p:nvSpPr>
        <p:spPr>
          <a:xfrm>
            <a:off x="4513320" y="5325480"/>
            <a:ext cx="458280" cy="933120"/>
          </a:xfrm>
          <a:custGeom>
            <a:avLst/>
            <a:gdLst>
              <a:gd name="textAreaLeft" fmla="*/ 0 w 458280"/>
              <a:gd name="textAreaRight" fmla="*/ 458640 w 458280"/>
              <a:gd name="textAreaTop" fmla="*/ 0 h 933120"/>
              <a:gd name="textAreaBottom" fmla="*/ 933480 h 933120"/>
            </a:gdLst>
            <a:ahLst/>
            <a:rect l="textAreaLeft" t="textAreaTop" r="textAreaRight" b="textAreaBottom"/>
            <a:pathLst>
              <a:path w="458799" h="933462">
                <a:moveTo>
                  <a:pt x="108153" y="881278"/>
                </a:moveTo>
                <a:lnTo>
                  <a:pt x="108254" y="128092"/>
                </a:lnTo>
                <a:lnTo>
                  <a:pt x="73253" y="128092"/>
                </a:lnTo>
                <a:lnTo>
                  <a:pt x="73253" y="405688"/>
                </a:lnTo>
                <a:cubicBezTo>
                  <a:pt x="73253" y="461212"/>
                  <a:pt x="0" y="461212"/>
                  <a:pt x="0" y="405688"/>
                </a:cubicBezTo>
                <a:lnTo>
                  <a:pt x="0" y="120446"/>
                </a:lnTo>
                <a:cubicBezTo>
                  <a:pt x="0" y="53441"/>
                  <a:pt x="52870" y="0"/>
                  <a:pt x="118706" y="0"/>
                </a:cubicBezTo>
                <a:lnTo>
                  <a:pt x="338645" y="0"/>
                </a:lnTo>
                <a:cubicBezTo>
                  <a:pt x="410819" y="0"/>
                  <a:pt x="458799" y="60502"/>
                  <a:pt x="458799" y="122237"/>
                </a:cubicBezTo>
                <a:lnTo>
                  <a:pt x="458799" y="405688"/>
                </a:lnTo>
                <a:cubicBezTo>
                  <a:pt x="458939" y="461555"/>
                  <a:pt x="386130" y="461555"/>
                  <a:pt x="386130" y="405688"/>
                </a:cubicBezTo>
                <a:lnTo>
                  <a:pt x="386130" y="128092"/>
                </a:lnTo>
                <a:lnTo>
                  <a:pt x="351421" y="128092"/>
                </a:lnTo>
                <a:lnTo>
                  <a:pt x="351421" y="881278"/>
                </a:lnTo>
                <a:cubicBezTo>
                  <a:pt x="351421" y="910132"/>
                  <a:pt x="327990" y="933462"/>
                  <a:pt x="299097" y="933462"/>
                </a:cubicBezTo>
                <a:cubicBezTo>
                  <a:pt x="270421" y="933462"/>
                  <a:pt x="247141" y="910082"/>
                  <a:pt x="247141" y="881278"/>
                </a:cubicBezTo>
                <a:lnTo>
                  <a:pt x="247332" y="444410"/>
                </a:lnTo>
                <a:lnTo>
                  <a:pt x="212344" y="444410"/>
                </a:lnTo>
                <a:lnTo>
                  <a:pt x="212344" y="881278"/>
                </a:lnTo>
                <a:cubicBezTo>
                  <a:pt x="212344" y="910132"/>
                  <a:pt x="189001" y="933462"/>
                  <a:pt x="160299" y="933462"/>
                </a:cubicBezTo>
                <a:cubicBezTo>
                  <a:pt x="131393" y="933411"/>
                  <a:pt x="108153" y="910132"/>
                  <a:pt x="108153" y="881278"/>
                </a:cubicBezTo>
              </a:path>
            </a:pathLst>
          </a:custGeom>
          <a:solidFill>
            <a:srgbClr val="3e552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7" name="Freeform 3"/>
          <p:cNvSpPr/>
          <p:nvPr/>
        </p:nvSpPr>
        <p:spPr>
          <a:xfrm>
            <a:off x="5211360" y="5120640"/>
            <a:ext cx="185400" cy="185400"/>
          </a:xfrm>
          <a:custGeom>
            <a:avLst/>
            <a:gdLst>
              <a:gd name="textAreaLeft" fmla="*/ 0 w 185400"/>
              <a:gd name="textAreaRight" fmla="*/ 185760 w 185400"/>
              <a:gd name="textAreaTop" fmla="*/ 0 h 185400"/>
              <a:gd name="textAreaBottom" fmla="*/ 185760 h 185400"/>
            </a:gdLst>
            <a:ahLst/>
            <a:rect l="textAreaLeft" t="textAreaTop" r="textAreaRight" b="textAreaBottom"/>
            <a:pathLst>
              <a:path w="185648" h="185749">
                <a:moveTo>
                  <a:pt x="92798" y="185749"/>
                </a:moveTo>
                <a:cubicBezTo>
                  <a:pt x="41580" y="185749"/>
                  <a:pt x="0" y="144119"/>
                  <a:pt x="0" y="92849"/>
                </a:cubicBezTo>
                <a:cubicBezTo>
                  <a:pt x="0" y="41630"/>
                  <a:pt x="41580" y="0"/>
                  <a:pt x="92798" y="0"/>
                </a:cubicBezTo>
                <a:cubicBezTo>
                  <a:pt x="144119" y="0"/>
                  <a:pt x="185648" y="41630"/>
                  <a:pt x="185648" y="92849"/>
                </a:cubicBezTo>
                <a:cubicBezTo>
                  <a:pt x="185699" y="144170"/>
                  <a:pt x="144119" y="185749"/>
                  <a:pt x="92798" y="185749"/>
                </a:cubicBezTo>
              </a:path>
            </a:pathLst>
          </a:custGeom>
          <a:solidFill>
            <a:srgbClr val="99331e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8" name="Freeform 3"/>
          <p:cNvSpPr/>
          <p:nvPr/>
        </p:nvSpPr>
        <p:spPr>
          <a:xfrm>
            <a:off x="5074560" y="5325480"/>
            <a:ext cx="458280" cy="933120"/>
          </a:xfrm>
          <a:custGeom>
            <a:avLst/>
            <a:gdLst>
              <a:gd name="textAreaLeft" fmla="*/ 0 w 458280"/>
              <a:gd name="textAreaRight" fmla="*/ 458640 w 458280"/>
              <a:gd name="textAreaTop" fmla="*/ 0 h 933120"/>
              <a:gd name="textAreaBottom" fmla="*/ 933480 h 933120"/>
            </a:gdLst>
            <a:ahLst/>
            <a:rect l="textAreaLeft" t="textAreaTop" r="textAreaRight" b="textAreaBottom"/>
            <a:pathLst>
              <a:path w="458800" h="933462">
                <a:moveTo>
                  <a:pt x="108153" y="881278"/>
                </a:moveTo>
                <a:lnTo>
                  <a:pt x="108255" y="128092"/>
                </a:lnTo>
                <a:lnTo>
                  <a:pt x="73253" y="128092"/>
                </a:lnTo>
                <a:lnTo>
                  <a:pt x="73253" y="405688"/>
                </a:lnTo>
                <a:cubicBezTo>
                  <a:pt x="73253" y="461212"/>
                  <a:pt x="0" y="461212"/>
                  <a:pt x="0" y="405688"/>
                </a:cubicBezTo>
                <a:lnTo>
                  <a:pt x="0" y="120446"/>
                </a:lnTo>
                <a:cubicBezTo>
                  <a:pt x="0" y="53441"/>
                  <a:pt x="52870" y="0"/>
                  <a:pt x="118707" y="0"/>
                </a:cubicBezTo>
                <a:lnTo>
                  <a:pt x="338645" y="0"/>
                </a:lnTo>
                <a:cubicBezTo>
                  <a:pt x="410819" y="0"/>
                  <a:pt x="458800" y="60502"/>
                  <a:pt x="458800" y="122237"/>
                </a:cubicBezTo>
                <a:lnTo>
                  <a:pt x="458800" y="405688"/>
                </a:lnTo>
                <a:cubicBezTo>
                  <a:pt x="458940" y="461555"/>
                  <a:pt x="386131" y="461555"/>
                  <a:pt x="386131" y="405688"/>
                </a:cubicBezTo>
                <a:lnTo>
                  <a:pt x="386131" y="128092"/>
                </a:lnTo>
                <a:lnTo>
                  <a:pt x="351421" y="128092"/>
                </a:lnTo>
                <a:lnTo>
                  <a:pt x="351421" y="881278"/>
                </a:lnTo>
                <a:cubicBezTo>
                  <a:pt x="351421" y="910132"/>
                  <a:pt x="327990" y="933462"/>
                  <a:pt x="299085" y="933462"/>
                </a:cubicBezTo>
                <a:cubicBezTo>
                  <a:pt x="270421" y="933462"/>
                  <a:pt x="247142" y="910082"/>
                  <a:pt x="247142" y="881278"/>
                </a:cubicBezTo>
                <a:lnTo>
                  <a:pt x="247332" y="444410"/>
                </a:lnTo>
                <a:lnTo>
                  <a:pt x="212331" y="444410"/>
                </a:lnTo>
                <a:lnTo>
                  <a:pt x="212331" y="881278"/>
                </a:lnTo>
                <a:cubicBezTo>
                  <a:pt x="212331" y="910132"/>
                  <a:pt x="189001" y="933462"/>
                  <a:pt x="160299" y="933462"/>
                </a:cubicBezTo>
                <a:cubicBezTo>
                  <a:pt x="131394" y="933411"/>
                  <a:pt x="108153" y="910132"/>
                  <a:pt x="108153" y="881278"/>
                </a:cubicBezTo>
              </a:path>
            </a:pathLst>
          </a:custGeom>
          <a:solidFill>
            <a:srgbClr val="99331e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9" name="Freeform 3"/>
          <p:cNvSpPr/>
          <p:nvPr/>
        </p:nvSpPr>
        <p:spPr>
          <a:xfrm>
            <a:off x="5772960" y="5120640"/>
            <a:ext cx="185400" cy="185400"/>
          </a:xfrm>
          <a:custGeom>
            <a:avLst/>
            <a:gdLst>
              <a:gd name="textAreaLeft" fmla="*/ 0 w 185400"/>
              <a:gd name="textAreaRight" fmla="*/ 185760 w 185400"/>
              <a:gd name="textAreaTop" fmla="*/ 0 h 185400"/>
              <a:gd name="textAreaBottom" fmla="*/ 185760 h 185400"/>
            </a:gdLst>
            <a:ahLst/>
            <a:rect l="textAreaLeft" t="textAreaTop" r="textAreaRight" b="textAreaBottom"/>
            <a:pathLst>
              <a:path w="185648" h="185749">
                <a:moveTo>
                  <a:pt x="92798" y="185749"/>
                </a:moveTo>
                <a:cubicBezTo>
                  <a:pt x="41579" y="185749"/>
                  <a:pt x="0" y="144119"/>
                  <a:pt x="0" y="92849"/>
                </a:cubicBezTo>
                <a:cubicBezTo>
                  <a:pt x="0" y="41630"/>
                  <a:pt x="41579" y="0"/>
                  <a:pt x="92798" y="0"/>
                </a:cubicBezTo>
                <a:cubicBezTo>
                  <a:pt x="144119" y="0"/>
                  <a:pt x="185648" y="41630"/>
                  <a:pt x="185648" y="92849"/>
                </a:cubicBezTo>
                <a:cubicBezTo>
                  <a:pt x="185699" y="144170"/>
                  <a:pt x="144119" y="185749"/>
                  <a:pt x="92798" y="185749"/>
                </a:cubicBezTo>
              </a:path>
            </a:pathLst>
          </a:custGeom>
          <a:solidFill>
            <a:srgbClr val="99331e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0" name="Freeform 3"/>
          <p:cNvSpPr/>
          <p:nvPr/>
        </p:nvSpPr>
        <p:spPr>
          <a:xfrm>
            <a:off x="5636160" y="5325480"/>
            <a:ext cx="458280" cy="933120"/>
          </a:xfrm>
          <a:custGeom>
            <a:avLst/>
            <a:gdLst>
              <a:gd name="textAreaLeft" fmla="*/ 0 w 458280"/>
              <a:gd name="textAreaRight" fmla="*/ 458640 w 458280"/>
              <a:gd name="textAreaTop" fmla="*/ 0 h 933120"/>
              <a:gd name="textAreaBottom" fmla="*/ 933480 h 933120"/>
            </a:gdLst>
            <a:ahLst/>
            <a:rect l="textAreaLeft" t="textAreaTop" r="textAreaRight" b="textAreaBottom"/>
            <a:pathLst>
              <a:path w="458800" h="933462">
                <a:moveTo>
                  <a:pt x="108153" y="881278"/>
                </a:moveTo>
                <a:lnTo>
                  <a:pt x="108254" y="128092"/>
                </a:lnTo>
                <a:lnTo>
                  <a:pt x="73253" y="128092"/>
                </a:lnTo>
                <a:lnTo>
                  <a:pt x="73253" y="405688"/>
                </a:lnTo>
                <a:cubicBezTo>
                  <a:pt x="73253" y="461212"/>
                  <a:pt x="0" y="461212"/>
                  <a:pt x="0" y="405688"/>
                </a:cubicBezTo>
                <a:lnTo>
                  <a:pt x="0" y="120446"/>
                </a:lnTo>
                <a:cubicBezTo>
                  <a:pt x="0" y="53441"/>
                  <a:pt x="52870" y="0"/>
                  <a:pt x="118707" y="0"/>
                </a:cubicBezTo>
                <a:lnTo>
                  <a:pt x="338645" y="0"/>
                </a:lnTo>
                <a:cubicBezTo>
                  <a:pt x="410819" y="0"/>
                  <a:pt x="458800" y="60502"/>
                  <a:pt x="458800" y="122237"/>
                </a:cubicBezTo>
                <a:lnTo>
                  <a:pt x="458800" y="405688"/>
                </a:lnTo>
                <a:cubicBezTo>
                  <a:pt x="458939" y="461555"/>
                  <a:pt x="386130" y="461555"/>
                  <a:pt x="386130" y="405688"/>
                </a:cubicBezTo>
                <a:lnTo>
                  <a:pt x="386130" y="128092"/>
                </a:lnTo>
                <a:lnTo>
                  <a:pt x="351421" y="128092"/>
                </a:lnTo>
                <a:lnTo>
                  <a:pt x="351421" y="881278"/>
                </a:lnTo>
                <a:cubicBezTo>
                  <a:pt x="351421" y="910132"/>
                  <a:pt x="327990" y="933462"/>
                  <a:pt x="299097" y="933462"/>
                </a:cubicBezTo>
                <a:cubicBezTo>
                  <a:pt x="270421" y="933462"/>
                  <a:pt x="247141" y="910082"/>
                  <a:pt x="247141" y="881278"/>
                </a:cubicBezTo>
                <a:lnTo>
                  <a:pt x="247332" y="444410"/>
                </a:lnTo>
                <a:lnTo>
                  <a:pt x="212344" y="444410"/>
                </a:lnTo>
                <a:lnTo>
                  <a:pt x="212344" y="881278"/>
                </a:lnTo>
                <a:cubicBezTo>
                  <a:pt x="212344" y="910132"/>
                  <a:pt x="189001" y="933462"/>
                  <a:pt x="160299" y="933462"/>
                </a:cubicBezTo>
                <a:cubicBezTo>
                  <a:pt x="131394" y="933411"/>
                  <a:pt x="108153" y="910132"/>
                  <a:pt x="108153" y="881278"/>
                </a:cubicBezTo>
              </a:path>
            </a:pathLst>
          </a:custGeom>
          <a:solidFill>
            <a:srgbClr val="99331e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1" name="Freeform 3"/>
          <p:cNvSpPr/>
          <p:nvPr/>
        </p:nvSpPr>
        <p:spPr>
          <a:xfrm>
            <a:off x="6334200" y="5120640"/>
            <a:ext cx="185400" cy="185400"/>
          </a:xfrm>
          <a:custGeom>
            <a:avLst/>
            <a:gdLst>
              <a:gd name="textAreaLeft" fmla="*/ 0 w 185400"/>
              <a:gd name="textAreaRight" fmla="*/ 185760 w 185400"/>
              <a:gd name="textAreaTop" fmla="*/ 0 h 185400"/>
              <a:gd name="textAreaBottom" fmla="*/ 185760 h 185400"/>
            </a:gdLst>
            <a:ahLst/>
            <a:rect l="textAreaLeft" t="textAreaTop" r="textAreaRight" b="textAreaBottom"/>
            <a:pathLst>
              <a:path w="185648" h="185749">
                <a:moveTo>
                  <a:pt x="92798" y="185749"/>
                </a:moveTo>
                <a:cubicBezTo>
                  <a:pt x="41580" y="185749"/>
                  <a:pt x="0" y="144119"/>
                  <a:pt x="0" y="92849"/>
                </a:cubicBezTo>
                <a:cubicBezTo>
                  <a:pt x="0" y="41630"/>
                  <a:pt x="41580" y="0"/>
                  <a:pt x="92798" y="0"/>
                </a:cubicBezTo>
                <a:cubicBezTo>
                  <a:pt x="144119" y="0"/>
                  <a:pt x="185649" y="41630"/>
                  <a:pt x="185649" y="92849"/>
                </a:cubicBezTo>
                <a:cubicBezTo>
                  <a:pt x="185699" y="144170"/>
                  <a:pt x="144119" y="185749"/>
                  <a:pt x="92798" y="185749"/>
                </a:cubicBezTo>
              </a:path>
            </a:pathLst>
          </a:custGeom>
          <a:solidFill>
            <a:srgbClr val="99331e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2" name="Freeform 3"/>
          <p:cNvSpPr/>
          <p:nvPr/>
        </p:nvSpPr>
        <p:spPr>
          <a:xfrm>
            <a:off x="6197400" y="5325480"/>
            <a:ext cx="458280" cy="933120"/>
          </a:xfrm>
          <a:custGeom>
            <a:avLst/>
            <a:gdLst>
              <a:gd name="textAreaLeft" fmla="*/ 0 w 458280"/>
              <a:gd name="textAreaRight" fmla="*/ 458640 w 458280"/>
              <a:gd name="textAreaTop" fmla="*/ 0 h 933120"/>
              <a:gd name="textAreaBottom" fmla="*/ 933480 h 933120"/>
            </a:gdLst>
            <a:ahLst/>
            <a:rect l="textAreaLeft" t="textAreaTop" r="textAreaRight" b="textAreaBottom"/>
            <a:pathLst>
              <a:path w="458799" h="933462">
                <a:moveTo>
                  <a:pt x="108153" y="881278"/>
                </a:moveTo>
                <a:lnTo>
                  <a:pt x="108254" y="128092"/>
                </a:lnTo>
                <a:lnTo>
                  <a:pt x="73253" y="128092"/>
                </a:lnTo>
                <a:lnTo>
                  <a:pt x="73253" y="405688"/>
                </a:lnTo>
                <a:cubicBezTo>
                  <a:pt x="73253" y="461212"/>
                  <a:pt x="0" y="461212"/>
                  <a:pt x="0" y="405688"/>
                </a:cubicBezTo>
                <a:lnTo>
                  <a:pt x="0" y="120446"/>
                </a:lnTo>
                <a:cubicBezTo>
                  <a:pt x="0" y="53441"/>
                  <a:pt x="52870" y="0"/>
                  <a:pt x="118706" y="0"/>
                </a:cubicBezTo>
                <a:lnTo>
                  <a:pt x="338645" y="0"/>
                </a:lnTo>
                <a:cubicBezTo>
                  <a:pt x="410832" y="0"/>
                  <a:pt x="458799" y="60502"/>
                  <a:pt x="458799" y="122237"/>
                </a:cubicBezTo>
                <a:lnTo>
                  <a:pt x="458799" y="405688"/>
                </a:lnTo>
                <a:cubicBezTo>
                  <a:pt x="458939" y="461555"/>
                  <a:pt x="386130" y="461555"/>
                  <a:pt x="386130" y="405688"/>
                </a:cubicBezTo>
                <a:lnTo>
                  <a:pt x="386130" y="128092"/>
                </a:lnTo>
                <a:lnTo>
                  <a:pt x="351421" y="128092"/>
                </a:lnTo>
                <a:lnTo>
                  <a:pt x="351421" y="881278"/>
                </a:lnTo>
                <a:cubicBezTo>
                  <a:pt x="351421" y="910132"/>
                  <a:pt x="327990" y="933462"/>
                  <a:pt x="299097" y="933462"/>
                </a:cubicBezTo>
                <a:cubicBezTo>
                  <a:pt x="270421" y="933462"/>
                  <a:pt x="247141" y="910082"/>
                  <a:pt x="247141" y="881278"/>
                </a:cubicBezTo>
                <a:lnTo>
                  <a:pt x="247332" y="444410"/>
                </a:lnTo>
                <a:lnTo>
                  <a:pt x="212344" y="444410"/>
                </a:lnTo>
                <a:lnTo>
                  <a:pt x="212344" y="881278"/>
                </a:lnTo>
                <a:cubicBezTo>
                  <a:pt x="212344" y="910132"/>
                  <a:pt x="189001" y="933462"/>
                  <a:pt x="160299" y="933462"/>
                </a:cubicBezTo>
                <a:cubicBezTo>
                  <a:pt x="131393" y="933411"/>
                  <a:pt x="108153" y="910132"/>
                  <a:pt x="108153" y="881278"/>
                </a:cubicBezTo>
              </a:path>
            </a:pathLst>
          </a:custGeom>
          <a:solidFill>
            <a:srgbClr val="99331e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3" name="Freeform 3"/>
          <p:cNvSpPr/>
          <p:nvPr/>
        </p:nvSpPr>
        <p:spPr>
          <a:xfrm>
            <a:off x="6895800" y="5120640"/>
            <a:ext cx="185400" cy="185400"/>
          </a:xfrm>
          <a:custGeom>
            <a:avLst/>
            <a:gdLst>
              <a:gd name="textAreaLeft" fmla="*/ 0 w 185400"/>
              <a:gd name="textAreaRight" fmla="*/ 185760 w 185400"/>
              <a:gd name="textAreaTop" fmla="*/ 0 h 185400"/>
              <a:gd name="textAreaBottom" fmla="*/ 185760 h 185400"/>
            </a:gdLst>
            <a:ahLst/>
            <a:rect l="textAreaLeft" t="textAreaTop" r="textAreaRight" b="textAreaBottom"/>
            <a:pathLst>
              <a:path w="185647" h="185749">
                <a:moveTo>
                  <a:pt x="92798" y="185749"/>
                </a:moveTo>
                <a:cubicBezTo>
                  <a:pt x="41579" y="185749"/>
                  <a:pt x="0" y="144119"/>
                  <a:pt x="0" y="92849"/>
                </a:cubicBezTo>
                <a:cubicBezTo>
                  <a:pt x="0" y="41630"/>
                  <a:pt x="41579" y="0"/>
                  <a:pt x="92798" y="0"/>
                </a:cubicBezTo>
                <a:cubicBezTo>
                  <a:pt x="144119" y="0"/>
                  <a:pt x="185648" y="41630"/>
                  <a:pt x="185648" y="92849"/>
                </a:cubicBezTo>
                <a:cubicBezTo>
                  <a:pt x="185698" y="144170"/>
                  <a:pt x="144119" y="185749"/>
                  <a:pt x="92798" y="185749"/>
                </a:cubicBezTo>
              </a:path>
            </a:pathLst>
          </a:custGeom>
          <a:solidFill>
            <a:srgbClr val="99331e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4" name="Freeform 3"/>
          <p:cNvSpPr/>
          <p:nvPr/>
        </p:nvSpPr>
        <p:spPr>
          <a:xfrm>
            <a:off x="6758640" y="5325480"/>
            <a:ext cx="458280" cy="933120"/>
          </a:xfrm>
          <a:custGeom>
            <a:avLst/>
            <a:gdLst>
              <a:gd name="textAreaLeft" fmla="*/ 0 w 458280"/>
              <a:gd name="textAreaRight" fmla="*/ 458640 w 458280"/>
              <a:gd name="textAreaTop" fmla="*/ 0 h 933120"/>
              <a:gd name="textAreaBottom" fmla="*/ 933480 h 933120"/>
            </a:gdLst>
            <a:ahLst/>
            <a:rect l="textAreaLeft" t="textAreaTop" r="textAreaRight" b="textAreaBottom"/>
            <a:pathLst>
              <a:path w="458800" h="933462">
                <a:moveTo>
                  <a:pt x="108153" y="881278"/>
                </a:moveTo>
                <a:lnTo>
                  <a:pt x="108254" y="128092"/>
                </a:lnTo>
                <a:lnTo>
                  <a:pt x="73253" y="128092"/>
                </a:lnTo>
                <a:lnTo>
                  <a:pt x="73253" y="405688"/>
                </a:lnTo>
                <a:cubicBezTo>
                  <a:pt x="73253" y="461212"/>
                  <a:pt x="0" y="461212"/>
                  <a:pt x="0" y="405688"/>
                </a:cubicBezTo>
                <a:lnTo>
                  <a:pt x="0" y="120446"/>
                </a:lnTo>
                <a:cubicBezTo>
                  <a:pt x="0" y="53441"/>
                  <a:pt x="52870" y="0"/>
                  <a:pt x="118706" y="0"/>
                </a:cubicBezTo>
                <a:lnTo>
                  <a:pt x="338645" y="0"/>
                </a:lnTo>
                <a:cubicBezTo>
                  <a:pt x="410819" y="0"/>
                  <a:pt x="458800" y="60502"/>
                  <a:pt x="458800" y="122237"/>
                </a:cubicBezTo>
                <a:lnTo>
                  <a:pt x="458800" y="405688"/>
                </a:lnTo>
                <a:cubicBezTo>
                  <a:pt x="458940" y="461555"/>
                  <a:pt x="386130" y="461555"/>
                  <a:pt x="386130" y="405688"/>
                </a:cubicBezTo>
                <a:lnTo>
                  <a:pt x="386130" y="128092"/>
                </a:lnTo>
                <a:lnTo>
                  <a:pt x="351421" y="128092"/>
                </a:lnTo>
                <a:lnTo>
                  <a:pt x="351421" y="881278"/>
                </a:lnTo>
                <a:cubicBezTo>
                  <a:pt x="351421" y="910132"/>
                  <a:pt x="327990" y="933462"/>
                  <a:pt x="299084" y="933462"/>
                </a:cubicBezTo>
                <a:cubicBezTo>
                  <a:pt x="270421" y="933462"/>
                  <a:pt x="247142" y="910082"/>
                  <a:pt x="247142" y="881278"/>
                </a:cubicBezTo>
                <a:lnTo>
                  <a:pt x="247332" y="444410"/>
                </a:lnTo>
                <a:lnTo>
                  <a:pt x="212331" y="444410"/>
                </a:lnTo>
                <a:lnTo>
                  <a:pt x="212331" y="881278"/>
                </a:lnTo>
                <a:cubicBezTo>
                  <a:pt x="212331" y="910132"/>
                  <a:pt x="189001" y="933462"/>
                  <a:pt x="160299" y="933462"/>
                </a:cubicBezTo>
                <a:cubicBezTo>
                  <a:pt x="131394" y="933411"/>
                  <a:pt x="108153" y="910132"/>
                  <a:pt x="108153" y="881278"/>
                </a:cubicBezTo>
              </a:path>
            </a:pathLst>
          </a:custGeom>
          <a:solidFill>
            <a:srgbClr val="99331e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5" name="Freeform 3"/>
          <p:cNvSpPr/>
          <p:nvPr/>
        </p:nvSpPr>
        <p:spPr>
          <a:xfrm>
            <a:off x="7457040" y="5120640"/>
            <a:ext cx="185400" cy="185400"/>
          </a:xfrm>
          <a:custGeom>
            <a:avLst/>
            <a:gdLst>
              <a:gd name="textAreaLeft" fmla="*/ 0 w 185400"/>
              <a:gd name="textAreaRight" fmla="*/ 185760 w 185400"/>
              <a:gd name="textAreaTop" fmla="*/ 0 h 185400"/>
              <a:gd name="textAreaBottom" fmla="*/ 185760 h 185400"/>
            </a:gdLst>
            <a:ahLst/>
            <a:rect l="textAreaLeft" t="textAreaTop" r="textAreaRight" b="textAreaBottom"/>
            <a:pathLst>
              <a:path w="185648" h="185749">
                <a:moveTo>
                  <a:pt x="92798" y="185749"/>
                </a:moveTo>
                <a:cubicBezTo>
                  <a:pt x="41579" y="185749"/>
                  <a:pt x="0" y="144119"/>
                  <a:pt x="0" y="92849"/>
                </a:cubicBezTo>
                <a:cubicBezTo>
                  <a:pt x="0" y="41630"/>
                  <a:pt x="41579" y="0"/>
                  <a:pt x="92798" y="0"/>
                </a:cubicBezTo>
                <a:cubicBezTo>
                  <a:pt x="144119" y="0"/>
                  <a:pt x="185648" y="41630"/>
                  <a:pt x="185648" y="92849"/>
                </a:cubicBezTo>
                <a:cubicBezTo>
                  <a:pt x="185699" y="144170"/>
                  <a:pt x="144119" y="185749"/>
                  <a:pt x="92798" y="185749"/>
                </a:cubicBezTo>
              </a:path>
            </a:pathLst>
          </a:custGeom>
          <a:solidFill>
            <a:srgbClr val="99331e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6" name="Freeform 3"/>
          <p:cNvSpPr/>
          <p:nvPr/>
        </p:nvSpPr>
        <p:spPr>
          <a:xfrm>
            <a:off x="7320240" y="5325480"/>
            <a:ext cx="458280" cy="933120"/>
          </a:xfrm>
          <a:custGeom>
            <a:avLst/>
            <a:gdLst>
              <a:gd name="textAreaLeft" fmla="*/ 0 w 458280"/>
              <a:gd name="textAreaRight" fmla="*/ 458640 w 458280"/>
              <a:gd name="textAreaTop" fmla="*/ 0 h 933120"/>
              <a:gd name="textAreaBottom" fmla="*/ 933480 h 933120"/>
            </a:gdLst>
            <a:ahLst/>
            <a:rect l="textAreaLeft" t="textAreaTop" r="textAreaRight" b="textAreaBottom"/>
            <a:pathLst>
              <a:path w="458799" h="933462">
                <a:moveTo>
                  <a:pt x="108153" y="881278"/>
                </a:moveTo>
                <a:lnTo>
                  <a:pt x="108254" y="128092"/>
                </a:lnTo>
                <a:lnTo>
                  <a:pt x="73252" y="128092"/>
                </a:lnTo>
                <a:lnTo>
                  <a:pt x="73252" y="405688"/>
                </a:lnTo>
                <a:cubicBezTo>
                  <a:pt x="73252" y="461212"/>
                  <a:pt x="0" y="461212"/>
                  <a:pt x="0" y="405688"/>
                </a:cubicBezTo>
                <a:lnTo>
                  <a:pt x="0" y="120446"/>
                </a:lnTo>
                <a:cubicBezTo>
                  <a:pt x="0" y="53441"/>
                  <a:pt x="52869" y="0"/>
                  <a:pt x="118706" y="0"/>
                </a:cubicBezTo>
                <a:lnTo>
                  <a:pt x="338645" y="0"/>
                </a:lnTo>
                <a:cubicBezTo>
                  <a:pt x="410819" y="0"/>
                  <a:pt x="458799" y="60502"/>
                  <a:pt x="458799" y="122237"/>
                </a:cubicBezTo>
                <a:lnTo>
                  <a:pt x="458799" y="405688"/>
                </a:lnTo>
                <a:cubicBezTo>
                  <a:pt x="458939" y="461555"/>
                  <a:pt x="386130" y="461555"/>
                  <a:pt x="386130" y="405688"/>
                </a:cubicBezTo>
                <a:lnTo>
                  <a:pt x="386130" y="128092"/>
                </a:lnTo>
                <a:lnTo>
                  <a:pt x="351421" y="128092"/>
                </a:lnTo>
                <a:lnTo>
                  <a:pt x="351421" y="881278"/>
                </a:lnTo>
                <a:cubicBezTo>
                  <a:pt x="351421" y="910132"/>
                  <a:pt x="327990" y="933462"/>
                  <a:pt x="299084" y="933462"/>
                </a:cubicBezTo>
                <a:cubicBezTo>
                  <a:pt x="270420" y="933462"/>
                  <a:pt x="247141" y="910082"/>
                  <a:pt x="247141" y="881278"/>
                </a:cubicBezTo>
                <a:lnTo>
                  <a:pt x="247332" y="444410"/>
                </a:lnTo>
                <a:lnTo>
                  <a:pt x="212331" y="444410"/>
                </a:lnTo>
                <a:lnTo>
                  <a:pt x="212331" y="881278"/>
                </a:lnTo>
                <a:cubicBezTo>
                  <a:pt x="212331" y="910132"/>
                  <a:pt x="189000" y="933462"/>
                  <a:pt x="160298" y="933462"/>
                </a:cubicBezTo>
                <a:cubicBezTo>
                  <a:pt x="131393" y="933411"/>
                  <a:pt x="108153" y="910132"/>
                  <a:pt x="108153" y="881278"/>
                </a:cubicBezTo>
              </a:path>
            </a:pathLst>
          </a:custGeom>
          <a:solidFill>
            <a:srgbClr val="99331e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7" name="Freeform 3"/>
          <p:cNvSpPr/>
          <p:nvPr/>
        </p:nvSpPr>
        <p:spPr>
          <a:xfrm>
            <a:off x="137520" y="121320"/>
            <a:ext cx="1732320" cy="1732320"/>
          </a:xfrm>
          <a:custGeom>
            <a:avLst/>
            <a:gdLst>
              <a:gd name="textAreaLeft" fmla="*/ 0 w 1732320"/>
              <a:gd name="textAreaRight" fmla="*/ 1732680 w 1732320"/>
              <a:gd name="textAreaTop" fmla="*/ 0 h 1732320"/>
              <a:gd name="textAreaBottom" fmla="*/ 1732680 h 1732320"/>
            </a:gdLst>
            <a:ahLst/>
            <a:rect l="textAreaLeft" t="textAreaTop" r="textAreaRight" b="textAreaBottom"/>
            <a:pathLst>
              <a:path w="1732788" h="1732788">
                <a:moveTo>
                  <a:pt x="866394" y="1732787"/>
                </a:moveTo>
                <a:cubicBezTo>
                  <a:pt x="1344891" y="1732787"/>
                  <a:pt x="1732787" y="1344891"/>
                  <a:pt x="1732787" y="866393"/>
                </a:cubicBezTo>
                <a:cubicBezTo>
                  <a:pt x="1732787" y="387896"/>
                  <a:pt x="1344891" y="0"/>
                  <a:pt x="866393" y="0"/>
                </a:cubicBezTo>
                <a:cubicBezTo>
                  <a:pt x="387896" y="0"/>
                  <a:pt x="0" y="387896"/>
                  <a:pt x="0" y="866393"/>
                </a:cubicBezTo>
                <a:cubicBezTo>
                  <a:pt x="0" y="1344891"/>
                  <a:pt x="387896" y="1732787"/>
                  <a:pt x="866393" y="1732787"/>
                </a:cubicBezTo>
              </a:path>
            </a:pathLst>
          </a:custGeom>
          <a:solidFill>
            <a:srgbClr val="fccf38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8" name="Freeform 3"/>
          <p:cNvSpPr/>
          <p:nvPr/>
        </p:nvSpPr>
        <p:spPr>
          <a:xfrm>
            <a:off x="646200" y="446760"/>
            <a:ext cx="738000" cy="1011960"/>
          </a:xfrm>
          <a:custGeom>
            <a:avLst/>
            <a:gdLst>
              <a:gd name="textAreaLeft" fmla="*/ 0 w 738000"/>
              <a:gd name="textAreaRight" fmla="*/ 738360 w 738000"/>
              <a:gd name="textAreaTop" fmla="*/ 0 h 1011960"/>
              <a:gd name="textAreaBottom" fmla="*/ 1012320 h 1011960"/>
            </a:gdLst>
            <a:ahLst/>
            <a:rect l="textAreaLeft" t="textAreaTop" r="textAreaRight" b="textAreaBottom"/>
            <a:pathLst>
              <a:path w="738422" h="1012405">
                <a:moveTo>
                  <a:pt x="0" y="838339"/>
                </a:moveTo>
                <a:lnTo>
                  <a:pt x="332131" y="566077"/>
                </a:lnTo>
                <a:cubicBezTo>
                  <a:pt x="363465" y="540321"/>
                  <a:pt x="389924" y="517347"/>
                  <a:pt x="411857" y="496798"/>
                </a:cubicBezTo>
                <a:cubicBezTo>
                  <a:pt x="433790" y="476605"/>
                  <a:pt x="451545" y="457111"/>
                  <a:pt x="465471" y="438315"/>
                </a:cubicBezTo>
                <a:cubicBezTo>
                  <a:pt x="479049" y="419862"/>
                  <a:pt x="489145" y="401764"/>
                  <a:pt x="495413" y="384352"/>
                </a:cubicBezTo>
                <a:cubicBezTo>
                  <a:pt x="501679" y="366941"/>
                  <a:pt x="504812" y="347446"/>
                  <a:pt x="504812" y="326555"/>
                </a:cubicBezTo>
                <a:cubicBezTo>
                  <a:pt x="504812" y="284086"/>
                  <a:pt x="492627" y="251701"/>
                  <a:pt x="467560" y="229768"/>
                </a:cubicBezTo>
                <a:cubicBezTo>
                  <a:pt x="443190" y="207835"/>
                  <a:pt x="410813" y="196697"/>
                  <a:pt x="370776" y="196697"/>
                </a:cubicBezTo>
                <a:cubicBezTo>
                  <a:pt x="331783" y="196697"/>
                  <a:pt x="297317" y="207492"/>
                  <a:pt x="267376" y="229768"/>
                </a:cubicBezTo>
                <a:cubicBezTo>
                  <a:pt x="237436" y="251358"/>
                  <a:pt x="204014" y="285127"/>
                  <a:pt x="166762" y="330733"/>
                </a:cubicBezTo>
                <a:lnTo>
                  <a:pt x="12881" y="206794"/>
                </a:lnTo>
                <a:cubicBezTo>
                  <a:pt x="37251" y="173380"/>
                  <a:pt x="62318" y="144132"/>
                  <a:pt x="87384" y="118363"/>
                </a:cubicBezTo>
                <a:cubicBezTo>
                  <a:pt x="112452" y="92608"/>
                  <a:pt x="139607" y="71018"/>
                  <a:pt x="168851" y="53606"/>
                </a:cubicBezTo>
                <a:cubicBezTo>
                  <a:pt x="197747" y="36207"/>
                  <a:pt x="229777" y="22631"/>
                  <a:pt x="264939" y="13576"/>
                </a:cubicBezTo>
                <a:cubicBezTo>
                  <a:pt x="300102" y="4521"/>
                  <a:pt x="340139" y="0"/>
                  <a:pt x="385050" y="0"/>
                </a:cubicBezTo>
                <a:cubicBezTo>
                  <a:pt x="436227" y="0"/>
                  <a:pt x="482879" y="7315"/>
                  <a:pt x="525353" y="22275"/>
                </a:cubicBezTo>
                <a:cubicBezTo>
                  <a:pt x="567479" y="36906"/>
                  <a:pt x="603685" y="57442"/>
                  <a:pt x="633622" y="84251"/>
                </a:cubicBezTo>
                <a:cubicBezTo>
                  <a:pt x="663568" y="110705"/>
                  <a:pt x="686898" y="142735"/>
                  <a:pt x="703599" y="181038"/>
                </a:cubicBezTo>
                <a:cubicBezTo>
                  <a:pt x="720312" y="218986"/>
                  <a:pt x="728668" y="261454"/>
                  <a:pt x="728668" y="308101"/>
                </a:cubicBezTo>
                <a:lnTo>
                  <a:pt x="728668" y="310895"/>
                </a:lnTo>
                <a:cubicBezTo>
                  <a:pt x="728668" y="352666"/>
                  <a:pt x="723449" y="389915"/>
                  <a:pt x="712311" y="422998"/>
                </a:cubicBezTo>
                <a:cubicBezTo>
                  <a:pt x="701516" y="455726"/>
                  <a:pt x="685145" y="486359"/>
                  <a:pt x="663568" y="515607"/>
                </a:cubicBezTo>
                <a:cubicBezTo>
                  <a:pt x="642334" y="544144"/>
                  <a:pt x="615175" y="573049"/>
                  <a:pt x="581752" y="602284"/>
                </a:cubicBezTo>
                <a:cubicBezTo>
                  <a:pt x="548679" y="631190"/>
                  <a:pt x="510034" y="662863"/>
                  <a:pt x="466168" y="697331"/>
                </a:cubicBezTo>
                <a:lnTo>
                  <a:pt x="303583" y="822667"/>
                </a:lnTo>
                <a:lnTo>
                  <a:pt x="738422" y="822667"/>
                </a:lnTo>
                <a:lnTo>
                  <a:pt x="738422" y="1012405"/>
                </a:lnTo>
                <a:lnTo>
                  <a:pt x="0" y="1012405"/>
                </a:lnTo>
                <a:lnTo>
                  <a:pt x="0" y="838339"/>
                </a:lnTo>
              </a:path>
            </a:pathLst>
          </a:custGeom>
          <a:solidFill>
            <a:srgbClr val="dca83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9" name="Freeform 3"/>
          <p:cNvSpPr/>
          <p:nvPr/>
        </p:nvSpPr>
        <p:spPr>
          <a:xfrm>
            <a:off x="613440" y="412560"/>
            <a:ext cx="738000" cy="1011960"/>
          </a:xfrm>
          <a:custGeom>
            <a:avLst/>
            <a:gdLst>
              <a:gd name="textAreaLeft" fmla="*/ 0 w 738000"/>
              <a:gd name="textAreaRight" fmla="*/ 738360 w 738000"/>
              <a:gd name="textAreaTop" fmla="*/ 0 h 1011960"/>
              <a:gd name="textAreaBottom" fmla="*/ 1012320 h 1011960"/>
            </a:gdLst>
            <a:ahLst/>
            <a:rect l="textAreaLeft" t="textAreaTop" r="textAreaRight" b="textAreaBottom"/>
            <a:pathLst>
              <a:path w="738416" h="1012405">
                <a:moveTo>
                  <a:pt x="0" y="838339"/>
                </a:moveTo>
                <a:lnTo>
                  <a:pt x="332131" y="566089"/>
                </a:lnTo>
                <a:cubicBezTo>
                  <a:pt x="363465" y="540321"/>
                  <a:pt x="389924" y="517347"/>
                  <a:pt x="411857" y="496798"/>
                </a:cubicBezTo>
                <a:cubicBezTo>
                  <a:pt x="433790" y="476618"/>
                  <a:pt x="451545" y="457111"/>
                  <a:pt x="465471" y="438315"/>
                </a:cubicBezTo>
                <a:cubicBezTo>
                  <a:pt x="479049" y="419862"/>
                  <a:pt x="489145" y="401764"/>
                  <a:pt x="495411" y="384352"/>
                </a:cubicBezTo>
                <a:cubicBezTo>
                  <a:pt x="501679" y="366941"/>
                  <a:pt x="504812" y="347446"/>
                  <a:pt x="504812" y="326555"/>
                </a:cubicBezTo>
                <a:cubicBezTo>
                  <a:pt x="504812" y="284086"/>
                  <a:pt x="492626" y="251713"/>
                  <a:pt x="467560" y="229781"/>
                </a:cubicBezTo>
                <a:cubicBezTo>
                  <a:pt x="443190" y="207848"/>
                  <a:pt x="410811" y="196697"/>
                  <a:pt x="370775" y="196697"/>
                </a:cubicBezTo>
                <a:cubicBezTo>
                  <a:pt x="331783" y="196697"/>
                  <a:pt x="297317" y="207492"/>
                  <a:pt x="267376" y="229781"/>
                </a:cubicBezTo>
                <a:cubicBezTo>
                  <a:pt x="237435" y="251358"/>
                  <a:pt x="204014" y="285127"/>
                  <a:pt x="166762" y="330733"/>
                </a:cubicBezTo>
                <a:lnTo>
                  <a:pt x="12881" y="206794"/>
                </a:lnTo>
                <a:cubicBezTo>
                  <a:pt x="37251" y="173380"/>
                  <a:pt x="62317" y="144132"/>
                  <a:pt x="87384" y="118363"/>
                </a:cubicBezTo>
                <a:cubicBezTo>
                  <a:pt x="112450" y="92608"/>
                  <a:pt x="139606" y="71018"/>
                  <a:pt x="168850" y="53619"/>
                </a:cubicBezTo>
                <a:cubicBezTo>
                  <a:pt x="197746" y="36207"/>
                  <a:pt x="229775" y="22631"/>
                  <a:pt x="264939" y="13576"/>
                </a:cubicBezTo>
                <a:cubicBezTo>
                  <a:pt x="300102" y="4521"/>
                  <a:pt x="340139" y="0"/>
                  <a:pt x="385050" y="0"/>
                </a:cubicBezTo>
                <a:cubicBezTo>
                  <a:pt x="436227" y="0"/>
                  <a:pt x="482879" y="7315"/>
                  <a:pt x="525351" y="22275"/>
                </a:cubicBezTo>
                <a:cubicBezTo>
                  <a:pt x="567477" y="36906"/>
                  <a:pt x="603685" y="57442"/>
                  <a:pt x="633625" y="84251"/>
                </a:cubicBezTo>
                <a:cubicBezTo>
                  <a:pt x="663562" y="110705"/>
                  <a:pt x="686892" y="142735"/>
                  <a:pt x="703605" y="181038"/>
                </a:cubicBezTo>
                <a:cubicBezTo>
                  <a:pt x="720318" y="218986"/>
                  <a:pt x="728675" y="261454"/>
                  <a:pt x="728675" y="308114"/>
                </a:cubicBezTo>
                <a:lnTo>
                  <a:pt x="728675" y="310895"/>
                </a:lnTo>
                <a:cubicBezTo>
                  <a:pt x="728675" y="352666"/>
                  <a:pt x="723442" y="389928"/>
                  <a:pt x="712304" y="422998"/>
                </a:cubicBezTo>
                <a:cubicBezTo>
                  <a:pt x="701509" y="455726"/>
                  <a:pt x="685152" y="486359"/>
                  <a:pt x="663562" y="515607"/>
                </a:cubicBezTo>
                <a:cubicBezTo>
                  <a:pt x="642329" y="544156"/>
                  <a:pt x="615173" y="573049"/>
                  <a:pt x="581752" y="602297"/>
                </a:cubicBezTo>
                <a:cubicBezTo>
                  <a:pt x="548678" y="631190"/>
                  <a:pt x="510034" y="662876"/>
                  <a:pt x="466167" y="697331"/>
                </a:cubicBezTo>
                <a:lnTo>
                  <a:pt x="303583" y="822667"/>
                </a:lnTo>
                <a:lnTo>
                  <a:pt x="738416" y="822667"/>
                </a:lnTo>
                <a:lnTo>
                  <a:pt x="738416" y="1012405"/>
                </a:lnTo>
                <a:lnTo>
                  <a:pt x="0" y="1012405"/>
                </a:lnTo>
                <a:lnTo>
                  <a:pt x="0" y="838339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0" name="Freeform 3"/>
          <p:cNvSpPr/>
          <p:nvPr/>
        </p:nvSpPr>
        <p:spPr>
          <a:xfrm>
            <a:off x="8055360" y="191880"/>
            <a:ext cx="126720" cy="734760"/>
          </a:xfrm>
          <a:custGeom>
            <a:avLst/>
            <a:gdLst>
              <a:gd name="textAreaLeft" fmla="*/ 0 w 126720"/>
              <a:gd name="textAreaRight" fmla="*/ 127080 w 126720"/>
              <a:gd name="textAreaTop" fmla="*/ 0 h 734760"/>
              <a:gd name="textAreaBottom" fmla="*/ 735120 h 734760"/>
            </a:gdLst>
            <a:ahLst/>
            <a:rect l="textAreaLeft" t="textAreaTop" r="textAreaRight" b="textAreaBottom"/>
            <a:pathLst>
              <a:path w="127000" h="735228">
                <a:moveTo>
                  <a:pt x="31750" y="31750"/>
                </a:moveTo>
                <a:lnTo>
                  <a:pt x="31750" y="703478"/>
                </a:lnTo>
              </a:path>
            </a:pathLst>
          </a:custGeom>
          <a:noFill/>
          <a:ln w="63500">
            <a:solidFill>
              <a:srgbClr val="fccf38"/>
            </a:solidFill>
            <a:prstDash val="dash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reeform 3"/>
          <p:cNvSpPr/>
          <p:nvPr/>
        </p:nvSpPr>
        <p:spPr>
          <a:xfrm>
            <a:off x="2084400" y="959760"/>
            <a:ext cx="5844600" cy="126720"/>
          </a:xfrm>
          <a:custGeom>
            <a:avLst/>
            <a:gdLst>
              <a:gd name="textAreaLeft" fmla="*/ 0 w 5844600"/>
              <a:gd name="textAreaRight" fmla="*/ 5844960 w 584460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5844908" h="127000">
                <a:moveTo>
                  <a:pt x="5813157" y="31750"/>
                </a:moveTo>
                <a:lnTo>
                  <a:pt x="31750" y="31750"/>
                </a:lnTo>
              </a:path>
            </a:pathLst>
          </a:custGeom>
          <a:noFill/>
          <a:ln w="63500">
            <a:solidFill>
              <a:srgbClr val="fccf38"/>
            </a:solidFill>
            <a:prstDash val="dash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reeform 3"/>
          <p:cNvSpPr/>
          <p:nvPr/>
        </p:nvSpPr>
        <p:spPr>
          <a:xfrm>
            <a:off x="959760" y="2135160"/>
            <a:ext cx="126720" cy="4654440"/>
          </a:xfrm>
          <a:custGeom>
            <a:avLst/>
            <a:gdLst>
              <a:gd name="textAreaLeft" fmla="*/ 0 w 126720"/>
              <a:gd name="textAreaRight" fmla="*/ 127080 w 126720"/>
              <a:gd name="textAreaTop" fmla="*/ 0 h 4654440"/>
              <a:gd name="textAreaBottom" fmla="*/ 4654800 h 4654440"/>
            </a:gdLst>
            <a:ahLst/>
            <a:rect l="textAreaLeft" t="textAreaTop" r="textAreaRight" b="textAreaBottom"/>
            <a:pathLst>
              <a:path w="127000" h="4654638">
                <a:moveTo>
                  <a:pt x="31750" y="31750"/>
                </a:moveTo>
                <a:lnTo>
                  <a:pt x="31750" y="4622888"/>
                </a:lnTo>
              </a:path>
            </a:pathLst>
          </a:custGeom>
          <a:noFill/>
          <a:ln w="63500">
            <a:solidFill>
              <a:srgbClr val="fccf38"/>
            </a:solidFill>
            <a:prstDash val="dash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reeform 3"/>
          <p:cNvSpPr/>
          <p:nvPr/>
        </p:nvSpPr>
        <p:spPr>
          <a:xfrm>
            <a:off x="5352840" y="3593160"/>
            <a:ext cx="18360" cy="34200"/>
          </a:xfrm>
          <a:custGeom>
            <a:avLst/>
            <a:gdLst>
              <a:gd name="textAreaLeft" fmla="*/ 0 w 18360"/>
              <a:gd name="textAreaRight" fmla="*/ 18720 w 18360"/>
              <a:gd name="textAreaTop" fmla="*/ 0 h 34200"/>
              <a:gd name="textAreaBottom" fmla="*/ 34560 h 34200"/>
            </a:gdLst>
            <a:ahLst/>
            <a:rect l="textAreaLeft" t="textAreaTop" r="textAreaRight" b="textAreaBottom"/>
            <a:pathLst>
              <a:path w="18745" h="34594">
                <a:moveTo>
                  <a:pt x="0" y="29247"/>
                </a:moveTo>
                <a:cubicBezTo>
                  <a:pt x="3860" y="27825"/>
                  <a:pt x="6578" y="26072"/>
                  <a:pt x="8216" y="23990"/>
                </a:cubicBezTo>
                <a:cubicBezTo>
                  <a:pt x="9855" y="21907"/>
                  <a:pt x="10528" y="19265"/>
                  <a:pt x="10223" y="16001"/>
                </a:cubicBezTo>
                <a:lnTo>
                  <a:pt x="4724" y="16001"/>
                </a:lnTo>
                <a:lnTo>
                  <a:pt x="4724" y="0"/>
                </a:lnTo>
                <a:lnTo>
                  <a:pt x="18744" y="0"/>
                </a:lnTo>
                <a:lnTo>
                  <a:pt x="18744" y="13690"/>
                </a:lnTo>
                <a:cubicBezTo>
                  <a:pt x="18744" y="19862"/>
                  <a:pt x="17373" y="24586"/>
                  <a:pt x="14617" y="27787"/>
                </a:cubicBezTo>
                <a:cubicBezTo>
                  <a:pt x="11899" y="30988"/>
                  <a:pt x="7619" y="33261"/>
                  <a:pt x="1815" y="34594"/>
                </a:cubicBezTo>
                <a:lnTo>
                  <a:pt x="0" y="29247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4" name="Freeform 3"/>
          <p:cNvSpPr/>
          <p:nvPr/>
        </p:nvSpPr>
        <p:spPr>
          <a:xfrm>
            <a:off x="5322240" y="3593160"/>
            <a:ext cx="18360" cy="34200"/>
          </a:xfrm>
          <a:custGeom>
            <a:avLst/>
            <a:gdLst>
              <a:gd name="textAreaLeft" fmla="*/ 0 w 18360"/>
              <a:gd name="textAreaRight" fmla="*/ 18720 w 18360"/>
              <a:gd name="textAreaTop" fmla="*/ 0 h 34200"/>
              <a:gd name="textAreaBottom" fmla="*/ 34560 h 34200"/>
            </a:gdLst>
            <a:ahLst/>
            <a:rect l="textAreaLeft" t="textAreaTop" r="textAreaRight" b="textAreaBottom"/>
            <a:pathLst>
              <a:path w="18758" h="34594">
                <a:moveTo>
                  <a:pt x="0" y="29247"/>
                </a:moveTo>
                <a:cubicBezTo>
                  <a:pt x="3873" y="27825"/>
                  <a:pt x="6591" y="26072"/>
                  <a:pt x="8229" y="23990"/>
                </a:cubicBezTo>
                <a:cubicBezTo>
                  <a:pt x="9868" y="21907"/>
                  <a:pt x="10528" y="19265"/>
                  <a:pt x="10198" y="16001"/>
                </a:cubicBezTo>
                <a:lnTo>
                  <a:pt x="4724" y="16001"/>
                </a:lnTo>
                <a:lnTo>
                  <a:pt x="4724" y="0"/>
                </a:lnTo>
                <a:lnTo>
                  <a:pt x="18758" y="0"/>
                </a:lnTo>
                <a:lnTo>
                  <a:pt x="18758" y="13690"/>
                </a:lnTo>
                <a:cubicBezTo>
                  <a:pt x="18758" y="19862"/>
                  <a:pt x="17386" y="24586"/>
                  <a:pt x="14630" y="27787"/>
                </a:cubicBezTo>
                <a:cubicBezTo>
                  <a:pt x="11912" y="30988"/>
                  <a:pt x="7632" y="33261"/>
                  <a:pt x="1828" y="34594"/>
                </a:cubicBezTo>
                <a:lnTo>
                  <a:pt x="0" y="29247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5" name="Freeform 3"/>
          <p:cNvSpPr/>
          <p:nvPr/>
        </p:nvSpPr>
        <p:spPr>
          <a:xfrm>
            <a:off x="2216880" y="3625920"/>
            <a:ext cx="63720" cy="63720"/>
          </a:xfrm>
          <a:custGeom>
            <a:avLst/>
            <a:gdLst>
              <a:gd name="textAreaLeft" fmla="*/ 0 w 63720"/>
              <a:gd name="textAreaRight" fmla="*/ 64080 w 6372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64008" h="64007">
                <a:moveTo>
                  <a:pt x="32004" y="64008"/>
                </a:moveTo>
                <a:cubicBezTo>
                  <a:pt x="49682" y="64008"/>
                  <a:pt x="64008" y="49682"/>
                  <a:pt x="64008" y="32003"/>
                </a:cubicBezTo>
                <a:cubicBezTo>
                  <a:pt x="64008" y="14325"/>
                  <a:pt x="49682" y="0"/>
                  <a:pt x="32004" y="0"/>
                </a:cubicBezTo>
                <a:cubicBezTo>
                  <a:pt x="14325" y="0"/>
                  <a:pt x="0" y="14325"/>
                  <a:pt x="0" y="32003"/>
                </a:cubicBezTo>
                <a:cubicBezTo>
                  <a:pt x="0" y="49682"/>
                  <a:pt x="14325" y="64008"/>
                  <a:pt x="32004" y="64008"/>
                </a:cubicBezTo>
              </a:path>
            </a:pathLst>
          </a:custGeom>
          <a:solidFill>
            <a:srgbClr val="459ddc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6" name="Freeform 3"/>
          <p:cNvSpPr/>
          <p:nvPr/>
        </p:nvSpPr>
        <p:spPr>
          <a:xfrm>
            <a:off x="2242440" y="3678480"/>
            <a:ext cx="227160" cy="735480"/>
          </a:xfrm>
          <a:custGeom>
            <a:avLst/>
            <a:gdLst>
              <a:gd name="textAreaLeft" fmla="*/ 0 w 227160"/>
              <a:gd name="textAreaRight" fmla="*/ 227520 w 227160"/>
              <a:gd name="textAreaTop" fmla="*/ 0 h 735480"/>
              <a:gd name="textAreaBottom" fmla="*/ 735840 h 735480"/>
            </a:gdLst>
            <a:ahLst/>
            <a:rect l="textAreaLeft" t="textAreaTop" r="textAreaRight" b="textAreaBottom"/>
            <a:pathLst>
              <a:path w="227583" h="735888">
                <a:moveTo>
                  <a:pt x="6350" y="6350"/>
                </a:moveTo>
                <a:lnTo>
                  <a:pt x="6350" y="729538"/>
                </a:lnTo>
                <a:lnTo>
                  <a:pt x="221233" y="729538"/>
                </a:lnTo>
              </a:path>
            </a:pathLst>
          </a:custGeom>
          <a:noFill/>
          <a:ln w="12700">
            <a:solidFill>
              <a:srgbClr val="459ddc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Freeform 3"/>
          <p:cNvSpPr/>
          <p:nvPr/>
        </p:nvSpPr>
        <p:spPr>
          <a:xfrm>
            <a:off x="2236320" y="4149000"/>
            <a:ext cx="233640" cy="25200"/>
          </a:xfrm>
          <a:custGeom>
            <a:avLst/>
            <a:gdLst>
              <a:gd name="textAreaLeft" fmla="*/ 0 w 233640"/>
              <a:gd name="textAreaRight" fmla="*/ 234000 w 23364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233934" h="25400">
                <a:moveTo>
                  <a:pt x="6350" y="6350"/>
                </a:moveTo>
                <a:lnTo>
                  <a:pt x="227583" y="6350"/>
                </a:lnTo>
              </a:path>
            </a:pathLst>
          </a:custGeom>
          <a:noFill/>
          <a:ln w="12700">
            <a:solidFill>
              <a:srgbClr val="459ddc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9440" bIns="-194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Freeform 3"/>
          <p:cNvSpPr/>
          <p:nvPr/>
        </p:nvSpPr>
        <p:spPr>
          <a:xfrm>
            <a:off x="2236320" y="3903120"/>
            <a:ext cx="233640" cy="25200"/>
          </a:xfrm>
          <a:custGeom>
            <a:avLst/>
            <a:gdLst>
              <a:gd name="textAreaLeft" fmla="*/ 0 w 233640"/>
              <a:gd name="textAreaRight" fmla="*/ 234000 w 23364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233934" h="25400">
                <a:moveTo>
                  <a:pt x="6350" y="6350"/>
                </a:moveTo>
                <a:lnTo>
                  <a:pt x="227583" y="6350"/>
                </a:lnTo>
              </a:path>
            </a:pathLst>
          </a:custGeom>
          <a:noFill/>
          <a:ln w="12700">
            <a:solidFill>
              <a:srgbClr val="459ddc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9440" bIns="-194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Freeform 3"/>
          <p:cNvSpPr/>
          <p:nvPr/>
        </p:nvSpPr>
        <p:spPr>
          <a:xfrm>
            <a:off x="2367000" y="5094720"/>
            <a:ext cx="185400" cy="185400"/>
          </a:xfrm>
          <a:custGeom>
            <a:avLst/>
            <a:gdLst>
              <a:gd name="textAreaLeft" fmla="*/ 0 w 185400"/>
              <a:gd name="textAreaRight" fmla="*/ 185760 w 185400"/>
              <a:gd name="textAreaTop" fmla="*/ 0 h 185400"/>
              <a:gd name="textAreaBottom" fmla="*/ 185760 h 185400"/>
            </a:gdLst>
            <a:ahLst/>
            <a:rect l="textAreaLeft" t="textAreaTop" r="textAreaRight" b="textAreaBottom"/>
            <a:pathLst>
              <a:path w="185648" h="185750">
                <a:moveTo>
                  <a:pt x="92798" y="185750"/>
                </a:moveTo>
                <a:cubicBezTo>
                  <a:pt x="41579" y="185750"/>
                  <a:pt x="0" y="144119"/>
                  <a:pt x="0" y="92849"/>
                </a:cubicBezTo>
                <a:cubicBezTo>
                  <a:pt x="0" y="41630"/>
                  <a:pt x="41579" y="0"/>
                  <a:pt x="92798" y="0"/>
                </a:cubicBezTo>
                <a:cubicBezTo>
                  <a:pt x="144119" y="0"/>
                  <a:pt x="185648" y="41630"/>
                  <a:pt x="185648" y="92849"/>
                </a:cubicBezTo>
                <a:cubicBezTo>
                  <a:pt x="185699" y="144170"/>
                  <a:pt x="144119" y="185750"/>
                  <a:pt x="92798" y="185750"/>
                </a:cubicBezTo>
              </a:path>
            </a:pathLst>
          </a:custGeom>
          <a:solidFill>
            <a:srgbClr val="6a943c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0" name="Freeform 3"/>
          <p:cNvSpPr/>
          <p:nvPr/>
        </p:nvSpPr>
        <p:spPr>
          <a:xfrm>
            <a:off x="2230200" y="5299920"/>
            <a:ext cx="458280" cy="933120"/>
          </a:xfrm>
          <a:custGeom>
            <a:avLst/>
            <a:gdLst>
              <a:gd name="textAreaLeft" fmla="*/ 0 w 458280"/>
              <a:gd name="textAreaRight" fmla="*/ 458640 w 458280"/>
              <a:gd name="textAreaTop" fmla="*/ 0 h 933120"/>
              <a:gd name="textAreaBottom" fmla="*/ 933480 h 933120"/>
            </a:gdLst>
            <a:ahLst/>
            <a:rect l="textAreaLeft" t="textAreaTop" r="textAreaRight" b="textAreaBottom"/>
            <a:pathLst>
              <a:path w="458800" h="933462">
                <a:moveTo>
                  <a:pt x="108153" y="881278"/>
                </a:moveTo>
                <a:lnTo>
                  <a:pt x="108254" y="128092"/>
                </a:lnTo>
                <a:lnTo>
                  <a:pt x="73253" y="128092"/>
                </a:lnTo>
                <a:lnTo>
                  <a:pt x="73253" y="405688"/>
                </a:lnTo>
                <a:cubicBezTo>
                  <a:pt x="73253" y="461212"/>
                  <a:pt x="0" y="461212"/>
                  <a:pt x="0" y="405688"/>
                </a:cubicBezTo>
                <a:lnTo>
                  <a:pt x="0" y="120446"/>
                </a:lnTo>
                <a:cubicBezTo>
                  <a:pt x="0" y="53441"/>
                  <a:pt x="52870" y="0"/>
                  <a:pt x="118706" y="0"/>
                </a:cubicBezTo>
                <a:lnTo>
                  <a:pt x="338645" y="0"/>
                </a:lnTo>
                <a:cubicBezTo>
                  <a:pt x="410819" y="0"/>
                  <a:pt x="458800" y="60502"/>
                  <a:pt x="458800" y="122237"/>
                </a:cubicBezTo>
                <a:lnTo>
                  <a:pt x="458800" y="405688"/>
                </a:lnTo>
                <a:cubicBezTo>
                  <a:pt x="458939" y="461555"/>
                  <a:pt x="386130" y="461555"/>
                  <a:pt x="386130" y="405688"/>
                </a:cubicBezTo>
                <a:lnTo>
                  <a:pt x="386130" y="128092"/>
                </a:lnTo>
                <a:lnTo>
                  <a:pt x="351421" y="128092"/>
                </a:lnTo>
                <a:lnTo>
                  <a:pt x="351421" y="881278"/>
                </a:lnTo>
                <a:cubicBezTo>
                  <a:pt x="351421" y="910132"/>
                  <a:pt x="327990" y="933462"/>
                  <a:pt x="299097" y="933462"/>
                </a:cubicBezTo>
                <a:cubicBezTo>
                  <a:pt x="270421" y="933462"/>
                  <a:pt x="247141" y="910082"/>
                  <a:pt x="247141" y="881278"/>
                </a:cubicBezTo>
                <a:lnTo>
                  <a:pt x="247332" y="444410"/>
                </a:lnTo>
                <a:lnTo>
                  <a:pt x="212344" y="444410"/>
                </a:lnTo>
                <a:lnTo>
                  <a:pt x="212344" y="881278"/>
                </a:lnTo>
                <a:cubicBezTo>
                  <a:pt x="212344" y="910132"/>
                  <a:pt x="189001" y="933462"/>
                  <a:pt x="160299" y="933462"/>
                </a:cubicBezTo>
                <a:cubicBezTo>
                  <a:pt x="131394" y="933411"/>
                  <a:pt x="108153" y="910132"/>
                  <a:pt x="108153" y="881278"/>
                </a:cubicBezTo>
              </a:path>
            </a:pathLst>
          </a:custGeom>
          <a:solidFill>
            <a:srgbClr val="6a943c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1" name="Freeform 3"/>
          <p:cNvSpPr/>
          <p:nvPr/>
        </p:nvSpPr>
        <p:spPr>
          <a:xfrm>
            <a:off x="2928240" y="5094720"/>
            <a:ext cx="185400" cy="185400"/>
          </a:xfrm>
          <a:custGeom>
            <a:avLst/>
            <a:gdLst>
              <a:gd name="textAreaLeft" fmla="*/ 0 w 185400"/>
              <a:gd name="textAreaRight" fmla="*/ 185760 w 185400"/>
              <a:gd name="textAreaTop" fmla="*/ 0 h 185400"/>
              <a:gd name="textAreaBottom" fmla="*/ 185760 h 185400"/>
            </a:gdLst>
            <a:ahLst/>
            <a:rect l="textAreaLeft" t="textAreaTop" r="textAreaRight" b="textAreaBottom"/>
            <a:pathLst>
              <a:path w="185648" h="185750">
                <a:moveTo>
                  <a:pt x="92798" y="185750"/>
                </a:moveTo>
                <a:cubicBezTo>
                  <a:pt x="41579" y="185750"/>
                  <a:pt x="0" y="144119"/>
                  <a:pt x="0" y="92849"/>
                </a:cubicBezTo>
                <a:cubicBezTo>
                  <a:pt x="0" y="41630"/>
                  <a:pt x="41579" y="0"/>
                  <a:pt x="92798" y="0"/>
                </a:cubicBezTo>
                <a:cubicBezTo>
                  <a:pt x="144119" y="0"/>
                  <a:pt x="185648" y="41630"/>
                  <a:pt x="185648" y="92849"/>
                </a:cubicBezTo>
                <a:cubicBezTo>
                  <a:pt x="185699" y="144170"/>
                  <a:pt x="144119" y="185750"/>
                  <a:pt x="92798" y="185750"/>
                </a:cubicBezTo>
              </a:path>
            </a:pathLst>
          </a:custGeom>
          <a:solidFill>
            <a:srgbClr val="6a943c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2" name="Freeform 3"/>
          <p:cNvSpPr/>
          <p:nvPr/>
        </p:nvSpPr>
        <p:spPr>
          <a:xfrm>
            <a:off x="2791440" y="5299920"/>
            <a:ext cx="458280" cy="933120"/>
          </a:xfrm>
          <a:custGeom>
            <a:avLst/>
            <a:gdLst>
              <a:gd name="textAreaLeft" fmla="*/ 0 w 458280"/>
              <a:gd name="textAreaRight" fmla="*/ 458640 w 458280"/>
              <a:gd name="textAreaTop" fmla="*/ 0 h 933120"/>
              <a:gd name="textAreaBottom" fmla="*/ 933480 h 933120"/>
            </a:gdLst>
            <a:ahLst/>
            <a:rect l="textAreaLeft" t="textAreaTop" r="textAreaRight" b="textAreaBottom"/>
            <a:pathLst>
              <a:path w="458800" h="933462">
                <a:moveTo>
                  <a:pt x="108153" y="881278"/>
                </a:moveTo>
                <a:lnTo>
                  <a:pt x="108254" y="128092"/>
                </a:lnTo>
                <a:lnTo>
                  <a:pt x="73253" y="128092"/>
                </a:lnTo>
                <a:lnTo>
                  <a:pt x="73253" y="405688"/>
                </a:lnTo>
                <a:cubicBezTo>
                  <a:pt x="73253" y="461212"/>
                  <a:pt x="0" y="461212"/>
                  <a:pt x="0" y="405688"/>
                </a:cubicBezTo>
                <a:lnTo>
                  <a:pt x="0" y="120446"/>
                </a:lnTo>
                <a:cubicBezTo>
                  <a:pt x="0" y="53441"/>
                  <a:pt x="52870" y="0"/>
                  <a:pt x="118706" y="0"/>
                </a:cubicBezTo>
                <a:lnTo>
                  <a:pt x="338645" y="0"/>
                </a:lnTo>
                <a:cubicBezTo>
                  <a:pt x="410832" y="0"/>
                  <a:pt x="458800" y="60502"/>
                  <a:pt x="458800" y="122237"/>
                </a:cubicBezTo>
                <a:lnTo>
                  <a:pt x="458800" y="405688"/>
                </a:lnTo>
                <a:cubicBezTo>
                  <a:pt x="458939" y="461555"/>
                  <a:pt x="386130" y="461555"/>
                  <a:pt x="386130" y="405688"/>
                </a:cubicBezTo>
                <a:lnTo>
                  <a:pt x="386130" y="128092"/>
                </a:lnTo>
                <a:lnTo>
                  <a:pt x="351421" y="128092"/>
                </a:lnTo>
                <a:lnTo>
                  <a:pt x="351421" y="881278"/>
                </a:lnTo>
                <a:cubicBezTo>
                  <a:pt x="351421" y="910132"/>
                  <a:pt x="327990" y="933462"/>
                  <a:pt x="299097" y="933462"/>
                </a:cubicBezTo>
                <a:cubicBezTo>
                  <a:pt x="270421" y="933462"/>
                  <a:pt x="247142" y="910082"/>
                  <a:pt x="247142" y="881278"/>
                </a:cubicBezTo>
                <a:lnTo>
                  <a:pt x="247332" y="444410"/>
                </a:lnTo>
                <a:lnTo>
                  <a:pt x="212344" y="444410"/>
                </a:lnTo>
                <a:lnTo>
                  <a:pt x="212344" y="881278"/>
                </a:lnTo>
                <a:cubicBezTo>
                  <a:pt x="212344" y="910132"/>
                  <a:pt x="189001" y="933462"/>
                  <a:pt x="160299" y="933462"/>
                </a:cubicBezTo>
                <a:cubicBezTo>
                  <a:pt x="131394" y="933411"/>
                  <a:pt x="108153" y="910132"/>
                  <a:pt x="108153" y="881278"/>
                </a:cubicBezTo>
              </a:path>
            </a:pathLst>
          </a:custGeom>
          <a:solidFill>
            <a:srgbClr val="6a943c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3" name="Freeform 3"/>
          <p:cNvSpPr/>
          <p:nvPr/>
        </p:nvSpPr>
        <p:spPr>
          <a:xfrm>
            <a:off x="3489840" y="5094720"/>
            <a:ext cx="185400" cy="185400"/>
          </a:xfrm>
          <a:custGeom>
            <a:avLst/>
            <a:gdLst>
              <a:gd name="textAreaLeft" fmla="*/ 0 w 185400"/>
              <a:gd name="textAreaRight" fmla="*/ 185760 w 185400"/>
              <a:gd name="textAreaTop" fmla="*/ 0 h 185400"/>
              <a:gd name="textAreaBottom" fmla="*/ 185760 h 185400"/>
            </a:gdLst>
            <a:ahLst/>
            <a:rect l="textAreaLeft" t="textAreaTop" r="textAreaRight" b="textAreaBottom"/>
            <a:pathLst>
              <a:path w="185648" h="185750">
                <a:moveTo>
                  <a:pt x="92798" y="185750"/>
                </a:moveTo>
                <a:cubicBezTo>
                  <a:pt x="41580" y="185750"/>
                  <a:pt x="0" y="144119"/>
                  <a:pt x="0" y="92849"/>
                </a:cubicBezTo>
                <a:cubicBezTo>
                  <a:pt x="0" y="41630"/>
                  <a:pt x="41580" y="0"/>
                  <a:pt x="92798" y="0"/>
                </a:cubicBezTo>
                <a:cubicBezTo>
                  <a:pt x="144119" y="0"/>
                  <a:pt x="185648" y="41630"/>
                  <a:pt x="185648" y="92849"/>
                </a:cubicBezTo>
                <a:cubicBezTo>
                  <a:pt x="185699" y="144170"/>
                  <a:pt x="144119" y="185750"/>
                  <a:pt x="92798" y="185750"/>
                </a:cubicBezTo>
              </a:path>
            </a:pathLst>
          </a:custGeom>
          <a:solidFill>
            <a:srgbClr val="6a943c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4" name="Freeform 3"/>
          <p:cNvSpPr/>
          <p:nvPr/>
        </p:nvSpPr>
        <p:spPr>
          <a:xfrm>
            <a:off x="3353040" y="5299920"/>
            <a:ext cx="458280" cy="933120"/>
          </a:xfrm>
          <a:custGeom>
            <a:avLst/>
            <a:gdLst>
              <a:gd name="textAreaLeft" fmla="*/ 0 w 458280"/>
              <a:gd name="textAreaRight" fmla="*/ 458640 w 458280"/>
              <a:gd name="textAreaTop" fmla="*/ 0 h 933120"/>
              <a:gd name="textAreaBottom" fmla="*/ 933480 h 933120"/>
            </a:gdLst>
            <a:ahLst/>
            <a:rect l="textAreaLeft" t="textAreaTop" r="textAreaRight" b="textAreaBottom"/>
            <a:pathLst>
              <a:path w="458800" h="933462">
                <a:moveTo>
                  <a:pt x="108153" y="881278"/>
                </a:moveTo>
                <a:lnTo>
                  <a:pt x="108255" y="128092"/>
                </a:lnTo>
                <a:lnTo>
                  <a:pt x="73253" y="128092"/>
                </a:lnTo>
                <a:lnTo>
                  <a:pt x="73253" y="405688"/>
                </a:lnTo>
                <a:cubicBezTo>
                  <a:pt x="73253" y="461212"/>
                  <a:pt x="0" y="461212"/>
                  <a:pt x="0" y="405688"/>
                </a:cubicBezTo>
                <a:lnTo>
                  <a:pt x="0" y="120446"/>
                </a:lnTo>
                <a:cubicBezTo>
                  <a:pt x="0" y="53441"/>
                  <a:pt x="52870" y="0"/>
                  <a:pt x="118707" y="0"/>
                </a:cubicBezTo>
                <a:lnTo>
                  <a:pt x="338645" y="0"/>
                </a:lnTo>
                <a:cubicBezTo>
                  <a:pt x="410819" y="0"/>
                  <a:pt x="458800" y="60502"/>
                  <a:pt x="458800" y="122237"/>
                </a:cubicBezTo>
                <a:lnTo>
                  <a:pt x="458800" y="405688"/>
                </a:lnTo>
                <a:cubicBezTo>
                  <a:pt x="458940" y="461555"/>
                  <a:pt x="386131" y="461555"/>
                  <a:pt x="386131" y="405688"/>
                </a:cubicBezTo>
                <a:lnTo>
                  <a:pt x="386131" y="128092"/>
                </a:lnTo>
                <a:lnTo>
                  <a:pt x="351421" y="128092"/>
                </a:lnTo>
                <a:lnTo>
                  <a:pt x="351421" y="881278"/>
                </a:lnTo>
                <a:cubicBezTo>
                  <a:pt x="351421" y="910132"/>
                  <a:pt x="327990" y="933462"/>
                  <a:pt x="299085" y="933462"/>
                </a:cubicBezTo>
                <a:cubicBezTo>
                  <a:pt x="270421" y="933462"/>
                  <a:pt x="247142" y="910082"/>
                  <a:pt x="247142" y="881278"/>
                </a:cubicBezTo>
                <a:lnTo>
                  <a:pt x="247332" y="444410"/>
                </a:lnTo>
                <a:lnTo>
                  <a:pt x="212331" y="444410"/>
                </a:lnTo>
                <a:lnTo>
                  <a:pt x="212331" y="881278"/>
                </a:lnTo>
                <a:cubicBezTo>
                  <a:pt x="212331" y="910132"/>
                  <a:pt x="189001" y="933462"/>
                  <a:pt x="160299" y="933462"/>
                </a:cubicBezTo>
                <a:cubicBezTo>
                  <a:pt x="131394" y="933411"/>
                  <a:pt x="108153" y="910132"/>
                  <a:pt x="108153" y="881278"/>
                </a:cubicBezTo>
              </a:path>
            </a:pathLst>
          </a:custGeom>
          <a:solidFill>
            <a:srgbClr val="6a943c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5" name="Freeform 3"/>
          <p:cNvSpPr/>
          <p:nvPr/>
        </p:nvSpPr>
        <p:spPr>
          <a:xfrm>
            <a:off x="4051080" y="5094720"/>
            <a:ext cx="185400" cy="185400"/>
          </a:xfrm>
          <a:custGeom>
            <a:avLst/>
            <a:gdLst>
              <a:gd name="textAreaLeft" fmla="*/ 0 w 185400"/>
              <a:gd name="textAreaRight" fmla="*/ 185760 w 185400"/>
              <a:gd name="textAreaTop" fmla="*/ 0 h 185400"/>
              <a:gd name="textAreaBottom" fmla="*/ 185760 h 185400"/>
            </a:gdLst>
            <a:ahLst/>
            <a:rect l="textAreaLeft" t="textAreaTop" r="textAreaRight" b="textAreaBottom"/>
            <a:pathLst>
              <a:path w="185648" h="185750">
                <a:moveTo>
                  <a:pt x="92798" y="185750"/>
                </a:moveTo>
                <a:cubicBezTo>
                  <a:pt x="41579" y="185750"/>
                  <a:pt x="0" y="144119"/>
                  <a:pt x="0" y="92849"/>
                </a:cubicBezTo>
                <a:cubicBezTo>
                  <a:pt x="0" y="41630"/>
                  <a:pt x="41579" y="0"/>
                  <a:pt x="92798" y="0"/>
                </a:cubicBezTo>
                <a:cubicBezTo>
                  <a:pt x="144119" y="0"/>
                  <a:pt x="185648" y="41630"/>
                  <a:pt x="185648" y="92849"/>
                </a:cubicBezTo>
                <a:cubicBezTo>
                  <a:pt x="185699" y="144170"/>
                  <a:pt x="144119" y="185750"/>
                  <a:pt x="92798" y="185750"/>
                </a:cubicBezTo>
              </a:path>
            </a:pathLst>
          </a:custGeom>
          <a:solidFill>
            <a:srgbClr val="6a943c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6" name="Freeform 3"/>
          <p:cNvSpPr/>
          <p:nvPr/>
        </p:nvSpPr>
        <p:spPr>
          <a:xfrm>
            <a:off x="3914280" y="5299920"/>
            <a:ext cx="458280" cy="933120"/>
          </a:xfrm>
          <a:custGeom>
            <a:avLst/>
            <a:gdLst>
              <a:gd name="textAreaLeft" fmla="*/ 0 w 458280"/>
              <a:gd name="textAreaRight" fmla="*/ 458640 w 458280"/>
              <a:gd name="textAreaTop" fmla="*/ 0 h 933120"/>
              <a:gd name="textAreaBottom" fmla="*/ 933480 h 933120"/>
            </a:gdLst>
            <a:ahLst/>
            <a:rect l="textAreaLeft" t="textAreaTop" r="textAreaRight" b="textAreaBottom"/>
            <a:pathLst>
              <a:path w="458800" h="933462">
                <a:moveTo>
                  <a:pt x="108153" y="881278"/>
                </a:moveTo>
                <a:lnTo>
                  <a:pt x="108254" y="128092"/>
                </a:lnTo>
                <a:lnTo>
                  <a:pt x="73253" y="128092"/>
                </a:lnTo>
                <a:lnTo>
                  <a:pt x="73253" y="405688"/>
                </a:lnTo>
                <a:cubicBezTo>
                  <a:pt x="73253" y="461212"/>
                  <a:pt x="0" y="461212"/>
                  <a:pt x="0" y="405688"/>
                </a:cubicBezTo>
                <a:lnTo>
                  <a:pt x="0" y="120446"/>
                </a:lnTo>
                <a:cubicBezTo>
                  <a:pt x="0" y="53441"/>
                  <a:pt x="52870" y="0"/>
                  <a:pt x="118707" y="0"/>
                </a:cubicBezTo>
                <a:lnTo>
                  <a:pt x="338645" y="0"/>
                </a:lnTo>
                <a:cubicBezTo>
                  <a:pt x="410819" y="0"/>
                  <a:pt x="458800" y="60502"/>
                  <a:pt x="458800" y="122237"/>
                </a:cubicBezTo>
                <a:lnTo>
                  <a:pt x="458800" y="405688"/>
                </a:lnTo>
                <a:cubicBezTo>
                  <a:pt x="458939" y="461555"/>
                  <a:pt x="386130" y="461555"/>
                  <a:pt x="386130" y="405688"/>
                </a:cubicBezTo>
                <a:lnTo>
                  <a:pt x="386130" y="128092"/>
                </a:lnTo>
                <a:lnTo>
                  <a:pt x="351421" y="128092"/>
                </a:lnTo>
                <a:lnTo>
                  <a:pt x="351421" y="881278"/>
                </a:lnTo>
                <a:cubicBezTo>
                  <a:pt x="351421" y="910132"/>
                  <a:pt x="327990" y="933462"/>
                  <a:pt x="299084" y="933462"/>
                </a:cubicBezTo>
                <a:cubicBezTo>
                  <a:pt x="270421" y="933462"/>
                  <a:pt x="247141" y="910082"/>
                  <a:pt x="247141" y="881278"/>
                </a:cubicBezTo>
                <a:lnTo>
                  <a:pt x="247332" y="444410"/>
                </a:lnTo>
                <a:lnTo>
                  <a:pt x="212344" y="444410"/>
                </a:lnTo>
                <a:lnTo>
                  <a:pt x="212344" y="881278"/>
                </a:lnTo>
                <a:cubicBezTo>
                  <a:pt x="212344" y="910132"/>
                  <a:pt x="189001" y="933462"/>
                  <a:pt x="160299" y="933462"/>
                </a:cubicBezTo>
                <a:cubicBezTo>
                  <a:pt x="131394" y="933411"/>
                  <a:pt x="108153" y="910132"/>
                  <a:pt x="108153" y="881278"/>
                </a:cubicBezTo>
              </a:path>
            </a:pathLst>
          </a:custGeom>
          <a:solidFill>
            <a:srgbClr val="6a943c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7" name="Freeform 3"/>
          <p:cNvSpPr/>
          <p:nvPr/>
        </p:nvSpPr>
        <p:spPr>
          <a:xfrm>
            <a:off x="4612680" y="5094720"/>
            <a:ext cx="185400" cy="185400"/>
          </a:xfrm>
          <a:custGeom>
            <a:avLst/>
            <a:gdLst>
              <a:gd name="textAreaLeft" fmla="*/ 0 w 185400"/>
              <a:gd name="textAreaRight" fmla="*/ 185760 w 185400"/>
              <a:gd name="textAreaTop" fmla="*/ 0 h 185400"/>
              <a:gd name="textAreaBottom" fmla="*/ 185760 h 185400"/>
            </a:gdLst>
            <a:ahLst/>
            <a:rect l="textAreaLeft" t="textAreaTop" r="textAreaRight" b="textAreaBottom"/>
            <a:pathLst>
              <a:path w="185648" h="185750">
                <a:moveTo>
                  <a:pt x="92798" y="185750"/>
                </a:moveTo>
                <a:cubicBezTo>
                  <a:pt x="41580" y="185750"/>
                  <a:pt x="0" y="144119"/>
                  <a:pt x="0" y="92849"/>
                </a:cubicBezTo>
                <a:cubicBezTo>
                  <a:pt x="0" y="41630"/>
                  <a:pt x="41580" y="0"/>
                  <a:pt x="92798" y="0"/>
                </a:cubicBezTo>
                <a:cubicBezTo>
                  <a:pt x="144119" y="0"/>
                  <a:pt x="185648" y="41630"/>
                  <a:pt x="185648" y="92849"/>
                </a:cubicBezTo>
                <a:cubicBezTo>
                  <a:pt x="185699" y="144170"/>
                  <a:pt x="144119" y="185750"/>
                  <a:pt x="92798" y="185750"/>
                </a:cubicBezTo>
              </a:path>
            </a:pathLst>
          </a:custGeom>
          <a:solidFill>
            <a:srgbClr val="6a943c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8" name="Freeform 3"/>
          <p:cNvSpPr/>
          <p:nvPr/>
        </p:nvSpPr>
        <p:spPr>
          <a:xfrm>
            <a:off x="4475520" y="5299920"/>
            <a:ext cx="458280" cy="933120"/>
          </a:xfrm>
          <a:custGeom>
            <a:avLst/>
            <a:gdLst>
              <a:gd name="textAreaLeft" fmla="*/ 0 w 458280"/>
              <a:gd name="textAreaRight" fmla="*/ 458640 w 458280"/>
              <a:gd name="textAreaTop" fmla="*/ 0 h 933120"/>
              <a:gd name="textAreaBottom" fmla="*/ 933480 h 933120"/>
            </a:gdLst>
            <a:ahLst/>
            <a:rect l="textAreaLeft" t="textAreaTop" r="textAreaRight" b="textAreaBottom"/>
            <a:pathLst>
              <a:path w="458800" h="933462">
                <a:moveTo>
                  <a:pt x="108153" y="881278"/>
                </a:moveTo>
                <a:lnTo>
                  <a:pt x="108254" y="128092"/>
                </a:lnTo>
                <a:lnTo>
                  <a:pt x="73253" y="128092"/>
                </a:lnTo>
                <a:lnTo>
                  <a:pt x="73253" y="405688"/>
                </a:lnTo>
                <a:cubicBezTo>
                  <a:pt x="73253" y="461212"/>
                  <a:pt x="0" y="461212"/>
                  <a:pt x="0" y="405688"/>
                </a:cubicBezTo>
                <a:lnTo>
                  <a:pt x="0" y="120446"/>
                </a:lnTo>
                <a:cubicBezTo>
                  <a:pt x="0" y="53441"/>
                  <a:pt x="52870" y="0"/>
                  <a:pt x="118706" y="0"/>
                </a:cubicBezTo>
                <a:lnTo>
                  <a:pt x="338645" y="0"/>
                </a:lnTo>
                <a:cubicBezTo>
                  <a:pt x="410819" y="0"/>
                  <a:pt x="458799" y="60502"/>
                  <a:pt x="458799" y="122237"/>
                </a:cubicBezTo>
                <a:lnTo>
                  <a:pt x="458799" y="405688"/>
                </a:lnTo>
                <a:cubicBezTo>
                  <a:pt x="458939" y="461555"/>
                  <a:pt x="386130" y="461555"/>
                  <a:pt x="386130" y="405688"/>
                </a:cubicBezTo>
                <a:lnTo>
                  <a:pt x="386130" y="128092"/>
                </a:lnTo>
                <a:lnTo>
                  <a:pt x="351421" y="128092"/>
                </a:lnTo>
                <a:lnTo>
                  <a:pt x="351421" y="881278"/>
                </a:lnTo>
                <a:cubicBezTo>
                  <a:pt x="351421" y="910132"/>
                  <a:pt x="327990" y="933462"/>
                  <a:pt x="299097" y="933462"/>
                </a:cubicBezTo>
                <a:cubicBezTo>
                  <a:pt x="270421" y="933462"/>
                  <a:pt x="247141" y="910082"/>
                  <a:pt x="247141" y="881278"/>
                </a:cubicBezTo>
                <a:lnTo>
                  <a:pt x="247332" y="444410"/>
                </a:lnTo>
                <a:lnTo>
                  <a:pt x="212344" y="444410"/>
                </a:lnTo>
                <a:lnTo>
                  <a:pt x="212344" y="881278"/>
                </a:lnTo>
                <a:cubicBezTo>
                  <a:pt x="212344" y="910132"/>
                  <a:pt x="189001" y="933462"/>
                  <a:pt x="160299" y="933462"/>
                </a:cubicBezTo>
                <a:cubicBezTo>
                  <a:pt x="131393" y="933411"/>
                  <a:pt x="108153" y="910132"/>
                  <a:pt x="108153" y="881278"/>
                </a:cubicBezTo>
              </a:path>
            </a:pathLst>
          </a:custGeom>
          <a:solidFill>
            <a:srgbClr val="6a943c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9" name="Freeform 3"/>
          <p:cNvSpPr/>
          <p:nvPr/>
        </p:nvSpPr>
        <p:spPr>
          <a:xfrm>
            <a:off x="5173920" y="5094720"/>
            <a:ext cx="185400" cy="185400"/>
          </a:xfrm>
          <a:custGeom>
            <a:avLst/>
            <a:gdLst>
              <a:gd name="textAreaLeft" fmla="*/ 0 w 185400"/>
              <a:gd name="textAreaRight" fmla="*/ 185760 w 185400"/>
              <a:gd name="textAreaTop" fmla="*/ 0 h 185400"/>
              <a:gd name="textAreaBottom" fmla="*/ 185760 h 185400"/>
            </a:gdLst>
            <a:ahLst/>
            <a:rect l="textAreaLeft" t="textAreaTop" r="textAreaRight" b="textAreaBottom"/>
            <a:pathLst>
              <a:path w="185648" h="185750">
                <a:moveTo>
                  <a:pt x="92798" y="185750"/>
                </a:moveTo>
                <a:cubicBezTo>
                  <a:pt x="41580" y="185750"/>
                  <a:pt x="0" y="144119"/>
                  <a:pt x="0" y="92849"/>
                </a:cubicBezTo>
                <a:cubicBezTo>
                  <a:pt x="0" y="41630"/>
                  <a:pt x="41580" y="0"/>
                  <a:pt x="92798" y="0"/>
                </a:cubicBezTo>
                <a:cubicBezTo>
                  <a:pt x="144119" y="0"/>
                  <a:pt x="185648" y="41630"/>
                  <a:pt x="185648" y="92849"/>
                </a:cubicBezTo>
                <a:cubicBezTo>
                  <a:pt x="185699" y="144170"/>
                  <a:pt x="144119" y="185750"/>
                  <a:pt x="92798" y="185750"/>
                </a:cubicBezTo>
              </a:path>
            </a:pathLst>
          </a:custGeom>
          <a:solidFill>
            <a:srgbClr val="cb4d2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0" name="Freeform 3"/>
          <p:cNvSpPr/>
          <p:nvPr/>
        </p:nvSpPr>
        <p:spPr>
          <a:xfrm>
            <a:off x="5037120" y="5299920"/>
            <a:ext cx="458280" cy="933120"/>
          </a:xfrm>
          <a:custGeom>
            <a:avLst/>
            <a:gdLst>
              <a:gd name="textAreaLeft" fmla="*/ 0 w 458280"/>
              <a:gd name="textAreaRight" fmla="*/ 458640 w 458280"/>
              <a:gd name="textAreaTop" fmla="*/ 0 h 933120"/>
              <a:gd name="textAreaBottom" fmla="*/ 933480 h 933120"/>
            </a:gdLst>
            <a:ahLst/>
            <a:rect l="textAreaLeft" t="textAreaTop" r="textAreaRight" b="textAreaBottom"/>
            <a:pathLst>
              <a:path w="458800" h="933462">
                <a:moveTo>
                  <a:pt x="108153" y="881278"/>
                </a:moveTo>
                <a:lnTo>
                  <a:pt x="108255" y="128092"/>
                </a:lnTo>
                <a:lnTo>
                  <a:pt x="73253" y="128092"/>
                </a:lnTo>
                <a:lnTo>
                  <a:pt x="73253" y="405688"/>
                </a:lnTo>
                <a:cubicBezTo>
                  <a:pt x="73253" y="461212"/>
                  <a:pt x="0" y="461212"/>
                  <a:pt x="0" y="405688"/>
                </a:cubicBezTo>
                <a:lnTo>
                  <a:pt x="0" y="120446"/>
                </a:lnTo>
                <a:cubicBezTo>
                  <a:pt x="0" y="53441"/>
                  <a:pt x="52870" y="0"/>
                  <a:pt x="118707" y="0"/>
                </a:cubicBezTo>
                <a:lnTo>
                  <a:pt x="338645" y="0"/>
                </a:lnTo>
                <a:cubicBezTo>
                  <a:pt x="410819" y="0"/>
                  <a:pt x="458800" y="60502"/>
                  <a:pt x="458800" y="122237"/>
                </a:cubicBezTo>
                <a:lnTo>
                  <a:pt x="458800" y="405688"/>
                </a:lnTo>
                <a:cubicBezTo>
                  <a:pt x="458940" y="461555"/>
                  <a:pt x="386131" y="461555"/>
                  <a:pt x="386131" y="405688"/>
                </a:cubicBezTo>
                <a:lnTo>
                  <a:pt x="386131" y="128092"/>
                </a:lnTo>
                <a:lnTo>
                  <a:pt x="351421" y="128092"/>
                </a:lnTo>
                <a:lnTo>
                  <a:pt x="351421" y="881278"/>
                </a:lnTo>
                <a:cubicBezTo>
                  <a:pt x="351421" y="910132"/>
                  <a:pt x="327990" y="933462"/>
                  <a:pt x="299085" y="933462"/>
                </a:cubicBezTo>
                <a:cubicBezTo>
                  <a:pt x="270421" y="933462"/>
                  <a:pt x="247142" y="910082"/>
                  <a:pt x="247142" y="881278"/>
                </a:cubicBezTo>
                <a:lnTo>
                  <a:pt x="247332" y="444410"/>
                </a:lnTo>
                <a:lnTo>
                  <a:pt x="212331" y="444410"/>
                </a:lnTo>
                <a:lnTo>
                  <a:pt x="212331" y="881278"/>
                </a:lnTo>
                <a:cubicBezTo>
                  <a:pt x="212331" y="910132"/>
                  <a:pt x="189001" y="933462"/>
                  <a:pt x="160299" y="933462"/>
                </a:cubicBezTo>
                <a:cubicBezTo>
                  <a:pt x="131394" y="933411"/>
                  <a:pt x="108153" y="910132"/>
                  <a:pt x="108153" y="881278"/>
                </a:cubicBezTo>
              </a:path>
            </a:pathLst>
          </a:custGeom>
          <a:solidFill>
            <a:srgbClr val="cb4d2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1" name="Freeform 3"/>
          <p:cNvSpPr/>
          <p:nvPr/>
        </p:nvSpPr>
        <p:spPr>
          <a:xfrm>
            <a:off x="5735160" y="5094720"/>
            <a:ext cx="185400" cy="185400"/>
          </a:xfrm>
          <a:custGeom>
            <a:avLst/>
            <a:gdLst>
              <a:gd name="textAreaLeft" fmla="*/ 0 w 185400"/>
              <a:gd name="textAreaRight" fmla="*/ 185760 w 185400"/>
              <a:gd name="textAreaTop" fmla="*/ 0 h 185400"/>
              <a:gd name="textAreaBottom" fmla="*/ 185760 h 185400"/>
            </a:gdLst>
            <a:ahLst/>
            <a:rect l="textAreaLeft" t="textAreaTop" r="textAreaRight" b="textAreaBottom"/>
            <a:pathLst>
              <a:path w="185648" h="185750">
                <a:moveTo>
                  <a:pt x="92798" y="185750"/>
                </a:moveTo>
                <a:cubicBezTo>
                  <a:pt x="41579" y="185750"/>
                  <a:pt x="0" y="144119"/>
                  <a:pt x="0" y="92849"/>
                </a:cubicBezTo>
                <a:cubicBezTo>
                  <a:pt x="0" y="41630"/>
                  <a:pt x="41579" y="0"/>
                  <a:pt x="92798" y="0"/>
                </a:cubicBezTo>
                <a:cubicBezTo>
                  <a:pt x="144119" y="0"/>
                  <a:pt x="185648" y="41630"/>
                  <a:pt x="185648" y="92849"/>
                </a:cubicBezTo>
                <a:cubicBezTo>
                  <a:pt x="185699" y="144170"/>
                  <a:pt x="144119" y="185750"/>
                  <a:pt x="92798" y="185750"/>
                </a:cubicBezTo>
              </a:path>
            </a:pathLst>
          </a:custGeom>
          <a:solidFill>
            <a:srgbClr val="cb4d2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2" name="Freeform 3"/>
          <p:cNvSpPr/>
          <p:nvPr/>
        </p:nvSpPr>
        <p:spPr>
          <a:xfrm>
            <a:off x="5598360" y="5299920"/>
            <a:ext cx="458280" cy="933120"/>
          </a:xfrm>
          <a:custGeom>
            <a:avLst/>
            <a:gdLst>
              <a:gd name="textAreaLeft" fmla="*/ 0 w 458280"/>
              <a:gd name="textAreaRight" fmla="*/ 458640 w 458280"/>
              <a:gd name="textAreaTop" fmla="*/ 0 h 933120"/>
              <a:gd name="textAreaBottom" fmla="*/ 933480 h 933120"/>
            </a:gdLst>
            <a:ahLst/>
            <a:rect l="textAreaLeft" t="textAreaTop" r="textAreaRight" b="textAreaBottom"/>
            <a:pathLst>
              <a:path w="458800" h="933462">
                <a:moveTo>
                  <a:pt x="108153" y="881278"/>
                </a:moveTo>
                <a:lnTo>
                  <a:pt x="108254" y="128092"/>
                </a:lnTo>
                <a:lnTo>
                  <a:pt x="73253" y="128092"/>
                </a:lnTo>
                <a:lnTo>
                  <a:pt x="73253" y="405688"/>
                </a:lnTo>
                <a:cubicBezTo>
                  <a:pt x="73253" y="461212"/>
                  <a:pt x="0" y="461212"/>
                  <a:pt x="0" y="405688"/>
                </a:cubicBezTo>
                <a:lnTo>
                  <a:pt x="0" y="120446"/>
                </a:lnTo>
                <a:cubicBezTo>
                  <a:pt x="0" y="53441"/>
                  <a:pt x="52870" y="0"/>
                  <a:pt x="118707" y="0"/>
                </a:cubicBezTo>
                <a:lnTo>
                  <a:pt x="338645" y="0"/>
                </a:lnTo>
                <a:cubicBezTo>
                  <a:pt x="410819" y="0"/>
                  <a:pt x="458800" y="60502"/>
                  <a:pt x="458800" y="122237"/>
                </a:cubicBezTo>
                <a:lnTo>
                  <a:pt x="458800" y="405688"/>
                </a:lnTo>
                <a:cubicBezTo>
                  <a:pt x="458939" y="461555"/>
                  <a:pt x="386130" y="461555"/>
                  <a:pt x="386130" y="405688"/>
                </a:cubicBezTo>
                <a:lnTo>
                  <a:pt x="386130" y="128092"/>
                </a:lnTo>
                <a:lnTo>
                  <a:pt x="351421" y="128092"/>
                </a:lnTo>
                <a:lnTo>
                  <a:pt x="351421" y="881278"/>
                </a:lnTo>
                <a:cubicBezTo>
                  <a:pt x="351421" y="910132"/>
                  <a:pt x="327990" y="933462"/>
                  <a:pt x="299097" y="933462"/>
                </a:cubicBezTo>
                <a:cubicBezTo>
                  <a:pt x="270421" y="933462"/>
                  <a:pt x="247141" y="910082"/>
                  <a:pt x="247141" y="881278"/>
                </a:cubicBezTo>
                <a:lnTo>
                  <a:pt x="247332" y="444410"/>
                </a:lnTo>
                <a:lnTo>
                  <a:pt x="212344" y="444410"/>
                </a:lnTo>
                <a:lnTo>
                  <a:pt x="212344" y="881278"/>
                </a:lnTo>
                <a:cubicBezTo>
                  <a:pt x="212344" y="910132"/>
                  <a:pt x="189001" y="933462"/>
                  <a:pt x="160299" y="933462"/>
                </a:cubicBezTo>
                <a:cubicBezTo>
                  <a:pt x="131394" y="933411"/>
                  <a:pt x="108153" y="910132"/>
                  <a:pt x="108153" y="881278"/>
                </a:cubicBezTo>
              </a:path>
            </a:pathLst>
          </a:custGeom>
          <a:solidFill>
            <a:srgbClr val="cb4d2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3" name="Freeform 3"/>
          <p:cNvSpPr/>
          <p:nvPr/>
        </p:nvSpPr>
        <p:spPr>
          <a:xfrm>
            <a:off x="6296760" y="5094720"/>
            <a:ext cx="185400" cy="185400"/>
          </a:xfrm>
          <a:custGeom>
            <a:avLst/>
            <a:gdLst>
              <a:gd name="textAreaLeft" fmla="*/ 0 w 185400"/>
              <a:gd name="textAreaRight" fmla="*/ 185760 w 185400"/>
              <a:gd name="textAreaTop" fmla="*/ 0 h 185400"/>
              <a:gd name="textAreaBottom" fmla="*/ 185760 h 185400"/>
            </a:gdLst>
            <a:ahLst/>
            <a:rect l="textAreaLeft" t="textAreaTop" r="textAreaRight" b="textAreaBottom"/>
            <a:pathLst>
              <a:path w="185648" h="185750">
                <a:moveTo>
                  <a:pt x="92798" y="185750"/>
                </a:moveTo>
                <a:cubicBezTo>
                  <a:pt x="41580" y="185750"/>
                  <a:pt x="0" y="144119"/>
                  <a:pt x="0" y="92849"/>
                </a:cubicBezTo>
                <a:cubicBezTo>
                  <a:pt x="0" y="41630"/>
                  <a:pt x="41580" y="0"/>
                  <a:pt x="92798" y="0"/>
                </a:cubicBezTo>
                <a:cubicBezTo>
                  <a:pt x="144119" y="0"/>
                  <a:pt x="185648" y="41630"/>
                  <a:pt x="185648" y="92849"/>
                </a:cubicBezTo>
                <a:cubicBezTo>
                  <a:pt x="185699" y="144170"/>
                  <a:pt x="144119" y="185750"/>
                  <a:pt x="92798" y="185750"/>
                </a:cubicBezTo>
              </a:path>
            </a:pathLst>
          </a:custGeom>
          <a:solidFill>
            <a:srgbClr val="cb4d2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4" name="Freeform 3"/>
          <p:cNvSpPr/>
          <p:nvPr/>
        </p:nvSpPr>
        <p:spPr>
          <a:xfrm>
            <a:off x="6159960" y="5299920"/>
            <a:ext cx="458280" cy="933120"/>
          </a:xfrm>
          <a:custGeom>
            <a:avLst/>
            <a:gdLst>
              <a:gd name="textAreaLeft" fmla="*/ 0 w 458280"/>
              <a:gd name="textAreaRight" fmla="*/ 458640 w 458280"/>
              <a:gd name="textAreaTop" fmla="*/ 0 h 933120"/>
              <a:gd name="textAreaBottom" fmla="*/ 933480 h 933120"/>
            </a:gdLst>
            <a:ahLst/>
            <a:rect l="textAreaLeft" t="textAreaTop" r="textAreaRight" b="textAreaBottom"/>
            <a:pathLst>
              <a:path w="458800" h="933462">
                <a:moveTo>
                  <a:pt x="108153" y="881278"/>
                </a:moveTo>
                <a:lnTo>
                  <a:pt x="108254" y="128092"/>
                </a:lnTo>
                <a:lnTo>
                  <a:pt x="73253" y="128092"/>
                </a:lnTo>
                <a:lnTo>
                  <a:pt x="73253" y="405688"/>
                </a:lnTo>
                <a:cubicBezTo>
                  <a:pt x="73253" y="461212"/>
                  <a:pt x="0" y="461212"/>
                  <a:pt x="0" y="405688"/>
                </a:cubicBezTo>
                <a:lnTo>
                  <a:pt x="0" y="120446"/>
                </a:lnTo>
                <a:cubicBezTo>
                  <a:pt x="0" y="53441"/>
                  <a:pt x="52870" y="0"/>
                  <a:pt x="118706" y="0"/>
                </a:cubicBezTo>
                <a:lnTo>
                  <a:pt x="338645" y="0"/>
                </a:lnTo>
                <a:cubicBezTo>
                  <a:pt x="410831" y="0"/>
                  <a:pt x="458800" y="60502"/>
                  <a:pt x="458800" y="122237"/>
                </a:cubicBezTo>
                <a:lnTo>
                  <a:pt x="458800" y="405688"/>
                </a:lnTo>
                <a:cubicBezTo>
                  <a:pt x="458939" y="461555"/>
                  <a:pt x="386131" y="461555"/>
                  <a:pt x="386131" y="405688"/>
                </a:cubicBezTo>
                <a:lnTo>
                  <a:pt x="386131" y="128092"/>
                </a:lnTo>
                <a:lnTo>
                  <a:pt x="351421" y="128092"/>
                </a:lnTo>
                <a:lnTo>
                  <a:pt x="351421" y="881278"/>
                </a:lnTo>
                <a:cubicBezTo>
                  <a:pt x="351421" y="910132"/>
                  <a:pt x="327990" y="933462"/>
                  <a:pt x="299097" y="933462"/>
                </a:cubicBezTo>
                <a:cubicBezTo>
                  <a:pt x="270421" y="933462"/>
                  <a:pt x="247141" y="910082"/>
                  <a:pt x="247141" y="881278"/>
                </a:cubicBezTo>
                <a:lnTo>
                  <a:pt x="247332" y="444410"/>
                </a:lnTo>
                <a:lnTo>
                  <a:pt x="212344" y="444410"/>
                </a:lnTo>
                <a:lnTo>
                  <a:pt x="212344" y="881278"/>
                </a:lnTo>
                <a:cubicBezTo>
                  <a:pt x="212344" y="910132"/>
                  <a:pt x="189001" y="933462"/>
                  <a:pt x="160299" y="933462"/>
                </a:cubicBezTo>
                <a:cubicBezTo>
                  <a:pt x="131393" y="933411"/>
                  <a:pt x="108153" y="910132"/>
                  <a:pt x="108153" y="881278"/>
                </a:cubicBezTo>
              </a:path>
            </a:pathLst>
          </a:custGeom>
          <a:solidFill>
            <a:srgbClr val="cb4d2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5" name="Freeform 3"/>
          <p:cNvSpPr/>
          <p:nvPr/>
        </p:nvSpPr>
        <p:spPr>
          <a:xfrm>
            <a:off x="6858000" y="5094720"/>
            <a:ext cx="185400" cy="185400"/>
          </a:xfrm>
          <a:custGeom>
            <a:avLst/>
            <a:gdLst>
              <a:gd name="textAreaLeft" fmla="*/ 0 w 185400"/>
              <a:gd name="textAreaRight" fmla="*/ 185760 w 185400"/>
              <a:gd name="textAreaTop" fmla="*/ 0 h 185400"/>
              <a:gd name="textAreaBottom" fmla="*/ 185760 h 185400"/>
            </a:gdLst>
            <a:ahLst/>
            <a:rect l="textAreaLeft" t="textAreaTop" r="textAreaRight" b="textAreaBottom"/>
            <a:pathLst>
              <a:path w="185648" h="185750">
                <a:moveTo>
                  <a:pt x="92798" y="185750"/>
                </a:moveTo>
                <a:cubicBezTo>
                  <a:pt x="41579" y="185750"/>
                  <a:pt x="0" y="144119"/>
                  <a:pt x="0" y="92849"/>
                </a:cubicBezTo>
                <a:cubicBezTo>
                  <a:pt x="0" y="41630"/>
                  <a:pt x="41579" y="0"/>
                  <a:pt x="92798" y="0"/>
                </a:cubicBezTo>
                <a:cubicBezTo>
                  <a:pt x="144119" y="0"/>
                  <a:pt x="185648" y="41630"/>
                  <a:pt x="185648" y="92849"/>
                </a:cubicBezTo>
                <a:cubicBezTo>
                  <a:pt x="185699" y="144170"/>
                  <a:pt x="144119" y="185750"/>
                  <a:pt x="92798" y="185750"/>
                </a:cubicBezTo>
              </a:path>
            </a:pathLst>
          </a:custGeom>
          <a:solidFill>
            <a:srgbClr val="cb4d2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6" name="Freeform 3"/>
          <p:cNvSpPr/>
          <p:nvPr/>
        </p:nvSpPr>
        <p:spPr>
          <a:xfrm>
            <a:off x="6721200" y="5299920"/>
            <a:ext cx="458280" cy="933120"/>
          </a:xfrm>
          <a:custGeom>
            <a:avLst/>
            <a:gdLst>
              <a:gd name="textAreaLeft" fmla="*/ 0 w 458280"/>
              <a:gd name="textAreaRight" fmla="*/ 458640 w 458280"/>
              <a:gd name="textAreaTop" fmla="*/ 0 h 933120"/>
              <a:gd name="textAreaBottom" fmla="*/ 933480 h 933120"/>
            </a:gdLst>
            <a:ahLst/>
            <a:rect l="textAreaLeft" t="textAreaTop" r="textAreaRight" b="textAreaBottom"/>
            <a:pathLst>
              <a:path w="458799" h="933462">
                <a:moveTo>
                  <a:pt x="108153" y="881278"/>
                </a:moveTo>
                <a:lnTo>
                  <a:pt x="108254" y="128092"/>
                </a:lnTo>
                <a:lnTo>
                  <a:pt x="73253" y="128092"/>
                </a:lnTo>
                <a:lnTo>
                  <a:pt x="73253" y="405688"/>
                </a:lnTo>
                <a:cubicBezTo>
                  <a:pt x="73253" y="461212"/>
                  <a:pt x="0" y="461212"/>
                  <a:pt x="0" y="405688"/>
                </a:cubicBezTo>
                <a:lnTo>
                  <a:pt x="0" y="120446"/>
                </a:lnTo>
                <a:cubicBezTo>
                  <a:pt x="0" y="53441"/>
                  <a:pt x="52869" y="0"/>
                  <a:pt x="118706" y="0"/>
                </a:cubicBezTo>
                <a:lnTo>
                  <a:pt x="338645" y="0"/>
                </a:lnTo>
                <a:cubicBezTo>
                  <a:pt x="410819" y="0"/>
                  <a:pt x="458799" y="60502"/>
                  <a:pt x="458799" y="122237"/>
                </a:cubicBezTo>
                <a:lnTo>
                  <a:pt x="458799" y="405688"/>
                </a:lnTo>
                <a:cubicBezTo>
                  <a:pt x="458939" y="461555"/>
                  <a:pt x="386130" y="461555"/>
                  <a:pt x="386130" y="405688"/>
                </a:cubicBezTo>
                <a:lnTo>
                  <a:pt x="386130" y="128092"/>
                </a:lnTo>
                <a:lnTo>
                  <a:pt x="351421" y="128092"/>
                </a:lnTo>
                <a:lnTo>
                  <a:pt x="351421" y="881278"/>
                </a:lnTo>
                <a:cubicBezTo>
                  <a:pt x="351421" y="910132"/>
                  <a:pt x="327990" y="933462"/>
                  <a:pt x="299084" y="933462"/>
                </a:cubicBezTo>
                <a:cubicBezTo>
                  <a:pt x="270420" y="933462"/>
                  <a:pt x="247141" y="910082"/>
                  <a:pt x="247141" y="881278"/>
                </a:cubicBezTo>
                <a:lnTo>
                  <a:pt x="247332" y="444410"/>
                </a:lnTo>
                <a:lnTo>
                  <a:pt x="212331" y="444410"/>
                </a:lnTo>
                <a:lnTo>
                  <a:pt x="212331" y="881278"/>
                </a:lnTo>
                <a:cubicBezTo>
                  <a:pt x="212331" y="910132"/>
                  <a:pt x="189000" y="933462"/>
                  <a:pt x="160299" y="933462"/>
                </a:cubicBezTo>
                <a:cubicBezTo>
                  <a:pt x="131394" y="933411"/>
                  <a:pt x="108153" y="910132"/>
                  <a:pt x="108153" y="881278"/>
                </a:cubicBezTo>
              </a:path>
            </a:pathLst>
          </a:custGeom>
          <a:solidFill>
            <a:srgbClr val="cb4d2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7" name="Freeform 3"/>
          <p:cNvSpPr/>
          <p:nvPr/>
        </p:nvSpPr>
        <p:spPr>
          <a:xfrm>
            <a:off x="7419600" y="5094720"/>
            <a:ext cx="185400" cy="185400"/>
          </a:xfrm>
          <a:custGeom>
            <a:avLst/>
            <a:gdLst>
              <a:gd name="textAreaLeft" fmla="*/ 0 w 185400"/>
              <a:gd name="textAreaRight" fmla="*/ 185760 w 185400"/>
              <a:gd name="textAreaTop" fmla="*/ 0 h 185400"/>
              <a:gd name="textAreaBottom" fmla="*/ 185760 h 185400"/>
            </a:gdLst>
            <a:ahLst/>
            <a:rect l="textAreaLeft" t="textAreaTop" r="textAreaRight" b="textAreaBottom"/>
            <a:pathLst>
              <a:path w="185648" h="185750">
                <a:moveTo>
                  <a:pt x="92798" y="185750"/>
                </a:moveTo>
                <a:cubicBezTo>
                  <a:pt x="41579" y="185750"/>
                  <a:pt x="0" y="144119"/>
                  <a:pt x="0" y="92849"/>
                </a:cubicBezTo>
                <a:cubicBezTo>
                  <a:pt x="0" y="41630"/>
                  <a:pt x="41579" y="0"/>
                  <a:pt x="92798" y="0"/>
                </a:cubicBezTo>
                <a:cubicBezTo>
                  <a:pt x="144119" y="0"/>
                  <a:pt x="185648" y="41630"/>
                  <a:pt x="185648" y="92849"/>
                </a:cubicBezTo>
                <a:cubicBezTo>
                  <a:pt x="185699" y="144170"/>
                  <a:pt x="144119" y="185750"/>
                  <a:pt x="92798" y="185750"/>
                </a:cubicBezTo>
              </a:path>
            </a:pathLst>
          </a:custGeom>
          <a:solidFill>
            <a:srgbClr val="cb4d2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8" name="Freeform 3"/>
          <p:cNvSpPr/>
          <p:nvPr/>
        </p:nvSpPr>
        <p:spPr>
          <a:xfrm>
            <a:off x="7282440" y="5299920"/>
            <a:ext cx="458280" cy="933120"/>
          </a:xfrm>
          <a:custGeom>
            <a:avLst/>
            <a:gdLst>
              <a:gd name="textAreaLeft" fmla="*/ 0 w 458280"/>
              <a:gd name="textAreaRight" fmla="*/ 458640 w 458280"/>
              <a:gd name="textAreaTop" fmla="*/ 0 h 933120"/>
              <a:gd name="textAreaBottom" fmla="*/ 933480 h 933120"/>
            </a:gdLst>
            <a:ahLst/>
            <a:rect l="textAreaLeft" t="textAreaTop" r="textAreaRight" b="textAreaBottom"/>
            <a:pathLst>
              <a:path w="458799" h="933462">
                <a:moveTo>
                  <a:pt x="108153" y="881278"/>
                </a:moveTo>
                <a:lnTo>
                  <a:pt x="108254" y="128092"/>
                </a:lnTo>
                <a:lnTo>
                  <a:pt x="73253" y="128092"/>
                </a:lnTo>
                <a:lnTo>
                  <a:pt x="73253" y="405688"/>
                </a:lnTo>
                <a:cubicBezTo>
                  <a:pt x="73253" y="461212"/>
                  <a:pt x="0" y="461212"/>
                  <a:pt x="0" y="405688"/>
                </a:cubicBezTo>
                <a:lnTo>
                  <a:pt x="0" y="120446"/>
                </a:lnTo>
                <a:cubicBezTo>
                  <a:pt x="0" y="53441"/>
                  <a:pt x="52869" y="0"/>
                  <a:pt x="118706" y="0"/>
                </a:cubicBezTo>
                <a:lnTo>
                  <a:pt x="338645" y="0"/>
                </a:lnTo>
                <a:cubicBezTo>
                  <a:pt x="410819" y="0"/>
                  <a:pt x="458799" y="60502"/>
                  <a:pt x="458799" y="122237"/>
                </a:cubicBezTo>
                <a:lnTo>
                  <a:pt x="458799" y="405688"/>
                </a:lnTo>
                <a:cubicBezTo>
                  <a:pt x="458939" y="461555"/>
                  <a:pt x="386130" y="461555"/>
                  <a:pt x="386130" y="405688"/>
                </a:cubicBezTo>
                <a:lnTo>
                  <a:pt x="386130" y="128092"/>
                </a:lnTo>
                <a:lnTo>
                  <a:pt x="351421" y="128092"/>
                </a:lnTo>
                <a:lnTo>
                  <a:pt x="351421" y="881278"/>
                </a:lnTo>
                <a:cubicBezTo>
                  <a:pt x="351421" y="910132"/>
                  <a:pt x="327990" y="933462"/>
                  <a:pt x="299084" y="933462"/>
                </a:cubicBezTo>
                <a:cubicBezTo>
                  <a:pt x="270420" y="933462"/>
                  <a:pt x="247141" y="910082"/>
                  <a:pt x="247141" y="881278"/>
                </a:cubicBezTo>
                <a:lnTo>
                  <a:pt x="247332" y="444410"/>
                </a:lnTo>
                <a:lnTo>
                  <a:pt x="212331" y="444410"/>
                </a:lnTo>
                <a:lnTo>
                  <a:pt x="212331" y="881278"/>
                </a:lnTo>
                <a:cubicBezTo>
                  <a:pt x="212331" y="910132"/>
                  <a:pt x="189000" y="933462"/>
                  <a:pt x="160299" y="933462"/>
                </a:cubicBezTo>
                <a:cubicBezTo>
                  <a:pt x="131394" y="933411"/>
                  <a:pt x="108153" y="910132"/>
                  <a:pt x="108153" y="881278"/>
                </a:cubicBezTo>
              </a:path>
            </a:pathLst>
          </a:custGeom>
          <a:solidFill>
            <a:srgbClr val="cb4d2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79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6489720"/>
            <a:ext cx="88560" cy="50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9800" y="6527880"/>
            <a:ext cx="317160" cy="1141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"/>
          <p:cNvPicPr/>
          <p:nvPr/>
        </p:nvPicPr>
        <p:blipFill>
          <a:blip r:embed="rId5"/>
          <a:stretch/>
        </p:blipFill>
        <p:spPr>
          <a:xfrm>
            <a:off x="2235240" y="1765440"/>
            <a:ext cx="2145960" cy="3553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"/>
          <p:cNvPicPr/>
          <p:nvPr/>
        </p:nvPicPr>
        <p:blipFill>
          <a:blip r:embed="rId6"/>
          <a:stretch/>
        </p:blipFill>
        <p:spPr>
          <a:xfrm>
            <a:off x="4559400" y="1612800"/>
            <a:ext cx="888480" cy="5839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"/>
          <p:cNvPicPr/>
          <p:nvPr/>
        </p:nvPicPr>
        <p:blipFill>
          <a:blip r:embed="rId7"/>
          <a:stretch/>
        </p:blipFill>
        <p:spPr>
          <a:xfrm>
            <a:off x="2171880" y="2260440"/>
            <a:ext cx="4939920" cy="431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"/>
          <p:cNvPicPr/>
          <p:nvPr/>
        </p:nvPicPr>
        <p:blipFill>
          <a:blip r:embed="rId8"/>
          <a:stretch/>
        </p:blipFill>
        <p:spPr>
          <a:xfrm>
            <a:off x="2209680" y="2844720"/>
            <a:ext cx="2425320" cy="3679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"/>
          <p:cNvPicPr/>
          <p:nvPr/>
        </p:nvPicPr>
        <p:blipFill>
          <a:blip r:embed="rId9"/>
          <a:stretch/>
        </p:blipFill>
        <p:spPr>
          <a:xfrm>
            <a:off x="4737240" y="2755800"/>
            <a:ext cx="1333080" cy="4694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"/>
          <p:cNvPicPr/>
          <p:nvPr/>
        </p:nvPicPr>
        <p:blipFill>
          <a:blip r:embed="rId10"/>
          <a:stretch/>
        </p:blipFill>
        <p:spPr>
          <a:xfrm>
            <a:off x="2362320" y="3581280"/>
            <a:ext cx="2958840" cy="1519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"/>
          <p:cNvPicPr/>
          <p:nvPr/>
        </p:nvPicPr>
        <p:blipFill>
          <a:blip r:embed="rId11"/>
          <a:stretch/>
        </p:blipFill>
        <p:spPr>
          <a:xfrm>
            <a:off x="2540160" y="3835440"/>
            <a:ext cx="3657240" cy="1519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"/>
          <p:cNvPicPr/>
          <p:nvPr/>
        </p:nvPicPr>
        <p:blipFill>
          <a:blip r:embed="rId12"/>
          <a:stretch/>
        </p:blipFill>
        <p:spPr>
          <a:xfrm>
            <a:off x="2540160" y="4076640"/>
            <a:ext cx="3301560" cy="151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"/>
          <p:cNvPicPr/>
          <p:nvPr/>
        </p:nvPicPr>
        <p:blipFill>
          <a:blip r:embed="rId13"/>
          <a:stretch/>
        </p:blipFill>
        <p:spPr>
          <a:xfrm>
            <a:off x="2540160" y="4317840"/>
            <a:ext cx="3428640" cy="151920"/>
          </a:xfrm>
          <a:prstGeom prst="rect">
            <a:avLst/>
          </a:prstGeom>
          <a:ln w="0">
            <a:noFill/>
          </a:ln>
        </p:spPr>
      </p:pic>
      <p:sp>
        <p:nvSpPr>
          <p:cNvPr id="190" name="矩形 71">
            <a:hlinkClick r:id="rId14"/>
          </p:cNvPr>
          <p:cNvSpPr/>
          <p:nvPr/>
        </p:nvSpPr>
        <p:spPr>
          <a:xfrm>
            <a:off x="526680" y="0"/>
            <a:ext cx="828072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59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reeform 3"/>
          <p:cNvSpPr/>
          <p:nvPr/>
        </p:nvSpPr>
        <p:spPr>
          <a:xfrm>
            <a:off x="216000" y="6539040"/>
            <a:ext cx="88200" cy="88920"/>
          </a:xfrm>
          <a:custGeom>
            <a:avLst/>
            <a:gdLst>
              <a:gd name="textAreaLeft" fmla="*/ 0 w 88200"/>
              <a:gd name="textAreaRight" fmla="*/ 88560 w 8820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88595" h="89458">
                <a:moveTo>
                  <a:pt x="0" y="89458"/>
                </a:moveTo>
                <a:lnTo>
                  <a:pt x="43395" y="0"/>
                </a:lnTo>
                <a:lnTo>
                  <a:pt x="88595" y="89458"/>
                </a:lnTo>
                <a:lnTo>
                  <a:pt x="71056" y="89458"/>
                </a:lnTo>
                <a:lnTo>
                  <a:pt x="44297" y="30874"/>
                </a:lnTo>
                <a:lnTo>
                  <a:pt x="17386" y="89458"/>
                </a:lnTo>
                <a:lnTo>
                  <a:pt x="0" y="89458"/>
                </a:lnTo>
              </a:path>
            </a:pathLst>
          </a:custGeom>
          <a:solidFill>
            <a:srgbClr val="80808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4280" bIns="44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2" name="Freeform 3"/>
          <p:cNvSpPr/>
          <p:nvPr/>
        </p:nvSpPr>
        <p:spPr>
          <a:xfrm>
            <a:off x="237600" y="6595200"/>
            <a:ext cx="47520" cy="10800"/>
          </a:xfrm>
          <a:custGeom>
            <a:avLst/>
            <a:gdLst>
              <a:gd name="textAreaLeft" fmla="*/ 0 w 47520"/>
              <a:gd name="textAreaRight" fmla="*/ 47880 w 4752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47980" h="11138">
                <a:moveTo>
                  <a:pt x="0" y="5568"/>
                </a:moveTo>
                <a:lnTo>
                  <a:pt x="47980" y="5568"/>
                </a:lnTo>
              </a:path>
            </a:pathLst>
          </a:custGeom>
          <a:noFill/>
          <a:ln w="0">
            <a:solidFill>
              <a:srgbClr val="808080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3840" bIns="-33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reeform 3"/>
          <p:cNvSpPr/>
          <p:nvPr/>
        </p:nvSpPr>
        <p:spPr>
          <a:xfrm>
            <a:off x="164520" y="6539040"/>
            <a:ext cx="61920" cy="88920"/>
          </a:xfrm>
          <a:custGeom>
            <a:avLst/>
            <a:gdLst>
              <a:gd name="textAreaLeft" fmla="*/ 0 w 61920"/>
              <a:gd name="textAreaRight" fmla="*/ 62280 w 6192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62141" h="89434">
                <a:moveTo>
                  <a:pt x="0" y="0"/>
                </a:moveTo>
                <a:lnTo>
                  <a:pt x="0" y="16357"/>
                </a:lnTo>
                <a:lnTo>
                  <a:pt x="22263" y="16357"/>
                </a:lnTo>
                <a:lnTo>
                  <a:pt x="22263" y="89433"/>
                </a:lnTo>
                <a:lnTo>
                  <a:pt x="39700" y="89433"/>
                </a:lnTo>
                <a:lnTo>
                  <a:pt x="39700" y="16878"/>
                </a:lnTo>
                <a:lnTo>
                  <a:pt x="62141" y="16878"/>
                </a:lnTo>
                <a:lnTo>
                  <a:pt x="62141" y="0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4280" bIns="44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4" name="Freeform 3"/>
          <p:cNvSpPr/>
          <p:nvPr/>
        </p:nvSpPr>
        <p:spPr>
          <a:xfrm>
            <a:off x="307080" y="6538320"/>
            <a:ext cx="56520" cy="90720"/>
          </a:xfrm>
          <a:custGeom>
            <a:avLst/>
            <a:gdLst>
              <a:gd name="textAreaLeft" fmla="*/ 0 w 56520"/>
              <a:gd name="textAreaRight" fmla="*/ 56880 w 56520"/>
              <a:gd name="textAreaTop" fmla="*/ 0 h 90720"/>
              <a:gd name="textAreaBottom" fmla="*/ 91080 h 90720"/>
            </a:gdLst>
            <a:ahLst/>
            <a:rect l="textAreaLeft" t="textAreaTop" r="textAreaRight" b="textAreaBottom"/>
            <a:pathLst>
              <a:path w="56959" h="90995">
                <a:moveTo>
                  <a:pt x="30873" y="36258"/>
                </a:moveTo>
                <a:cubicBezTo>
                  <a:pt x="45440" y="40919"/>
                  <a:pt x="58064" y="46456"/>
                  <a:pt x="56959" y="66459"/>
                </a:cubicBezTo>
                <a:cubicBezTo>
                  <a:pt x="56095" y="82219"/>
                  <a:pt x="42722" y="92316"/>
                  <a:pt x="24117" y="90995"/>
                </a:cubicBezTo>
                <a:cubicBezTo>
                  <a:pt x="12750" y="90182"/>
                  <a:pt x="6324" y="84429"/>
                  <a:pt x="0" y="77723"/>
                </a:cubicBezTo>
                <a:cubicBezTo>
                  <a:pt x="3581" y="73367"/>
                  <a:pt x="7556" y="69367"/>
                  <a:pt x="11722" y="65582"/>
                </a:cubicBezTo>
                <a:cubicBezTo>
                  <a:pt x="14960" y="70345"/>
                  <a:pt x="20891" y="75615"/>
                  <a:pt x="29133" y="74917"/>
                </a:cubicBezTo>
                <a:cubicBezTo>
                  <a:pt x="34925" y="74434"/>
                  <a:pt x="41821" y="68795"/>
                  <a:pt x="38696" y="61239"/>
                </a:cubicBezTo>
                <a:cubicBezTo>
                  <a:pt x="36360" y="55588"/>
                  <a:pt x="27304" y="53327"/>
                  <a:pt x="21081" y="51041"/>
                </a:cubicBezTo>
                <a:cubicBezTo>
                  <a:pt x="9855" y="46863"/>
                  <a:pt x="266" y="41097"/>
                  <a:pt x="1511" y="23659"/>
                </a:cubicBezTo>
                <a:cubicBezTo>
                  <a:pt x="2514" y="9690"/>
                  <a:pt x="13830" y="927"/>
                  <a:pt x="28486" y="0"/>
                </a:cubicBezTo>
                <a:cubicBezTo>
                  <a:pt x="41490" y="-837"/>
                  <a:pt x="49072" y="4953"/>
                  <a:pt x="55422" y="11709"/>
                </a:cubicBezTo>
                <a:cubicBezTo>
                  <a:pt x="52298" y="16141"/>
                  <a:pt x="48425" y="19773"/>
                  <a:pt x="45224" y="24092"/>
                </a:cubicBezTo>
                <a:cubicBezTo>
                  <a:pt x="41871" y="21425"/>
                  <a:pt x="37934" y="17043"/>
                  <a:pt x="31965" y="16281"/>
                </a:cubicBezTo>
                <a:cubicBezTo>
                  <a:pt x="23634" y="15227"/>
                  <a:pt x="17005" y="20269"/>
                  <a:pt x="19329" y="28879"/>
                </a:cubicBezTo>
                <a:cubicBezTo>
                  <a:pt x="20548" y="33363"/>
                  <a:pt x="26263" y="34785"/>
                  <a:pt x="30873" y="36258"/>
                </a:cubicBezTo>
              </a:path>
            </a:pathLst>
          </a:custGeom>
          <a:solidFill>
            <a:srgbClr val="80808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5" name="Freeform 3"/>
          <p:cNvSpPr/>
          <p:nvPr/>
        </p:nvSpPr>
        <p:spPr>
          <a:xfrm>
            <a:off x="393480" y="6538320"/>
            <a:ext cx="77400" cy="90720"/>
          </a:xfrm>
          <a:custGeom>
            <a:avLst/>
            <a:gdLst>
              <a:gd name="textAreaLeft" fmla="*/ 0 w 77400"/>
              <a:gd name="textAreaRight" fmla="*/ 77760 w 77400"/>
              <a:gd name="textAreaTop" fmla="*/ 0 h 90720"/>
              <a:gd name="textAreaBottom" fmla="*/ 91080 h 90720"/>
            </a:gdLst>
            <a:ahLst/>
            <a:rect l="textAreaLeft" t="textAreaTop" r="textAreaRight" b="textAreaBottom"/>
            <a:pathLst>
              <a:path w="77914" h="90992">
                <a:moveTo>
                  <a:pt x="77914" y="60350"/>
                </a:moveTo>
                <a:lnTo>
                  <a:pt x="77914" y="78244"/>
                </a:lnTo>
                <a:cubicBezTo>
                  <a:pt x="76987" y="81395"/>
                  <a:pt x="68516" y="85445"/>
                  <a:pt x="65443" y="86792"/>
                </a:cubicBezTo>
                <a:cubicBezTo>
                  <a:pt x="31889" y="101600"/>
                  <a:pt x="-3302" y="77470"/>
                  <a:pt x="0" y="39687"/>
                </a:cubicBezTo>
                <a:cubicBezTo>
                  <a:pt x="1879" y="18098"/>
                  <a:pt x="19786" y="1778"/>
                  <a:pt x="41313" y="0"/>
                </a:cubicBezTo>
                <a:cubicBezTo>
                  <a:pt x="57391" y="-1282"/>
                  <a:pt x="66484" y="4229"/>
                  <a:pt x="75945" y="10909"/>
                </a:cubicBezTo>
                <a:lnTo>
                  <a:pt x="71272" y="17526"/>
                </a:lnTo>
                <a:cubicBezTo>
                  <a:pt x="63906" y="13475"/>
                  <a:pt x="57835" y="8141"/>
                  <a:pt x="47536" y="7797"/>
                </a:cubicBezTo>
                <a:cubicBezTo>
                  <a:pt x="23291" y="7036"/>
                  <a:pt x="7429" y="26734"/>
                  <a:pt x="8978" y="47879"/>
                </a:cubicBezTo>
                <a:cubicBezTo>
                  <a:pt x="9867" y="60579"/>
                  <a:pt x="17170" y="71958"/>
                  <a:pt x="26898" y="77851"/>
                </a:cubicBezTo>
                <a:cubicBezTo>
                  <a:pt x="37871" y="84544"/>
                  <a:pt x="59829" y="84976"/>
                  <a:pt x="69341" y="74345"/>
                </a:cubicBezTo>
                <a:lnTo>
                  <a:pt x="69341" y="49822"/>
                </a:lnTo>
                <a:lnTo>
                  <a:pt x="40881" y="49822"/>
                </a:lnTo>
                <a:lnTo>
                  <a:pt x="43256" y="41656"/>
                </a:lnTo>
                <a:lnTo>
                  <a:pt x="77914" y="41656"/>
                </a:lnTo>
                <a:lnTo>
                  <a:pt x="77914" y="60350"/>
                </a:lnTo>
              </a:path>
            </a:pathLst>
          </a:custGeom>
          <a:solidFill>
            <a:srgbClr val="80808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6" name="Freeform 3"/>
          <p:cNvSpPr/>
          <p:nvPr/>
        </p:nvSpPr>
        <p:spPr>
          <a:xfrm>
            <a:off x="779040" y="6539040"/>
            <a:ext cx="6840" cy="11160"/>
          </a:xfrm>
          <a:custGeom>
            <a:avLst/>
            <a:gdLst>
              <a:gd name="textAreaLeft" fmla="*/ 0 w 6840"/>
              <a:gd name="textAreaRight" fmla="*/ 7200 w 68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7124" h="11696">
                <a:moveTo>
                  <a:pt x="4444" y="1663"/>
                </a:moveTo>
                <a:lnTo>
                  <a:pt x="4444" y="11696"/>
                </a:lnTo>
                <a:lnTo>
                  <a:pt x="2679" y="11696"/>
                </a:lnTo>
                <a:lnTo>
                  <a:pt x="2679" y="1663"/>
                </a:lnTo>
                <a:lnTo>
                  <a:pt x="0" y="1663"/>
                </a:lnTo>
                <a:lnTo>
                  <a:pt x="0" y="0"/>
                </a:lnTo>
                <a:lnTo>
                  <a:pt x="7124" y="0"/>
                </a:lnTo>
                <a:lnTo>
                  <a:pt x="7124" y="1663"/>
                </a:lnTo>
                <a:lnTo>
                  <a:pt x="4444" y="1663"/>
                </a:lnTo>
              </a:path>
            </a:pathLst>
          </a:custGeom>
          <a:solidFill>
            <a:srgbClr val="80808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3480" bIns="-33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7" name="Freeform 3"/>
          <p:cNvSpPr/>
          <p:nvPr/>
        </p:nvSpPr>
        <p:spPr>
          <a:xfrm>
            <a:off x="787320" y="6538320"/>
            <a:ext cx="12600" cy="12600"/>
          </a:xfrm>
          <a:custGeom>
            <a:avLst/>
            <a:gdLst>
              <a:gd name="textAreaLeft" fmla="*/ 0 w 12600"/>
              <a:gd name="textAreaRight" fmla="*/ 12960 w 1260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12839" h="13106">
                <a:moveTo>
                  <a:pt x="0" y="12572"/>
                </a:moveTo>
                <a:lnTo>
                  <a:pt x="2463" y="0"/>
                </a:lnTo>
                <a:lnTo>
                  <a:pt x="6477" y="9093"/>
                </a:lnTo>
                <a:lnTo>
                  <a:pt x="10629" y="0"/>
                </a:lnTo>
                <a:lnTo>
                  <a:pt x="12839" y="12572"/>
                </a:lnTo>
                <a:lnTo>
                  <a:pt x="11023" y="12572"/>
                </a:lnTo>
                <a:lnTo>
                  <a:pt x="9906" y="5512"/>
                </a:lnTo>
                <a:lnTo>
                  <a:pt x="6438" y="13106"/>
                </a:lnTo>
                <a:lnTo>
                  <a:pt x="3086" y="5512"/>
                </a:lnTo>
                <a:lnTo>
                  <a:pt x="1828" y="12572"/>
                </a:lnTo>
                <a:lnTo>
                  <a:pt x="0" y="12572"/>
                </a:lnTo>
              </a:path>
            </a:pathLst>
          </a:custGeom>
          <a:solidFill>
            <a:srgbClr val="80808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2040" bIns="-320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8" name="Freeform 3"/>
          <p:cNvSpPr/>
          <p:nvPr/>
        </p:nvSpPr>
        <p:spPr>
          <a:xfrm>
            <a:off x="7284240" y="127080"/>
            <a:ext cx="1732320" cy="1732320"/>
          </a:xfrm>
          <a:custGeom>
            <a:avLst/>
            <a:gdLst>
              <a:gd name="textAreaLeft" fmla="*/ 0 w 1732320"/>
              <a:gd name="textAreaRight" fmla="*/ 1732680 w 1732320"/>
              <a:gd name="textAreaTop" fmla="*/ 0 h 1732320"/>
              <a:gd name="textAreaBottom" fmla="*/ 1732680 h 1732320"/>
            </a:gdLst>
            <a:ahLst/>
            <a:rect l="textAreaLeft" t="textAreaTop" r="textAreaRight" b="textAreaBottom"/>
            <a:pathLst>
              <a:path w="1732788" h="1732788">
                <a:moveTo>
                  <a:pt x="866394" y="1732788"/>
                </a:moveTo>
                <a:cubicBezTo>
                  <a:pt x="1344891" y="1732788"/>
                  <a:pt x="1732788" y="1344891"/>
                  <a:pt x="1732788" y="866394"/>
                </a:cubicBezTo>
                <a:cubicBezTo>
                  <a:pt x="1732788" y="387896"/>
                  <a:pt x="1344891" y="0"/>
                  <a:pt x="866394" y="0"/>
                </a:cubicBezTo>
                <a:cubicBezTo>
                  <a:pt x="387896" y="0"/>
                  <a:pt x="0" y="387896"/>
                  <a:pt x="0" y="866394"/>
                </a:cubicBezTo>
                <a:cubicBezTo>
                  <a:pt x="0" y="1344891"/>
                  <a:pt x="387896" y="1732788"/>
                  <a:pt x="866394" y="1732788"/>
                </a:cubicBezTo>
              </a:path>
            </a:pathLst>
          </a:custGeom>
          <a:solidFill>
            <a:srgbClr val="fccf38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9" name="Freeform 3"/>
          <p:cNvSpPr/>
          <p:nvPr/>
        </p:nvSpPr>
        <p:spPr>
          <a:xfrm>
            <a:off x="951120" y="191880"/>
            <a:ext cx="126720" cy="734760"/>
          </a:xfrm>
          <a:custGeom>
            <a:avLst/>
            <a:gdLst>
              <a:gd name="textAreaLeft" fmla="*/ 0 w 126720"/>
              <a:gd name="textAreaRight" fmla="*/ 127080 w 126720"/>
              <a:gd name="textAreaTop" fmla="*/ 0 h 734760"/>
              <a:gd name="textAreaBottom" fmla="*/ 735120 h 734760"/>
            </a:gdLst>
            <a:ahLst/>
            <a:rect l="textAreaLeft" t="textAreaTop" r="textAreaRight" b="textAreaBottom"/>
            <a:pathLst>
              <a:path w="127000" h="735228">
                <a:moveTo>
                  <a:pt x="31750" y="31750"/>
                </a:moveTo>
                <a:lnTo>
                  <a:pt x="31750" y="703478"/>
                </a:lnTo>
              </a:path>
            </a:pathLst>
          </a:custGeom>
          <a:noFill/>
          <a:ln w="63500">
            <a:solidFill>
              <a:srgbClr val="fccf38"/>
            </a:solidFill>
            <a:prstDash val="dash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Freeform 3"/>
          <p:cNvSpPr/>
          <p:nvPr/>
        </p:nvSpPr>
        <p:spPr>
          <a:xfrm>
            <a:off x="1143360" y="959760"/>
            <a:ext cx="5927040" cy="126720"/>
          </a:xfrm>
          <a:custGeom>
            <a:avLst/>
            <a:gdLst>
              <a:gd name="textAreaLeft" fmla="*/ 0 w 5927040"/>
              <a:gd name="textAreaRight" fmla="*/ 5927400 w 5927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5927255" h="127000">
                <a:moveTo>
                  <a:pt x="31750" y="31750"/>
                </a:moveTo>
                <a:lnTo>
                  <a:pt x="5895504" y="31750"/>
                </a:lnTo>
              </a:path>
            </a:pathLst>
          </a:custGeom>
          <a:noFill/>
          <a:ln w="63500">
            <a:solidFill>
              <a:srgbClr val="fccf38"/>
            </a:solidFill>
            <a:prstDash val="dash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Freeform 3"/>
          <p:cNvSpPr/>
          <p:nvPr/>
        </p:nvSpPr>
        <p:spPr>
          <a:xfrm>
            <a:off x="7778520" y="529920"/>
            <a:ext cx="748080" cy="1014840"/>
          </a:xfrm>
          <a:custGeom>
            <a:avLst/>
            <a:gdLst>
              <a:gd name="textAreaLeft" fmla="*/ 0 w 748080"/>
              <a:gd name="textAreaRight" fmla="*/ 748440 w 748080"/>
              <a:gd name="textAreaTop" fmla="*/ 0 h 1014840"/>
              <a:gd name="textAreaBottom" fmla="*/ 1015200 h 1014840"/>
            </a:gdLst>
            <a:ahLst/>
            <a:rect l="textAreaLeft" t="textAreaTop" r="textAreaRight" b="textAreaBottom"/>
            <a:pathLst>
              <a:path w="748513" h="1015187">
                <a:moveTo>
                  <a:pt x="389229" y="1015187"/>
                </a:moveTo>
                <a:cubicBezTo>
                  <a:pt x="299060" y="1015187"/>
                  <a:pt x="222123" y="999528"/>
                  <a:pt x="158763" y="967498"/>
                </a:cubicBezTo>
                <a:cubicBezTo>
                  <a:pt x="95745" y="935812"/>
                  <a:pt x="42824" y="894384"/>
                  <a:pt x="0" y="842860"/>
                </a:cubicBezTo>
                <a:lnTo>
                  <a:pt x="151092" y="698728"/>
                </a:lnTo>
                <a:cubicBezTo>
                  <a:pt x="185217" y="737717"/>
                  <a:pt x="221081" y="767308"/>
                  <a:pt x="258674" y="787857"/>
                </a:cubicBezTo>
                <a:cubicBezTo>
                  <a:pt x="296278" y="808050"/>
                  <a:pt x="340487" y="818489"/>
                  <a:pt x="392010" y="818489"/>
                </a:cubicBezTo>
                <a:cubicBezTo>
                  <a:pt x="433794" y="818489"/>
                  <a:pt x="467563" y="807694"/>
                  <a:pt x="494017" y="785761"/>
                </a:cubicBezTo>
                <a:cubicBezTo>
                  <a:pt x="520128" y="763828"/>
                  <a:pt x="533362" y="734237"/>
                  <a:pt x="533362" y="697331"/>
                </a:cubicBezTo>
                <a:lnTo>
                  <a:pt x="533362" y="694550"/>
                </a:lnTo>
                <a:cubicBezTo>
                  <a:pt x="533362" y="653465"/>
                  <a:pt x="516306" y="622134"/>
                  <a:pt x="481838" y="600202"/>
                </a:cubicBezTo>
                <a:cubicBezTo>
                  <a:pt x="447713" y="578611"/>
                  <a:pt x="399669" y="567474"/>
                  <a:pt x="337705" y="567474"/>
                </a:cubicBezTo>
                <a:lnTo>
                  <a:pt x="246495" y="567474"/>
                </a:lnTo>
                <a:lnTo>
                  <a:pt x="212369" y="427863"/>
                </a:lnTo>
                <a:lnTo>
                  <a:pt x="450507" y="187998"/>
                </a:lnTo>
                <a:lnTo>
                  <a:pt x="58496" y="187998"/>
                </a:lnTo>
                <a:lnTo>
                  <a:pt x="58496" y="0"/>
                </a:lnTo>
                <a:lnTo>
                  <a:pt x="732853" y="0"/>
                </a:lnTo>
                <a:lnTo>
                  <a:pt x="732853" y="165366"/>
                </a:lnTo>
                <a:lnTo>
                  <a:pt x="480441" y="406285"/>
                </a:lnTo>
                <a:cubicBezTo>
                  <a:pt x="514566" y="411848"/>
                  <a:pt x="547294" y="420903"/>
                  <a:pt x="579323" y="433438"/>
                </a:cubicBezTo>
                <a:cubicBezTo>
                  <a:pt x="611352" y="445630"/>
                  <a:pt x="639889" y="462686"/>
                  <a:pt x="664959" y="484962"/>
                </a:cubicBezTo>
                <a:cubicBezTo>
                  <a:pt x="690029" y="506552"/>
                  <a:pt x="710222" y="534047"/>
                  <a:pt x="725538" y="566775"/>
                </a:cubicBezTo>
                <a:cubicBezTo>
                  <a:pt x="740854" y="599503"/>
                  <a:pt x="748513" y="639191"/>
                  <a:pt x="748513" y="685850"/>
                </a:cubicBezTo>
                <a:lnTo>
                  <a:pt x="748513" y="688632"/>
                </a:lnTo>
                <a:cubicBezTo>
                  <a:pt x="748513" y="735977"/>
                  <a:pt x="740156" y="779500"/>
                  <a:pt x="723455" y="819188"/>
                </a:cubicBezTo>
                <a:cubicBezTo>
                  <a:pt x="707085" y="858519"/>
                  <a:pt x="683412" y="892987"/>
                  <a:pt x="652081" y="922578"/>
                </a:cubicBezTo>
                <a:cubicBezTo>
                  <a:pt x="621449" y="951826"/>
                  <a:pt x="583501" y="974801"/>
                  <a:pt x="538581" y="991171"/>
                </a:cubicBezTo>
                <a:cubicBezTo>
                  <a:pt x="494017" y="1007186"/>
                  <a:pt x="444233" y="1015187"/>
                  <a:pt x="389229" y="1015187"/>
                </a:cubicBezTo>
              </a:path>
            </a:pathLst>
          </a:custGeom>
          <a:solidFill>
            <a:srgbClr val="dca83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2" name="Freeform 3"/>
          <p:cNvSpPr/>
          <p:nvPr/>
        </p:nvSpPr>
        <p:spPr>
          <a:xfrm>
            <a:off x="7746120" y="496080"/>
            <a:ext cx="748080" cy="1014840"/>
          </a:xfrm>
          <a:custGeom>
            <a:avLst/>
            <a:gdLst>
              <a:gd name="textAreaLeft" fmla="*/ 0 w 748080"/>
              <a:gd name="textAreaRight" fmla="*/ 748440 w 748080"/>
              <a:gd name="textAreaTop" fmla="*/ 0 h 1014840"/>
              <a:gd name="textAreaBottom" fmla="*/ 1015200 h 1014840"/>
            </a:gdLst>
            <a:ahLst/>
            <a:rect l="textAreaLeft" t="textAreaTop" r="textAreaRight" b="textAreaBottom"/>
            <a:pathLst>
              <a:path w="748524" h="1015199">
                <a:moveTo>
                  <a:pt x="389229" y="1015199"/>
                </a:moveTo>
                <a:cubicBezTo>
                  <a:pt x="299059" y="1015199"/>
                  <a:pt x="222122" y="999528"/>
                  <a:pt x="158762" y="967498"/>
                </a:cubicBezTo>
                <a:cubicBezTo>
                  <a:pt x="95745" y="935824"/>
                  <a:pt x="42824" y="894397"/>
                  <a:pt x="0" y="842873"/>
                </a:cubicBezTo>
                <a:lnTo>
                  <a:pt x="151104" y="698741"/>
                </a:lnTo>
                <a:cubicBezTo>
                  <a:pt x="185216" y="737730"/>
                  <a:pt x="221081" y="767321"/>
                  <a:pt x="258673" y="787857"/>
                </a:cubicBezTo>
                <a:cubicBezTo>
                  <a:pt x="296278" y="808050"/>
                  <a:pt x="340486" y="818502"/>
                  <a:pt x="392010" y="818502"/>
                </a:cubicBezTo>
                <a:cubicBezTo>
                  <a:pt x="433793" y="818502"/>
                  <a:pt x="467562" y="807707"/>
                  <a:pt x="494029" y="785774"/>
                </a:cubicBezTo>
                <a:cubicBezTo>
                  <a:pt x="520127" y="763841"/>
                  <a:pt x="533362" y="734250"/>
                  <a:pt x="533362" y="697344"/>
                </a:cubicBezTo>
                <a:lnTo>
                  <a:pt x="533362" y="694563"/>
                </a:lnTo>
                <a:cubicBezTo>
                  <a:pt x="533362" y="653478"/>
                  <a:pt x="516305" y="622147"/>
                  <a:pt x="481838" y="600214"/>
                </a:cubicBezTo>
                <a:cubicBezTo>
                  <a:pt x="447725" y="578624"/>
                  <a:pt x="399681" y="567486"/>
                  <a:pt x="337705" y="567486"/>
                </a:cubicBezTo>
                <a:lnTo>
                  <a:pt x="246494" y="567486"/>
                </a:lnTo>
                <a:lnTo>
                  <a:pt x="212369" y="427875"/>
                </a:lnTo>
                <a:lnTo>
                  <a:pt x="450506" y="188010"/>
                </a:lnTo>
                <a:lnTo>
                  <a:pt x="58495" y="188010"/>
                </a:lnTo>
                <a:lnTo>
                  <a:pt x="58495" y="0"/>
                </a:lnTo>
                <a:lnTo>
                  <a:pt x="732852" y="0"/>
                </a:lnTo>
                <a:lnTo>
                  <a:pt x="732852" y="165379"/>
                </a:lnTo>
                <a:lnTo>
                  <a:pt x="480440" y="406298"/>
                </a:lnTo>
                <a:cubicBezTo>
                  <a:pt x="514565" y="411861"/>
                  <a:pt x="547293" y="420916"/>
                  <a:pt x="579322" y="433451"/>
                </a:cubicBezTo>
                <a:cubicBezTo>
                  <a:pt x="611352" y="445630"/>
                  <a:pt x="639902" y="462686"/>
                  <a:pt x="664959" y="484974"/>
                </a:cubicBezTo>
                <a:cubicBezTo>
                  <a:pt x="690029" y="506564"/>
                  <a:pt x="710221" y="534060"/>
                  <a:pt x="725537" y="566788"/>
                </a:cubicBezTo>
                <a:cubicBezTo>
                  <a:pt x="740854" y="599516"/>
                  <a:pt x="748524" y="639203"/>
                  <a:pt x="748524" y="685850"/>
                </a:cubicBezTo>
                <a:lnTo>
                  <a:pt x="748524" y="688644"/>
                </a:lnTo>
                <a:cubicBezTo>
                  <a:pt x="748524" y="735990"/>
                  <a:pt x="740168" y="779500"/>
                  <a:pt x="723455" y="819188"/>
                </a:cubicBezTo>
                <a:cubicBezTo>
                  <a:pt x="707084" y="858532"/>
                  <a:pt x="683412" y="893000"/>
                  <a:pt x="652081" y="922591"/>
                </a:cubicBezTo>
                <a:cubicBezTo>
                  <a:pt x="621448" y="951839"/>
                  <a:pt x="583501" y="974813"/>
                  <a:pt x="538581" y="991184"/>
                </a:cubicBezTo>
                <a:cubicBezTo>
                  <a:pt x="494029" y="1007198"/>
                  <a:pt x="444233" y="1015199"/>
                  <a:pt x="389229" y="1015199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3" name="Freeform 3"/>
          <p:cNvSpPr/>
          <p:nvPr/>
        </p:nvSpPr>
        <p:spPr>
          <a:xfrm>
            <a:off x="8118720" y="2141280"/>
            <a:ext cx="126720" cy="4654440"/>
          </a:xfrm>
          <a:custGeom>
            <a:avLst/>
            <a:gdLst>
              <a:gd name="textAreaLeft" fmla="*/ 0 w 126720"/>
              <a:gd name="textAreaRight" fmla="*/ 127080 w 126720"/>
              <a:gd name="textAreaTop" fmla="*/ 0 h 4654440"/>
              <a:gd name="textAreaBottom" fmla="*/ 4654800 h 4654440"/>
            </a:gdLst>
            <a:ahLst/>
            <a:rect l="textAreaLeft" t="textAreaTop" r="textAreaRight" b="textAreaBottom"/>
            <a:pathLst>
              <a:path w="127000" h="4654638">
                <a:moveTo>
                  <a:pt x="31750" y="31750"/>
                </a:moveTo>
                <a:lnTo>
                  <a:pt x="31750" y="4622888"/>
                </a:lnTo>
              </a:path>
            </a:pathLst>
          </a:custGeom>
          <a:noFill/>
          <a:ln w="63500">
            <a:solidFill>
              <a:srgbClr val="fccf38"/>
            </a:solidFill>
            <a:prstDash val="dash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Freeform 3"/>
          <p:cNvSpPr/>
          <p:nvPr/>
        </p:nvSpPr>
        <p:spPr>
          <a:xfrm>
            <a:off x="2960640" y="3978720"/>
            <a:ext cx="63720" cy="63720"/>
          </a:xfrm>
          <a:custGeom>
            <a:avLst/>
            <a:gdLst>
              <a:gd name="textAreaLeft" fmla="*/ 0 w 63720"/>
              <a:gd name="textAreaRight" fmla="*/ 64080 w 6372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64008" h="64007">
                <a:moveTo>
                  <a:pt x="32004" y="64008"/>
                </a:moveTo>
                <a:cubicBezTo>
                  <a:pt x="49682" y="64008"/>
                  <a:pt x="64008" y="49682"/>
                  <a:pt x="64008" y="32003"/>
                </a:cubicBezTo>
                <a:cubicBezTo>
                  <a:pt x="64008" y="14325"/>
                  <a:pt x="49682" y="0"/>
                  <a:pt x="32004" y="0"/>
                </a:cubicBezTo>
                <a:cubicBezTo>
                  <a:pt x="14325" y="0"/>
                  <a:pt x="0" y="14325"/>
                  <a:pt x="0" y="32003"/>
                </a:cubicBezTo>
                <a:cubicBezTo>
                  <a:pt x="0" y="49682"/>
                  <a:pt x="14325" y="64008"/>
                  <a:pt x="32004" y="64008"/>
                </a:cubicBezTo>
              </a:path>
            </a:pathLst>
          </a:custGeom>
          <a:solidFill>
            <a:srgbClr val="459ddc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5" name="Freeform 3"/>
          <p:cNvSpPr/>
          <p:nvPr/>
        </p:nvSpPr>
        <p:spPr>
          <a:xfrm>
            <a:off x="2960640" y="4589640"/>
            <a:ext cx="63720" cy="63720"/>
          </a:xfrm>
          <a:custGeom>
            <a:avLst/>
            <a:gdLst>
              <a:gd name="textAreaLeft" fmla="*/ 0 w 63720"/>
              <a:gd name="textAreaRight" fmla="*/ 64080 w 6372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64008" h="64008">
                <a:moveTo>
                  <a:pt x="32004" y="64008"/>
                </a:moveTo>
                <a:cubicBezTo>
                  <a:pt x="49682" y="64008"/>
                  <a:pt x="64008" y="49682"/>
                  <a:pt x="64008" y="32004"/>
                </a:cubicBezTo>
                <a:cubicBezTo>
                  <a:pt x="64008" y="14325"/>
                  <a:pt x="49682" y="0"/>
                  <a:pt x="32004" y="0"/>
                </a:cubicBezTo>
                <a:cubicBezTo>
                  <a:pt x="14325" y="0"/>
                  <a:pt x="0" y="14325"/>
                  <a:pt x="0" y="32004"/>
                </a:cubicBezTo>
                <a:cubicBezTo>
                  <a:pt x="0" y="49682"/>
                  <a:pt x="14325" y="64008"/>
                  <a:pt x="32004" y="64008"/>
                </a:cubicBezTo>
              </a:path>
            </a:pathLst>
          </a:custGeom>
          <a:solidFill>
            <a:srgbClr val="459ddc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6" name="Freeform 3"/>
          <p:cNvSpPr/>
          <p:nvPr/>
        </p:nvSpPr>
        <p:spPr>
          <a:xfrm>
            <a:off x="2960640" y="5192280"/>
            <a:ext cx="63720" cy="63720"/>
          </a:xfrm>
          <a:custGeom>
            <a:avLst/>
            <a:gdLst>
              <a:gd name="textAreaLeft" fmla="*/ 0 w 63720"/>
              <a:gd name="textAreaRight" fmla="*/ 64080 w 6372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64008" h="64007">
                <a:moveTo>
                  <a:pt x="32004" y="64008"/>
                </a:moveTo>
                <a:cubicBezTo>
                  <a:pt x="49682" y="64008"/>
                  <a:pt x="64008" y="49682"/>
                  <a:pt x="64008" y="32003"/>
                </a:cubicBezTo>
                <a:cubicBezTo>
                  <a:pt x="64008" y="14325"/>
                  <a:pt x="49682" y="0"/>
                  <a:pt x="32004" y="0"/>
                </a:cubicBezTo>
                <a:cubicBezTo>
                  <a:pt x="14325" y="0"/>
                  <a:pt x="0" y="14325"/>
                  <a:pt x="0" y="32003"/>
                </a:cubicBezTo>
                <a:cubicBezTo>
                  <a:pt x="0" y="49682"/>
                  <a:pt x="14325" y="64008"/>
                  <a:pt x="32004" y="64008"/>
                </a:cubicBezTo>
              </a:path>
            </a:pathLst>
          </a:custGeom>
          <a:solidFill>
            <a:srgbClr val="459ddc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7" name="Freeform 3"/>
          <p:cNvSpPr/>
          <p:nvPr/>
        </p:nvSpPr>
        <p:spPr>
          <a:xfrm>
            <a:off x="939960" y="1642320"/>
            <a:ext cx="1268280" cy="979920"/>
          </a:xfrm>
          <a:custGeom>
            <a:avLst/>
            <a:gdLst>
              <a:gd name="textAreaLeft" fmla="*/ 0 w 1268280"/>
              <a:gd name="textAreaRight" fmla="*/ 1268640 w 1268280"/>
              <a:gd name="textAreaTop" fmla="*/ 0 h 979920"/>
              <a:gd name="textAreaBottom" fmla="*/ 980280 h 979920"/>
            </a:gdLst>
            <a:ahLst/>
            <a:rect l="textAreaLeft" t="textAreaTop" r="textAreaRight" b="textAreaBottom"/>
            <a:pathLst>
              <a:path w="1268612" h="980328">
                <a:moveTo>
                  <a:pt x="39100" y="299291"/>
                </a:moveTo>
                <a:cubicBezTo>
                  <a:pt x="41563" y="296459"/>
                  <a:pt x="43075" y="293804"/>
                  <a:pt x="45729" y="291353"/>
                </a:cubicBezTo>
                <a:cubicBezTo>
                  <a:pt x="107197" y="229682"/>
                  <a:pt x="207057" y="229314"/>
                  <a:pt x="268906" y="291353"/>
                </a:cubicBezTo>
                <a:lnTo>
                  <a:pt x="511908" y="534177"/>
                </a:lnTo>
                <a:lnTo>
                  <a:pt x="999486" y="46243"/>
                </a:lnTo>
                <a:cubicBezTo>
                  <a:pt x="1060954" y="-15414"/>
                  <a:pt x="1160992" y="-15414"/>
                  <a:pt x="1222663" y="46243"/>
                </a:cubicBezTo>
                <a:cubicBezTo>
                  <a:pt x="1283928" y="108080"/>
                  <a:pt x="1283928" y="207927"/>
                  <a:pt x="1222663" y="269598"/>
                </a:cubicBezTo>
                <a:lnTo>
                  <a:pt x="979433" y="512435"/>
                </a:lnTo>
                <a:lnTo>
                  <a:pt x="511540" y="980328"/>
                </a:lnTo>
                <a:lnTo>
                  <a:pt x="288756" y="757164"/>
                </a:lnTo>
                <a:lnTo>
                  <a:pt x="45729" y="514327"/>
                </a:lnTo>
                <a:cubicBezTo>
                  <a:pt x="-13287" y="454942"/>
                  <a:pt x="-14989" y="361508"/>
                  <a:pt x="39100" y="299291"/>
                </a:cubicBezTo>
              </a:path>
            </a:pathLst>
          </a:custGeom>
          <a:solidFill>
            <a:srgbClr val="99331e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8" name="Freeform 3"/>
          <p:cNvSpPr/>
          <p:nvPr/>
        </p:nvSpPr>
        <p:spPr>
          <a:xfrm>
            <a:off x="939960" y="2950560"/>
            <a:ext cx="1268280" cy="979920"/>
          </a:xfrm>
          <a:custGeom>
            <a:avLst/>
            <a:gdLst>
              <a:gd name="textAreaLeft" fmla="*/ 0 w 1268280"/>
              <a:gd name="textAreaRight" fmla="*/ 1268640 w 1268280"/>
              <a:gd name="textAreaTop" fmla="*/ 0 h 979920"/>
              <a:gd name="textAreaBottom" fmla="*/ 980280 h 979920"/>
            </a:gdLst>
            <a:ahLst/>
            <a:rect l="textAreaLeft" t="textAreaTop" r="textAreaRight" b="textAreaBottom"/>
            <a:pathLst>
              <a:path w="1268612" h="980329">
                <a:moveTo>
                  <a:pt x="39100" y="299291"/>
                </a:moveTo>
                <a:cubicBezTo>
                  <a:pt x="41563" y="296459"/>
                  <a:pt x="43075" y="293804"/>
                  <a:pt x="45729" y="291353"/>
                </a:cubicBezTo>
                <a:cubicBezTo>
                  <a:pt x="107197" y="229682"/>
                  <a:pt x="207057" y="229314"/>
                  <a:pt x="268906" y="291353"/>
                </a:cubicBezTo>
                <a:lnTo>
                  <a:pt x="511908" y="534177"/>
                </a:lnTo>
                <a:lnTo>
                  <a:pt x="999486" y="46243"/>
                </a:lnTo>
                <a:cubicBezTo>
                  <a:pt x="1060954" y="-15414"/>
                  <a:pt x="1160992" y="-15414"/>
                  <a:pt x="1222663" y="46243"/>
                </a:cubicBezTo>
                <a:cubicBezTo>
                  <a:pt x="1283928" y="108080"/>
                  <a:pt x="1283928" y="207927"/>
                  <a:pt x="1222663" y="269598"/>
                </a:cubicBezTo>
                <a:lnTo>
                  <a:pt x="979433" y="512435"/>
                </a:lnTo>
                <a:lnTo>
                  <a:pt x="511540" y="980328"/>
                </a:lnTo>
                <a:lnTo>
                  <a:pt x="288756" y="757164"/>
                </a:lnTo>
                <a:lnTo>
                  <a:pt x="45729" y="514327"/>
                </a:lnTo>
                <a:cubicBezTo>
                  <a:pt x="-13287" y="454942"/>
                  <a:pt x="-14989" y="361508"/>
                  <a:pt x="39100" y="299291"/>
                </a:cubicBezTo>
              </a:path>
            </a:pathLst>
          </a:custGeom>
          <a:solidFill>
            <a:srgbClr val="99331e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9" name="Freeform 3"/>
          <p:cNvSpPr/>
          <p:nvPr/>
        </p:nvSpPr>
        <p:spPr>
          <a:xfrm>
            <a:off x="939960" y="4244760"/>
            <a:ext cx="1268280" cy="979920"/>
          </a:xfrm>
          <a:custGeom>
            <a:avLst/>
            <a:gdLst>
              <a:gd name="textAreaLeft" fmla="*/ 0 w 1268280"/>
              <a:gd name="textAreaRight" fmla="*/ 1268640 w 1268280"/>
              <a:gd name="textAreaTop" fmla="*/ 0 h 979920"/>
              <a:gd name="textAreaBottom" fmla="*/ 980280 h 979920"/>
            </a:gdLst>
            <a:ahLst/>
            <a:rect l="textAreaLeft" t="textAreaTop" r="textAreaRight" b="textAreaBottom"/>
            <a:pathLst>
              <a:path w="1268612" h="980328">
                <a:moveTo>
                  <a:pt x="39100" y="299291"/>
                </a:moveTo>
                <a:cubicBezTo>
                  <a:pt x="41563" y="296459"/>
                  <a:pt x="43075" y="293804"/>
                  <a:pt x="45729" y="291353"/>
                </a:cubicBezTo>
                <a:cubicBezTo>
                  <a:pt x="107197" y="229682"/>
                  <a:pt x="207057" y="229314"/>
                  <a:pt x="268906" y="291353"/>
                </a:cubicBezTo>
                <a:lnTo>
                  <a:pt x="511908" y="534177"/>
                </a:lnTo>
                <a:lnTo>
                  <a:pt x="999486" y="46243"/>
                </a:lnTo>
                <a:cubicBezTo>
                  <a:pt x="1060954" y="-15414"/>
                  <a:pt x="1160992" y="-15414"/>
                  <a:pt x="1222663" y="46243"/>
                </a:cubicBezTo>
                <a:cubicBezTo>
                  <a:pt x="1283928" y="108092"/>
                  <a:pt x="1283928" y="207927"/>
                  <a:pt x="1222663" y="269598"/>
                </a:cubicBezTo>
                <a:lnTo>
                  <a:pt x="979433" y="512435"/>
                </a:lnTo>
                <a:lnTo>
                  <a:pt x="511540" y="980328"/>
                </a:lnTo>
                <a:lnTo>
                  <a:pt x="288756" y="757164"/>
                </a:lnTo>
                <a:lnTo>
                  <a:pt x="45729" y="514327"/>
                </a:lnTo>
                <a:cubicBezTo>
                  <a:pt x="-13287" y="454942"/>
                  <a:pt x="-14989" y="361508"/>
                  <a:pt x="39100" y="299291"/>
                </a:cubicBezTo>
              </a:path>
            </a:pathLst>
          </a:custGeom>
          <a:solidFill>
            <a:srgbClr val="99331e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0" name="Freeform 3"/>
          <p:cNvSpPr/>
          <p:nvPr/>
        </p:nvSpPr>
        <p:spPr>
          <a:xfrm>
            <a:off x="936720" y="1575360"/>
            <a:ext cx="1268280" cy="979920"/>
          </a:xfrm>
          <a:custGeom>
            <a:avLst/>
            <a:gdLst>
              <a:gd name="textAreaLeft" fmla="*/ 0 w 1268280"/>
              <a:gd name="textAreaRight" fmla="*/ 1268640 w 1268280"/>
              <a:gd name="textAreaTop" fmla="*/ 0 h 979920"/>
              <a:gd name="textAreaBottom" fmla="*/ 980280 h 979920"/>
            </a:gdLst>
            <a:ahLst/>
            <a:rect l="textAreaLeft" t="textAreaTop" r="textAreaRight" b="textAreaBottom"/>
            <a:pathLst>
              <a:path w="1268612" h="980329">
                <a:moveTo>
                  <a:pt x="39100" y="299291"/>
                </a:moveTo>
                <a:cubicBezTo>
                  <a:pt x="41563" y="296459"/>
                  <a:pt x="43075" y="293805"/>
                  <a:pt x="45729" y="291353"/>
                </a:cubicBezTo>
                <a:cubicBezTo>
                  <a:pt x="107197" y="229682"/>
                  <a:pt x="207057" y="229314"/>
                  <a:pt x="268906" y="291353"/>
                </a:cubicBezTo>
                <a:lnTo>
                  <a:pt x="511908" y="534177"/>
                </a:lnTo>
                <a:lnTo>
                  <a:pt x="999486" y="46243"/>
                </a:lnTo>
                <a:cubicBezTo>
                  <a:pt x="1060954" y="-15414"/>
                  <a:pt x="1160992" y="-15414"/>
                  <a:pt x="1222663" y="46243"/>
                </a:cubicBezTo>
                <a:cubicBezTo>
                  <a:pt x="1283928" y="108080"/>
                  <a:pt x="1283928" y="207927"/>
                  <a:pt x="1222663" y="269598"/>
                </a:cubicBezTo>
                <a:lnTo>
                  <a:pt x="979433" y="512435"/>
                </a:lnTo>
                <a:lnTo>
                  <a:pt x="511540" y="980328"/>
                </a:lnTo>
                <a:lnTo>
                  <a:pt x="288756" y="757164"/>
                </a:lnTo>
                <a:lnTo>
                  <a:pt x="45729" y="514327"/>
                </a:lnTo>
                <a:cubicBezTo>
                  <a:pt x="-13287" y="454942"/>
                  <a:pt x="-14989" y="361508"/>
                  <a:pt x="39100" y="299291"/>
                </a:cubicBezTo>
              </a:path>
            </a:pathLst>
          </a:custGeom>
          <a:solidFill>
            <a:srgbClr val="cb4d2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1" name="Freeform 3"/>
          <p:cNvSpPr/>
          <p:nvPr/>
        </p:nvSpPr>
        <p:spPr>
          <a:xfrm>
            <a:off x="936720" y="2883600"/>
            <a:ext cx="1268280" cy="979920"/>
          </a:xfrm>
          <a:custGeom>
            <a:avLst/>
            <a:gdLst>
              <a:gd name="textAreaLeft" fmla="*/ 0 w 1268280"/>
              <a:gd name="textAreaRight" fmla="*/ 1268640 w 1268280"/>
              <a:gd name="textAreaTop" fmla="*/ 0 h 979920"/>
              <a:gd name="textAreaBottom" fmla="*/ 980280 h 979920"/>
            </a:gdLst>
            <a:ahLst/>
            <a:rect l="textAreaLeft" t="textAreaTop" r="textAreaRight" b="textAreaBottom"/>
            <a:pathLst>
              <a:path w="1268612" h="980329">
                <a:moveTo>
                  <a:pt x="39100" y="299291"/>
                </a:moveTo>
                <a:cubicBezTo>
                  <a:pt x="41563" y="296459"/>
                  <a:pt x="43075" y="293805"/>
                  <a:pt x="45729" y="291353"/>
                </a:cubicBezTo>
                <a:cubicBezTo>
                  <a:pt x="107197" y="229682"/>
                  <a:pt x="207057" y="229314"/>
                  <a:pt x="268906" y="291353"/>
                </a:cubicBezTo>
                <a:lnTo>
                  <a:pt x="511908" y="534178"/>
                </a:lnTo>
                <a:lnTo>
                  <a:pt x="999486" y="46243"/>
                </a:lnTo>
                <a:cubicBezTo>
                  <a:pt x="1060954" y="-15414"/>
                  <a:pt x="1160992" y="-15414"/>
                  <a:pt x="1222663" y="46243"/>
                </a:cubicBezTo>
                <a:cubicBezTo>
                  <a:pt x="1283928" y="108080"/>
                  <a:pt x="1283928" y="207927"/>
                  <a:pt x="1222663" y="269598"/>
                </a:cubicBezTo>
                <a:lnTo>
                  <a:pt x="979433" y="512435"/>
                </a:lnTo>
                <a:lnTo>
                  <a:pt x="511540" y="980329"/>
                </a:lnTo>
                <a:lnTo>
                  <a:pt x="288756" y="757164"/>
                </a:lnTo>
                <a:lnTo>
                  <a:pt x="45729" y="514327"/>
                </a:lnTo>
                <a:cubicBezTo>
                  <a:pt x="-13287" y="454942"/>
                  <a:pt x="-14989" y="361508"/>
                  <a:pt x="39100" y="299291"/>
                </a:cubicBezTo>
              </a:path>
            </a:pathLst>
          </a:custGeom>
          <a:solidFill>
            <a:srgbClr val="cb4d2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2" name="Freeform 3"/>
          <p:cNvSpPr/>
          <p:nvPr/>
        </p:nvSpPr>
        <p:spPr>
          <a:xfrm>
            <a:off x="936720" y="4177800"/>
            <a:ext cx="1268280" cy="979920"/>
          </a:xfrm>
          <a:custGeom>
            <a:avLst/>
            <a:gdLst>
              <a:gd name="textAreaLeft" fmla="*/ 0 w 1268280"/>
              <a:gd name="textAreaRight" fmla="*/ 1268640 w 1268280"/>
              <a:gd name="textAreaTop" fmla="*/ 0 h 979920"/>
              <a:gd name="textAreaBottom" fmla="*/ 980280 h 979920"/>
            </a:gdLst>
            <a:ahLst/>
            <a:rect l="textAreaLeft" t="textAreaTop" r="textAreaRight" b="textAreaBottom"/>
            <a:pathLst>
              <a:path w="1268612" h="980328">
                <a:moveTo>
                  <a:pt x="39100" y="299291"/>
                </a:moveTo>
                <a:cubicBezTo>
                  <a:pt x="41563" y="296459"/>
                  <a:pt x="43075" y="293804"/>
                  <a:pt x="45729" y="291353"/>
                </a:cubicBezTo>
                <a:cubicBezTo>
                  <a:pt x="107197" y="229682"/>
                  <a:pt x="207057" y="229314"/>
                  <a:pt x="268906" y="291353"/>
                </a:cubicBezTo>
                <a:lnTo>
                  <a:pt x="511908" y="534177"/>
                </a:lnTo>
                <a:lnTo>
                  <a:pt x="999486" y="46243"/>
                </a:lnTo>
                <a:cubicBezTo>
                  <a:pt x="1060954" y="-15414"/>
                  <a:pt x="1160992" y="-15414"/>
                  <a:pt x="1222663" y="46243"/>
                </a:cubicBezTo>
                <a:cubicBezTo>
                  <a:pt x="1283928" y="108092"/>
                  <a:pt x="1283928" y="207927"/>
                  <a:pt x="1222663" y="269598"/>
                </a:cubicBezTo>
                <a:lnTo>
                  <a:pt x="979433" y="512435"/>
                </a:lnTo>
                <a:lnTo>
                  <a:pt x="511540" y="980328"/>
                </a:lnTo>
                <a:lnTo>
                  <a:pt x="288756" y="757164"/>
                </a:lnTo>
                <a:lnTo>
                  <a:pt x="45729" y="514327"/>
                </a:lnTo>
                <a:cubicBezTo>
                  <a:pt x="-13287" y="454942"/>
                  <a:pt x="-14989" y="361508"/>
                  <a:pt x="39100" y="299291"/>
                </a:cubicBezTo>
              </a:path>
            </a:pathLst>
          </a:custGeom>
          <a:solidFill>
            <a:srgbClr val="cb4d2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3" name="Freeform 3"/>
          <p:cNvSpPr/>
          <p:nvPr/>
        </p:nvSpPr>
        <p:spPr>
          <a:xfrm>
            <a:off x="4874760" y="6236280"/>
            <a:ext cx="241200" cy="241200"/>
          </a:xfrm>
          <a:custGeom>
            <a:avLst/>
            <a:gdLst>
              <a:gd name="textAreaLeft" fmla="*/ 0 w 241200"/>
              <a:gd name="textAreaRight" fmla="*/ 241560 w 2412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241401" h="241401">
                <a:moveTo>
                  <a:pt x="120700" y="241401"/>
                </a:moveTo>
                <a:cubicBezTo>
                  <a:pt x="187362" y="241401"/>
                  <a:pt x="241401" y="187362"/>
                  <a:pt x="241401" y="120700"/>
                </a:cubicBezTo>
                <a:cubicBezTo>
                  <a:pt x="241401" y="54038"/>
                  <a:pt x="187362" y="0"/>
                  <a:pt x="120700" y="0"/>
                </a:cubicBezTo>
                <a:cubicBezTo>
                  <a:pt x="54038" y="0"/>
                  <a:pt x="0" y="54038"/>
                  <a:pt x="0" y="120700"/>
                </a:cubicBezTo>
                <a:cubicBezTo>
                  <a:pt x="0" y="187362"/>
                  <a:pt x="54038" y="241401"/>
                  <a:pt x="120700" y="241401"/>
                </a:cubicBezTo>
              </a:path>
            </a:pathLst>
          </a:custGeom>
          <a:solidFill>
            <a:srgbClr val="459ddc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4" name="Freeform 3"/>
          <p:cNvSpPr/>
          <p:nvPr/>
        </p:nvSpPr>
        <p:spPr>
          <a:xfrm>
            <a:off x="4928400" y="6302520"/>
            <a:ext cx="133560" cy="108360"/>
          </a:xfrm>
          <a:custGeom>
            <a:avLst/>
            <a:gdLst>
              <a:gd name="textAreaLeft" fmla="*/ 0 w 133560"/>
              <a:gd name="textAreaRight" fmla="*/ 133920 w 133560"/>
              <a:gd name="textAreaTop" fmla="*/ 0 h 108360"/>
              <a:gd name="textAreaBottom" fmla="*/ 108720 h 108360"/>
            </a:gdLst>
            <a:ahLst/>
            <a:rect l="textAreaLeft" t="textAreaTop" r="textAreaRight" b="textAreaBottom"/>
            <a:pathLst>
              <a:path w="133794" h="108737">
                <a:moveTo>
                  <a:pt x="120103" y="27089"/>
                </a:moveTo>
                <a:cubicBezTo>
                  <a:pt x="120167" y="28270"/>
                  <a:pt x="120180" y="29438"/>
                  <a:pt x="120180" y="30632"/>
                </a:cubicBezTo>
                <a:cubicBezTo>
                  <a:pt x="120180" y="66903"/>
                  <a:pt x="92570" y="108737"/>
                  <a:pt x="42074" y="108737"/>
                </a:cubicBezTo>
                <a:cubicBezTo>
                  <a:pt x="26568" y="108737"/>
                  <a:pt x="12141" y="104203"/>
                  <a:pt x="0" y="96405"/>
                </a:cubicBezTo>
                <a:cubicBezTo>
                  <a:pt x="2146" y="96659"/>
                  <a:pt x="4330" y="96786"/>
                  <a:pt x="6540" y="96786"/>
                </a:cubicBezTo>
                <a:cubicBezTo>
                  <a:pt x="19418" y="96786"/>
                  <a:pt x="31241" y="92405"/>
                  <a:pt x="40627" y="85039"/>
                </a:cubicBezTo>
                <a:cubicBezTo>
                  <a:pt x="28625" y="84810"/>
                  <a:pt x="18478" y="76873"/>
                  <a:pt x="14998" y="65976"/>
                </a:cubicBezTo>
                <a:cubicBezTo>
                  <a:pt x="16674" y="66294"/>
                  <a:pt x="18389" y="66471"/>
                  <a:pt x="20154" y="66471"/>
                </a:cubicBezTo>
                <a:cubicBezTo>
                  <a:pt x="22669" y="66471"/>
                  <a:pt x="25094" y="66128"/>
                  <a:pt x="27381" y="65506"/>
                </a:cubicBezTo>
                <a:cubicBezTo>
                  <a:pt x="14846" y="62966"/>
                  <a:pt x="5372" y="51879"/>
                  <a:pt x="5372" y="38582"/>
                </a:cubicBezTo>
                <a:lnTo>
                  <a:pt x="5372" y="38239"/>
                </a:lnTo>
                <a:cubicBezTo>
                  <a:pt x="9080" y="40297"/>
                  <a:pt x="13309" y="41529"/>
                  <a:pt x="17805" y="41668"/>
                </a:cubicBezTo>
                <a:cubicBezTo>
                  <a:pt x="10439" y="36753"/>
                  <a:pt x="5600" y="28346"/>
                  <a:pt x="5600" y="18821"/>
                </a:cubicBezTo>
                <a:cubicBezTo>
                  <a:pt x="5600" y="13792"/>
                  <a:pt x="6946" y="9068"/>
                  <a:pt x="9309" y="5016"/>
                </a:cubicBezTo>
                <a:cubicBezTo>
                  <a:pt x="22847" y="21628"/>
                  <a:pt x="43078" y="32562"/>
                  <a:pt x="65887" y="33706"/>
                </a:cubicBezTo>
                <a:cubicBezTo>
                  <a:pt x="65430" y="31699"/>
                  <a:pt x="65176" y="29604"/>
                  <a:pt x="65176" y="27444"/>
                </a:cubicBezTo>
                <a:cubicBezTo>
                  <a:pt x="65176" y="12293"/>
                  <a:pt x="77470" y="0"/>
                  <a:pt x="92633" y="0"/>
                </a:cubicBezTo>
                <a:cubicBezTo>
                  <a:pt x="100533" y="0"/>
                  <a:pt x="107670" y="3340"/>
                  <a:pt x="112674" y="8661"/>
                </a:cubicBezTo>
                <a:cubicBezTo>
                  <a:pt x="118922" y="7442"/>
                  <a:pt x="124802" y="5156"/>
                  <a:pt x="130111" y="1994"/>
                </a:cubicBezTo>
                <a:cubicBezTo>
                  <a:pt x="128054" y="8420"/>
                  <a:pt x="123710" y="13792"/>
                  <a:pt x="118033" y="17183"/>
                </a:cubicBezTo>
                <a:cubicBezTo>
                  <a:pt x="123596" y="16535"/>
                  <a:pt x="128879" y="15049"/>
                  <a:pt x="133794" y="12877"/>
                </a:cubicBezTo>
                <a:cubicBezTo>
                  <a:pt x="130124" y="18377"/>
                  <a:pt x="125463" y="23215"/>
                  <a:pt x="120103" y="27089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15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6489720"/>
            <a:ext cx="88560" cy="504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9800" y="6527880"/>
            <a:ext cx="317160" cy="1141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"/>
          <p:cNvPicPr/>
          <p:nvPr/>
        </p:nvPicPr>
        <p:blipFill>
          <a:blip r:embed="rId5"/>
          <a:stretch/>
        </p:blipFill>
        <p:spPr>
          <a:xfrm>
            <a:off x="952560" y="1943280"/>
            <a:ext cx="1028520" cy="10155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"/>
          <p:cNvPicPr/>
          <p:nvPr/>
        </p:nvPicPr>
        <p:blipFill>
          <a:blip r:embed="rId6"/>
          <a:stretch/>
        </p:blipFill>
        <p:spPr>
          <a:xfrm>
            <a:off x="952560" y="3251160"/>
            <a:ext cx="1028520" cy="10155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"/>
          <p:cNvPicPr/>
          <p:nvPr/>
        </p:nvPicPr>
        <p:blipFill>
          <a:blip r:embed="rId7"/>
          <a:stretch/>
        </p:blipFill>
        <p:spPr>
          <a:xfrm>
            <a:off x="952560" y="4533840"/>
            <a:ext cx="1028520" cy="10155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"/>
          <p:cNvPicPr/>
          <p:nvPr/>
        </p:nvPicPr>
        <p:blipFill>
          <a:blip r:embed="rId8"/>
          <a:stretch/>
        </p:blipFill>
        <p:spPr>
          <a:xfrm>
            <a:off x="2946240" y="1638360"/>
            <a:ext cx="1866600" cy="3553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"/>
          <p:cNvPicPr/>
          <p:nvPr/>
        </p:nvPicPr>
        <p:blipFill>
          <a:blip r:embed="rId9"/>
          <a:stretch/>
        </p:blipFill>
        <p:spPr>
          <a:xfrm>
            <a:off x="2946240" y="2120760"/>
            <a:ext cx="2908080" cy="4312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"/>
          <p:cNvPicPr/>
          <p:nvPr/>
        </p:nvPicPr>
        <p:blipFill>
          <a:blip r:embed="rId10"/>
          <a:stretch/>
        </p:blipFill>
        <p:spPr>
          <a:xfrm>
            <a:off x="2959200" y="2654280"/>
            <a:ext cx="3644640" cy="4824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"/>
          <p:cNvPicPr/>
          <p:nvPr/>
        </p:nvPicPr>
        <p:blipFill>
          <a:blip r:embed="rId11"/>
          <a:stretch/>
        </p:blipFill>
        <p:spPr>
          <a:xfrm>
            <a:off x="2946240" y="3263760"/>
            <a:ext cx="3911400" cy="4442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"/>
          <p:cNvPicPr/>
          <p:nvPr/>
        </p:nvPicPr>
        <p:blipFill>
          <a:blip r:embed="rId12"/>
          <a:stretch/>
        </p:blipFill>
        <p:spPr>
          <a:xfrm>
            <a:off x="3111480" y="3924360"/>
            <a:ext cx="952200" cy="1648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"/>
          <p:cNvPicPr/>
          <p:nvPr/>
        </p:nvPicPr>
        <p:blipFill>
          <a:blip r:embed="rId13"/>
          <a:stretch/>
        </p:blipFill>
        <p:spPr>
          <a:xfrm>
            <a:off x="4089240" y="3924360"/>
            <a:ext cx="2349000" cy="1648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"/>
          <p:cNvPicPr/>
          <p:nvPr/>
        </p:nvPicPr>
        <p:blipFill>
          <a:blip r:embed="rId14"/>
          <a:stretch/>
        </p:blipFill>
        <p:spPr>
          <a:xfrm>
            <a:off x="3111480" y="4127400"/>
            <a:ext cx="761760" cy="1648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" descr=""/>
          <p:cNvPicPr/>
          <p:nvPr/>
        </p:nvPicPr>
        <p:blipFill>
          <a:blip r:embed="rId15"/>
          <a:stretch/>
        </p:blipFill>
        <p:spPr>
          <a:xfrm>
            <a:off x="3911760" y="4127400"/>
            <a:ext cx="2526840" cy="1648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"/>
          <p:cNvPicPr/>
          <p:nvPr/>
        </p:nvPicPr>
        <p:blipFill>
          <a:blip r:embed="rId16"/>
          <a:stretch/>
        </p:blipFill>
        <p:spPr>
          <a:xfrm>
            <a:off x="3111480" y="4533840"/>
            <a:ext cx="1320480" cy="1393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"/>
          <p:cNvPicPr/>
          <p:nvPr/>
        </p:nvPicPr>
        <p:blipFill>
          <a:blip r:embed="rId17"/>
          <a:stretch/>
        </p:blipFill>
        <p:spPr>
          <a:xfrm>
            <a:off x="4470480" y="4533840"/>
            <a:ext cx="2666520" cy="1648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"/>
          <p:cNvPicPr/>
          <p:nvPr/>
        </p:nvPicPr>
        <p:blipFill>
          <a:blip r:embed="rId18"/>
          <a:stretch/>
        </p:blipFill>
        <p:spPr>
          <a:xfrm>
            <a:off x="3111480" y="4737240"/>
            <a:ext cx="2412720" cy="1648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"/>
          <p:cNvPicPr/>
          <p:nvPr/>
        </p:nvPicPr>
        <p:blipFill>
          <a:blip r:embed="rId19"/>
          <a:stretch/>
        </p:blipFill>
        <p:spPr>
          <a:xfrm>
            <a:off x="3111480" y="5143680"/>
            <a:ext cx="3022200" cy="1648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" descr=""/>
          <p:cNvPicPr/>
          <p:nvPr/>
        </p:nvPicPr>
        <p:blipFill>
          <a:blip r:embed="rId20"/>
          <a:stretch/>
        </p:blipFill>
        <p:spPr>
          <a:xfrm>
            <a:off x="6159600" y="5143680"/>
            <a:ext cx="1002960" cy="1648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" descr=""/>
          <p:cNvPicPr/>
          <p:nvPr/>
        </p:nvPicPr>
        <p:blipFill>
          <a:blip r:embed="rId21"/>
          <a:stretch/>
        </p:blipFill>
        <p:spPr>
          <a:xfrm>
            <a:off x="3111480" y="5346720"/>
            <a:ext cx="3161880" cy="1648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">
            <a:hlinkClick r:id="rId22"/>
          </p:cNvPr>
          <p:cNvPicPr/>
          <p:nvPr/>
        </p:nvPicPr>
        <p:blipFill>
          <a:blip r:embed="rId23"/>
          <a:stretch/>
        </p:blipFill>
        <p:spPr>
          <a:xfrm>
            <a:off x="4737240" y="6515280"/>
            <a:ext cx="507600" cy="101160"/>
          </a:xfrm>
          <a:prstGeom prst="rect">
            <a:avLst/>
          </a:prstGeom>
          <a:ln w="0">
            <a:noFill/>
          </a:ln>
        </p:spPr>
      </p:pic>
      <p:sp>
        <p:nvSpPr>
          <p:cNvPr id="235" name="矩形 45">
            <a:hlinkClick r:id="rId24"/>
          </p:cNvPr>
          <p:cNvSpPr/>
          <p:nvPr/>
        </p:nvSpPr>
        <p:spPr>
          <a:xfrm>
            <a:off x="526680" y="0"/>
            <a:ext cx="828072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59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reeform 3"/>
          <p:cNvSpPr/>
          <p:nvPr/>
        </p:nvSpPr>
        <p:spPr>
          <a:xfrm>
            <a:off x="216000" y="6539040"/>
            <a:ext cx="88200" cy="88920"/>
          </a:xfrm>
          <a:custGeom>
            <a:avLst/>
            <a:gdLst>
              <a:gd name="textAreaLeft" fmla="*/ 0 w 88200"/>
              <a:gd name="textAreaRight" fmla="*/ 88560 w 8820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88595" h="89458">
                <a:moveTo>
                  <a:pt x="0" y="89458"/>
                </a:moveTo>
                <a:lnTo>
                  <a:pt x="43395" y="0"/>
                </a:lnTo>
                <a:lnTo>
                  <a:pt x="88595" y="89458"/>
                </a:lnTo>
                <a:lnTo>
                  <a:pt x="71056" y="89458"/>
                </a:lnTo>
                <a:lnTo>
                  <a:pt x="44297" y="30874"/>
                </a:lnTo>
                <a:lnTo>
                  <a:pt x="17386" y="89458"/>
                </a:lnTo>
                <a:lnTo>
                  <a:pt x="0" y="89458"/>
                </a:lnTo>
              </a:path>
            </a:pathLst>
          </a:custGeom>
          <a:solidFill>
            <a:srgbClr val="80808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4280" bIns="44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7" name="Freeform 3"/>
          <p:cNvSpPr/>
          <p:nvPr/>
        </p:nvSpPr>
        <p:spPr>
          <a:xfrm>
            <a:off x="237600" y="6595200"/>
            <a:ext cx="47520" cy="10800"/>
          </a:xfrm>
          <a:custGeom>
            <a:avLst/>
            <a:gdLst>
              <a:gd name="textAreaLeft" fmla="*/ 0 w 47520"/>
              <a:gd name="textAreaRight" fmla="*/ 47880 w 4752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47980" h="11138">
                <a:moveTo>
                  <a:pt x="0" y="5568"/>
                </a:moveTo>
                <a:lnTo>
                  <a:pt x="47980" y="5568"/>
                </a:lnTo>
              </a:path>
            </a:pathLst>
          </a:custGeom>
          <a:noFill/>
          <a:ln w="0">
            <a:solidFill>
              <a:srgbClr val="808080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3840" bIns="-33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reeform 3"/>
          <p:cNvSpPr/>
          <p:nvPr/>
        </p:nvSpPr>
        <p:spPr>
          <a:xfrm>
            <a:off x="164520" y="6539040"/>
            <a:ext cx="61920" cy="88920"/>
          </a:xfrm>
          <a:custGeom>
            <a:avLst/>
            <a:gdLst>
              <a:gd name="textAreaLeft" fmla="*/ 0 w 61920"/>
              <a:gd name="textAreaRight" fmla="*/ 62280 w 6192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62141" h="89434">
                <a:moveTo>
                  <a:pt x="0" y="0"/>
                </a:moveTo>
                <a:lnTo>
                  <a:pt x="0" y="16357"/>
                </a:lnTo>
                <a:lnTo>
                  <a:pt x="22263" y="16357"/>
                </a:lnTo>
                <a:lnTo>
                  <a:pt x="22263" y="89433"/>
                </a:lnTo>
                <a:lnTo>
                  <a:pt x="39700" y="89433"/>
                </a:lnTo>
                <a:lnTo>
                  <a:pt x="39700" y="16878"/>
                </a:lnTo>
                <a:lnTo>
                  <a:pt x="62141" y="16878"/>
                </a:lnTo>
                <a:lnTo>
                  <a:pt x="62141" y="0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4280" bIns="44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9" name="Freeform 3"/>
          <p:cNvSpPr/>
          <p:nvPr/>
        </p:nvSpPr>
        <p:spPr>
          <a:xfrm>
            <a:off x="307080" y="6538320"/>
            <a:ext cx="56520" cy="90720"/>
          </a:xfrm>
          <a:custGeom>
            <a:avLst/>
            <a:gdLst>
              <a:gd name="textAreaLeft" fmla="*/ 0 w 56520"/>
              <a:gd name="textAreaRight" fmla="*/ 56880 w 56520"/>
              <a:gd name="textAreaTop" fmla="*/ 0 h 90720"/>
              <a:gd name="textAreaBottom" fmla="*/ 91080 h 90720"/>
            </a:gdLst>
            <a:ahLst/>
            <a:rect l="textAreaLeft" t="textAreaTop" r="textAreaRight" b="textAreaBottom"/>
            <a:pathLst>
              <a:path w="56959" h="90995">
                <a:moveTo>
                  <a:pt x="30873" y="36258"/>
                </a:moveTo>
                <a:cubicBezTo>
                  <a:pt x="45440" y="40919"/>
                  <a:pt x="58064" y="46456"/>
                  <a:pt x="56959" y="66459"/>
                </a:cubicBezTo>
                <a:cubicBezTo>
                  <a:pt x="56095" y="82219"/>
                  <a:pt x="42722" y="92316"/>
                  <a:pt x="24117" y="90995"/>
                </a:cubicBezTo>
                <a:cubicBezTo>
                  <a:pt x="12750" y="90182"/>
                  <a:pt x="6324" y="84429"/>
                  <a:pt x="0" y="77723"/>
                </a:cubicBezTo>
                <a:cubicBezTo>
                  <a:pt x="3581" y="73367"/>
                  <a:pt x="7556" y="69367"/>
                  <a:pt x="11722" y="65582"/>
                </a:cubicBezTo>
                <a:cubicBezTo>
                  <a:pt x="14960" y="70345"/>
                  <a:pt x="20891" y="75615"/>
                  <a:pt x="29133" y="74917"/>
                </a:cubicBezTo>
                <a:cubicBezTo>
                  <a:pt x="34925" y="74434"/>
                  <a:pt x="41821" y="68795"/>
                  <a:pt x="38696" y="61239"/>
                </a:cubicBezTo>
                <a:cubicBezTo>
                  <a:pt x="36360" y="55588"/>
                  <a:pt x="27304" y="53327"/>
                  <a:pt x="21081" y="51041"/>
                </a:cubicBezTo>
                <a:cubicBezTo>
                  <a:pt x="9855" y="46863"/>
                  <a:pt x="266" y="41097"/>
                  <a:pt x="1511" y="23659"/>
                </a:cubicBezTo>
                <a:cubicBezTo>
                  <a:pt x="2514" y="9690"/>
                  <a:pt x="13830" y="927"/>
                  <a:pt x="28486" y="0"/>
                </a:cubicBezTo>
                <a:cubicBezTo>
                  <a:pt x="41490" y="-837"/>
                  <a:pt x="49072" y="4953"/>
                  <a:pt x="55422" y="11709"/>
                </a:cubicBezTo>
                <a:cubicBezTo>
                  <a:pt x="52298" y="16141"/>
                  <a:pt x="48425" y="19773"/>
                  <a:pt x="45224" y="24092"/>
                </a:cubicBezTo>
                <a:cubicBezTo>
                  <a:pt x="41871" y="21425"/>
                  <a:pt x="37934" y="17043"/>
                  <a:pt x="31965" y="16281"/>
                </a:cubicBezTo>
                <a:cubicBezTo>
                  <a:pt x="23634" y="15227"/>
                  <a:pt x="17005" y="20269"/>
                  <a:pt x="19329" y="28879"/>
                </a:cubicBezTo>
                <a:cubicBezTo>
                  <a:pt x="20548" y="33363"/>
                  <a:pt x="26263" y="34785"/>
                  <a:pt x="30873" y="36258"/>
                </a:cubicBezTo>
              </a:path>
            </a:pathLst>
          </a:custGeom>
          <a:solidFill>
            <a:srgbClr val="80808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0" name="Freeform 3"/>
          <p:cNvSpPr/>
          <p:nvPr/>
        </p:nvSpPr>
        <p:spPr>
          <a:xfrm>
            <a:off x="393480" y="6538320"/>
            <a:ext cx="77400" cy="90720"/>
          </a:xfrm>
          <a:custGeom>
            <a:avLst/>
            <a:gdLst>
              <a:gd name="textAreaLeft" fmla="*/ 0 w 77400"/>
              <a:gd name="textAreaRight" fmla="*/ 77760 w 77400"/>
              <a:gd name="textAreaTop" fmla="*/ 0 h 90720"/>
              <a:gd name="textAreaBottom" fmla="*/ 91080 h 90720"/>
            </a:gdLst>
            <a:ahLst/>
            <a:rect l="textAreaLeft" t="textAreaTop" r="textAreaRight" b="textAreaBottom"/>
            <a:pathLst>
              <a:path w="77914" h="90992">
                <a:moveTo>
                  <a:pt x="77914" y="60350"/>
                </a:moveTo>
                <a:lnTo>
                  <a:pt x="77914" y="78244"/>
                </a:lnTo>
                <a:cubicBezTo>
                  <a:pt x="76987" y="81395"/>
                  <a:pt x="68516" y="85445"/>
                  <a:pt x="65443" y="86792"/>
                </a:cubicBezTo>
                <a:cubicBezTo>
                  <a:pt x="31889" y="101600"/>
                  <a:pt x="-3302" y="77470"/>
                  <a:pt x="0" y="39687"/>
                </a:cubicBezTo>
                <a:cubicBezTo>
                  <a:pt x="1879" y="18098"/>
                  <a:pt x="19786" y="1778"/>
                  <a:pt x="41313" y="0"/>
                </a:cubicBezTo>
                <a:cubicBezTo>
                  <a:pt x="57391" y="-1282"/>
                  <a:pt x="66484" y="4229"/>
                  <a:pt x="75945" y="10909"/>
                </a:cubicBezTo>
                <a:lnTo>
                  <a:pt x="71272" y="17526"/>
                </a:lnTo>
                <a:cubicBezTo>
                  <a:pt x="63906" y="13475"/>
                  <a:pt x="57835" y="8141"/>
                  <a:pt x="47536" y="7797"/>
                </a:cubicBezTo>
                <a:cubicBezTo>
                  <a:pt x="23291" y="7036"/>
                  <a:pt x="7429" y="26734"/>
                  <a:pt x="8978" y="47879"/>
                </a:cubicBezTo>
                <a:cubicBezTo>
                  <a:pt x="9867" y="60579"/>
                  <a:pt x="17170" y="71958"/>
                  <a:pt x="26898" y="77851"/>
                </a:cubicBezTo>
                <a:cubicBezTo>
                  <a:pt x="37871" y="84544"/>
                  <a:pt x="59829" y="84976"/>
                  <a:pt x="69341" y="74345"/>
                </a:cubicBezTo>
                <a:lnTo>
                  <a:pt x="69341" y="49822"/>
                </a:lnTo>
                <a:lnTo>
                  <a:pt x="40881" y="49822"/>
                </a:lnTo>
                <a:lnTo>
                  <a:pt x="43256" y="41656"/>
                </a:lnTo>
                <a:lnTo>
                  <a:pt x="77914" y="41656"/>
                </a:lnTo>
                <a:lnTo>
                  <a:pt x="77914" y="60350"/>
                </a:lnTo>
              </a:path>
            </a:pathLst>
          </a:custGeom>
          <a:solidFill>
            <a:srgbClr val="80808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1" name="Freeform 3"/>
          <p:cNvSpPr/>
          <p:nvPr/>
        </p:nvSpPr>
        <p:spPr>
          <a:xfrm>
            <a:off x="779040" y="6539040"/>
            <a:ext cx="6840" cy="11160"/>
          </a:xfrm>
          <a:custGeom>
            <a:avLst/>
            <a:gdLst>
              <a:gd name="textAreaLeft" fmla="*/ 0 w 6840"/>
              <a:gd name="textAreaRight" fmla="*/ 7200 w 68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7124" h="11696">
                <a:moveTo>
                  <a:pt x="4444" y="1663"/>
                </a:moveTo>
                <a:lnTo>
                  <a:pt x="4444" y="11696"/>
                </a:lnTo>
                <a:lnTo>
                  <a:pt x="2679" y="11696"/>
                </a:lnTo>
                <a:lnTo>
                  <a:pt x="2679" y="1663"/>
                </a:lnTo>
                <a:lnTo>
                  <a:pt x="0" y="1663"/>
                </a:lnTo>
                <a:lnTo>
                  <a:pt x="0" y="0"/>
                </a:lnTo>
                <a:lnTo>
                  <a:pt x="7124" y="0"/>
                </a:lnTo>
                <a:lnTo>
                  <a:pt x="7124" y="1663"/>
                </a:lnTo>
                <a:lnTo>
                  <a:pt x="4444" y="1663"/>
                </a:lnTo>
              </a:path>
            </a:pathLst>
          </a:custGeom>
          <a:solidFill>
            <a:srgbClr val="80808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3480" bIns="-33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2" name="Freeform 3"/>
          <p:cNvSpPr/>
          <p:nvPr/>
        </p:nvSpPr>
        <p:spPr>
          <a:xfrm>
            <a:off x="787320" y="6538320"/>
            <a:ext cx="12600" cy="12600"/>
          </a:xfrm>
          <a:custGeom>
            <a:avLst/>
            <a:gdLst>
              <a:gd name="textAreaLeft" fmla="*/ 0 w 12600"/>
              <a:gd name="textAreaRight" fmla="*/ 12960 w 1260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12839" h="13106">
                <a:moveTo>
                  <a:pt x="0" y="12572"/>
                </a:moveTo>
                <a:lnTo>
                  <a:pt x="2463" y="0"/>
                </a:lnTo>
                <a:lnTo>
                  <a:pt x="6477" y="9093"/>
                </a:lnTo>
                <a:lnTo>
                  <a:pt x="10629" y="0"/>
                </a:lnTo>
                <a:lnTo>
                  <a:pt x="12839" y="12572"/>
                </a:lnTo>
                <a:lnTo>
                  <a:pt x="11023" y="12572"/>
                </a:lnTo>
                <a:lnTo>
                  <a:pt x="9906" y="5512"/>
                </a:lnTo>
                <a:lnTo>
                  <a:pt x="6438" y="13106"/>
                </a:lnTo>
                <a:lnTo>
                  <a:pt x="3086" y="5512"/>
                </a:lnTo>
                <a:lnTo>
                  <a:pt x="1828" y="12572"/>
                </a:lnTo>
                <a:lnTo>
                  <a:pt x="0" y="12572"/>
                </a:lnTo>
              </a:path>
            </a:pathLst>
          </a:custGeom>
          <a:solidFill>
            <a:srgbClr val="80808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2040" bIns="-320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3" name="Freeform 3"/>
          <p:cNvSpPr/>
          <p:nvPr/>
        </p:nvSpPr>
        <p:spPr>
          <a:xfrm>
            <a:off x="137520" y="121320"/>
            <a:ext cx="1732320" cy="1732320"/>
          </a:xfrm>
          <a:custGeom>
            <a:avLst/>
            <a:gdLst>
              <a:gd name="textAreaLeft" fmla="*/ 0 w 1732320"/>
              <a:gd name="textAreaRight" fmla="*/ 1732680 w 1732320"/>
              <a:gd name="textAreaTop" fmla="*/ 0 h 1732320"/>
              <a:gd name="textAreaBottom" fmla="*/ 1732680 h 1732320"/>
            </a:gdLst>
            <a:ahLst/>
            <a:rect l="textAreaLeft" t="textAreaTop" r="textAreaRight" b="textAreaBottom"/>
            <a:pathLst>
              <a:path w="1732788" h="1732788">
                <a:moveTo>
                  <a:pt x="866394" y="1732787"/>
                </a:moveTo>
                <a:cubicBezTo>
                  <a:pt x="1344891" y="1732787"/>
                  <a:pt x="1732787" y="1344891"/>
                  <a:pt x="1732787" y="866393"/>
                </a:cubicBezTo>
                <a:cubicBezTo>
                  <a:pt x="1732787" y="387896"/>
                  <a:pt x="1344891" y="0"/>
                  <a:pt x="866393" y="0"/>
                </a:cubicBezTo>
                <a:cubicBezTo>
                  <a:pt x="387896" y="0"/>
                  <a:pt x="0" y="387896"/>
                  <a:pt x="0" y="866393"/>
                </a:cubicBezTo>
                <a:cubicBezTo>
                  <a:pt x="0" y="1344891"/>
                  <a:pt x="387896" y="1732787"/>
                  <a:pt x="866393" y="1732787"/>
                </a:cubicBezTo>
              </a:path>
            </a:pathLst>
          </a:custGeom>
          <a:solidFill>
            <a:srgbClr val="fccf38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4" name="Freeform 3"/>
          <p:cNvSpPr/>
          <p:nvPr/>
        </p:nvSpPr>
        <p:spPr>
          <a:xfrm>
            <a:off x="8055360" y="191880"/>
            <a:ext cx="126720" cy="734760"/>
          </a:xfrm>
          <a:custGeom>
            <a:avLst/>
            <a:gdLst>
              <a:gd name="textAreaLeft" fmla="*/ 0 w 126720"/>
              <a:gd name="textAreaRight" fmla="*/ 127080 w 126720"/>
              <a:gd name="textAreaTop" fmla="*/ 0 h 734760"/>
              <a:gd name="textAreaBottom" fmla="*/ 735120 h 734760"/>
            </a:gdLst>
            <a:ahLst/>
            <a:rect l="textAreaLeft" t="textAreaTop" r="textAreaRight" b="textAreaBottom"/>
            <a:pathLst>
              <a:path w="127000" h="735228">
                <a:moveTo>
                  <a:pt x="31750" y="31750"/>
                </a:moveTo>
                <a:lnTo>
                  <a:pt x="31750" y="703478"/>
                </a:lnTo>
              </a:path>
            </a:pathLst>
          </a:custGeom>
          <a:noFill/>
          <a:ln w="63500">
            <a:solidFill>
              <a:srgbClr val="fccf38"/>
            </a:solidFill>
            <a:prstDash val="dash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reeform 3"/>
          <p:cNvSpPr/>
          <p:nvPr/>
        </p:nvSpPr>
        <p:spPr>
          <a:xfrm>
            <a:off x="2084400" y="959760"/>
            <a:ext cx="5844600" cy="126720"/>
          </a:xfrm>
          <a:custGeom>
            <a:avLst/>
            <a:gdLst>
              <a:gd name="textAreaLeft" fmla="*/ 0 w 5844600"/>
              <a:gd name="textAreaRight" fmla="*/ 5844960 w 584460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5844908" h="127000">
                <a:moveTo>
                  <a:pt x="5813157" y="31750"/>
                </a:moveTo>
                <a:lnTo>
                  <a:pt x="31750" y="31750"/>
                </a:lnTo>
              </a:path>
            </a:pathLst>
          </a:custGeom>
          <a:noFill/>
          <a:ln w="63500">
            <a:solidFill>
              <a:srgbClr val="fccf38"/>
            </a:solidFill>
            <a:prstDash val="dash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reeform 3"/>
          <p:cNvSpPr/>
          <p:nvPr/>
        </p:nvSpPr>
        <p:spPr>
          <a:xfrm>
            <a:off x="959760" y="2135160"/>
            <a:ext cx="126720" cy="4654440"/>
          </a:xfrm>
          <a:custGeom>
            <a:avLst/>
            <a:gdLst>
              <a:gd name="textAreaLeft" fmla="*/ 0 w 126720"/>
              <a:gd name="textAreaRight" fmla="*/ 127080 w 126720"/>
              <a:gd name="textAreaTop" fmla="*/ 0 h 4654440"/>
              <a:gd name="textAreaBottom" fmla="*/ 4654800 h 4654440"/>
            </a:gdLst>
            <a:ahLst/>
            <a:rect l="textAreaLeft" t="textAreaTop" r="textAreaRight" b="textAreaBottom"/>
            <a:pathLst>
              <a:path w="127000" h="4654638">
                <a:moveTo>
                  <a:pt x="31750" y="31750"/>
                </a:moveTo>
                <a:lnTo>
                  <a:pt x="31750" y="4622888"/>
                </a:lnTo>
              </a:path>
            </a:pathLst>
          </a:custGeom>
          <a:noFill/>
          <a:ln w="63500">
            <a:solidFill>
              <a:srgbClr val="fccf38"/>
            </a:solidFill>
            <a:prstDash val="dash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reeform 3"/>
          <p:cNvSpPr/>
          <p:nvPr/>
        </p:nvSpPr>
        <p:spPr>
          <a:xfrm>
            <a:off x="1965960" y="3888360"/>
            <a:ext cx="63720" cy="63720"/>
          </a:xfrm>
          <a:custGeom>
            <a:avLst/>
            <a:gdLst>
              <a:gd name="textAreaLeft" fmla="*/ 0 w 63720"/>
              <a:gd name="textAreaRight" fmla="*/ 64080 w 6372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64008" h="64007">
                <a:moveTo>
                  <a:pt x="32004" y="64008"/>
                </a:moveTo>
                <a:cubicBezTo>
                  <a:pt x="49682" y="64008"/>
                  <a:pt x="64007" y="49682"/>
                  <a:pt x="64007" y="32003"/>
                </a:cubicBezTo>
                <a:cubicBezTo>
                  <a:pt x="64007" y="14325"/>
                  <a:pt x="49682" y="0"/>
                  <a:pt x="32004" y="0"/>
                </a:cubicBezTo>
                <a:cubicBezTo>
                  <a:pt x="14325" y="0"/>
                  <a:pt x="0" y="14325"/>
                  <a:pt x="0" y="32003"/>
                </a:cubicBezTo>
                <a:cubicBezTo>
                  <a:pt x="0" y="49682"/>
                  <a:pt x="14325" y="64008"/>
                  <a:pt x="32004" y="64008"/>
                </a:cubicBezTo>
              </a:path>
            </a:pathLst>
          </a:custGeom>
          <a:solidFill>
            <a:srgbClr val="459ddc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8" name="Freeform 3"/>
          <p:cNvSpPr/>
          <p:nvPr/>
        </p:nvSpPr>
        <p:spPr>
          <a:xfrm>
            <a:off x="1965960" y="5108760"/>
            <a:ext cx="63720" cy="63720"/>
          </a:xfrm>
          <a:custGeom>
            <a:avLst/>
            <a:gdLst>
              <a:gd name="textAreaLeft" fmla="*/ 0 w 63720"/>
              <a:gd name="textAreaRight" fmla="*/ 64080 w 6372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64008" h="64007">
                <a:moveTo>
                  <a:pt x="32004" y="64008"/>
                </a:moveTo>
                <a:cubicBezTo>
                  <a:pt x="49682" y="64008"/>
                  <a:pt x="64007" y="49682"/>
                  <a:pt x="64007" y="32003"/>
                </a:cubicBezTo>
                <a:cubicBezTo>
                  <a:pt x="64007" y="14325"/>
                  <a:pt x="49682" y="0"/>
                  <a:pt x="32004" y="0"/>
                </a:cubicBezTo>
                <a:cubicBezTo>
                  <a:pt x="14325" y="0"/>
                  <a:pt x="0" y="14325"/>
                  <a:pt x="0" y="32003"/>
                </a:cubicBezTo>
                <a:cubicBezTo>
                  <a:pt x="0" y="49682"/>
                  <a:pt x="14325" y="64008"/>
                  <a:pt x="32004" y="64008"/>
                </a:cubicBezTo>
              </a:path>
            </a:pathLst>
          </a:custGeom>
          <a:solidFill>
            <a:srgbClr val="459ddc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9" name="Freeform 3"/>
          <p:cNvSpPr/>
          <p:nvPr/>
        </p:nvSpPr>
        <p:spPr>
          <a:xfrm>
            <a:off x="6600960" y="3045960"/>
            <a:ext cx="1605960" cy="1861920"/>
          </a:xfrm>
          <a:custGeom>
            <a:avLst/>
            <a:gdLst>
              <a:gd name="textAreaLeft" fmla="*/ 0 w 1605960"/>
              <a:gd name="textAreaRight" fmla="*/ 1606320 w 1605960"/>
              <a:gd name="textAreaTop" fmla="*/ 0 h 1861920"/>
              <a:gd name="textAreaBottom" fmla="*/ 1862280 h 1861920"/>
            </a:gdLst>
            <a:ahLst/>
            <a:rect l="textAreaLeft" t="textAreaTop" r="textAreaRight" b="textAreaBottom"/>
            <a:pathLst>
              <a:path w="1606194" h="1862404">
                <a:moveTo>
                  <a:pt x="1024851" y="1756384"/>
                </a:moveTo>
                <a:cubicBezTo>
                  <a:pt x="1024851" y="1682165"/>
                  <a:pt x="1028382" y="1630349"/>
                  <a:pt x="1035456" y="1600885"/>
                </a:cubicBezTo>
                <a:cubicBezTo>
                  <a:pt x="1042516" y="1571460"/>
                  <a:pt x="1057236" y="1540814"/>
                  <a:pt x="1079626" y="1509001"/>
                </a:cubicBezTo>
                <a:cubicBezTo>
                  <a:pt x="1101991" y="1477200"/>
                  <a:pt x="1146771" y="1430096"/>
                  <a:pt x="1213916" y="1367650"/>
                </a:cubicBezTo>
                <a:cubicBezTo>
                  <a:pt x="1328165" y="1260475"/>
                  <a:pt x="1408861" y="1178890"/>
                  <a:pt x="1455990" y="1122921"/>
                </a:cubicBezTo>
                <a:cubicBezTo>
                  <a:pt x="1503095" y="1066990"/>
                  <a:pt x="1539925" y="1004252"/>
                  <a:pt x="1566429" y="934732"/>
                </a:cubicBezTo>
                <a:cubicBezTo>
                  <a:pt x="1592935" y="865250"/>
                  <a:pt x="1606194" y="785736"/>
                  <a:pt x="1606194" y="696188"/>
                </a:cubicBezTo>
                <a:cubicBezTo>
                  <a:pt x="1606194" y="494754"/>
                  <a:pt x="1537854" y="328384"/>
                  <a:pt x="1401216" y="197027"/>
                </a:cubicBezTo>
                <a:cubicBezTo>
                  <a:pt x="1264551" y="65684"/>
                  <a:pt x="1081975" y="0"/>
                  <a:pt x="853452" y="0"/>
                </a:cubicBezTo>
                <a:cubicBezTo>
                  <a:pt x="695591" y="0"/>
                  <a:pt x="555116" y="29159"/>
                  <a:pt x="432027" y="87465"/>
                </a:cubicBezTo>
                <a:cubicBezTo>
                  <a:pt x="308914" y="145783"/>
                  <a:pt x="209968" y="232663"/>
                  <a:pt x="135178" y="348094"/>
                </a:cubicBezTo>
                <a:cubicBezTo>
                  <a:pt x="60349" y="463562"/>
                  <a:pt x="15302" y="589597"/>
                  <a:pt x="0" y="726236"/>
                </a:cubicBezTo>
                <a:lnTo>
                  <a:pt x="464718" y="765111"/>
                </a:lnTo>
                <a:cubicBezTo>
                  <a:pt x="474128" y="703872"/>
                  <a:pt x="486498" y="654977"/>
                  <a:pt x="501827" y="618451"/>
                </a:cubicBezTo>
                <a:cubicBezTo>
                  <a:pt x="517118" y="581952"/>
                  <a:pt x="539812" y="547497"/>
                  <a:pt x="569848" y="515073"/>
                </a:cubicBezTo>
                <a:cubicBezTo>
                  <a:pt x="599896" y="482688"/>
                  <a:pt x="637577" y="456488"/>
                  <a:pt x="682942" y="436448"/>
                </a:cubicBezTo>
                <a:cubicBezTo>
                  <a:pt x="728268" y="416432"/>
                  <a:pt x="777468" y="406412"/>
                  <a:pt x="830477" y="406412"/>
                </a:cubicBezTo>
                <a:cubicBezTo>
                  <a:pt x="924711" y="406412"/>
                  <a:pt x="1002156" y="436168"/>
                  <a:pt x="1062837" y="495642"/>
                </a:cubicBezTo>
                <a:cubicBezTo>
                  <a:pt x="1123505" y="555142"/>
                  <a:pt x="1153845" y="630237"/>
                  <a:pt x="1153845" y="720928"/>
                </a:cubicBezTo>
                <a:cubicBezTo>
                  <a:pt x="1153845" y="788073"/>
                  <a:pt x="1138211" y="847267"/>
                  <a:pt x="1107020" y="898512"/>
                </a:cubicBezTo>
                <a:cubicBezTo>
                  <a:pt x="1075790" y="949756"/>
                  <a:pt x="972425" y="1058430"/>
                  <a:pt x="796911" y="1224521"/>
                </a:cubicBezTo>
                <a:cubicBezTo>
                  <a:pt x="735647" y="1283436"/>
                  <a:pt x="693813" y="1328191"/>
                  <a:pt x="671461" y="1358811"/>
                </a:cubicBezTo>
                <a:cubicBezTo>
                  <a:pt x="639647" y="1402410"/>
                  <a:pt x="617842" y="1443050"/>
                  <a:pt x="606081" y="1480731"/>
                </a:cubicBezTo>
                <a:cubicBezTo>
                  <a:pt x="594283" y="1518450"/>
                  <a:pt x="588403" y="1564386"/>
                  <a:pt x="588403" y="1618564"/>
                </a:cubicBezTo>
                <a:lnTo>
                  <a:pt x="588403" y="1862404"/>
                </a:lnTo>
                <a:lnTo>
                  <a:pt x="1024851" y="1862404"/>
                </a:lnTo>
                <a:lnTo>
                  <a:pt x="1024851" y="1756384"/>
                </a:lnTo>
              </a:path>
            </a:pathLst>
          </a:custGeom>
          <a:solidFill>
            <a:srgbClr val="3e552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0" name="Freeform 3"/>
          <p:cNvSpPr/>
          <p:nvPr/>
        </p:nvSpPr>
        <p:spPr>
          <a:xfrm>
            <a:off x="7118640" y="5120280"/>
            <a:ext cx="577440" cy="577440"/>
          </a:xfrm>
          <a:custGeom>
            <a:avLst/>
            <a:gdLst>
              <a:gd name="textAreaLeft" fmla="*/ 0 w 577440"/>
              <a:gd name="textAreaRight" fmla="*/ 577800 w 577440"/>
              <a:gd name="textAreaTop" fmla="*/ 0 h 577440"/>
              <a:gd name="textAreaBottom" fmla="*/ 577800 h 577440"/>
            </a:gdLst>
            <a:ahLst/>
            <a:rect l="textAreaLeft" t="textAreaTop" r="textAreaRight" b="textAreaBottom"/>
            <a:pathLst>
              <a:path w="577798" h="577799">
                <a:moveTo>
                  <a:pt x="83934" y="84810"/>
                </a:moveTo>
                <a:cubicBezTo>
                  <a:pt x="27964" y="141351"/>
                  <a:pt x="0" y="209689"/>
                  <a:pt x="0" y="289788"/>
                </a:cubicBezTo>
                <a:cubicBezTo>
                  <a:pt x="0" y="369900"/>
                  <a:pt x="28269" y="437934"/>
                  <a:pt x="84810" y="493865"/>
                </a:cubicBezTo>
                <a:cubicBezTo>
                  <a:pt x="141363" y="549833"/>
                  <a:pt x="209079" y="577799"/>
                  <a:pt x="288022" y="577799"/>
                </a:cubicBezTo>
                <a:cubicBezTo>
                  <a:pt x="368109" y="577799"/>
                  <a:pt x="436447" y="549529"/>
                  <a:pt x="492988" y="492988"/>
                </a:cubicBezTo>
                <a:cubicBezTo>
                  <a:pt x="549528" y="436448"/>
                  <a:pt x="577798" y="368719"/>
                  <a:pt x="577798" y="289788"/>
                </a:cubicBezTo>
                <a:cubicBezTo>
                  <a:pt x="577798" y="209689"/>
                  <a:pt x="549528" y="141351"/>
                  <a:pt x="492988" y="84810"/>
                </a:cubicBezTo>
                <a:cubicBezTo>
                  <a:pt x="436447" y="28270"/>
                  <a:pt x="368109" y="0"/>
                  <a:pt x="288022" y="0"/>
                </a:cubicBezTo>
                <a:cubicBezTo>
                  <a:pt x="207898" y="0"/>
                  <a:pt x="139865" y="28270"/>
                  <a:pt x="83934" y="84810"/>
                </a:cubicBezTo>
              </a:path>
            </a:pathLst>
          </a:custGeom>
          <a:solidFill>
            <a:srgbClr val="3e552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1" name="Freeform 3"/>
          <p:cNvSpPr/>
          <p:nvPr/>
        </p:nvSpPr>
        <p:spPr>
          <a:xfrm>
            <a:off x="6572880" y="3003120"/>
            <a:ext cx="1605960" cy="1861920"/>
          </a:xfrm>
          <a:custGeom>
            <a:avLst/>
            <a:gdLst>
              <a:gd name="textAreaLeft" fmla="*/ 0 w 1605960"/>
              <a:gd name="textAreaRight" fmla="*/ 1606320 w 1605960"/>
              <a:gd name="textAreaTop" fmla="*/ 0 h 1861920"/>
              <a:gd name="textAreaBottom" fmla="*/ 1862280 h 1861920"/>
            </a:gdLst>
            <a:ahLst/>
            <a:rect l="textAreaLeft" t="textAreaTop" r="textAreaRight" b="textAreaBottom"/>
            <a:pathLst>
              <a:path w="1606194" h="1862404">
                <a:moveTo>
                  <a:pt x="1024852" y="1756384"/>
                </a:moveTo>
                <a:cubicBezTo>
                  <a:pt x="1024852" y="1682165"/>
                  <a:pt x="1028382" y="1630349"/>
                  <a:pt x="1035456" y="1600885"/>
                </a:cubicBezTo>
                <a:cubicBezTo>
                  <a:pt x="1042517" y="1571459"/>
                  <a:pt x="1057237" y="1540814"/>
                  <a:pt x="1079627" y="1509001"/>
                </a:cubicBezTo>
                <a:cubicBezTo>
                  <a:pt x="1101991" y="1477200"/>
                  <a:pt x="1146771" y="1430096"/>
                  <a:pt x="1213916" y="1367650"/>
                </a:cubicBezTo>
                <a:cubicBezTo>
                  <a:pt x="1328166" y="1260475"/>
                  <a:pt x="1408862" y="1178890"/>
                  <a:pt x="1455991" y="1122921"/>
                </a:cubicBezTo>
                <a:cubicBezTo>
                  <a:pt x="1503095" y="1066990"/>
                  <a:pt x="1539926" y="1004252"/>
                  <a:pt x="1566430" y="934732"/>
                </a:cubicBezTo>
                <a:cubicBezTo>
                  <a:pt x="1592935" y="865251"/>
                  <a:pt x="1606194" y="785736"/>
                  <a:pt x="1606194" y="696188"/>
                </a:cubicBezTo>
                <a:cubicBezTo>
                  <a:pt x="1606194" y="494753"/>
                  <a:pt x="1537855" y="328383"/>
                  <a:pt x="1401216" y="197027"/>
                </a:cubicBezTo>
                <a:cubicBezTo>
                  <a:pt x="1264551" y="65684"/>
                  <a:pt x="1081976" y="0"/>
                  <a:pt x="853452" y="0"/>
                </a:cubicBezTo>
                <a:cubicBezTo>
                  <a:pt x="695591" y="0"/>
                  <a:pt x="555117" y="29159"/>
                  <a:pt x="432028" y="87464"/>
                </a:cubicBezTo>
                <a:cubicBezTo>
                  <a:pt x="308914" y="145783"/>
                  <a:pt x="209969" y="232663"/>
                  <a:pt x="135178" y="348094"/>
                </a:cubicBezTo>
                <a:cubicBezTo>
                  <a:pt x="60350" y="463562"/>
                  <a:pt x="15303" y="589597"/>
                  <a:pt x="0" y="726236"/>
                </a:cubicBezTo>
                <a:lnTo>
                  <a:pt x="464718" y="765111"/>
                </a:lnTo>
                <a:cubicBezTo>
                  <a:pt x="474129" y="703872"/>
                  <a:pt x="486498" y="654977"/>
                  <a:pt x="501827" y="618451"/>
                </a:cubicBezTo>
                <a:cubicBezTo>
                  <a:pt x="517118" y="581952"/>
                  <a:pt x="539813" y="547496"/>
                  <a:pt x="569848" y="515073"/>
                </a:cubicBezTo>
                <a:cubicBezTo>
                  <a:pt x="599897" y="482688"/>
                  <a:pt x="637578" y="456488"/>
                  <a:pt x="682942" y="436448"/>
                </a:cubicBezTo>
                <a:cubicBezTo>
                  <a:pt x="728268" y="416433"/>
                  <a:pt x="777468" y="406412"/>
                  <a:pt x="830478" y="406412"/>
                </a:cubicBezTo>
                <a:cubicBezTo>
                  <a:pt x="924712" y="406412"/>
                  <a:pt x="1002156" y="436168"/>
                  <a:pt x="1062837" y="495643"/>
                </a:cubicBezTo>
                <a:cubicBezTo>
                  <a:pt x="1123505" y="555142"/>
                  <a:pt x="1153845" y="630237"/>
                  <a:pt x="1153845" y="720928"/>
                </a:cubicBezTo>
                <a:cubicBezTo>
                  <a:pt x="1153845" y="788073"/>
                  <a:pt x="1138211" y="847267"/>
                  <a:pt x="1107020" y="898512"/>
                </a:cubicBezTo>
                <a:cubicBezTo>
                  <a:pt x="1075791" y="949756"/>
                  <a:pt x="972426" y="1058430"/>
                  <a:pt x="796912" y="1224521"/>
                </a:cubicBezTo>
                <a:cubicBezTo>
                  <a:pt x="735647" y="1283436"/>
                  <a:pt x="693813" y="1328191"/>
                  <a:pt x="671462" y="1358811"/>
                </a:cubicBezTo>
                <a:cubicBezTo>
                  <a:pt x="639648" y="1402410"/>
                  <a:pt x="617842" y="1443050"/>
                  <a:pt x="606082" y="1480730"/>
                </a:cubicBezTo>
                <a:cubicBezTo>
                  <a:pt x="594283" y="1518449"/>
                  <a:pt x="588403" y="1564385"/>
                  <a:pt x="588403" y="1618563"/>
                </a:cubicBezTo>
                <a:lnTo>
                  <a:pt x="588403" y="1862404"/>
                </a:lnTo>
                <a:lnTo>
                  <a:pt x="1024852" y="1862404"/>
                </a:lnTo>
                <a:lnTo>
                  <a:pt x="1024852" y="1756384"/>
                </a:lnTo>
              </a:path>
            </a:pathLst>
          </a:custGeom>
          <a:solidFill>
            <a:srgbClr val="6a943c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2" name="Freeform 3"/>
          <p:cNvSpPr/>
          <p:nvPr/>
        </p:nvSpPr>
        <p:spPr>
          <a:xfrm>
            <a:off x="7090920" y="5077440"/>
            <a:ext cx="577440" cy="577440"/>
          </a:xfrm>
          <a:custGeom>
            <a:avLst/>
            <a:gdLst>
              <a:gd name="textAreaLeft" fmla="*/ 0 w 577440"/>
              <a:gd name="textAreaRight" fmla="*/ 577800 w 577440"/>
              <a:gd name="textAreaTop" fmla="*/ 0 h 577440"/>
              <a:gd name="textAreaBottom" fmla="*/ 577800 h 577440"/>
            </a:gdLst>
            <a:ahLst/>
            <a:rect l="textAreaLeft" t="textAreaTop" r="textAreaRight" b="textAreaBottom"/>
            <a:pathLst>
              <a:path w="577798" h="577799">
                <a:moveTo>
                  <a:pt x="83934" y="84810"/>
                </a:moveTo>
                <a:cubicBezTo>
                  <a:pt x="27965" y="141350"/>
                  <a:pt x="0" y="209689"/>
                  <a:pt x="0" y="289788"/>
                </a:cubicBezTo>
                <a:cubicBezTo>
                  <a:pt x="0" y="369899"/>
                  <a:pt x="28270" y="437933"/>
                  <a:pt x="84811" y="493864"/>
                </a:cubicBezTo>
                <a:cubicBezTo>
                  <a:pt x="141363" y="549833"/>
                  <a:pt x="209080" y="577798"/>
                  <a:pt x="288023" y="577798"/>
                </a:cubicBezTo>
                <a:cubicBezTo>
                  <a:pt x="368109" y="577798"/>
                  <a:pt x="436448" y="549528"/>
                  <a:pt x="492988" y="492988"/>
                </a:cubicBezTo>
                <a:cubicBezTo>
                  <a:pt x="549529" y="436448"/>
                  <a:pt x="577799" y="368718"/>
                  <a:pt x="577799" y="289788"/>
                </a:cubicBezTo>
                <a:cubicBezTo>
                  <a:pt x="577799" y="209689"/>
                  <a:pt x="549529" y="141350"/>
                  <a:pt x="492988" y="84810"/>
                </a:cubicBezTo>
                <a:cubicBezTo>
                  <a:pt x="436448" y="28269"/>
                  <a:pt x="368109" y="0"/>
                  <a:pt x="288023" y="0"/>
                </a:cubicBezTo>
                <a:cubicBezTo>
                  <a:pt x="207898" y="0"/>
                  <a:pt x="139865" y="28269"/>
                  <a:pt x="83934" y="84810"/>
                </a:cubicBezTo>
              </a:path>
            </a:pathLst>
          </a:custGeom>
          <a:solidFill>
            <a:srgbClr val="6a943c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3" name="Freeform 3"/>
          <p:cNvSpPr/>
          <p:nvPr/>
        </p:nvSpPr>
        <p:spPr>
          <a:xfrm>
            <a:off x="4889160" y="6231960"/>
            <a:ext cx="241200" cy="241200"/>
          </a:xfrm>
          <a:custGeom>
            <a:avLst/>
            <a:gdLst>
              <a:gd name="textAreaLeft" fmla="*/ 0 w 241200"/>
              <a:gd name="textAreaRight" fmla="*/ 241560 w 2412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241401" h="241401">
                <a:moveTo>
                  <a:pt x="120700" y="241401"/>
                </a:moveTo>
                <a:cubicBezTo>
                  <a:pt x="187363" y="241401"/>
                  <a:pt x="241401" y="187363"/>
                  <a:pt x="241401" y="120700"/>
                </a:cubicBezTo>
                <a:cubicBezTo>
                  <a:pt x="241401" y="54038"/>
                  <a:pt x="187363" y="0"/>
                  <a:pt x="120700" y="0"/>
                </a:cubicBezTo>
                <a:cubicBezTo>
                  <a:pt x="54038" y="0"/>
                  <a:pt x="0" y="54038"/>
                  <a:pt x="0" y="120700"/>
                </a:cubicBezTo>
                <a:cubicBezTo>
                  <a:pt x="0" y="187363"/>
                  <a:pt x="54038" y="241401"/>
                  <a:pt x="120700" y="241401"/>
                </a:cubicBezTo>
              </a:path>
            </a:pathLst>
          </a:custGeom>
          <a:solidFill>
            <a:srgbClr val="459ddc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4" name="Freeform 3"/>
          <p:cNvSpPr/>
          <p:nvPr/>
        </p:nvSpPr>
        <p:spPr>
          <a:xfrm>
            <a:off x="4942800" y="6298200"/>
            <a:ext cx="133560" cy="108360"/>
          </a:xfrm>
          <a:custGeom>
            <a:avLst/>
            <a:gdLst>
              <a:gd name="textAreaLeft" fmla="*/ 0 w 133560"/>
              <a:gd name="textAreaRight" fmla="*/ 133920 w 133560"/>
              <a:gd name="textAreaTop" fmla="*/ 0 h 108360"/>
              <a:gd name="textAreaBottom" fmla="*/ 108720 h 108360"/>
            </a:gdLst>
            <a:ahLst/>
            <a:rect l="textAreaLeft" t="textAreaTop" r="textAreaRight" b="textAreaBottom"/>
            <a:pathLst>
              <a:path w="133794" h="108737">
                <a:moveTo>
                  <a:pt x="120103" y="27089"/>
                </a:moveTo>
                <a:cubicBezTo>
                  <a:pt x="120167" y="28270"/>
                  <a:pt x="120180" y="29438"/>
                  <a:pt x="120180" y="30632"/>
                </a:cubicBezTo>
                <a:cubicBezTo>
                  <a:pt x="120180" y="66903"/>
                  <a:pt x="92570" y="108737"/>
                  <a:pt x="42075" y="108737"/>
                </a:cubicBezTo>
                <a:cubicBezTo>
                  <a:pt x="26568" y="108737"/>
                  <a:pt x="12141" y="104203"/>
                  <a:pt x="0" y="96405"/>
                </a:cubicBezTo>
                <a:cubicBezTo>
                  <a:pt x="2146" y="96659"/>
                  <a:pt x="4330" y="96786"/>
                  <a:pt x="6540" y="96786"/>
                </a:cubicBezTo>
                <a:cubicBezTo>
                  <a:pt x="19418" y="96786"/>
                  <a:pt x="31242" y="92405"/>
                  <a:pt x="40627" y="85039"/>
                </a:cubicBezTo>
                <a:cubicBezTo>
                  <a:pt x="28625" y="84810"/>
                  <a:pt x="18478" y="76873"/>
                  <a:pt x="14998" y="65976"/>
                </a:cubicBezTo>
                <a:cubicBezTo>
                  <a:pt x="16675" y="66294"/>
                  <a:pt x="18389" y="66471"/>
                  <a:pt x="20154" y="66471"/>
                </a:cubicBezTo>
                <a:cubicBezTo>
                  <a:pt x="22669" y="66471"/>
                  <a:pt x="25095" y="66128"/>
                  <a:pt x="27381" y="65506"/>
                </a:cubicBezTo>
                <a:cubicBezTo>
                  <a:pt x="14846" y="62966"/>
                  <a:pt x="5372" y="51879"/>
                  <a:pt x="5372" y="38582"/>
                </a:cubicBezTo>
                <a:lnTo>
                  <a:pt x="5372" y="38239"/>
                </a:lnTo>
                <a:cubicBezTo>
                  <a:pt x="9080" y="40297"/>
                  <a:pt x="13309" y="41528"/>
                  <a:pt x="17805" y="41668"/>
                </a:cubicBezTo>
                <a:cubicBezTo>
                  <a:pt x="10439" y="36753"/>
                  <a:pt x="5600" y="28346"/>
                  <a:pt x="5600" y="18821"/>
                </a:cubicBezTo>
                <a:cubicBezTo>
                  <a:pt x="5600" y="13792"/>
                  <a:pt x="6946" y="9067"/>
                  <a:pt x="9309" y="5016"/>
                </a:cubicBezTo>
                <a:cubicBezTo>
                  <a:pt x="22847" y="21628"/>
                  <a:pt x="43078" y="32562"/>
                  <a:pt x="65887" y="33705"/>
                </a:cubicBezTo>
                <a:cubicBezTo>
                  <a:pt x="65430" y="31699"/>
                  <a:pt x="65176" y="29603"/>
                  <a:pt x="65176" y="27444"/>
                </a:cubicBezTo>
                <a:cubicBezTo>
                  <a:pt x="65176" y="12293"/>
                  <a:pt x="77470" y="0"/>
                  <a:pt x="92633" y="0"/>
                </a:cubicBezTo>
                <a:cubicBezTo>
                  <a:pt x="100533" y="0"/>
                  <a:pt x="107670" y="3340"/>
                  <a:pt x="112674" y="8661"/>
                </a:cubicBezTo>
                <a:cubicBezTo>
                  <a:pt x="118922" y="7442"/>
                  <a:pt x="124803" y="5156"/>
                  <a:pt x="130111" y="1994"/>
                </a:cubicBezTo>
                <a:cubicBezTo>
                  <a:pt x="128054" y="8420"/>
                  <a:pt x="123710" y="13792"/>
                  <a:pt x="118033" y="17183"/>
                </a:cubicBezTo>
                <a:cubicBezTo>
                  <a:pt x="123596" y="16535"/>
                  <a:pt x="128879" y="15049"/>
                  <a:pt x="133794" y="12877"/>
                </a:cubicBezTo>
                <a:cubicBezTo>
                  <a:pt x="130124" y="18376"/>
                  <a:pt x="125463" y="23215"/>
                  <a:pt x="120103" y="27089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533520" y="406440"/>
            <a:ext cx="914040" cy="10663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2280" y="6489720"/>
            <a:ext cx="88560" cy="504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9800" y="6527880"/>
            <a:ext cx="317160" cy="1141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" descr=""/>
          <p:cNvPicPr/>
          <p:nvPr/>
        </p:nvPicPr>
        <p:blipFill>
          <a:blip r:embed="rId6"/>
          <a:stretch/>
        </p:blipFill>
        <p:spPr>
          <a:xfrm>
            <a:off x="1930320" y="1955880"/>
            <a:ext cx="1333080" cy="4694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3" descr=""/>
          <p:cNvPicPr/>
          <p:nvPr/>
        </p:nvPicPr>
        <p:blipFill>
          <a:blip r:embed="rId7"/>
          <a:stretch/>
        </p:blipFill>
        <p:spPr>
          <a:xfrm>
            <a:off x="3403440" y="2057400"/>
            <a:ext cx="3695400" cy="4312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" descr=""/>
          <p:cNvPicPr/>
          <p:nvPr/>
        </p:nvPicPr>
        <p:blipFill>
          <a:blip r:embed="rId8"/>
          <a:stretch/>
        </p:blipFill>
        <p:spPr>
          <a:xfrm>
            <a:off x="1930320" y="2577960"/>
            <a:ext cx="3619080" cy="3679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"/>
          <p:cNvPicPr/>
          <p:nvPr/>
        </p:nvPicPr>
        <p:blipFill>
          <a:blip r:embed="rId9"/>
          <a:stretch/>
        </p:blipFill>
        <p:spPr>
          <a:xfrm>
            <a:off x="1930320" y="3060720"/>
            <a:ext cx="4190760" cy="5713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"/>
          <p:cNvPicPr/>
          <p:nvPr/>
        </p:nvPicPr>
        <p:blipFill>
          <a:blip r:embed="rId10"/>
          <a:stretch/>
        </p:blipFill>
        <p:spPr>
          <a:xfrm>
            <a:off x="2108160" y="3835440"/>
            <a:ext cx="3936600" cy="1648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3" descr=""/>
          <p:cNvPicPr/>
          <p:nvPr/>
        </p:nvPicPr>
        <p:blipFill>
          <a:blip r:embed="rId11"/>
          <a:stretch/>
        </p:blipFill>
        <p:spPr>
          <a:xfrm>
            <a:off x="2108160" y="4038480"/>
            <a:ext cx="3644640" cy="1648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12"/>
          <a:stretch/>
        </p:blipFill>
        <p:spPr>
          <a:xfrm>
            <a:off x="2120760" y="4241880"/>
            <a:ext cx="3835080" cy="1648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"/>
          <p:cNvPicPr/>
          <p:nvPr/>
        </p:nvPicPr>
        <p:blipFill>
          <a:blip r:embed="rId13"/>
          <a:stretch/>
        </p:blipFill>
        <p:spPr>
          <a:xfrm>
            <a:off x="2120760" y="4444920"/>
            <a:ext cx="4051080" cy="1648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" descr=""/>
          <p:cNvPicPr/>
          <p:nvPr/>
        </p:nvPicPr>
        <p:blipFill>
          <a:blip r:embed="rId14"/>
          <a:stretch/>
        </p:blipFill>
        <p:spPr>
          <a:xfrm>
            <a:off x="2120760" y="4648320"/>
            <a:ext cx="2781000" cy="1648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"/>
          <p:cNvPicPr/>
          <p:nvPr/>
        </p:nvPicPr>
        <p:blipFill>
          <a:blip r:embed="rId15"/>
          <a:stretch/>
        </p:blipFill>
        <p:spPr>
          <a:xfrm>
            <a:off x="2120760" y="5054760"/>
            <a:ext cx="4127040" cy="1648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" descr=""/>
          <p:cNvPicPr/>
          <p:nvPr/>
        </p:nvPicPr>
        <p:blipFill>
          <a:blip r:embed="rId16"/>
          <a:stretch/>
        </p:blipFill>
        <p:spPr>
          <a:xfrm>
            <a:off x="2108160" y="5257800"/>
            <a:ext cx="3936600" cy="1648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"/>
          <p:cNvPicPr/>
          <p:nvPr/>
        </p:nvPicPr>
        <p:blipFill>
          <a:blip r:embed="rId17"/>
          <a:stretch/>
        </p:blipFill>
        <p:spPr>
          <a:xfrm>
            <a:off x="2120760" y="5499000"/>
            <a:ext cx="583920" cy="1267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3" descr=""/>
          <p:cNvPicPr/>
          <p:nvPr/>
        </p:nvPicPr>
        <p:blipFill>
          <a:blip r:embed="rId18"/>
          <a:stretch/>
        </p:blipFill>
        <p:spPr>
          <a:xfrm>
            <a:off x="2730600" y="5460840"/>
            <a:ext cx="2539800" cy="1648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4749840" y="6502320"/>
            <a:ext cx="507600" cy="101160"/>
          </a:xfrm>
          <a:prstGeom prst="rect">
            <a:avLst/>
          </a:prstGeom>
          <a:ln w="0">
            <a:noFill/>
          </a:ln>
        </p:spPr>
      </p:pic>
      <p:sp>
        <p:nvSpPr>
          <p:cNvPr id="272" name="矩形 37">
            <a:hlinkClick r:id="rId21"/>
          </p:cNvPr>
          <p:cNvSpPr/>
          <p:nvPr/>
        </p:nvSpPr>
        <p:spPr>
          <a:xfrm>
            <a:off x="526680" y="0"/>
            <a:ext cx="828072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59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Freeform 3"/>
          <p:cNvSpPr/>
          <p:nvPr/>
        </p:nvSpPr>
        <p:spPr>
          <a:xfrm>
            <a:off x="216000" y="6539040"/>
            <a:ext cx="88200" cy="88920"/>
          </a:xfrm>
          <a:custGeom>
            <a:avLst/>
            <a:gdLst>
              <a:gd name="textAreaLeft" fmla="*/ 0 w 88200"/>
              <a:gd name="textAreaRight" fmla="*/ 88560 w 8820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88595" h="89458">
                <a:moveTo>
                  <a:pt x="0" y="89458"/>
                </a:moveTo>
                <a:lnTo>
                  <a:pt x="43395" y="0"/>
                </a:lnTo>
                <a:lnTo>
                  <a:pt x="88595" y="89458"/>
                </a:lnTo>
                <a:lnTo>
                  <a:pt x="71056" y="89458"/>
                </a:lnTo>
                <a:lnTo>
                  <a:pt x="44297" y="30874"/>
                </a:lnTo>
                <a:lnTo>
                  <a:pt x="17386" y="89458"/>
                </a:lnTo>
                <a:lnTo>
                  <a:pt x="0" y="89458"/>
                </a:lnTo>
              </a:path>
            </a:pathLst>
          </a:custGeom>
          <a:solidFill>
            <a:srgbClr val="80808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4280" bIns="44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4" name="Freeform 3"/>
          <p:cNvSpPr/>
          <p:nvPr/>
        </p:nvSpPr>
        <p:spPr>
          <a:xfrm>
            <a:off x="237600" y="6595200"/>
            <a:ext cx="47520" cy="10800"/>
          </a:xfrm>
          <a:custGeom>
            <a:avLst/>
            <a:gdLst>
              <a:gd name="textAreaLeft" fmla="*/ 0 w 47520"/>
              <a:gd name="textAreaRight" fmla="*/ 47880 w 4752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47980" h="11138">
                <a:moveTo>
                  <a:pt x="0" y="5568"/>
                </a:moveTo>
                <a:lnTo>
                  <a:pt x="47980" y="5568"/>
                </a:lnTo>
              </a:path>
            </a:pathLst>
          </a:custGeom>
          <a:noFill/>
          <a:ln w="0">
            <a:solidFill>
              <a:srgbClr val="808080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3840" bIns="-33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Freeform 3"/>
          <p:cNvSpPr/>
          <p:nvPr/>
        </p:nvSpPr>
        <p:spPr>
          <a:xfrm>
            <a:off x="164520" y="6539040"/>
            <a:ext cx="61920" cy="88920"/>
          </a:xfrm>
          <a:custGeom>
            <a:avLst/>
            <a:gdLst>
              <a:gd name="textAreaLeft" fmla="*/ 0 w 61920"/>
              <a:gd name="textAreaRight" fmla="*/ 62280 w 6192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62141" h="89434">
                <a:moveTo>
                  <a:pt x="0" y="0"/>
                </a:moveTo>
                <a:lnTo>
                  <a:pt x="0" y="16357"/>
                </a:lnTo>
                <a:lnTo>
                  <a:pt x="22263" y="16357"/>
                </a:lnTo>
                <a:lnTo>
                  <a:pt x="22263" y="89433"/>
                </a:lnTo>
                <a:lnTo>
                  <a:pt x="39700" y="89433"/>
                </a:lnTo>
                <a:lnTo>
                  <a:pt x="39700" y="16878"/>
                </a:lnTo>
                <a:lnTo>
                  <a:pt x="62141" y="16878"/>
                </a:lnTo>
                <a:lnTo>
                  <a:pt x="62141" y="0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4280" bIns="44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6" name="Freeform 3"/>
          <p:cNvSpPr/>
          <p:nvPr/>
        </p:nvSpPr>
        <p:spPr>
          <a:xfrm>
            <a:off x="307080" y="6538320"/>
            <a:ext cx="56520" cy="90720"/>
          </a:xfrm>
          <a:custGeom>
            <a:avLst/>
            <a:gdLst>
              <a:gd name="textAreaLeft" fmla="*/ 0 w 56520"/>
              <a:gd name="textAreaRight" fmla="*/ 56880 w 56520"/>
              <a:gd name="textAreaTop" fmla="*/ 0 h 90720"/>
              <a:gd name="textAreaBottom" fmla="*/ 91080 h 90720"/>
            </a:gdLst>
            <a:ahLst/>
            <a:rect l="textAreaLeft" t="textAreaTop" r="textAreaRight" b="textAreaBottom"/>
            <a:pathLst>
              <a:path w="56959" h="90995">
                <a:moveTo>
                  <a:pt x="30873" y="36258"/>
                </a:moveTo>
                <a:cubicBezTo>
                  <a:pt x="45440" y="40919"/>
                  <a:pt x="58064" y="46456"/>
                  <a:pt x="56959" y="66459"/>
                </a:cubicBezTo>
                <a:cubicBezTo>
                  <a:pt x="56095" y="82219"/>
                  <a:pt x="42722" y="92316"/>
                  <a:pt x="24117" y="90995"/>
                </a:cubicBezTo>
                <a:cubicBezTo>
                  <a:pt x="12750" y="90182"/>
                  <a:pt x="6324" y="84429"/>
                  <a:pt x="0" y="77723"/>
                </a:cubicBezTo>
                <a:cubicBezTo>
                  <a:pt x="3581" y="73367"/>
                  <a:pt x="7556" y="69367"/>
                  <a:pt x="11722" y="65582"/>
                </a:cubicBezTo>
                <a:cubicBezTo>
                  <a:pt x="14960" y="70345"/>
                  <a:pt x="20891" y="75615"/>
                  <a:pt x="29133" y="74917"/>
                </a:cubicBezTo>
                <a:cubicBezTo>
                  <a:pt x="34925" y="74434"/>
                  <a:pt x="41821" y="68795"/>
                  <a:pt x="38696" y="61239"/>
                </a:cubicBezTo>
                <a:cubicBezTo>
                  <a:pt x="36360" y="55588"/>
                  <a:pt x="27304" y="53327"/>
                  <a:pt x="21081" y="51041"/>
                </a:cubicBezTo>
                <a:cubicBezTo>
                  <a:pt x="9855" y="46863"/>
                  <a:pt x="266" y="41097"/>
                  <a:pt x="1511" y="23659"/>
                </a:cubicBezTo>
                <a:cubicBezTo>
                  <a:pt x="2514" y="9690"/>
                  <a:pt x="13830" y="927"/>
                  <a:pt x="28486" y="0"/>
                </a:cubicBezTo>
                <a:cubicBezTo>
                  <a:pt x="41490" y="-837"/>
                  <a:pt x="49072" y="4953"/>
                  <a:pt x="55422" y="11709"/>
                </a:cubicBezTo>
                <a:cubicBezTo>
                  <a:pt x="52298" y="16141"/>
                  <a:pt x="48425" y="19773"/>
                  <a:pt x="45224" y="24092"/>
                </a:cubicBezTo>
                <a:cubicBezTo>
                  <a:pt x="41871" y="21425"/>
                  <a:pt x="37934" y="17043"/>
                  <a:pt x="31965" y="16281"/>
                </a:cubicBezTo>
                <a:cubicBezTo>
                  <a:pt x="23634" y="15227"/>
                  <a:pt x="17005" y="20269"/>
                  <a:pt x="19329" y="28879"/>
                </a:cubicBezTo>
                <a:cubicBezTo>
                  <a:pt x="20548" y="33363"/>
                  <a:pt x="26263" y="34785"/>
                  <a:pt x="30873" y="36258"/>
                </a:cubicBezTo>
              </a:path>
            </a:pathLst>
          </a:custGeom>
          <a:solidFill>
            <a:srgbClr val="80808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7" name="Freeform 3"/>
          <p:cNvSpPr/>
          <p:nvPr/>
        </p:nvSpPr>
        <p:spPr>
          <a:xfrm>
            <a:off x="393480" y="6538320"/>
            <a:ext cx="77400" cy="90720"/>
          </a:xfrm>
          <a:custGeom>
            <a:avLst/>
            <a:gdLst>
              <a:gd name="textAreaLeft" fmla="*/ 0 w 77400"/>
              <a:gd name="textAreaRight" fmla="*/ 77760 w 77400"/>
              <a:gd name="textAreaTop" fmla="*/ 0 h 90720"/>
              <a:gd name="textAreaBottom" fmla="*/ 91080 h 90720"/>
            </a:gdLst>
            <a:ahLst/>
            <a:rect l="textAreaLeft" t="textAreaTop" r="textAreaRight" b="textAreaBottom"/>
            <a:pathLst>
              <a:path w="77914" h="90992">
                <a:moveTo>
                  <a:pt x="77914" y="60350"/>
                </a:moveTo>
                <a:lnTo>
                  <a:pt x="77914" y="78244"/>
                </a:lnTo>
                <a:cubicBezTo>
                  <a:pt x="76987" y="81395"/>
                  <a:pt x="68516" y="85445"/>
                  <a:pt x="65443" y="86792"/>
                </a:cubicBezTo>
                <a:cubicBezTo>
                  <a:pt x="31889" y="101600"/>
                  <a:pt x="-3302" y="77470"/>
                  <a:pt x="0" y="39687"/>
                </a:cubicBezTo>
                <a:cubicBezTo>
                  <a:pt x="1879" y="18098"/>
                  <a:pt x="19786" y="1778"/>
                  <a:pt x="41313" y="0"/>
                </a:cubicBezTo>
                <a:cubicBezTo>
                  <a:pt x="57391" y="-1282"/>
                  <a:pt x="66484" y="4229"/>
                  <a:pt x="75945" y="10909"/>
                </a:cubicBezTo>
                <a:lnTo>
                  <a:pt x="71272" y="17526"/>
                </a:lnTo>
                <a:cubicBezTo>
                  <a:pt x="63906" y="13475"/>
                  <a:pt x="57835" y="8141"/>
                  <a:pt x="47536" y="7797"/>
                </a:cubicBezTo>
                <a:cubicBezTo>
                  <a:pt x="23291" y="7036"/>
                  <a:pt x="7429" y="26734"/>
                  <a:pt x="8978" y="47879"/>
                </a:cubicBezTo>
                <a:cubicBezTo>
                  <a:pt x="9867" y="60579"/>
                  <a:pt x="17170" y="71958"/>
                  <a:pt x="26898" y="77851"/>
                </a:cubicBezTo>
                <a:cubicBezTo>
                  <a:pt x="37871" y="84544"/>
                  <a:pt x="59829" y="84976"/>
                  <a:pt x="69341" y="74345"/>
                </a:cubicBezTo>
                <a:lnTo>
                  <a:pt x="69341" y="49822"/>
                </a:lnTo>
                <a:lnTo>
                  <a:pt x="40881" y="49822"/>
                </a:lnTo>
                <a:lnTo>
                  <a:pt x="43256" y="41656"/>
                </a:lnTo>
                <a:lnTo>
                  <a:pt x="77914" y="41656"/>
                </a:lnTo>
                <a:lnTo>
                  <a:pt x="77914" y="60350"/>
                </a:lnTo>
              </a:path>
            </a:pathLst>
          </a:custGeom>
          <a:solidFill>
            <a:srgbClr val="80808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8" name="Freeform 3"/>
          <p:cNvSpPr/>
          <p:nvPr/>
        </p:nvSpPr>
        <p:spPr>
          <a:xfrm>
            <a:off x="779040" y="6539040"/>
            <a:ext cx="6840" cy="11160"/>
          </a:xfrm>
          <a:custGeom>
            <a:avLst/>
            <a:gdLst>
              <a:gd name="textAreaLeft" fmla="*/ 0 w 6840"/>
              <a:gd name="textAreaRight" fmla="*/ 7200 w 68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7124" h="11696">
                <a:moveTo>
                  <a:pt x="4444" y="1663"/>
                </a:moveTo>
                <a:lnTo>
                  <a:pt x="4444" y="11696"/>
                </a:lnTo>
                <a:lnTo>
                  <a:pt x="2679" y="11696"/>
                </a:lnTo>
                <a:lnTo>
                  <a:pt x="2679" y="1663"/>
                </a:lnTo>
                <a:lnTo>
                  <a:pt x="0" y="1663"/>
                </a:lnTo>
                <a:lnTo>
                  <a:pt x="0" y="0"/>
                </a:lnTo>
                <a:lnTo>
                  <a:pt x="7124" y="0"/>
                </a:lnTo>
                <a:lnTo>
                  <a:pt x="7124" y="1663"/>
                </a:lnTo>
                <a:lnTo>
                  <a:pt x="4444" y="1663"/>
                </a:lnTo>
              </a:path>
            </a:pathLst>
          </a:custGeom>
          <a:solidFill>
            <a:srgbClr val="80808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3480" bIns="-33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9" name="Freeform 3"/>
          <p:cNvSpPr/>
          <p:nvPr/>
        </p:nvSpPr>
        <p:spPr>
          <a:xfrm>
            <a:off x="787320" y="6538320"/>
            <a:ext cx="12600" cy="12600"/>
          </a:xfrm>
          <a:custGeom>
            <a:avLst/>
            <a:gdLst>
              <a:gd name="textAreaLeft" fmla="*/ 0 w 12600"/>
              <a:gd name="textAreaRight" fmla="*/ 12960 w 1260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12839" h="13106">
                <a:moveTo>
                  <a:pt x="0" y="12572"/>
                </a:moveTo>
                <a:lnTo>
                  <a:pt x="2463" y="0"/>
                </a:lnTo>
                <a:lnTo>
                  <a:pt x="6477" y="9093"/>
                </a:lnTo>
                <a:lnTo>
                  <a:pt x="10629" y="0"/>
                </a:lnTo>
                <a:lnTo>
                  <a:pt x="12839" y="12572"/>
                </a:lnTo>
                <a:lnTo>
                  <a:pt x="11023" y="12572"/>
                </a:lnTo>
                <a:lnTo>
                  <a:pt x="9906" y="5512"/>
                </a:lnTo>
                <a:lnTo>
                  <a:pt x="6438" y="13106"/>
                </a:lnTo>
                <a:lnTo>
                  <a:pt x="3086" y="5512"/>
                </a:lnTo>
                <a:lnTo>
                  <a:pt x="1828" y="12572"/>
                </a:lnTo>
                <a:lnTo>
                  <a:pt x="0" y="12572"/>
                </a:lnTo>
              </a:path>
            </a:pathLst>
          </a:custGeom>
          <a:solidFill>
            <a:srgbClr val="80808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2040" bIns="-320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0" name="Freeform 3"/>
          <p:cNvSpPr/>
          <p:nvPr/>
        </p:nvSpPr>
        <p:spPr>
          <a:xfrm>
            <a:off x="7284240" y="127080"/>
            <a:ext cx="1732320" cy="1732320"/>
          </a:xfrm>
          <a:custGeom>
            <a:avLst/>
            <a:gdLst>
              <a:gd name="textAreaLeft" fmla="*/ 0 w 1732320"/>
              <a:gd name="textAreaRight" fmla="*/ 1732680 w 1732320"/>
              <a:gd name="textAreaTop" fmla="*/ 0 h 1732320"/>
              <a:gd name="textAreaBottom" fmla="*/ 1732680 h 1732320"/>
            </a:gdLst>
            <a:ahLst/>
            <a:rect l="textAreaLeft" t="textAreaTop" r="textAreaRight" b="textAreaBottom"/>
            <a:pathLst>
              <a:path w="1732788" h="1732788">
                <a:moveTo>
                  <a:pt x="866394" y="1732788"/>
                </a:moveTo>
                <a:cubicBezTo>
                  <a:pt x="1344891" y="1732788"/>
                  <a:pt x="1732788" y="1344891"/>
                  <a:pt x="1732788" y="866394"/>
                </a:cubicBezTo>
                <a:cubicBezTo>
                  <a:pt x="1732788" y="387896"/>
                  <a:pt x="1344891" y="0"/>
                  <a:pt x="866394" y="0"/>
                </a:cubicBezTo>
                <a:cubicBezTo>
                  <a:pt x="387896" y="0"/>
                  <a:pt x="0" y="387896"/>
                  <a:pt x="0" y="866394"/>
                </a:cubicBezTo>
                <a:cubicBezTo>
                  <a:pt x="0" y="1344891"/>
                  <a:pt x="387896" y="1732788"/>
                  <a:pt x="866394" y="1732788"/>
                </a:cubicBezTo>
              </a:path>
            </a:pathLst>
          </a:custGeom>
          <a:solidFill>
            <a:srgbClr val="fccf38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1" name="Freeform 3"/>
          <p:cNvSpPr/>
          <p:nvPr/>
        </p:nvSpPr>
        <p:spPr>
          <a:xfrm>
            <a:off x="951120" y="191880"/>
            <a:ext cx="126720" cy="734760"/>
          </a:xfrm>
          <a:custGeom>
            <a:avLst/>
            <a:gdLst>
              <a:gd name="textAreaLeft" fmla="*/ 0 w 126720"/>
              <a:gd name="textAreaRight" fmla="*/ 127080 w 126720"/>
              <a:gd name="textAreaTop" fmla="*/ 0 h 734760"/>
              <a:gd name="textAreaBottom" fmla="*/ 735120 h 734760"/>
            </a:gdLst>
            <a:ahLst/>
            <a:rect l="textAreaLeft" t="textAreaTop" r="textAreaRight" b="textAreaBottom"/>
            <a:pathLst>
              <a:path w="127000" h="735228">
                <a:moveTo>
                  <a:pt x="31750" y="31750"/>
                </a:moveTo>
                <a:lnTo>
                  <a:pt x="31750" y="703478"/>
                </a:lnTo>
              </a:path>
            </a:pathLst>
          </a:custGeom>
          <a:noFill/>
          <a:ln w="63500">
            <a:solidFill>
              <a:srgbClr val="fccf38"/>
            </a:solidFill>
            <a:prstDash val="dash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Freeform 3"/>
          <p:cNvSpPr/>
          <p:nvPr/>
        </p:nvSpPr>
        <p:spPr>
          <a:xfrm>
            <a:off x="1143360" y="959760"/>
            <a:ext cx="5927040" cy="126720"/>
          </a:xfrm>
          <a:custGeom>
            <a:avLst/>
            <a:gdLst>
              <a:gd name="textAreaLeft" fmla="*/ 0 w 5927040"/>
              <a:gd name="textAreaRight" fmla="*/ 5927400 w 5927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5927255" h="127000">
                <a:moveTo>
                  <a:pt x="31750" y="31750"/>
                </a:moveTo>
                <a:lnTo>
                  <a:pt x="5895504" y="31750"/>
                </a:lnTo>
              </a:path>
            </a:pathLst>
          </a:custGeom>
          <a:noFill/>
          <a:ln w="63500">
            <a:solidFill>
              <a:srgbClr val="fccf38"/>
            </a:solidFill>
            <a:prstDash val="dash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Freeform 3"/>
          <p:cNvSpPr/>
          <p:nvPr/>
        </p:nvSpPr>
        <p:spPr>
          <a:xfrm>
            <a:off x="7778880" y="529920"/>
            <a:ext cx="752760" cy="1014840"/>
          </a:xfrm>
          <a:custGeom>
            <a:avLst/>
            <a:gdLst>
              <a:gd name="textAreaLeft" fmla="*/ 0 w 752760"/>
              <a:gd name="textAreaRight" fmla="*/ 753120 w 752760"/>
              <a:gd name="textAreaTop" fmla="*/ 0 h 1014840"/>
              <a:gd name="textAreaBottom" fmla="*/ 1015200 h 1014840"/>
            </a:gdLst>
            <a:ahLst/>
            <a:rect l="textAreaLeft" t="textAreaTop" r="textAreaRight" b="textAreaBottom"/>
            <a:pathLst>
              <a:path w="753046" h="1015187">
                <a:moveTo>
                  <a:pt x="373557" y="1015187"/>
                </a:moveTo>
                <a:cubicBezTo>
                  <a:pt x="292786" y="1015187"/>
                  <a:pt x="222466" y="1001966"/>
                  <a:pt x="162585" y="975499"/>
                </a:cubicBezTo>
                <a:cubicBezTo>
                  <a:pt x="102704" y="949045"/>
                  <a:pt x="48742" y="912139"/>
                  <a:pt x="0" y="865492"/>
                </a:cubicBezTo>
                <a:lnTo>
                  <a:pt x="132638" y="707085"/>
                </a:lnTo>
                <a:cubicBezTo>
                  <a:pt x="170586" y="741197"/>
                  <a:pt x="208533" y="768007"/>
                  <a:pt x="246836" y="787158"/>
                </a:cubicBezTo>
                <a:cubicBezTo>
                  <a:pt x="284784" y="805954"/>
                  <a:pt x="326211" y="815708"/>
                  <a:pt x="370776" y="815708"/>
                </a:cubicBezTo>
                <a:cubicBezTo>
                  <a:pt x="421957" y="815708"/>
                  <a:pt x="462686" y="803871"/>
                  <a:pt x="492632" y="780186"/>
                </a:cubicBezTo>
                <a:cubicBezTo>
                  <a:pt x="522566" y="756513"/>
                  <a:pt x="537540" y="722045"/>
                  <a:pt x="537540" y="677138"/>
                </a:cubicBezTo>
                <a:lnTo>
                  <a:pt x="537540" y="674357"/>
                </a:lnTo>
                <a:cubicBezTo>
                  <a:pt x="537540" y="631888"/>
                  <a:pt x="521169" y="598462"/>
                  <a:pt x="488454" y="574789"/>
                </a:cubicBezTo>
                <a:cubicBezTo>
                  <a:pt x="455726" y="551116"/>
                  <a:pt x="413245" y="538924"/>
                  <a:pt x="360680" y="538924"/>
                </a:cubicBezTo>
                <a:cubicBezTo>
                  <a:pt x="329348" y="538924"/>
                  <a:pt x="299758" y="542404"/>
                  <a:pt x="271551" y="549719"/>
                </a:cubicBezTo>
                <a:cubicBezTo>
                  <a:pt x="243700" y="556679"/>
                  <a:pt x="217944" y="565734"/>
                  <a:pt x="193916" y="576173"/>
                </a:cubicBezTo>
                <a:lnTo>
                  <a:pt x="67195" y="491921"/>
                </a:lnTo>
                <a:lnTo>
                  <a:pt x="95745" y="0"/>
                </a:lnTo>
                <a:lnTo>
                  <a:pt x="708824" y="0"/>
                </a:lnTo>
                <a:lnTo>
                  <a:pt x="708824" y="192519"/>
                </a:lnTo>
                <a:lnTo>
                  <a:pt x="283743" y="192519"/>
                </a:lnTo>
                <a:lnTo>
                  <a:pt x="272250" y="364858"/>
                </a:lnTo>
                <a:cubicBezTo>
                  <a:pt x="292100" y="360324"/>
                  <a:pt x="311937" y="356501"/>
                  <a:pt x="332130" y="353021"/>
                </a:cubicBezTo>
                <a:cubicBezTo>
                  <a:pt x="352323" y="349529"/>
                  <a:pt x="375996" y="347789"/>
                  <a:pt x="403504" y="347789"/>
                </a:cubicBezTo>
                <a:cubicBezTo>
                  <a:pt x="451891" y="347789"/>
                  <a:pt x="497154" y="354063"/>
                  <a:pt x="539622" y="366598"/>
                </a:cubicBezTo>
                <a:cubicBezTo>
                  <a:pt x="582104" y="378777"/>
                  <a:pt x="619011" y="397929"/>
                  <a:pt x="651027" y="423684"/>
                </a:cubicBezTo>
                <a:cubicBezTo>
                  <a:pt x="682714" y="449110"/>
                  <a:pt x="707783" y="482180"/>
                  <a:pt x="725881" y="522566"/>
                </a:cubicBezTo>
                <a:cubicBezTo>
                  <a:pt x="743991" y="562952"/>
                  <a:pt x="753046" y="610997"/>
                  <a:pt x="753046" y="667397"/>
                </a:cubicBezTo>
                <a:lnTo>
                  <a:pt x="753046" y="670178"/>
                </a:lnTo>
                <a:cubicBezTo>
                  <a:pt x="753046" y="723099"/>
                  <a:pt x="743991" y="771144"/>
                  <a:pt x="725881" y="813612"/>
                </a:cubicBezTo>
                <a:cubicBezTo>
                  <a:pt x="707783" y="855738"/>
                  <a:pt x="682370" y="891946"/>
                  <a:pt x="649643" y="921892"/>
                </a:cubicBezTo>
                <a:cubicBezTo>
                  <a:pt x="616915" y="951826"/>
                  <a:pt x="577227" y="974801"/>
                  <a:pt x="529882" y="991171"/>
                </a:cubicBezTo>
                <a:cubicBezTo>
                  <a:pt x="482879" y="1007186"/>
                  <a:pt x="430656" y="1015187"/>
                  <a:pt x="373557" y="1015187"/>
                </a:cubicBezTo>
              </a:path>
            </a:pathLst>
          </a:custGeom>
          <a:solidFill>
            <a:srgbClr val="dca83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4" name="Freeform 3"/>
          <p:cNvSpPr/>
          <p:nvPr/>
        </p:nvSpPr>
        <p:spPr>
          <a:xfrm>
            <a:off x="7746840" y="496080"/>
            <a:ext cx="752760" cy="1014840"/>
          </a:xfrm>
          <a:custGeom>
            <a:avLst/>
            <a:gdLst>
              <a:gd name="textAreaLeft" fmla="*/ 0 w 752760"/>
              <a:gd name="textAreaRight" fmla="*/ 753120 w 752760"/>
              <a:gd name="textAreaTop" fmla="*/ 0 h 1014840"/>
              <a:gd name="textAreaBottom" fmla="*/ 1015200 h 1014840"/>
            </a:gdLst>
            <a:ahLst/>
            <a:rect l="textAreaLeft" t="textAreaTop" r="textAreaRight" b="textAreaBottom"/>
            <a:pathLst>
              <a:path w="753047" h="1015199">
                <a:moveTo>
                  <a:pt x="373570" y="1015199"/>
                </a:moveTo>
                <a:cubicBezTo>
                  <a:pt x="292798" y="1015199"/>
                  <a:pt x="222466" y="1001966"/>
                  <a:pt x="162585" y="975512"/>
                </a:cubicBezTo>
                <a:cubicBezTo>
                  <a:pt x="102705" y="949058"/>
                  <a:pt x="48742" y="912152"/>
                  <a:pt x="0" y="865492"/>
                </a:cubicBezTo>
                <a:lnTo>
                  <a:pt x="132651" y="707085"/>
                </a:lnTo>
                <a:cubicBezTo>
                  <a:pt x="170599" y="741210"/>
                  <a:pt x="208546" y="768019"/>
                  <a:pt x="246837" y="787158"/>
                </a:cubicBezTo>
                <a:cubicBezTo>
                  <a:pt x="284784" y="805967"/>
                  <a:pt x="326212" y="815708"/>
                  <a:pt x="370776" y="815708"/>
                </a:cubicBezTo>
                <a:cubicBezTo>
                  <a:pt x="421957" y="815708"/>
                  <a:pt x="462686" y="803871"/>
                  <a:pt x="492633" y="780199"/>
                </a:cubicBezTo>
                <a:cubicBezTo>
                  <a:pt x="522567" y="756526"/>
                  <a:pt x="537540" y="722058"/>
                  <a:pt x="537540" y="677151"/>
                </a:cubicBezTo>
                <a:lnTo>
                  <a:pt x="537540" y="674369"/>
                </a:lnTo>
                <a:cubicBezTo>
                  <a:pt x="537540" y="631888"/>
                  <a:pt x="521182" y="598474"/>
                  <a:pt x="488454" y="574789"/>
                </a:cubicBezTo>
                <a:cubicBezTo>
                  <a:pt x="455727" y="551116"/>
                  <a:pt x="413258" y="538937"/>
                  <a:pt x="360680" y="538937"/>
                </a:cubicBezTo>
                <a:cubicBezTo>
                  <a:pt x="329349" y="538937"/>
                  <a:pt x="299758" y="542416"/>
                  <a:pt x="271551" y="549732"/>
                </a:cubicBezTo>
                <a:cubicBezTo>
                  <a:pt x="243700" y="556691"/>
                  <a:pt x="217944" y="565746"/>
                  <a:pt x="193916" y="576186"/>
                </a:cubicBezTo>
                <a:lnTo>
                  <a:pt x="67195" y="491934"/>
                </a:lnTo>
                <a:lnTo>
                  <a:pt x="95745" y="0"/>
                </a:lnTo>
                <a:lnTo>
                  <a:pt x="708824" y="0"/>
                </a:lnTo>
                <a:lnTo>
                  <a:pt x="708824" y="192532"/>
                </a:lnTo>
                <a:lnTo>
                  <a:pt x="283743" y="192532"/>
                </a:lnTo>
                <a:lnTo>
                  <a:pt x="272250" y="364858"/>
                </a:lnTo>
                <a:cubicBezTo>
                  <a:pt x="292100" y="360337"/>
                  <a:pt x="311937" y="356501"/>
                  <a:pt x="332130" y="353021"/>
                </a:cubicBezTo>
                <a:cubicBezTo>
                  <a:pt x="352323" y="349542"/>
                  <a:pt x="375996" y="347802"/>
                  <a:pt x="403504" y="347802"/>
                </a:cubicBezTo>
                <a:cubicBezTo>
                  <a:pt x="451891" y="347802"/>
                  <a:pt x="497154" y="354076"/>
                  <a:pt x="539636" y="366598"/>
                </a:cubicBezTo>
                <a:cubicBezTo>
                  <a:pt x="582104" y="378790"/>
                  <a:pt x="619011" y="397941"/>
                  <a:pt x="651040" y="423697"/>
                </a:cubicBezTo>
                <a:cubicBezTo>
                  <a:pt x="682714" y="449110"/>
                  <a:pt x="707783" y="482193"/>
                  <a:pt x="725894" y="522566"/>
                </a:cubicBezTo>
                <a:cubicBezTo>
                  <a:pt x="743991" y="562952"/>
                  <a:pt x="753047" y="610997"/>
                  <a:pt x="753047" y="667397"/>
                </a:cubicBezTo>
                <a:lnTo>
                  <a:pt x="753047" y="670191"/>
                </a:lnTo>
                <a:cubicBezTo>
                  <a:pt x="753047" y="723099"/>
                  <a:pt x="743991" y="771144"/>
                  <a:pt x="725894" y="813625"/>
                </a:cubicBezTo>
                <a:cubicBezTo>
                  <a:pt x="707783" y="855751"/>
                  <a:pt x="682371" y="891959"/>
                  <a:pt x="649643" y="921893"/>
                </a:cubicBezTo>
                <a:cubicBezTo>
                  <a:pt x="616915" y="951839"/>
                  <a:pt x="577227" y="974813"/>
                  <a:pt x="529882" y="991184"/>
                </a:cubicBezTo>
                <a:cubicBezTo>
                  <a:pt x="482879" y="1007198"/>
                  <a:pt x="430657" y="1015199"/>
                  <a:pt x="373570" y="1015199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5" name="Freeform 3"/>
          <p:cNvSpPr/>
          <p:nvPr/>
        </p:nvSpPr>
        <p:spPr>
          <a:xfrm>
            <a:off x="8118720" y="2141280"/>
            <a:ext cx="126720" cy="4654440"/>
          </a:xfrm>
          <a:custGeom>
            <a:avLst/>
            <a:gdLst>
              <a:gd name="textAreaLeft" fmla="*/ 0 w 126720"/>
              <a:gd name="textAreaRight" fmla="*/ 127080 w 126720"/>
              <a:gd name="textAreaTop" fmla="*/ 0 h 4654440"/>
              <a:gd name="textAreaBottom" fmla="*/ 4654800 h 4654440"/>
            </a:gdLst>
            <a:ahLst/>
            <a:rect l="textAreaLeft" t="textAreaTop" r="textAreaRight" b="textAreaBottom"/>
            <a:pathLst>
              <a:path w="127000" h="4654638">
                <a:moveTo>
                  <a:pt x="31750" y="31750"/>
                </a:moveTo>
                <a:lnTo>
                  <a:pt x="31750" y="4622888"/>
                </a:lnTo>
              </a:path>
            </a:pathLst>
          </a:custGeom>
          <a:noFill/>
          <a:ln w="63500">
            <a:solidFill>
              <a:srgbClr val="fccf38"/>
            </a:solidFill>
            <a:prstDash val="dash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Freeform 3"/>
          <p:cNvSpPr/>
          <p:nvPr/>
        </p:nvSpPr>
        <p:spPr>
          <a:xfrm>
            <a:off x="3595680" y="4330800"/>
            <a:ext cx="63720" cy="63720"/>
          </a:xfrm>
          <a:custGeom>
            <a:avLst/>
            <a:gdLst>
              <a:gd name="textAreaLeft" fmla="*/ 0 w 63720"/>
              <a:gd name="textAreaRight" fmla="*/ 64080 w 6372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64008" h="64007">
                <a:moveTo>
                  <a:pt x="32004" y="64008"/>
                </a:moveTo>
                <a:cubicBezTo>
                  <a:pt x="49682" y="64008"/>
                  <a:pt x="64008" y="49682"/>
                  <a:pt x="64008" y="32003"/>
                </a:cubicBezTo>
                <a:cubicBezTo>
                  <a:pt x="64008" y="14325"/>
                  <a:pt x="49682" y="0"/>
                  <a:pt x="32004" y="0"/>
                </a:cubicBezTo>
                <a:cubicBezTo>
                  <a:pt x="14325" y="0"/>
                  <a:pt x="0" y="14325"/>
                  <a:pt x="0" y="32003"/>
                </a:cubicBezTo>
                <a:cubicBezTo>
                  <a:pt x="0" y="49682"/>
                  <a:pt x="14325" y="64008"/>
                  <a:pt x="32004" y="64008"/>
                </a:cubicBezTo>
              </a:path>
            </a:pathLst>
          </a:custGeom>
          <a:solidFill>
            <a:srgbClr val="459ddc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7" name="Freeform 3"/>
          <p:cNvSpPr/>
          <p:nvPr/>
        </p:nvSpPr>
        <p:spPr>
          <a:xfrm>
            <a:off x="818280" y="3785400"/>
            <a:ext cx="2233080" cy="2233080"/>
          </a:xfrm>
          <a:custGeom>
            <a:avLst/>
            <a:gdLst>
              <a:gd name="textAreaLeft" fmla="*/ 0 w 2233080"/>
              <a:gd name="textAreaRight" fmla="*/ 2233440 w 2233080"/>
              <a:gd name="textAreaTop" fmla="*/ 0 h 2233080"/>
              <a:gd name="textAreaBottom" fmla="*/ 2233440 h 2233080"/>
            </a:gdLst>
            <a:ahLst/>
            <a:rect l="textAreaLeft" t="textAreaTop" r="textAreaRight" b="textAreaBottom"/>
            <a:pathLst>
              <a:path w="2233422" h="2233498">
                <a:moveTo>
                  <a:pt x="1116673" y="0"/>
                </a:moveTo>
                <a:cubicBezTo>
                  <a:pt x="1733486" y="0"/>
                  <a:pt x="2233422" y="499770"/>
                  <a:pt x="2233422" y="1116507"/>
                </a:cubicBezTo>
                <a:cubicBezTo>
                  <a:pt x="2233422" y="1733397"/>
                  <a:pt x="1733486" y="2233498"/>
                  <a:pt x="1116673" y="2233498"/>
                </a:cubicBezTo>
                <a:cubicBezTo>
                  <a:pt x="499948" y="2233498"/>
                  <a:pt x="0" y="1733397"/>
                  <a:pt x="0" y="1116507"/>
                </a:cubicBezTo>
                <a:cubicBezTo>
                  <a:pt x="0" y="499770"/>
                  <a:pt x="499948" y="0"/>
                  <a:pt x="1116673" y="0"/>
                </a:cubicBezTo>
              </a:path>
            </a:pathLst>
          </a:custGeom>
          <a:solidFill>
            <a:srgbClr val="99331e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8" name="Freeform 3"/>
          <p:cNvSpPr/>
          <p:nvPr/>
        </p:nvSpPr>
        <p:spPr>
          <a:xfrm>
            <a:off x="873360" y="3750840"/>
            <a:ext cx="2201760" cy="2201400"/>
          </a:xfrm>
          <a:custGeom>
            <a:avLst/>
            <a:gdLst>
              <a:gd name="textAreaLeft" fmla="*/ 0 w 2201760"/>
              <a:gd name="textAreaRight" fmla="*/ 2202120 w 2201760"/>
              <a:gd name="textAreaTop" fmla="*/ 0 h 2201400"/>
              <a:gd name="textAreaBottom" fmla="*/ 2201760 h 2201400"/>
            </a:gdLst>
            <a:ahLst/>
            <a:rect l="textAreaLeft" t="textAreaTop" r="textAreaRight" b="textAreaBottom"/>
            <a:pathLst>
              <a:path w="2202040" h="2201887">
                <a:moveTo>
                  <a:pt x="1101013" y="2201887"/>
                </a:moveTo>
                <a:cubicBezTo>
                  <a:pt x="1708086" y="2201887"/>
                  <a:pt x="2202040" y="1708086"/>
                  <a:pt x="2202040" y="1100937"/>
                </a:cubicBezTo>
                <a:cubicBezTo>
                  <a:pt x="2202040" y="493788"/>
                  <a:pt x="1708086" y="0"/>
                  <a:pt x="1101013" y="0"/>
                </a:cubicBezTo>
                <a:cubicBezTo>
                  <a:pt x="494169" y="0"/>
                  <a:pt x="0" y="493788"/>
                  <a:pt x="0" y="1100937"/>
                </a:cubicBezTo>
                <a:cubicBezTo>
                  <a:pt x="0" y="1708086"/>
                  <a:pt x="494169" y="2201887"/>
                  <a:pt x="1101013" y="2201887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9" name="Freeform 3"/>
          <p:cNvSpPr/>
          <p:nvPr/>
        </p:nvSpPr>
        <p:spPr>
          <a:xfrm>
            <a:off x="1742040" y="4619520"/>
            <a:ext cx="464400" cy="464400"/>
          </a:xfrm>
          <a:custGeom>
            <a:avLst/>
            <a:gdLst>
              <a:gd name="textAreaLeft" fmla="*/ 0 w 464400"/>
              <a:gd name="textAreaRight" fmla="*/ 464760 w 464400"/>
              <a:gd name="textAreaTop" fmla="*/ 0 h 464400"/>
              <a:gd name="textAreaBottom" fmla="*/ 464760 h 464400"/>
            </a:gdLst>
            <a:ahLst/>
            <a:rect l="textAreaLeft" t="textAreaTop" r="textAreaRight" b="textAreaBottom"/>
            <a:pathLst>
              <a:path w="464908" h="464769">
                <a:moveTo>
                  <a:pt x="232371" y="464769"/>
                </a:moveTo>
                <a:cubicBezTo>
                  <a:pt x="360540" y="464769"/>
                  <a:pt x="464908" y="360565"/>
                  <a:pt x="464908" y="232397"/>
                </a:cubicBezTo>
                <a:cubicBezTo>
                  <a:pt x="464908" y="104241"/>
                  <a:pt x="360540" y="0"/>
                  <a:pt x="232371" y="0"/>
                </a:cubicBezTo>
                <a:cubicBezTo>
                  <a:pt x="104063" y="0"/>
                  <a:pt x="0" y="104241"/>
                  <a:pt x="0" y="232397"/>
                </a:cubicBezTo>
                <a:cubicBezTo>
                  <a:pt x="0" y="360565"/>
                  <a:pt x="104063" y="464769"/>
                  <a:pt x="232371" y="464769"/>
                </a:cubicBezTo>
              </a:path>
            </a:pathLst>
          </a:custGeom>
          <a:solidFill>
            <a:srgbClr val="cb4d2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0" name="Freeform 3"/>
          <p:cNvSpPr/>
          <p:nvPr/>
        </p:nvSpPr>
        <p:spPr>
          <a:xfrm>
            <a:off x="812880" y="3411000"/>
            <a:ext cx="670680" cy="859680"/>
          </a:xfrm>
          <a:custGeom>
            <a:avLst/>
            <a:gdLst>
              <a:gd name="textAreaLeft" fmla="*/ 0 w 670680"/>
              <a:gd name="textAreaRight" fmla="*/ 671040 w 670680"/>
              <a:gd name="textAreaTop" fmla="*/ 0 h 859680"/>
              <a:gd name="textAreaBottom" fmla="*/ 860040 h 859680"/>
            </a:gdLst>
            <a:ahLst/>
            <a:rect l="textAreaLeft" t="textAreaTop" r="textAreaRight" b="textAreaBottom"/>
            <a:pathLst>
              <a:path w="670902" h="859891">
                <a:moveTo>
                  <a:pt x="538607" y="859891"/>
                </a:moveTo>
                <a:lnTo>
                  <a:pt x="670902" y="538607"/>
                </a:lnTo>
                <a:lnTo>
                  <a:pt x="132283" y="0"/>
                </a:lnTo>
                <a:lnTo>
                  <a:pt x="0" y="321284"/>
                </a:lnTo>
                <a:lnTo>
                  <a:pt x="538607" y="859891"/>
                </a:lnTo>
              </a:path>
            </a:pathLst>
          </a:custGeom>
          <a:solidFill>
            <a:srgbClr val="3e552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1" name="Freeform 3"/>
          <p:cNvSpPr/>
          <p:nvPr/>
        </p:nvSpPr>
        <p:spPr>
          <a:xfrm>
            <a:off x="434880" y="3789000"/>
            <a:ext cx="859680" cy="670680"/>
          </a:xfrm>
          <a:custGeom>
            <a:avLst/>
            <a:gdLst>
              <a:gd name="textAreaLeft" fmla="*/ 0 w 859680"/>
              <a:gd name="textAreaRight" fmla="*/ 860040 w 859680"/>
              <a:gd name="textAreaTop" fmla="*/ 0 h 670680"/>
              <a:gd name="textAreaBottom" fmla="*/ 671040 h 670680"/>
            </a:gdLst>
            <a:ahLst/>
            <a:rect l="textAreaLeft" t="textAreaTop" r="textAreaRight" b="textAreaBottom"/>
            <a:pathLst>
              <a:path w="859904" h="670915">
                <a:moveTo>
                  <a:pt x="859904" y="538607"/>
                </a:moveTo>
                <a:lnTo>
                  <a:pt x="538619" y="670915"/>
                </a:lnTo>
                <a:lnTo>
                  <a:pt x="0" y="132283"/>
                </a:lnTo>
                <a:lnTo>
                  <a:pt x="321284" y="0"/>
                </a:lnTo>
                <a:lnTo>
                  <a:pt x="859904" y="538607"/>
                </a:lnTo>
              </a:path>
            </a:pathLst>
          </a:custGeom>
          <a:solidFill>
            <a:srgbClr val="3e552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2" name="Freeform 3"/>
          <p:cNvSpPr/>
          <p:nvPr/>
        </p:nvSpPr>
        <p:spPr>
          <a:xfrm>
            <a:off x="690840" y="3666960"/>
            <a:ext cx="1299960" cy="1299960"/>
          </a:xfrm>
          <a:custGeom>
            <a:avLst/>
            <a:gdLst>
              <a:gd name="textAreaLeft" fmla="*/ 0 w 1299960"/>
              <a:gd name="textAreaRight" fmla="*/ 1300320 w 1299960"/>
              <a:gd name="textAreaTop" fmla="*/ 0 h 1299960"/>
              <a:gd name="textAreaBottom" fmla="*/ 1300320 h 1299960"/>
            </a:gdLst>
            <a:ahLst/>
            <a:rect l="textAreaLeft" t="textAreaTop" r="textAreaRight" b="textAreaBottom"/>
            <a:pathLst>
              <a:path w="1300429" h="1300445">
                <a:moveTo>
                  <a:pt x="1165209" y="1259708"/>
                </a:moveTo>
                <a:cubicBezTo>
                  <a:pt x="1206789" y="1301288"/>
                  <a:pt x="1262060" y="1314051"/>
                  <a:pt x="1288044" y="1288067"/>
                </a:cubicBezTo>
                <a:cubicBezTo>
                  <a:pt x="1314041" y="1262071"/>
                  <a:pt x="1301277" y="1206787"/>
                  <a:pt x="1259697" y="1165207"/>
                </a:cubicBezTo>
                <a:lnTo>
                  <a:pt x="135214" y="40737"/>
                </a:lnTo>
                <a:cubicBezTo>
                  <a:pt x="93647" y="-842"/>
                  <a:pt x="38364" y="-13606"/>
                  <a:pt x="12380" y="12378"/>
                </a:cubicBezTo>
                <a:cubicBezTo>
                  <a:pt x="-13604" y="38375"/>
                  <a:pt x="-853" y="93658"/>
                  <a:pt x="40726" y="135237"/>
                </a:cubicBezTo>
                <a:lnTo>
                  <a:pt x="1165209" y="1259708"/>
                </a:lnTo>
              </a:path>
            </a:pathLst>
          </a:custGeom>
          <a:solidFill>
            <a:srgbClr val="3e552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3" name="Freeform 3"/>
          <p:cNvSpPr/>
          <p:nvPr/>
        </p:nvSpPr>
        <p:spPr>
          <a:xfrm>
            <a:off x="827640" y="3355560"/>
            <a:ext cx="670680" cy="859680"/>
          </a:xfrm>
          <a:custGeom>
            <a:avLst/>
            <a:gdLst>
              <a:gd name="textAreaLeft" fmla="*/ 0 w 670680"/>
              <a:gd name="textAreaRight" fmla="*/ 671040 w 670680"/>
              <a:gd name="textAreaTop" fmla="*/ 0 h 859680"/>
              <a:gd name="textAreaBottom" fmla="*/ 860040 h 859680"/>
            </a:gdLst>
            <a:ahLst/>
            <a:rect l="textAreaLeft" t="textAreaTop" r="textAreaRight" b="textAreaBottom"/>
            <a:pathLst>
              <a:path w="670902" h="859891">
                <a:moveTo>
                  <a:pt x="538607" y="859891"/>
                </a:moveTo>
                <a:lnTo>
                  <a:pt x="670902" y="538606"/>
                </a:lnTo>
                <a:lnTo>
                  <a:pt x="132283" y="0"/>
                </a:lnTo>
                <a:lnTo>
                  <a:pt x="0" y="321284"/>
                </a:lnTo>
                <a:lnTo>
                  <a:pt x="538607" y="859891"/>
                </a:lnTo>
              </a:path>
            </a:pathLst>
          </a:custGeom>
          <a:solidFill>
            <a:srgbClr val="6a943c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4" name="Freeform 3"/>
          <p:cNvSpPr/>
          <p:nvPr/>
        </p:nvSpPr>
        <p:spPr>
          <a:xfrm>
            <a:off x="449640" y="3733560"/>
            <a:ext cx="859680" cy="670680"/>
          </a:xfrm>
          <a:custGeom>
            <a:avLst/>
            <a:gdLst>
              <a:gd name="textAreaLeft" fmla="*/ 0 w 859680"/>
              <a:gd name="textAreaRight" fmla="*/ 860040 w 859680"/>
              <a:gd name="textAreaTop" fmla="*/ 0 h 670680"/>
              <a:gd name="textAreaBottom" fmla="*/ 671040 h 670680"/>
            </a:gdLst>
            <a:ahLst/>
            <a:rect l="textAreaLeft" t="textAreaTop" r="textAreaRight" b="textAreaBottom"/>
            <a:pathLst>
              <a:path w="859904" h="670915">
                <a:moveTo>
                  <a:pt x="859904" y="538607"/>
                </a:moveTo>
                <a:lnTo>
                  <a:pt x="538619" y="670915"/>
                </a:lnTo>
                <a:lnTo>
                  <a:pt x="0" y="132283"/>
                </a:lnTo>
                <a:lnTo>
                  <a:pt x="321284" y="0"/>
                </a:lnTo>
                <a:lnTo>
                  <a:pt x="859904" y="538607"/>
                </a:lnTo>
              </a:path>
            </a:pathLst>
          </a:custGeom>
          <a:solidFill>
            <a:srgbClr val="6a943c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5" name="Freeform 3"/>
          <p:cNvSpPr/>
          <p:nvPr/>
        </p:nvSpPr>
        <p:spPr>
          <a:xfrm>
            <a:off x="705960" y="3611520"/>
            <a:ext cx="1299960" cy="1299960"/>
          </a:xfrm>
          <a:custGeom>
            <a:avLst/>
            <a:gdLst>
              <a:gd name="textAreaLeft" fmla="*/ 0 w 1299960"/>
              <a:gd name="textAreaRight" fmla="*/ 1300320 w 1299960"/>
              <a:gd name="textAreaTop" fmla="*/ 0 h 1299960"/>
              <a:gd name="textAreaBottom" fmla="*/ 1300320 h 1299960"/>
            </a:gdLst>
            <a:ahLst/>
            <a:rect l="textAreaLeft" t="textAreaTop" r="textAreaRight" b="textAreaBottom"/>
            <a:pathLst>
              <a:path w="1300429" h="1300445">
                <a:moveTo>
                  <a:pt x="1165209" y="1259708"/>
                </a:moveTo>
                <a:cubicBezTo>
                  <a:pt x="1206789" y="1301288"/>
                  <a:pt x="1262060" y="1314051"/>
                  <a:pt x="1288044" y="1288067"/>
                </a:cubicBezTo>
                <a:cubicBezTo>
                  <a:pt x="1314041" y="1262070"/>
                  <a:pt x="1301277" y="1206787"/>
                  <a:pt x="1259698" y="1165207"/>
                </a:cubicBezTo>
                <a:lnTo>
                  <a:pt x="135214" y="40737"/>
                </a:lnTo>
                <a:cubicBezTo>
                  <a:pt x="93647" y="-842"/>
                  <a:pt x="38364" y="-13606"/>
                  <a:pt x="12380" y="12377"/>
                </a:cubicBezTo>
                <a:cubicBezTo>
                  <a:pt x="-13604" y="38374"/>
                  <a:pt x="-853" y="93657"/>
                  <a:pt x="40726" y="135237"/>
                </a:cubicBezTo>
                <a:lnTo>
                  <a:pt x="1165209" y="1259708"/>
                </a:lnTo>
              </a:path>
            </a:pathLst>
          </a:custGeom>
          <a:solidFill>
            <a:srgbClr val="6a943c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6" name="Freeform 3"/>
          <p:cNvSpPr/>
          <p:nvPr/>
        </p:nvSpPr>
        <p:spPr>
          <a:xfrm>
            <a:off x="4922280" y="6237000"/>
            <a:ext cx="241200" cy="241200"/>
          </a:xfrm>
          <a:custGeom>
            <a:avLst/>
            <a:gdLst>
              <a:gd name="textAreaLeft" fmla="*/ 0 w 241200"/>
              <a:gd name="textAreaRight" fmla="*/ 241560 w 2412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241401" h="241401">
                <a:moveTo>
                  <a:pt x="120700" y="241401"/>
                </a:moveTo>
                <a:cubicBezTo>
                  <a:pt x="187362" y="241401"/>
                  <a:pt x="241401" y="187362"/>
                  <a:pt x="241401" y="120700"/>
                </a:cubicBezTo>
                <a:cubicBezTo>
                  <a:pt x="241401" y="54038"/>
                  <a:pt x="187362" y="0"/>
                  <a:pt x="120700" y="0"/>
                </a:cubicBezTo>
                <a:cubicBezTo>
                  <a:pt x="54038" y="0"/>
                  <a:pt x="0" y="54038"/>
                  <a:pt x="0" y="120700"/>
                </a:cubicBezTo>
                <a:cubicBezTo>
                  <a:pt x="0" y="187362"/>
                  <a:pt x="54038" y="241401"/>
                  <a:pt x="120700" y="241401"/>
                </a:cubicBezTo>
              </a:path>
            </a:pathLst>
          </a:custGeom>
          <a:solidFill>
            <a:srgbClr val="459ddc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7" name="Freeform 3"/>
          <p:cNvSpPr/>
          <p:nvPr/>
        </p:nvSpPr>
        <p:spPr>
          <a:xfrm>
            <a:off x="4975920" y="6303240"/>
            <a:ext cx="133560" cy="108360"/>
          </a:xfrm>
          <a:custGeom>
            <a:avLst/>
            <a:gdLst>
              <a:gd name="textAreaLeft" fmla="*/ 0 w 133560"/>
              <a:gd name="textAreaRight" fmla="*/ 133920 w 133560"/>
              <a:gd name="textAreaTop" fmla="*/ 0 h 108360"/>
              <a:gd name="textAreaBottom" fmla="*/ 108720 h 108360"/>
            </a:gdLst>
            <a:ahLst/>
            <a:rect l="textAreaLeft" t="textAreaTop" r="textAreaRight" b="textAreaBottom"/>
            <a:pathLst>
              <a:path w="133794" h="108737">
                <a:moveTo>
                  <a:pt x="120103" y="27089"/>
                </a:moveTo>
                <a:cubicBezTo>
                  <a:pt x="120167" y="28269"/>
                  <a:pt x="120180" y="29438"/>
                  <a:pt x="120180" y="30632"/>
                </a:cubicBezTo>
                <a:cubicBezTo>
                  <a:pt x="120180" y="66903"/>
                  <a:pt x="92570" y="108737"/>
                  <a:pt x="42075" y="108737"/>
                </a:cubicBezTo>
                <a:cubicBezTo>
                  <a:pt x="26568" y="108737"/>
                  <a:pt x="12141" y="104203"/>
                  <a:pt x="0" y="96405"/>
                </a:cubicBezTo>
                <a:cubicBezTo>
                  <a:pt x="2146" y="96659"/>
                  <a:pt x="4330" y="96786"/>
                  <a:pt x="6540" y="96786"/>
                </a:cubicBezTo>
                <a:cubicBezTo>
                  <a:pt x="19418" y="96786"/>
                  <a:pt x="31242" y="92405"/>
                  <a:pt x="40627" y="85038"/>
                </a:cubicBezTo>
                <a:cubicBezTo>
                  <a:pt x="28625" y="84810"/>
                  <a:pt x="18478" y="76873"/>
                  <a:pt x="14998" y="65976"/>
                </a:cubicBezTo>
                <a:cubicBezTo>
                  <a:pt x="16675" y="66294"/>
                  <a:pt x="18389" y="66471"/>
                  <a:pt x="20154" y="66471"/>
                </a:cubicBezTo>
                <a:cubicBezTo>
                  <a:pt x="22669" y="66471"/>
                  <a:pt x="25095" y="66128"/>
                  <a:pt x="27381" y="65506"/>
                </a:cubicBezTo>
                <a:cubicBezTo>
                  <a:pt x="14846" y="62966"/>
                  <a:pt x="5372" y="51879"/>
                  <a:pt x="5372" y="38582"/>
                </a:cubicBezTo>
                <a:lnTo>
                  <a:pt x="5372" y="38239"/>
                </a:lnTo>
                <a:cubicBezTo>
                  <a:pt x="9080" y="40297"/>
                  <a:pt x="13309" y="41528"/>
                  <a:pt x="17805" y="41668"/>
                </a:cubicBezTo>
                <a:cubicBezTo>
                  <a:pt x="10439" y="36753"/>
                  <a:pt x="5600" y="28346"/>
                  <a:pt x="5600" y="18821"/>
                </a:cubicBezTo>
                <a:cubicBezTo>
                  <a:pt x="5600" y="13792"/>
                  <a:pt x="6946" y="9067"/>
                  <a:pt x="9309" y="5016"/>
                </a:cubicBezTo>
                <a:cubicBezTo>
                  <a:pt x="22847" y="21628"/>
                  <a:pt x="43078" y="32562"/>
                  <a:pt x="65887" y="33705"/>
                </a:cubicBezTo>
                <a:cubicBezTo>
                  <a:pt x="65430" y="31699"/>
                  <a:pt x="65176" y="29603"/>
                  <a:pt x="65176" y="27444"/>
                </a:cubicBezTo>
                <a:cubicBezTo>
                  <a:pt x="65176" y="12293"/>
                  <a:pt x="77470" y="0"/>
                  <a:pt x="92633" y="0"/>
                </a:cubicBezTo>
                <a:cubicBezTo>
                  <a:pt x="100533" y="0"/>
                  <a:pt x="107670" y="3340"/>
                  <a:pt x="112674" y="8661"/>
                </a:cubicBezTo>
                <a:cubicBezTo>
                  <a:pt x="118922" y="7442"/>
                  <a:pt x="124803" y="5156"/>
                  <a:pt x="130111" y="1993"/>
                </a:cubicBezTo>
                <a:cubicBezTo>
                  <a:pt x="128054" y="8420"/>
                  <a:pt x="123710" y="13792"/>
                  <a:pt x="118033" y="17183"/>
                </a:cubicBezTo>
                <a:cubicBezTo>
                  <a:pt x="123596" y="16535"/>
                  <a:pt x="128879" y="15049"/>
                  <a:pt x="133794" y="12877"/>
                </a:cubicBezTo>
                <a:cubicBezTo>
                  <a:pt x="130124" y="18376"/>
                  <a:pt x="125463" y="23215"/>
                  <a:pt x="120103" y="27089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98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6489720"/>
            <a:ext cx="88560" cy="504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3" descr=""/>
          <p:cNvPicPr/>
          <p:nvPr/>
        </p:nvPicPr>
        <p:blipFill>
          <a:blip r:embed="rId3"/>
          <a:stretch/>
        </p:blipFill>
        <p:spPr>
          <a:xfrm>
            <a:off x="3556080" y="1879560"/>
            <a:ext cx="1002960" cy="4312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3" descr=""/>
          <p:cNvPicPr/>
          <p:nvPr/>
        </p:nvPicPr>
        <p:blipFill>
          <a:blip r:embed="rId4"/>
          <a:stretch/>
        </p:blipFill>
        <p:spPr>
          <a:xfrm>
            <a:off x="4686480" y="1778040"/>
            <a:ext cx="1294920" cy="46944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3" descr=""/>
          <p:cNvPicPr/>
          <p:nvPr/>
        </p:nvPicPr>
        <p:blipFill>
          <a:blip r:embed="rId5"/>
          <a:stretch/>
        </p:blipFill>
        <p:spPr>
          <a:xfrm>
            <a:off x="3556080" y="2400480"/>
            <a:ext cx="3504960" cy="431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3" descr=""/>
          <p:cNvPicPr/>
          <p:nvPr/>
        </p:nvPicPr>
        <p:blipFill>
          <a:blip r:embed="rId6"/>
          <a:stretch/>
        </p:blipFill>
        <p:spPr>
          <a:xfrm>
            <a:off x="851040" y="3720960"/>
            <a:ext cx="2247480" cy="22600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3" descr=""/>
          <p:cNvPicPr/>
          <p:nvPr/>
        </p:nvPicPr>
        <p:blipFill>
          <a:blip r:embed="rId7"/>
          <a:stretch/>
        </p:blipFill>
        <p:spPr>
          <a:xfrm>
            <a:off x="3568680" y="2921040"/>
            <a:ext cx="2984040" cy="5713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3" descr=""/>
          <p:cNvPicPr/>
          <p:nvPr/>
        </p:nvPicPr>
        <p:blipFill>
          <a:blip r:embed="rId8"/>
          <a:stretch/>
        </p:blipFill>
        <p:spPr>
          <a:xfrm>
            <a:off x="3556080" y="3556080"/>
            <a:ext cx="2501640" cy="4442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" descr=""/>
          <p:cNvPicPr/>
          <p:nvPr/>
        </p:nvPicPr>
        <p:blipFill>
          <a:blip r:embed="rId9"/>
          <a:stretch/>
        </p:blipFill>
        <p:spPr>
          <a:xfrm>
            <a:off x="3746520" y="4280040"/>
            <a:ext cx="3149280" cy="1648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3" descr=""/>
          <p:cNvPicPr/>
          <p:nvPr/>
        </p:nvPicPr>
        <p:blipFill>
          <a:blip r:embed="rId10"/>
          <a:stretch/>
        </p:blipFill>
        <p:spPr>
          <a:xfrm>
            <a:off x="3746520" y="4483080"/>
            <a:ext cx="3047760" cy="1648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3" descr=""/>
          <p:cNvPicPr/>
          <p:nvPr/>
        </p:nvPicPr>
        <p:blipFill>
          <a:blip r:embed="rId11"/>
          <a:stretch/>
        </p:blipFill>
        <p:spPr>
          <a:xfrm>
            <a:off x="3746520" y="4686480"/>
            <a:ext cx="3022200" cy="1393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3" descr=""/>
          <p:cNvPicPr/>
          <p:nvPr/>
        </p:nvPicPr>
        <p:blipFill>
          <a:blip r:embed="rId12"/>
          <a:stretch/>
        </p:blipFill>
        <p:spPr>
          <a:xfrm>
            <a:off x="3746520" y="4889520"/>
            <a:ext cx="1447560" cy="1393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3" descr=""/>
          <p:cNvPicPr/>
          <p:nvPr/>
        </p:nvPicPr>
        <p:blipFill>
          <a:blip r:embed="rId13"/>
          <a:stretch/>
        </p:blipFill>
        <p:spPr>
          <a:xfrm>
            <a:off x="5232240" y="4889520"/>
            <a:ext cx="1523520" cy="139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3" descr=""/>
          <p:cNvPicPr/>
          <p:nvPr/>
        </p:nvPicPr>
        <p:blipFill>
          <a:blip r:embed="rId14"/>
          <a:stretch/>
        </p:blipFill>
        <p:spPr>
          <a:xfrm>
            <a:off x="3746520" y="5092560"/>
            <a:ext cx="2361960" cy="1648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469800" y="6527880"/>
            <a:ext cx="317160" cy="11412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3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4788000" y="6515280"/>
            <a:ext cx="507600" cy="101160"/>
          </a:xfrm>
          <a:prstGeom prst="rect">
            <a:avLst/>
          </a:prstGeom>
          <a:ln w="0">
            <a:noFill/>
          </a:ln>
        </p:spPr>
      </p:pic>
      <p:sp>
        <p:nvSpPr>
          <p:cNvPr id="313" name="矩形 41">
            <a:hlinkClick r:id="rId19"/>
          </p:cNvPr>
          <p:cNvSpPr/>
          <p:nvPr/>
        </p:nvSpPr>
        <p:spPr>
          <a:xfrm>
            <a:off x="526680" y="0"/>
            <a:ext cx="828072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59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3" descr=""/>
          <p:cNvPicPr/>
          <p:nvPr/>
        </p:nvPicPr>
        <p:blipFill>
          <a:blip r:embed="rId1"/>
          <a:stretch/>
        </p:blipFill>
        <p:spPr>
          <a:xfrm>
            <a:off x="127080" y="114480"/>
            <a:ext cx="8292600" cy="6692400"/>
          </a:xfrm>
          <a:prstGeom prst="rect">
            <a:avLst/>
          </a:prstGeom>
          <a:ln w="0">
            <a:noFill/>
          </a:ln>
        </p:spPr>
      </p:pic>
      <p:sp>
        <p:nvSpPr>
          <p:cNvPr id="315" name="矩形 2">
            <a:hlinkClick r:id="rId2"/>
          </p:cNvPr>
          <p:cNvSpPr/>
          <p:nvPr/>
        </p:nvSpPr>
        <p:spPr>
          <a:xfrm>
            <a:off x="526680" y="0"/>
            <a:ext cx="828072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59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Freeform 3"/>
          <p:cNvSpPr/>
          <p:nvPr/>
        </p:nvSpPr>
        <p:spPr>
          <a:xfrm>
            <a:off x="216000" y="6539040"/>
            <a:ext cx="88200" cy="88920"/>
          </a:xfrm>
          <a:custGeom>
            <a:avLst/>
            <a:gdLst>
              <a:gd name="textAreaLeft" fmla="*/ 0 w 88200"/>
              <a:gd name="textAreaRight" fmla="*/ 88560 w 8820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88595" h="89458">
                <a:moveTo>
                  <a:pt x="0" y="89458"/>
                </a:moveTo>
                <a:lnTo>
                  <a:pt x="43395" y="0"/>
                </a:lnTo>
                <a:lnTo>
                  <a:pt x="88595" y="89458"/>
                </a:lnTo>
                <a:lnTo>
                  <a:pt x="71056" y="89458"/>
                </a:lnTo>
                <a:lnTo>
                  <a:pt x="44297" y="30874"/>
                </a:lnTo>
                <a:lnTo>
                  <a:pt x="17386" y="89458"/>
                </a:lnTo>
                <a:lnTo>
                  <a:pt x="0" y="89458"/>
                </a:lnTo>
              </a:path>
            </a:pathLst>
          </a:custGeom>
          <a:solidFill>
            <a:srgbClr val="80808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4280" bIns="44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7" name="Freeform 3"/>
          <p:cNvSpPr/>
          <p:nvPr/>
        </p:nvSpPr>
        <p:spPr>
          <a:xfrm>
            <a:off x="237600" y="6595200"/>
            <a:ext cx="47520" cy="10800"/>
          </a:xfrm>
          <a:custGeom>
            <a:avLst/>
            <a:gdLst>
              <a:gd name="textAreaLeft" fmla="*/ 0 w 47520"/>
              <a:gd name="textAreaRight" fmla="*/ 47880 w 4752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47980" h="11138">
                <a:moveTo>
                  <a:pt x="0" y="5568"/>
                </a:moveTo>
                <a:lnTo>
                  <a:pt x="47980" y="5568"/>
                </a:lnTo>
              </a:path>
            </a:pathLst>
          </a:custGeom>
          <a:noFill/>
          <a:ln w="0">
            <a:solidFill>
              <a:srgbClr val="808080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3840" bIns="-33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Freeform 3"/>
          <p:cNvSpPr/>
          <p:nvPr/>
        </p:nvSpPr>
        <p:spPr>
          <a:xfrm>
            <a:off x="164520" y="6539040"/>
            <a:ext cx="61920" cy="88920"/>
          </a:xfrm>
          <a:custGeom>
            <a:avLst/>
            <a:gdLst>
              <a:gd name="textAreaLeft" fmla="*/ 0 w 61920"/>
              <a:gd name="textAreaRight" fmla="*/ 62280 w 6192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62141" h="89434">
                <a:moveTo>
                  <a:pt x="0" y="0"/>
                </a:moveTo>
                <a:lnTo>
                  <a:pt x="0" y="16357"/>
                </a:lnTo>
                <a:lnTo>
                  <a:pt x="22263" y="16357"/>
                </a:lnTo>
                <a:lnTo>
                  <a:pt x="22263" y="89433"/>
                </a:lnTo>
                <a:lnTo>
                  <a:pt x="39700" y="89433"/>
                </a:lnTo>
                <a:lnTo>
                  <a:pt x="39700" y="16878"/>
                </a:lnTo>
                <a:lnTo>
                  <a:pt x="62141" y="16878"/>
                </a:lnTo>
                <a:lnTo>
                  <a:pt x="62141" y="0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4280" bIns="44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9" name="Freeform 3"/>
          <p:cNvSpPr/>
          <p:nvPr/>
        </p:nvSpPr>
        <p:spPr>
          <a:xfrm>
            <a:off x="307080" y="6538320"/>
            <a:ext cx="56520" cy="90720"/>
          </a:xfrm>
          <a:custGeom>
            <a:avLst/>
            <a:gdLst>
              <a:gd name="textAreaLeft" fmla="*/ 0 w 56520"/>
              <a:gd name="textAreaRight" fmla="*/ 56880 w 56520"/>
              <a:gd name="textAreaTop" fmla="*/ 0 h 90720"/>
              <a:gd name="textAreaBottom" fmla="*/ 91080 h 90720"/>
            </a:gdLst>
            <a:ahLst/>
            <a:rect l="textAreaLeft" t="textAreaTop" r="textAreaRight" b="textAreaBottom"/>
            <a:pathLst>
              <a:path w="56959" h="90995">
                <a:moveTo>
                  <a:pt x="30873" y="36258"/>
                </a:moveTo>
                <a:cubicBezTo>
                  <a:pt x="45440" y="40919"/>
                  <a:pt x="58064" y="46456"/>
                  <a:pt x="56959" y="66459"/>
                </a:cubicBezTo>
                <a:cubicBezTo>
                  <a:pt x="56095" y="82219"/>
                  <a:pt x="42722" y="92316"/>
                  <a:pt x="24117" y="90995"/>
                </a:cubicBezTo>
                <a:cubicBezTo>
                  <a:pt x="12750" y="90182"/>
                  <a:pt x="6324" y="84429"/>
                  <a:pt x="0" y="77723"/>
                </a:cubicBezTo>
                <a:cubicBezTo>
                  <a:pt x="3581" y="73367"/>
                  <a:pt x="7556" y="69367"/>
                  <a:pt x="11722" y="65582"/>
                </a:cubicBezTo>
                <a:cubicBezTo>
                  <a:pt x="14960" y="70345"/>
                  <a:pt x="20891" y="75615"/>
                  <a:pt x="29133" y="74917"/>
                </a:cubicBezTo>
                <a:cubicBezTo>
                  <a:pt x="34925" y="74434"/>
                  <a:pt x="41821" y="68795"/>
                  <a:pt x="38696" y="61239"/>
                </a:cubicBezTo>
                <a:cubicBezTo>
                  <a:pt x="36360" y="55588"/>
                  <a:pt x="27304" y="53327"/>
                  <a:pt x="21081" y="51041"/>
                </a:cubicBezTo>
                <a:cubicBezTo>
                  <a:pt x="9855" y="46863"/>
                  <a:pt x="266" y="41097"/>
                  <a:pt x="1511" y="23659"/>
                </a:cubicBezTo>
                <a:cubicBezTo>
                  <a:pt x="2514" y="9690"/>
                  <a:pt x="13830" y="927"/>
                  <a:pt x="28486" y="0"/>
                </a:cubicBezTo>
                <a:cubicBezTo>
                  <a:pt x="41490" y="-837"/>
                  <a:pt x="49072" y="4953"/>
                  <a:pt x="55422" y="11709"/>
                </a:cubicBezTo>
                <a:cubicBezTo>
                  <a:pt x="52298" y="16141"/>
                  <a:pt x="48425" y="19773"/>
                  <a:pt x="45224" y="24092"/>
                </a:cubicBezTo>
                <a:cubicBezTo>
                  <a:pt x="41871" y="21425"/>
                  <a:pt x="37934" y="17043"/>
                  <a:pt x="31965" y="16281"/>
                </a:cubicBezTo>
                <a:cubicBezTo>
                  <a:pt x="23634" y="15227"/>
                  <a:pt x="17005" y="20269"/>
                  <a:pt x="19329" y="28879"/>
                </a:cubicBezTo>
                <a:cubicBezTo>
                  <a:pt x="20548" y="33363"/>
                  <a:pt x="26263" y="34785"/>
                  <a:pt x="30873" y="36258"/>
                </a:cubicBezTo>
              </a:path>
            </a:pathLst>
          </a:custGeom>
          <a:solidFill>
            <a:srgbClr val="80808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0" name="Freeform 3"/>
          <p:cNvSpPr/>
          <p:nvPr/>
        </p:nvSpPr>
        <p:spPr>
          <a:xfrm>
            <a:off x="393480" y="6538320"/>
            <a:ext cx="77400" cy="90720"/>
          </a:xfrm>
          <a:custGeom>
            <a:avLst/>
            <a:gdLst>
              <a:gd name="textAreaLeft" fmla="*/ 0 w 77400"/>
              <a:gd name="textAreaRight" fmla="*/ 77760 w 77400"/>
              <a:gd name="textAreaTop" fmla="*/ 0 h 90720"/>
              <a:gd name="textAreaBottom" fmla="*/ 91080 h 90720"/>
            </a:gdLst>
            <a:ahLst/>
            <a:rect l="textAreaLeft" t="textAreaTop" r="textAreaRight" b="textAreaBottom"/>
            <a:pathLst>
              <a:path w="77914" h="90992">
                <a:moveTo>
                  <a:pt x="77914" y="60350"/>
                </a:moveTo>
                <a:lnTo>
                  <a:pt x="77914" y="78244"/>
                </a:lnTo>
                <a:cubicBezTo>
                  <a:pt x="76987" y="81395"/>
                  <a:pt x="68516" y="85445"/>
                  <a:pt x="65443" y="86792"/>
                </a:cubicBezTo>
                <a:cubicBezTo>
                  <a:pt x="31889" y="101600"/>
                  <a:pt x="-3302" y="77470"/>
                  <a:pt x="0" y="39687"/>
                </a:cubicBezTo>
                <a:cubicBezTo>
                  <a:pt x="1879" y="18098"/>
                  <a:pt x="19786" y="1778"/>
                  <a:pt x="41313" y="0"/>
                </a:cubicBezTo>
                <a:cubicBezTo>
                  <a:pt x="57391" y="-1282"/>
                  <a:pt x="66484" y="4229"/>
                  <a:pt x="75945" y="10909"/>
                </a:cubicBezTo>
                <a:lnTo>
                  <a:pt x="71272" y="17526"/>
                </a:lnTo>
                <a:cubicBezTo>
                  <a:pt x="63906" y="13475"/>
                  <a:pt x="57835" y="8141"/>
                  <a:pt x="47536" y="7797"/>
                </a:cubicBezTo>
                <a:cubicBezTo>
                  <a:pt x="23291" y="7036"/>
                  <a:pt x="7429" y="26734"/>
                  <a:pt x="8978" y="47879"/>
                </a:cubicBezTo>
                <a:cubicBezTo>
                  <a:pt x="9867" y="60579"/>
                  <a:pt x="17170" y="71958"/>
                  <a:pt x="26898" y="77851"/>
                </a:cubicBezTo>
                <a:cubicBezTo>
                  <a:pt x="37871" y="84544"/>
                  <a:pt x="59829" y="84976"/>
                  <a:pt x="69341" y="74345"/>
                </a:cubicBezTo>
                <a:lnTo>
                  <a:pt x="69341" y="49822"/>
                </a:lnTo>
                <a:lnTo>
                  <a:pt x="40881" y="49822"/>
                </a:lnTo>
                <a:lnTo>
                  <a:pt x="43256" y="41656"/>
                </a:lnTo>
                <a:lnTo>
                  <a:pt x="77914" y="41656"/>
                </a:lnTo>
                <a:lnTo>
                  <a:pt x="77914" y="60350"/>
                </a:lnTo>
              </a:path>
            </a:pathLst>
          </a:custGeom>
          <a:solidFill>
            <a:srgbClr val="80808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1" name="Freeform 3"/>
          <p:cNvSpPr/>
          <p:nvPr/>
        </p:nvSpPr>
        <p:spPr>
          <a:xfrm>
            <a:off x="779040" y="6539040"/>
            <a:ext cx="6840" cy="11160"/>
          </a:xfrm>
          <a:custGeom>
            <a:avLst/>
            <a:gdLst>
              <a:gd name="textAreaLeft" fmla="*/ 0 w 6840"/>
              <a:gd name="textAreaRight" fmla="*/ 7200 w 68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7124" h="11696">
                <a:moveTo>
                  <a:pt x="4444" y="1663"/>
                </a:moveTo>
                <a:lnTo>
                  <a:pt x="4444" y="11696"/>
                </a:lnTo>
                <a:lnTo>
                  <a:pt x="2679" y="11696"/>
                </a:lnTo>
                <a:lnTo>
                  <a:pt x="2679" y="1663"/>
                </a:lnTo>
                <a:lnTo>
                  <a:pt x="0" y="1663"/>
                </a:lnTo>
                <a:lnTo>
                  <a:pt x="0" y="0"/>
                </a:lnTo>
                <a:lnTo>
                  <a:pt x="7124" y="0"/>
                </a:lnTo>
                <a:lnTo>
                  <a:pt x="7124" y="1663"/>
                </a:lnTo>
                <a:lnTo>
                  <a:pt x="4444" y="1663"/>
                </a:lnTo>
              </a:path>
            </a:pathLst>
          </a:custGeom>
          <a:solidFill>
            <a:srgbClr val="80808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3480" bIns="-33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2" name="Freeform 3"/>
          <p:cNvSpPr/>
          <p:nvPr/>
        </p:nvSpPr>
        <p:spPr>
          <a:xfrm>
            <a:off x="787320" y="6538320"/>
            <a:ext cx="12600" cy="12600"/>
          </a:xfrm>
          <a:custGeom>
            <a:avLst/>
            <a:gdLst>
              <a:gd name="textAreaLeft" fmla="*/ 0 w 12600"/>
              <a:gd name="textAreaRight" fmla="*/ 12960 w 1260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12839" h="13106">
                <a:moveTo>
                  <a:pt x="0" y="12572"/>
                </a:moveTo>
                <a:lnTo>
                  <a:pt x="2463" y="0"/>
                </a:lnTo>
                <a:lnTo>
                  <a:pt x="6477" y="9093"/>
                </a:lnTo>
                <a:lnTo>
                  <a:pt x="10629" y="0"/>
                </a:lnTo>
                <a:lnTo>
                  <a:pt x="12839" y="12572"/>
                </a:lnTo>
                <a:lnTo>
                  <a:pt x="11023" y="12572"/>
                </a:lnTo>
                <a:lnTo>
                  <a:pt x="9906" y="5512"/>
                </a:lnTo>
                <a:lnTo>
                  <a:pt x="6438" y="13106"/>
                </a:lnTo>
                <a:lnTo>
                  <a:pt x="3086" y="5512"/>
                </a:lnTo>
                <a:lnTo>
                  <a:pt x="1828" y="12572"/>
                </a:lnTo>
                <a:lnTo>
                  <a:pt x="0" y="12572"/>
                </a:lnTo>
              </a:path>
            </a:pathLst>
          </a:custGeom>
          <a:solidFill>
            <a:srgbClr val="80808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2040" bIns="-320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3" name="Freeform 3"/>
          <p:cNvSpPr/>
          <p:nvPr/>
        </p:nvSpPr>
        <p:spPr>
          <a:xfrm>
            <a:off x="7284240" y="127080"/>
            <a:ext cx="1732320" cy="1732320"/>
          </a:xfrm>
          <a:custGeom>
            <a:avLst/>
            <a:gdLst>
              <a:gd name="textAreaLeft" fmla="*/ 0 w 1732320"/>
              <a:gd name="textAreaRight" fmla="*/ 1732680 w 1732320"/>
              <a:gd name="textAreaTop" fmla="*/ 0 h 1732320"/>
              <a:gd name="textAreaBottom" fmla="*/ 1732680 h 1732320"/>
            </a:gdLst>
            <a:ahLst/>
            <a:rect l="textAreaLeft" t="textAreaTop" r="textAreaRight" b="textAreaBottom"/>
            <a:pathLst>
              <a:path w="1732788" h="1732788">
                <a:moveTo>
                  <a:pt x="866394" y="1732788"/>
                </a:moveTo>
                <a:cubicBezTo>
                  <a:pt x="1344891" y="1732788"/>
                  <a:pt x="1732788" y="1344891"/>
                  <a:pt x="1732788" y="866394"/>
                </a:cubicBezTo>
                <a:cubicBezTo>
                  <a:pt x="1732788" y="387896"/>
                  <a:pt x="1344891" y="0"/>
                  <a:pt x="866394" y="0"/>
                </a:cubicBezTo>
                <a:cubicBezTo>
                  <a:pt x="387896" y="0"/>
                  <a:pt x="0" y="387896"/>
                  <a:pt x="0" y="866394"/>
                </a:cubicBezTo>
                <a:cubicBezTo>
                  <a:pt x="0" y="1344891"/>
                  <a:pt x="387896" y="1732788"/>
                  <a:pt x="866394" y="1732788"/>
                </a:cubicBezTo>
              </a:path>
            </a:pathLst>
          </a:custGeom>
          <a:solidFill>
            <a:srgbClr val="fccf38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4" name="Freeform 3"/>
          <p:cNvSpPr/>
          <p:nvPr/>
        </p:nvSpPr>
        <p:spPr>
          <a:xfrm>
            <a:off x="951120" y="191880"/>
            <a:ext cx="126720" cy="734760"/>
          </a:xfrm>
          <a:custGeom>
            <a:avLst/>
            <a:gdLst>
              <a:gd name="textAreaLeft" fmla="*/ 0 w 126720"/>
              <a:gd name="textAreaRight" fmla="*/ 127080 w 126720"/>
              <a:gd name="textAreaTop" fmla="*/ 0 h 734760"/>
              <a:gd name="textAreaBottom" fmla="*/ 735120 h 734760"/>
            </a:gdLst>
            <a:ahLst/>
            <a:rect l="textAreaLeft" t="textAreaTop" r="textAreaRight" b="textAreaBottom"/>
            <a:pathLst>
              <a:path w="127000" h="735228">
                <a:moveTo>
                  <a:pt x="31750" y="31750"/>
                </a:moveTo>
                <a:lnTo>
                  <a:pt x="31750" y="703478"/>
                </a:lnTo>
              </a:path>
            </a:pathLst>
          </a:custGeom>
          <a:noFill/>
          <a:ln w="63500">
            <a:solidFill>
              <a:srgbClr val="fccf38"/>
            </a:solidFill>
            <a:prstDash val="dash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Freeform 3"/>
          <p:cNvSpPr/>
          <p:nvPr/>
        </p:nvSpPr>
        <p:spPr>
          <a:xfrm>
            <a:off x="1143360" y="959760"/>
            <a:ext cx="5927040" cy="126720"/>
          </a:xfrm>
          <a:custGeom>
            <a:avLst/>
            <a:gdLst>
              <a:gd name="textAreaLeft" fmla="*/ 0 w 5927040"/>
              <a:gd name="textAreaRight" fmla="*/ 5927400 w 5927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5927255" h="127000">
                <a:moveTo>
                  <a:pt x="31750" y="31750"/>
                </a:moveTo>
                <a:lnTo>
                  <a:pt x="5895504" y="31750"/>
                </a:lnTo>
              </a:path>
            </a:pathLst>
          </a:custGeom>
          <a:noFill/>
          <a:ln w="63500">
            <a:solidFill>
              <a:srgbClr val="fccf38"/>
            </a:solidFill>
            <a:prstDash val="dash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Freeform 3"/>
          <p:cNvSpPr/>
          <p:nvPr/>
        </p:nvSpPr>
        <p:spPr>
          <a:xfrm>
            <a:off x="7822440" y="529920"/>
            <a:ext cx="718200" cy="997920"/>
          </a:xfrm>
          <a:custGeom>
            <a:avLst/>
            <a:gdLst>
              <a:gd name="textAreaLeft" fmla="*/ 0 w 718200"/>
              <a:gd name="textAreaRight" fmla="*/ 718560 w 718200"/>
              <a:gd name="textAreaTop" fmla="*/ 0 h 997920"/>
              <a:gd name="textAreaBottom" fmla="*/ 998280 h 997920"/>
            </a:gdLst>
            <a:ahLst/>
            <a:rect l="textAreaLeft" t="textAreaTop" r="textAreaRight" b="textAreaBottom"/>
            <a:pathLst>
              <a:path w="718578" h="998131">
                <a:moveTo>
                  <a:pt x="468960" y="189737"/>
                </a:moveTo>
                <a:lnTo>
                  <a:pt x="0" y="189737"/>
                </a:lnTo>
                <a:lnTo>
                  <a:pt x="0" y="0"/>
                </a:lnTo>
                <a:lnTo>
                  <a:pt x="718578" y="0"/>
                </a:lnTo>
                <a:lnTo>
                  <a:pt x="718578" y="165366"/>
                </a:lnTo>
                <a:lnTo>
                  <a:pt x="270865" y="998131"/>
                </a:lnTo>
                <a:lnTo>
                  <a:pt x="22631" y="998131"/>
                </a:lnTo>
                <a:lnTo>
                  <a:pt x="468960" y="189737"/>
                </a:lnTo>
              </a:path>
            </a:pathLst>
          </a:custGeom>
          <a:solidFill>
            <a:srgbClr val="dca83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7" name="Freeform 3"/>
          <p:cNvSpPr/>
          <p:nvPr/>
        </p:nvSpPr>
        <p:spPr>
          <a:xfrm>
            <a:off x="7790400" y="496080"/>
            <a:ext cx="718200" cy="997920"/>
          </a:xfrm>
          <a:custGeom>
            <a:avLst/>
            <a:gdLst>
              <a:gd name="textAreaLeft" fmla="*/ 0 w 718200"/>
              <a:gd name="textAreaRight" fmla="*/ 718560 w 718200"/>
              <a:gd name="textAreaTop" fmla="*/ 0 h 997920"/>
              <a:gd name="textAreaBottom" fmla="*/ 998280 h 997920"/>
            </a:gdLst>
            <a:ahLst/>
            <a:rect l="textAreaLeft" t="textAreaTop" r="textAreaRight" b="textAreaBottom"/>
            <a:pathLst>
              <a:path w="718578" h="998143">
                <a:moveTo>
                  <a:pt x="468959" y="189750"/>
                </a:moveTo>
                <a:lnTo>
                  <a:pt x="0" y="189750"/>
                </a:lnTo>
                <a:lnTo>
                  <a:pt x="0" y="0"/>
                </a:lnTo>
                <a:lnTo>
                  <a:pt x="718578" y="0"/>
                </a:lnTo>
                <a:lnTo>
                  <a:pt x="718578" y="165379"/>
                </a:lnTo>
                <a:lnTo>
                  <a:pt x="270865" y="998143"/>
                </a:lnTo>
                <a:lnTo>
                  <a:pt x="22631" y="998143"/>
                </a:lnTo>
                <a:lnTo>
                  <a:pt x="468959" y="18975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8" name="Freeform 3"/>
          <p:cNvSpPr/>
          <p:nvPr/>
        </p:nvSpPr>
        <p:spPr>
          <a:xfrm>
            <a:off x="8118720" y="2141280"/>
            <a:ext cx="126720" cy="4654440"/>
          </a:xfrm>
          <a:custGeom>
            <a:avLst/>
            <a:gdLst>
              <a:gd name="textAreaLeft" fmla="*/ 0 w 126720"/>
              <a:gd name="textAreaRight" fmla="*/ 127080 w 126720"/>
              <a:gd name="textAreaTop" fmla="*/ 0 h 4654440"/>
              <a:gd name="textAreaBottom" fmla="*/ 4654800 h 4654440"/>
            </a:gdLst>
            <a:ahLst/>
            <a:rect l="textAreaLeft" t="textAreaTop" r="textAreaRight" b="textAreaBottom"/>
            <a:pathLst>
              <a:path w="127000" h="4654638">
                <a:moveTo>
                  <a:pt x="31750" y="31750"/>
                </a:moveTo>
                <a:lnTo>
                  <a:pt x="31750" y="4622888"/>
                </a:lnTo>
              </a:path>
            </a:pathLst>
          </a:custGeom>
          <a:noFill/>
          <a:ln w="63500">
            <a:solidFill>
              <a:srgbClr val="fccf38"/>
            </a:solidFill>
            <a:prstDash val="dash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Freeform 3"/>
          <p:cNvSpPr/>
          <p:nvPr/>
        </p:nvSpPr>
        <p:spPr>
          <a:xfrm>
            <a:off x="2262240" y="3508920"/>
            <a:ext cx="63720" cy="63720"/>
          </a:xfrm>
          <a:custGeom>
            <a:avLst/>
            <a:gdLst>
              <a:gd name="textAreaLeft" fmla="*/ 0 w 63720"/>
              <a:gd name="textAreaRight" fmla="*/ 64080 w 6372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64008" h="64007">
                <a:moveTo>
                  <a:pt x="32004" y="64008"/>
                </a:moveTo>
                <a:cubicBezTo>
                  <a:pt x="49682" y="64008"/>
                  <a:pt x="64008" y="49682"/>
                  <a:pt x="64008" y="32003"/>
                </a:cubicBezTo>
                <a:cubicBezTo>
                  <a:pt x="64008" y="14325"/>
                  <a:pt x="49682" y="0"/>
                  <a:pt x="32004" y="0"/>
                </a:cubicBezTo>
                <a:cubicBezTo>
                  <a:pt x="14325" y="0"/>
                  <a:pt x="0" y="14325"/>
                  <a:pt x="0" y="32003"/>
                </a:cubicBezTo>
                <a:cubicBezTo>
                  <a:pt x="0" y="49682"/>
                  <a:pt x="14325" y="64008"/>
                  <a:pt x="32004" y="64008"/>
                </a:cubicBezTo>
              </a:path>
            </a:pathLst>
          </a:custGeom>
          <a:solidFill>
            <a:srgbClr val="459ddc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0" name="Freeform 3"/>
          <p:cNvSpPr/>
          <p:nvPr/>
        </p:nvSpPr>
        <p:spPr>
          <a:xfrm>
            <a:off x="2262240" y="4842720"/>
            <a:ext cx="63720" cy="63720"/>
          </a:xfrm>
          <a:custGeom>
            <a:avLst/>
            <a:gdLst>
              <a:gd name="textAreaLeft" fmla="*/ 0 w 63720"/>
              <a:gd name="textAreaRight" fmla="*/ 64080 w 6372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64008" h="64008">
                <a:moveTo>
                  <a:pt x="32004" y="64008"/>
                </a:moveTo>
                <a:cubicBezTo>
                  <a:pt x="49682" y="64008"/>
                  <a:pt x="64008" y="49682"/>
                  <a:pt x="64008" y="32004"/>
                </a:cubicBezTo>
                <a:cubicBezTo>
                  <a:pt x="64008" y="14325"/>
                  <a:pt x="49682" y="0"/>
                  <a:pt x="32004" y="0"/>
                </a:cubicBezTo>
                <a:cubicBezTo>
                  <a:pt x="14325" y="0"/>
                  <a:pt x="0" y="14325"/>
                  <a:pt x="0" y="32004"/>
                </a:cubicBezTo>
                <a:cubicBezTo>
                  <a:pt x="0" y="49682"/>
                  <a:pt x="14325" y="64008"/>
                  <a:pt x="32004" y="64008"/>
                </a:cubicBezTo>
              </a:path>
            </a:pathLst>
          </a:custGeom>
          <a:solidFill>
            <a:srgbClr val="459ddc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1" name="Freeform 3"/>
          <p:cNvSpPr/>
          <p:nvPr/>
        </p:nvSpPr>
        <p:spPr>
          <a:xfrm>
            <a:off x="2262240" y="5388840"/>
            <a:ext cx="63720" cy="63720"/>
          </a:xfrm>
          <a:custGeom>
            <a:avLst/>
            <a:gdLst>
              <a:gd name="textAreaLeft" fmla="*/ 0 w 63720"/>
              <a:gd name="textAreaRight" fmla="*/ 64080 w 6372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64008" h="64008">
                <a:moveTo>
                  <a:pt x="32004" y="64008"/>
                </a:moveTo>
                <a:cubicBezTo>
                  <a:pt x="49682" y="64008"/>
                  <a:pt x="64008" y="49682"/>
                  <a:pt x="64008" y="32004"/>
                </a:cubicBezTo>
                <a:cubicBezTo>
                  <a:pt x="64008" y="14325"/>
                  <a:pt x="49682" y="0"/>
                  <a:pt x="32004" y="0"/>
                </a:cubicBezTo>
                <a:cubicBezTo>
                  <a:pt x="14325" y="0"/>
                  <a:pt x="0" y="14325"/>
                  <a:pt x="0" y="32004"/>
                </a:cubicBezTo>
                <a:cubicBezTo>
                  <a:pt x="0" y="49682"/>
                  <a:pt x="14325" y="64008"/>
                  <a:pt x="32004" y="64008"/>
                </a:cubicBezTo>
              </a:path>
            </a:pathLst>
          </a:custGeom>
          <a:solidFill>
            <a:srgbClr val="459ddc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2" name="Freeform 3"/>
          <p:cNvSpPr/>
          <p:nvPr/>
        </p:nvSpPr>
        <p:spPr>
          <a:xfrm>
            <a:off x="2262240" y="4296600"/>
            <a:ext cx="63720" cy="63720"/>
          </a:xfrm>
          <a:custGeom>
            <a:avLst/>
            <a:gdLst>
              <a:gd name="textAreaLeft" fmla="*/ 0 w 63720"/>
              <a:gd name="textAreaRight" fmla="*/ 64080 w 6372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64008" h="64008">
                <a:moveTo>
                  <a:pt x="32004" y="64008"/>
                </a:moveTo>
                <a:cubicBezTo>
                  <a:pt x="49682" y="64008"/>
                  <a:pt x="64008" y="49682"/>
                  <a:pt x="64008" y="32004"/>
                </a:cubicBezTo>
                <a:cubicBezTo>
                  <a:pt x="64008" y="14325"/>
                  <a:pt x="49682" y="0"/>
                  <a:pt x="32004" y="0"/>
                </a:cubicBezTo>
                <a:cubicBezTo>
                  <a:pt x="14325" y="0"/>
                  <a:pt x="0" y="14325"/>
                  <a:pt x="0" y="32004"/>
                </a:cubicBezTo>
                <a:cubicBezTo>
                  <a:pt x="0" y="49682"/>
                  <a:pt x="14325" y="64008"/>
                  <a:pt x="32004" y="64008"/>
                </a:cubicBezTo>
              </a:path>
            </a:pathLst>
          </a:custGeom>
          <a:solidFill>
            <a:srgbClr val="459ddc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3" name="Freeform 3"/>
          <p:cNvSpPr/>
          <p:nvPr/>
        </p:nvSpPr>
        <p:spPr>
          <a:xfrm>
            <a:off x="4913640" y="6218640"/>
            <a:ext cx="241200" cy="241200"/>
          </a:xfrm>
          <a:custGeom>
            <a:avLst/>
            <a:gdLst>
              <a:gd name="textAreaLeft" fmla="*/ 0 w 241200"/>
              <a:gd name="textAreaRight" fmla="*/ 241560 w 2412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241401" h="241401">
                <a:moveTo>
                  <a:pt x="120700" y="241401"/>
                </a:moveTo>
                <a:cubicBezTo>
                  <a:pt x="187362" y="241401"/>
                  <a:pt x="241401" y="187362"/>
                  <a:pt x="241401" y="120700"/>
                </a:cubicBezTo>
                <a:cubicBezTo>
                  <a:pt x="241401" y="54038"/>
                  <a:pt x="187362" y="0"/>
                  <a:pt x="120700" y="0"/>
                </a:cubicBezTo>
                <a:cubicBezTo>
                  <a:pt x="54038" y="0"/>
                  <a:pt x="0" y="54038"/>
                  <a:pt x="0" y="120700"/>
                </a:cubicBezTo>
                <a:cubicBezTo>
                  <a:pt x="0" y="187362"/>
                  <a:pt x="54038" y="241401"/>
                  <a:pt x="120700" y="241401"/>
                </a:cubicBezTo>
              </a:path>
            </a:pathLst>
          </a:custGeom>
          <a:solidFill>
            <a:srgbClr val="459ddc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4" name="Freeform 3"/>
          <p:cNvSpPr/>
          <p:nvPr/>
        </p:nvSpPr>
        <p:spPr>
          <a:xfrm>
            <a:off x="4967280" y="6285240"/>
            <a:ext cx="133560" cy="108360"/>
          </a:xfrm>
          <a:custGeom>
            <a:avLst/>
            <a:gdLst>
              <a:gd name="textAreaLeft" fmla="*/ 0 w 133560"/>
              <a:gd name="textAreaRight" fmla="*/ 133920 w 133560"/>
              <a:gd name="textAreaTop" fmla="*/ 0 h 108360"/>
              <a:gd name="textAreaBottom" fmla="*/ 108720 h 108360"/>
            </a:gdLst>
            <a:ahLst/>
            <a:rect l="textAreaLeft" t="textAreaTop" r="textAreaRight" b="textAreaBottom"/>
            <a:pathLst>
              <a:path w="133794" h="108737">
                <a:moveTo>
                  <a:pt x="120103" y="27089"/>
                </a:moveTo>
                <a:cubicBezTo>
                  <a:pt x="120167" y="28269"/>
                  <a:pt x="120180" y="29438"/>
                  <a:pt x="120180" y="30632"/>
                </a:cubicBezTo>
                <a:cubicBezTo>
                  <a:pt x="120180" y="66903"/>
                  <a:pt x="92570" y="108737"/>
                  <a:pt x="42074" y="108737"/>
                </a:cubicBezTo>
                <a:cubicBezTo>
                  <a:pt x="26568" y="108737"/>
                  <a:pt x="12141" y="104203"/>
                  <a:pt x="0" y="96405"/>
                </a:cubicBezTo>
                <a:cubicBezTo>
                  <a:pt x="2146" y="96659"/>
                  <a:pt x="4330" y="96786"/>
                  <a:pt x="6540" y="96786"/>
                </a:cubicBezTo>
                <a:cubicBezTo>
                  <a:pt x="19418" y="96786"/>
                  <a:pt x="31241" y="92405"/>
                  <a:pt x="40627" y="85038"/>
                </a:cubicBezTo>
                <a:cubicBezTo>
                  <a:pt x="28625" y="84810"/>
                  <a:pt x="18478" y="76872"/>
                  <a:pt x="14998" y="65976"/>
                </a:cubicBezTo>
                <a:cubicBezTo>
                  <a:pt x="16674" y="66294"/>
                  <a:pt x="18389" y="66471"/>
                  <a:pt x="20154" y="66471"/>
                </a:cubicBezTo>
                <a:cubicBezTo>
                  <a:pt x="22669" y="66471"/>
                  <a:pt x="25095" y="66128"/>
                  <a:pt x="27381" y="65506"/>
                </a:cubicBezTo>
                <a:cubicBezTo>
                  <a:pt x="14846" y="62966"/>
                  <a:pt x="5372" y="51879"/>
                  <a:pt x="5372" y="38582"/>
                </a:cubicBezTo>
                <a:lnTo>
                  <a:pt x="5372" y="38239"/>
                </a:lnTo>
                <a:cubicBezTo>
                  <a:pt x="9080" y="40297"/>
                  <a:pt x="13309" y="41528"/>
                  <a:pt x="17805" y="41668"/>
                </a:cubicBezTo>
                <a:cubicBezTo>
                  <a:pt x="10439" y="36753"/>
                  <a:pt x="5600" y="28346"/>
                  <a:pt x="5600" y="18821"/>
                </a:cubicBezTo>
                <a:cubicBezTo>
                  <a:pt x="5600" y="13792"/>
                  <a:pt x="6946" y="9067"/>
                  <a:pt x="9309" y="5016"/>
                </a:cubicBezTo>
                <a:cubicBezTo>
                  <a:pt x="22847" y="21628"/>
                  <a:pt x="43078" y="32562"/>
                  <a:pt x="65887" y="33705"/>
                </a:cubicBezTo>
                <a:cubicBezTo>
                  <a:pt x="65430" y="31699"/>
                  <a:pt x="65176" y="29603"/>
                  <a:pt x="65176" y="27444"/>
                </a:cubicBezTo>
                <a:cubicBezTo>
                  <a:pt x="65176" y="12293"/>
                  <a:pt x="77470" y="0"/>
                  <a:pt x="92633" y="0"/>
                </a:cubicBezTo>
                <a:cubicBezTo>
                  <a:pt x="100533" y="0"/>
                  <a:pt x="107670" y="3340"/>
                  <a:pt x="112674" y="8661"/>
                </a:cubicBezTo>
                <a:cubicBezTo>
                  <a:pt x="118922" y="7442"/>
                  <a:pt x="124802" y="5156"/>
                  <a:pt x="130111" y="1993"/>
                </a:cubicBezTo>
                <a:cubicBezTo>
                  <a:pt x="128054" y="8420"/>
                  <a:pt x="123710" y="13792"/>
                  <a:pt x="118033" y="17183"/>
                </a:cubicBezTo>
                <a:cubicBezTo>
                  <a:pt x="123596" y="16535"/>
                  <a:pt x="128879" y="15049"/>
                  <a:pt x="133794" y="12877"/>
                </a:cubicBezTo>
                <a:cubicBezTo>
                  <a:pt x="130124" y="18376"/>
                  <a:pt x="125463" y="23215"/>
                  <a:pt x="120103" y="27089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335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6489720"/>
            <a:ext cx="88560" cy="5040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3" descr=""/>
          <p:cNvPicPr/>
          <p:nvPr/>
        </p:nvPicPr>
        <p:blipFill>
          <a:blip r:embed="rId3"/>
          <a:stretch/>
        </p:blipFill>
        <p:spPr>
          <a:xfrm>
            <a:off x="2260440" y="1663560"/>
            <a:ext cx="1002960" cy="4312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3" descr=""/>
          <p:cNvPicPr/>
          <p:nvPr/>
        </p:nvPicPr>
        <p:blipFill>
          <a:blip r:embed="rId4"/>
          <a:stretch/>
        </p:blipFill>
        <p:spPr>
          <a:xfrm>
            <a:off x="3390840" y="1562040"/>
            <a:ext cx="1231560" cy="4694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3" descr=""/>
          <p:cNvPicPr/>
          <p:nvPr/>
        </p:nvPicPr>
        <p:blipFill>
          <a:blip r:embed="rId5"/>
          <a:stretch/>
        </p:blipFill>
        <p:spPr>
          <a:xfrm>
            <a:off x="495360" y="2717640"/>
            <a:ext cx="1383840" cy="29714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69800" y="6527880"/>
            <a:ext cx="317160" cy="1141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3" descr=""/>
          <p:cNvPicPr/>
          <p:nvPr/>
        </p:nvPicPr>
        <p:blipFill>
          <a:blip r:embed="rId8"/>
          <a:stretch/>
        </p:blipFill>
        <p:spPr>
          <a:xfrm>
            <a:off x="2247840" y="2209680"/>
            <a:ext cx="5397120" cy="9903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" descr=""/>
          <p:cNvPicPr/>
          <p:nvPr/>
        </p:nvPicPr>
        <p:blipFill>
          <a:blip r:embed="rId9"/>
          <a:stretch/>
        </p:blipFill>
        <p:spPr>
          <a:xfrm>
            <a:off x="2413080" y="3467160"/>
            <a:ext cx="3885840" cy="16488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3" descr=""/>
          <p:cNvPicPr/>
          <p:nvPr/>
        </p:nvPicPr>
        <p:blipFill>
          <a:blip r:embed="rId10"/>
          <a:stretch/>
        </p:blipFill>
        <p:spPr>
          <a:xfrm>
            <a:off x="2413080" y="3683160"/>
            <a:ext cx="914040" cy="1519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3" descr=""/>
          <p:cNvPicPr/>
          <p:nvPr/>
        </p:nvPicPr>
        <p:blipFill>
          <a:blip r:embed="rId11"/>
          <a:stretch/>
        </p:blipFill>
        <p:spPr>
          <a:xfrm>
            <a:off x="3352680" y="3670200"/>
            <a:ext cx="2704680" cy="1648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3" descr=""/>
          <p:cNvPicPr/>
          <p:nvPr/>
        </p:nvPicPr>
        <p:blipFill>
          <a:blip r:embed="rId12"/>
          <a:stretch/>
        </p:blipFill>
        <p:spPr>
          <a:xfrm>
            <a:off x="2413080" y="3873600"/>
            <a:ext cx="1701360" cy="1393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3" descr=""/>
          <p:cNvPicPr/>
          <p:nvPr/>
        </p:nvPicPr>
        <p:blipFill>
          <a:blip r:embed="rId13"/>
          <a:stretch/>
        </p:blipFill>
        <p:spPr>
          <a:xfrm>
            <a:off x="2413080" y="4267080"/>
            <a:ext cx="2247480" cy="1519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3" descr=""/>
          <p:cNvPicPr/>
          <p:nvPr/>
        </p:nvPicPr>
        <p:blipFill>
          <a:blip r:embed="rId14"/>
          <a:stretch/>
        </p:blipFill>
        <p:spPr>
          <a:xfrm>
            <a:off x="4699080" y="4267080"/>
            <a:ext cx="1561680" cy="1519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3" descr=""/>
          <p:cNvPicPr/>
          <p:nvPr/>
        </p:nvPicPr>
        <p:blipFill>
          <a:blip r:embed="rId15"/>
          <a:stretch/>
        </p:blipFill>
        <p:spPr>
          <a:xfrm>
            <a:off x="2413080" y="4444920"/>
            <a:ext cx="3720600" cy="16488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3" descr=""/>
          <p:cNvPicPr/>
          <p:nvPr/>
        </p:nvPicPr>
        <p:blipFill>
          <a:blip r:embed="rId16"/>
          <a:stretch/>
        </p:blipFill>
        <p:spPr>
          <a:xfrm>
            <a:off x="2413080" y="4813200"/>
            <a:ext cx="3708000" cy="1648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3" descr=""/>
          <p:cNvPicPr/>
          <p:nvPr/>
        </p:nvPicPr>
        <p:blipFill>
          <a:blip r:embed="rId17"/>
          <a:stretch/>
        </p:blipFill>
        <p:spPr>
          <a:xfrm>
            <a:off x="2413080" y="4991040"/>
            <a:ext cx="3936600" cy="1648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3" descr=""/>
          <p:cNvPicPr/>
          <p:nvPr/>
        </p:nvPicPr>
        <p:blipFill>
          <a:blip r:embed="rId18"/>
          <a:stretch/>
        </p:blipFill>
        <p:spPr>
          <a:xfrm>
            <a:off x="2413080" y="5359320"/>
            <a:ext cx="3708000" cy="1648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3" descr=""/>
          <p:cNvPicPr/>
          <p:nvPr/>
        </p:nvPicPr>
        <p:blipFill>
          <a:blip r:embed="rId19"/>
          <a:stretch/>
        </p:blipFill>
        <p:spPr>
          <a:xfrm>
            <a:off x="2413080" y="5537160"/>
            <a:ext cx="3822480" cy="1648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3" descr="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4775040" y="6489720"/>
            <a:ext cx="507600" cy="101160"/>
          </a:xfrm>
          <a:prstGeom prst="rect">
            <a:avLst/>
          </a:prstGeom>
          <a:ln w="0">
            <a:noFill/>
          </a:ln>
        </p:spPr>
      </p:pic>
      <p:sp>
        <p:nvSpPr>
          <p:cNvPr id="353" name="矩形 38">
            <a:hlinkClick r:id="rId22"/>
          </p:cNvPr>
          <p:cNvSpPr/>
          <p:nvPr/>
        </p:nvSpPr>
        <p:spPr>
          <a:xfrm>
            <a:off x="526680" y="0"/>
            <a:ext cx="828072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59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Freeform 3"/>
          <p:cNvSpPr/>
          <p:nvPr/>
        </p:nvSpPr>
        <p:spPr>
          <a:xfrm>
            <a:off x="216000" y="6539040"/>
            <a:ext cx="88200" cy="88920"/>
          </a:xfrm>
          <a:custGeom>
            <a:avLst/>
            <a:gdLst>
              <a:gd name="textAreaLeft" fmla="*/ 0 w 88200"/>
              <a:gd name="textAreaRight" fmla="*/ 88560 w 8820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88595" h="89458">
                <a:moveTo>
                  <a:pt x="0" y="89458"/>
                </a:moveTo>
                <a:lnTo>
                  <a:pt x="43395" y="0"/>
                </a:lnTo>
                <a:lnTo>
                  <a:pt x="88595" y="89458"/>
                </a:lnTo>
                <a:lnTo>
                  <a:pt x="71056" y="89458"/>
                </a:lnTo>
                <a:lnTo>
                  <a:pt x="44297" y="30874"/>
                </a:lnTo>
                <a:lnTo>
                  <a:pt x="17386" y="89458"/>
                </a:lnTo>
                <a:lnTo>
                  <a:pt x="0" y="89458"/>
                </a:lnTo>
              </a:path>
            </a:pathLst>
          </a:custGeom>
          <a:solidFill>
            <a:srgbClr val="80808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4280" bIns="44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5" name="Freeform 3"/>
          <p:cNvSpPr/>
          <p:nvPr/>
        </p:nvSpPr>
        <p:spPr>
          <a:xfrm>
            <a:off x="237600" y="6595200"/>
            <a:ext cx="47520" cy="10800"/>
          </a:xfrm>
          <a:custGeom>
            <a:avLst/>
            <a:gdLst>
              <a:gd name="textAreaLeft" fmla="*/ 0 w 47520"/>
              <a:gd name="textAreaRight" fmla="*/ 47880 w 4752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47980" h="11138">
                <a:moveTo>
                  <a:pt x="0" y="5568"/>
                </a:moveTo>
                <a:lnTo>
                  <a:pt x="47980" y="5568"/>
                </a:lnTo>
              </a:path>
            </a:pathLst>
          </a:custGeom>
          <a:noFill/>
          <a:ln w="0">
            <a:solidFill>
              <a:srgbClr val="808080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3840" bIns="-33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Freeform 3"/>
          <p:cNvSpPr/>
          <p:nvPr/>
        </p:nvSpPr>
        <p:spPr>
          <a:xfrm>
            <a:off x="164520" y="6539040"/>
            <a:ext cx="61920" cy="88920"/>
          </a:xfrm>
          <a:custGeom>
            <a:avLst/>
            <a:gdLst>
              <a:gd name="textAreaLeft" fmla="*/ 0 w 61920"/>
              <a:gd name="textAreaRight" fmla="*/ 62280 w 6192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62141" h="89434">
                <a:moveTo>
                  <a:pt x="0" y="0"/>
                </a:moveTo>
                <a:lnTo>
                  <a:pt x="0" y="16357"/>
                </a:lnTo>
                <a:lnTo>
                  <a:pt x="22263" y="16357"/>
                </a:lnTo>
                <a:lnTo>
                  <a:pt x="22263" y="89433"/>
                </a:lnTo>
                <a:lnTo>
                  <a:pt x="39700" y="89433"/>
                </a:lnTo>
                <a:lnTo>
                  <a:pt x="39700" y="16878"/>
                </a:lnTo>
                <a:lnTo>
                  <a:pt x="62141" y="16878"/>
                </a:lnTo>
                <a:lnTo>
                  <a:pt x="62141" y="0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4280" bIns="44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7" name="Freeform 3"/>
          <p:cNvSpPr/>
          <p:nvPr/>
        </p:nvSpPr>
        <p:spPr>
          <a:xfrm>
            <a:off x="307080" y="6538320"/>
            <a:ext cx="56520" cy="90720"/>
          </a:xfrm>
          <a:custGeom>
            <a:avLst/>
            <a:gdLst>
              <a:gd name="textAreaLeft" fmla="*/ 0 w 56520"/>
              <a:gd name="textAreaRight" fmla="*/ 56880 w 56520"/>
              <a:gd name="textAreaTop" fmla="*/ 0 h 90720"/>
              <a:gd name="textAreaBottom" fmla="*/ 91080 h 90720"/>
            </a:gdLst>
            <a:ahLst/>
            <a:rect l="textAreaLeft" t="textAreaTop" r="textAreaRight" b="textAreaBottom"/>
            <a:pathLst>
              <a:path w="56959" h="90995">
                <a:moveTo>
                  <a:pt x="30873" y="36258"/>
                </a:moveTo>
                <a:cubicBezTo>
                  <a:pt x="45440" y="40919"/>
                  <a:pt x="58064" y="46456"/>
                  <a:pt x="56959" y="66459"/>
                </a:cubicBezTo>
                <a:cubicBezTo>
                  <a:pt x="56095" y="82219"/>
                  <a:pt x="42722" y="92316"/>
                  <a:pt x="24117" y="90995"/>
                </a:cubicBezTo>
                <a:cubicBezTo>
                  <a:pt x="12750" y="90182"/>
                  <a:pt x="6324" y="84429"/>
                  <a:pt x="0" y="77723"/>
                </a:cubicBezTo>
                <a:cubicBezTo>
                  <a:pt x="3581" y="73367"/>
                  <a:pt x="7556" y="69367"/>
                  <a:pt x="11722" y="65582"/>
                </a:cubicBezTo>
                <a:cubicBezTo>
                  <a:pt x="14960" y="70345"/>
                  <a:pt x="20891" y="75615"/>
                  <a:pt x="29133" y="74917"/>
                </a:cubicBezTo>
                <a:cubicBezTo>
                  <a:pt x="34925" y="74434"/>
                  <a:pt x="41821" y="68795"/>
                  <a:pt x="38696" y="61239"/>
                </a:cubicBezTo>
                <a:cubicBezTo>
                  <a:pt x="36360" y="55588"/>
                  <a:pt x="27304" y="53327"/>
                  <a:pt x="21081" y="51041"/>
                </a:cubicBezTo>
                <a:cubicBezTo>
                  <a:pt x="9855" y="46863"/>
                  <a:pt x="266" y="41097"/>
                  <a:pt x="1511" y="23659"/>
                </a:cubicBezTo>
                <a:cubicBezTo>
                  <a:pt x="2514" y="9690"/>
                  <a:pt x="13830" y="927"/>
                  <a:pt x="28486" y="0"/>
                </a:cubicBezTo>
                <a:cubicBezTo>
                  <a:pt x="41490" y="-837"/>
                  <a:pt x="49072" y="4953"/>
                  <a:pt x="55422" y="11709"/>
                </a:cubicBezTo>
                <a:cubicBezTo>
                  <a:pt x="52298" y="16141"/>
                  <a:pt x="48425" y="19773"/>
                  <a:pt x="45224" y="24092"/>
                </a:cubicBezTo>
                <a:cubicBezTo>
                  <a:pt x="41871" y="21425"/>
                  <a:pt x="37934" y="17043"/>
                  <a:pt x="31965" y="16281"/>
                </a:cubicBezTo>
                <a:cubicBezTo>
                  <a:pt x="23634" y="15227"/>
                  <a:pt x="17005" y="20269"/>
                  <a:pt x="19329" y="28879"/>
                </a:cubicBezTo>
                <a:cubicBezTo>
                  <a:pt x="20548" y="33363"/>
                  <a:pt x="26263" y="34785"/>
                  <a:pt x="30873" y="36258"/>
                </a:cubicBezTo>
              </a:path>
            </a:pathLst>
          </a:custGeom>
          <a:solidFill>
            <a:srgbClr val="80808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8" name="Freeform 3"/>
          <p:cNvSpPr/>
          <p:nvPr/>
        </p:nvSpPr>
        <p:spPr>
          <a:xfrm>
            <a:off x="393480" y="6538320"/>
            <a:ext cx="77400" cy="90720"/>
          </a:xfrm>
          <a:custGeom>
            <a:avLst/>
            <a:gdLst>
              <a:gd name="textAreaLeft" fmla="*/ 0 w 77400"/>
              <a:gd name="textAreaRight" fmla="*/ 77760 w 77400"/>
              <a:gd name="textAreaTop" fmla="*/ 0 h 90720"/>
              <a:gd name="textAreaBottom" fmla="*/ 91080 h 90720"/>
            </a:gdLst>
            <a:ahLst/>
            <a:rect l="textAreaLeft" t="textAreaTop" r="textAreaRight" b="textAreaBottom"/>
            <a:pathLst>
              <a:path w="77914" h="90992">
                <a:moveTo>
                  <a:pt x="77914" y="60350"/>
                </a:moveTo>
                <a:lnTo>
                  <a:pt x="77914" y="78244"/>
                </a:lnTo>
                <a:cubicBezTo>
                  <a:pt x="76987" y="81395"/>
                  <a:pt x="68516" y="85445"/>
                  <a:pt x="65443" y="86792"/>
                </a:cubicBezTo>
                <a:cubicBezTo>
                  <a:pt x="31889" y="101600"/>
                  <a:pt x="-3302" y="77470"/>
                  <a:pt x="0" y="39687"/>
                </a:cubicBezTo>
                <a:cubicBezTo>
                  <a:pt x="1879" y="18098"/>
                  <a:pt x="19786" y="1778"/>
                  <a:pt x="41313" y="0"/>
                </a:cubicBezTo>
                <a:cubicBezTo>
                  <a:pt x="57391" y="-1282"/>
                  <a:pt x="66484" y="4229"/>
                  <a:pt x="75945" y="10909"/>
                </a:cubicBezTo>
                <a:lnTo>
                  <a:pt x="71272" y="17526"/>
                </a:lnTo>
                <a:cubicBezTo>
                  <a:pt x="63906" y="13475"/>
                  <a:pt x="57835" y="8141"/>
                  <a:pt x="47536" y="7797"/>
                </a:cubicBezTo>
                <a:cubicBezTo>
                  <a:pt x="23291" y="7036"/>
                  <a:pt x="7429" y="26734"/>
                  <a:pt x="8978" y="47879"/>
                </a:cubicBezTo>
                <a:cubicBezTo>
                  <a:pt x="9867" y="60579"/>
                  <a:pt x="17170" y="71958"/>
                  <a:pt x="26898" y="77851"/>
                </a:cubicBezTo>
                <a:cubicBezTo>
                  <a:pt x="37871" y="84544"/>
                  <a:pt x="59829" y="84976"/>
                  <a:pt x="69341" y="74345"/>
                </a:cubicBezTo>
                <a:lnTo>
                  <a:pt x="69341" y="49822"/>
                </a:lnTo>
                <a:lnTo>
                  <a:pt x="40881" y="49822"/>
                </a:lnTo>
                <a:lnTo>
                  <a:pt x="43256" y="41656"/>
                </a:lnTo>
                <a:lnTo>
                  <a:pt x="77914" y="41656"/>
                </a:lnTo>
                <a:lnTo>
                  <a:pt x="77914" y="60350"/>
                </a:lnTo>
              </a:path>
            </a:pathLst>
          </a:custGeom>
          <a:solidFill>
            <a:srgbClr val="80808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9" name="Freeform 3"/>
          <p:cNvSpPr/>
          <p:nvPr/>
        </p:nvSpPr>
        <p:spPr>
          <a:xfrm>
            <a:off x="779040" y="6539040"/>
            <a:ext cx="6840" cy="11160"/>
          </a:xfrm>
          <a:custGeom>
            <a:avLst/>
            <a:gdLst>
              <a:gd name="textAreaLeft" fmla="*/ 0 w 6840"/>
              <a:gd name="textAreaRight" fmla="*/ 7200 w 68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7124" h="11696">
                <a:moveTo>
                  <a:pt x="4444" y="1663"/>
                </a:moveTo>
                <a:lnTo>
                  <a:pt x="4444" y="11696"/>
                </a:lnTo>
                <a:lnTo>
                  <a:pt x="2679" y="11696"/>
                </a:lnTo>
                <a:lnTo>
                  <a:pt x="2679" y="1663"/>
                </a:lnTo>
                <a:lnTo>
                  <a:pt x="0" y="1663"/>
                </a:lnTo>
                <a:lnTo>
                  <a:pt x="0" y="0"/>
                </a:lnTo>
                <a:lnTo>
                  <a:pt x="7124" y="0"/>
                </a:lnTo>
                <a:lnTo>
                  <a:pt x="7124" y="1663"/>
                </a:lnTo>
                <a:lnTo>
                  <a:pt x="4444" y="1663"/>
                </a:lnTo>
              </a:path>
            </a:pathLst>
          </a:custGeom>
          <a:solidFill>
            <a:srgbClr val="80808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3480" bIns="-33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60" name="Freeform 3"/>
          <p:cNvSpPr/>
          <p:nvPr/>
        </p:nvSpPr>
        <p:spPr>
          <a:xfrm>
            <a:off x="787320" y="6538320"/>
            <a:ext cx="12600" cy="12600"/>
          </a:xfrm>
          <a:custGeom>
            <a:avLst/>
            <a:gdLst>
              <a:gd name="textAreaLeft" fmla="*/ 0 w 12600"/>
              <a:gd name="textAreaRight" fmla="*/ 12960 w 1260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12839" h="13106">
                <a:moveTo>
                  <a:pt x="0" y="12572"/>
                </a:moveTo>
                <a:lnTo>
                  <a:pt x="2463" y="0"/>
                </a:lnTo>
                <a:lnTo>
                  <a:pt x="6477" y="9093"/>
                </a:lnTo>
                <a:lnTo>
                  <a:pt x="10629" y="0"/>
                </a:lnTo>
                <a:lnTo>
                  <a:pt x="12839" y="12572"/>
                </a:lnTo>
                <a:lnTo>
                  <a:pt x="11023" y="12572"/>
                </a:lnTo>
                <a:lnTo>
                  <a:pt x="9906" y="5512"/>
                </a:lnTo>
                <a:lnTo>
                  <a:pt x="6438" y="13106"/>
                </a:lnTo>
                <a:lnTo>
                  <a:pt x="3086" y="5512"/>
                </a:lnTo>
                <a:lnTo>
                  <a:pt x="1828" y="12572"/>
                </a:lnTo>
                <a:lnTo>
                  <a:pt x="0" y="12572"/>
                </a:lnTo>
              </a:path>
            </a:pathLst>
          </a:custGeom>
          <a:solidFill>
            <a:srgbClr val="80808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2040" bIns="-320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61" name="Freeform 3"/>
          <p:cNvSpPr/>
          <p:nvPr/>
        </p:nvSpPr>
        <p:spPr>
          <a:xfrm>
            <a:off x="7326360" y="3400560"/>
            <a:ext cx="966960" cy="845640"/>
          </a:xfrm>
          <a:custGeom>
            <a:avLst/>
            <a:gdLst>
              <a:gd name="textAreaLeft" fmla="*/ 0 w 966960"/>
              <a:gd name="textAreaRight" fmla="*/ 967320 w 966960"/>
              <a:gd name="textAreaTop" fmla="*/ 0 h 845640"/>
              <a:gd name="textAreaBottom" fmla="*/ 846000 h 845640"/>
            </a:gdLst>
            <a:ahLst/>
            <a:rect l="textAreaLeft" t="textAreaTop" r="textAreaRight" b="textAreaBottom"/>
            <a:pathLst>
              <a:path w="967181" h="846137">
                <a:moveTo>
                  <a:pt x="497840" y="846137"/>
                </a:moveTo>
                <a:lnTo>
                  <a:pt x="967181" y="447421"/>
                </a:lnTo>
                <a:cubicBezTo>
                  <a:pt x="734034" y="173926"/>
                  <a:pt x="386918" y="12"/>
                  <a:pt x="0" y="0"/>
                </a:cubicBezTo>
                <a:lnTo>
                  <a:pt x="0" y="615734"/>
                </a:lnTo>
                <a:cubicBezTo>
                  <a:pt x="199211" y="615746"/>
                  <a:pt x="377799" y="705320"/>
                  <a:pt x="497840" y="846137"/>
                </a:cubicBezTo>
              </a:path>
            </a:pathLst>
          </a:custGeom>
          <a:solidFill>
            <a:srgbClr val="dca83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62" name="Freeform 3"/>
          <p:cNvSpPr/>
          <p:nvPr/>
        </p:nvSpPr>
        <p:spPr>
          <a:xfrm>
            <a:off x="7661520" y="3617280"/>
            <a:ext cx="934200" cy="1035360"/>
          </a:xfrm>
          <a:custGeom>
            <a:avLst/>
            <a:gdLst>
              <a:gd name="textAreaLeft" fmla="*/ 0 w 934200"/>
              <a:gd name="textAreaRight" fmla="*/ 934560 w 934200"/>
              <a:gd name="textAreaTop" fmla="*/ 0 h 1035360"/>
              <a:gd name="textAreaBottom" fmla="*/ 1035720 h 1035360"/>
            </a:gdLst>
            <a:ahLst/>
            <a:rect l="textAreaLeft" t="textAreaTop" r="textAreaRight" b="textAreaBottom"/>
            <a:pathLst>
              <a:path w="934453" h="1035850">
                <a:moveTo>
                  <a:pt x="318350" y="1035849"/>
                </a:moveTo>
                <a:lnTo>
                  <a:pt x="934453" y="1020267"/>
                </a:lnTo>
                <a:cubicBezTo>
                  <a:pt x="923823" y="595870"/>
                  <a:pt x="703579" y="222541"/>
                  <a:pt x="373494" y="0"/>
                </a:cubicBezTo>
                <a:lnTo>
                  <a:pt x="44957" y="416534"/>
                </a:lnTo>
                <a:lnTo>
                  <a:pt x="0" y="491693"/>
                </a:lnTo>
                <a:cubicBezTo>
                  <a:pt x="186321" y="603262"/>
                  <a:pt x="312559" y="804862"/>
                  <a:pt x="318350" y="1035849"/>
                </a:cubicBezTo>
              </a:path>
            </a:pathLst>
          </a:custGeom>
          <a:solidFill>
            <a:srgbClr val="99331e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63" name="Freeform 3"/>
          <p:cNvSpPr/>
          <p:nvPr/>
        </p:nvSpPr>
        <p:spPr>
          <a:xfrm>
            <a:off x="6495480" y="4437360"/>
            <a:ext cx="2100600" cy="1500840"/>
          </a:xfrm>
          <a:custGeom>
            <a:avLst/>
            <a:gdLst>
              <a:gd name="textAreaLeft" fmla="*/ 0 w 2100600"/>
              <a:gd name="textAreaRight" fmla="*/ 2100960 w 2100600"/>
              <a:gd name="textAreaTop" fmla="*/ 0 h 1500840"/>
              <a:gd name="textAreaBottom" fmla="*/ 1501200 h 1500840"/>
            </a:gdLst>
            <a:ahLst/>
            <a:rect l="textAreaLeft" t="textAreaTop" r="textAreaRight" b="textAreaBottom"/>
            <a:pathLst>
              <a:path w="2100833" h="1501140">
                <a:moveTo>
                  <a:pt x="2079421" y="0"/>
                </a:moveTo>
                <a:lnTo>
                  <a:pt x="1473733" y="113588"/>
                </a:lnTo>
                <a:cubicBezTo>
                  <a:pt x="1480845" y="152133"/>
                  <a:pt x="1484756" y="191795"/>
                  <a:pt x="1484756" y="232359"/>
                </a:cubicBezTo>
                <a:cubicBezTo>
                  <a:pt x="1484756" y="592582"/>
                  <a:pt x="1191399" y="885647"/>
                  <a:pt x="830808" y="885647"/>
                </a:cubicBezTo>
                <a:cubicBezTo>
                  <a:pt x="667524" y="885647"/>
                  <a:pt x="518173" y="825424"/>
                  <a:pt x="403466" y="726224"/>
                </a:cubicBezTo>
                <a:lnTo>
                  <a:pt x="0" y="1191209"/>
                </a:lnTo>
                <a:cubicBezTo>
                  <a:pt x="222846" y="1384211"/>
                  <a:pt x="513410" y="1501140"/>
                  <a:pt x="830795" y="1501140"/>
                </a:cubicBezTo>
                <a:cubicBezTo>
                  <a:pt x="1531099" y="1501140"/>
                  <a:pt x="2100833" y="931976"/>
                  <a:pt x="2100833" y="232359"/>
                </a:cubicBezTo>
                <a:cubicBezTo>
                  <a:pt x="2100833" y="152996"/>
                  <a:pt x="2093442" y="75362"/>
                  <a:pt x="2079421" y="0"/>
                </a:cubicBezTo>
              </a:path>
            </a:pathLst>
          </a:custGeom>
          <a:solidFill>
            <a:srgbClr val="3e552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64" name="Freeform 3"/>
          <p:cNvSpPr/>
          <p:nvPr/>
        </p:nvSpPr>
        <p:spPr>
          <a:xfrm>
            <a:off x="137520" y="121320"/>
            <a:ext cx="1732320" cy="1732320"/>
          </a:xfrm>
          <a:custGeom>
            <a:avLst/>
            <a:gdLst>
              <a:gd name="textAreaLeft" fmla="*/ 0 w 1732320"/>
              <a:gd name="textAreaRight" fmla="*/ 1732680 w 1732320"/>
              <a:gd name="textAreaTop" fmla="*/ 0 h 1732320"/>
              <a:gd name="textAreaBottom" fmla="*/ 1732680 h 1732320"/>
            </a:gdLst>
            <a:ahLst/>
            <a:rect l="textAreaLeft" t="textAreaTop" r="textAreaRight" b="textAreaBottom"/>
            <a:pathLst>
              <a:path w="1732788" h="1732788">
                <a:moveTo>
                  <a:pt x="866394" y="1732787"/>
                </a:moveTo>
                <a:cubicBezTo>
                  <a:pt x="1344891" y="1732787"/>
                  <a:pt x="1732787" y="1344891"/>
                  <a:pt x="1732787" y="866393"/>
                </a:cubicBezTo>
                <a:cubicBezTo>
                  <a:pt x="1732787" y="387896"/>
                  <a:pt x="1344891" y="0"/>
                  <a:pt x="866393" y="0"/>
                </a:cubicBezTo>
                <a:cubicBezTo>
                  <a:pt x="387896" y="0"/>
                  <a:pt x="0" y="387896"/>
                  <a:pt x="0" y="866393"/>
                </a:cubicBezTo>
                <a:cubicBezTo>
                  <a:pt x="0" y="1344891"/>
                  <a:pt x="387896" y="1732787"/>
                  <a:pt x="866393" y="1732787"/>
                </a:cubicBezTo>
              </a:path>
            </a:pathLst>
          </a:custGeom>
          <a:solidFill>
            <a:srgbClr val="fccf38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65" name="Freeform 3"/>
          <p:cNvSpPr/>
          <p:nvPr/>
        </p:nvSpPr>
        <p:spPr>
          <a:xfrm>
            <a:off x="8055360" y="191880"/>
            <a:ext cx="126720" cy="734760"/>
          </a:xfrm>
          <a:custGeom>
            <a:avLst/>
            <a:gdLst>
              <a:gd name="textAreaLeft" fmla="*/ 0 w 126720"/>
              <a:gd name="textAreaRight" fmla="*/ 127080 w 126720"/>
              <a:gd name="textAreaTop" fmla="*/ 0 h 734760"/>
              <a:gd name="textAreaBottom" fmla="*/ 735120 h 734760"/>
            </a:gdLst>
            <a:ahLst/>
            <a:rect l="textAreaLeft" t="textAreaTop" r="textAreaRight" b="textAreaBottom"/>
            <a:pathLst>
              <a:path w="127000" h="735228">
                <a:moveTo>
                  <a:pt x="31750" y="31750"/>
                </a:moveTo>
                <a:lnTo>
                  <a:pt x="31750" y="703478"/>
                </a:lnTo>
              </a:path>
            </a:pathLst>
          </a:custGeom>
          <a:noFill/>
          <a:ln w="63500">
            <a:solidFill>
              <a:srgbClr val="fccf38"/>
            </a:solidFill>
            <a:prstDash val="dash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Freeform 3"/>
          <p:cNvSpPr/>
          <p:nvPr/>
        </p:nvSpPr>
        <p:spPr>
          <a:xfrm>
            <a:off x="2084400" y="959760"/>
            <a:ext cx="5844600" cy="126720"/>
          </a:xfrm>
          <a:custGeom>
            <a:avLst/>
            <a:gdLst>
              <a:gd name="textAreaLeft" fmla="*/ 0 w 5844600"/>
              <a:gd name="textAreaRight" fmla="*/ 5844960 w 584460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5844908" h="127000">
                <a:moveTo>
                  <a:pt x="5813157" y="31750"/>
                </a:moveTo>
                <a:lnTo>
                  <a:pt x="31750" y="31750"/>
                </a:lnTo>
              </a:path>
            </a:pathLst>
          </a:custGeom>
          <a:noFill/>
          <a:ln w="63500">
            <a:solidFill>
              <a:srgbClr val="fccf38"/>
            </a:solidFill>
            <a:prstDash val="dash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Freeform 3"/>
          <p:cNvSpPr/>
          <p:nvPr/>
        </p:nvSpPr>
        <p:spPr>
          <a:xfrm>
            <a:off x="959760" y="2135160"/>
            <a:ext cx="126720" cy="4654440"/>
          </a:xfrm>
          <a:custGeom>
            <a:avLst/>
            <a:gdLst>
              <a:gd name="textAreaLeft" fmla="*/ 0 w 126720"/>
              <a:gd name="textAreaRight" fmla="*/ 127080 w 126720"/>
              <a:gd name="textAreaTop" fmla="*/ 0 h 4654440"/>
              <a:gd name="textAreaBottom" fmla="*/ 4654800 h 4654440"/>
            </a:gdLst>
            <a:ahLst/>
            <a:rect l="textAreaLeft" t="textAreaTop" r="textAreaRight" b="textAreaBottom"/>
            <a:pathLst>
              <a:path w="127000" h="4654638">
                <a:moveTo>
                  <a:pt x="31750" y="31750"/>
                </a:moveTo>
                <a:lnTo>
                  <a:pt x="31750" y="4622888"/>
                </a:lnTo>
              </a:path>
            </a:pathLst>
          </a:custGeom>
          <a:noFill/>
          <a:ln w="63500">
            <a:solidFill>
              <a:srgbClr val="fccf38"/>
            </a:solidFill>
            <a:prstDash val="dash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Freeform 3"/>
          <p:cNvSpPr/>
          <p:nvPr/>
        </p:nvSpPr>
        <p:spPr>
          <a:xfrm>
            <a:off x="2105640" y="4167720"/>
            <a:ext cx="63720" cy="63720"/>
          </a:xfrm>
          <a:custGeom>
            <a:avLst/>
            <a:gdLst>
              <a:gd name="textAreaLeft" fmla="*/ 0 w 63720"/>
              <a:gd name="textAreaRight" fmla="*/ 64080 w 6372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64008" h="64007">
                <a:moveTo>
                  <a:pt x="32004" y="64008"/>
                </a:moveTo>
                <a:cubicBezTo>
                  <a:pt x="49682" y="64008"/>
                  <a:pt x="64007" y="49682"/>
                  <a:pt x="64007" y="32003"/>
                </a:cubicBezTo>
                <a:cubicBezTo>
                  <a:pt x="64007" y="14325"/>
                  <a:pt x="49682" y="0"/>
                  <a:pt x="32004" y="0"/>
                </a:cubicBezTo>
                <a:cubicBezTo>
                  <a:pt x="14325" y="0"/>
                  <a:pt x="0" y="14325"/>
                  <a:pt x="0" y="32003"/>
                </a:cubicBezTo>
                <a:cubicBezTo>
                  <a:pt x="0" y="49682"/>
                  <a:pt x="14325" y="64008"/>
                  <a:pt x="32004" y="64008"/>
                </a:cubicBezTo>
              </a:path>
            </a:pathLst>
          </a:custGeom>
          <a:solidFill>
            <a:srgbClr val="459ddc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69" name="Freeform 3"/>
          <p:cNvSpPr/>
          <p:nvPr/>
        </p:nvSpPr>
        <p:spPr>
          <a:xfrm>
            <a:off x="2105640" y="4969080"/>
            <a:ext cx="63720" cy="63720"/>
          </a:xfrm>
          <a:custGeom>
            <a:avLst/>
            <a:gdLst>
              <a:gd name="textAreaLeft" fmla="*/ 0 w 63720"/>
              <a:gd name="textAreaRight" fmla="*/ 64080 w 6372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64008" h="64007">
                <a:moveTo>
                  <a:pt x="32004" y="64008"/>
                </a:moveTo>
                <a:cubicBezTo>
                  <a:pt x="49682" y="64008"/>
                  <a:pt x="64007" y="49682"/>
                  <a:pt x="64007" y="32003"/>
                </a:cubicBezTo>
                <a:cubicBezTo>
                  <a:pt x="64007" y="14325"/>
                  <a:pt x="49682" y="0"/>
                  <a:pt x="32004" y="0"/>
                </a:cubicBezTo>
                <a:cubicBezTo>
                  <a:pt x="14325" y="0"/>
                  <a:pt x="0" y="14325"/>
                  <a:pt x="0" y="32003"/>
                </a:cubicBezTo>
                <a:cubicBezTo>
                  <a:pt x="0" y="49682"/>
                  <a:pt x="14325" y="64008"/>
                  <a:pt x="32004" y="64008"/>
                </a:cubicBezTo>
              </a:path>
            </a:pathLst>
          </a:custGeom>
          <a:solidFill>
            <a:srgbClr val="459ddc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70" name="Freeform 3"/>
          <p:cNvSpPr/>
          <p:nvPr/>
        </p:nvSpPr>
        <p:spPr>
          <a:xfrm>
            <a:off x="2105640" y="5675760"/>
            <a:ext cx="63720" cy="63720"/>
          </a:xfrm>
          <a:custGeom>
            <a:avLst/>
            <a:gdLst>
              <a:gd name="textAreaLeft" fmla="*/ 0 w 63720"/>
              <a:gd name="textAreaRight" fmla="*/ 64080 w 6372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64008" h="64007">
                <a:moveTo>
                  <a:pt x="32004" y="64008"/>
                </a:moveTo>
                <a:cubicBezTo>
                  <a:pt x="49682" y="64008"/>
                  <a:pt x="64007" y="49682"/>
                  <a:pt x="64007" y="32003"/>
                </a:cubicBezTo>
                <a:cubicBezTo>
                  <a:pt x="64007" y="14325"/>
                  <a:pt x="49682" y="0"/>
                  <a:pt x="32004" y="0"/>
                </a:cubicBezTo>
                <a:cubicBezTo>
                  <a:pt x="14325" y="0"/>
                  <a:pt x="0" y="14325"/>
                  <a:pt x="0" y="32003"/>
                </a:cubicBezTo>
                <a:cubicBezTo>
                  <a:pt x="0" y="49682"/>
                  <a:pt x="14325" y="64008"/>
                  <a:pt x="32004" y="64008"/>
                </a:cubicBezTo>
              </a:path>
            </a:pathLst>
          </a:custGeom>
          <a:solidFill>
            <a:srgbClr val="459ddc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71" name="Freeform 3"/>
          <p:cNvSpPr/>
          <p:nvPr/>
        </p:nvSpPr>
        <p:spPr>
          <a:xfrm>
            <a:off x="7213680" y="357084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37" h="0">
                <a:moveTo>
                  <a:pt x="0" y="0"/>
                </a:moveTo>
                <a:lnTo>
                  <a:pt x="37" y="0"/>
                </a:lnTo>
                <a:lnTo>
                  <a:pt x="0" y="0"/>
                </a:lnTo>
              </a:path>
            </a:pathLst>
          </a:custGeom>
          <a:solidFill>
            <a:srgbClr val="231f2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72" name="Freeform 3"/>
          <p:cNvSpPr/>
          <p:nvPr/>
        </p:nvSpPr>
        <p:spPr>
          <a:xfrm>
            <a:off x="7289640" y="3367800"/>
            <a:ext cx="966960" cy="845640"/>
          </a:xfrm>
          <a:custGeom>
            <a:avLst/>
            <a:gdLst>
              <a:gd name="textAreaLeft" fmla="*/ 0 w 966960"/>
              <a:gd name="textAreaRight" fmla="*/ 967320 w 966960"/>
              <a:gd name="textAreaTop" fmla="*/ 0 h 845640"/>
              <a:gd name="textAreaBottom" fmla="*/ 846000 h 845640"/>
            </a:gdLst>
            <a:ahLst/>
            <a:rect l="textAreaLeft" t="textAreaTop" r="textAreaRight" b="textAreaBottom"/>
            <a:pathLst>
              <a:path w="967181" h="846137">
                <a:moveTo>
                  <a:pt x="497840" y="846137"/>
                </a:moveTo>
                <a:lnTo>
                  <a:pt x="967181" y="447420"/>
                </a:lnTo>
                <a:cubicBezTo>
                  <a:pt x="734034" y="173926"/>
                  <a:pt x="386918" y="12"/>
                  <a:pt x="0" y="0"/>
                </a:cubicBezTo>
                <a:lnTo>
                  <a:pt x="0" y="615734"/>
                </a:lnTo>
                <a:cubicBezTo>
                  <a:pt x="199211" y="615746"/>
                  <a:pt x="377799" y="705319"/>
                  <a:pt x="497840" y="846137"/>
                </a:cubicBezTo>
              </a:path>
            </a:pathLst>
          </a:custGeom>
          <a:solidFill>
            <a:srgbClr val="fccf38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73" name="Freeform 3"/>
          <p:cNvSpPr/>
          <p:nvPr/>
        </p:nvSpPr>
        <p:spPr>
          <a:xfrm>
            <a:off x="7624800" y="3584160"/>
            <a:ext cx="934200" cy="1035360"/>
          </a:xfrm>
          <a:custGeom>
            <a:avLst/>
            <a:gdLst>
              <a:gd name="textAreaLeft" fmla="*/ 0 w 934200"/>
              <a:gd name="textAreaRight" fmla="*/ 934560 w 934200"/>
              <a:gd name="textAreaTop" fmla="*/ 0 h 1035360"/>
              <a:gd name="textAreaBottom" fmla="*/ 1035720 h 1035360"/>
            </a:gdLst>
            <a:ahLst/>
            <a:rect l="textAreaLeft" t="textAreaTop" r="textAreaRight" b="textAreaBottom"/>
            <a:pathLst>
              <a:path w="934453" h="1035849">
                <a:moveTo>
                  <a:pt x="318350" y="1035849"/>
                </a:moveTo>
                <a:lnTo>
                  <a:pt x="934453" y="1020267"/>
                </a:lnTo>
                <a:cubicBezTo>
                  <a:pt x="923823" y="595871"/>
                  <a:pt x="703579" y="222542"/>
                  <a:pt x="373494" y="0"/>
                </a:cubicBezTo>
                <a:lnTo>
                  <a:pt x="44957" y="416534"/>
                </a:lnTo>
                <a:lnTo>
                  <a:pt x="0" y="491693"/>
                </a:lnTo>
                <a:cubicBezTo>
                  <a:pt x="186321" y="603262"/>
                  <a:pt x="312559" y="804862"/>
                  <a:pt x="318350" y="1035849"/>
                </a:cubicBezTo>
              </a:path>
            </a:pathLst>
          </a:custGeom>
          <a:solidFill>
            <a:srgbClr val="cb4d2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74" name="Freeform 3"/>
          <p:cNvSpPr/>
          <p:nvPr/>
        </p:nvSpPr>
        <p:spPr>
          <a:xfrm>
            <a:off x="6459120" y="4404240"/>
            <a:ext cx="2100600" cy="1500840"/>
          </a:xfrm>
          <a:custGeom>
            <a:avLst/>
            <a:gdLst>
              <a:gd name="textAreaLeft" fmla="*/ 0 w 2100600"/>
              <a:gd name="textAreaRight" fmla="*/ 2100960 w 2100600"/>
              <a:gd name="textAreaTop" fmla="*/ 0 h 1500840"/>
              <a:gd name="textAreaBottom" fmla="*/ 1501200 h 1500840"/>
            </a:gdLst>
            <a:ahLst/>
            <a:rect l="textAreaLeft" t="textAreaTop" r="textAreaRight" b="textAreaBottom"/>
            <a:pathLst>
              <a:path w="2100833" h="1501140">
                <a:moveTo>
                  <a:pt x="2079421" y="0"/>
                </a:moveTo>
                <a:lnTo>
                  <a:pt x="1473733" y="113588"/>
                </a:lnTo>
                <a:cubicBezTo>
                  <a:pt x="1480845" y="152133"/>
                  <a:pt x="1484757" y="191795"/>
                  <a:pt x="1484757" y="232359"/>
                </a:cubicBezTo>
                <a:cubicBezTo>
                  <a:pt x="1484757" y="592582"/>
                  <a:pt x="1191400" y="885647"/>
                  <a:pt x="830808" y="885647"/>
                </a:cubicBezTo>
                <a:cubicBezTo>
                  <a:pt x="667525" y="885647"/>
                  <a:pt x="518173" y="825424"/>
                  <a:pt x="403466" y="726224"/>
                </a:cubicBezTo>
                <a:lnTo>
                  <a:pt x="0" y="1191209"/>
                </a:lnTo>
                <a:cubicBezTo>
                  <a:pt x="222846" y="1384211"/>
                  <a:pt x="513410" y="1501140"/>
                  <a:pt x="830795" y="1501140"/>
                </a:cubicBezTo>
                <a:cubicBezTo>
                  <a:pt x="1531099" y="1501140"/>
                  <a:pt x="2100833" y="931976"/>
                  <a:pt x="2100833" y="232359"/>
                </a:cubicBezTo>
                <a:cubicBezTo>
                  <a:pt x="2100833" y="152996"/>
                  <a:pt x="2093442" y="75362"/>
                  <a:pt x="2079421" y="0"/>
                </a:cubicBezTo>
              </a:path>
            </a:pathLst>
          </a:custGeom>
          <a:solidFill>
            <a:srgbClr val="6a943c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75" name="Freeform 3"/>
          <p:cNvSpPr/>
          <p:nvPr/>
        </p:nvSpPr>
        <p:spPr>
          <a:xfrm>
            <a:off x="4946760" y="6252120"/>
            <a:ext cx="241200" cy="241200"/>
          </a:xfrm>
          <a:custGeom>
            <a:avLst/>
            <a:gdLst>
              <a:gd name="textAreaLeft" fmla="*/ 0 w 241200"/>
              <a:gd name="textAreaRight" fmla="*/ 241560 w 2412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241401" h="241401">
                <a:moveTo>
                  <a:pt x="120700" y="241401"/>
                </a:moveTo>
                <a:cubicBezTo>
                  <a:pt x="187362" y="241401"/>
                  <a:pt x="241401" y="187363"/>
                  <a:pt x="241401" y="120700"/>
                </a:cubicBezTo>
                <a:cubicBezTo>
                  <a:pt x="241401" y="54038"/>
                  <a:pt x="187362" y="0"/>
                  <a:pt x="120700" y="0"/>
                </a:cubicBezTo>
                <a:cubicBezTo>
                  <a:pt x="54038" y="0"/>
                  <a:pt x="0" y="54038"/>
                  <a:pt x="0" y="120700"/>
                </a:cubicBezTo>
                <a:cubicBezTo>
                  <a:pt x="0" y="187363"/>
                  <a:pt x="54038" y="241401"/>
                  <a:pt x="120700" y="241401"/>
                </a:cubicBezTo>
              </a:path>
            </a:pathLst>
          </a:custGeom>
          <a:solidFill>
            <a:srgbClr val="459ddc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76" name="Freeform 3"/>
          <p:cNvSpPr/>
          <p:nvPr/>
        </p:nvSpPr>
        <p:spPr>
          <a:xfrm>
            <a:off x="5000400" y="6318360"/>
            <a:ext cx="133560" cy="108360"/>
          </a:xfrm>
          <a:custGeom>
            <a:avLst/>
            <a:gdLst>
              <a:gd name="textAreaLeft" fmla="*/ 0 w 133560"/>
              <a:gd name="textAreaRight" fmla="*/ 133920 w 133560"/>
              <a:gd name="textAreaTop" fmla="*/ 0 h 108360"/>
              <a:gd name="textAreaBottom" fmla="*/ 108720 h 108360"/>
            </a:gdLst>
            <a:ahLst/>
            <a:rect l="textAreaLeft" t="textAreaTop" r="textAreaRight" b="textAreaBottom"/>
            <a:pathLst>
              <a:path w="133794" h="108737">
                <a:moveTo>
                  <a:pt x="120103" y="27089"/>
                </a:moveTo>
                <a:cubicBezTo>
                  <a:pt x="120167" y="28270"/>
                  <a:pt x="120179" y="29438"/>
                  <a:pt x="120179" y="30632"/>
                </a:cubicBezTo>
                <a:cubicBezTo>
                  <a:pt x="120179" y="66903"/>
                  <a:pt x="92570" y="108737"/>
                  <a:pt x="42074" y="108737"/>
                </a:cubicBezTo>
                <a:cubicBezTo>
                  <a:pt x="26568" y="108737"/>
                  <a:pt x="12141" y="104203"/>
                  <a:pt x="0" y="96405"/>
                </a:cubicBezTo>
                <a:cubicBezTo>
                  <a:pt x="2146" y="96659"/>
                  <a:pt x="4330" y="96786"/>
                  <a:pt x="6540" y="96786"/>
                </a:cubicBezTo>
                <a:cubicBezTo>
                  <a:pt x="19418" y="96786"/>
                  <a:pt x="31241" y="92405"/>
                  <a:pt x="40627" y="85038"/>
                </a:cubicBezTo>
                <a:cubicBezTo>
                  <a:pt x="28625" y="84810"/>
                  <a:pt x="18478" y="76873"/>
                  <a:pt x="14998" y="65976"/>
                </a:cubicBezTo>
                <a:cubicBezTo>
                  <a:pt x="16674" y="66294"/>
                  <a:pt x="18389" y="66471"/>
                  <a:pt x="20154" y="66471"/>
                </a:cubicBezTo>
                <a:cubicBezTo>
                  <a:pt x="22669" y="66471"/>
                  <a:pt x="25094" y="66128"/>
                  <a:pt x="27381" y="65506"/>
                </a:cubicBezTo>
                <a:cubicBezTo>
                  <a:pt x="14846" y="62966"/>
                  <a:pt x="5372" y="51879"/>
                  <a:pt x="5372" y="38582"/>
                </a:cubicBezTo>
                <a:lnTo>
                  <a:pt x="5372" y="38239"/>
                </a:lnTo>
                <a:cubicBezTo>
                  <a:pt x="9080" y="40297"/>
                  <a:pt x="13309" y="41528"/>
                  <a:pt x="17805" y="41668"/>
                </a:cubicBezTo>
                <a:cubicBezTo>
                  <a:pt x="10439" y="36753"/>
                  <a:pt x="5600" y="28346"/>
                  <a:pt x="5600" y="18821"/>
                </a:cubicBezTo>
                <a:cubicBezTo>
                  <a:pt x="5600" y="13792"/>
                  <a:pt x="6946" y="9067"/>
                  <a:pt x="9309" y="5016"/>
                </a:cubicBezTo>
                <a:cubicBezTo>
                  <a:pt x="22847" y="21628"/>
                  <a:pt x="43078" y="32562"/>
                  <a:pt x="65887" y="33705"/>
                </a:cubicBezTo>
                <a:cubicBezTo>
                  <a:pt x="65430" y="31699"/>
                  <a:pt x="65176" y="29603"/>
                  <a:pt x="65176" y="27444"/>
                </a:cubicBezTo>
                <a:cubicBezTo>
                  <a:pt x="65176" y="12293"/>
                  <a:pt x="77470" y="0"/>
                  <a:pt x="92633" y="0"/>
                </a:cubicBezTo>
                <a:cubicBezTo>
                  <a:pt x="100533" y="0"/>
                  <a:pt x="107670" y="3340"/>
                  <a:pt x="112674" y="8661"/>
                </a:cubicBezTo>
                <a:cubicBezTo>
                  <a:pt x="118922" y="7442"/>
                  <a:pt x="124802" y="5156"/>
                  <a:pt x="130111" y="1994"/>
                </a:cubicBezTo>
                <a:cubicBezTo>
                  <a:pt x="128054" y="8420"/>
                  <a:pt x="123710" y="13792"/>
                  <a:pt x="118033" y="17183"/>
                </a:cubicBezTo>
                <a:cubicBezTo>
                  <a:pt x="123596" y="16535"/>
                  <a:pt x="128879" y="15049"/>
                  <a:pt x="133794" y="12877"/>
                </a:cubicBezTo>
                <a:cubicBezTo>
                  <a:pt x="130124" y="18376"/>
                  <a:pt x="125463" y="23215"/>
                  <a:pt x="120103" y="27089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377" name="Picture 3" descr=""/>
          <p:cNvPicPr/>
          <p:nvPr/>
        </p:nvPicPr>
        <p:blipFill>
          <a:blip r:embed="rId1"/>
          <a:stretch/>
        </p:blipFill>
        <p:spPr>
          <a:xfrm>
            <a:off x="584280" y="393840"/>
            <a:ext cx="837720" cy="10918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2280" y="6489720"/>
            <a:ext cx="88560" cy="504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9800" y="6527880"/>
            <a:ext cx="317160" cy="1141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3" descr=""/>
          <p:cNvPicPr/>
          <p:nvPr/>
        </p:nvPicPr>
        <p:blipFill>
          <a:blip r:embed="rId6"/>
          <a:stretch/>
        </p:blipFill>
        <p:spPr>
          <a:xfrm>
            <a:off x="2070000" y="1638360"/>
            <a:ext cx="5041440" cy="4312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" descr=""/>
          <p:cNvPicPr/>
          <p:nvPr/>
        </p:nvPicPr>
        <p:blipFill>
          <a:blip r:embed="rId7"/>
          <a:stretch/>
        </p:blipFill>
        <p:spPr>
          <a:xfrm>
            <a:off x="2070000" y="2222640"/>
            <a:ext cx="1396800" cy="3679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3" descr=""/>
          <p:cNvPicPr/>
          <p:nvPr/>
        </p:nvPicPr>
        <p:blipFill>
          <a:blip r:embed="rId8"/>
          <a:stretch/>
        </p:blipFill>
        <p:spPr>
          <a:xfrm>
            <a:off x="3619440" y="2120760"/>
            <a:ext cx="3111120" cy="5583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3" descr=""/>
          <p:cNvPicPr/>
          <p:nvPr/>
        </p:nvPicPr>
        <p:blipFill>
          <a:blip r:embed="rId9"/>
          <a:stretch/>
        </p:blipFill>
        <p:spPr>
          <a:xfrm>
            <a:off x="2070000" y="2717640"/>
            <a:ext cx="3682800" cy="3679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" descr=""/>
          <p:cNvPicPr/>
          <p:nvPr/>
        </p:nvPicPr>
        <p:blipFill>
          <a:blip r:embed="rId10"/>
          <a:stretch/>
        </p:blipFill>
        <p:spPr>
          <a:xfrm>
            <a:off x="2070000" y="3213000"/>
            <a:ext cx="3644640" cy="4824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" descr=""/>
          <p:cNvPicPr/>
          <p:nvPr/>
        </p:nvPicPr>
        <p:blipFill>
          <a:blip r:embed="rId11"/>
          <a:stretch/>
        </p:blipFill>
        <p:spPr>
          <a:xfrm>
            <a:off x="2260440" y="4114800"/>
            <a:ext cx="507600" cy="1393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3" descr=""/>
          <p:cNvPicPr/>
          <p:nvPr/>
        </p:nvPicPr>
        <p:blipFill>
          <a:blip r:embed="rId12"/>
          <a:stretch/>
        </p:blipFill>
        <p:spPr>
          <a:xfrm>
            <a:off x="2806560" y="4114800"/>
            <a:ext cx="2565000" cy="1393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" descr=""/>
          <p:cNvPicPr/>
          <p:nvPr/>
        </p:nvPicPr>
        <p:blipFill>
          <a:blip r:embed="rId13"/>
          <a:stretch/>
        </p:blipFill>
        <p:spPr>
          <a:xfrm>
            <a:off x="2260440" y="4317840"/>
            <a:ext cx="888480" cy="1648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3" descr=""/>
          <p:cNvPicPr/>
          <p:nvPr/>
        </p:nvPicPr>
        <p:blipFill>
          <a:blip r:embed="rId14"/>
          <a:stretch/>
        </p:blipFill>
        <p:spPr>
          <a:xfrm>
            <a:off x="3174840" y="4317840"/>
            <a:ext cx="2171520" cy="1648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3" descr=""/>
          <p:cNvPicPr/>
          <p:nvPr/>
        </p:nvPicPr>
        <p:blipFill>
          <a:blip r:embed="rId15"/>
          <a:stretch/>
        </p:blipFill>
        <p:spPr>
          <a:xfrm>
            <a:off x="2260440" y="4521240"/>
            <a:ext cx="3352320" cy="1648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"/>
          <p:cNvPicPr/>
          <p:nvPr/>
        </p:nvPicPr>
        <p:blipFill>
          <a:blip r:embed="rId16"/>
          <a:stretch/>
        </p:blipFill>
        <p:spPr>
          <a:xfrm>
            <a:off x="2260440" y="4915080"/>
            <a:ext cx="2247480" cy="1519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" descr=""/>
          <p:cNvPicPr/>
          <p:nvPr/>
        </p:nvPicPr>
        <p:blipFill>
          <a:blip r:embed="rId17"/>
          <a:stretch/>
        </p:blipFill>
        <p:spPr>
          <a:xfrm>
            <a:off x="4533840" y="4915080"/>
            <a:ext cx="1002960" cy="1519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3" descr=""/>
          <p:cNvPicPr/>
          <p:nvPr/>
        </p:nvPicPr>
        <p:blipFill>
          <a:blip r:embed="rId18"/>
          <a:stretch/>
        </p:blipFill>
        <p:spPr>
          <a:xfrm>
            <a:off x="2247840" y="5092560"/>
            <a:ext cx="3149280" cy="1648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3" descr=""/>
          <p:cNvPicPr/>
          <p:nvPr/>
        </p:nvPicPr>
        <p:blipFill>
          <a:blip r:embed="rId19"/>
          <a:stretch/>
        </p:blipFill>
        <p:spPr>
          <a:xfrm>
            <a:off x="2260440" y="5270400"/>
            <a:ext cx="1155240" cy="1648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3" descr=""/>
          <p:cNvPicPr/>
          <p:nvPr/>
        </p:nvPicPr>
        <p:blipFill>
          <a:blip r:embed="rId20"/>
          <a:stretch/>
        </p:blipFill>
        <p:spPr>
          <a:xfrm>
            <a:off x="2247840" y="5638680"/>
            <a:ext cx="3200040" cy="1648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3" descr=""/>
          <p:cNvPicPr/>
          <p:nvPr/>
        </p:nvPicPr>
        <p:blipFill>
          <a:blip r:embed="rId21"/>
          <a:stretch/>
        </p:blipFill>
        <p:spPr>
          <a:xfrm>
            <a:off x="2260440" y="5829480"/>
            <a:ext cx="952200" cy="1393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3" descr=""/>
          <p:cNvPicPr/>
          <p:nvPr/>
        </p:nvPicPr>
        <p:blipFill>
          <a:blip r:embed="rId22"/>
          <a:stretch/>
        </p:blipFill>
        <p:spPr>
          <a:xfrm>
            <a:off x="3238560" y="5829480"/>
            <a:ext cx="1777680" cy="13932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3" descr=""/>
          <p:cNvPicPr/>
          <p:nvPr/>
        </p:nvPicPr>
        <p:blipFill>
          <a:blip r:embed="rId23"/>
          <a:stretch/>
        </p:blipFill>
        <p:spPr>
          <a:xfrm>
            <a:off x="6006960" y="3352680"/>
            <a:ext cx="2603160" cy="26031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3" descr="">
            <a:hlinkClick r:id="rId24"/>
          </p:cNvPr>
          <p:cNvPicPr/>
          <p:nvPr/>
        </p:nvPicPr>
        <p:blipFill>
          <a:blip r:embed="rId25"/>
          <a:stretch/>
        </p:blipFill>
        <p:spPr>
          <a:xfrm>
            <a:off x="4813200" y="6527880"/>
            <a:ext cx="507600" cy="101160"/>
          </a:xfrm>
          <a:prstGeom prst="rect">
            <a:avLst/>
          </a:prstGeom>
          <a:ln w="0">
            <a:noFill/>
          </a:ln>
        </p:spPr>
      </p:pic>
      <p:sp>
        <p:nvSpPr>
          <p:cNvPr id="399" name="矩形 46">
            <a:hlinkClick r:id="rId26"/>
          </p:cNvPr>
          <p:cNvSpPr/>
          <p:nvPr/>
        </p:nvSpPr>
        <p:spPr>
          <a:xfrm>
            <a:off x="526680" y="0"/>
            <a:ext cx="828072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59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Text Box 8"/>
          <p:cNvSpPr/>
          <p:nvPr/>
        </p:nvSpPr>
        <p:spPr>
          <a:xfrm>
            <a:off x="432360" y="613152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7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8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  <Words>170</Words>
  <Paragraphs>3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www.pptbz.com</dc:creator>
  <dc:description/>
  <dc:language>en-US</dc:language>
  <cp:lastModifiedBy>yu wang</cp:lastModifiedBy>
  <dcterms:modified xsi:type="dcterms:W3CDTF">2015-08-03T12:19:11Z</dcterms:modified>
  <cp:revision>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2</vt:r8>
  </property>
</Properties>
</file>