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DB3-9CD1-4D4B-9555-4AB7D579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971-D812-4E2B-B129-533B861C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3AA-2A00-4A3C-8D48-6E1D2880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C5E-6178-46BA-8474-77FE4457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0FB4-9C23-44C4-BA81-4B40AE76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DE09-6A06-4645-9B94-4E4895CC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7EE-47F6-4C9F-8D17-1087C97F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942-8F4E-43E0-895A-6FD236DF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BEE1-289C-4B6D-824C-91E93BCE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9133-1808-4788-B8D3-C835C2B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EDED-4C16-480E-92D1-A74577D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5EE-0EDF-4A58-8800-BDA24932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9D25-8519-4F81-AEE1-DD23665E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86E-C747-4F4B-B69C-66B9F04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2DFC-C46C-4EA3-AC7F-9FA9FF4F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19C4-8D57-4C24-8885-B6B47E90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9F19-1A18-4DC9-B133-ACA3DF00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6066-D5A1-44C4-A16A-BA1FD654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B053-1CFB-469B-BF2C-B044010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2FE7-E560-46B5-A8A1-C9A15AA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C082-D2E4-4876-BFDE-2899096F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DF2C-F604-43C1-B665-91A1B7A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3E1-E43A-4252-813E-1073D8CF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AC8B-AE9B-41EE-9C2D-951A9452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BF56-9E53-41DA-9FA6-29C88C5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D992-D110-41A3-87E4-17949D7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6CB5-E068-4623-AD0A-8B487D3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B59C-3560-4060-8858-538EB489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50FE-86FF-485A-8DA5-FE73553F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2429-FD09-47C0-B6AE-EF3852CB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9913-4211-4E17-9754-B20C3986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32148-BFC8-4FAA-99BD-41C6CA47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291E-1B86-471C-87CD-6AD5D36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A29-618D-4206-BBEC-64C5B8C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58C0-8442-449F-A253-70E0867E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4FF6-B017-4F5F-8941-DA6F9308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B938-583C-4DB2-8D96-801BAA83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C0B0-CEDB-4C87-9111-0C7E475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2F6D1-9DF8-4657-8FF0-EEB3912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20D8-9A41-453E-997A-EF0FA4F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56CC-20AB-421A-9A83-B2387F53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48FB-02C5-437C-8043-031F34AD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7CAF-3C67-4900-B9CB-0550F88D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EBD6-BEEC-44CA-BD5B-EF841F2F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F76-A4D1-4589-812C-CE071796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0D55-87EC-4A27-87D3-A9D6A17F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4031-E8B4-4E28-A689-7ED8F64C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FD58-5A0D-457F-9E13-4DA37DB7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C823-5431-446A-9A9B-B6D571C6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DBC8-AA16-4B3D-B007-202D043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3B10-A7DD-47B3-AA0F-E965782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E2F1A-D412-4174-B42B-DBEDD7A0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998A-9DE6-4A9C-A0BC-FF4A1A45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2C541-DEBD-4B90-AC5E-3506F3B5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66ADE-898E-4817-9D58-24D1FD55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7BB-FAEB-48EC-9EF9-4B8FB4E0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79553-13FA-4383-8A78-6648D5A6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FC4-4BD0-45C1-B6DD-045D9AD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FA4-170B-4715-9C63-7A332B0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9AF-A014-4E9C-97DF-8AF7871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3240" y="549360"/>
            <a:ext cx="9144000" cy="57600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4A3B-9D31-4734-BABB-2EE914A30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7489800" y="-131400"/>
            <a:ext cx="162864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3578040" y="534960"/>
            <a:ext cx="5121000" cy="506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2D55-5A6A-4168-A8E0-EBED2C1707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2124000" y="2708280"/>
            <a:ext cx="3834000" cy="6872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5064120" y="1620360"/>
            <a:ext cx="2136960" cy="2116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3F32-AFFC-48E8-BC08-BD7AC87637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4197240" y="1123920"/>
            <a:ext cx="4380120" cy="433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12E6-3CF4-45ED-ACC6-CD6A16807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3240" y="549360"/>
            <a:ext cx="9144000" cy="57600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7489800" y="-131400"/>
            <a:ext cx="1628640" cy="161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CCE4-05FD-4049-8CA5-F6EC3CAD6F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852640"/>
            <a:ext cx="745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多彩叶子简洁</a:t>
            </a:r>
            <a:r>
              <a:rPr b="0" lang="en-US" sz="4000" spc="-1" strike="noStrike">
                <a:solidFill>
                  <a:srgbClr val="c64009"/>
                </a:solidFill>
                <a:latin typeface="Adobe Caslon Pro Bold"/>
              </a:rPr>
              <a:t>PPT</a:t>
            </a: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4000" y="3395160"/>
            <a:ext cx="3416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6a6a6"/>
                </a:solidFill>
                <a:latin typeface="Calibri"/>
              </a:rPr>
              <a:t>您的章节副标题章节副标题章节副标题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23640" y="2717640"/>
            <a:ext cx="32022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您的章节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27280" y="2836440"/>
            <a:ext cx="46836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500800" y="2460240"/>
            <a:ext cx="503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64009"/>
                </a:solidFill>
                <a:latin typeface="Adobe Caslon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011640" y="2852280"/>
            <a:ext cx="433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40720" y="549360"/>
            <a:ext cx="100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64009"/>
              </a:solidFill>
              <a:latin typeface="Adobe Caslon Pro Bold"/>
            </a:endParaRPr>
          </a:p>
        </p:txBody>
      </p:sp>
      <p:sp>
        <p:nvSpPr>
          <p:cNvPr id="224" name="任意多边形 15"/>
          <p:cNvSpPr/>
          <p:nvPr/>
        </p:nvSpPr>
        <p:spPr>
          <a:xfrm>
            <a:off x="0" y="1506600"/>
            <a:ext cx="9144000" cy="49680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c640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6"/>
          <p:cNvSpPr/>
          <p:nvPr/>
        </p:nvSpPr>
        <p:spPr>
          <a:xfrm>
            <a:off x="-1440" y="1566720"/>
            <a:ext cx="9144000" cy="49716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8"/>
          <p:cNvSpPr/>
          <p:nvPr/>
        </p:nvSpPr>
        <p:spPr>
          <a:xfrm rot="465600">
            <a:off x="809640" y="1854000"/>
            <a:ext cx="1733400" cy="199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1865160" y="1577880"/>
            <a:ext cx="84240" cy="338400"/>
            <a:chOff x="1865160" y="1577880"/>
            <a:chExt cx="84240" cy="338400"/>
          </a:xfrm>
        </p:grpSpPr>
        <p:pic>
          <p:nvPicPr>
            <p:cNvPr id="228" name="Group 65" descr=""/>
            <p:cNvPicPr/>
            <p:nvPr/>
          </p:nvPicPr>
          <p:blipFill>
            <a:blip r:embed="rId2"/>
            <a:stretch/>
          </p:blipFill>
          <p:spPr>
            <a:xfrm>
              <a:off x="1865160" y="1577880"/>
              <a:ext cx="8424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Donut 10"/>
            <p:cNvGrpSpPr/>
            <p:nvPr/>
          </p:nvGrpSpPr>
          <p:grpSpPr>
            <a:xfrm>
              <a:off x="1891440" y="1728720"/>
              <a:ext cx="19080" cy="36360"/>
              <a:chOff x="1891440" y="1728720"/>
              <a:chExt cx="19080" cy="36360"/>
            </a:xfrm>
          </p:grpSpPr>
          <p:pic>
            <p:nvPicPr>
              <p:cNvPr id="230" name="Donu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91440" y="1728720"/>
                <a:ext cx="1908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360600">
                <a:off x="1899000" y="174348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矩形 24"/>
          <p:cNvSpPr/>
          <p:nvPr/>
        </p:nvSpPr>
        <p:spPr>
          <a:xfrm rot="20878800">
            <a:off x="3367080" y="1850760"/>
            <a:ext cx="2070000" cy="15955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3"/>
          <p:cNvGrpSpPr/>
          <p:nvPr/>
        </p:nvGrpSpPr>
        <p:grpSpPr>
          <a:xfrm>
            <a:off x="4132440" y="1542960"/>
            <a:ext cx="83880" cy="338400"/>
            <a:chOff x="4132440" y="1542960"/>
            <a:chExt cx="83880" cy="338400"/>
          </a:xfrm>
        </p:grpSpPr>
        <p:pic>
          <p:nvPicPr>
            <p:cNvPr id="234" name="Group 65" descr=""/>
            <p:cNvPicPr/>
            <p:nvPr/>
          </p:nvPicPr>
          <p:blipFill>
            <a:blip r:embed="rId5"/>
            <a:stretch/>
          </p:blipFill>
          <p:spPr>
            <a:xfrm rot="21599400">
              <a:off x="4132440" y="1542600"/>
              <a:ext cx="8388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Donut 15"/>
            <p:cNvGrpSpPr/>
            <p:nvPr/>
          </p:nvGrpSpPr>
          <p:grpSpPr>
            <a:xfrm>
              <a:off x="4163400" y="1702440"/>
              <a:ext cx="18360" cy="36360"/>
              <a:chOff x="4163400" y="1702440"/>
              <a:chExt cx="18360" cy="36360"/>
            </a:xfrm>
          </p:grpSpPr>
          <p:pic>
            <p:nvPicPr>
              <p:cNvPr id="236" name="Donut 15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163400" y="1702080"/>
                <a:ext cx="1836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165600">
                <a:off x="4170960" y="171432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矩形 30"/>
          <p:cNvSpPr/>
          <p:nvPr/>
        </p:nvSpPr>
        <p:spPr>
          <a:xfrm>
            <a:off x="6300720" y="1892160"/>
            <a:ext cx="2276640" cy="1752840"/>
          </a:xfrm>
          <a:prstGeom prst="rect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8"/>
          <p:cNvGrpSpPr/>
          <p:nvPr/>
        </p:nvGrpSpPr>
        <p:grpSpPr>
          <a:xfrm>
            <a:off x="7093080" y="1593720"/>
            <a:ext cx="83880" cy="339840"/>
            <a:chOff x="7093080" y="1593720"/>
            <a:chExt cx="83880" cy="339840"/>
          </a:xfrm>
        </p:grpSpPr>
        <p:pic>
          <p:nvPicPr>
            <p:cNvPr id="240" name="Group 65" descr=""/>
            <p:cNvPicPr/>
            <p:nvPr/>
          </p:nvPicPr>
          <p:blipFill>
            <a:blip r:embed="rId8"/>
            <a:stretch/>
          </p:blipFill>
          <p:spPr>
            <a:xfrm>
              <a:off x="7093080" y="1593720"/>
              <a:ext cx="83880" cy="3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1" name="Donut 20"/>
            <p:cNvGrpSpPr/>
            <p:nvPr/>
          </p:nvGrpSpPr>
          <p:grpSpPr>
            <a:xfrm>
              <a:off x="7120440" y="1743840"/>
              <a:ext cx="16560" cy="40680"/>
              <a:chOff x="7120440" y="1743840"/>
              <a:chExt cx="16560" cy="40680"/>
            </a:xfrm>
          </p:grpSpPr>
          <p:pic>
            <p:nvPicPr>
              <p:cNvPr id="242" name="Donut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0440" y="1743840"/>
                <a:ext cx="16560" cy="4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 rot="600600">
                <a:off x="7127280" y="1760040"/>
                <a:ext cx="288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TextBox 36"/>
          <p:cNvSpPr/>
          <p:nvPr/>
        </p:nvSpPr>
        <p:spPr>
          <a:xfrm>
            <a:off x="777960" y="485316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1"/>
          <p:cNvSpPr/>
          <p:nvPr/>
        </p:nvSpPr>
        <p:spPr>
          <a:xfrm>
            <a:off x="851040" y="4484520"/>
            <a:ext cx="19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Administrator\桌面\1-01.png"/>
          <p:cNvPicPr/>
          <p:nvPr/>
        </p:nvPicPr>
        <p:blipFill>
          <a:blip r:embed="rId10"/>
          <a:stretch/>
        </p:blipFill>
        <p:spPr>
          <a:xfrm flipH="1" rot="19871400">
            <a:off x="468000" y="4300200"/>
            <a:ext cx="522360" cy="7365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6"/>
          <p:cNvSpPr/>
          <p:nvPr/>
        </p:nvSpPr>
        <p:spPr>
          <a:xfrm>
            <a:off x="3419640" y="448632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3492360" y="411804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Documents and Settings\Administrator\桌面\1-01.png"/>
          <p:cNvPicPr/>
          <p:nvPr/>
        </p:nvPicPr>
        <p:blipFill>
          <a:blip r:embed="rId11"/>
          <a:stretch/>
        </p:blipFill>
        <p:spPr>
          <a:xfrm flipH="1" rot="19871400">
            <a:off x="3134880" y="3933360"/>
            <a:ext cx="455760" cy="6429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9"/>
          <p:cNvSpPr/>
          <p:nvPr/>
        </p:nvSpPr>
        <p:spPr>
          <a:xfrm>
            <a:off x="6178680" y="480708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0"/>
          <p:cNvSpPr/>
          <p:nvPr/>
        </p:nvSpPr>
        <p:spPr>
          <a:xfrm>
            <a:off x="6251400" y="4438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Documents and Settings\Administrator\桌面\1-01.png"/>
          <p:cNvPicPr/>
          <p:nvPr/>
        </p:nvPicPr>
        <p:blipFill>
          <a:blip r:embed="rId12"/>
          <a:stretch/>
        </p:blipFill>
        <p:spPr>
          <a:xfrm flipH="1" rot="19871400">
            <a:off x="5806440" y="4221000"/>
            <a:ext cx="554400" cy="782640"/>
          </a:xfrm>
          <a:prstGeom prst="rect">
            <a:avLst/>
          </a:prstGeom>
          <a:ln w="0">
            <a:noFill/>
          </a:ln>
        </p:spPr>
      </p:pic>
      <p:sp>
        <p:nvSpPr>
          <p:cNvPr id="253" name="矩形 52"/>
          <p:cNvSpPr/>
          <p:nvPr/>
        </p:nvSpPr>
        <p:spPr>
          <a:xfrm>
            <a:off x="0" y="6524640"/>
            <a:ext cx="851040" cy="144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54"/>
          <p:cNvSpPr/>
          <p:nvPr/>
        </p:nvSpPr>
        <p:spPr>
          <a:xfrm>
            <a:off x="-1440" y="6381720"/>
            <a:ext cx="9144000" cy="0"/>
          </a:xfrm>
          <a:prstGeom prst="line">
            <a:avLst/>
          </a:prstGeom>
          <a:ln w="28440">
            <a:solidFill>
              <a:srgbClr val="fac0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7"/>
          <p:cNvSpPr/>
          <p:nvPr/>
        </p:nvSpPr>
        <p:spPr>
          <a:xfrm>
            <a:off x="826920" y="6464160"/>
            <a:ext cx="184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公司的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LOGO</a:t>
            </a: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和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燕尾形 58"/>
          <p:cNvSpPr/>
          <p:nvPr/>
        </p:nvSpPr>
        <p:spPr>
          <a:xfrm>
            <a:off x="8699400" y="6524640"/>
            <a:ext cx="120600" cy="217440"/>
          </a:xfrm>
          <a:custGeom>
            <a:avLst/>
            <a:gdLst>
              <a:gd name="textAreaLeft" fmla="*/ 0 w 120600"/>
              <a:gd name="textAreaRight" fmla="*/ 12096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燕尾形 61"/>
          <p:cNvSpPr/>
          <p:nvPr/>
        </p:nvSpPr>
        <p:spPr>
          <a:xfrm flipH="1">
            <a:off x="8387640" y="6524640"/>
            <a:ext cx="120600" cy="217440"/>
          </a:xfrm>
          <a:custGeom>
            <a:avLst/>
            <a:gdLst>
              <a:gd name="textAreaLeft" fmla="*/ -360 w 120600"/>
              <a:gd name="textAreaRight" fmla="*/ 12060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43280" y="342900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64009"/>
                </a:solidFill>
                <a:latin typeface="Adobe Caslon Pro Bold"/>
              </a:rPr>
              <a:t>谢谢观看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6524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8:36:58Z</dcterms:created>
  <dc:creator>www.pptbz.com</dc:creator>
  <dc:description/>
  <dc:language>en-US</dc:language>
  <cp:lastModifiedBy>yu wang</cp:lastModifiedBy>
  <dcterms:modified xsi:type="dcterms:W3CDTF">2015-08-03T12:20:23Z</dcterms:modified>
  <cp:revision>19</cp:revision>
  <dc:subject/>
  <dc:title>PowerPoint 演示文稿</dc:title>
</cp:coreProperties>
</file>