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38F-3C8D-40BA-B216-83D24BAC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805-2823-42A1-A683-603FF535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934-92DE-4FEF-AFB8-1F2BF9FF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062-33A3-4F35-87B4-D26E5678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0E90-735C-4EA1-8964-FC31D1B8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097A-036D-4B00-9CE4-9A3FA5FF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0F20-83DE-425C-BC77-AD163B96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BD4A-9ECF-45E0-8EFE-E969A601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4C06-0E06-4798-8D3E-695953E1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2FE1-3DB7-4D19-9856-6336138F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3B5E-7865-49D7-A9A4-38EC6F8F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C72-09B4-42EC-9D0E-396F0E84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69A0-ECE1-4F73-81E5-11E90821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35A5-24ED-412D-BF35-1F511F5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FE37-973C-49EC-BE7D-E7FAAA8D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2DC8-CF40-4CF6-BF67-0321F8B5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159A-0C86-4E76-974F-DB411B03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4B7A-70D0-40BB-A3FE-26F6E47B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6B1D-F4C1-4863-BD70-987FD101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AAD4-671B-43B2-9478-C09C78BA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4257-4F32-41E5-9714-811DDFEC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C42EE-09EE-4570-BD2A-2C321346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731-E2D8-497E-A29B-8436408C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5D7D-97FE-4FF2-8507-B3550416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ABA7-F2B2-4A08-8948-C0FB2A2E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B598-AA03-481A-AE13-3563194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348C-338E-4777-955B-6AE27FE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2148-50CF-486F-90ED-593027B5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6BE51-DC51-4E03-A05A-51A4F3E1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A4C43-AE22-4E2E-A795-8D3C9C8E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F2D5-4CB0-457E-B2E6-DF484764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D5DD8-726F-4335-A3BB-25E478D3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816E-D3B1-4437-9957-398BE14E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3BA-C03C-4D11-A100-8E9E85CB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B719-34B3-4F70-91B8-F091B656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4A881-A160-4258-BA82-F3B9821D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EC06-634A-4D15-8340-9C599212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27AED-CCDC-4670-9E68-41A76957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083D-31F0-49E3-B8F6-E17DC436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7836-7C53-484C-A8B9-E192EE41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2423A-AEB6-40B1-AF46-E0A81496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9700-6414-4A1D-AA29-3850EEA6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71166-2F81-414E-94D2-C3EB800B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4D282-3BD6-42A8-BFD8-35BD0A81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464-5BA1-44C0-AAA8-0D2899B6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31F20-753A-4CA8-AD2B-4881A4A9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8FAB0-A4B3-4219-A651-A6307E6B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4E35F-9328-4D0E-96B7-CB2C25A7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8F89-BEE9-4751-A8A3-778A6ECA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3DD9B-0F82-4BB3-9A24-72E41B24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CBCB2-D22D-4A0F-89CE-C295F580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01D56-9D34-4338-A2BA-9D1D6B0C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8A39A-D3B1-4FDB-A5F4-7A6DFE8C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64E5-EE72-43A5-A654-39F5E288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05F28-8723-4182-A269-B0F3518F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FF9-FBD4-472F-B4F0-E3AC8589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CD72A-A8B1-42D5-9919-EDA1B6CE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F699D-82BA-40BC-9B12-A4A1F2EC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204EE-CC8A-4223-B700-EF6ED949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0CC7E-2C35-4275-9EAD-DD8DEF93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C390-B9A2-4DEA-8849-A60F1865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62C53-140B-4B8E-B778-E3E9CED9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28145-3F77-4345-B07F-93B768C3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9DE0-AEC2-4A65-B5B8-134EC97B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6DE03-D151-485C-9C22-92A654C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5BC97-89B2-4E90-A83E-B34E3B30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1E0-525F-4100-B28C-B20EA96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B7955-CE01-4216-9AAF-31C9A630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841FB-F035-4E4D-BD54-0E508E1A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074C4-CE4C-432F-9A1C-2CB6A9EE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311-7851-4044-8905-D9E04177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A15-BA88-4F82-AA0B-92CB56E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D153-1E55-4C49-AD3F-D665DFBE6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oban1-2副本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D7B1-49D7-4DD9-B79D-8F5966973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moban1-1副本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C68C-7D08-408E-A537-639E91FA0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moban1-3副本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oban1-2副本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3F8F-4E20-44B2-81C6-C681B160B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moban1-1副本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FF00-8E80-482A-83C0-B749BA009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moban1-3副本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8535-7CB9-45F2-AC34-63CA61381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2145960" y="11970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杜甫古典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oban1-2副本"/>
          <p:cNvPicPr/>
          <p:nvPr/>
        </p:nvPicPr>
        <p:blipFill>
          <a:blip r:embed="rId1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9:45:28Z</dcterms:created>
  <dc:creator>Lenovo User</dc:creator>
  <dc:description/>
  <dc:language>en-US</dc:language>
  <cp:lastModifiedBy>yu wang</cp:lastModifiedBy>
  <dcterms:modified xsi:type="dcterms:W3CDTF">2015-08-03T12:22:43Z</dcterms:modified>
  <cp:revision>7</cp:revision>
  <dc:subject/>
  <dc:title>幻灯片 1</dc:title>
</cp:coreProperties>
</file>