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100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3792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3792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100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100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100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124920"/>
            <a:ext cx="66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7100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7100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3792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3792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7100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7100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71000"/>
            <a:ext cx="250236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24920"/>
            <a:ext cx="66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100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37920"/>
            <a:ext cx="3792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100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2232000" y="609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奥运联合-2"/>
          <p:cNvPicPr/>
          <p:nvPr/>
        </p:nvPicPr>
        <p:blipFill>
          <a:blip r:embed="rId3"/>
          <a:srcRect l="37414" t="7197" r="36998" b="65427"/>
          <a:stretch/>
        </p:blipFill>
        <p:spPr>
          <a:xfrm>
            <a:off x="162000" y="5813280"/>
            <a:ext cx="1170000" cy="94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32000" y="609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85800" y="2130480"/>
            <a:ext cx="77724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奥运联合-2"/>
          <p:cNvPicPr/>
          <p:nvPr/>
        </p:nvPicPr>
        <p:blipFill>
          <a:blip r:embed="rId3"/>
          <a:srcRect l="37414" t="7197" r="36998" b="65427"/>
          <a:stretch/>
        </p:blipFill>
        <p:spPr>
          <a:xfrm>
            <a:off x="162000" y="5813280"/>
            <a:ext cx="1170000" cy="94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9080" y="-3240"/>
            <a:ext cx="9163080" cy="689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rcRect l="90559" t="13810" r="-2530" b="77176"/>
          <a:stretch/>
        </p:blipFill>
        <p:spPr>
          <a:xfrm>
            <a:off x="8082000" y="6235560"/>
            <a:ext cx="1095480" cy="62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rcRect l="90559" t="13810" r="-2530" b="77176"/>
          <a:stretch/>
        </p:blipFill>
        <p:spPr>
          <a:xfrm>
            <a:off x="281160" y="6264360"/>
            <a:ext cx="109512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012760" y="26496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动感地带黄色企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66640" y="2168280"/>
            <a:ext cx="649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1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66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37920"/>
            <a:ext cx="7772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5"/>
          <p:cNvGrpSpPr/>
          <p:nvPr/>
        </p:nvGrpSpPr>
        <p:grpSpPr>
          <a:xfrm>
            <a:off x="0" y="0"/>
            <a:ext cx="9416880" cy="6905520"/>
            <a:chOff x="0" y="0"/>
            <a:chExt cx="9416880" cy="6905520"/>
          </a:xfrm>
        </p:grpSpPr>
        <p:pic>
          <p:nvPicPr>
            <p:cNvPr id="95" name="Picture 6" descr=""/>
            <p:cNvPicPr/>
            <p:nvPr/>
          </p:nvPicPr>
          <p:blipFill>
            <a:blip r:embed="rId1"/>
            <a:srcRect l="90559" t="13810" r="-2530" b="77176"/>
            <a:stretch/>
          </p:blipFill>
          <p:spPr>
            <a:xfrm>
              <a:off x="8112240" y="6235560"/>
              <a:ext cx="10951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7" descr=""/>
            <p:cNvPicPr/>
            <p:nvPr/>
          </p:nvPicPr>
          <p:blipFill>
            <a:blip r:embed="rId2"/>
            <a:srcRect l="90559" t="13810" r="-2530" b="77176"/>
            <a:stretch/>
          </p:blipFill>
          <p:spPr>
            <a:xfrm>
              <a:off x="281160" y="6264360"/>
              <a:ext cx="109512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9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5" descr="奥运联合-2"/>
            <p:cNvPicPr/>
            <p:nvPr/>
          </p:nvPicPr>
          <p:blipFill>
            <a:blip r:embed="rId4"/>
            <a:srcRect l="37414" t="7197" r="36998" b="65427"/>
            <a:stretch/>
          </p:blipFill>
          <p:spPr>
            <a:xfrm>
              <a:off x="162000" y="5813280"/>
              <a:ext cx="117000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8" descr=""/>
            <p:cNvPicPr/>
            <p:nvPr/>
          </p:nvPicPr>
          <p:blipFill>
            <a:blip r:embed="rId5"/>
            <a:srcRect l="90559" t="13810" r="-2530" b="77176"/>
            <a:stretch/>
          </p:blipFill>
          <p:spPr>
            <a:xfrm>
              <a:off x="8217000" y="6264360"/>
              <a:ext cx="1199880" cy="62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23"/>
          <p:cNvSpPr/>
          <p:nvPr/>
        </p:nvSpPr>
        <p:spPr>
          <a:xfrm>
            <a:off x="3318120" y="235116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19:20Z</dcterms:modified>
  <cp:revision>22</cp:revision>
  <dc:subject/>
  <dc:title>PowerPoint Presentation</dc:title>
</cp:coreProperties>
</file>