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164-A9E9-4D3D-935B-C33EDC49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97A-1A4D-44DB-8607-8891743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F3A-B05A-4FB9-96B0-7BDF1F53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4FC-70C7-4784-BA4F-1D3660CE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3374-AB8C-4F85-B4C8-C95551D2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2222-A264-4245-AB10-57C8A042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990-037C-4096-ACEC-6032CFE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73E2-3855-4F85-AE16-76F8D8C7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C880-B294-4BED-B65D-B1BD984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A316-E6C7-40F6-8EAC-B468D0E5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ED4-99AA-4BE6-A1F4-163EC16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008-7A40-4221-B210-6175C30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BF6F-3C1B-4FB4-BCE1-314BB8A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160-1F77-44FD-AC63-224CBE8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B71-C7C2-4895-9B16-369DB19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C9F-E815-455E-92DD-8FC2635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B34-B253-4706-BB68-A604BDD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C9E-AB0B-41C4-AB40-5E2A5706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3DF-84A9-4BA9-A7D1-B272D8B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8DB-B082-492D-9EC8-1678B830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A04-BE1D-4997-ADB2-12992F6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BE9-3D4C-4429-9706-B05C180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95A-4B78-4A74-A922-6A3E80E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87B-43EA-42B5-BF85-58EC001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920" y="-25560"/>
            <a:ext cx="9286920" cy="6909120"/>
            <a:chOff x="-34920" y="-25560"/>
            <a:chExt cx="9286920" cy="6909120"/>
          </a:xfrm>
        </p:grpSpPr>
        <p:pic>
          <p:nvPicPr>
            <p:cNvPr id="1" name="Picture 3" descr="140404fqc90f.4594a1"/>
            <p:cNvPicPr/>
            <p:nvPr/>
          </p:nvPicPr>
          <p:blipFill>
            <a:blip r:embed="rId2"/>
            <a:srcRect l="8323" t="9665" r="15674" b="0"/>
            <a:stretch/>
          </p:blipFill>
          <p:spPr>
            <a:xfrm>
              <a:off x="2160" y="-25560"/>
              <a:ext cx="9249840" cy="69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-34920" y="1081080"/>
              <a:ext cx="9247320" cy="50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6EF-3CC4-4E69-8E6D-3EF47FED7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40404fqc90f.4594a1"/>
          <p:cNvPicPr/>
          <p:nvPr/>
        </p:nvPicPr>
        <p:blipFill>
          <a:blip r:embed="rId2"/>
          <a:srcRect l="9018" t="0" r="7573" b="0"/>
          <a:stretch/>
        </p:blipFill>
        <p:spPr>
          <a:xfrm>
            <a:off x="-6480" y="1440"/>
            <a:ext cx="9186840" cy="688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D0A-BAC2-4A9C-A945-90C081BAF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84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蝶恋花水墨中国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9:04:15Z</dcterms:created>
  <dc:creator/>
  <dc:description/>
  <cp:keywords/>
  <dc:language>en-US</dc:language>
  <cp:lastModifiedBy>yu wang</cp:lastModifiedBy>
  <cp:lastPrinted>1899-12-30T00:00:00Z</cp:lastPrinted>
  <dcterms:modified xsi:type="dcterms:W3CDTF">2015-08-03T12:25:0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70</vt:lpwstr>
  </property>
</Properties>
</file>