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AA65F4-30B8-48CF-BC36-378D0CD1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4850CD-6BDA-4638-8D62-1D17076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AD695-EC56-4A99-8EDF-517195E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5C613F-0C39-4EA6-B611-8A31282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C344E-96DB-4B48-94AE-021D7BF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2860F-6603-4911-84C2-C0A1D665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4442E2-09A7-4C9C-B227-FC8FC457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3843BE-DA14-4B6A-8074-A8D4502E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743FC7-B85B-418D-9883-804799F6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8DD73-5D5B-47D2-A550-EE06048C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394BE-AC51-47A9-A2B4-F1AABA6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FF6BA-F3BC-4DC1-8C52-AF30DBE3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AC07B-6490-408E-9EE3-77A5B35D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4B109-9A97-4733-A85E-521E06BB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5A96C-D275-4CC4-88DD-E39F7116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73C62-E6BE-4368-973B-4EADF16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1F427-A4B9-48B5-AD99-9F1E7FF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86A1D-A43A-4BAA-AA6A-E669A83F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3779A-6903-46CD-926B-8390A9E1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1AFEE-27C1-4A62-84A1-33C071F4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9C49A-D000-4D9C-AC19-8131113E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8D4D5-0D65-4870-8D78-3D86FC47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0FFD2-9CB1-4D79-B233-58EEEC51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65BB6-2F5B-4577-BDF7-A6D1A4EE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18FFE-42D2-4D8C-B654-3ADA136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FFB79-6366-438F-B80D-5AA8253F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21752-3A1E-49F0-B3FB-A668615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1F82E-11BB-4094-AE27-9FCA97A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9521F-508E-470E-8CA4-B5AA1D3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1162C-86C5-4ED7-B443-35F6136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CF47C-138A-4E1A-821A-BC8B73CD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58F04-4532-4D14-8F1C-9BF43484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60B25-6A1D-411A-9BFB-1393B9F6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9DF002-C75D-4C06-B425-9365F46D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903AC-36A8-4D15-B016-BADB2F71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AE4FD7-F062-4EB2-91DD-E6351554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FD97DE-ED82-4B41-B684-0E20A97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080979-BBAF-409F-AB7D-AE33E33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4D4AB0-302B-403E-9CBB-F5C35B2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62E735-54FD-4BB1-B087-0C7B1A31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3D9479-8D40-4F86-A2AA-E89B0B9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1867D2-3D31-4E50-BDBC-FE28DDD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879EED-9869-426E-AEA9-50EB285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7DB6F5-C826-43CC-9094-B1A95ED5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0FEAA2-8370-4DB4-AAEB-75F37A1F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AEA21-85CC-424D-B54D-30AC34F0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5BE1F-8B6D-473E-8E86-B733038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B3433-8E80-435E-A4BD-0FB566D7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C89EC-A056-433C-BFAF-DD73235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943B0-C86A-417C-B4EC-2710E81A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05896-CA72-41EA-BF6F-10634BB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3ECF0-5116-4002-83DB-D1542AEA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1C26A-1AED-4CE2-AB98-43D42A1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DFC08-75DD-4880-8361-9B997D4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DC244-6A57-4BA0-B8BE-3E17626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89DD8-3EAD-4BE8-9061-85F08856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14219-CD33-4CDB-BD9D-433E6DCC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A40277-C670-4FDE-A0E6-93137D17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FAE870-B88D-4525-9C07-E1C780FE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7288A3-3D45-45CE-801B-6DB79D3D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402EE2-D244-4357-8E34-9A439B91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E009B0-1738-44F4-839D-C96226BB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3F406D-C22F-4EC0-9044-7093B56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405775-CB8E-430B-93A6-E23D16A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AC8BAA-6201-4D92-8B2A-50C89F4F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9ADA96-DA93-42A9-8491-257CF58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708D74-7638-49D5-BDB1-E602AC70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F0A7ED-A877-4675-8C94-77AF7531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6F7148-6F7C-4D57-A29B-93987850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05E6B-3F81-47EF-BE53-E49A55A7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B8F98-9642-4202-BA30-AF3E25D9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EDD76-BDB9-48C7-A64B-DE28B031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11318-9AA5-48AC-9257-6F6F8E96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72B2-EB6A-407B-A61C-6947F49A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723F6-CCCE-4D62-8B9B-064FA20E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89E92-107F-45EA-87EF-41B6618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B7A09-F094-4387-B6B1-9DC1506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056D7-350A-423C-9E73-B74B1F6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C8F70-7DD7-4680-B794-DEAAE74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CAA93-BF85-4B8F-B967-5EA7C2EA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5307C-F3A4-4545-B8CF-0EDE81C2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0621D-C5E1-4A2A-B593-5C224108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65FD4-5AE4-4D48-B9C8-28FAB2C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AEAAB-AF0C-46FD-B12E-2EEAD36D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3D9CF-7917-45D0-99F3-3BB4912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7DDA8-0275-4845-82BA-7EAB4419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244CA-EC4D-4954-A40E-FA398060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73FB8-57EF-46C8-92A1-3D87148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5632E-DD3A-4A8C-A1A0-B09D4AB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CCEFA-EF7D-4951-954B-D3D79DF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4194F-AA6D-424C-9FC5-745E20F1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4CF54-1D31-4EC8-B13D-C9F56BDF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892A2-8756-4AA3-A3C9-F83BAF75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62BFC-37B7-4C3B-8BC5-6A6482D2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FE557-8612-41BF-B6D7-66D1AA30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A0051-8358-4C87-B688-D854586B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36396-EBB9-444F-960E-2615D47C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8AF77-5251-4D13-9BF7-272C9B5E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023ED-37B6-4954-AF5A-9E56F906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1D5BD-40BF-49DD-9224-B6E94BA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5380D-ECD0-417F-BFB9-D2A282B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92F1C-0A8B-4E7B-8A26-6FCE114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6AB58-024B-4D10-BEB3-6D082D98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D5985-CECC-4B8A-B01F-0AC8C9F7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7B7EF-4C4B-4886-8C72-8C014F43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157A2-836E-4134-8B9A-0F57B2EE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5CA109-4558-48A1-8DBB-41E64C5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E558F-D8EC-4301-A752-2DB7FDF6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8C6A7-B096-4A7A-AC20-F9F15D3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278843-CABA-46D4-888A-FBDC73C7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6D58B-3BA7-4D9B-ADBE-48E88EC8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ECA2D-8D2D-4512-B661-3B9C594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EBBA8-C8E8-4BC9-BA46-0C15603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CD1D5-4F0F-4227-9880-42D38BE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DD8E8-4E98-4E05-BBE7-EB743058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DA10C-4BB1-4F77-8E76-61B3DD1D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33CEE0-DCD3-4407-9B08-45855D7C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63EEB-25F5-4C29-BD68-4877E17A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A1EC5-6FBC-4D36-A6AE-A5AFEB7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A94AB-17A4-4517-AE0C-B047EA8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6F513-E251-40DD-BCFC-9A7D49F9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41D54-E624-4F4D-8E8A-CAC81828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61D41-A35B-440F-A31C-CB24EF4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9FFC7-79B5-4CA1-9B18-07FEDDD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A8C91-F417-4A70-BCB3-6A8A415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CC4424-6F19-4EB5-93A4-C1DDAA0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0A49B-D630-41D4-B1D5-8C7F2EDA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D76AD-D6B4-403C-AA62-AD383F9D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E5731-C1B1-4AA5-87FE-835F46E5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0150E3-6F5A-42A1-9390-58785ECC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0DCF82-043C-450A-954B-04F2113E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AFC8A-0D9B-42F6-8969-8AD350E5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31FF9-CD9C-4A90-9012-966FCAB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EC4242-E36E-4303-BD6F-EFB1630A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13E4D-722B-4AFA-AB9C-D9B1CF58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E66288-2F2E-4B9A-ADD7-EC37392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5EE30-AAEF-473C-B6BB-5767E8A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6E1B63-DEED-4E18-AAF6-A1EEE1A0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43F53F-4D88-4DED-8C60-F9049BC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84796-B736-483F-87B1-D13C2939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75E62-AD81-47B6-9DEC-B4299801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BC736-166C-4C58-AB14-8BFB965A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B10F4A-54CE-4825-A767-EDC07BE4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42DE0-94CB-45A3-B15B-F415B45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2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25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ABC8-DDD5-4088-AA27-91B649F2EE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dt" idx="2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Num" idx="28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887F-E88C-4808-8A2B-53327241C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dt" idx="30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31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225-5D38-420E-8965-B8660FF7B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dt" idx="3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Num" idx="3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DF8-54F4-4E1F-AEA8-C5A17666D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dt" idx="36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ldNum" idx="37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C345-3C0C-4E1B-947D-096A06E42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8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dt" idx="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Num" idx="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C036-CE6E-4851-8905-9B7B9E04F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6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7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FB41-E822-4518-8AC2-D7E0EA8B43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9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10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1911-5DDB-40F7-9FCF-405441052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2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236-D12E-4798-AF89-A1B9122BD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5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D06-E53B-45F1-B14E-1CD1479E7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dt" idx="18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1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E64-AB63-41A2-BF03-CC4FFB2F9E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dt" idx="2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ldNum" idx="22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F75B-E669-48CA-B61B-D3B9E9585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1287000"/>
            <a:ext cx="61214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Arial"/>
                <a:ea typeface="黑体"/>
              </a:rPr>
              <a:t>在此输入文字标题</a:t>
            </a:r>
            <a:endParaRPr b="0" lang="en-US" sz="40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84360" y="1288800"/>
            <a:ext cx="66960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动态简洁</a:t>
            </a:r>
            <a:r>
              <a:rPr b="1" lang="en-US" sz="4000" spc="-1" strike="noStrike">
                <a:solidFill>
                  <a:srgbClr val="eeeff3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10112400" y="2684520"/>
            <a:ext cx="213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E264-8664-4197-8945-EB2A1AAE60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"/>
          <p:cNvSpPr/>
          <p:nvPr/>
        </p:nvSpPr>
        <p:spPr>
          <a:xfrm>
            <a:off x="-1603440" y="2957400"/>
            <a:ext cx="11963520" cy="24577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直接箭头连接符 4"/>
          <p:cNvCxnSpPr/>
          <p:nvPr/>
        </p:nvCxnSpPr>
        <p:spPr>
          <a:xfrm flipV="1">
            <a:off x="-1298880" y="2910600"/>
            <a:ext cx="10706760" cy="19800"/>
          </a:xfrm>
          <a:prstGeom prst="straightConnector1">
            <a:avLst/>
          </a:prstGeom>
          <a:ln w="57240">
            <a:solidFill>
              <a:srgbClr val="3a73be"/>
            </a:solidFill>
            <a:miter/>
            <a:tailEnd len="med" type="arrow" w="med"/>
          </a:ln>
        </p:spPr>
      </p:cxnSp>
      <p:sp>
        <p:nvSpPr>
          <p:cNvPr id="549" name="副标题 1"/>
          <p:cNvSpPr/>
          <p:nvPr/>
        </p:nvSpPr>
        <p:spPr>
          <a:xfrm>
            <a:off x="3317760" y="2911320"/>
            <a:ext cx="6051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400" spc="-1" strike="noStrike">
                <a:solidFill>
                  <a:srgbClr val="294b87"/>
                </a:solidFill>
                <a:latin typeface="黑体"/>
                <a:ea typeface="黑体"/>
              </a:rPr>
              <a:t>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45720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f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971640" y="190512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4b87"/>
                </a:solidFill>
                <a:latin typeface="Arial"/>
              </a:rPr>
              <a:t>Thanks</a:t>
            </a:r>
            <a:r>
              <a:rPr b="0" lang="zh-CN" sz="4800" spc="-1" strike="noStrike">
                <a:solidFill>
                  <a:srgbClr val="294b87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7"/>
          <p:cNvGrpSpPr/>
          <p:nvPr/>
        </p:nvGrpSpPr>
        <p:grpSpPr>
          <a:xfrm>
            <a:off x="539640" y="2211480"/>
            <a:ext cx="8209080" cy="691920"/>
            <a:chOff x="539640" y="2211480"/>
            <a:chExt cx="8209080" cy="691920"/>
          </a:xfrm>
        </p:grpSpPr>
        <p:sp>
          <p:nvSpPr>
            <p:cNvPr id="599" name="矩形 5"/>
            <p:cNvSpPr/>
            <p:nvPr/>
          </p:nvSpPr>
          <p:spPr>
            <a:xfrm>
              <a:off x="4665600" y="2211480"/>
              <a:ext cx="4083120" cy="691920"/>
            </a:xfrm>
            <a:prstGeom prst="rect">
              <a:avLst/>
            </a:pr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ff3"/>
                  </a:solidFill>
                  <a:latin typeface="黑体"/>
                  <a:ea typeface="黑体"/>
                </a:rPr>
                <a:t>非常感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6"/>
            <p:cNvSpPr/>
            <p:nvPr/>
          </p:nvSpPr>
          <p:spPr>
            <a:xfrm>
              <a:off x="539640" y="2658960"/>
              <a:ext cx="4125960" cy="244440"/>
            </a:xfrm>
            <a:prstGeom prst="rect">
              <a:avLst/>
            </a:pr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589cd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4"/>
          <p:cNvSpPr/>
          <p:nvPr/>
        </p:nvSpPr>
        <p:spPr>
          <a:xfrm>
            <a:off x="-5221440" y="2957400"/>
            <a:ext cx="15389280" cy="530244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48200" y="484200"/>
            <a:ext cx="6678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8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1749600" y="268200"/>
            <a:ext cx="69944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ctr">
              <a:spcBef>
                <a:spcPts val="7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下箭头 9"/>
          <p:cNvSpPr/>
          <p:nvPr/>
        </p:nvSpPr>
        <p:spPr>
          <a:xfrm flipV="1">
            <a:off x="1042920" y="-452520"/>
            <a:ext cx="289080" cy="583272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5394E-006 -2.76554E-006 L -0.43359 -2.76554E-006 E">
                                      <p:cBhvr>
                                        <p:cTn id="33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5"/>
          <p:cNvSpPr/>
          <p:nvPr/>
        </p:nvSpPr>
        <p:spPr>
          <a:xfrm>
            <a:off x="-1116000" y="-596880"/>
            <a:ext cx="2232000" cy="6048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下箭头 7"/>
          <p:cNvSpPr/>
          <p:nvPr/>
        </p:nvSpPr>
        <p:spPr>
          <a:xfrm flipV="1">
            <a:off x="1042920" y="-524520"/>
            <a:ext cx="289080" cy="5832360"/>
          </a:xfrm>
          <a:prstGeom prst="downArrow">
            <a:avLst>
              <a:gd name="adj1" fmla="val 50000"/>
              <a:gd name="adj2" fmla="val 135905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253080" y="339840"/>
            <a:ext cx="7898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黑体"/>
                <a:ea typeface="黑体"/>
              </a:rPr>
              <a:t>概  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2122560" y="843120"/>
            <a:ext cx="69944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692000" y="1200240"/>
            <a:ext cx="6994440" cy="3394080"/>
          </a:xfrm>
          <a:prstGeom prst="rect">
            <a:avLst/>
          </a:prstGeom>
          <a:ln w="0">
            <a:noFill/>
          </a:ln>
        </p:spPr>
      </p:pic>
      <p:sp>
        <p:nvSpPr>
          <p:cNvPr id="560" name="矩形 5"/>
          <p:cNvSpPr/>
          <p:nvPr/>
        </p:nvSpPr>
        <p:spPr>
          <a:xfrm>
            <a:off x="-7453440" y="-596880"/>
            <a:ext cx="8569440" cy="6048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下箭头 4"/>
          <p:cNvSpPr/>
          <p:nvPr/>
        </p:nvSpPr>
        <p:spPr>
          <a:xfrm flipV="1" rot="5400000">
            <a:off x="1183320" y="766440"/>
            <a:ext cx="144360" cy="1736640"/>
          </a:xfrm>
          <a:prstGeom prst="downArrow">
            <a:avLst>
              <a:gd name="adj1" fmla="val 50000"/>
              <a:gd name="adj2" fmla="val 136061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下箭头 8"/>
          <p:cNvSpPr/>
          <p:nvPr/>
        </p:nvSpPr>
        <p:spPr>
          <a:xfrm flipV="1" rot="5400000">
            <a:off x="1184040" y="2710080"/>
            <a:ext cx="142920" cy="173664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6"/>
          <p:cNvSpPr/>
          <p:nvPr/>
        </p:nvSpPr>
        <p:spPr>
          <a:xfrm>
            <a:off x="2268360" y="789120"/>
            <a:ext cx="6191280" cy="17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"/>
          <p:cNvSpPr/>
          <p:nvPr/>
        </p:nvSpPr>
        <p:spPr>
          <a:xfrm>
            <a:off x="2268360" y="2697120"/>
            <a:ext cx="6191280" cy="172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9"/>
          <p:cNvSpPr/>
          <p:nvPr/>
        </p:nvSpPr>
        <p:spPr>
          <a:xfrm>
            <a:off x="-356400" y="771480"/>
            <a:ext cx="13993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在此此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58025E-006 L 0.95677 -3.58025E-006 E">
                                      <p:cBhvr>
                                        <p:cTn id="107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5"/>
          <p:cNvSpPr/>
          <p:nvPr/>
        </p:nvSpPr>
        <p:spPr>
          <a:xfrm>
            <a:off x="6885000" y="1284120"/>
            <a:ext cx="1719360" cy="257508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294b87"/>
                </a:solidFill>
                <a:latin typeface="黑体"/>
                <a:ea typeface="黑体"/>
              </a:rPr>
              <a:t>、在此输入文字注意</a:t>
            </a: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3"/>
          <p:cNvSpPr/>
          <p:nvPr/>
        </p:nvSpPr>
        <p:spPr>
          <a:xfrm>
            <a:off x="4356000" y="1284120"/>
            <a:ext cx="2592360" cy="2575080"/>
          </a:xfrm>
          <a:prstGeom prst="rect">
            <a:avLst/>
          </a:prstGeom>
          <a:solidFill>
            <a:srgbClr val="777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其次  </a:t>
            </a: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4"/>
          <p:cNvSpPr/>
          <p:nvPr/>
        </p:nvSpPr>
        <p:spPr>
          <a:xfrm>
            <a:off x="-2700360" y="0"/>
            <a:ext cx="3959280" cy="5143680"/>
          </a:xfrm>
          <a:prstGeom prst="rect">
            <a:avLst/>
          </a:prstGeom>
          <a:solidFill>
            <a:srgbClr val="294b87"/>
          </a:solidFill>
          <a:ln w="28440">
            <a:solidFill>
              <a:srgbClr val="294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11280" y="16351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文字重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-957240" y="48085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34253 0 E">
                                      <p:cBhvr>
                                        <p:cTn id="140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5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8" nodeType="after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5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25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5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5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内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9"/>
          <p:cNvSpPr/>
          <p:nvPr/>
        </p:nvSpPr>
        <p:spPr>
          <a:xfrm>
            <a:off x="755640" y="1563840"/>
            <a:ext cx="18716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0"/>
          <p:cNvSpPr/>
          <p:nvPr/>
        </p:nvSpPr>
        <p:spPr>
          <a:xfrm>
            <a:off x="2701800" y="1563840"/>
            <a:ext cx="179892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1"/>
          <p:cNvSpPr/>
          <p:nvPr/>
        </p:nvSpPr>
        <p:spPr>
          <a:xfrm>
            <a:off x="4573440" y="1563840"/>
            <a:ext cx="18734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6516720" y="1563840"/>
            <a:ext cx="180036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介  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/>
                                        <p:tgtEl>
                                          <p:spTgt spid="578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10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1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1000" fill="hold"/>
                                        <p:tgtEl>
                                          <p:spTgt spid="58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2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4" dur="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6" dur="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8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5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3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5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5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35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5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8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下箭头 4"/>
          <p:cNvSpPr/>
          <p:nvPr/>
        </p:nvSpPr>
        <p:spPr>
          <a:xfrm rot="5400000">
            <a:off x="4548600" y="743400"/>
            <a:ext cx="90360" cy="792180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下箭头 5"/>
          <p:cNvSpPr/>
          <p:nvPr/>
        </p:nvSpPr>
        <p:spPr>
          <a:xfrm rot="5400000">
            <a:off x="4523400" y="-3504240"/>
            <a:ext cx="90360" cy="792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图表 6"/>
          <p:cNvGraphicFramePr/>
          <p:nvPr/>
        </p:nvGraphicFramePr>
        <p:xfrm>
          <a:off x="453960" y="800280"/>
          <a:ext cx="5060880" cy="44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图表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800280"/>
                    <a:ext cx="506088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矩形标注 7"/>
          <p:cNvSpPr/>
          <p:nvPr/>
        </p:nvSpPr>
        <p:spPr>
          <a:xfrm rot="5400000">
            <a:off x="5180400" y="1023120"/>
            <a:ext cx="3528720" cy="3168360"/>
          </a:xfrm>
          <a:prstGeom prst="wedgeRectCallout">
            <a:avLst>
              <a:gd name="adj1" fmla="val -9138"/>
              <a:gd name="adj2" fmla="val 6601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标注 11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-921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标注 12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8560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" descr="C:\Users\11\Desktop\499308_103217509356_2.jpg"/>
          <p:cNvPicPr/>
          <p:nvPr/>
        </p:nvPicPr>
        <p:blipFill>
          <a:blip r:embed="rId1"/>
          <a:srcRect l="10704" t="21682" r="5751" b="8685"/>
          <a:stretch/>
        </p:blipFill>
        <p:spPr>
          <a:xfrm>
            <a:off x="3479760" y="1096920"/>
            <a:ext cx="4957920" cy="2825640"/>
          </a:xfrm>
          <a:prstGeom prst="rect">
            <a:avLst/>
          </a:prstGeom>
          <a:ln w="0">
            <a:noFill/>
          </a:ln>
        </p:spPr>
      </p:pic>
      <p:sp>
        <p:nvSpPr>
          <p:cNvPr id="595" name="矩形 4"/>
          <p:cNvSpPr/>
          <p:nvPr/>
        </p:nvSpPr>
        <p:spPr>
          <a:xfrm>
            <a:off x="861840" y="1096920"/>
            <a:ext cx="2773440" cy="2825640"/>
          </a:xfrm>
          <a:prstGeom prst="rect">
            <a:avLst/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ff3"/>
                </a:solidFill>
                <a:latin typeface="黑体"/>
                <a:ea typeface="黑体"/>
              </a:rPr>
              <a:t>在此输入文字</a:t>
            </a:r>
            <a:r>
              <a:rPr b="0" lang="en-US" sz="18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11\Desktop\118156_114047516191_2.jpg"/>
          <p:cNvPicPr/>
          <p:nvPr/>
        </p:nvPicPr>
        <p:blipFill>
          <a:blip r:embed="rId2"/>
          <a:srcRect l="0" t="4142" r="3125" b="12709"/>
          <a:stretch/>
        </p:blipFill>
        <p:spPr>
          <a:xfrm>
            <a:off x="3635280" y="1096920"/>
            <a:ext cx="480240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>ppt宝藏</dc:creator>
  <dc:description/>
  <dc:language>en-US</dc:language>
  <cp:lastModifiedBy>yu wang</cp:lastModifiedBy>
  <cp:lastPrinted>1899-12-30T00:00:00Z</cp:lastPrinted>
  <dcterms:modified xsi:type="dcterms:W3CDTF">2015-08-03T12:19:18Z</dcterms:modified>
  <cp:revision>9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