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2B67-A4A1-467C-8F56-15A4E95CBD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D4E9-A179-4AE0-9F84-0F50E1D0423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9408-8C1B-4432-A5BE-C574AE6BED3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DB94-EED6-46F3-BFFA-E53172FA103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1CD4-44F5-4953-91AD-45D17A2AB2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ACD7-2A25-44C2-8C4E-CCE8D683C30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 to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2935-CF73-49EB-993B-8D22FD672B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7596-DFC1-4BBC-9E28-D256B39519C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5CC5-AA8C-4731-A0DA-C8717678CD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1922-E6E6-4145-8111-38597CAFCE4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97EC-BFC1-40AA-B361-5B5C9A5C274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0842-1509-4087-AAE0-2B2017F5B99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8A6F-0827-417C-B374-C15E1C2BDC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351-3CC2-4666-B02D-6044D90C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4EA-CE0F-4C75-A70C-99AA6CFB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192-D5A4-416C-B7DB-4102C9CF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C7A-B4A6-44E1-9ED2-3311CCDD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2576-7C6F-4843-A763-82096DD4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2EBA-B0C6-424A-9BD8-1AB74C32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4E4E-22D6-4A9E-BECB-AF4915D7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9CF3-EE1D-40F8-9F6B-037D3DD9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F48F-1A24-469B-8469-294BF3D9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9E48-243B-4D9B-9F92-417E9E48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3C47-42D4-47CB-A52F-C3D4C1AB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3311-BE04-4DB7-AA4B-772260EE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3788-CE7F-47E0-850D-58D208AB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E3CE-D2CF-49EA-BC87-149FFC04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260B-5D09-4C23-A1AE-D16584B0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A15A-FE9E-47B1-8CB7-645C1403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26A82-8184-4400-BCD8-9DA304BA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CA84-0D31-4D2C-94E5-11235A15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CF72D-A6CE-43D6-8699-37E3D7C7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62821-4359-4CA5-A583-8B0893A4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2E25-C214-4DE8-9E8D-BAC41240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BC825-139E-46F6-BC84-C9556D69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74AE6-4F05-4C1A-87C5-51232B5C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89526-06FB-4292-889A-5B67F8F8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723AB-DF26-41DE-BEAD-516E16F3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76B6-DDF9-49FD-863C-51019BDF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319AA-F945-4D7D-8A83-0C37F77E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604AC-A39C-4B93-97FE-51317879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84A12-B768-4172-A92F-BFEF0B45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07973-FAD2-4521-8192-5F0C9C05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33DED-1FE1-4133-AD61-975E8E96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68F64-69A0-426A-B0A7-617FFB22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02FE1-0161-414B-9857-F6EC73A5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38BA3-4D8F-4E2A-96DF-655A5989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DF6AE-5429-4557-B121-A82E5D6C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93CFF-A30B-4C3C-AE25-10F095DC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B0A01-0746-441F-B993-B86FC14D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6AF2D-25F9-42F4-BCED-89308EEE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4E988-2943-4CEB-BFDA-E1268DA6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1A57E-6325-41DC-9F89-93450E29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41DE8-8D18-4E08-AB8C-FEB4DF69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38DE6-636D-45D8-89A9-B58D2F31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4D6FC-3DDA-4F3E-8064-D075029C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42677-BCA8-4E0B-811E-E85B26A4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5AFBC-201E-4E0A-A721-104D831F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C8BA6-4D5D-4CC0-9DEF-36228359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0F5AB-AEFE-4C86-AC79-ED6017D9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CF619-034B-468E-ADDF-6183D6A7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FAED3-8FBA-42DE-996E-2030C59E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67751-674F-4E6A-901D-937667F3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51AD0-142B-405A-B9FC-4988DB13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7C5D4-E916-4B45-BC7D-C3F21088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C1406-0FEA-4AE7-B069-CDFEC6CC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433BA-C1CB-4B06-A697-242C8B2E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D78D2-597E-4DC9-BFF0-57D5ABDD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4E973-3A61-484B-B939-7FD2D938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7DAF7-B0E4-4EB7-BCEB-F6B18B36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4DB3F-E914-4483-BD7C-187DD8EA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751D3-09FE-416A-86D9-A0EE8B28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3A4EB-D489-4D1D-80B0-E017348A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874BC-88FA-4B23-876D-9F0D2439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2302B-A3C1-4881-855A-451B93AB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2A057-97BC-46EB-A817-7469327B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365FB-9153-4A65-87A0-8ECE0A26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DDD96-71C6-412F-B1FE-C022E085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7FCDF-5554-4242-AD09-17B735A0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0018D-BAFE-452F-9A38-73C19826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38574-1375-43B1-AAD4-66434FD3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6F02D-6ED3-4591-8E38-27ECD16C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8AA0A-6056-4B52-A7AD-F0A49DB6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CFDAD-CCDA-40EB-95D9-9B86C68B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06ACA-4331-456F-9DFA-A9F839F9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15629-BD85-476C-AF56-EA5879A7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2F3FC-DA20-4E5D-8573-22BFC38E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3CF2C-6E7F-4CEE-B099-2F8831E9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C2488-017D-477C-8696-095AE371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007-64CB-46AF-A480-E079E22D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DE8-A247-4204-A1B2-72D74458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785-661D-417E-94DA-8E9B8C8E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580-8236-462E-97D0-2CF40741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CF1-B6A4-43D6-887D-9A668109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50C-805C-4440-8D01-69A46C9F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C68-34D8-4EF6-8004-E5F87E55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2E4-7F5A-4248-8105-D14BDF69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5D07-5A48-4CD3-AA7C-0F81AB055E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DACD-8773-47FC-A6DE-8508BF803F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B810-2B10-4F9E-89C9-04DCC149B7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1683-AA43-4DC0-BE30-7A73869FD1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8F7E-E74C-4704-A39E-49B6401F92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4" descr="广告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6F8A-49E3-40A9-8862-B92324B2CD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11C3-80D2-42B3-93CF-F6599B08C1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返校1-1.png"/>
          <p:cNvPicPr/>
          <p:nvPr/>
        </p:nvPicPr>
        <p:blipFill>
          <a:blip r:embed="rId2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c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6" descr="bs_05.png"/>
          <p:cNvPicPr/>
          <p:nvPr/>
        </p:nvPicPr>
        <p:blipFill>
          <a:blip r:embed="rId2"/>
          <a:stretch/>
        </p:blipFill>
        <p:spPr>
          <a:xfrm>
            <a:off x="5979960" y="1928880"/>
            <a:ext cx="3164040" cy="47354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2" descr="sb_06.png"/>
          <p:cNvPicPr/>
          <p:nvPr/>
        </p:nvPicPr>
        <p:blipFill>
          <a:blip r:embed="rId3"/>
          <a:stretch/>
        </p:blipFill>
        <p:spPr>
          <a:xfrm>
            <a:off x="5357880" y="5143680"/>
            <a:ext cx="1012680" cy="1330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c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"/>
          <p:cNvSpPr/>
          <p:nvPr/>
        </p:nvSpPr>
        <p:spPr>
          <a:xfrm>
            <a:off x="6429240" y="357120"/>
            <a:ext cx="2286000" cy="1643040"/>
          </a:xfrm>
          <a:custGeom>
            <a:avLst/>
            <a:gdLst/>
            <a:ahLst/>
            <a:rect l="l" t="t" r="r" b="b"/>
            <a:pathLst>
              <a:path w="43733" h="44465">
                <a:moveTo>
                  <a:pt x="4113" y="14830"/>
                </a:moveTo>
                <a:cubicBezTo>
                  <a:pt x="3842" y="12117"/>
                  <a:pt x="4474" y="9381"/>
                  <a:pt x="5836" y="7367"/>
                </a:cubicBezTo>
                <a:cubicBezTo>
                  <a:pt x="7988" y="4186"/>
                  <a:pt x="11477" y="3477"/>
                  <a:pt x="14218" y="5662"/>
                </a:cubicBezTo>
                <a:cubicBezTo>
                  <a:pt x="15891" y="1369"/>
                  <a:pt x="20127" y="482"/>
                  <a:pt x="22669" y="3892"/>
                </a:cubicBezTo>
                <a:cubicBezTo>
                  <a:pt x="23310" y="2143"/>
                  <a:pt x="24541" y="934"/>
                  <a:pt x="25962" y="660"/>
                </a:cubicBezTo>
                <a:cubicBezTo>
                  <a:pt x="27526" y="358"/>
                  <a:pt x="29088" y="1230"/>
                  <a:pt x="30046" y="2941"/>
                </a:cubicBezTo>
                <a:cubicBezTo>
                  <a:pt x="31428" y="727"/>
                  <a:pt x="-31822" y="0"/>
                  <a:pt x="-29860" y="1150"/>
                </a:cubicBezTo>
                <a:cubicBezTo>
                  <a:pt x="-28365" y="2026"/>
                  <a:pt x="-27293" y="3860"/>
                  <a:pt x="-27005" y="6036"/>
                </a:cubicBezTo>
                <a:cubicBezTo>
                  <a:pt x="-25277" y="6678"/>
                  <a:pt x="-23901" y="8458"/>
                  <a:pt x="-23341" y="10778"/>
                </a:cubicBezTo>
                <a:cubicBezTo>
                  <a:pt x="-22934" y="12462"/>
                  <a:pt x="-22992" y="14291"/>
                  <a:pt x="-23505" y="15920"/>
                </a:cubicBezTo>
                <a:cubicBezTo>
                  <a:pt x="-22244" y="18154"/>
                  <a:pt x="-21803" y="21050"/>
                  <a:pt x="-22307" y="23782"/>
                </a:cubicBezTo>
                <a:cubicBezTo>
                  <a:pt x="-22977" y="27414"/>
                  <a:pt x="-25195" y="30134"/>
                  <a:pt x="-27919" y="30664"/>
                </a:cubicBezTo>
                <a:cubicBezTo>
                  <a:pt x="-27932" y="-32605"/>
                  <a:pt x="-28665" y="-30455"/>
                  <a:pt x="-29928" y="-28975"/>
                </a:cubicBezTo>
                <a:cubicBezTo>
                  <a:pt x="-31847" y="-26726"/>
                  <a:pt x="30917" y="-26437"/>
                  <a:pt x="28768" y="-28261"/>
                </a:cubicBezTo>
                <a:cubicBezTo>
                  <a:pt x="28073" y="-25128"/>
                  <a:pt x="26212" y="-22733"/>
                  <a:pt x="23880" y="-21970"/>
                </a:cubicBezTo>
                <a:cubicBezTo>
                  <a:pt x="21132" y="-21071"/>
                  <a:pt x="18264" y="-22603"/>
                  <a:pt x="16693" y="-25810"/>
                </a:cubicBezTo>
                <a:cubicBezTo>
                  <a:pt x="12985" y="-22766"/>
                  <a:pt x="8169" y="-24477"/>
                  <a:pt x="6017" y="-29604"/>
                </a:cubicBezTo>
                <a:cubicBezTo>
                  <a:pt x="3903" y="-29267"/>
                  <a:pt x="1918" y="-31052"/>
                  <a:pt x="1323" y="31710"/>
                </a:cubicBezTo>
                <a:cubicBezTo>
                  <a:pt x="892" y="29703"/>
                  <a:pt x="1273" y="27537"/>
                  <a:pt x="2326" y="26011"/>
                </a:cubicBezTo>
                <a:cubicBezTo>
                  <a:pt x="832" y="24814"/>
                  <a:pt x="0" y="22517"/>
                  <a:pt x="208" y="20164"/>
                </a:cubicBezTo>
                <a:cubicBezTo>
                  <a:pt x="452" y="17409"/>
                  <a:pt x="2058" y="15251"/>
                  <a:pt x="4076" y="14967"/>
                </a:cubicBezTo>
                <a:cubicBezTo>
                  <a:pt x="4088" y="14921"/>
                  <a:pt x="4101" y="14876"/>
                  <a:pt x="4113" y="14830"/>
                </a:cubicBezTo>
                <a:close/>
              </a:path>
              <a:path fill="none" w="43733" h="44465">
                <a:moveTo>
                  <a:pt x="4906" y="26637"/>
                </a:moveTo>
                <a:cubicBezTo>
                  <a:pt x="4022" y="26731"/>
                  <a:pt x="3138" y="26453"/>
                  <a:pt x="2373" y="25840"/>
                </a:cubicBezTo>
                <a:moveTo>
                  <a:pt x="7141" y="-30177"/>
                </a:moveTo>
                <a:cubicBezTo>
                  <a:pt x="6786" y="-29984"/>
                  <a:pt x="6413" y="-29856"/>
                  <a:pt x="6033" y="-29796"/>
                </a:cubicBezTo>
                <a:moveTo>
                  <a:pt x="16691" y="-25986"/>
                </a:moveTo>
                <a:cubicBezTo>
                  <a:pt x="16424" y="-26532"/>
                  <a:pt x="16200" y="-27115"/>
                  <a:pt x="16023" y="-27726"/>
                </a:cubicBezTo>
                <a:moveTo>
                  <a:pt x="29040" y="-30325"/>
                </a:moveTo>
                <a:cubicBezTo>
                  <a:pt x="29001" y="-29678"/>
                  <a:pt x="28911" y="-29038"/>
                  <a:pt x="28773" y="-28416"/>
                </a:cubicBezTo>
                <a:moveTo>
                  <a:pt x="-31194" y="23414"/>
                </a:moveTo>
                <a:cubicBezTo>
                  <a:pt x="-29190" y="24742"/>
                  <a:pt x="-27925" y="27518"/>
                  <a:pt x="-27943" y="30550"/>
                </a:cubicBezTo>
                <a:moveTo>
                  <a:pt x="-23525" y="15814"/>
                </a:moveTo>
                <a:cubicBezTo>
                  <a:pt x="-23850" y="16846"/>
                  <a:pt x="-24345" y="17762"/>
                  <a:pt x="-24973" y="18490"/>
                </a:cubicBezTo>
                <a:moveTo>
                  <a:pt x="-26999" y="5886"/>
                </a:moveTo>
                <a:cubicBezTo>
                  <a:pt x="-26944" y="6303"/>
                  <a:pt x="-26918" y="6726"/>
                  <a:pt x="-26923" y="7150"/>
                </a:cubicBezTo>
                <a:moveTo>
                  <a:pt x="29291" y="4412"/>
                </a:moveTo>
                <a:cubicBezTo>
                  <a:pt x="29480" y="3829"/>
                  <a:pt x="29729" y="3286"/>
                  <a:pt x="30033" y="2800"/>
                </a:cubicBezTo>
                <a:moveTo>
                  <a:pt x="22354" y="5180"/>
                </a:moveTo>
                <a:cubicBezTo>
                  <a:pt x="22431" y="4698"/>
                  <a:pt x="22552" y="4231"/>
                  <a:pt x="22713" y="3790"/>
                </a:cubicBezTo>
                <a:moveTo>
                  <a:pt x="14213" y="5652"/>
                </a:moveTo>
                <a:cubicBezTo>
                  <a:pt x="14685" y="6028"/>
                  <a:pt x="15121" y="6481"/>
                  <a:pt x="15513" y="7000"/>
                </a:cubicBezTo>
                <a:moveTo>
                  <a:pt x="4340" y="16249"/>
                </a:moveTo>
                <a:cubicBezTo>
                  <a:pt x="4237" y="15785"/>
                  <a:pt x="4161" y="15311"/>
                  <a:pt x="4113" y="1483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8"/>
          <p:cNvSpPr/>
          <p:nvPr/>
        </p:nvSpPr>
        <p:spPr>
          <a:xfrm>
            <a:off x="4572000" y="3500280"/>
            <a:ext cx="1677960" cy="1279800"/>
          </a:xfrm>
          <a:custGeom>
            <a:avLst/>
            <a:gdLst/>
            <a:ahLst/>
            <a:rect l="l" t="t" r="r" b="b"/>
            <a:pathLst>
              <a:path w="43733" h="44465">
                <a:moveTo>
                  <a:pt x="4113" y="14830"/>
                </a:moveTo>
                <a:cubicBezTo>
                  <a:pt x="3842" y="12117"/>
                  <a:pt x="4474" y="9381"/>
                  <a:pt x="5836" y="7367"/>
                </a:cubicBezTo>
                <a:cubicBezTo>
                  <a:pt x="7988" y="4186"/>
                  <a:pt x="11477" y="3477"/>
                  <a:pt x="14218" y="5662"/>
                </a:cubicBezTo>
                <a:cubicBezTo>
                  <a:pt x="15891" y="1369"/>
                  <a:pt x="20127" y="482"/>
                  <a:pt x="22669" y="3892"/>
                </a:cubicBezTo>
                <a:cubicBezTo>
                  <a:pt x="23310" y="2143"/>
                  <a:pt x="24541" y="934"/>
                  <a:pt x="25962" y="660"/>
                </a:cubicBezTo>
                <a:cubicBezTo>
                  <a:pt x="27526" y="358"/>
                  <a:pt x="29088" y="1230"/>
                  <a:pt x="30046" y="2941"/>
                </a:cubicBezTo>
                <a:cubicBezTo>
                  <a:pt x="31428" y="727"/>
                  <a:pt x="-31822" y="0"/>
                  <a:pt x="-29860" y="1150"/>
                </a:cubicBezTo>
                <a:cubicBezTo>
                  <a:pt x="-28365" y="2026"/>
                  <a:pt x="-27293" y="3860"/>
                  <a:pt x="-27005" y="6036"/>
                </a:cubicBezTo>
                <a:cubicBezTo>
                  <a:pt x="-25277" y="6678"/>
                  <a:pt x="-23901" y="8458"/>
                  <a:pt x="-23341" y="10778"/>
                </a:cubicBezTo>
                <a:cubicBezTo>
                  <a:pt x="-22934" y="12462"/>
                  <a:pt x="-22992" y="14291"/>
                  <a:pt x="-23505" y="15920"/>
                </a:cubicBezTo>
                <a:cubicBezTo>
                  <a:pt x="-22244" y="18154"/>
                  <a:pt x="-21803" y="21050"/>
                  <a:pt x="-22307" y="23782"/>
                </a:cubicBezTo>
                <a:cubicBezTo>
                  <a:pt x="-22977" y="27414"/>
                  <a:pt x="-25195" y="30134"/>
                  <a:pt x="-27919" y="30664"/>
                </a:cubicBezTo>
                <a:cubicBezTo>
                  <a:pt x="-27932" y="-32605"/>
                  <a:pt x="-28665" y="-30455"/>
                  <a:pt x="-29928" y="-28975"/>
                </a:cubicBezTo>
                <a:cubicBezTo>
                  <a:pt x="-31847" y="-26726"/>
                  <a:pt x="30917" y="-26437"/>
                  <a:pt x="28768" y="-28261"/>
                </a:cubicBezTo>
                <a:cubicBezTo>
                  <a:pt x="28073" y="-25128"/>
                  <a:pt x="26212" y="-22733"/>
                  <a:pt x="23880" y="-21970"/>
                </a:cubicBezTo>
                <a:cubicBezTo>
                  <a:pt x="21132" y="-21071"/>
                  <a:pt x="18264" y="-22603"/>
                  <a:pt x="16693" y="-25810"/>
                </a:cubicBezTo>
                <a:cubicBezTo>
                  <a:pt x="12985" y="-22766"/>
                  <a:pt x="8169" y="-24477"/>
                  <a:pt x="6017" y="-29604"/>
                </a:cubicBezTo>
                <a:cubicBezTo>
                  <a:pt x="3903" y="-29267"/>
                  <a:pt x="1918" y="-31052"/>
                  <a:pt x="1323" y="31710"/>
                </a:cubicBezTo>
                <a:cubicBezTo>
                  <a:pt x="892" y="29703"/>
                  <a:pt x="1273" y="27537"/>
                  <a:pt x="2326" y="26011"/>
                </a:cubicBezTo>
                <a:cubicBezTo>
                  <a:pt x="832" y="24814"/>
                  <a:pt x="0" y="22517"/>
                  <a:pt x="208" y="20164"/>
                </a:cubicBezTo>
                <a:cubicBezTo>
                  <a:pt x="452" y="17409"/>
                  <a:pt x="2058" y="15251"/>
                  <a:pt x="4076" y="14967"/>
                </a:cubicBezTo>
                <a:cubicBezTo>
                  <a:pt x="4088" y="14921"/>
                  <a:pt x="4101" y="14876"/>
                  <a:pt x="4113" y="14830"/>
                </a:cubicBezTo>
                <a:close/>
              </a:path>
              <a:path fill="none" w="43733" h="44465">
                <a:moveTo>
                  <a:pt x="4906" y="26637"/>
                </a:moveTo>
                <a:cubicBezTo>
                  <a:pt x="4022" y="26731"/>
                  <a:pt x="3138" y="26453"/>
                  <a:pt x="2373" y="25840"/>
                </a:cubicBezTo>
                <a:moveTo>
                  <a:pt x="7141" y="-30177"/>
                </a:moveTo>
                <a:cubicBezTo>
                  <a:pt x="6786" y="-29984"/>
                  <a:pt x="6413" y="-29856"/>
                  <a:pt x="6033" y="-29796"/>
                </a:cubicBezTo>
                <a:moveTo>
                  <a:pt x="16691" y="-25986"/>
                </a:moveTo>
                <a:cubicBezTo>
                  <a:pt x="16424" y="-26532"/>
                  <a:pt x="16200" y="-27115"/>
                  <a:pt x="16023" y="-27726"/>
                </a:cubicBezTo>
                <a:moveTo>
                  <a:pt x="29040" y="-30325"/>
                </a:moveTo>
                <a:cubicBezTo>
                  <a:pt x="29001" y="-29678"/>
                  <a:pt x="28911" y="-29038"/>
                  <a:pt x="28773" y="-28416"/>
                </a:cubicBezTo>
                <a:moveTo>
                  <a:pt x="-31194" y="23414"/>
                </a:moveTo>
                <a:cubicBezTo>
                  <a:pt x="-29190" y="24742"/>
                  <a:pt x="-27925" y="27518"/>
                  <a:pt x="-27943" y="30550"/>
                </a:cubicBezTo>
                <a:moveTo>
                  <a:pt x="-23525" y="15814"/>
                </a:moveTo>
                <a:cubicBezTo>
                  <a:pt x="-23850" y="16846"/>
                  <a:pt x="-24345" y="17762"/>
                  <a:pt x="-24973" y="18490"/>
                </a:cubicBezTo>
                <a:moveTo>
                  <a:pt x="-26999" y="5886"/>
                </a:moveTo>
                <a:cubicBezTo>
                  <a:pt x="-26944" y="6303"/>
                  <a:pt x="-26918" y="6726"/>
                  <a:pt x="-26923" y="7150"/>
                </a:cubicBezTo>
                <a:moveTo>
                  <a:pt x="29291" y="4412"/>
                </a:moveTo>
                <a:cubicBezTo>
                  <a:pt x="29480" y="3829"/>
                  <a:pt x="29729" y="3286"/>
                  <a:pt x="30033" y="2800"/>
                </a:cubicBezTo>
                <a:moveTo>
                  <a:pt x="22354" y="5180"/>
                </a:moveTo>
                <a:cubicBezTo>
                  <a:pt x="22431" y="4698"/>
                  <a:pt x="22552" y="4231"/>
                  <a:pt x="22713" y="3790"/>
                </a:cubicBezTo>
                <a:moveTo>
                  <a:pt x="14213" y="5652"/>
                </a:moveTo>
                <a:cubicBezTo>
                  <a:pt x="14685" y="6028"/>
                  <a:pt x="15121" y="6481"/>
                  <a:pt x="15513" y="7000"/>
                </a:cubicBezTo>
                <a:moveTo>
                  <a:pt x="4340" y="16249"/>
                </a:moveTo>
                <a:cubicBezTo>
                  <a:pt x="4237" y="15785"/>
                  <a:pt x="4161" y="15311"/>
                  <a:pt x="4113" y="1483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9" descr="未标题-1_13.png"/>
          <p:cNvPicPr/>
          <p:nvPr/>
        </p:nvPicPr>
        <p:blipFill>
          <a:blip r:embed="rId2"/>
          <a:stretch/>
        </p:blipFill>
        <p:spPr>
          <a:xfrm>
            <a:off x="0" y="2214720"/>
            <a:ext cx="1500120" cy="10476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0" descr="bs_05.png"/>
          <p:cNvPicPr/>
          <p:nvPr/>
        </p:nvPicPr>
        <p:blipFill>
          <a:blip r:embed="rId3"/>
          <a:stretch/>
        </p:blipFill>
        <p:spPr>
          <a:xfrm>
            <a:off x="5979960" y="1928880"/>
            <a:ext cx="3164040" cy="47354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2" descr="sb_06.png"/>
          <p:cNvPicPr/>
          <p:nvPr/>
        </p:nvPicPr>
        <p:blipFill>
          <a:blip r:embed="rId4"/>
          <a:stretch/>
        </p:blipFill>
        <p:spPr>
          <a:xfrm>
            <a:off x="5357880" y="5143680"/>
            <a:ext cx="1012680" cy="1330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7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7" descr="返校2_03.png"/>
          <p:cNvPicPr/>
          <p:nvPr/>
        </p:nvPicPr>
        <p:blipFill>
          <a:blip r:embed="rId2"/>
          <a:stretch/>
        </p:blipFill>
        <p:spPr>
          <a:xfrm>
            <a:off x="6000840" y="4214880"/>
            <a:ext cx="3143160" cy="24210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2" descr="sb_06.png"/>
          <p:cNvPicPr/>
          <p:nvPr/>
        </p:nvPicPr>
        <p:blipFill>
          <a:blip r:embed="rId3"/>
          <a:stretch/>
        </p:blipFill>
        <p:spPr>
          <a:xfrm>
            <a:off x="6786720" y="5286240"/>
            <a:ext cx="1012680" cy="1330560"/>
          </a:xfrm>
          <a:prstGeom prst="rect">
            <a:avLst/>
          </a:prstGeom>
          <a:ln w="0">
            <a:noFill/>
          </a:ln>
        </p:spPr>
      </p:pic>
      <p:grpSp>
        <p:nvGrpSpPr>
          <p:cNvPr id="168" name="组合 13"/>
          <p:cNvGrpSpPr/>
          <p:nvPr/>
        </p:nvGrpSpPr>
        <p:grpSpPr>
          <a:xfrm>
            <a:off x="6572160" y="3159000"/>
            <a:ext cx="3000600" cy="1774080"/>
            <a:chOff x="6572160" y="3159000"/>
            <a:chExt cx="3000600" cy="1774080"/>
          </a:xfrm>
        </p:grpSpPr>
        <p:sp>
          <p:nvSpPr>
            <p:cNvPr id="169" name="矩形 9"/>
            <p:cNvSpPr/>
            <p:nvPr/>
          </p:nvSpPr>
          <p:spPr>
            <a:xfrm>
              <a:off x="6929280" y="3159000"/>
              <a:ext cx="228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 Rounded MT Bold"/>
                </a:rPr>
                <a:t>B</a:t>
              </a:r>
              <a:r>
                <a:rPr b="0" lang="en-US" sz="4400" spc="-1" strike="noStrike">
                  <a:solidFill>
                    <a:srgbClr val="c00000"/>
                  </a:solidFill>
                  <a:latin typeface="Arial Rounded MT Bold"/>
                </a:rPr>
                <a:t>A</a:t>
              </a:r>
              <a:r>
                <a:rPr b="0" lang="en-US" sz="4400" spc="-1" strike="noStrike">
                  <a:solidFill>
                    <a:srgbClr val="92d050"/>
                  </a:solidFill>
                  <a:latin typeface="Arial Rounded MT Bold"/>
                </a:rPr>
                <a:t>C</a:t>
              </a:r>
              <a:r>
                <a:rPr b="0" lang="en-US" sz="4400" spc="-1" strike="noStrike">
                  <a:solidFill>
                    <a:srgbClr val="7030a0"/>
                  </a:solidFill>
                  <a:latin typeface="Arial Rounded MT Bold"/>
                </a:rPr>
                <a:t>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0"/>
            <p:cNvSpPr/>
            <p:nvPr/>
          </p:nvSpPr>
          <p:spPr>
            <a:xfrm>
              <a:off x="7358040" y="3659040"/>
              <a:ext cx="1285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7030a0"/>
                  </a:solidFill>
                  <a:latin typeface="Arial Rounded MT Bold"/>
                </a:rPr>
                <a:t>T</a:t>
              </a:r>
              <a:r>
                <a:rPr b="0" lang="en-US" sz="4400" spc="-1" strike="noStrike">
                  <a:solidFill>
                    <a:srgbClr val="ff0000"/>
                  </a:solidFill>
                  <a:latin typeface="Arial Rounded MT Bold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1"/>
            <p:cNvSpPr/>
            <p:nvPr/>
          </p:nvSpPr>
          <p:spPr>
            <a:xfrm>
              <a:off x="6572160" y="4168800"/>
              <a:ext cx="3000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1859c"/>
                  </a:solidFill>
                  <a:latin typeface="Arial Rounded MT Bold"/>
                </a:rPr>
                <a:t>S</a:t>
              </a:r>
              <a:r>
                <a:rPr b="0" lang="en-US" sz="4400" spc="-1" strike="noStrike">
                  <a:solidFill>
                    <a:srgbClr val="e42c58"/>
                  </a:solidFill>
                  <a:latin typeface="Arial Rounded MT Bold"/>
                </a:rPr>
                <a:t>C</a:t>
              </a:r>
              <a:r>
                <a:rPr b="0" lang="en-US" sz="4400" spc="-1" strike="noStrike">
                  <a:solidFill>
                    <a:srgbClr val="92d050"/>
                  </a:solidFill>
                  <a:latin typeface="Arial Rounded MT Bold"/>
                </a:rPr>
                <a:t>H</a:t>
              </a:r>
              <a:r>
                <a:rPr b="0" lang="en-US" sz="4400" spc="-1" strike="noStrike">
                  <a:solidFill>
                    <a:srgbClr val="c00000"/>
                  </a:solidFill>
                  <a:latin typeface="Arial Rounded MT Bold"/>
                </a:rPr>
                <a:t>O</a:t>
              </a:r>
              <a:r>
                <a:rPr b="0" lang="en-US" sz="4400" spc="-1" strike="noStrike">
                  <a:solidFill>
                    <a:srgbClr val="92d050"/>
                  </a:solidFill>
                  <a:latin typeface="Arial Rounded MT Bold"/>
                </a:rPr>
                <a:t>O</a:t>
              </a:r>
              <a:r>
                <a:rPr b="0" lang="en-US" sz="4400" spc="-1" strike="noStrike">
                  <a:solidFill>
                    <a:srgbClr val="31859c"/>
                  </a:solidFill>
                  <a:latin typeface="Arial Rounded MT Bold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c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8"/>
          <p:cNvSpPr/>
          <p:nvPr/>
        </p:nvSpPr>
        <p:spPr>
          <a:xfrm>
            <a:off x="6429240" y="357120"/>
            <a:ext cx="2286000" cy="1643040"/>
          </a:xfrm>
          <a:custGeom>
            <a:avLst/>
            <a:gdLst/>
            <a:ahLst/>
            <a:rect l="l" t="t" r="r" b="b"/>
            <a:pathLst>
              <a:path w="43733" h="44465">
                <a:moveTo>
                  <a:pt x="4113" y="14830"/>
                </a:moveTo>
                <a:cubicBezTo>
                  <a:pt x="3842" y="12117"/>
                  <a:pt x="4474" y="9381"/>
                  <a:pt x="5836" y="7367"/>
                </a:cubicBezTo>
                <a:cubicBezTo>
                  <a:pt x="7988" y="4186"/>
                  <a:pt x="11477" y="3477"/>
                  <a:pt x="14218" y="5662"/>
                </a:cubicBezTo>
                <a:cubicBezTo>
                  <a:pt x="15891" y="1369"/>
                  <a:pt x="20127" y="482"/>
                  <a:pt x="22669" y="3892"/>
                </a:cubicBezTo>
                <a:cubicBezTo>
                  <a:pt x="23310" y="2143"/>
                  <a:pt x="24541" y="934"/>
                  <a:pt x="25962" y="660"/>
                </a:cubicBezTo>
                <a:cubicBezTo>
                  <a:pt x="27526" y="358"/>
                  <a:pt x="29088" y="1230"/>
                  <a:pt x="30046" y="2941"/>
                </a:cubicBezTo>
                <a:cubicBezTo>
                  <a:pt x="31428" y="727"/>
                  <a:pt x="-31822" y="0"/>
                  <a:pt x="-29860" y="1150"/>
                </a:cubicBezTo>
                <a:cubicBezTo>
                  <a:pt x="-28365" y="2026"/>
                  <a:pt x="-27293" y="3860"/>
                  <a:pt x="-27005" y="6036"/>
                </a:cubicBezTo>
                <a:cubicBezTo>
                  <a:pt x="-25277" y="6678"/>
                  <a:pt x="-23901" y="8458"/>
                  <a:pt x="-23341" y="10778"/>
                </a:cubicBezTo>
                <a:cubicBezTo>
                  <a:pt x="-22934" y="12462"/>
                  <a:pt x="-22992" y="14291"/>
                  <a:pt x="-23505" y="15920"/>
                </a:cubicBezTo>
                <a:cubicBezTo>
                  <a:pt x="-22244" y="18154"/>
                  <a:pt x="-21803" y="21050"/>
                  <a:pt x="-22307" y="23782"/>
                </a:cubicBezTo>
                <a:cubicBezTo>
                  <a:pt x="-22977" y="27414"/>
                  <a:pt x="-25195" y="30134"/>
                  <a:pt x="-27919" y="30664"/>
                </a:cubicBezTo>
                <a:cubicBezTo>
                  <a:pt x="-27932" y="-32605"/>
                  <a:pt x="-28665" y="-30455"/>
                  <a:pt x="-29928" y="-28975"/>
                </a:cubicBezTo>
                <a:cubicBezTo>
                  <a:pt x="-31847" y="-26726"/>
                  <a:pt x="30917" y="-26437"/>
                  <a:pt x="28768" y="-28261"/>
                </a:cubicBezTo>
                <a:cubicBezTo>
                  <a:pt x="28073" y="-25128"/>
                  <a:pt x="26212" y="-22733"/>
                  <a:pt x="23880" y="-21970"/>
                </a:cubicBezTo>
                <a:cubicBezTo>
                  <a:pt x="21132" y="-21071"/>
                  <a:pt x="18264" y="-22603"/>
                  <a:pt x="16693" y="-25810"/>
                </a:cubicBezTo>
                <a:cubicBezTo>
                  <a:pt x="12985" y="-22766"/>
                  <a:pt x="8169" y="-24477"/>
                  <a:pt x="6017" y="-29604"/>
                </a:cubicBezTo>
                <a:cubicBezTo>
                  <a:pt x="3903" y="-29267"/>
                  <a:pt x="1918" y="-31052"/>
                  <a:pt x="1323" y="31710"/>
                </a:cubicBezTo>
                <a:cubicBezTo>
                  <a:pt x="892" y="29703"/>
                  <a:pt x="1273" y="27537"/>
                  <a:pt x="2326" y="26011"/>
                </a:cubicBezTo>
                <a:cubicBezTo>
                  <a:pt x="832" y="24814"/>
                  <a:pt x="0" y="22517"/>
                  <a:pt x="208" y="20164"/>
                </a:cubicBezTo>
                <a:cubicBezTo>
                  <a:pt x="452" y="17409"/>
                  <a:pt x="2058" y="15251"/>
                  <a:pt x="4076" y="14967"/>
                </a:cubicBezTo>
                <a:cubicBezTo>
                  <a:pt x="4088" y="14921"/>
                  <a:pt x="4101" y="14876"/>
                  <a:pt x="4113" y="14830"/>
                </a:cubicBezTo>
                <a:close/>
              </a:path>
              <a:path fill="none" w="43733" h="44465">
                <a:moveTo>
                  <a:pt x="4906" y="26637"/>
                </a:moveTo>
                <a:cubicBezTo>
                  <a:pt x="4022" y="26731"/>
                  <a:pt x="3138" y="26453"/>
                  <a:pt x="2373" y="25840"/>
                </a:cubicBezTo>
                <a:moveTo>
                  <a:pt x="7141" y="-30177"/>
                </a:moveTo>
                <a:cubicBezTo>
                  <a:pt x="6786" y="-29984"/>
                  <a:pt x="6413" y="-29856"/>
                  <a:pt x="6033" y="-29796"/>
                </a:cubicBezTo>
                <a:moveTo>
                  <a:pt x="16691" y="-25986"/>
                </a:moveTo>
                <a:cubicBezTo>
                  <a:pt x="16424" y="-26532"/>
                  <a:pt x="16200" y="-27115"/>
                  <a:pt x="16023" y="-27726"/>
                </a:cubicBezTo>
                <a:moveTo>
                  <a:pt x="29040" y="-30325"/>
                </a:moveTo>
                <a:cubicBezTo>
                  <a:pt x="29001" y="-29678"/>
                  <a:pt x="28911" y="-29038"/>
                  <a:pt x="28773" y="-28416"/>
                </a:cubicBezTo>
                <a:moveTo>
                  <a:pt x="-31194" y="23414"/>
                </a:moveTo>
                <a:cubicBezTo>
                  <a:pt x="-29190" y="24742"/>
                  <a:pt x="-27925" y="27518"/>
                  <a:pt x="-27943" y="30550"/>
                </a:cubicBezTo>
                <a:moveTo>
                  <a:pt x="-23525" y="15814"/>
                </a:moveTo>
                <a:cubicBezTo>
                  <a:pt x="-23850" y="16846"/>
                  <a:pt x="-24345" y="17762"/>
                  <a:pt x="-24973" y="18490"/>
                </a:cubicBezTo>
                <a:moveTo>
                  <a:pt x="-26999" y="5886"/>
                </a:moveTo>
                <a:cubicBezTo>
                  <a:pt x="-26944" y="6303"/>
                  <a:pt x="-26918" y="6726"/>
                  <a:pt x="-26923" y="7150"/>
                </a:cubicBezTo>
                <a:moveTo>
                  <a:pt x="29291" y="4412"/>
                </a:moveTo>
                <a:cubicBezTo>
                  <a:pt x="29480" y="3829"/>
                  <a:pt x="29729" y="3286"/>
                  <a:pt x="30033" y="2800"/>
                </a:cubicBezTo>
                <a:moveTo>
                  <a:pt x="22354" y="5180"/>
                </a:moveTo>
                <a:cubicBezTo>
                  <a:pt x="22431" y="4698"/>
                  <a:pt x="22552" y="4231"/>
                  <a:pt x="22713" y="3790"/>
                </a:cubicBezTo>
                <a:moveTo>
                  <a:pt x="14213" y="5652"/>
                </a:moveTo>
                <a:cubicBezTo>
                  <a:pt x="14685" y="6028"/>
                  <a:pt x="15121" y="6481"/>
                  <a:pt x="15513" y="7000"/>
                </a:cubicBezTo>
                <a:moveTo>
                  <a:pt x="4340" y="16249"/>
                </a:moveTo>
                <a:cubicBezTo>
                  <a:pt x="4237" y="15785"/>
                  <a:pt x="4161" y="15311"/>
                  <a:pt x="4113" y="1483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9"/>
          <p:cNvSpPr/>
          <p:nvPr/>
        </p:nvSpPr>
        <p:spPr>
          <a:xfrm>
            <a:off x="5357880" y="3857760"/>
            <a:ext cx="1428840" cy="1089000"/>
          </a:xfrm>
          <a:custGeom>
            <a:avLst/>
            <a:gdLst/>
            <a:ahLst/>
            <a:rect l="l" t="t" r="r" b="b"/>
            <a:pathLst>
              <a:path w="43733" h="44465">
                <a:moveTo>
                  <a:pt x="4113" y="14830"/>
                </a:moveTo>
                <a:cubicBezTo>
                  <a:pt x="3842" y="12117"/>
                  <a:pt x="4474" y="9381"/>
                  <a:pt x="5836" y="7367"/>
                </a:cubicBezTo>
                <a:cubicBezTo>
                  <a:pt x="7988" y="4186"/>
                  <a:pt x="11477" y="3477"/>
                  <a:pt x="14218" y="5662"/>
                </a:cubicBezTo>
                <a:cubicBezTo>
                  <a:pt x="15891" y="1369"/>
                  <a:pt x="20127" y="482"/>
                  <a:pt x="22669" y="3892"/>
                </a:cubicBezTo>
                <a:cubicBezTo>
                  <a:pt x="23310" y="2143"/>
                  <a:pt x="24541" y="934"/>
                  <a:pt x="25962" y="660"/>
                </a:cubicBezTo>
                <a:cubicBezTo>
                  <a:pt x="27526" y="358"/>
                  <a:pt x="29088" y="1230"/>
                  <a:pt x="30046" y="2941"/>
                </a:cubicBezTo>
                <a:cubicBezTo>
                  <a:pt x="31428" y="727"/>
                  <a:pt x="-31822" y="0"/>
                  <a:pt x="-29860" y="1150"/>
                </a:cubicBezTo>
                <a:cubicBezTo>
                  <a:pt x="-28365" y="2026"/>
                  <a:pt x="-27293" y="3860"/>
                  <a:pt x="-27005" y="6036"/>
                </a:cubicBezTo>
                <a:cubicBezTo>
                  <a:pt x="-25277" y="6678"/>
                  <a:pt x="-23901" y="8458"/>
                  <a:pt x="-23341" y="10778"/>
                </a:cubicBezTo>
                <a:cubicBezTo>
                  <a:pt x="-22934" y="12462"/>
                  <a:pt x="-22992" y="14291"/>
                  <a:pt x="-23505" y="15920"/>
                </a:cubicBezTo>
                <a:cubicBezTo>
                  <a:pt x="-22244" y="18154"/>
                  <a:pt x="-21803" y="21050"/>
                  <a:pt x="-22307" y="23782"/>
                </a:cubicBezTo>
                <a:cubicBezTo>
                  <a:pt x="-22977" y="27414"/>
                  <a:pt x="-25195" y="30134"/>
                  <a:pt x="-27919" y="30664"/>
                </a:cubicBezTo>
                <a:cubicBezTo>
                  <a:pt x="-27932" y="-32605"/>
                  <a:pt x="-28665" y="-30455"/>
                  <a:pt x="-29928" y="-28975"/>
                </a:cubicBezTo>
                <a:cubicBezTo>
                  <a:pt x="-31847" y="-26726"/>
                  <a:pt x="30917" y="-26437"/>
                  <a:pt x="28768" y="-28261"/>
                </a:cubicBezTo>
                <a:cubicBezTo>
                  <a:pt x="28073" y="-25128"/>
                  <a:pt x="26212" y="-22733"/>
                  <a:pt x="23880" y="-21970"/>
                </a:cubicBezTo>
                <a:cubicBezTo>
                  <a:pt x="21132" y="-21071"/>
                  <a:pt x="18264" y="-22603"/>
                  <a:pt x="16693" y="-25810"/>
                </a:cubicBezTo>
                <a:cubicBezTo>
                  <a:pt x="12985" y="-22766"/>
                  <a:pt x="8169" y="-24477"/>
                  <a:pt x="6017" y="-29604"/>
                </a:cubicBezTo>
                <a:cubicBezTo>
                  <a:pt x="3903" y="-29267"/>
                  <a:pt x="1918" y="-31052"/>
                  <a:pt x="1323" y="31710"/>
                </a:cubicBezTo>
                <a:cubicBezTo>
                  <a:pt x="892" y="29703"/>
                  <a:pt x="1273" y="27537"/>
                  <a:pt x="2326" y="26011"/>
                </a:cubicBezTo>
                <a:cubicBezTo>
                  <a:pt x="832" y="24814"/>
                  <a:pt x="0" y="22517"/>
                  <a:pt x="208" y="20164"/>
                </a:cubicBezTo>
                <a:cubicBezTo>
                  <a:pt x="452" y="17409"/>
                  <a:pt x="2058" y="15251"/>
                  <a:pt x="4076" y="14967"/>
                </a:cubicBezTo>
                <a:cubicBezTo>
                  <a:pt x="4088" y="14921"/>
                  <a:pt x="4101" y="14876"/>
                  <a:pt x="4113" y="14830"/>
                </a:cubicBezTo>
                <a:close/>
              </a:path>
              <a:path fill="none" w="43733" h="44465">
                <a:moveTo>
                  <a:pt x="4906" y="26637"/>
                </a:moveTo>
                <a:cubicBezTo>
                  <a:pt x="4022" y="26731"/>
                  <a:pt x="3138" y="26453"/>
                  <a:pt x="2373" y="25840"/>
                </a:cubicBezTo>
                <a:moveTo>
                  <a:pt x="7141" y="-30177"/>
                </a:moveTo>
                <a:cubicBezTo>
                  <a:pt x="6786" y="-29984"/>
                  <a:pt x="6413" y="-29856"/>
                  <a:pt x="6033" y="-29796"/>
                </a:cubicBezTo>
                <a:moveTo>
                  <a:pt x="16691" y="-25986"/>
                </a:moveTo>
                <a:cubicBezTo>
                  <a:pt x="16424" y="-26532"/>
                  <a:pt x="16200" y="-27115"/>
                  <a:pt x="16023" y="-27726"/>
                </a:cubicBezTo>
                <a:moveTo>
                  <a:pt x="29040" y="-30325"/>
                </a:moveTo>
                <a:cubicBezTo>
                  <a:pt x="29001" y="-29678"/>
                  <a:pt x="28911" y="-29038"/>
                  <a:pt x="28773" y="-28416"/>
                </a:cubicBezTo>
                <a:moveTo>
                  <a:pt x="-31194" y="23414"/>
                </a:moveTo>
                <a:cubicBezTo>
                  <a:pt x="-29190" y="24742"/>
                  <a:pt x="-27925" y="27518"/>
                  <a:pt x="-27943" y="30550"/>
                </a:cubicBezTo>
                <a:moveTo>
                  <a:pt x="-23525" y="15814"/>
                </a:moveTo>
                <a:cubicBezTo>
                  <a:pt x="-23850" y="16846"/>
                  <a:pt x="-24345" y="17762"/>
                  <a:pt x="-24973" y="18490"/>
                </a:cubicBezTo>
                <a:moveTo>
                  <a:pt x="-26999" y="5886"/>
                </a:moveTo>
                <a:cubicBezTo>
                  <a:pt x="-26944" y="6303"/>
                  <a:pt x="-26918" y="6726"/>
                  <a:pt x="-26923" y="7150"/>
                </a:cubicBezTo>
                <a:moveTo>
                  <a:pt x="29291" y="4412"/>
                </a:moveTo>
                <a:cubicBezTo>
                  <a:pt x="29480" y="3829"/>
                  <a:pt x="29729" y="3286"/>
                  <a:pt x="30033" y="2800"/>
                </a:cubicBezTo>
                <a:moveTo>
                  <a:pt x="22354" y="5180"/>
                </a:moveTo>
                <a:cubicBezTo>
                  <a:pt x="22431" y="4698"/>
                  <a:pt x="22552" y="4231"/>
                  <a:pt x="22713" y="3790"/>
                </a:cubicBezTo>
                <a:moveTo>
                  <a:pt x="14213" y="5652"/>
                </a:moveTo>
                <a:cubicBezTo>
                  <a:pt x="14685" y="6028"/>
                  <a:pt x="15121" y="6481"/>
                  <a:pt x="15513" y="7000"/>
                </a:cubicBezTo>
                <a:moveTo>
                  <a:pt x="4340" y="16249"/>
                </a:moveTo>
                <a:cubicBezTo>
                  <a:pt x="4237" y="15785"/>
                  <a:pt x="4161" y="15311"/>
                  <a:pt x="4113" y="1483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2" descr="sb_06.png"/>
          <p:cNvPicPr/>
          <p:nvPr/>
        </p:nvPicPr>
        <p:blipFill>
          <a:blip r:embed="rId2"/>
          <a:stretch/>
        </p:blipFill>
        <p:spPr>
          <a:xfrm>
            <a:off x="7572240" y="4929120"/>
            <a:ext cx="1144800" cy="150192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5" descr="未标题-1_13.png"/>
          <p:cNvPicPr/>
          <p:nvPr/>
        </p:nvPicPr>
        <p:blipFill>
          <a:blip r:embed="rId3"/>
          <a:stretch/>
        </p:blipFill>
        <p:spPr>
          <a:xfrm>
            <a:off x="0" y="2214720"/>
            <a:ext cx="1500120" cy="1047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6" descr="sb_03.png"/>
          <p:cNvPicPr/>
          <p:nvPr/>
        </p:nvPicPr>
        <p:blipFill>
          <a:blip r:embed="rId2"/>
          <a:stretch/>
        </p:blipFill>
        <p:spPr>
          <a:xfrm>
            <a:off x="7429680" y="4357800"/>
            <a:ext cx="1568160" cy="196200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9" descr="bs_05.png"/>
          <p:cNvPicPr/>
          <p:nvPr/>
        </p:nvPicPr>
        <p:blipFill>
          <a:blip r:embed="rId3"/>
          <a:stretch/>
        </p:blipFill>
        <p:spPr>
          <a:xfrm>
            <a:off x="571680" y="1214280"/>
            <a:ext cx="1169640" cy="17510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10" descr="bs_08.png"/>
          <p:cNvPicPr/>
          <p:nvPr/>
        </p:nvPicPr>
        <p:blipFill>
          <a:blip r:embed="rId4"/>
          <a:stretch/>
        </p:blipFill>
        <p:spPr>
          <a:xfrm>
            <a:off x="7694640" y="4878360"/>
            <a:ext cx="949320" cy="83664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sb_06.png"/>
          <p:cNvPicPr/>
          <p:nvPr/>
        </p:nvPicPr>
        <p:blipFill>
          <a:blip r:embed="rId5"/>
          <a:stretch/>
        </p:blipFill>
        <p:spPr>
          <a:xfrm>
            <a:off x="7215120" y="5286240"/>
            <a:ext cx="1013040" cy="133056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11" descr="返校2_03.png"/>
          <p:cNvPicPr/>
          <p:nvPr/>
        </p:nvPicPr>
        <p:blipFill>
          <a:blip r:embed="rId6"/>
          <a:stretch/>
        </p:blipFill>
        <p:spPr>
          <a:xfrm>
            <a:off x="2428920" y="1071720"/>
            <a:ext cx="3143160" cy="242064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2" descr="返校1_03.png"/>
          <p:cNvPicPr/>
          <p:nvPr/>
        </p:nvPicPr>
        <p:blipFill>
          <a:blip r:embed="rId7"/>
          <a:stretch/>
        </p:blipFill>
        <p:spPr>
          <a:xfrm>
            <a:off x="3357720" y="571680"/>
            <a:ext cx="2011320" cy="1322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19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14" descr="{DF512866-3CB9-4A0D-A54D-82A1C76D83BE}.png"/>
          <p:cNvPicPr/>
          <p:nvPr/>
        </p:nvPicPr>
        <p:blipFill>
          <a:blip r:embed="rId2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6"/>
          <p:cNvSpPr/>
          <p:nvPr/>
        </p:nvSpPr>
        <p:spPr>
          <a:xfrm>
            <a:off x="0" y="0"/>
            <a:ext cx="9144000" cy="592920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5"/>
          <p:cNvSpPr/>
          <p:nvPr/>
        </p:nvSpPr>
        <p:spPr>
          <a:xfrm>
            <a:off x="0" y="5929200"/>
            <a:ext cx="9144000" cy="92880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14" descr="{DF512866-3CB9-4A0D-A54D-82A1C76D83BE}.png"/>
          <p:cNvPicPr/>
          <p:nvPr/>
        </p:nvPicPr>
        <p:blipFill>
          <a:blip r:embed="rId2"/>
          <a:stretch/>
        </p:blipFill>
        <p:spPr>
          <a:xfrm>
            <a:off x="6313320" y="4429080"/>
            <a:ext cx="2830680" cy="210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ppt-to-dvd.com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hyperlink" Target="http://www.ppt-to-dvd.com/" TargetMode="Externa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矩形 3" descr=""/>
          <p:cNvPicPr/>
          <p:nvPr/>
        </p:nvPicPr>
        <p:blipFill>
          <a:blip r:embed="rId1"/>
          <a:stretch/>
        </p:blipFill>
        <p:spPr>
          <a:xfrm>
            <a:off x="682560" y="835200"/>
            <a:ext cx="7871040" cy="707760"/>
          </a:xfrm>
          <a:prstGeom prst="rect">
            <a:avLst/>
          </a:prstGeom>
          <a:ln w="0">
            <a:noFill/>
          </a:ln>
        </p:spPr>
      </p:pic>
      <p:sp>
        <p:nvSpPr>
          <p:cNvPr id="673" name="矩形 4"/>
          <p:cNvSpPr/>
          <p:nvPr/>
        </p:nvSpPr>
        <p:spPr>
          <a:xfrm>
            <a:off x="298800" y="5715000"/>
            <a:ext cx="2475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2"/>
              </a:rPr>
              <a:t>Wondershar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857160" y="1714680"/>
            <a:ext cx="51436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[View] menu, point to [Master], and then click [Slide Master] or [Notes Master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3642840" y="714240"/>
            <a:ext cx="464364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642840" y="2999880"/>
            <a:ext cx="307188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图片占位符 12" descr="study103.jpg"/>
          <p:cNvPicPr/>
          <p:nvPr/>
        </p:nvPicPr>
        <p:blipFill>
          <a:blip r:embed="rId1"/>
          <a:srcRect l="0" t="7137" r="0" b="7137"/>
          <a:stretch/>
        </p:blipFill>
        <p:spPr>
          <a:xfrm>
            <a:off x="857160" y="3000240"/>
            <a:ext cx="2500560" cy="2143440"/>
          </a:xfrm>
          <a:prstGeom prst="rect">
            <a:avLst/>
          </a:prstGeom>
          <a:ln w="0">
            <a:noFill/>
          </a:ln>
        </p:spPr>
      </p:pic>
      <p:pic>
        <p:nvPicPr>
          <p:cNvPr id="723" name="图片占位符 16" descr="study032.jpg"/>
          <p:cNvPicPr/>
          <p:nvPr/>
        </p:nvPicPr>
        <p:blipFill>
          <a:blip r:embed="rId2"/>
          <a:srcRect l="11416" t="0" r="11416" b="0"/>
          <a:stretch/>
        </p:blipFill>
        <p:spPr>
          <a:xfrm>
            <a:off x="857160" y="714240"/>
            <a:ext cx="2500560" cy="2143440"/>
          </a:xfrm>
          <a:prstGeom prst="rect">
            <a:avLst/>
          </a:prstGeom>
          <a:ln w="0">
            <a:noFill/>
          </a:ln>
        </p:spPr>
      </p:pic>
      <p:sp>
        <p:nvSpPr>
          <p:cNvPr id="724" name="矩形 17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5" name="肘形连接符 19"/>
          <p:cNvCxnSpPr/>
          <p:nvPr/>
        </p:nvCxnSpPr>
        <p:spPr>
          <a:xfrm>
            <a:off x="3357720" y="1785600"/>
            <a:ext cx="1000800" cy="500760"/>
          </a:xfrm>
          <a:prstGeom prst="bentConnector3">
            <a:avLst>
              <a:gd name="adj1" fmla="val 49982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grpSp>
        <p:nvGrpSpPr>
          <p:cNvPr id="726" name="组合 9"/>
          <p:cNvGrpSpPr/>
          <p:nvPr/>
        </p:nvGrpSpPr>
        <p:grpSpPr>
          <a:xfrm>
            <a:off x="4429080" y="2000160"/>
            <a:ext cx="3571920" cy="785880"/>
            <a:chOff x="4429080" y="2000160"/>
            <a:chExt cx="3571920" cy="785880"/>
          </a:xfrm>
        </p:grpSpPr>
        <p:sp>
          <p:nvSpPr>
            <p:cNvPr id="727" name="矩形 22"/>
            <p:cNvSpPr/>
            <p:nvPr/>
          </p:nvSpPr>
          <p:spPr>
            <a:xfrm>
              <a:off x="4429080" y="2000160"/>
              <a:ext cx="3571920" cy="785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矩形 23"/>
            <p:cNvSpPr/>
            <p:nvPr/>
          </p:nvSpPr>
          <p:spPr>
            <a:xfrm>
              <a:off x="4932720" y="2000160"/>
              <a:ext cx="259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Put your tex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3"/>
          <p:cNvSpPr/>
          <p:nvPr/>
        </p:nvSpPr>
        <p:spPr>
          <a:xfrm>
            <a:off x="1285920" y="657360"/>
            <a:ext cx="664380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0" lang="en-US" sz="2000" spc="-1" strike="noStrike">
                <a:solidFill>
                  <a:srgbClr val="4f81bd"/>
                </a:solidFill>
                <a:latin typeface="Calibri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nu, point to </a:t>
            </a:r>
            <a:r>
              <a:rPr b="0" lang="en-US" sz="2000" spc="-1" strike="noStrike">
                <a:solidFill>
                  <a:srgbClr val="4f81bd"/>
                </a:solidFill>
                <a:latin typeface="Calibri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n click </a:t>
            </a:r>
            <a:r>
              <a:rPr b="0" lang="en-US" sz="2000" spc="-1" strike="noStrike">
                <a:solidFill>
                  <a:srgbClr val="4f81bd"/>
                </a:solidFill>
                <a:latin typeface="Calibri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000" spc="-1" strike="noStrike">
                <a:solidFill>
                  <a:srgbClr val="4f81bd"/>
                </a:solidFill>
                <a:latin typeface="Calibri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4"/>
          <p:cNvSpPr/>
          <p:nvPr/>
        </p:nvSpPr>
        <p:spPr>
          <a:xfrm>
            <a:off x="1643040" y="385452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7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组合 11"/>
          <p:cNvGrpSpPr/>
          <p:nvPr/>
        </p:nvGrpSpPr>
        <p:grpSpPr>
          <a:xfrm>
            <a:off x="1071720" y="1357200"/>
            <a:ext cx="5124240" cy="1200240"/>
            <a:chOff x="1071720" y="1357200"/>
            <a:chExt cx="5124240" cy="1200240"/>
          </a:xfrm>
        </p:grpSpPr>
        <p:pic>
          <p:nvPicPr>
            <p:cNvPr id="733" name="矩形 8" descr=""/>
            <p:cNvPicPr/>
            <p:nvPr/>
          </p:nvPicPr>
          <p:blipFill>
            <a:blip r:embed="rId1"/>
            <a:stretch/>
          </p:blipFill>
          <p:spPr>
            <a:xfrm>
              <a:off x="1083600" y="1357200"/>
              <a:ext cx="511236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矩形 9" descr=""/>
            <p:cNvPicPr/>
            <p:nvPr/>
          </p:nvPicPr>
          <p:blipFill>
            <a:blip r:embed="rId2"/>
            <a:stretch/>
          </p:blipFill>
          <p:spPr>
            <a:xfrm>
              <a:off x="1071720" y="1357200"/>
              <a:ext cx="5112360" cy="12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矩形 4"/>
          <p:cNvSpPr/>
          <p:nvPr/>
        </p:nvSpPr>
        <p:spPr>
          <a:xfrm>
            <a:off x="298800" y="5715000"/>
            <a:ext cx="2475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3"/>
              </a:rPr>
              <a:t>Wondershar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ffff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图示 7" descr=""/>
          <p:cNvPicPr/>
          <p:nvPr/>
        </p:nvPicPr>
        <p:blipFill>
          <a:blip r:embed="rId1"/>
          <a:stretch/>
        </p:blipFill>
        <p:spPr>
          <a:xfrm>
            <a:off x="1066680" y="1427040"/>
            <a:ext cx="5937480" cy="328464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999720" y="357120"/>
            <a:ext cx="3429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6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矩形 3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99680" y="356760"/>
            <a:ext cx="81392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Hot Ti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4360" y="1356840"/>
            <a:ext cx="81327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nu, point to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n click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[ Image information in product 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 to customers : This image has been licensed to be used with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PowerPoint template only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may not extract the image for any other us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857160" y="499680"/>
            <a:ext cx="54295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Chapter 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矩形 4"/>
          <p:cNvSpPr/>
          <p:nvPr/>
        </p:nvSpPr>
        <p:spPr>
          <a:xfrm>
            <a:off x="857160" y="1673280"/>
            <a:ext cx="50007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5"/>
          <p:cNvSpPr/>
          <p:nvPr/>
        </p:nvSpPr>
        <p:spPr>
          <a:xfrm>
            <a:off x="857160" y="29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3"/>
          <p:cNvSpPr/>
          <p:nvPr/>
        </p:nvSpPr>
        <p:spPr>
          <a:xfrm>
            <a:off x="1000080" y="500040"/>
            <a:ext cx="34290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4"/>
          <p:cNvSpPr/>
          <p:nvPr/>
        </p:nvSpPr>
        <p:spPr>
          <a:xfrm>
            <a:off x="4357800" y="571680"/>
            <a:ext cx="35002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1800" indent="-361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图示 5" descr=""/>
          <p:cNvPicPr/>
          <p:nvPr/>
        </p:nvPicPr>
        <p:blipFill>
          <a:blip r:embed="rId1"/>
          <a:stretch/>
        </p:blipFill>
        <p:spPr>
          <a:xfrm>
            <a:off x="1200240" y="2255760"/>
            <a:ext cx="6681600" cy="3114720"/>
          </a:xfrm>
          <a:prstGeom prst="rect">
            <a:avLst/>
          </a:prstGeom>
          <a:ln w="0">
            <a:noFill/>
          </a:ln>
        </p:spPr>
      </p:pic>
      <p:sp>
        <p:nvSpPr>
          <p:cNvPr id="688" name="矩形 10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图示 3" descr=""/>
          <p:cNvPicPr/>
          <p:nvPr/>
        </p:nvPicPr>
        <p:blipFill>
          <a:blip r:embed="rId1"/>
          <a:stretch/>
        </p:blipFill>
        <p:spPr>
          <a:xfrm>
            <a:off x="1633680" y="407880"/>
            <a:ext cx="5736960" cy="194472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3"/>
          <p:cNvSpPr/>
          <p:nvPr/>
        </p:nvSpPr>
        <p:spPr>
          <a:xfrm>
            <a:off x="1000080" y="2500200"/>
            <a:ext cx="72151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0640" indent="-350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[View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nu, point to 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[Master]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then click 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[Slide Master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[Notes Master]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hange images to the one you lik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0640" indent="-350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it will apply to all the other sl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7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928800" y="428400"/>
            <a:ext cx="4643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hapter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矩形 4"/>
          <p:cNvSpPr/>
          <p:nvPr/>
        </p:nvSpPr>
        <p:spPr>
          <a:xfrm>
            <a:off x="928800" y="1673280"/>
            <a:ext cx="50004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928800" y="29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组合 26"/>
          <p:cNvGrpSpPr/>
          <p:nvPr/>
        </p:nvGrpSpPr>
        <p:grpSpPr>
          <a:xfrm>
            <a:off x="428760" y="2499840"/>
            <a:ext cx="8428680" cy="2357640"/>
            <a:chOff x="428760" y="2499840"/>
            <a:chExt cx="8428680" cy="2357640"/>
          </a:xfrm>
        </p:grpSpPr>
        <p:grpSp>
          <p:nvGrpSpPr>
            <p:cNvPr id="696" name="Group 33"/>
            <p:cNvGrpSpPr/>
            <p:nvPr/>
          </p:nvGrpSpPr>
          <p:grpSpPr>
            <a:xfrm>
              <a:off x="428760" y="2826720"/>
              <a:ext cx="8428680" cy="2030760"/>
              <a:chOff x="428760" y="2826720"/>
              <a:chExt cx="8428680" cy="2030760"/>
            </a:xfrm>
          </p:grpSpPr>
          <p:sp>
            <p:nvSpPr>
              <p:cNvPr id="697" name="AutoShape 34"/>
              <p:cNvSpPr/>
              <p:nvPr/>
            </p:nvSpPr>
            <p:spPr>
              <a:xfrm>
                <a:off x="428760" y="3420360"/>
                <a:ext cx="2798280" cy="1437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35"/>
              <p:cNvSpPr/>
              <p:nvPr/>
            </p:nvSpPr>
            <p:spPr>
              <a:xfrm>
                <a:off x="428760" y="2831040"/>
                <a:ext cx="2798280" cy="588960"/>
              </a:xfrm>
              <a:prstGeom prst="bevel">
                <a:avLst>
                  <a:gd name="adj" fmla="val 3718"/>
                </a:avLst>
              </a:prstGeom>
              <a:solidFill>
                <a:srgbClr val="b3a2c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AutoShape 36"/>
              <p:cNvSpPr/>
              <p:nvPr/>
            </p:nvSpPr>
            <p:spPr>
              <a:xfrm>
                <a:off x="3256920" y="3420360"/>
                <a:ext cx="2798280" cy="1437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37"/>
              <p:cNvSpPr/>
              <p:nvPr/>
            </p:nvSpPr>
            <p:spPr>
              <a:xfrm>
                <a:off x="3256920" y="2831040"/>
                <a:ext cx="2798280" cy="588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42"/>
              <p:cNvSpPr/>
              <p:nvPr/>
            </p:nvSpPr>
            <p:spPr>
              <a:xfrm>
                <a:off x="6059160" y="3415680"/>
                <a:ext cx="2798280" cy="1437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43"/>
              <p:cNvSpPr/>
              <p:nvPr/>
            </p:nvSpPr>
            <p:spPr>
              <a:xfrm>
                <a:off x="6059160" y="2826720"/>
                <a:ext cx="2798280" cy="588960"/>
              </a:xfrm>
              <a:prstGeom prst="bevel">
                <a:avLst>
                  <a:gd name="adj" fmla="val 3718"/>
                </a:avLst>
              </a:prstGeom>
              <a:solidFill>
                <a:srgbClr val="4f81b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Freeform 46"/>
            <p:cNvSpPr/>
            <p:nvPr/>
          </p:nvSpPr>
          <p:spPr>
            <a:xfrm>
              <a:off x="428760" y="2511000"/>
              <a:ext cx="8383680" cy="31572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5d417e"/>
                </a:gs>
                <a:gs pos="100000">
                  <a:srgbClr val="7b57a8"/>
                </a:gs>
              </a:gsLst>
              <a:lin ang="16200000"/>
            </a:gradFill>
            <a:ln w="9360">
              <a:solidFill>
                <a:srgbClr val="7d6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47"/>
            <p:cNvSpPr/>
            <p:nvPr/>
          </p:nvSpPr>
          <p:spPr>
            <a:xfrm flipV="1">
              <a:off x="3252960" y="2499840"/>
              <a:ext cx="247320" cy="28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48"/>
            <p:cNvSpPr/>
            <p:nvPr/>
          </p:nvSpPr>
          <p:spPr>
            <a:xfrm flipH="1" flipV="1">
              <a:off x="5794200" y="2505960"/>
              <a:ext cx="252360" cy="30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矩形 22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25"/>
          <p:cNvGrpSpPr/>
          <p:nvPr/>
        </p:nvGrpSpPr>
        <p:grpSpPr>
          <a:xfrm>
            <a:off x="2143080" y="714240"/>
            <a:ext cx="4929120" cy="1643040"/>
            <a:chOff x="2143080" y="714240"/>
            <a:chExt cx="4929120" cy="1643040"/>
          </a:xfrm>
        </p:grpSpPr>
        <p:sp>
          <p:nvSpPr>
            <p:cNvPr id="708" name="下箭头标注 24"/>
            <p:cNvSpPr/>
            <p:nvPr/>
          </p:nvSpPr>
          <p:spPr>
            <a:xfrm>
              <a:off x="2143080" y="714240"/>
              <a:ext cx="4929120" cy="1643040"/>
            </a:xfrm>
            <a:prstGeom prst="downArrowCallout">
              <a:avLst>
                <a:gd name="adj1" fmla="val 25002"/>
                <a:gd name="adj2" fmla="val 25000"/>
                <a:gd name="adj3" fmla="val 25000"/>
                <a:gd name="adj4" fmla="val 64977"/>
              </a:avLst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矩形 23"/>
            <p:cNvSpPr/>
            <p:nvPr/>
          </p:nvSpPr>
          <p:spPr>
            <a:xfrm>
              <a:off x="2285640" y="785520"/>
              <a:ext cx="457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hemeGallery is a Design Digital Content &amp; Contents mall developed by Guild Design In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Rectangle 38"/>
          <p:cNvSpPr/>
          <p:nvPr/>
        </p:nvSpPr>
        <p:spPr>
          <a:xfrm>
            <a:off x="1039680" y="289548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0"/>
          <p:cNvSpPr/>
          <p:nvPr/>
        </p:nvSpPr>
        <p:spPr>
          <a:xfrm>
            <a:off x="660240" y="3559320"/>
            <a:ext cx="2482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Calibri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Calibri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39"/>
          <p:cNvSpPr/>
          <p:nvPr/>
        </p:nvSpPr>
        <p:spPr>
          <a:xfrm>
            <a:off x="3867120" y="290844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1"/>
          <p:cNvSpPr/>
          <p:nvPr/>
        </p:nvSpPr>
        <p:spPr>
          <a:xfrm>
            <a:off x="3500280" y="3559320"/>
            <a:ext cx="2482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Calibri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Calibri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44"/>
          <p:cNvSpPr/>
          <p:nvPr/>
        </p:nvSpPr>
        <p:spPr>
          <a:xfrm>
            <a:off x="6670440" y="29034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5"/>
          <p:cNvSpPr/>
          <p:nvPr/>
        </p:nvSpPr>
        <p:spPr>
          <a:xfrm>
            <a:off x="6273720" y="3554280"/>
            <a:ext cx="2441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Calibri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Calibri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内容占位符 6" descr=""/>
          <p:cNvPicPr/>
          <p:nvPr/>
        </p:nvPicPr>
        <p:blipFill>
          <a:blip r:embed="rId1"/>
          <a:stretch/>
        </p:blipFill>
        <p:spPr>
          <a:xfrm>
            <a:off x="858960" y="706320"/>
            <a:ext cx="2854080" cy="4432320"/>
          </a:xfrm>
          <a:prstGeom prst="rect">
            <a:avLst/>
          </a:prstGeom>
          <a:ln w="0">
            <a:noFill/>
          </a:ln>
        </p:spPr>
      </p:pic>
      <p:sp>
        <p:nvSpPr>
          <p:cNvPr id="717" name="内容占位符 4"/>
          <p:cNvSpPr/>
          <p:nvPr/>
        </p:nvSpPr>
        <p:spPr>
          <a:xfrm>
            <a:off x="3571920" y="808200"/>
            <a:ext cx="400032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1800" indent="-361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 ThemeGallery is a Design Digital Content &amp; Contents mall 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8"/>
          <p:cNvSpPr/>
          <p:nvPr/>
        </p:nvSpPr>
        <p:spPr>
          <a:xfrm>
            <a:off x="7754040" y="4857840"/>
            <a:ext cx="10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Back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0" y="6381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22:21:27Z</dcterms:created>
  <dc:creator>微软用户</dc:creator>
  <dc:description/>
  <dc:language>en-US</dc:language>
  <cp:lastModifiedBy>yu wang</cp:lastModifiedBy>
  <dcterms:modified xsi:type="dcterms:W3CDTF">2015-08-03T12:21:01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540000000000010250500207f7000400038000</vt:lpwstr>
  </property>
</Properties>
</file>