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9398-C828-41F5-A84E-A62F446C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C81D-6D06-4671-9CEF-4EF40ADF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E71-DC14-4E8A-AD27-9C070DE4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4DB5-26B3-4FAE-90F7-D8E9A830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A95B-FC68-4B79-8C07-84C01B00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57FB-C11A-4DDD-9898-6C1A38BC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F5C3-7AEC-4B34-9E86-0A829470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9CEC-5D3B-498C-9E38-1D0421B2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2BBF-8594-4B00-AB6A-8D80F17D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1B8B-B6A7-4340-A396-64BD7ED1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CC43-34E3-4CD5-A5EB-F9CE9096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EC78-3185-4255-9F96-2B07D120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56A1-CB8B-4DDD-891C-85B48A3E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D55E-0D44-437B-842C-BE00F0C9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2416-63F0-4537-8ADF-5FCB9A11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6206-894A-467D-AC65-C5744034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E1DA-7BE7-4312-A802-C89A2EE5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026F-5218-42FA-96EC-FC29362F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DFD5-D472-4FE6-9BA6-C2250924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E598-3912-46CD-8EB0-BB37D9FF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48D2-3B23-4FE3-87E8-534A2ED2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194B-D044-44FC-84E4-4C4AAB14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0440-8EB4-42CE-B4CB-010CC821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1466-80A0-4CA6-8DEF-178586A8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EA80-64EF-4A92-B5D0-506DEED388E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985F-7AE9-4DF7-8054-1B27372F261D}" type="slidenum"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图片2"/>
          <p:cNvPicPr/>
          <p:nvPr/>
        </p:nvPicPr>
        <p:blipFill>
          <a:blip r:embed="rId2"/>
          <a:stretch/>
        </p:blipFill>
        <p:spPr>
          <a:xfrm>
            <a:off x="-15840" y="0"/>
            <a:ext cx="9159840" cy="68706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4DED-B694-4B55-A44E-A4527D040211}" type="slidenum"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52AC-8EDE-4337-ACD4-D2B3DEE83AF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3ED5-1718-4821-B885-05C63198D7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1040" y="1698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1445760" y="193680"/>
            <a:ext cx="598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非常漂亮的国画风格中国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6280" y="6519960"/>
            <a:ext cx="2992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BBFC-7734-4AB1-BE4E-41C23A3329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382B-BA2D-4C60-85E0-A8BE164D7A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001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1857240" y="3645000"/>
            <a:ext cx="5905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中宋"/>
                <a:ea typeface="黑体"/>
              </a:rPr>
              <a:t>感谢聆听！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5:56:23Z</dcterms:created>
  <dc:creator/>
  <dc:description/>
  <dc:language>en-US</dc:language>
  <cp:lastModifiedBy>yu wang</cp:lastModifiedBy>
  <dcterms:modified xsi:type="dcterms:W3CDTF">2015-08-03T12:25:30Z</dcterms:modified>
  <cp:revision>595</cp:revision>
  <dc:subject/>
  <dc:title> </dc:title>
</cp:coreProperties>
</file>