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gif" ContentType="image/gi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幸福</c:v>
                </c:pt>
              </c:strCache>
            </c:strRef>
          </c:tx>
          <c:spPr>
            <a:solidFill>
              <a:srgbClr val="4f81bd"/>
            </a:solidFill>
            <a:ln w="63360">
              <a:noFill/>
            </a:ln>
          </c:spPr>
          <c:explosion val="0"/>
          <c:dPt>
            <c:idx val="0"/>
            <c:explosion val="30"/>
            <c:spPr>
              <a:noFill/>
              <a:ln w="63360">
                <a:noFill/>
              </a:ln>
            </c:spPr>
          </c:dPt>
          <c:dPt>
            <c:idx val="1"/>
            <c:spPr>
              <a:solidFill>
                <a:srgbClr val="4f81bd"/>
              </a:solidFill>
              <a:ln w="6336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97</c:v>
                </c:pt>
                <c:pt idx="1">
                  <c:v>0.0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不幸福</c:v>
                </c:pt>
              </c:strCache>
            </c:strRef>
          </c:tx>
          <c:spPr>
            <a:solidFill>
              <a:srgbClr val="c0504d"/>
            </a:solidFill>
            <a:ln w="0">
              <a:solidFill>
                <a:srgbClr val="ffffff"/>
              </a:solidFill>
            </a:ln>
          </c:spPr>
          <c:explosion val="0"/>
          <c:dPt>
            <c:idx val="0"/>
            <c:spPr>
              <a:noFill/>
              <a:ln w="0">
                <a:solidFill>
                  <a:srgbClr val="ffffff"/>
                </a:solidFill>
              </a:ln>
            </c:spPr>
          </c:dPt>
          <c:dPt>
            <c:idx val="1"/>
            <c:spPr>
              <a:solidFill>
                <a:srgbClr val="7030a0"/>
              </a:solidFill>
              <a:ln w="0">
                <a:solidFill>
                  <a:srgbClr val="ffffff"/>
                </a:solidFill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0.71</c:v>
                </c:pt>
                <c:pt idx="1">
                  <c:v>0.2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中立</c:v>
                </c:pt>
              </c:strCache>
            </c:strRef>
          </c:tx>
          <c:spPr>
            <a:solidFill>
              <a:srgbClr val="9bbb59"/>
            </a:solidFill>
            <a:ln w="2556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noFill/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58ed5"/>
              </a:solidFill>
              <a:ln w="2556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0.32</c:v>
                </c:pt>
                <c:pt idx="1">
                  <c:v>0.6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073-5C2A-4483-BF86-3E477F12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577-E617-48A5-9575-FC952FD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336-4683-4BC5-9E8E-19FECC0E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C81-8A1C-4AFA-956D-7F7DC002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3B7-3F9E-4A3E-BF1A-65448C3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B00-6EBC-456E-8BDF-E999D78B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F0C-A1DF-4EDD-B92B-00D20E9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E5F-4A58-4A7B-A3D9-33AD8F7C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1A2F-B352-47EF-978C-33B8BE43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2634-FC37-440C-94F2-2C223E6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4B6-01C4-48AD-9197-896DA2B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051-033D-448E-A58D-C4A64A51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D576-F690-465D-BDFA-739CC30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FF0-1452-4EF2-96A0-8AB078D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A115-784B-451C-A14F-5C8DE694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F32-C6B1-4B7A-80EF-18F71191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EE8-4C2F-4B7E-8489-1DED8B2C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FC9-F59B-4259-9942-ED9F8DD6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C3A-E044-4348-9748-8DEC402C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BA4-B012-43F9-B224-7799C6B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DF6-D795-45A9-AD4E-136DA2A8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400-78F6-4C01-A91B-F66F879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FFF-994C-4453-8F27-6B9CEC6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0E3-F7FD-407E-97B8-F88B99A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B32353-5782-4603-BE6E-0E91E6A9BCE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0BAE9-2A21-4F60-BE51-917650815A2B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chart" Target="../charts/chart1.xml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385800" y="908640"/>
            <a:ext cx="576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粉色爱情树简洁</a:t>
            </a:r>
            <a:r>
              <a:rPr b="0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86560" y="116640"/>
            <a:ext cx="75420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-3240" y="5644800"/>
            <a:ext cx="1590480" cy="121968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9"/>
          <p:cNvGrpSpPr/>
          <p:nvPr/>
        </p:nvGrpSpPr>
        <p:grpSpPr>
          <a:xfrm>
            <a:off x="1941120" y="1205640"/>
            <a:ext cx="5361480" cy="4476600"/>
            <a:chOff x="1941120" y="1205640"/>
            <a:chExt cx="5361480" cy="4476600"/>
          </a:xfrm>
        </p:grpSpPr>
        <p:sp>
          <p:nvSpPr>
            <p:cNvPr id="87" name="矩形 3"/>
            <p:cNvSpPr/>
            <p:nvPr/>
          </p:nvSpPr>
          <p:spPr>
            <a:xfrm>
              <a:off x="1941120" y="2874240"/>
              <a:ext cx="1532520" cy="807840"/>
            </a:xfrm>
            <a:prstGeom prst="rect">
              <a:avLst/>
            </a:prstGeom>
            <a:gradFill rotWithShape="0">
              <a:gsLst>
                <a:gs pos="77000">
                  <a:srgbClr val="e46c0a"/>
                </a:gs>
                <a:gs pos="100000">
                  <a:srgbClr val="fac09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e46c0a">
                  <a:alpha val="40000"/>
                </a:srgbClr>
              </a:glow>
              <a:innerShdw blurRad="63500" dir="16200000" dist="50800">
                <a:schemeClr val="accent6">
                  <a:lumMod val="75000"/>
                  <a:alpha val="50000"/>
                </a:scheme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88" name="矩形 5"/>
            <p:cNvSpPr/>
            <p:nvPr/>
          </p:nvSpPr>
          <p:spPr>
            <a:xfrm>
              <a:off x="1941120" y="4170240"/>
              <a:ext cx="1532520" cy="807840"/>
            </a:xfrm>
            <a:prstGeom prst="rect">
              <a:avLst/>
            </a:prstGeom>
            <a:gradFill rotWithShape="0">
              <a:gsLst>
                <a:gs pos="0">
                  <a:srgbClr val="d99694"/>
                </a:gs>
                <a:gs pos="100000">
                  <a:srgbClr val="953735"/>
                </a:gs>
              </a:gsLst>
              <a:lin ang="54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e6b9b8">
                  <a:alpha val="40000"/>
                </a:srgbClr>
              </a:glow>
              <a:innerShdw blurRad="63500" dir="16200000" dist="50800">
                <a:schemeClr val="accent6">
                  <a:lumMod val="40000"/>
                  <a:lumOff val="60000"/>
                  <a:alpha val="50000"/>
                </a:scheme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89" name="矩形 6"/>
            <p:cNvSpPr/>
            <p:nvPr/>
          </p:nvSpPr>
          <p:spPr>
            <a:xfrm>
              <a:off x="1941120" y="1578240"/>
              <a:ext cx="1532520" cy="807840"/>
            </a:xfrm>
            <a:prstGeom prst="rect">
              <a:avLst/>
            </a:prstGeom>
            <a:gradFill rotWithShape="0">
              <a:gsLst>
                <a:gs pos="0">
                  <a:srgbClr val="77933c"/>
                </a:gs>
                <a:gs pos="100000">
                  <a:srgbClr val="4f6228"/>
                </a:gs>
              </a:gsLst>
              <a:lin ang="54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a8e034">
                  <a:alpha val="40000"/>
                </a:srgbClr>
              </a:glow>
              <a:innerShdw blurRad="63500" dir="162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0" name="矩形 10"/>
            <p:cNvSpPr/>
            <p:nvPr/>
          </p:nvSpPr>
          <p:spPr>
            <a:xfrm rot="21068400">
              <a:off x="3881520" y="145368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c3d69b"/>
                </a:gs>
                <a:gs pos="100000">
                  <a:srgbClr val="77933c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1" name="矩形 11"/>
            <p:cNvSpPr/>
            <p:nvPr/>
          </p:nvSpPr>
          <p:spPr>
            <a:xfrm rot="21068400">
              <a:off x="3881520" y="276264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fac090"/>
                </a:gs>
                <a:gs pos="100000">
                  <a:srgbClr val="e46c0a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2" name="矩形 12"/>
            <p:cNvSpPr/>
            <p:nvPr/>
          </p:nvSpPr>
          <p:spPr>
            <a:xfrm rot="21068400">
              <a:off x="3792600" y="404568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d99694"/>
                </a:gs>
                <a:gs pos="100000">
                  <a:srgbClr val="953735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</p:grpSp>
      <p:pic>
        <p:nvPicPr>
          <p:cNvPr id="93" name="图片 8" descr=""/>
          <p:cNvPicPr/>
          <p:nvPr/>
        </p:nvPicPr>
        <p:blipFill>
          <a:blip r:embed="rId3"/>
          <a:srcRect l="26568" t="10195" r="0" b="0"/>
          <a:stretch/>
        </p:blipFill>
        <p:spPr>
          <a:xfrm>
            <a:off x="-3240" y="0"/>
            <a:ext cx="633960" cy="865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683640" y="260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2483640" y="174888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2483640" y="308772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483640" y="439704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536000" y="201024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4536000" y="328752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4536000" y="457452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tretch/>
        </p:blipFill>
        <p:spPr>
          <a:xfrm>
            <a:off x="107640" y="5445360"/>
            <a:ext cx="1588680" cy="1240920"/>
          </a:xfrm>
          <a:prstGeom prst="rect">
            <a:avLst/>
          </a:prstGeom>
          <a:ln w="0">
            <a:noFill/>
          </a:ln>
        </p:spPr>
      </p:pic>
      <p:sp>
        <p:nvSpPr>
          <p:cNvPr id="102" name="椭圆 5"/>
          <p:cNvSpPr/>
          <p:nvPr/>
        </p:nvSpPr>
        <p:spPr>
          <a:xfrm>
            <a:off x="1547640" y="3861000"/>
            <a:ext cx="1439640" cy="1439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/>
          </a:scene3d>
          <a:sp3d>
            <a:bevelT w="6350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3" name="椭圆 3"/>
          <p:cNvSpPr/>
          <p:nvPr/>
        </p:nvSpPr>
        <p:spPr>
          <a:xfrm>
            <a:off x="3276000" y="2747880"/>
            <a:ext cx="1295640" cy="1295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/>
          </a:scene3d>
          <a:sp3d>
            <a:bevelT w="6350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4" name="椭圆 4"/>
          <p:cNvSpPr/>
          <p:nvPr/>
        </p:nvSpPr>
        <p:spPr>
          <a:xfrm>
            <a:off x="6660360" y="1412640"/>
            <a:ext cx="935640" cy="935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>
              <a:rot lat="0" lon="0" rev="600000"/>
            </a:lightRig>
          </a:scene3d>
          <a:sp3d>
            <a:bevelT w="317500" h="317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5" name="椭圆 6"/>
          <p:cNvSpPr/>
          <p:nvPr/>
        </p:nvSpPr>
        <p:spPr>
          <a:xfrm>
            <a:off x="5004000" y="1917000"/>
            <a:ext cx="1151640" cy="1151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>
              <a:rot lat="0" lon="0" rev="600000"/>
            </a:lightRig>
          </a:scene3d>
          <a:sp3d>
            <a:bevelT w="381000" h="381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6" name="上弧形箭头 10"/>
          <p:cNvSpPr/>
          <p:nvPr/>
        </p:nvSpPr>
        <p:spPr>
          <a:xfrm rot="18014400">
            <a:off x="2293920" y="3150360"/>
            <a:ext cx="935640" cy="4316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上弧形箭头 11"/>
          <p:cNvSpPr/>
          <p:nvPr/>
        </p:nvSpPr>
        <p:spPr>
          <a:xfrm rot="18039000">
            <a:off x="4104000" y="2141640"/>
            <a:ext cx="935640" cy="4316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上弧形箭头 12"/>
          <p:cNvSpPr/>
          <p:nvPr/>
        </p:nvSpPr>
        <p:spPr>
          <a:xfrm rot="18529200">
            <a:off x="5904360" y="1528920"/>
            <a:ext cx="858600" cy="3308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3"/>
          <a:srcRect l="12098" t="9942" r="0" b="0"/>
          <a:stretch/>
        </p:blipFill>
        <p:spPr>
          <a:xfrm>
            <a:off x="0" y="0"/>
            <a:ext cx="787320" cy="900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3"/>
          <p:cNvSpPr/>
          <p:nvPr/>
        </p:nvSpPr>
        <p:spPr>
          <a:xfrm>
            <a:off x="787680" y="188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011680" y="4293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08000" y="3141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5364000" y="2205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948360" y="162864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2"/>
          <a:stretch/>
        </p:blipFill>
        <p:spPr>
          <a:xfrm>
            <a:off x="107640" y="5509080"/>
            <a:ext cx="1511640" cy="12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图表 2"/>
          <p:cNvGraphicFramePr/>
          <p:nvPr/>
        </p:nvGraphicFramePr>
        <p:xfrm>
          <a:off x="2411640" y="1927800"/>
          <a:ext cx="3744000" cy="3460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17" name="TextBox 3"/>
          <p:cNvSpPr/>
          <p:nvPr/>
        </p:nvSpPr>
        <p:spPr>
          <a:xfrm>
            <a:off x="2483640" y="1116000"/>
            <a:ext cx="410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幸福吗？统计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356000" y="2036880"/>
            <a:ext cx="2016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68%</a:t>
            </a:r>
            <a:r>
              <a:rPr b="1" lang="zh-CN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的人表示过得还不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356000" y="2320920"/>
            <a:ext cx="2244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29%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的人表示生活压力很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356000" y="2637000"/>
            <a:ext cx="187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3%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的人表示我姓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8" descr=""/>
          <p:cNvPicPr/>
          <p:nvPr/>
        </p:nvPicPr>
        <p:blipFill>
          <a:blip r:embed="rId4"/>
          <a:srcRect l="26568" t="10195" r="0" b="0"/>
          <a:stretch/>
        </p:blipFill>
        <p:spPr>
          <a:xfrm>
            <a:off x="-3240" y="0"/>
            <a:ext cx="633960" cy="865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83640" y="260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573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4860000" y="2061000"/>
            <a:ext cx="2448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0000"/>
                </a:solidFill>
                <a:latin typeface="Edwardian Script ITC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  <Words>219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8:36:44Z</dcterms:created>
  <dc:creator>张一婵</dc:creator>
  <dc:description/>
  <dc:language>en-US</dc:language>
  <cp:lastModifiedBy>yu wang</cp:lastModifiedBy>
  <dcterms:modified xsi:type="dcterms:W3CDTF">2015-08-03T12:24:12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