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B6A-87E4-4D7C-BB47-0A202EE2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397-8B53-4B6E-A2F4-65FAD19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4A4-6029-498C-934F-4CE5E8F1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006-7096-4069-A3BF-86EA03EA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E81-9B47-4642-B47F-78D56732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78E2-3D92-47C0-BF51-91B7DDD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93E-000A-475B-A5A2-EBFCA74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3C1F-D87B-408B-9EA2-8E96701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0C6-2A5D-4A19-BBD2-CDC19DF6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0B1-D2CB-486D-A72F-8B4C90EC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2AE1-DFAE-4F06-BC3D-D9AF84F5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DDF-4358-41AF-8A00-02F6166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6610-1364-4DA9-8DFF-856BE39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5282-3F46-4AF9-9AF7-7E9AFD4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158C-83A7-46E4-B2A3-E1B1DEFC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4FEE-3EF0-471A-B657-F3B887FC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44B-1192-499B-85E2-A0A9B42A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000-E7B5-4784-B0D5-BDE31111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CC6-7F56-4237-9485-1AAEB08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C71-58E3-4416-8E65-15C4664A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523-F11C-4CA8-921E-88FD672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9B3-CBFF-4BFA-854D-8DD644D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A35-7607-434A-B558-0FA0DF0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61C-536B-4683-952C-5C8C705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CE0FE-6474-4E04-8F5D-BD8A11BC2E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2FBDE1-2D4A-4C3B-B350-07C4B3125F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215040" y="1000080"/>
            <a:ext cx="10155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323040" y="3689280"/>
            <a:ext cx="89172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730920" y="1071720"/>
            <a:ext cx="67752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05280" y="2818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粉色柔美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42832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7827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1997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4258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7118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1403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8547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7114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928800" y="24289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1282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7069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997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1643040" y="214308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9258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99640" y="62373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211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711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283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42116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2497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62834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42584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62834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2425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69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4068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  <Words>28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4:09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