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874-1C46-4671-9F77-ACD70F6D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B9E-5E4D-496E-A485-570C1997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803-9308-4289-8D72-B01CE455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582-520E-4A35-A14D-4C1A5B4F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884A-F02D-447B-8415-CA90B8E3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F49F-9A82-48E1-BE37-800AFF43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E2EE-7939-4507-9CFE-00521691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4208-DC71-4EB1-A9A1-8A254989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1449-280D-4EE7-87CE-35A951DB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27DC-0B97-40B2-8EF3-C1EC0050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644B-8AA7-4F52-BFC0-B5A5F440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2E0-6018-47FD-9F1B-76CF9D14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8D57-612D-43B5-8287-B31ACD00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D93F-0C61-4D68-9AFE-BCD2D013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CD74-D9CA-49D0-8E08-02255AC6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F03E-C283-4E98-A2CA-140F7806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E3CE-0C08-4E0E-B81B-3428A7FE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2A9-4EEF-4E4D-87A7-C9C5F941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36D-CFFB-401F-B87B-31381F37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88E-3F25-4DFD-902B-1CC95804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24D5-99A0-47A0-8938-08EED349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9D6-91D2-4A58-8F7B-CA5767CF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5825-9BCF-48D8-954B-AB7650B9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1C7-0813-4340-8A49-54A681E8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" name="Object 3"/>
          <p:cNvGraphicFramePr/>
          <p:nvPr/>
        </p:nvGraphicFramePr>
        <p:xfrm>
          <a:off x="0" y="0"/>
          <a:ext cx="3848040" cy="37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84804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Line 4"/>
          <p:cNvSpPr/>
          <p:nvPr/>
        </p:nvSpPr>
        <p:spPr>
          <a:xfrm>
            <a:off x="304920" y="6508800"/>
            <a:ext cx="86104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" name="Group 7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7" name="Rectangle 8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318600" y="6524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28472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A15F-130B-474F-8AD3-7CE2F844DFF8}" type="slidenum">
              <a:rPr b="0" lang="zh-CN" sz="14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2923920"/>
            <a:ext cx="883908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钢笔论文答辩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模板免费下载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79640" y="4508280"/>
            <a:ext cx="489564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导   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答辩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专    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论文框架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AutoShape 24"/>
          <p:cNvSpPr/>
          <p:nvPr/>
        </p:nvSpPr>
        <p:spPr>
          <a:xfrm>
            <a:off x="2438280" y="2014560"/>
            <a:ext cx="685800" cy="685800"/>
          </a:xfrm>
          <a:prstGeom prst="diamond">
            <a:avLst/>
          </a:prstGeom>
          <a:solidFill>
            <a:srgbClr val="6ca5d8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3276720" y="1773360"/>
            <a:ext cx="3429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2594160" y="2112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AutoShape 28"/>
          <p:cNvSpPr/>
          <p:nvPr/>
        </p:nvSpPr>
        <p:spPr>
          <a:xfrm>
            <a:off x="2438280" y="2852640"/>
            <a:ext cx="685800" cy="685800"/>
          </a:xfrm>
          <a:prstGeom prst="diamond">
            <a:avLst/>
          </a:prstGeom>
          <a:solidFill>
            <a:srgbClr val="cbb61d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2594160" y="295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AutoShape 32"/>
          <p:cNvSpPr/>
          <p:nvPr/>
        </p:nvSpPr>
        <p:spPr>
          <a:xfrm>
            <a:off x="2438280" y="3691080"/>
            <a:ext cx="685800" cy="685800"/>
          </a:xfrm>
          <a:prstGeom prst="diamond">
            <a:avLst/>
          </a:prstGeom>
          <a:solidFill>
            <a:srgbClr val="5d4bc7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Text Box 34"/>
          <p:cNvSpPr/>
          <p:nvPr/>
        </p:nvSpPr>
        <p:spPr>
          <a:xfrm>
            <a:off x="2594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AutoShape 36"/>
          <p:cNvSpPr/>
          <p:nvPr/>
        </p:nvSpPr>
        <p:spPr>
          <a:xfrm>
            <a:off x="2438280" y="4605480"/>
            <a:ext cx="685800" cy="685800"/>
          </a:xfrm>
          <a:prstGeom prst="diamond">
            <a:avLst/>
          </a:prstGeom>
          <a:solidFill>
            <a:srgbClr val="878fa5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2594160" y="4703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95280" y="65260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5d4bc7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43920"/>
            <a:ext cx="7162920" cy="7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3"/>
          <p:cNvSpPr txBox="1"/>
          <p:nvPr/>
        </p:nvSpPr>
        <p:spPr>
          <a:xfrm>
            <a:off x="3205080" y="3079800"/>
            <a:ext cx="539928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efefe"/>
                  </a:solidFill>
                  <a:miter/>
                </a:ln>
                <a:gradFill rotWithShape="0">
                  <a:gsLst>
                    <a:gs pos="0">
                      <a:srgbClr val="6ca5d8"/>
                    </a:gs>
                    <a:gs pos="100000">
                      <a:srgbClr val="cbb61d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80808">
                      <a:alpha val="50000"/>
                    </a:srgbClr>
                  </a:outerShdw>
                </a:effectLst>
                <a:latin typeface="黑体"/>
              </a:rPr>
              <a:t>谢谢大家！</a:t>
            </a:r>
            <a:endParaRPr b="1" lang="en-US" sz="5400" spc="1" strike="noStrike">
              <a:ln w="28440">
                <a:solidFill>
                  <a:srgbClr val="fefefe"/>
                </a:solidFill>
                <a:miter/>
              </a:ln>
              <a:gradFill rotWithShape="0">
                <a:gsLst>
                  <a:gs pos="0">
                    <a:srgbClr val="6ca5d8"/>
                  </a:gs>
                  <a:gs pos="100000">
                    <a:srgbClr val="cbb61d"/>
                  </a:gs>
                </a:gsLst>
                <a:lin ang="0"/>
              </a:gradFill>
              <a:effectLst>
                <a:outerShdw dist="71785" dir="2700000" blurRad="0" rotWithShape="0">
                  <a:srgbClr val="080808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使用规范说明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 </a:t>
            </a:r>
            <a:r>
              <a:rPr b="1" lang="zh-CN" sz="1000" spc="-1" strike="noStrike" u="sng">
                <a:solidFill>
                  <a:srgbClr val="5d4bc7"/>
                </a:solidFill>
                <a:uFillTx/>
                <a:latin typeface="Times New Roman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5d4bc7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an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12:10Z</dcterms:created>
  <dc:creator>微软用户</dc:creator>
  <dc:description/>
  <dc:language>en-US</dc:language>
  <cp:lastModifiedBy>yu wang</cp:lastModifiedBy>
  <dcterms:modified xsi:type="dcterms:W3CDTF">2015-08-03T12:25:23Z</dcterms:modified>
  <cp:revision>8</cp:revision>
  <dc:subject/>
  <dc:title>论文名称</dc:title>
</cp:coreProperties>
</file>