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CBD-5156-47DE-9D9B-9A7BE7A3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613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555640" y="3704760"/>
            <a:ext cx="613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F4D-E47F-42E7-989B-65913FE6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9736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55640" y="370476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97360" y="370476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F2D-F717-46C0-93F6-1C297B91F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8520" y="134064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01400" y="134064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555640" y="370476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28520" y="370476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01400" y="370476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FD2-55A3-47A9-BE34-1D31C5F3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CAB0-B54C-472C-9984-1EEBFE07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55640" y="1340640"/>
            <a:ext cx="6130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917C-81EE-43E4-8D95-2619BFA2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6130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3270-0166-4BAF-B75E-229E7E77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29916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97360" y="1340640"/>
            <a:ext cx="29916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5801-06D8-4AB3-8CE6-6905A685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5539-5E92-4EA7-B75D-11E6E69E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9640" y="5399640"/>
            <a:ext cx="1450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B346-F838-4C49-AFD3-A8034060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97360" y="1340640"/>
            <a:ext cx="29916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55640" y="370476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7E7C-80DF-4034-9EC7-7D7B9221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555640" y="1340640"/>
            <a:ext cx="6130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C32-A452-48A6-B998-AF5F8AC7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29916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9736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97360" y="370476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58C4-1E98-4076-8149-66C692C6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9736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55640" y="3704760"/>
            <a:ext cx="613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54A0-15DF-4514-AA29-B6C05520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613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55640" y="3704760"/>
            <a:ext cx="613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BCBF-2BB5-4A52-AEA4-B4DBDC9B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9736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55640" y="370476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97360" y="370476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2C47-7570-422F-8372-6E9917CF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8520" y="134064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01400" y="134064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55640" y="370476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28520" y="370476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701400" y="3704760"/>
            <a:ext cx="19738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76AF-5521-42A0-B4E5-729748B9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6130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1E6-0280-4F0C-A959-9EF8374E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29916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97360" y="1340640"/>
            <a:ext cx="29916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45B-F426-42F2-8917-8E8B8C12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2B5-2438-4E15-B03A-B6254FF1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640" y="5399640"/>
            <a:ext cx="14500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80A8-082C-4E2C-BED4-C020AF75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97360" y="1340640"/>
            <a:ext cx="29916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555640" y="370476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E8C-26C1-471F-A4ED-06DB1811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29916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9736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97360" y="370476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A5E5-396E-46F7-8027-35664F0C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5564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97360" y="1340640"/>
            <a:ext cx="2991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55640" y="3704760"/>
            <a:ext cx="6130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2AB-98CB-4694-8EB6-5AC6F5E8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2964600"/>
            <a:ext cx="9143640" cy="3893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91FBDD-3CD9-4E0E-9A67-705381BDC88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1331640" y="708840"/>
            <a:ext cx="7812000" cy="5312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640" y="908640"/>
            <a:ext cx="1450080" cy="489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叶根友毛笔行书"/>
                <a:ea typeface="叶根友毛笔行书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555640" y="1340640"/>
            <a:ext cx="613080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请在这里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请在这里输入文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C897CA-48DC-4555-BB66-A0AB6287733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副标题 2"/>
          <p:cNvSpPr/>
          <p:nvPr/>
        </p:nvSpPr>
        <p:spPr>
          <a:xfrm>
            <a:off x="5868000" y="3141000"/>
            <a:ext cx="183204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rmAutofit/>
          </a:bodyPr>
          <a:p>
            <a:pPr algn="ct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2207880" y="1484640"/>
            <a:ext cx="515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古典大气水墨画风格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标题 1"/>
          <p:cNvSpPr/>
          <p:nvPr/>
        </p:nvSpPr>
        <p:spPr>
          <a:xfrm>
            <a:off x="190080" y="2343240"/>
            <a:ext cx="13136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叶根友毛笔行书"/>
                <a:ea typeface="叶根友毛笔行书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副标题 2"/>
          <p:cNvSpPr/>
          <p:nvPr/>
        </p:nvSpPr>
        <p:spPr>
          <a:xfrm>
            <a:off x="839160" y="4052520"/>
            <a:ext cx="67968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rmAutofit/>
          </a:bodyPr>
          <a:p>
            <a:pPr algn="ct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请在这里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2699640" y="1326600"/>
            <a:ext cx="626436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353160" y="279360"/>
            <a:ext cx="136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副标题 2"/>
          <p:cNvSpPr/>
          <p:nvPr/>
        </p:nvSpPr>
        <p:spPr>
          <a:xfrm>
            <a:off x="5868000" y="3141000"/>
            <a:ext cx="183204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rmAutofit/>
          </a:bodyPr>
          <a:p>
            <a:pPr algn="ct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36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Calibri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标题 1"/>
          <p:cNvSpPr/>
          <p:nvPr/>
        </p:nvSpPr>
        <p:spPr>
          <a:xfrm>
            <a:off x="4572000" y="2453040"/>
            <a:ext cx="131364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6600" spc="-1" strike="noStrike">
                <a:solidFill>
                  <a:srgbClr val="000000"/>
                </a:solidFill>
                <a:latin typeface="叶根友毛笔行书"/>
                <a:ea typeface="叶根友毛笔行书"/>
              </a:rPr>
              <a:t>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标题 1"/>
          <p:cNvSpPr/>
          <p:nvPr/>
        </p:nvSpPr>
        <p:spPr>
          <a:xfrm>
            <a:off x="3492000" y="1340640"/>
            <a:ext cx="131364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9600" spc="-1" strike="noStrike">
                <a:solidFill>
                  <a:srgbClr val="000000"/>
                </a:solidFill>
                <a:latin typeface="叶根友毛笔行书"/>
                <a:ea typeface="叶根友毛笔行书"/>
              </a:rPr>
              <a:t>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7524360" y="279360"/>
            <a:ext cx="136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公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叶根友毛笔行书"/>
                <a:ea typeface="叶根友毛笔行书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buClr>
                <a:srgbClr val="ededed"/>
              </a:buClr>
              <a:buFont typeface="Arial"/>
              <a:buChar char="•"/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ededed"/>
              </a:buClr>
              <a:buFont typeface="Arial"/>
              <a:buChar char="•"/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ededed"/>
              </a:buClr>
              <a:buFont typeface="Arial"/>
              <a:buChar char="•"/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ededed"/>
              </a:buClr>
              <a:buFont typeface="Arial"/>
              <a:buChar char="•"/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10"/>
              </a:spcBef>
              <a:buClr>
                <a:srgbClr val="ededed"/>
              </a:buClr>
              <a:buFont typeface="Arial"/>
              <a:buChar char="•"/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1"/>
              </a:spcBef>
              <a:buClr>
                <a:srgbClr val="ededed"/>
              </a:buClr>
              <a:buFont typeface="Arial"/>
              <a:buChar char="•"/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1"/>
              </a:spcBef>
              <a:buClr>
                <a:srgbClr val="ededed"/>
              </a:buClr>
              <a:buFont typeface="Arial"/>
              <a:buChar char="•"/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1"/>
              </a:spcBef>
              <a:buClr>
                <a:srgbClr val="ededed"/>
              </a:buClr>
              <a:buFont typeface="Arial"/>
              <a:buChar char="•"/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1"/>
              </a:spcBef>
              <a:buClr>
                <a:srgbClr val="ededed"/>
              </a:buClr>
              <a:buFont typeface="Arial"/>
              <a:buChar char="•"/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1"/>
              </a:spcBef>
              <a:buClr>
                <a:srgbClr val="ededed"/>
              </a:buClr>
              <a:buFont typeface="Arial"/>
              <a:buChar char="•"/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1"/>
              </a:spcBef>
              <a:buClr>
                <a:srgbClr val="ededed"/>
              </a:buClr>
              <a:buFont typeface="Arial"/>
              <a:buChar char="•"/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1"/>
              </a:spcBef>
              <a:buClr>
                <a:srgbClr val="ededed"/>
              </a:buClr>
              <a:buFont typeface="Arial"/>
              <a:buChar char="•"/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1"/>
              </a:spcBef>
              <a:buClr>
                <a:srgbClr val="ededed"/>
              </a:buClr>
              <a:buFont typeface="Arial"/>
              <a:buChar char="•"/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1"/>
              </a:spcBef>
              <a:buClr>
                <a:srgbClr val="ededed"/>
              </a:buClr>
              <a:buFont typeface="Arial"/>
              <a:buChar char="•"/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1"/>
              </a:spcBef>
              <a:buClr>
                <a:srgbClr val="ededed"/>
              </a:buClr>
              <a:buFont typeface="Arial"/>
              <a:buChar char="•"/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1"/>
              </a:spcBef>
              <a:buClr>
                <a:srgbClr val="ededed"/>
              </a:buClr>
              <a:buFont typeface="Arial"/>
              <a:buChar char="•"/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  <Words>232</Words>
  <Paragraphs>53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5T08:42:01Z</dcterms:created>
  <dc:creator>chenzhilei</dc:creator>
  <dc:description/>
  <dc:language>en-US</dc:language>
  <cp:lastModifiedBy>yu wang</cp:lastModifiedBy>
  <dcterms:modified xsi:type="dcterms:W3CDTF">2015-08-03T12:19:36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