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61F6-B004-492A-B324-360B9E3BA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BC66-6D34-4B83-AEF3-906E7EFB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298-6DDC-483A-9154-FF27A4719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9E86-CE6A-40A2-BA0E-E1C244382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A4D8-232B-45BC-BFE6-BD813EC5C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552F-5E77-46A6-91FC-4A0E2497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4A0E-35B4-444E-93C5-968DB5FA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E1A5-A0A3-4DDB-8FE5-5124F13E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223D0-6583-4384-B218-C683D6B9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20452-EC50-47E3-8F01-A9763AADF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5D3B-BABA-4B1D-861F-98ECE851B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BF96-5AEB-45B1-9D7B-82B57D70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CDD3-96F5-4E82-8637-F5E4FD2C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470-54A4-4C59-B95E-A581E825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692FC-892A-4F4C-A256-5A1BF0CD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2B72-734B-46FD-BCBF-054333D2E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EB7EE-DA20-4B36-A535-43B27261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C7A35-33C5-45C1-A475-C500B0B8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B58D3-BD10-4838-80CF-0753D06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E8CFE-7DB1-4AC1-9F6F-DAD02E73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C6CC5-6DBC-4BA2-9E39-61C03576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51AC-5E85-45E8-AFFC-30354C7C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9D4-1959-4732-9036-F797D8FE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34BDE-F5A7-4180-A878-3966270E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13AF7-F83E-436A-8DDB-4033E3A1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1AE8B-945D-4E07-8519-2102A1F0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8ED0D-07EC-4C43-9FFE-ACC9C7EF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6F35-8B0F-46E1-8BD1-5293EDD7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018A8-6FBE-4E59-A81C-5F26B3762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7947-6C66-4DE2-B998-64526F5E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BCF1D-53CA-498A-ACA8-FFBCFFA2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B8515-3E66-4AD3-9FD9-EA191A8A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FF2C-C135-46C4-9195-105C51762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20C-876C-4EAB-BFE1-F22D6A8C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2D79C-2E2E-4567-A2A1-27A426BC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56874-F123-44D0-84D6-B0111151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B8E1-0623-48CA-919E-24C81AAC6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F008B-7C49-486C-9576-2EDFB78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1E620-A615-477A-ACBE-D619FBD9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5C3D0-C0D5-4101-B0A9-F381CAEE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A9C8B-5706-4CAD-B369-65F0286F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7C450-6398-4BCC-810C-545D9E115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20819-5E0F-47F6-A1C6-FCC78AD0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D50BF-2AD8-4E1C-80AA-E8BD3605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545-F3DB-467F-86CA-5FCCC781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D1A07-F987-43A8-8322-7CA19B13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D9787-EDA4-4782-ABEE-1EB58C5D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AC2DE-507B-4C61-BA9F-DF4242C3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C399A-9626-4B7B-BE58-EAEE8D48A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E7FB1-61FC-4B0A-BFE1-3208EED6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6D92D-5277-4797-B721-677CE3E5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FFF9-2150-4A8E-A13C-5BD591EB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ABE10-C850-4AEC-A26D-162FCEB3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E415E-2B9E-4B44-87AE-7DE2BC985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EAD6B-59A0-4330-B6CC-52AB6F80C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19F-014C-4C9E-A1E6-1170C0F93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BC032-494B-4BAF-8C81-AB9B9695B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0DA7-A385-4D33-B54D-757994F8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83098-3DBF-46EA-95BF-5F2E4B79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829A-B0E3-4533-AD78-7FD69572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11655-D3A7-4820-AA7B-AAADEB59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EE6D1-CB99-4D2F-93AF-E2B81DA7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B9CB4-2443-4FA4-B62B-26C40110B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BE39-E314-4B32-8724-68B81A04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0A855-33CB-4148-BA04-2B525B3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BB8A8-3C74-477A-A294-605CBC45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D17-C2AC-4B44-B7E8-45F28DD1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ED693-B178-4BC0-95E5-C2FBCF7DF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EE41-788B-43F7-BB60-FC091AB9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9E223-CB84-419C-89B7-B2E606B0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C69C-1836-49C2-B627-05946F08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907A-B07B-4887-84B2-B8475398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97FC-CC7C-4F52-AA79-3848EC4B2D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6B2D-BA67-4EF7-83B9-658A50716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B261-A6FA-4E6D-A83A-296AD60F16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moban1-2副本"/>
          <p:cNvPicPr/>
          <p:nvPr/>
        </p:nvPicPr>
        <p:blipFill>
          <a:blip r:embed="rId2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C9B2-AD8C-4A8D-9E85-A02C658FFE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moban1-1副本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70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CDE1-75FB-4D7D-9DEB-42C602E00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7" descr="moban1-3副本"/>
          <p:cNvPicPr/>
          <p:nvPr/>
        </p:nvPicPr>
        <p:blipFill>
          <a:blip r:embed="rId2"/>
          <a:stretch/>
        </p:blipFill>
        <p:spPr>
          <a:xfrm>
            <a:off x="-18108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B01C-6000-401B-AE88-16E4C4B4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矩形 1"/>
          <p:cNvSpPr/>
          <p:nvPr/>
        </p:nvSpPr>
        <p:spPr>
          <a:xfrm>
            <a:off x="2217240" y="1341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古典水墨人物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4" descr="moban1-2副本"/>
          <p:cNvPicPr/>
          <p:nvPr/>
        </p:nvPicPr>
        <p:blipFill>
          <a:blip r:embed="rId1"/>
          <a:stretch/>
        </p:blipFill>
        <p:spPr>
          <a:xfrm>
            <a:off x="-433440" y="0"/>
            <a:ext cx="9577440" cy="71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>ppt宝藏</dc:creator>
  <dc:description/>
  <dc:language>en-US</dc:language>
  <cp:lastModifiedBy>yu wang</cp:lastModifiedBy>
  <dcterms:modified xsi:type="dcterms:W3CDTF">2015-08-03T12:19:40Z</dcterms:modified>
  <cp:revision>11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2000000000001024140</vt:lpwstr>
  </property>
</Properties>
</file>