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9E6ED3-14F6-4170-9A6C-8BF18FDD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DD4CAE-DCFC-4A2E-8328-FA2F5495AA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F42-FA73-4734-B6FB-174E31A7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217-D8A7-471F-ACC2-0672D0D9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209-95D4-4E0D-A0AE-953FE2BE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357F-6F6C-4F67-A02A-DB4D1F56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C834D-0680-42AF-9B7F-02F521BE2A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D9FBA-CCB2-4A0C-A6D4-BB2029428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F3592-29B3-40AA-93F7-C4ED5EAFBF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D5B8B-4FFD-47DE-A941-ABC533CEF5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C5891-36BC-44CA-83A6-613C740377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8ACF0-E9D1-423E-8492-453E1F7E8A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2CF5F-B55B-4FFC-8E3A-CC2CB716B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A7C4-3976-4377-B6A9-7F67F648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9218D-19AB-4790-9B15-E4977EA419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ABA27-F8C5-4623-AF03-A4774207BE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1E1DA-E71F-4503-A716-B0E22B66B2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381CF-0AB0-4600-B505-40009E80B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16F90-EBA9-4533-ABBE-07D88FB6F6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C08-7585-4320-8BBA-BF2EDA5B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098-B062-45D1-A1DF-690A44A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FFF-8C2C-40C7-8C60-BCBDFD7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D79-52C4-42FC-98F4-F5C01749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8B6-F253-47F4-B76C-AABCAA3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BA7-0621-496E-BF0E-22978BB4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E540-E440-4BE3-9B7D-413109E4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BF8B08-1DA9-414E-9692-8D6E77C8414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7496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8028360" y="6332760"/>
            <a:ext cx="658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625F9F-E3FD-4E24-8BCF-F3A959D21C8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5"/>
          <p:cNvSpPr/>
          <p:nvPr/>
        </p:nvSpPr>
        <p:spPr>
          <a:xfrm>
            <a:off x="7740360" y="242100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395280" cy="685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Administrator\Desktop\PNG图片48个\LOGO.png"/>
          <p:cNvPicPr/>
          <p:nvPr/>
        </p:nvPicPr>
        <p:blipFill>
          <a:blip r:embed="rId2"/>
          <a:stretch/>
        </p:blipFill>
        <p:spPr>
          <a:xfrm>
            <a:off x="881280" y="5252400"/>
            <a:ext cx="1136520" cy="1416600"/>
          </a:xfrm>
          <a:prstGeom prst="rect">
            <a:avLst/>
          </a:prstGeom>
          <a:ln w="0">
            <a:noFill/>
          </a:ln>
        </p:spPr>
      </p:pic>
      <p:sp>
        <p:nvSpPr>
          <p:cNvPr id="90" name="副标题 2"/>
          <p:cNvSpPr/>
          <p:nvPr/>
        </p:nvSpPr>
        <p:spPr>
          <a:xfrm>
            <a:off x="1907640" y="5544720"/>
            <a:ext cx="81367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古典水乡中国风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2" descr=""/>
          <p:cNvPicPr/>
          <p:nvPr/>
        </p:nvPicPr>
        <p:blipFill>
          <a:blip r:embed="rId3"/>
          <a:stretch/>
        </p:blipFill>
        <p:spPr>
          <a:xfrm rot="10800000">
            <a:off x="360" y="360"/>
            <a:ext cx="4285080" cy="2966040"/>
          </a:xfrm>
          <a:prstGeom prst="rect">
            <a:avLst/>
          </a:prstGeom>
          <a:ln w="0">
            <a:noFill/>
          </a:ln>
        </p:spPr>
      </p:pic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20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9868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9"/>
          <p:cNvGrpSpPr/>
          <p:nvPr/>
        </p:nvGrpSpPr>
        <p:grpSpPr>
          <a:xfrm>
            <a:off x="2035080" y="1889640"/>
            <a:ext cx="6352920" cy="1261800"/>
            <a:chOff x="2035080" y="1889640"/>
            <a:chExt cx="6352920" cy="1261800"/>
          </a:xfrm>
        </p:grpSpPr>
        <p:pic>
          <p:nvPicPr>
            <p:cNvPr id="95" name="图片 4" descr=""/>
            <p:cNvPicPr/>
            <p:nvPr/>
          </p:nvPicPr>
          <p:blipFill>
            <a:blip r:embed="rId2"/>
            <a:stretch/>
          </p:blipFill>
          <p:spPr>
            <a:xfrm>
              <a:off x="2035080" y="1889640"/>
              <a:ext cx="1297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3" descr="F:\PPT 任务\水晶图片\抠图PNG\墨痕.png"/>
            <p:cNvPicPr/>
            <p:nvPr/>
          </p:nvPicPr>
          <p:blipFill>
            <a:blip r:embed="rId3"/>
            <a:stretch/>
          </p:blipFill>
          <p:spPr>
            <a:xfrm>
              <a:off x="2971440" y="2611800"/>
              <a:ext cx="5416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6"/>
            <p:cNvSpPr/>
            <p:nvPr/>
          </p:nvSpPr>
          <p:spPr>
            <a:xfrm>
              <a:off x="2290320" y="2328480"/>
              <a:ext cx="504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"/>
            <p:cNvSpPr/>
            <p:nvPr/>
          </p:nvSpPr>
          <p:spPr>
            <a:xfrm>
              <a:off x="3472200" y="2172240"/>
              <a:ext cx="4414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32"/>
          <p:cNvGrpSpPr/>
          <p:nvPr/>
        </p:nvGrpSpPr>
        <p:grpSpPr>
          <a:xfrm>
            <a:off x="2021760" y="3065040"/>
            <a:ext cx="6352560" cy="1261800"/>
            <a:chOff x="2021760" y="3065040"/>
            <a:chExt cx="6352560" cy="1261800"/>
          </a:xfrm>
        </p:grpSpPr>
        <p:pic>
          <p:nvPicPr>
            <p:cNvPr id="100" name="图片 4" descr=""/>
            <p:cNvPicPr/>
            <p:nvPr/>
          </p:nvPicPr>
          <p:blipFill>
            <a:blip r:embed="rId4"/>
            <a:stretch/>
          </p:blipFill>
          <p:spPr>
            <a:xfrm>
              <a:off x="2021760" y="3065040"/>
              <a:ext cx="1297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3" descr="F:\PPT 任务\水晶图片\抠图PNG\墨痕.png"/>
            <p:cNvPicPr/>
            <p:nvPr/>
          </p:nvPicPr>
          <p:blipFill>
            <a:blip r:embed="rId5"/>
            <a:stretch/>
          </p:blipFill>
          <p:spPr>
            <a:xfrm>
              <a:off x="2957760" y="3787200"/>
              <a:ext cx="5416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6"/>
            <p:cNvSpPr/>
            <p:nvPr/>
          </p:nvSpPr>
          <p:spPr>
            <a:xfrm>
              <a:off x="2276640" y="3503880"/>
              <a:ext cx="504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"/>
            <p:cNvSpPr/>
            <p:nvPr/>
          </p:nvSpPr>
          <p:spPr>
            <a:xfrm>
              <a:off x="3458520" y="3347640"/>
              <a:ext cx="4414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37"/>
          <p:cNvGrpSpPr/>
          <p:nvPr/>
        </p:nvGrpSpPr>
        <p:grpSpPr>
          <a:xfrm>
            <a:off x="2035080" y="4327200"/>
            <a:ext cx="6352920" cy="1261800"/>
            <a:chOff x="2035080" y="4327200"/>
            <a:chExt cx="6352920" cy="1261800"/>
          </a:xfrm>
        </p:grpSpPr>
        <p:pic>
          <p:nvPicPr>
            <p:cNvPr id="105" name="图片 4" descr=""/>
            <p:cNvPicPr/>
            <p:nvPr/>
          </p:nvPicPr>
          <p:blipFill>
            <a:blip r:embed="rId6"/>
            <a:stretch/>
          </p:blipFill>
          <p:spPr>
            <a:xfrm>
              <a:off x="2035080" y="4327200"/>
              <a:ext cx="1297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" descr="F:\PPT 任务\水晶图片\抠图PNG\墨痕.png"/>
            <p:cNvPicPr/>
            <p:nvPr/>
          </p:nvPicPr>
          <p:blipFill>
            <a:blip r:embed="rId7"/>
            <a:stretch/>
          </p:blipFill>
          <p:spPr>
            <a:xfrm>
              <a:off x="2971440" y="5049360"/>
              <a:ext cx="541656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6"/>
            <p:cNvSpPr/>
            <p:nvPr/>
          </p:nvSpPr>
          <p:spPr>
            <a:xfrm>
              <a:off x="2290320" y="4766040"/>
              <a:ext cx="5040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"/>
            <p:cNvSpPr/>
            <p:nvPr/>
          </p:nvSpPr>
          <p:spPr>
            <a:xfrm>
              <a:off x="3472200" y="4609800"/>
              <a:ext cx="4414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1"/>
          <p:cNvSpPr/>
          <p:nvPr/>
        </p:nvSpPr>
        <p:spPr>
          <a:xfrm>
            <a:off x="2712240" y="548640"/>
            <a:ext cx="3718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9" descr=""/>
          <p:cNvPicPr/>
          <p:nvPr/>
        </p:nvPicPr>
        <p:blipFill>
          <a:blip r:embed="rId8"/>
          <a:stretch/>
        </p:blipFill>
        <p:spPr>
          <a:xfrm>
            <a:off x="0" y="5142240"/>
            <a:ext cx="2083320" cy="15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正文页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所有图片素材来源于网上，版权归相关所有人。你可将下载的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模板用于个人学习、研究或欣赏，以及其他非商业性或非盈利性用途，但同时应遵守著作权法及其他相关法律的规定，不得侵犯相关权利人的合法权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所有图片素材来源于网上，版权归相关所有人。你可将下载的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模板用于个人学习、研究或欣赏，以及其他非商业性或非盈利性用途，但同时应遵守著作权法及其他相关法律的规定，不得侵犯相关权利人的合法权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3" descr=""/>
          <p:cNvPicPr/>
          <p:nvPr/>
        </p:nvPicPr>
        <p:blipFill>
          <a:blip r:embed="rId1"/>
          <a:stretch/>
        </p:blipFill>
        <p:spPr>
          <a:xfrm>
            <a:off x="0" y="5142240"/>
            <a:ext cx="2308320" cy="17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5" descr=""/>
          <p:cNvPicPr/>
          <p:nvPr/>
        </p:nvPicPr>
        <p:blipFill>
          <a:blip r:embed="rId1"/>
          <a:stretch/>
        </p:blipFill>
        <p:spPr>
          <a:xfrm>
            <a:off x="-108360" y="-99360"/>
            <a:ext cx="9395280" cy="6957000"/>
          </a:xfrm>
          <a:prstGeom prst="rect">
            <a:avLst/>
          </a:prstGeom>
          <a:ln w="0">
            <a:noFill/>
          </a:ln>
        </p:spPr>
      </p:pic>
      <p:sp>
        <p:nvSpPr>
          <p:cNvPr id="115" name="标题 1"/>
          <p:cNvSpPr/>
          <p:nvPr/>
        </p:nvSpPr>
        <p:spPr>
          <a:xfrm>
            <a:off x="427320" y="980640"/>
            <a:ext cx="4176000" cy="11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感谢关注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6" descr=""/>
          <p:cNvPicPr/>
          <p:nvPr/>
        </p:nvPicPr>
        <p:blipFill>
          <a:blip r:embed="rId2"/>
          <a:stretch/>
        </p:blipFill>
        <p:spPr>
          <a:xfrm flipH="1">
            <a:off x="-108360" y="3911040"/>
            <a:ext cx="4285080" cy="29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ndy Guo 中国风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ndy Guo 中国风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74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7:24:47Z</dcterms:created>
  <dc:creator/>
  <dc:description>http://blog.sina.com.cn/9ippt</dc:description>
  <dc:language>en-US</dc:language>
  <cp:lastModifiedBy/>
  <dcterms:modified xsi:type="dcterms:W3CDTF">2015-08-03T12:19:39Z</dcterms:modified>
  <cp:revision>1</cp:revision>
  <dc:subject/>
  <dc:title>中国风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