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2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3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F91B62E-3ED8-4F16-93BE-C419BD77CE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3FEB3B2-650D-4B0F-90DE-FF3BEFA69F9C}" type="slidenum"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配色方案修改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配色方案在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格式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幻灯片设计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配色方案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编辑配色方案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下调整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的添加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添加修改在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视图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母版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幻灯片母版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下调整。直接选择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图片删除或修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字体格式的设置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括标题和文本格式的设置在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视图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母版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幻灯片母版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下调整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801F18E-2C21-43BD-B1FD-29D40942DCFE}" type="slidenum"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98C7372-41C0-45A9-82CD-695BE060D7DC}" type="slidenum"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3B6B98B-B466-4A51-AE4F-2800094A1B8B}" type="slidenum"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1120" y="17748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1120" y="4138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1120" y="17748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7440" y="17748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11120" y="4138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7440" y="4138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1120" y="17748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3200" y="17748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5280" y="17748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11120" y="4138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3200" y="4138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5280" y="4138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11120" y="17748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11120" y="17748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11120" y="17748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27440" y="17748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1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11120" y="17748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27440" y="17748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11120" y="4138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11120" y="17748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11120" y="17748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7440" y="17748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27440" y="4138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11120" y="17748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7440" y="17748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11120" y="4138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1120" y="17748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11120" y="4138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11120" y="17748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27440" y="17748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11120" y="4138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27440" y="4138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11120" y="17748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93200" y="17748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75280" y="17748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11120" y="4138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93200" y="4138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75280" y="4138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11120" y="17748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11120" y="17748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11120" y="17748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27440" y="17748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11120" y="17748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1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11120" y="17748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7440" y="17748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11120" y="4138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11120" y="17748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27440" y="17748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27440" y="4138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11120" y="17748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27440" y="17748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11120" y="4138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11120" y="17748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11120" y="4138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11120" y="17748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27440" y="17748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11120" y="4138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27440" y="4138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11120" y="17748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93200" y="17748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75280" y="17748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11120" y="4138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93200" y="4138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75280" y="4138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11120" y="17748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11120" y="17748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1120" y="17748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7440" y="17748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11120" y="17748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7440" y="17748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1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11120" y="17748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27440" y="17748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11120" y="4138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11120" y="17748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27440" y="17748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27440" y="4138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11120" y="17748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27440" y="17748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11120" y="4138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11120" y="17748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1120" y="4138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11120" y="17748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7440" y="17748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11120" y="4138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27440" y="4138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11120" y="17748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93200" y="17748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75280" y="17748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11120" y="4138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93200" y="4138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75280" y="4138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1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1120" y="17748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7440" y="17748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11120" y="4138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1120" y="17748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7440" y="17748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7440" y="4138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1120" y="17748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7440" y="17748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1120" y="4138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hyperlink" Target="http://www.1ppt.com/shiti/" TargetMode="External"/><Relationship Id="rId16" Type="http://schemas.openxmlformats.org/officeDocument/2006/relationships/hyperlink" Target="http://www.1ppt.com/jiaoan/" TargetMode="External"/><Relationship Id="rId17" Type="http://schemas.openxmlformats.org/officeDocument/2006/relationships/image" Target="../media/image1.jpeg"/><Relationship Id="rId18" Type="http://schemas.openxmlformats.org/officeDocument/2006/relationships/image" Target="../media/image2.png"/><Relationship Id="rId19" Type="http://schemas.openxmlformats.org/officeDocument/2006/relationships/slideLayout" Target="../slideLayouts/slideLayout1.xml"/><Relationship Id="rId20" Type="http://schemas.openxmlformats.org/officeDocument/2006/relationships/slideLayout" Target="../slideLayouts/slideLayout2.xml"/><Relationship Id="rId21" Type="http://schemas.openxmlformats.org/officeDocument/2006/relationships/slideLayout" Target="../slideLayouts/slideLayout3.xml"/><Relationship Id="rId22" Type="http://schemas.openxmlformats.org/officeDocument/2006/relationships/slideLayout" Target="../slideLayouts/slideLayout4.xml"/><Relationship Id="rId23" Type="http://schemas.openxmlformats.org/officeDocument/2006/relationships/slideLayout" Target="../slideLayouts/slideLayout5.xml"/><Relationship Id="rId24" Type="http://schemas.openxmlformats.org/officeDocument/2006/relationships/slideLayout" Target="../slideLayouts/slideLayout6.xml"/><Relationship Id="rId25" Type="http://schemas.openxmlformats.org/officeDocument/2006/relationships/slideLayout" Target="../slideLayouts/slideLayout7.xml"/><Relationship Id="rId26" Type="http://schemas.openxmlformats.org/officeDocument/2006/relationships/slideLayout" Target="../slideLayouts/slideLayout8.xml"/><Relationship Id="rId27" Type="http://schemas.openxmlformats.org/officeDocument/2006/relationships/slideLayout" Target="../slideLayouts/slideLayout9.xml"/><Relationship Id="rId28" Type="http://schemas.openxmlformats.org/officeDocument/2006/relationships/slideLayout" Target="../slideLayouts/slideLayout10.xml"/><Relationship Id="rId29" Type="http://schemas.openxmlformats.org/officeDocument/2006/relationships/slideLayout" Target="../slideLayouts/slideLayout11.xml"/><Relationship Id="rId3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" Target="slide1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8251920" y="6362640"/>
            <a:ext cx="6490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3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4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5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6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7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8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9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0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1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2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3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4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5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6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1" descr=""/>
          <p:cNvPicPr/>
          <p:nvPr/>
        </p:nvPicPr>
        <p:blipFill>
          <a:blip r:embed="rId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"/>
          <p:cNvPicPr/>
          <p:nvPr/>
        </p:nvPicPr>
        <p:blipFill>
          <a:blip r:embed="rId18"/>
          <a:stretch/>
        </p:blipFill>
        <p:spPr>
          <a:xfrm>
            <a:off x="8172360" y="6031080"/>
            <a:ext cx="808200" cy="80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3120" indent="-303120">
              <a:spcBef>
                <a:spcPts val="71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254160">
              <a:spcBef>
                <a:spcPts val="711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14480" indent="-203400">
              <a:spcBef>
                <a:spcPts val="71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0920" indent="-203400">
              <a:spcBef>
                <a:spcPts val="711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03040">
              <a:spcBef>
                <a:spcPts val="71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03040">
              <a:spcBef>
                <a:spcPts val="71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03040">
              <a:spcBef>
                <a:spcPts val="71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9"/>
    <p:sldLayoutId id="2147483650" r:id="rId20"/>
    <p:sldLayoutId id="2147483651" r:id="rId21"/>
    <p:sldLayoutId id="2147483652" r:id="rId22"/>
    <p:sldLayoutId id="2147483653" r:id="rId23"/>
    <p:sldLayoutId id="2147483654" r:id="rId24"/>
    <p:sldLayoutId id="2147483655" r:id="rId25"/>
    <p:sldLayoutId id="2147483656" r:id="rId26"/>
    <p:sldLayoutId id="2147483657" r:id="rId27"/>
    <p:sldLayoutId id="2147483658" r:id="rId28"/>
    <p:sldLayoutId id="2147483659" r:id="rId29"/>
    <p:sldLayoutId id="2147483660" r:id="rId3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2"/>
          <p:cNvSpPr/>
          <p:nvPr/>
        </p:nvSpPr>
        <p:spPr>
          <a:xfrm>
            <a:off x="914400" y="9907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3124080" y="198108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101080" y="587700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11120" y="17748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3120" indent="-303120">
              <a:spcBef>
                <a:spcPts val="71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254160">
              <a:spcBef>
                <a:spcPts val="711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14480" indent="-203400">
              <a:spcBef>
                <a:spcPts val="71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0920" indent="-203400">
              <a:spcBef>
                <a:spcPts val="711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03040">
              <a:spcBef>
                <a:spcPts val="71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03040">
              <a:spcBef>
                <a:spcPts val="71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03040">
              <a:spcBef>
                <a:spcPts val="71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2"/>
          <p:cNvSpPr/>
          <p:nvPr/>
        </p:nvSpPr>
        <p:spPr>
          <a:xfrm>
            <a:off x="2195640" y="2421000"/>
            <a:ext cx="64767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1763640" y="1268280"/>
            <a:ext cx="48006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3"/>
          <a:stretch/>
        </p:blipFill>
        <p:spPr>
          <a:xfrm>
            <a:off x="8172360" y="6027840"/>
            <a:ext cx="838440" cy="731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"/>
          <p:cNvPicPr/>
          <p:nvPr/>
        </p:nvPicPr>
        <p:blipFill>
          <a:blip r:embed="rId3"/>
          <a:stretch/>
        </p:blipFill>
        <p:spPr>
          <a:xfrm>
            <a:off x="8172360" y="6060960"/>
            <a:ext cx="777960" cy="7779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3120" indent="-303120">
              <a:spcBef>
                <a:spcPts val="71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254160">
              <a:spcBef>
                <a:spcPts val="711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14480" indent="-203400">
              <a:spcBef>
                <a:spcPts val="71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0920" indent="-203400">
              <a:spcBef>
                <a:spcPts val="711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03040">
              <a:spcBef>
                <a:spcPts val="71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03040">
              <a:spcBef>
                <a:spcPts val="71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03040">
              <a:spcBef>
                <a:spcPts val="71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1"/>
          <p:cNvSpPr/>
          <p:nvPr/>
        </p:nvSpPr>
        <p:spPr>
          <a:xfrm>
            <a:off x="468360" y="1628640"/>
            <a:ext cx="820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古典中国风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模板完整版免费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2"/>
          <p:cNvSpPr/>
          <p:nvPr/>
        </p:nvSpPr>
        <p:spPr>
          <a:xfrm>
            <a:off x="5535000" y="321804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插入公司署名或副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11120" y="1774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"/>
          <p:cNvPicPr/>
          <p:nvPr/>
        </p:nvPicPr>
        <p:blipFill>
          <a:blip r:embed="rId2"/>
          <a:stretch/>
        </p:blipFill>
        <p:spPr>
          <a:xfrm>
            <a:off x="7621560" y="5759280"/>
            <a:ext cx="838080" cy="73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0T01:08:58Z</dcterms:created>
  <dc:creator>无锡阿达游软件有限公司</dc:creator>
  <dc:description/>
  <dc:language>en-US</dc:language>
  <cp:lastModifiedBy>yu wang</cp:lastModifiedBy>
  <dcterms:modified xsi:type="dcterms:W3CDTF">2015-08-03T12:19:28Z</dcterms:modified>
  <cp:revision>14</cp:revision>
  <dc:subject/>
  <dc:title>清明上河图</dc:title>
</cp:coreProperties>
</file>