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395-0DC0-4FFC-876E-AAB668EC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220-9C11-4C3E-994C-C342A5D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EBC-1E0B-479E-8D34-EA0B226B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C6D-5F50-4D3A-A263-F0459341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87E6-E1BA-4AC2-83FD-62E45049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FFAF-CBCD-4FA3-9A4F-BCDE264D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78A-B470-4A28-AE47-869762A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1411-9FEF-4A90-A488-7DC2334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05D4-07AE-4328-B197-0E44C212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B4A5-05C3-44C0-9983-21019DFD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469-3B6C-459C-B6AF-7A136BE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50C-59FD-4086-AA9B-78F0709F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AE24-4A1C-4995-AC7C-0F02A08B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3AF7-0D98-4047-AA00-E9647E6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D4C-6C4A-4ECE-A0E9-79952F8F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7BED-E0BA-4BD8-97FE-9E19A375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FCA-14AD-476E-8EA4-16DB763C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271-9158-4BEF-84B2-FD76776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E8E-366B-4048-BF1C-4F7239C8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4F4-F5D6-490D-A82C-3FE12CBA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BCD-FFD3-400B-ACDA-B0A4D08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2E7-332E-4A38-9A7B-9D908608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B30-C59B-4BF2-A6B8-AF970B78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7C6-C2B4-4CAE-A69C-AC1EAF5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3B9-C647-408E-9A1B-E4629C17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C6D-0F09-43A7-BB61-C4B66E9FF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2425320" y="177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器红色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56636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ppt宝藏</dc:creator>
  <dc:description/>
  <dc:language>en-US</dc:language>
  <cp:lastModifiedBy>yu wang</cp:lastModifiedBy>
  <dcterms:modified xsi:type="dcterms:W3CDTF">2015-08-03T12:19:45Z</dcterms:modified>
  <cp:revision>47</cp:revision>
  <dc:subject/>
  <dc:title>www.pptbz.com</dc:title>
</cp:coreProperties>
</file>