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865-3A1E-41DE-B7D7-2FFC7BF3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5AD-D7B4-4428-B22E-15328AEA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B6A-DC74-4176-848C-CF7AF78E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D16-0FE2-4239-BDA2-41804E34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146-13D8-4DAC-9D73-179E5B82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9B9-C97A-42DE-B45F-BD4F50A8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180-CEAD-4618-A98E-2C0C82BC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9A0-FAF0-4407-99BA-6B8E660D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EE3-E9A6-48B2-8FB6-9E7DABB5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3B8-6623-4812-8190-8B73F089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831-491E-4309-AB53-DB08112D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A83-8E1E-453F-8064-464C84BC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CB06-F962-43FC-B23E-CEEAC0B1B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33"/>
                </a:solidFill>
                <a:latin typeface="Kozuka Gothic Pro H"/>
                <a:ea typeface="Kozuka Gothic Pro H"/>
              </a:rPr>
              <a:t>古色古香中国风</a:t>
            </a:r>
            <a:r>
              <a:rPr b="0" lang="en-US" sz="4000" spc="-1" strike="noStrike">
                <a:solidFill>
                  <a:srgbClr val="660033"/>
                </a:solidFill>
                <a:latin typeface="Kozuka Gothic Pro H"/>
                <a:ea typeface="Kozuka Gothic Pro H"/>
              </a:rPr>
              <a:t>PPT</a:t>
            </a:r>
            <a:r>
              <a:rPr b="0" lang="zh-CN" sz="4000" spc="-1" strike="noStrike">
                <a:solidFill>
                  <a:srgbClr val="660033"/>
                </a:solidFill>
                <a:latin typeface="Kozuka Gothic Pro H"/>
                <a:ea typeface="Kozuka Gothic Pro H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7456271944bfda7a34fa41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03T12:19:4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