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6.png" ContentType="image/png"/>
  <Override PartName="/ppt/media/image17.jpeg" ContentType="image/jpeg"/>
  <Override PartName="/ppt/media/image16.png" ContentType="image/png"/>
  <Override PartName="/ppt/media/image14.png" ContentType="image/png"/>
  <Override PartName="/ppt/media/image10.jpeg" ContentType="image/jpeg"/>
  <Override PartName="/ppt/media/image25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1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9.png" ContentType="image/png"/>
  <Override PartName="/ppt/media/image39.png" ContentType="image/png"/>
  <Override PartName="/ppt/media/image42.wmf" ContentType="image/x-wmf"/>
  <Override PartName="/ppt/media/image31.png" ContentType="image/png"/>
  <Override PartName="/ppt/media/image29.png" ContentType="image/png"/>
  <Override PartName="/ppt/media/image43.png" ContentType="image/png"/>
  <Override PartName="/ppt/media/image12.png" ContentType="image/png"/>
  <Override PartName="/ppt/media/image40.wmf" ContentType="image/x-wmf"/>
  <Override PartName="/ppt/media/image37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2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media/image15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700" spc="-1" strike="noStrike">
                <a:solidFill>
                  <a:srgbClr val="125ca7"/>
                </a:solidFill>
                <a:latin typeface="Segoe Light"/>
              </a:rPr>
              <a:t>Click to move the slide</a:t>
            </a: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0B8E7-5C45-4541-9B02-64A93DC4DD9C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6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B5453-0546-4434-9905-FAB2F3A67A40}" type="slidenum">
              <a:rPr b="0" lang="zh-CN" sz="1200" spc="-1" strike="noStrike">
                <a:solidFill>
                  <a:srgbClr val="ffffff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6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CC9F9-BE87-4F51-9722-8CA5CB3C4DC7}" type="slidenum">
              <a:rPr b="0" lang="zh-CN" sz="1200" spc="-1" strike="noStrike">
                <a:solidFill>
                  <a:srgbClr val="ffffff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6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D994A-568B-43A7-AC94-35D31E3CB7D8}" type="slidenum">
              <a:rPr b="0" lang="zh-CN" sz="1200" spc="-1" strike="noStrike">
                <a:solidFill>
                  <a:srgbClr val="ffffff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6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F82EB-5379-4BE7-872C-8CFD385E1A19}" type="slidenum">
              <a:rPr b="0" lang="zh-CN" sz="1200" spc="-1" strike="noStrike">
                <a:solidFill>
                  <a:srgbClr val="ffffff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6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845E9-9B28-4068-BA75-6FB8AC1D167F}" type="slidenum">
              <a:rPr b="0" lang="zh-CN" sz="1200" spc="-1" strike="noStrike">
                <a:solidFill>
                  <a:srgbClr val="ffffff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6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81E8A-478D-4930-AC21-602CD579D0F6}" type="slidenum">
              <a:rPr b="0" lang="zh-CN" sz="1200" spc="-1" strike="noStrike">
                <a:solidFill>
                  <a:srgbClr val="ffffff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6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ACB79-CD43-4054-9111-B440F4EC49B3}" type="slidenum">
              <a:rPr b="0" lang="zh-CN" sz="1200" spc="-1" strike="noStrike">
                <a:solidFill>
                  <a:srgbClr val="ffffff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6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3E74A-68BA-41BD-BFFE-99397CB7DF6E}" type="slidenum">
              <a:rPr b="0" lang="zh-CN" sz="1200" spc="-1" strike="noStrike">
                <a:solidFill>
                  <a:srgbClr val="ffffff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7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ED4FB-9422-4C68-98B7-72066F38BD38}" type="slidenum">
              <a:rPr b="0" lang="zh-CN" sz="1200" spc="-1" strike="noStrike">
                <a:solidFill>
                  <a:srgbClr val="ffffff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838188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60000" y="2584440"/>
            <a:ext cx="838188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60000" y="636120"/>
            <a:ext cx="838188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6000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5516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60000" y="2584440"/>
            <a:ext cx="838188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838188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60000" y="2584440"/>
            <a:ext cx="838188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6000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5516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93920" y="120312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7840" y="120312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60000" y="258444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93920" y="258444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7840" y="258444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6000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5516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360000" y="1203120"/>
            <a:ext cx="838188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838188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360000" y="636120"/>
            <a:ext cx="838188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36000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5516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60000" y="2584440"/>
            <a:ext cx="838188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838188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60000" y="2584440"/>
            <a:ext cx="838188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36000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5516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93920" y="120312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7840" y="120312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60000" y="258444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193920" y="258444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7840" y="258444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193920" y="120312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7840" y="120312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360000" y="258444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193920" y="258444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7840" y="258444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0000" y="1203120"/>
            <a:ext cx="838188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838188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360000" y="636120"/>
            <a:ext cx="838188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36000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5516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360000" y="2584440"/>
            <a:ext cx="838188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838188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60000" y="2584440"/>
            <a:ext cx="838188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36000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5516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193920" y="120312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27840" y="120312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360000" y="258444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193920" y="258444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27840" y="258444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360000" y="1203120"/>
            <a:ext cx="838188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838188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360000" y="636120"/>
            <a:ext cx="838188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36000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0000" y="1203120"/>
            <a:ext cx="838188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5516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360000" y="2584440"/>
            <a:ext cx="838188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838188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60000" y="2584440"/>
            <a:ext cx="838188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36000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5516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193920" y="120312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7840" y="120312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360000" y="258444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193920" y="258444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7840" y="258444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360000" y="1203120"/>
            <a:ext cx="838188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838188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838188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360000" y="636120"/>
            <a:ext cx="838188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36000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5516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360000" y="2584440"/>
            <a:ext cx="838188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838188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60000" y="2584440"/>
            <a:ext cx="838188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36000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5516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193920" y="120312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7840" y="120312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360000" y="258444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193920" y="258444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7840" y="258444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360000" y="1203120"/>
            <a:ext cx="838188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838188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360000" y="636120"/>
            <a:ext cx="838188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36000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65516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360000" y="2584440"/>
            <a:ext cx="838188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838188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60000" y="2584440"/>
            <a:ext cx="838188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36000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65516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3193920" y="120312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027840" y="120312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360000" y="258444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3193920" y="258444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027840" y="258444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46D3-6C1E-4C0C-BF90-F24C85033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360000" y="1203120"/>
            <a:ext cx="838188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3B20-DD74-42C8-8A38-3E0173509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838188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C736-07E7-4545-8698-49500C315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EDB8-4E5F-4243-A34F-A98CA9CC8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8346-43F2-4C22-8DDB-F7F8ABF34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360000" y="636120"/>
            <a:ext cx="838188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4081-259F-4537-B317-F5DD04B55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36000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DB11-FC68-4FD4-9813-992DACFC3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5516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B44C-2333-481A-BD46-ADF747DC9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360000" y="2584440"/>
            <a:ext cx="838188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B45E-08D5-4A89-AAEC-7C7837B49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838188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360000" y="2584440"/>
            <a:ext cx="838188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E5CE-BB91-42BB-B905-EC57082DD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36000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5516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9058-060E-4B3F-95C1-ADA0045E5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60000" y="636120"/>
            <a:ext cx="838188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193920" y="120312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7840" y="120312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360000" y="258444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193920" y="258444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7840" y="258444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BE69-0C76-4F6C-AEE5-EEAA0C124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36000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60000" y="1203120"/>
            <a:ext cx="838188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5516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60000" y="2584440"/>
            <a:ext cx="838188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838188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60000" y="2584440"/>
            <a:ext cx="838188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6000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5516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193920" y="120312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7840" y="120312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60000" y="258444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193920" y="258444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7840" y="258444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360000" y="1203120"/>
            <a:ext cx="838188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838188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838188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360000" y="636120"/>
            <a:ext cx="838188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36000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5516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60000" y="2584440"/>
            <a:ext cx="838188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838188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0000" y="2584440"/>
            <a:ext cx="838188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6000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5516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193920" y="120312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7840" y="120312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360000" y="258444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193920" y="258444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7840" y="258444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360000" y="1203120"/>
            <a:ext cx="838188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838188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360000" y="636120"/>
            <a:ext cx="838188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6000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5516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60000" y="2584440"/>
            <a:ext cx="838188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838188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60000" y="2584440"/>
            <a:ext cx="838188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6000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5516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193920" y="120312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7840" y="120312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360000" y="258444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193920" y="258444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7840" y="258444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360000" y="1203120"/>
            <a:ext cx="838188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838188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360000" y="636120"/>
            <a:ext cx="838188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6000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5516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60000" y="2584440"/>
            <a:ext cx="838188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838188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60000" y="2584440"/>
            <a:ext cx="838188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6000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5516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60000" y="636120"/>
            <a:ext cx="838188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193920" y="120312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7840" y="120312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360000" y="258444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193920" y="258444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7840" y="258444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360000" y="1203120"/>
            <a:ext cx="838188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838188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360000" y="636120"/>
            <a:ext cx="838188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6000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5516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360000" y="2584440"/>
            <a:ext cx="838188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6000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838188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60000" y="2584440"/>
            <a:ext cx="838188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36000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5516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193920" y="120312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7840" y="120312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360000" y="258444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193920" y="258444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7840" y="258444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360000" y="1203120"/>
            <a:ext cx="838188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838188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360000" y="636120"/>
            <a:ext cx="838188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36000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5516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5516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360000" y="2584440"/>
            <a:ext cx="838188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838188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60000" y="2584440"/>
            <a:ext cx="838188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36000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5516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193920" y="120312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27840" y="120312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360000" y="258444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193920" y="258444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27840" y="258444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360000" y="1203120"/>
            <a:ext cx="838188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838188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60000" y="2584440"/>
            <a:ext cx="838188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360000" y="636120"/>
            <a:ext cx="838188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36000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5516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360000" y="2584440"/>
            <a:ext cx="838188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838188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60000" y="2584440"/>
            <a:ext cx="838188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36000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5516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193920" y="120312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7840" y="120312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360000" y="258444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193920" y="258444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7840" y="258444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60000" y="1203120"/>
            <a:ext cx="838188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838188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0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700" spc="-1" strike="noStrike">
                <a:solidFill>
                  <a:srgbClr val="125ca7"/>
                </a:solidFill>
                <a:latin typeface="Segoe Light"/>
              </a:rPr>
              <a:t>Click to edit the title text format</a:t>
            </a: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60000" y="1203120"/>
            <a:ext cx="838188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5840" indent="-2858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1" marL="513720" indent="-226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2" marL="705600" indent="-190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3" marL="944280" indent="-2386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4" marL="1172520" indent="-226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5" marL="1172520" indent="-22608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6" marL="1172520" indent="-22608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3" descr="Silverlight_logo.png"/>
          <p:cNvPicPr/>
          <p:nvPr/>
        </p:nvPicPr>
        <p:blipFill>
          <a:blip r:embed="rId3"/>
          <a:stretch/>
        </p:blipFill>
        <p:spPr>
          <a:xfrm>
            <a:off x="7383600" y="6053040"/>
            <a:ext cx="1379520" cy="44784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700" spc="-1" strike="noStrike">
                <a:solidFill>
                  <a:srgbClr val="125ca7"/>
                </a:solidFill>
                <a:latin typeface="Segoe Light"/>
              </a:rPr>
              <a:t>Click to edit the title text format</a:t>
            </a: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360000" y="1203120"/>
            <a:ext cx="838188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5840" indent="-2858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1" marL="513720" indent="-226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2" marL="705600" indent="-190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3" marL="944280" indent="-2386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4" marL="1172520" indent="-226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5" marL="1172520" indent="-22608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6" marL="1172520" indent="-22608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3" descr="blueband.tif"/>
          <p:cNvPicPr/>
          <p:nvPr/>
        </p:nvPicPr>
        <p:blipFill>
          <a:blip r:embed="rId3"/>
          <a:stretch/>
        </p:blipFill>
        <p:spPr>
          <a:xfrm>
            <a:off x="0" y="6016680"/>
            <a:ext cx="8128080" cy="4762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4" descr="Silverlight_logo.png"/>
          <p:cNvPicPr/>
          <p:nvPr/>
        </p:nvPicPr>
        <p:blipFill>
          <a:blip r:embed="rId4"/>
          <a:stretch/>
        </p:blipFill>
        <p:spPr>
          <a:xfrm>
            <a:off x="7383600" y="6053040"/>
            <a:ext cx="1379520" cy="44784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700" spc="-1" strike="noStrike">
                <a:solidFill>
                  <a:srgbClr val="125ca7"/>
                </a:solidFill>
                <a:latin typeface="Segoe Light"/>
              </a:rPr>
              <a:t>Click to edit the title text format</a:t>
            </a: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360000" y="1203120"/>
            <a:ext cx="838188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5840" indent="-2858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1" marL="513720" indent="-226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2" marL="705600" indent="-190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3" marL="944280" indent="-2386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4" marL="1172520" indent="-226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5" marL="1172520" indent="-22608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6" marL="1172520" indent="-22608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3" descr="Silverlight_logo.png"/>
          <p:cNvPicPr/>
          <p:nvPr/>
        </p:nvPicPr>
        <p:blipFill>
          <a:blip r:embed="rId3"/>
          <a:stretch/>
        </p:blipFill>
        <p:spPr>
          <a:xfrm>
            <a:off x="7383600" y="6053040"/>
            <a:ext cx="1379520" cy="44784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700" spc="-1" strike="noStrike">
                <a:solidFill>
                  <a:srgbClr val="125ca7"/>
                </a:solidFill>
                <a:latin typeface="Segoe Light"/>
              </a:rPr>
              <a:t>Click to edit the title text format</a:t>
            </a: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360000" y="1203120"/>
            <a:ext cx="838188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5840" indent="-2858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1" marL="513720" indent="-226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2" marL="705600" indent="-190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3" marL="944280" indent="-2386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4" marL="1172520" indent="-226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5" marL="1172520" indent="-22608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6" marL="1172520" indent="-22608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3" descr="Silverlight_logo.png"/>
          <p:cNvPicPr/>
          <p:nvPr/>
        </p:nvPicPr>
        <p:blipFill>
          <a:blip r:embed="rId3"/>
          <a:srcRect l="-3403" t="0" r="0" b="0"/>
          <a:stretch/>
        </p:blipFill>
        <p:spPr>
          <a:xfrm>
            <a:off x="6021360" y="5602320"/>
            <a:ext cx="2549520" cy="79992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700" spc="-1" strike="noStrike">
                <a:solidFill>
                  <a:srgbClr val="125ca7"/>
                </a:solidFill>
                <a:latin typeface="Segoe Light"/>
              </a:rPr>
              <a:t>Click to edit the title text format</a:t>
            </a: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360000" y="1203120"/>
            <a:ext cx="838188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5840" indent="-2858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1" marL="513720" indent="-226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2" marL="705600" indent="-190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3" marL="944280" indent="-2386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4" marL="1172520" indent="-226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5" marL="1172520" indent="-22608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6" marL="1172520" indent="-22608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3" descr="Silverlight_logo.png"/>
          <p:cNvPicPr/>
          <p:nvPr/>
        </p:nvPicPr>
        <p:blipFill>
          <a:blip r:embed="rId3"/>
          <a:srcRect l="-7391" t="0" r="0" b="0"/>
          <a:stretch/>
        </p:blipFill>
        <p:spPr>
          <a:xfrm>
            <a:off x="198360" y="231840"/>
            <a:ext cx="2648160" cy="799920"/>
          </a:xfrm>
          <a:prstGeom prst="rect">
            <a:avLst/>
          </a:prstGeom>
          <a:ln w="0">
            <a:noFill/>
          </a:ln>
        </p:spPr>
      </p:pic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700" spc="-1" strike="noStrike">
                <a:solidFill>
                  <a:srgbClr val="125ca7"/>
                </a:solidFill>
                <a:latin typeface="Segoe Light"/>
              </a:rPr>
              <a:t>Click to edit the title text format</a:t>
            </a: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360000" y="1203120"/>
            <a:ext cx="838188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5840" indent="-2858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1" marL="513720" indent="-226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2" marL="705600" indent="-190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3" marL="944280" indent="-2386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4" marL="1172520" indent="-226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5" marL="1172520" indent="-22608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6" marL="1172520" indent="-22608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700" spc="-1" strike="noStrike">
                <a:solidFill>
                  <a:srgbClr val="125ca7"/>
                </a:solidFill>
                <a:latin typeface="Segoe Light"/>
              </a:rPr>
              <a:t>Click to edit the title text format</a:t>
            </a: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360000" y="1203120"/>
            <a:ext cx="838188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5840" indent="-2858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1" marL="513720" indent="-226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2" marL="705600" indent="-190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3" marL="944280" indent="-2386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4" marL="1172520" indent="-226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5" marL="1172520" indent="-22608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6" marL="1172520" indent="-22608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Sego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Segoe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Sego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BD594-FBBC-41B5-BB58-CCE55F71E2D5}" type="slidenum">
              <a:rPr b="0" lang="zh-CN" sz="2400" spc="-1" strike="noStrike">
                <a:solidFill>
                  <a:srgbClr val="ffffff"/>
                </a:solidFill>
                <a:latin typeface="Segoe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3" descr="Silverlight_logo.png"/>
          <p:cNvPicPr/>
          <p:nvPr/>
        </p:nvPicPr>
        <p:blipFill>
          <a:blip r:embed="rId3"/>
          <a:stretch/>
        </p:blipFill>
        <p:spPr>
          <a:xfrm>
            <a:off x="380880" y="231840"/>
            <a:ext cx="2465640" cy="79992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700" spc="-1" strike="noStrike">
                <a:solidFill>
                  <a:srgbClr val="125ca7"/>
                </a:solidFill>
                <a:latin typeface="Segoe Light"/>
              </a:rPr>
              <a:t>Click to edit the title text format</a:t>
            </a: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360000" y="1203120"/>
            <a:ext cx="838188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5840" indent="-2858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1" marL="513720" indent="-226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2" marL="705600" indent="-190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3" marL="944280" indent="-2386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4" marL="1172520" indent="-226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5" marL="1172520" indent="-22608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6" marL="1172520" indent="-22608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3" descr="Silverlight_logo.png"/>
          <p:cNvPicPr/>
          <p:nvPr/>
        </p:nvPicPr>
        <p:blipFill>
          <a:blip r:embed="rId3"/>
          <a:stretch/>
        </p:blipFill>
        <p:spPr>
          <a:xfrm>
            <a:off x="380880" y="231840"/>
            <a:ext cx="2465640" cy="7999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700" spc="-1" strike="noStrike">
                <a:solidFill>
                  <a:srgbClr val="125ca7"/>
                </a:solidFill>
                <a:latin typeface="Segoe Light"/>
              </a:rPr>
              <a:t>Click to edit the title text format</a:t>
            </a: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360000" y="1203120"/>
            <a:ext cx="838188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5840" indent="-2858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1" marL="513720" indent="-226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2" marL="705600" indent="-190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3" marL="944280" indent="-2386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4" marL="1172520" indent="-226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5" marL="1172520" indent="-22608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6" marL="1172520" indent="-22608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3" descr="blueband.tif"/>
          <p:cNvPicPr/>
          <p:nvPr/>
        </p:nvPicPr>
        <p:blipFill>
          <a:blip r:embed="rId3"/>
          <a:stretch/>
        </p:blipFill>
        <p:spPr>
          <a:xfrm>
            <a:off x="0" y="6016680"/>
            <a:ext cx="8128080" cy="476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Silverlight_logo.png"/>
          <p:cNvPicPr/>
          <p:nvPr/>
        </p:nvPicPr>
        <p:blipFill>
          <a:blip r:embed="rId4"/>
          <a:stretch/>
        </p:blipFill>
        <p:spPr>
          <a:xfrm>
            <a:off x="7383600" y="6053040"/>
            <a:ext cx="1379520" cy="4478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700" spc="-1" strike="noStrike">
                <a:solidFill>
                  <a:srgbClr val="125ca7"/>
                </a:solidFill>
                <a:latin typeface="Segoe Light"/>
              </a:rPr>
              <a:t>Click to edit the title text format</a:t>
            </a: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360000" y="1203120"/>
            <a:ext cx="838188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5840" indent="-2858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1" marL="513720" indent="-226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2" marL="705600" indent="-190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3" marL="944280" indent="-2386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4" marL="1172520" indent="-226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5" marL="1172520" indent="-22608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6" marL="1172520" indent="-22608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3" descr="blueband.tif"/>
          <p:cNvPicPr/>
          <p:nvPr/>
        </p:nvPicPr>
        <p:blipFill>
          <a:blip r:embed="rId3"/>
          <a:stretch/>
        </p:blipFill>
        <p:spPr>
          <a:xfrm>
            <a:off x="0" y="5384880"/>
            <a:ext cx="9144000" cy="14731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700" spc="-1" strike="noStrike">
                <a:solidFill>
                  <a:srgbClr val="125ca7"/>
                </a:solidFill>
                <a:latin typeface="Segoe Light"/>
              </a:rPr>
              <a:t>Click to edit the title text format</a:t>
            </a: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360000" y="1203120"/>
            <a:ext cx="838188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5840" indent="-2858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1" marL="513720" indent="-226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2" marL="705600" indent="-190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3" marL="944280" indent="-2386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4" marL="1172520" indent="-226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5" marL="1172520" indent="-22608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6" marL="1172520" indent="-22608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3" descr="blueband.tif"/>
          <p:cNvPicPr/>
          <p:nvPr/>
        </p:nvPicPr>
        <p:blipFill>
          <a:blip r:embed="rId3"/>
          <a:stretch/>
        </p:blipFill>
        <p:spPr>
          <a:xfrm>
            <a:off x="0" y="6016680"/>
            <a:ext cx="8128080" cy="4762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" descr="MSnet_logo.png"/>
          <p:cNvPicPr/>
          <p:nvPr/>
        </p:nvPicPr>
        <p:blipFill>
          <a:blip r:embed="rId4"/>
          <a:stretch/>
        </p:blipFill>
        <p:spPr>
          <a:xfrm>
            <a:off x="8016840" y="6067440"/>
            <a:ext cx="792360" cy="39996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700" spc="-1" strike="noStrike">
                <a:solidFill>
                  <a:srgbClr val="125ca7"/>
                </a:solidFill>
                <a:latin typeface="Segoe Light"/>
              </a:rPr>
              <a:t>Click to edit the title text format</a:t>
            </a: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360000" y="1203120"/>
            <a:ext cx="838188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5840" indent="-2858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1" marL="513720" indent="-226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2" marL="705600" indent="-190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3" marL="944280" indent="-2386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4" marL="1172520" indent="-226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5" marL="1172520" indent="-22608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6" marL="1172520" indent="-22608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3" descr="blueband.tif"/>
          <p:cNvPicPr/>
          <p:nvPr/>
        </p:nvPicPr>
        <p:blipFill>
          <a:blip r:embed="rId3"/>
          <a:stretch/>
        </p:blipFill>
        <p:spPr>
          <a:xfrm>
            <a:off x="0" y="6016680"/>
            <a:ext cx="8128080" cy="4762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4" descr="ASPnet_logo.png"/>
          <p:cNvPicPr/>
          <p:nvPr/>
        </p:nvPicPr>
        <p:blipFill>
          <a:blip r:embed="rId4"/>
          <a:stretch/>
        </p:blipFill>
        <p:spPr>
          <a:xfrm>
            <a:off x="7610400" y="6068880"/>
            <a:ext cx="1152720" cy="40032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700" spc="-1" strike="noStrike">
                <a:solidFill>
                  <a:srgbClr val="125ca7"/>
                </a:solidFill>
                <a:latin typeface="Segoe Light"/>
              </a:rPr>
              <a:t>Click to edit the title text format</a:t>
            </a: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360000" y="1203120"/>
            <a:ext cx="838188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5840" indent="-2858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1" marL="513720" indent="-226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2" marL="705600" indent="-190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3" marL="944280" indent="-2386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4" marL="1172520" indent="-226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5" marL="1172520" indent="-22608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6" marL="1172520" indent="-22608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3" descr="blueband.tif"/>
          <p:cNvPicPr/>
          <p:nvPr/>
        </p:nvPicPr>
        <p:blipFill>
          <a:blip r:embed="rId3"/>
          <a:stretch/>
        </p:blipFill>
        <p:spPr>
          <a:xfrm>
            <a:off x="0" y="6016680"/>
            <a:ext cx="8128080" cy="4762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4" descr="visualstudio_logo.png"/>
          <p:cNvPicPr/>
          <p:nvPr/>
        </p:nvPicPr>
        <p:blipFill>
          <a:blip r:embed="rId4"/>
          <a:stretch/>
        </p:blipFill>
        <p:spPr>
          <a:xfrm>
            <a:off x="6935760" y="6122880"/>
            <a:ext cx="1827360" cy="277920"/>
          </a:xfrm>
          <a:prstGeom prst="rect">
            <a:avLst/>
          </a:prstGeom>
          <a:ln w="0">
            <a:noFill/>
          </a:ln>
        </p:spPr>
      </p:pic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700" spc="-1" strike="noStrike">
                <a:solidFill>
                  <a:srgbClr val="125ca7"/>
                </a:solidFill>
                <a:latin typeface="Segoe Light"/>
              </a:rPr>
              <a:t>Click to edit the title text format</a:t>
            </a: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360000" y="1203120"/>
            <a:ext cx="838188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5840" indent="-2858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1" marL="513720" indent="-226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2" marL="705600" indent="-190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3" marL="944280" indent="-2386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4" marL="1172520" indent="-226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5" marL="1172520" indent="-22608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6" marL="1172520" indent="-22608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3" descr="blueband.tif"/>
          <p:cNvPicPr/>
          <p:nvPr/>
        </p:nvPicPr>
        <p:blipFill>
          <a:blip r:embed="rId3"/>
          <a:stretch/>
        </p:blipFill>
        <p:spPr>
          <a:xfrm>
            <a:off x="0" y="6016680"/>
            <a:ext cx="8128080" cy="4762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4" descr="Silverlight_logo.png"/>
          <p:cNvPicPr/>
          <p:nvPr/>
        </p:nvPicPr>
        <p:blipFill>
          <a:blip r:embed="rId4"/>
          <a:stretch/>
        </p:blipFill>
        <p:spPr>
          <a:xfrm>
            <a:off x="7383600" y="6053040"/>
            <a:ext cx="1379520" cy="44784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700" spc="-1" strike="noStrike">
                <a:solidFill>
                  <a:srgbClr val="125ca7"/>
                </a:solidFill>
                <a:latin typeface="Segoe Light"/>
              </a:rPr>
              <a:t>Click to edit the title text format</a:t>
            </a: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60000" y="1203120"/>
            <a:ext cx="838188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5840" indent="-2858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1" marL="513720" indent="-226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2" marL="705600" indent="-190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3" marL="944280" indent="-2386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4" marL="1172520" indent="-226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5" marL="1172520" indent="-22608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6" marL="1172520" indent="-22608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jpe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hyperlink" Target="http://www.microsoft.com/silverlight" TargetMode="External"/><Relationship Id="rId10" Type="http://schemas.openxmlformats.org/officeDocument/2006/relationships/image" Target="../media/image20.png"/><Relationship Id="rId11" Type="http://schemas.openxmlformats.org/officeDocument/2006/relationships/slideLayout" Target="../slideLayouts/slideLayout133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image" Target="../media/image27.png"/><Relationship Id="rId13" Type="http://schemas.openxmlformats.org/officeDocument/2006/relationships/image" Target="../media/image28.png"/><Relationship Id="rId14" Type="http://schemas.openxmlformats.org/officeDocument/2006/relationships/image" Target="../media/image29.png"/><Relationship Id="rId15" Type="http://schemas.openxmlformats.org/officeDocument/2006/relationships/slideLayout" Target="../slideLayouts/slideLayout133.xml"/><Relationship Id="rId1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1.png"/><Relationship Id="rId5" Type="http://schemas.openxmlformats.org/officeDocument/2006/relationships/image" Target="../media/image34.png"/><Relationship Id="rId6" Type="http://schemas.openxmlformats.org/officeDocument/2006/relationships/image" Target="../media/image33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133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slideLayout" Target="../slideLayouts/slideLayout13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3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1.png"/><Relationship Id="rId3" Type="http://schemas.openxmlformats.org/officeDocument/2006/relationships/image" Target="../media/image41.png"/><Relationship Id="rId4" Type="http://schemas.openxmlformats.org/officeDocument/2006/relationships/image" Target="../media/image41.png"/><Relationship Id="rId5" Type="http://schemas.openxmlformats.org/officeDocument/2006/relationships/package" Target="../embeddings/oleObject1.xlsx"/><Relationship Id="rId6" Type="http://schemas.openxmlformats.org/officeDocument/2006/relationships/image" Target="../media/image42.wmf"/><Relationship Id="rId7" Type="http://schemas.openxmlformats.org/officeDocument/2006/relationships/slideLayout" Target="../slideLayouts/slideLayout13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Title 1"/>
          <p:cNvSpPr/>
          <p:nvPr/>
        </p:nvSpPr>
        <p:spPr>
          <a:xfrm>
            <a:off x="380880" y="3542400"/>
            <a:ext cx="834228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4000" spc="-1" strike="noStrike">
                <a:solidFill>
                  <a:srgbClr val="125ca7"/>
                </a:solidFill>
                <a:latin typeface="Segoe Light"/>
                <a:ea typeface="宋体"/>
              </a:rPr>
              <a:t>国外微软企业</a:t>
            </a:r>
            <a:r>
              <a:rPr b="0" lang="en-US" sz="4000" spc="-1" strike="noStrike">
                <a:solidFill>
                  <a:srgbClr val="125ca7"/>
                </a:solidFill>
                <a:latin typeface="Segoe Light"/>
                <a:ea typeface="宋体"/>
              </a:rPr>
              <a:t>PPT</a:t>
            </a:r>
            <a:r>
              <a:rPr b="0" lang="zh-CN" sz="4000" spc="-1" strike="noStrike">
                <a:solidFill>
                  <a:srgbClr val="125ca7"/>
                </a:solidFill>
                <a:latin typeface="Segoe Light"/>
                <a:ea typeface="宋体"/>
              </a:rPr>
              <a:t>模板完整版免费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Subtitle 2"/>
          <p:cNvSpPr/>
          <p:nvPr/>
        </p:nvSpPr>
        <p:spPr>
          <a:xfrm>
            <a:off x="1033560" y="4175280"/>
            <a:ext cx="7689600" cy="3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CA" sz="2300" spc="-1" strike="noStrike">
                <a:solidFill>
                  <a:srgbClr val="817c77"/>
                </a:solidFill>
                <a:latin typeface="Segoe"/>
              </a:rPr>
              <a:t>An Introduction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ubTitle"/>
          </p:nvPr>
        </p:nvSpPr>
        <p:spPr>
          <a:xfrm>
            <a:off x="880560" y="4022280"/>
            <a:ext cx="768996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zh-CN" sz="2300" spc="-1" strike="noStrike">
              <a:solidFill>
                <a:srgbClr val="817c77"/>
              </a:solidFill>
              <a:latin typeface="Segoe"/>
              <a:ea typeface="宋体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494000" y="998640"/>
            <a:ext cx="6156000" cy="5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3700" spc="-1" strike="noStrike">
                <a:solidFill>
                  <a:srgbClr val="125ca7"/>
                </a:solidFill>
                <a:latin typeface="Segoe Light"/>
              </a:rPr>
              <a:t>使用规范说明</a:t>
            </a: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1224000" y="1809360"/>
            <a:ext cx="6696000" cy="51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Segoe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Sego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Sego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Segoe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Segoe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Segoe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Segoe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Segoe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Segoe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Segoe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Segoe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Segoe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Segoe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Segoe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Segoe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Segoe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Segoe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Segoe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Segoe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Segoe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Segoe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Segoe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Segoe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Segoe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Segoe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Segoe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Segoe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Segoe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Segoe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Segoe"/>
              </a:rPr>
              <a:t> </a:t>
            </a:r>
            <a:r>
              <a:rPr b="0" lang="zh-CN" sz="1000" spc="-1" strike="noStrike" u="sng">
                <a:solidFill>
                  <a:srgbClr val="54b0e2"/>
                </a:solidFill>
                <a:uFillTx/>
                <a:latin typeface="Segoe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54b0e2"/>
                </a:solidFill>
                <a:uFillTx/>
                <a:latin typeface="Segoe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Segoe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Sego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Sego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600" spc="-1" strike="noStrike">
              <a:solidFill>
                <a:srgbClr val="000000"/>
              </a:solidFill>
              <a:latin typeface="Sego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Segoe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Sego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900" spc="-1" strike="noStrike">
              <a:solidFill>
                <a:srgbClr val="000000"/>
              </a:solidFill>
              <a:latin typeface="Sego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Segoe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Segoe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Segoe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Sego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600" spc="-1" strike="noStrike">
              <a:solidFill>
                <a:srgbClr val="000000"/>
              </a:solidFill>
              <a:latin typeface="Sego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600" spc="-1" strike="noStrike">
              <a:solidFill>
                <a:srgbClr val="000000"/>
              </a:solidFill>
              <a:latin typeface="Sego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600" spc="-1" strike="noStrike">
              <a:solidFill>
                <a:srgbClr val="000000"/>
              </a:solidFill>
              <a:latin typeface="Segoe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Segoe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Segoe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900" spc="-1" strike="noStrike" u="sng">
                <a:solidFill>
                  <a:srgbClr val="54b0e2"/>
                </a:solidFill>
                <a:uFillTx/>
                <a:latin typeface="Segoe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Segoe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Segoe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Segoe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Segoe"/>
              </a:rPr>
              <a:t>             </a:t>
            </a:r>
            <a:r>
              <a:rPr b="0" lang="zh-CN" sz="900" spc="-1" strike="noStrike" u="sng">
                <a:solidFill>
                  <a:srgbClr val="54b0e2"/>
                </a:solidFill>
                <a:uFillTx/>
                <a:latin typeface="Segoe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Segoe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Segoe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Segoe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900" spc="-1" strike="noStrike" u="sng">
                <a:solidFill>
                  <a:srgbClr val="54b0e2"/>
                </a:solidFill>
                <a:uFillTx/>
                <a:latin typeface="Segoe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Segoe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Segoe"/>
              </a:rPr>
              <a:t>http://www.eeppt.com/moban/           </a:t>
            </a:r>
            <a:r>
              <a:rPr b="0" lang="zh-CN" sz="900" spc="-1" strike="noStrike" u="sng">
                <a:solidFill>
                  <a:srgbClr val="54b0e2"/>
                </a:solidFill>
                <a:uFillTx/>
                <a:latin typeface="Segoe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Segoe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Segoe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Segoe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900" spc="-1" strike="noStrike" u="sng">
                <a:solidFill>
                  <a:srgbClr val="54b0e2"/>
                </a:solidFill>
                <a:uFillTx/>
                <a:latin typeface="Segoe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Segoe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Segoe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54b0e2"/>
                </a:solidFill>
                <a:uFillTx/>
                <a:latin typeface="Segoe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Segoe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Segoe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Segoe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900" spc="-1" strike="noStrike" u="sng">
                <a:solidFill>
                  <a:srgbClr val="54b0e2"/>
                </a:solidFill>
                <a:uFillTx/>
                <a:latin typeface="Segoe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Segoe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Segoe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54b0e2"/>
                </a:solidFill>
                <a:uFillTx/>
                <a:latin typeface="Segoe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Segoe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Segoe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Segoe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900" spc="-1" strike="noStrike" u="sng">
                <a:solidFill>
                  <a:srgbClr val="54b0e2"/>
                </a:solidFill>
                <a:uFillTx/>
                <a:latin typeface="Segoe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Segoe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Segoe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54b0e2"/>
                </a:solidFill>
                <a:uFillTx/>
                <a:latin typeface="Segoe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Segoe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Segoe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Segoe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900" spc="-1" strike="noStrike" u="sng">
                <a:solidFill>
                  <a:srgbClr val="54b0e2"/>
                </a:solidFill>
                <a:uFillTx/>
                <a:latin typeface="Segoe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Segoe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Segoe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54b0e2"/>
                </a:solidFill>
                <a:uFillTx/>
                <a:latin typeface="Segoe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Segoe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Segoe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Segoe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Segoe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Segoe"/>
              </a:rPr>
              <a:t>图表下载  </a:t>
            </a:r>
            <a:r>
              <a:rPr b="0" lang="zh-CN" sz="900" spc="-1" strike="noStrike">
                <a:solidFill>
                  <a:srgbClr val="ededed"/>
                </a:solidFill>
                <a:latin typeface="Segoe"/>
              </a:rPr>
              <a:t>http://www.eeppt.com/tubiao/                                    </a:t>
            </a:r>
            <a:r>
              <a:rPr b="0" lang="zh-CN" sz="900" spc="-1" strike="noStrike">
                <a:solidFill>
                  <a:srgbClr val="ededed"/>
                </a:solidFill>
                <a:latin typeface="Segoe"/>
              </a:rPr>
              <a:t>自然风景</a:t>
            </a:r>
            <a:r>
              <a:rPr b="0" lang="zh-CN" sz="900" spc="-1" strike="noStrike">
                <a:solidFill>
                  <a:srgbClr val="ededed"/>
                </a:solidFill>
                <a:latin typeface="Segoe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Segoe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Segoe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Segoe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Segoe"/>
              </a:rPr>
              <a:t>国外</a:t>
            </a:r>
            <a:r>
              <a:rPr b="0" lang="zh-CN" sz="900" spc="-1" strike="noStrike">
                <a:solidFill>
                  <a:srgbClr val="ededed"/>
                </a:solidFill>
                <a:latin typeface="Segoe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Segoe"/>
              </a:rPr>
              <a:t>模板下载  </a:t>
            </a:r>
            <a:r>
              <a:rPr b="0" lang="zh-CN" sz="900" spc="-1" strike="noStrike">
                <a:solidFill>
                  <a:srgbClr val="ededed"/>
                </a:solidFill>
                <a:latin typeface="Segoe"/>
              </a:rPr>
              <a:t>http://www.eeppt.com/moban/guowai/            </a:t>
            </a:r>
            <a:r>
              <a:rPr b="0" lang="zh-CN" sz="900" spc="-1" strike="noStrike">
                <a:solidFill>
                  <a:srgbClr val="ededed"/>
                </a:solidFill>
                <a:latin typeface="Segoe"/>
              </a:rPr>
              <a:t>简洁</a:t>
            </a:r>
            <a:r>
              <a:rPr b="0" lang="zh-CN" sz="900" spc="-1" strike="noStrike">
                <a:solidFill>
                  <a:srgbClr val="ededed"/>
                </a:solidFill>
                <a:latin typeface="Segoe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Segoe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Segoe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Segoe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Segoe"/>
              </a:rPr>
              <a:t>公司会议</a:t>
            </a:r>
            <a:r>
              <a:rPr b="0" lang="zh-CN" sz="900" spc="-1" strike="noStrike">
                <a:solidFill>
                  <a:srgbClr val="ededed"/>
                </a:solidFill>
                <a:latin typeface="Segoe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Segoe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Segoe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Segoe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Segoe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Segoe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Segoe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Segoe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Segoe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Segoe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Segoe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Segoe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Segoe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Segoe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Segoe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Segoe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Segoe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Segoe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Segoe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Segoe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Segoe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Segoe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Segoe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Segoe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Segoe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Segoe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900" spc="-1" strike="noStrike">
              <a:solidFill>
                <a:srgbClr val="000000"/>
              </a:solidFill>
              <a:latin typeface="Segoe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900" spc="-1" strike="noStrike">
              <a:solidFill>
                <a:srgbClr val="000000"/>
              </a:solidFill>
              <a:latin typeface="Segoe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900" spc="-1" strike="noStrike">
              <a:solidFill>
                <a:srgbClr val="000000"/>
              </a:solidFill>
              <a:latin typeface="Segoe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900" spc="-1" strike="noStrike">
              <a:solidFill>
                <a:srgbClr val="000000"/>
              </a:solidFill>
              <a:latin typeface="Segoe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900" spc="-1" strike="noStrike">
              <a:solidFill>
                <a:srgbClr val="000000"/>
              </a:solidFill>
              <a:latin typeface="Segoe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9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74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IE Icon" descr="I:\Illustrations-Icons\Windows_Vista_Icons_ for_Marketing_use\IE7.png"/>
          <p:cNvPicPr/>
          <p:nvPr/>
        </p:nvPicPr>
        <p:blipFill>
          <a:blip r:embed="rId1"/>
          <a:stretch/>
        </p:blipFill>
        <p:spPr>
          <a:xfrm>
            <a:off x="1792440" y="800280"/>
            <a:ext cx="529920" cy="529920"/>
          </a:xfrm>
          <a:prstGeom prst="rect">
            <a:avLst/>
          </a:prstGeom>
          <a:ln w="0">
            <a:noFill/>
          </a:ln>
        </p:spPr>
      </p:pic>
      <p:pic>
        <p:nvPicPr>
          <p:cNvPr id="604" name="Opera Icon" descr="I:\LOGOS\GEN_LOGO\O\Opera_logo4_t.png"/>
          <p:cNvPicPr/>
          <p:nvPr/>
        </p:nvPicPr>
        <p:blipFill>
          <a:blip r:embed="rId2"/>
          <a:srcRect l="0" t="0" r="56728" b="2808"/>
          <a:stretch/>
        </p:blipFill>
        <p:spPr>
          <a:xfrm>
            <a:off x="1752480" y="3200400"/>
            <a:ext cx="446040" cy="380880"/>
          </a:xfrm>
          <a:prstGeom prst="rect">
            <a:avLst/>
          </a:prstGeom>
          <a:ln w="0">
            <a:noFill/>
          </a:ln>
          <a:effectLst>
            <a:outerShdw dist="25318" dir="1790755" blurRad="0" rotWithShape="0">
              <a:srgbClr val="000000"/>
            </a:outerShdw>
          </a:effectLst>
        </p:spPr>
      </p:pic>
      <p:pic>
        <p:nvPicPr>
          <p:cNvPr id="605" name="Firefox Icon" descr="I:\LOGOS\GEN_LOGO\F\firefox logo white text.png"/>
          <p:cNvPicPr/>
          <p:nvPr/>
        </p:nvPicPr>
        <p:blipFill>
          <a:blip r:embed="rId3"/>
          <a:srcRect l="0" t="0" r="57791" b="2432"/>
          <a:stretch/>
        </p:blipFill>
        <p:spPr>
          <a:xfrm>
            <a:off x="1841400" y="167652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606" name="Safari Icon" descr="I:\SHOW_ART\Executive_Show_Art\06_EXECUTIVE_SHOW_ART\Rudder - 110706 TechEd EMEA\PNGs\Logos\Safari-RSS-BLK.png"/>
          <p:cNvPicPr/>
          <p:nvPr/>
        </p:nvPicPr>
        <p:blipFill>
          <a:blip r:embed="rId4"/>
          <a:srcRect l="0" t="0" r="59271" b="-2575"/>
          <a:stretch/>
        </p:blipFill>
        <p:spPr>
          <a:xfrm>
            <a:off x="1827360" y="2438280"/>
            <a:ext cx="460080" cy="455760"/>
          </a:xfrm>
          <a:prstGeom prst="rect">
            <a:avLst/>
          </a:prstGeom>
          <a:ln w="0">
            <a:noFill/>
          </a:ln>
        </p:spPr>
      </p:pic>
      <p:pic>
        <p:nvPicPr>
          <p:cNvPr id="607" name="Vista Icon" descr=""/>
          <p:cNvPicPr/>
          <p:nvPr/>
        </p:nvPicPr>
        <p:blipFill>
          <a:blip r:embed="rId5"/>
          <a:stretch/>
        </p:blipFill>
        <p:spPr>
          <a:xfrm>
            <a:off x="6362640" y="1330200"/>
            <a:ext cx="530280" cy="528840"/>
          </a:xfrm>
          <a:prstGeom prst="rect">
            <a:avLst/>
          </a:prstGeom>
          <a:ln w="0">
            <a:noFill/>
          </a:ln>
        </p:spPr>
      </p:pic>
      <p:grpSp>
        <p:nvGrpSpPr>
          <p:cNvPr id="608" name="Apple Icon"/>
          <p:cNvGrpSpPr/>
          <p:nvPr/>
        </p:nvGrpSpPr>
        <p:grpSpPr>
          <a:xfrm>
            <a:off x="6362640" y="2320920"/>
            <a:ext cx="442800" cy="493560"/>
            <a:chOff x="6362640" y="2320920"/>
            <a:chExt cx="442800" cy="493560"/>
          </a:xfrm>
        </p:grpSpPr>
        <p:sp>
          <p:nvSpPr>
            <p:cNvPr id="609" name="Background Fix"/>
            <p:cNvSpPr/>
            <p:nvPr/>
          </p:nvSpPr>
          <p:spPr>
            <a:xfrm>
              <a:off x="6362640" y="2320920"/>
              <a:ext cx="442800" cy="493560"/>
            </a:xfrm>
            <a:custGeom>
              <a:avLst/>
              <a:gdLst>
                <a:gd name="textAreaLeft" fmla="*/ 32760 w 442800"/>
                <a:gd name="textAreaRight" fmla="*/ 410040 w 442800"/>
                <a:gd name="textAreaTop" fmla="*/ 32760 h 493560"/>
                <a:gd name="textAreaBottom" fmla="*/ 460800 h 493560"/>
              </a:gdLst>
              <a:ahLst/>
              <a:rect l="textAreaLeft" t="textAreaTop" r="textAreaRight" b="textAreaBottom"/>
              <a:pathLst>
                <a:path w="21600" h="24074">
                  <a:moveTo>
                    <a:pt x="5472" y="0"/>
                  </a:moveTo>
                  <a:arcTo wR="5472" hR="5472" stAng="16200000" swAng="-5400000"/>
                  <a:lnTo>
                    <a:pt x="0" y="18602"/>
                  </a:lnTo>
                  <a:arcTo wR="5472" hR="5472" stAng="10800000" swAng="-5400000"/>
                  <a:lnTo>
                    <a:pt x="16128" y="24074"/>
                  </a:lnTo>
                  <a:arcTo wR="5472" hR="5472" stAng="5400000" swAng="-5400000"/>
                  <a:lnTo>
                    <a:pt x="21600" y="5472"/>
                  </a:lnTo>
                  <a:arcTo wR="5472" hR="5472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10" name="Icon" descr="http://www.globalpov.com/images/apple.jpg"/>
            <p:cNvPicPr/>
            <p:nvPr/>
          </p:nvPicPr>
          <p:blipFill>
            <a:blip r:embed="rId6"/>
            <a:stretch/>
          </p:blipFill>
          <p:spPr>
            <a:xfrm>
              <a:off x="6400440" y="2347920"/>
              <a:ext cx="344880" cy="429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11" name="Picture 2" descr=""/>
          <p:cNvPicPr/>
          <p:nvPr/>
        </p:nvPicPr>
        <p:blipFill>
          <a:blip r:embed="rId7"/>
          <a:stretch/>
        </p:blipFill>
        <p:spPr>
          <a:xfrm>
            <a:off x="1892160" y="3962520"/>
            <a:ext cx="330480" cy="31104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3" descr=""/>
          <p:cNvPicPr/>
          <p:nvPr/>
        </p:nvPicPr>
        <p:blipFill>
          <a:blip r:embed="rId8"/>
          <a:stretch/>
        </p:blipFill>
        <p:spPr>
          <a:xfrm>
            <a:off x="6288120" y="3311640"/>
            <a:ext cx="517320" cy="60012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3" descr="Microsoft Silverlight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754440" y="1752480"/>
            <a:ext cx="1635120" cy="1817640"/>
          </a:xfrm>
          <a:prstGeom prst="rect">
            <a:avLst/>
          </a:prstGeom>
          <a:ln w="0">
            <a:noFill/>
          </a:ln>
        </p:spPr>
      </p:pic>
      <p:sp>
        <p:nvSpPr>
          <p:cNvPr id="614" name="Rectangle 18"/>
          <p:cNvSpPr/>
          <p:nvPr/>
        </p:nvSpPr>
        <p:spPr>
          <a:xfrm>
            <a:off x="1632600" y="4735440"/>
            <a:ext cx="587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25ca7"/>
                </a:solidFill>
                <a:latin typeface="Segoe"/>
                <a:ea typeface="宋体"/>
              </a:rPr>
              <a:t>Silverlight is a cross-browser, cross-platform plug-in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Rectangle 19"/>
          <p:cNvSpPr/>
          <p:nvPr/>
        </p:nvSpPr>
        <p:spPr>
          <a:xfrm>
            <a:off x="419040" y="5221440"/>
            <a:ext cx="830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Segoe"/>
                <a:ea typeface="宋体"/>
              </a:rPr>
              <a:t>* </a:t>
            </a:r>
            <a:r>
              <a:rPr b="0" lang="en-US" sz="1200" spc="-1" strike="noStrike">
                <a:solidFill>
                  <a:srgbClr val="7f7f7f"/>
                </a:solidFill>
                <a:latin typeface="Segoe"/>
                <a:ea typeface="宋体"/>
              </a:rPr>
              <a:t>An auxiliary program that works with a software package to enhance its capability. For example, plug-ins used in Photoshop to add a filter for some special effect. Other examples of Plug-ins are Macromedia Flash, Digital Video Express(Divx) Player plug-in, Windows Media Player etc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Title 5"/>
          <p:cNvSpPr/>
          <p:nvPr/>
        </p:nvSpPr>
        <p:spPr>
          <a:xfrm>
            <a:off x="609480" y="0"/>
            <a:ext cx="803124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4960" indent="-534960" algn="r">
              <a:lnSpc>
                <a:spcPct val="2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CA" sz="4000" spc="-1" strike="noStrike">
                <a:solidFill>
                  <a:srgbClr val="125ca7"/>
                </a:solidFill>
                <a:latin typeface="Segoe Light"/>
              </a:rPr>
              <a:t>Why it’s time for Silverligh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Rectangle 6"/>
          <p:cNvSpPr/>
          <p:nvPr/>
        </p:nvSpPr>
        <p:spPr>
          <a:xfrm>
            <a:off x="2286000" y="1440000"/>
            <a:ext cx="6705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2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125ca7"/>
                </a:solidFill>
                <a:latin typeface="Segoe"/>
                <a:ea typeface="宋体"/>
              </a:rPr>
              <a:t>Run on all popular browsers and 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lnSpc>
                <a:spcPct val="2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125ca7"/>
                </a:solidFill>
                <a:latin typeface="Segoe"/>
                <a:ea typeface="宋体"/>
              </a:rPr>
              <a:t>Consistent experience irrespective of platfo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lnSpc>
                <a:spcPct val="2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125ca7"/>
                </a:solidFill>
                <a:latin typeface="Segoe"/>
                <a:ea typeface="宋体"/>
              </a:rPr>
              <a:t>Supports AJAX methodology for rich Internet applic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lnSpc>
                <a:spcPct val="2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125ca7"/>
                </a:solidFill>
                <a:latin typeface="Segoe"/>
                <a:ea typeface="宋体"/>
              </a:rPr>
              <a:t>Includes compelling graphics, 2D vector &amp; anim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lnSpc>
                <a:spcPct val="2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125ca7"/>
                </a:solidFill>
                <a:latin typeface="Segoe"/>
                <a:ea typeface="宋体"/>
              </a:rPr>
              <a:t>Streams video/audio and scales video quality from mobile device to 720 HDTV video mo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lnSpc>
                <a:spcPct val="200000"/>
              </a:lnSpc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125ca7"/>
                </a:solidFill>
                <a:latin typeface="Segoe"/>
                <a:ea typeface="宋体"/>
              </a:rPr>
              <a:t>Small download 4 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8" name="Picture 7" descr="WinFX_WPF__18a"/>
          <p:cNvPicPr/>
          <p:nvPr/>
        </p:nvPicPr>
        <p:blipFill>
          <a:blip r:embed="rId7"/>
          <a:stretch/>
        </p:blipFill>
        <p:spPr>
          <a:xfrm>
            <a:off x="762120" y="762120"/>
            <a:ext cx="1074600" cy="103032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8" descr="WinFX_WPF__18c"/>
          <p:cNvPicPr/>
          <p:nvPr/>
        </p:nvPicPr>
        <p:blipFill>
          <a:blip r:embed="rId8"/>
          <a:stretch/>
        </p:blipFill>
        <p:spPr>
          <a:xfrm>
            <a:off x="879480" y="1841400"/>
            <a:ext cx="957240" cy="91440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9" descr="WinFX_WPF__18d"/>
          <p:cNvPicPr/>
          <p:nvPr/>
        </p:nvPicPr>
        <p:blipFill>
          <a:blip r:embed="rId9"/>
          <a:stretch/>
        </p:blipFill>
        <p:spPr>
          <a:xfrm>
            <a:off x="762120" y="4343400"/>
            <a:ext cx="1179360" cy="1325520"/>
          </a:xfrm>
          <a:prstGeom prst="rect">
            <a:avLst/>
          </a:prstGeom>
          <a:ln w="0">
            <a:noFill/>
          </a:ln>
        </p:spPr>
      </p:pic>
      <p:grpSp>
        <p:nvGrpSpPr>
          <p:cNvPr id="621" name="Group 10"/>
          <p:cNvGrpSpPr/>
          <p:nvPr/>
        </p:nvGrpSpPr>
        <p:grpSpPr>
          <a:xfrm>
            <a:off x="609480" y="3054240"/>
            <a:ext cx="466920" cy="378000"/>
            <a:chOff x="609480" y="3054240"/>
            <a:chExt cx="466920" cy="378000"/>
          </a:xfrm>
        </p:grpSpPr>
        <p:pic>
          <p:nvPicPr>
            <p:cNvPr id="622" name="Picture 11" descr="WinFX__01a"/>
            <p:cNvPicPr/>
            <p:nvPr/>
          </p:nvPicPr>
          <p:blipFill>
            <a:blip r:embed="rId10">
              <a:alphaModFix amt="0"/>
            </a:blip>
            <a:stretch/>
          </p:blipFill>
          <p:spPr>
            <a:xfrm>
              <a:off x="609480" y="3236040"/>
              <a:ext cx="466920" cy="19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3" name="Picture 12" descr="WinFX_WPF__18b"/>
            <p:cNvPicPr/>
            <p:nvPr/>
          </p:nvPicPr>
          <p:blipFill>
            <a:blip r:embed="rId11"/>
            <a:stretch/>
          </p:blipFill>
          <p:spPr>
            <a:xfrm>
              <a:off x="716760" y="3054240"/>
              <a:ext cx="249840" cy="280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4" name="Group 13"/>
          <p:cNvGrpSpPr/>
          <p:nvPr/>
        </p:nvGrpSpPr>
        <p:grpSpPr>
          <a:xfrm>
            <a:off x="762120" y="3206880"/>
            <a:ext cx="1179360" cy="907560"/>
            <a:chOff x="762120" y="3206880"/>
            <a:chExt cx="1179360" cy="907560"/>
          </a:xfrm>
        </p:grpSpPr>
        <p:pic>
          <p:nvPicPr>
            <p:cNvPr id="625" name="Picture 14" descr="WinFX__01a"/>
            <p:cNvPicPr/>
            <p:nvPr/>
          </p:nvPicPr>
          <p:blipFill>
            <a:blip r:embed="rId12">
              <a:alphaModFix amt="0"/>
            </a:blip>
            <a:stretch/>
          </p:blipFill>
          <p:spPr>
            <a:xfrm>
              <a:off x="762120" y="3643560"/>
              <a:ext cx="1179360" cy="47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6" name="Picture 15" descr="WinFX_WPF__18b"/>
            <p:cNvPicPr/>
            <p:nvPr/>
          </p:nvPicPr>
          <p:blipFill>
            <a:blip r:embed="rId13"/>
            <a:stretch/>
          </p:blipFill>
          <p:spPr>
            <a:xfrm>
              <a:off x="1033200" y="3206880"/>
              <a:ext cx="630720" cy="673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27" name="Picture 16" descr="WinFX_WPF__18d"/>
          <p:cNvPicPr/>
          <p:nvPr/>
        </p:nvPicPr>
        <p:blipFill>
          <a:blip r:embed="rId14"/>
          <a:stretch/>
        </p:blipFill>
        <p:spPr>
          <a:xfrm>
            <a:off x="423720" y="4000680"/>
            <a:ext cx="455760" cy="512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115 -7.51445E-007 L 4.16667E-006 -7.51445E-007 E">
                                      <p:cBhvr>
                                        <p:cTn id="9" dur="1000" fill="hold"/>
                                        <p:tgtEl>
                                          <p:spTgt spid="6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316 4.62428E-007 L 2.77778E-007 4.62428E-007 E">
                                      <p:cBhvr>
                                        <p:cTn id="15" dur="1000" fill="hold"/>
                                        <p:tgtEl>
                                          <p:spTgt spid="6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577 -7.51445E-007 L 4.16667E-006 -7.51445E-007 E">
                                      <p:cBhvr>
                                        <p:cTn id="21" dur="1000" fill="hold"/>
                                        <p:tgtEl>
                                          <p:spTgt spid="6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045 4.62428E-007 L 2.77778E-007 4.62428E-007 E">
                                      <p:cBhvr>
                                        <p:cTn id="27" dur="1000" fill="hold"/>
                                        <p:tgtEl>
                                          <p:spTgt spid="6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316 4.62428E-007 L 2.77778E-007 4.62428E-007 E">
                                      <p:cBhvr>
                                        <p:cTn id="33" dur="1000" fill="hold"/>
                                        <p:tgtEl>
                                          <p:spTgt spid="6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045 4.62428E-007 L 2.77778E-007 4.62428E-007 E">
                                      <p:cBhvr>
                                        <p:cTn id="39" dur="1000" fill="hold"/>
                                        <p:tgtEl>
                                          <p:spTgt spid="6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Title 5"/>
          <p:cNvSpPr/>
          <p:nvPr/>
        </p:nvSpPr>
        <p:spPr>
          <a:xfrm>
            <a:off x="609480" y="0"/>
            <a:ext cx="803124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4960" indent="-534960" algn="r">
              <a:lnSpc>
                <a:spcPct val="2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CA" sz="4000" spc="-1" strike="noStrike">
                <a:solidFill>
                  <a:srgbClr val="125ca7"/>
                </a:solidFill>
                <a:latin typeface="Segoe Light"/>
              </a:rPr>
              <a:t>Programming Languag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9" name="Diagram 5" descr=""/>
          <p:cNvPicPr/>
          <p:nvPr/>
        </p:nvPicPr>
        <p:blipFill>
          <a:blip r:embed="rId1"/>
          <a:stretch/>
        </p:blipFill>
        <p:spPr>
          <a:xfrm>
            <a:off x="2066760" y="1395360"/>
            <a:ext cx="5010480" cy="3176640"/>
          </a:xfrm>
          <a:prstGeom prst="rect">
            <a:avLst/>
          </a:prstGeom>
          <a:ln w="0">
            <a:noFill/>
          </a:ln>
        </p:spPr>
      </p:pic>
      <p:sp>
        <p:nvSpPr>
          <p:cNvPr id="630" name="Rectangle 6"/>
          <p:cNvSpPr/>
          <p:nvPr/>
        </p:nvSpPr>
        <p:spPr>
          <a:xfrm>
            <a:off x="1371600" y="5411880"/>
            <a:ext cx="5410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egoe"/>
                <a:ea typeface="宋体"/>
              </a:rPr>
              <a:t>XAML</a:t>
            </a:r>
            <a:r>
              <a:rPr b="0" lang="en-US" sz="1400" spc="-1" strike="noStrike">
                <a:solidFill>
                  <a:srgbClr val="125ca7"/>
                </a:solidFill>
                <a:latin typeface="Segoe"/>
                <a:ea typeface="宋体"/>
              </a:rPr>
              <a:t>- core of Silverlight for Rich User interfac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egoe"/>
                <a:ea typeface="宋体"/>
              </a:rPr>
              <a:t>All other </a:t>
            </a:r>
            <a:r>
              <a:rPr b="0" lang="en-US" sz="1400" spc="-1" strike="noStrike">
                <a:solidFill>
                  <a:srgbClr val="125ca7"/>
                </a:solidFill>
                <a:latin typeface="Segoe"/>
                <a:ea typeface="宋体"/>
              </a:rPr>
              <a:t> - for programming logi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1" name="Group 3"/>
          <p:cNvGrpSpPr/>
          <p:nvPr/>
        </p:nvGrpSpPr>
        <p:grpSpPr>
          <a:xfrm>
            <a:off x="484200" y="1063800"/>
            <a:ext cx="7802640" cy="1908000"/>
            <a:chOff x="484200" y="1063800"/>
            <a:chExt cx="7802640" cy="1908000"/>
          </a:xfrm>
        </p:grpSpPr>
        <p:grpSp>
          <p:nvGrpSpPr>
            <p:cNvPr id="632" name="Group 4"/>
            <p:cNvGrpSpPr/>
            <p:nvPr/>
          </p:nvGrpSpPr>
          <p:grpSpPr>
            <a:xfrm>
              <a:off x="484200" y="1063800"/>
              <a:ext cx="3200040" cy="1908000"/>
              <a:chOff x="484200" y="1063800"/>
              <a:chExt cx="3200040" cy="1908000"/>
            </a:xfrm>
          </p:grpSpPr>
          <p:grpSp>
            <p:nvGrpSpPr>
              <p:cNvPr id="633" name="Group 5"/>
              <p:cNvGrpSpPr/>
              <p:nvPr/>
            </p:nvGrpSpPr>
            <p:grpSpPr>
              <a:xfrm>
                <a:off x="484200" y="1310400"/>
                <a:ext cx="3200040" cy="1661400"/>
                <a:chOff x="484200" y="1310400"/>
                <a:chExt cx="3200040" cy="1661400"/>
              </a:xfrm>
            </p:grpSpPr>
            <p:pic>
              <p:nvPicPr>
                <p:cNvPr id="634" name="Picture 6" descr="screen"/>
                <p:cNvPicPr/>
                <p:nvPr/>
              </p:nvPicPr>
              <p:blipFill>
                <a:blip r:embed="rId1"/>
                <a:srcRect l="0" t="0" r="0" b="28325"/>
                <a:stretch/>
              </p:blipFill>
              <p:spPr>
                <a:xfrm>
                  <a:off x="484200" y="1310400"/>
                  <a:ext cx="2693880" cy="1661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35" name="Rectangle 7"/>
                <p:cNvSpPr/>
                <p:nvPr/>
              </p:nvSpPr>
              <p:spPr>
                <a:xfrm>
                  <a:off x="527040" y="1650960"/>
                  <a:ext cx="3157200" cy="100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125ca7"/>
                      </a:solidFill>
                      <a:latin typeface="Segoe"/>
                      <a:ea typeface="宋体"/>
                    </a:rPr>
                    <a:t>Button b1 = new Button();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125ca7"/>
                      </a:solidFill>
                      <a:latin typeface="Segoe"/>
                      <a:ea typeface="宋体"/>
                    </a:rPr>
                    <a:t>b1.Content = "OK";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125ca7"/>
                      </a:solidFill>
                      <a:latin typeface="Segoe"/>
                      <a:ea typeface="宋体"/>
                    </a:rPr>
                    <a:t>b1.Background = new SolidColorBrush(Colors.LightBlue);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125ca7"/>
                      </a:solidFill>
                      <a:latin typeface="Segoe"/>
                      <a:ea typeface="宋体"/>
                    </a:rPr>
                    <a:t>b1.Width = 100;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636" name="Picture 8" descr="C#"/>
              <p:cNvPicPr/>
              <p:nvPr/>
            </p:nvPicPr>
            <p:blipFill>
              <a:blip r:embed="rId2"/>
              <a:stretch/>
            </p:blipFill>
            <p:spPr>
              <a:xfrm>
                <a:off x="588240" y="1063800"/>
                <a:ext cx="639720" cy="4233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37" name="Picture 9" descr="ok button"/>
            <p:cNvPicPr/>
            <p:nvPr/>
          </p:nvPicPr>
          <p:blipFill>
            <a:blip r:embed="rId3"/>
            <a:stretch/>
          </p:blipFill>
          <p:spPr>
            <a:xfrm>
              <a:off x="6123240" y="1447920"/>
              <a:ext cx="2163600" cy="1011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8" name="Group 12"/>
          <p:cNvGrpSpPr/>
          <p:nvPr/>
        </p:nvGrpSpPr>
        <p:grpSpPr>
          <a:xfrm>
            <a:off x="484200" y="3886200"/>
            <a:ext cx="7802640" cy="1676160"/>
            <a:chOff x="484200" y="3886200"/>
            <a:chExt cx="7802640" cy="1676160"/>
          </a:xfrm>
        </p:grpSpPr>
        <p:grpSp>
          <p:nvGrpSpPr>
            <p:cNvPr id="639" name="Group 13"/>
            <p:cNvGrpSpPr/>
            <p:nvPr/>
          </p:nvGrpSpPr>
          <p:grpSpPr>
            <a:xfrm>
              <a:off x="484200" y="3886200"/>
              <a:ext cx="2638440" cy="1676160"/>
              <a:chOff x="484200" y="3886200"/>
              <a:chExt cx="2638440" cy="1676160"/>
            </a:xfrm>
          </p:grpSpPr>
          <p:grpSp>
            <p:nvGrpSpPr>
              <p:cNvPr id="640" name="Group 14"/>
              <p:cNvGrpSpPr/>
              <p:nvPr/>
            </p:nvGrpSpPr>
            <p:grpSpPr>
              <a:xfrm>
                <a:off x="484200" y="4146120"/>
                <a:ext cx="2638440" cy="1416240"/>
                <a:chOff x="484200" y="4146120"/>
                <a:chExt cx="2638440" cy="1416240"/>
              </a:xfrm>
            </p:grpSpPr>
            <p:pic>
              <p:nvPicPr>
                <p:cNvPr id="641" name="Picture 15" descr="screen"/>
                <p:cNvPicPr/>
                <p:nvPr/>
              </p:nvPicPr>
              <p:blipFill>
                <a:blip r:embed="rId4"/>
                <a:srcRect l="0" t="0" r="0" b="28325"/>
                <a:stretch/>
              </p:blipFill>
              <p:spPr>
                <a:xfrm>
                  <a:off x="484200" y="4146120"/>
                  <a:ext cx="2638440" cy="1416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42" name="Rectangle 16"/>
                <p:cNvSpPr/>
                <p:nvPr/>
              </p:nvSpPr>
              <p:spPr>
                <a:xfrm>
                  <a:off x="657000" y="4475160"/>
                  <a:ext cx="2250720" cy="100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125ca7"/>
                      </a:solidFill>
                      <a:latin typeface="Segoe"/>
                      <a:ea typeface="宋体"/>
                    </a:rPr>
                    <a:t>&lt;Button Width="100"&gt; OK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125ca7"/>
                      </a:solidFill>
                      <a:latin typeface="Segoe"/>
                      <a:ea typeface="宋体"/>
                    </a:rPr>
                    <a:t>  </a:t>
                  </a:r>
                  <a:r>
                    <a:rPr b="0" lang="en-US" sz="1200" spc="-1" strike="noStrike">
                      <a:solidFill>
                        <a:srgbClr val="125ca7"/>
                      </a:solidFill>
                      <a:latin typeface="Segoe"/>
                      <a:ea typeface="宋体"/>
                    </a:rPr>
                    <a:t>&lt;Button.Background&gt;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125ca7"/>
                      </a:solidFill>
                      <a:latin typeface="Segoe"/>
                      <a:ea typeface="宋体"/>
                    </a:rPr>
                    <a:t>    </a:t>
                  </a:r>
                  <a:r>
                    <a:rPr b="0" lang="en-US" sz="1200" spc="-1" strike="noStrike">
                      <a:solidFill>
                        <a:srgbClr val="125ca7"/>
                      </a:solidFill>
                      <a:latin typeface="Segoe"/>
                      <a:ea typeface="宋体"/>
                    </a:rPr>
                    <a:t>LightBlue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125ca7"/>
                      </a:solidFill>
                      <a:latin typeface="Segoe"/>
                      <a:ea typeface="宋体"/>
                    </a:rPr>
                    <a:t>  </a:t>
                  </a:r>
                  <a:r>
                    <a:rPr b="0" lang="en-US" sz="1200" spc="-1" strike="noStrike">
                      <a:solidFill>
                        <a:srgbClr val="125ca7"/>
                      </a:solidFill>
                      <a:latin typeface="Segoe"/>
                      <a:ea typeface="宋体"/>
                    </a:rPr>
                    <a:t>&lt;/Button.Background&gt;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125ca7"/>
                      </a:solidFill>
                      <a:latin typeface="Segoe"/>
                      <a:ea typeface="宋体"/>
                    </a:rPr>
                    <a:t>&lt;/Button&gt;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643" name="Picture 15" descr="XAML"/>
              <p:cNvPicPr/>
              <p:nvPr/>
            </p:nvPicPr>
            <p:blipFill>
              <a:blip r:embed="rId5"/>
              <a:stretch/>
            </p:blipFill>
            <p:spPr>
              <a:xfrm>
                <a:off x="556920" y="3886200"/>
                <a:ext cx="1370880" cy="4064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44" name="Picture 18" descr="ok button"/>
            <p:cNvPicPr/>
            <p:nvPr/>
          </p:nvPicPr>
          <p:blipFill>
            <a:blip r:embed="rId6"/>
            <a:stretch/>
          </p:blipFill>
          <p:spPr>
            <a:xfrm>
              <a:off x="6123240" y="4190760"/>
              <a:ext cx="2163600" cy="1011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Text Box 21"/>
          <p:cNvSpPr/>
          <p:nvPr/>
        </p:nvSpPr>
        <p:spPr>
          <a:xfrm>
            <a:off x="3648600" y="4556160"/>
            <a:ext cx="233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egoe"/>
                <a:ea typeface="宋体"/>
              </a:rPr>
              <a:t>Load, Parse, 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6" name="Right Arrow 21"/>
          <p:cNvGrpSpPr/>
          <p:nvPr/>
        </p:nvGrpSpPr>
        <p:grpSpPr>
          <a:xfrm>
            <a:off x="4102200" y="1932120"/>
            <a:ext cx="1135080" cy="639720"/>
            <a:chOff x="4102200" y="1932120"/>
            <a:chExt cx="1135080" cy="639720"/>
          </a:xfrm>
        </p:grpSpPr>
        <p:pic>
          <p:nvPicPr>
            <p:cNvPr id="647" name="Right Arrow 21" descr=""/>
            <p:cNvPicPr/>
            <p:nvPr/>
          </p:nvPicPr>
          <p:blipFill>
            <a:blip r:embed="rId7"/>
            <a:stretch/>
          </p:blipFill>
          <p:spPr>
            <a:xfrm>
              <a:off x="4102200" y="1932120"/>
              <a:ext cx="11350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8" name=""/>
            <p:cNvSpPr/>
            <p:nvPr/>
          </p:nvSpPr>
          <p:spPr>
            <a:xfrm>
              <a:off x="4179960" y="2095560"/>
              <a:ext cx="85716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9800" rIns="109800" tIns="54720" bIns="54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9" name="Right Arrow 22"/>
          <p:cNvGrpSpPr/>
          <p:nvPr/>
        </p:nvGrpSpPr>
        <p:grpSpPr>
          <a:xfrm>
            <a:off x="4017960" y="4883040"/>
            <a:ext cx="1133640" cy="646200"/>
            <a:chOff x="4017960" y="4883040"/>
            <a:chExt cx="1133640" cy="646200"/>
          </a:xfrm>
        </p:grpSpPr>
        <p:pic>
          <p:nvPicPr>
            <p:cNvPr id="650" name="Right Arrow 22" descr=""/>
            <p:cNvPicPr/>
            <p:nvPr/>
          </p:nvPicPr>
          <p:blipFill>
            <a:blip r:embed="rId8"/>
            <a:stretch/>
          </p:blipFill>
          <p:spPr>
            <a:xfrm>
              <a:off x="4017960" y="4883040"/>
              <a:ext cx="11336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1" name=""/>
            <p:cNvSpPr/>
            <p:nvPr/>
          </p:nvSpPr>
          <p:spPr>
            <a:xfrm>
              <a:off x="4095720" y="5046840"/>
              <a:ext cx="85716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9800" rIns="109800" tIns="54720" bIns="54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2" name="Title 5"/>
          <p:cNvSpPr/>
          <p:nvPr/>
        </p:nvSpPr>
        <p:spPr>
          <a:xfrm>
            <a:off x="609480" y="0"/>
            <a:ext cx="803124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4960" indent="-534960" algn="r">
              <a:lnSpc>
                <a:spcPct val="2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CA" sz="4000" spc="-1" strike="noStrike">
                <a:solidFill>
                  <a:srgbClr val="125ca7"/>
                </a:solidFill>
                <a:latin typeface="Segoe Light"/>
              </a:rPr>
              <a:t>XAML / C #/ JavaScript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Text Box 11"/>
          <p:cNvSpPr/>
          <p:nvPr/>
        </p:nvSpPr>
        <p:spPr>
          <a:xfrm>
            <a:off x="3778560" y="1487520"/>
            <a:ext cx="20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egoe"/>
                <a:ea typeface="宋体"/>
              </a:rPr>
              <a:t>Compile and Ru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indefinite"/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Picture 1" descr="FlashProgramming.png"/>
          <p:cNvPicPr/>
          <p:nvPr/>
        </p:nvPicPr>
        <p:blipFill>
          <a:blip r:embed="rId1"/>
          <a:stretch/>
        </p:blipFill>
        <p:spPr>
          <a:xfrm>
            <a:off x="0" y="838080"/>
            <a:ext cx="4060800" cy="495324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2" descr="SilverLightProgramming.png"/>
          <p:cNvPicPr/>
          <p:nvPr/>
        </p:nvPicPr>
        <p:blipFill>
          <a:blip r:embed="rId2"/>
          <a:stretch/>
        </p:blipFill>
        <p:spPr>
          <a:xfrm>
            <a:off x="3968640" y="838080"/>
            <a:ext cx="5175360" cy="5029200"/>
          </a:xfrm>
          <a:prstGeom prst="rect">
            <a:avLst/>
          </a:prstGeom>
          <a:ln w="0">
            <a:noFill/>
          </a:ln>
        </p:spPr>
      </p:pic>
      <p:sp>
        <p:nvSpPr>
          <p:cNvPr id="656" name="Title 5"/>
          <p:cNvSpPr/>
          <p:nvPr/>
        </p:nvSpPr>
        <p:spPr>
          <a:xfrm>
            <a:off x="1066680" y="76320"/>
            <a:ext cx="803124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4960" indent="-534960"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CA" sz="4000" spc="-1" strike="noStrike">
                <a:solidFill>
                  <a:srgbClr val="125ca7"/>
                </a:solidFill>
                <a:latin typeface="Segoe Light"/>
              </a:rPr>
              <a:t>Comparison with Flas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Straight Connector 5"/>
          <p:cNvSpPr/>
          <p:nvPr/>
        </p:nvSpPr>
        <p:spPr>
          <a:xfrm>
            <a:off x="3956760" y="887400"/>
            <a:ext cx="24120" cy="59706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Text Box 9"/>
          <p:cNvSpPr/>
          <p:nvPr/>
        </p:nvSpPr>
        <p:spPr>
          <a:xfrm>
            <a:off x="152280" y="638496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54b0e2"/>
                </a:solidFill>
                <a:uFillTx/>
                <a:latin typeface="Arial"/>
                <a:ea typeface="宋体"/>
                <a:hlinkClick r:id="rId3"/>
              </a:rPr>
              <a:t>免费ppt模板</a:t>
            </a:r>
            <a:r>
              <a:rPr b="0" lang="zh-CN" sz="1600" spc="-1" strike="noStrike" u="sng">
                <a:solidFill>
                  <a:srgbClr val="54b0e2"/>
                </a:solidFill>
                <a:uFillTx/>
                <a:latin typeface="Arial"/>
                <a:ea typeface="宋体"/>
                <a:hlinkClick r:id="rId4"/>
              </a:rPr>
              <a:t>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Title 5"/>
          <p:cNvSpPr/>
          <p:nvPr/>
        </p:nvSpPr>
        <p:spPr>
          <a:xfrm>
            <a:off x="884160" y="141120"/>
            <a:ext cx="8183520" cy="8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4960" indent="-534960"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CA" sz="4000" spc="-1" strike="noStrike">
                <a:solidFill>
                  <a:srgbClr val="125ca7"/>
                </a:solidFill>
                <a:latin typeface="Segoe Light"/>
              </a:rPr>
              <a:t>Silverlight Business Model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0" name="Picture 2" descr=""/>
          <p:cNvPicPr/>
          <p:nvPr/>
        </p:nvPicPr>
        <p:blipFill>
          <a:blip r:embed="rId1"/>
          <a:stretch/>
        </p:blipFill>
        <p:spPr>
          <a:xfrm>
            <a:off x="1066680" y="2200320"/>
            <a:ext cx="4229280" cy="275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61" name="Chart 3"/>
          <p:cNvGraphicFramePr/>
          <p:nvPr/>
        </p:nvGraphicFramePr>
        <p:xfrm>
          <a:off x="5276880" y="2181240"/>
          <a:ext cx="3048120" cy="25336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62" name="Char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276880" y="2181240"/>
                    <a:ext cx="3048120" cy="25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3" name="Rectangle 4"/>
          <p:cNvSpPr/>
          <p:nvPr/>
        </p:nvSpPr>
        <p:spPr>
          <a:xfrm>
            <a:off x="674640" y="990720"/>
            <a:ext cx="4621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egoe"/>
                <a:ea typeface="宋体"/>
              </a:rPr>
              <a:t>Delivering media </a:t>
            </a:r>
            <a:r>
              <a:rPr b="1" lang="en-US" sz="2000" spc="-1" strike="noStrike">
                <a:solidFill>
                  <a:srgbClr val="000000"/>
                </a:solidFill>
                <a:latin typeface="Segoe"/>
                <a:ea typeface="宋体"/>
              </a:rPr>
              <a:t>without going brok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egoe"/>
                <a:ea typeface="宋体"/>
              </a:rPr>
              <a:t>Video delivery tre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Title 5"/>
          <p:cNvSpPr/>
          <p:nvPr/>
        </p:nvSpPr>
        <p:spPr>
          <a:xfrm>
            <a:off x="884160" y="141120"/>
            <a:ext cx="8183520" cy="8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4960" indent="-534960"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CA" sz="4000" spc="-1" strike="noStrike">
                <a:solidFill>
                  <a:srgbClr val="125ca7"/>
                </a:solidFill>
                <a:latin typeface="Segoe Light"/>
              </a:rPr>
              <a:t>Silverlight Business Model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Text Placeholder 2"/>
          <p:cNvSpPr/>
          <p:nvPr/>
        </p:nvSpPr>
        <p:spPr>
          <a:xfrm>
            <a:off x="884160" y="2362320"/>
            <a:ext cx="3654360" cy="23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8640" indent="-458640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"/>
              </a:rPr>
              <a:t>Why stream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8640" indent="-458640">
              <a:lnSpc>
                <a:spcPct val="90000"/>
              </a:lnSpc>
              <a:spcBef>
                <a:spcPts val="1400"/>
              </a:spcBef>
              <a:buSzPct val="100000"/>
              <a:buBlip>
                <a:blip r:embed="rId1"/>
              </a:buBlip>
              <a:tabLst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"/>
              </a:rPr>
              <a:t>Live Strea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8640" indent="-458640">
              <a:lnSpc>
                <a:spcPct val="90000"/>
              </a:lnSpc>
              <a:spcBef>
                <a:spcPts val="1400"/>
              </a:spcBef>
              <a:buSzPct val="100000"/>
              <a:buBlip>
                <a:blip r:embed="rId2"/>
              </a:buBlip>
              <a:tabLst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"/>
              </a:rPr>
              <a:t>Fast Strea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8640" indent="-458640">
              <a:lnSpc>
                <a:spcPct val="90000"/>
              </a:lnSpc>
              <a:spcBef>
                <a:spcPts val="1400"/>
              </a:spcBef>
              <a:buSzPct val="100000"/>
              <a:buBlip>
                <a:blip r:embed="rId3"/>
              </a:buBlip>
              <a:tabLst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"/>
              </a:rPr>
              <a:t>Logg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8640" indent="-458640">
              <a:lnSpc>
                <a:spcPct val="90000"/>
              </a:lnSpc>
              <a:spcBef>
                <a:spcPts val="1400"/>
              </a:spcBef>
              <a:buSzPct val="100000"/>
              <a:buBlip>
                <a:blip r:embed="rId4"/>
              </a:buBlip>
              <a:tabLst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"/>
              </a:rPr>
              <a:t>Caching and Proxy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66" name="Chart 6"/>
          <p:cNvGraphicFramePr/>
          <p:nvPr/>
        </p:nvGraphicFramePr>
        <p:xfrm>
          <a:off x="4559400" y="1778040"/>
          <a:ext cx="3060720" cy="41022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67" name="Char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59400" y="1778040"/>
                    <a:ext cx="3060720" cy="410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8" name="Rectangle 7"/>
          <p:cNvSpPr/>
          <p:nvPr/>
        </p:nvSpPr>
        <p:spPr>
          <a:xfrm>
            <a:off x="674640" y="990720"/>
            <a:ext cx="462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egoe"/>
                <a:ea typeface="宋体"/>
              </a:rPr>
              <a:t>Windows Media 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3"/>
          <p:cNvSpPr/>
          <p:nvPr/>
        </p:nvSpPr>
        <p:spPr>
          <a:xfrm>
            <a:off x="2971800" y="5715000"/>
            <a:ext cx="3429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egoe"/>
                <a:ea typeface="宋体"/>
              </a:rPr>
              <a:t>Silverlight 1.0 </a:t>
            </a:r>
            <a:r>
              <a:rPr b="0" lang="en-US" sz="1400" spc="-1" strike="noStrike">
                <a:solidFill>
                  <a:srgbClr val="125ca7"/>
                </a:solidFill>
                <a:latin typeface="Segoe"/>
                <a:ea typeface="宋体"/>
              </a:rPr>
              <a:t>– XAML + JavaScri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25ca7"/>
                </a:solidFill>
                <a:latin typeface="Segoe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egoe"/>
                <a:ea typeface="宋体"/>
              </a:rPr>
              <a:t>COMPLETE DOM LEVEL 1 integr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Title 5"/>
          <p:cNvSpPr/>
          <p:nvPr/>
        </p:nvSpPr>
        <p:spPr>
          <a:xfrm>
            <a:off x="1752480" y="152280"/>
            <a:ext cx="72691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34960" indent="-534960"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CA" sz="4000" spc="-1" strike="noStrike">
                <a:solidFill>
                  <a:srgbClr val="125ca7"/>
                </a:solidFill>
                <a:latin typeface="Segoe Light"/>
              </a:rPr>
              <a:t>Creating a Silverlight applic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1" name="Diagram 15" descr=""/>
          <p:cNvPicPr/>
          <p:nvPr/>
        </p:nvPicPr>
        <p:blipFill>
          <a:blip r:embed="rId1"/>
          <a:stretch/>
        </p:blipFill>
        <p:spPr>
          <a:xfrm>
            <a:off x="1523880" y="1279440"/>
            <a:ext cx="6096240" cy="4170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3T18:56:26Z</dcterms:created>
  <dc:creator/>
  <dc:description>COPYRIGHT, Microsoft 2007.  All rights reserved.  No permission is granted to reproduce or re-use materials from this document in other documents.  All rights reserved.
3rd party company names and logos are used with permission and are subject to their own copyrights and trademarks.</dc:description>
  <dc:language>en-US</dc:language>
  <cp:lastModifiedBy/>
  <dcterms:modified xsi:type="dcterms:W3CDTF">2015-08-03T12:20:04Z</dcterms:modified>
  <cp:revision>8</cp:revision>
  <dc:subject>Silverlight</dc:subject>
  <dc:title>Silverlight Briefing - MIX07</dc:title>
</cp:coreProperties>
</file>