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7.png" ContentType="image/png"/>
  <Override PartName="/ppt/media/image37.png" ContentType="image/png"/>
  <Override PartName="/ppt/media/image29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68F238-BAB7-4510-BC8F-4A79AEE5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491BD4-FED1-4D75-B595-49D0FE3FAAB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7882C6-31B8-4C45-B606-EA53237D27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6CA04A-ADAE-4017-9C2F-C27186A57B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7A7438-D388-4BF3-85FE-A79FDDE5276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C407F4-D965-4FF4-A3B8-9D6ECC8262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58CD05-64B7-4DDA-8878-40E5FC48B5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80E72B-B26E-49D9-95D5-93CA36F443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69F07E-7EC3-4AC9-BCAC-012AA3417E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196C38-7A00-4DD0-B76C-9CAD1057AD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7EC5B3-C5C5-4306-BE14-DCECF3E6EBC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9A7F48-FE30-44AE-B62F-E658420C74B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9EB0B7-ECE4-499A-A90E-EFCAA6EF7FA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999-9FC9-4F06-82AB-7D789E3A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C21-1D02-44B4-B290-D1FB6002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16A-6BE0-495C-8981-B191A58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001-FD95-4A6E-9D9D-24410E1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44C-78AF-4F40-8230-D75DD596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A70-827C-46F4-B87C-DD221475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BCB-0238-49DC-929C-1AEF073E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A38-A818-4E57-A9B9-AD2C8C0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C58-3F5E-4063-9E53-BA4C209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24B-4EE2-4399-B62B-9280EDC6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437-3599-467C-A30C-16CE51BB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79F-563C-41BB-A578-ED3D862E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3600" spc="-1" strike="noStrike">
                <a:solidFill>
                  <a:srgbClr val="000000"/>
                </a:solidFill>
                <a:latin typeface="나눔고딕"/>
                <a:ea typeface="나눔고딕"/>
              </a:rPr>
              <a:t>마스터 제목 스타일 편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마스터 텍스트 스타일을 편집합니다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둘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셋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넷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다섯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104763-04E7-4717-8484-D74B22A8F066}" type="slidenum">
              <a: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280" cy="168552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6443640" y="1665360"/>
            <a:ext cx="2700000" cy="178092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2987640" y="0"/>
            <a:ext cx="4690800" cy="3428640"/>
          </a:xfrm>
          <a:prstGeom prst="rect">
            <a:avLst/>
          </a:prstGeom>
          <a:ln w="9525">
            <a:noFill/>
          </a:ln>
        </p:spPr>
      </p:pic>
      <p:sp>
        <p:nvSpPr>
          <p:cNvPr id="88" name="직사각형 14"/>
          <p:cNvSpPr/>
          <p:nvPr/>
        </p:nvSpPr>
        <p:spPr>
          <a:xfrm>
            <a:off x="0" y="3429000"/>
            <a:ext cx="9143640" cy="3428640"/>
          </a:xfrm>
          <a:prstGeom prst="rect">
            <a:avLst/>
          </a:prstGeom>
          <a:solidFill>
            <a:srgbClr val="c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776320" cy="3428640"/>
          </a:xfrm>
          <a:prstGeom prst="rect">
            <a:avLst/>
          </a:prstGeom>
          <a:ln w="9525">
            <a:noFill/>
          </a:ln>
        </p:spPr>
      </p:pic>
      <p:sp>
        <p:nvSpPr>
          <p:cNvPr id="90" name="TextBox 19"/>
          <p:cNvSpPr/>
          <p:nvPr/>
        </p:nvSpPr>
        <p:spPr>
          <a:xfrm>
            <a:off x="179280" y="3573360"/>
            <a:ext cx="8137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나눔고딕"/>
                <a:ea typeface="나눔 고딕"/>
              </a:rPr>
              <a:t>韩国企业</a:t>
            </a:r>
            <a:r>
              <a:rPr b="0" lang="en-US" sz="4000" spc="-1" strike="noStrike">
                <a:solidFill>
                  <a:srgbClr val="ffffff"/>
                </a:solidFill>
                <a:latin typeface="나눔고딕"/>
                <a:ea typeface="나눔 고딕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나눔고딕"/>
                <a:ea typeface="나눔 고딕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7236000" y="3573360"/>
            <a:ext cx="1872720" cy="18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May, 31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5"/>
          <a:stretch/>
        </p:blipFill>
        <p:spPr>
          <a:xfrm>
            <a:off x="2771640" y="0"/>
            <a:ext cx="2304720" cy="173016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6"/>
          <a:stretch/>
        </p:blipFill>
        <p:spPr>
          <a:xfrm>
            <a:off x="2771640" y="1700280"/>
            <a:ext cx="2304720" cy="1728360"/>
          </a:xfrm>
          <a:prstGeom prst="rect">
            <a:avLst/>
          </a:prstGeom>
          <a:ln w="9525">
            <a:noFill/>
          </a:ln>
        </p:spPr>
      </p:pic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208" name="TextBox 11"/>
          <p:cNvSpPr/>
          <p:nvPr/>
        </p:nvSpPr>
        <p:spPr>
          <a:xfrm>
            <a:off x="179640" y="461880"/>
            <a:ext cx="6696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구역 </a:t>
            </a: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: 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Design Plan   |  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Documents and Settings\nhn\바탕 화면\이미지소스\도면01.png"/>
          <p:cNvPicPr/>
          <p:nvPr/>
        </p:nvPicPr>
        <p:blipFill>
          <a:blip r:embed="rId1"/>
          <a:stretch/>
        </p:blipFill>
        <p:spPr>
          <a:xfrm>
            <a:off x="324000" y="1387440"/>
            <a:ext cx="8280000" cy="4500360"/>
          </a:xfrm>
          <a:prstGeom prst="rect">
            <a:avLst/>
          </a:prstGeom>
          <a:ln w="9525">
            <a:noFill/>
          </a:ln>
        </p:spPr>
      </p:pic>
      <p:sp>
        <p:nvSpPr>
          <p:cNvPr id="211" name="TextBox 25"/>
          <p:cNvSpPr/>
          <p:nvPr/>
        </p:nvSpPr>
        <p:spPr>
          <a:xfrm>
            <a:off x="971640" y="6021360"/>
            <a:ext cx="151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2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60</a:t>
            </a:r>
            <a:r>
              <a:rPr b="1" lang="ko-KR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 입실 </a:t>
            </a: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x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6"/>
          <p:cNvSpPr/>
          <p:nvPr/>
        </p:nvSpPr>
        <p:spPr>
          <a:xfrm>
            <a:off x="3787560" y="6021360"/>
            <a:ext cx="151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1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120</a:t>
            </a:r>
            <a:r>
              <a:rPr b="1" lang="ko-KR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 입실 </a:t>
            </a: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x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6759360" y="6021360"/>
            <a:ext cx="151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Open D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ko-KR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마주보고 앉는 형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C042C0A1-213F-45F7-9623-C33B07780BB5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C:\Documents and Settings\nhn\바탕 화면\이미지소스\스케치01.png"/>
          <p:cNvPicPr/>
          <p:nvPr/>
        </p:nvPicPr>
        <p:blipFill>
          <a:blip r:embed="rId1"/>
          <a:srcRect l="0" t="0" r="0" b="3521"/>
          <a:stretch/>
        </p:blipFill>
        <p:spPr>
          <a:xfrm>
            <a:off x="971640" y="539640"/>
            <a:ext cx="8137080" cy="5913000"/>
          </a:xfrm>
          <a:prstGeom prst="rect">
            <a:avLst/>
          </a:prstGeom>
          <a:ln w="9525">
            <a:noFill/>
          </a:ln>
        </p:spPr>
      </p:pic>
      <p:sp>
        <p:nvSpPr>
          <p:cNvPr id="216" name="직사각형 8"/>
          <p:cNvSpPr/>
          <p:nvPr/>
        </p:nvSpPr>
        <p:spPr>
          <a:xfrm>
            <a:off x="324000" y="4238640"/>
            <a:ext cx="2796840" cy="2285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8892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cxnSp>
        <p:nvCxnSpPr>
          <p:cNvPr id="21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218" name="TextBox 11"/>
          <p:cNvSpPr/>
          <p:nvPr/>
        </p:nvSpPr>
        <p:spPr>
          <a:xfrm>
            <a:off x="179640" y="461880"/>
            <a:ext cx="3672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구역 </a:t>
            </a: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: 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Design Plan   |  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395280" y="4614840"/>
            <a:ext cx="2663640" cy="1788840"/>
          </a:xfrm>
          <a:prstGeom prst="rect">
            <a:avLst/>
          </a:prstGeom>
          <a:ln w="127000">
            <a:noFill/>
          </a:ln>
        </p:spPr>
      </p:pic>
      <p:sp>
        <p:nvSpPr>
          <p:cNvPr id="221" name="직사각형 7"/>
          <p:cNvSpPr/>
          <p:nvPr/>
        </p:nvSpPr>
        <p:spPr>
          <a:xfrm>
            <a:off x="1403280" y="5751360"/>
            <a:ext cx="1593360" cy="597960"/>
          </a:xfrm>
          <a:prstGeom prst="rect">
            <a:avLst/>
          </a:prstGeom>
          <a:noFill/>
          <a:ln w="57150">
            <a:solidFill>
              <a:srgbClr val="c00000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4428000" y="476640"/>
            <a:ext cx="4320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세부 설명 내용은 나눔고딕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R, 9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글자 간격은 좁게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0.3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줄 간격은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1.5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배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상황에 따라 조정하실 수 있습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1281240" y="6357960"/>
            <a:ext cx="1368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ko-KR" sz="800" spc="-1" strike="noStrike">
                <a:solidFill>
                  <a:srgbClr val="c00000"/>
                </a:solidFill>
                <a:latin typeface="나눔고딕"/>
                <a:ea typeface="나눔 고딕"/>
              </a:rPr>
              <a:t>구역 표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AFFCC25D-4DD0-4185-B073-831908309DBA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직사각형 16"/>
          <p:cNvSpPr/>
          <p:nvPr/>
        </p:nvSpPr>
        <p:spPr>
          <a:xfrm>
            <a:off x="262080" y="1916280"/>
            <a:ext cx="2796840" cy="2285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8892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395280" y="2273400"/>
            <a:ext cx="2663640" cy="1787040"/>
          </a:xfrm>
          <a:prstGeom prst="rect">
            <a:avLst/>
          </a:prstGeom>
          <a:ln w="9525">
            <a:noFill/>
          </a:ln>
        </p:spPr>
      </p:pic>
      <p:cxnSp>
        <p:nvCxnSpPr>
          <p:cNvPr id="22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228" name="TextBox 11"/>
          <p:cNvSpPr/>
          <p:nvPr/>
        </p:nvSpPr>
        <p:spPr>
          <a:xfrm>
            <a:off x="179640" y="461880"/>
            <a:ext cx="4464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18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층 </a:t>
            </a: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: 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회의공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Floor Design Plan   |   18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15"/>
          <p:cNvSpPr/>
          <p:nvPr/>
        </p:nvSpPr>
        <p:spPr>
          <a:xfrm>
            <a:off x="2411280" y="3068640"/>
            <a:ext cx="512280" cy="936360"/>
          </a:xfrm>
          <a:prstGeom prst="rect">
            <a:avLst/>
          </a:prstGeom>
          <a:noFill/>
          <a:ln w="57150">
            <a:solidFill>
              <a:srgbClr val="c00000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pic>
        <p:nvPicPr>
          <p:cNvPr id="231" name="Picture 2" descr="C:\Documents and Settings\nhn\바탕 화면\이미지소스\meetingroom_01.png"/>
          <p:cNvPicPr/>
          <p:nvPr/>
        </p:nvPicPr>
        <p:blipFill>
          <a:blip r:embed="rId2"/>
          <a:srcRect l="18157" t="3704" r="3114" b="767"/>
          <a:stretch/>
        </p:blipFill>
        <p:spPr>
          <a:xfrm>
            <a:off x="250920" y="4327560"/>
            <a:ext cx="2806200" cy="228564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3" descr="C:\Documents and Settings\nhn\바탕 화면\이미지소스\meetingroom_02.png"/>
          <p:cNvPicPr/>
          <p:nvPr/>
        </p:nvPicPr>
        <p:blipFill>
          <a:blip r:embed="rId3"/>
          <a:stretch/>
        </p:blipFill>
        <p:spPr>
          <a:xfrm>
            <a:off x="3170160" y="1916280"/>
            <a:ext cx="2815920" cy="2285640"/>
          </a:xfrm>
          <a:prstGeom prst="rect">
            <a:avLst/>
          </a:prstGeom>
          <a:ln w="9525">
            <a:noFill/>
          </a:ln>
        </p:spPr>
      </p:pic>
      <p:pic>
        <p:nvPicPr>
          <p:cNvPr id="233" name="Picture 4" descr="C:\Documents and Settings\nhn\바탕 화면\이미지소스\meetingroom_03.png"/>
          <p:cNvPicPr/>
          <p:nvPr/>
        </p:nvPicPr>
        <p:blipFill>
          <a:blip r:embed="rId4"/>
          <a:srcRect l="568" t="10714" r="0" b="2683"/>
          <a:stretch/>
        </p:blipFill>
        <p:spPr>
          <a:xfrm>
            <a:off x="6100920" y="1916280"/>
            <a:ext cx="2795400" cy="228564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6" descr="C:\Documents and Settings\nhn\바탕 화면\이미지소스\meetingroom_04.png"/>
          <p:cNvPicPr/>
          <p:nvPr/>
        </p:nvPicPr>
        <p:blipFill>
          <a:blip r:embed="rId5"/>
          <a:stretch/>
        </p:blipFill>
        <p:spPr>
          <a:xfrm>
            <a:off x="3170160" y="4307040"/>
            <a:ext cx="2815920" cy="2306160"/>
          </a:xfrm>
          <a:prstGeom prst="rect">
            <a:avLst/>
          </a:prstGeom>
          <a:ln w="9525">
            <a:noFill/>
          </a:ln>
        </p:spPr>
      </p:pic>
      <p:pic>
        <p:nvPicPr>
          <p:cNvPr id="235" name="Picture 7" descr="C:\Documents and Settings\nhn\바탕 화면\이미지소스\meetingroom_05.png"/>
          <p:cNvPicPr/>
          <p:nvPr/>
        </p:nvPicPr>
        <p:blipFill>
          <a:blip r:embed="rId6"/>
          <a:stretch/>
        </p:blipFill>
        <p:spPr>
          <a:xfrm>
            <a:off x="6100920" y="4307040"/>
            <a:ext cx="2792160" cy="2306160"/>
          </a:xfrm>
          <a:prstGeom prst="rect">
            <a:avLst/>
          </a:prstGeom>
          <a:ln w="9525">
            <a:noFill/>
          </a:ln>
        </p:spPr>
      </p:pic>
      <p:sp>
        <p:nvSpPr>
          <p:cNvPr id="236" name="TextBox 18"/>
          <p:cNvSpPr/>
          <p:nvPr/>
        </p:nvSpPr>
        <p:spPr>
          <a:xfrm>
            <a:off x="4428000" y="476640"/>
            <a:ext cx="4320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구성원의 크리에이티브를 자극하고 활력이 넘치는 공간구성을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원색의 산뜻한 컬러포인트를 각 회의공간마다 부여하되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감각적이면서도 젊은 느낌을 유지하기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테이블이나 의자 등의 소품 디자인 및 소재를 디테일하게 신경쓴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2268360" y="4017960"/>
            <a:ext cx="13665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ko-KR" sz="800" spc="-1" strike="noStrike">
                <a:solidFill>
                  <a:srgbClr val="c00000"/>
                </a:solidFill>
                <a:latin typeface="나눔고딕"/>
                <a:ea typeface="나눔 고딕"/>
              </a:rPr>
              <a:t>회의공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2C4E9CA2-E0D7-4D9E-9CD5-88BE8B5BE465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나눔고딕"/>
                <a:ea typeface="나눔고딕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9"/>
          <p:cNvSpPr/>
          <p:nvPr/>
        </p:nvSpPr>
        <p:spPr>
          <a:xfrm>
            <a:off x="179640" y="3573000"/>
            <a:ext cx="530388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4800" spc="599" strike="noStrike">
                <a:solidFill>
                  <a:srgbClr val="7e858e"/>
                </a:solidFill>
                <a:latin typeface="나눔고딕"/>
                <a:ea typeface="나눔고딕"/>
              </a:rPr>
              <a:t>INTERI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4800" spc="599" strike="noStrike">
                <a:solidFill>
                  <a:srgbClr val="7e858e"/>
                </a:solidFill>
                <a:latin typeface="나눔고딕"/>
                <a:ea typeface="나눔고딕"/>
              </a:rPr>
              <a:t>DESIG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4800" spc="599" strike="noStrike">
                <a:solidFill>
                  <a:srgbClr val="7e858e"/>
                </a:solidFill>
                <a:latin typeface="나눔고딕"/>
                <a:ea typeface="나눔고딕"/>
              </a:rPr>
              <a:t>PROPOS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092360" y="3501000"/>
            <a:ext cx="1872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r>
              <a:rPr b="1" lang="en-US" sz="800" spc="-1" strike="noStrike">
                <a:solidFill>
                  <a:srgbClr val="68727e"/>
                </a:solidFill>
                <a:latin typeface="나눔고딕"/>
                <a:ea typeface="나눔고딕"/>
              </a:rPr>
              <a:t>2011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직선 연결선 9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360" cy="185400"/>
          </a:xfrm>
          <a:prstGeom prst="rect">
            <a:avLst/>
          </a:prstGeom>
          <a:ln w="9525">
            <a:noFill/>
          </a:ln>
        </p:spPr>
      </p:pic>
      <p:cxnSp>
        <p:nvCxnSpPr>
          <p:cNvPr id="99" name="직선 연결선 11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00" name="직선 연결선 12"/>
          <p:cNvCxnSpPr/>
          <p:nvPr/>
        </p:nvCxnSpPr>
        <p:spPr>
          <a:xfrm>
            <a:off x="250560" y="6534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01" name="TextBox 13"/>
          <p:cNvSpPr/>
          <p:nvPr/>
        </p:nvSpPr>
        <p:spPr>
          <a:xfrm>
            <a:off x="179280" y="6237360"/>
            <a:ext cx="4039920" cy="27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. </a:t>
            </a:r>
            <a:r>
              <a:rPr b="0" lang="ko-KR" sz="700" spc="-1" strike="noStrike" u="sng">
                <a:solidFill>
                  <a:srgbClr val="ff8119"/>
                </a:solidFill>
                <a:uFillTx/>
                <a:latin typeface="나눔고딕"/>
                <a:ea typeface="나눔 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9"/>
          <p:cNvSpPr/>
          <p:nvPr/>
        </p:nvSpPr>
        <p:spPr>
          <a:xfrm>
            <a:off x="107640" y="3429000"/>
            <a:ext cx="6552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4300" spc="-151" strike="noStrike">
                <a:solidFill>
                  <a:srgbClr val="68727e"/>
                </a:solidFill>
                <a:latin typeface="나눔고딕"/>
                <a:ea typeface="나눔고딕"/>
              </a:rPr>
              <a:t>문서의 제목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4300" spc="-151" strike="noStrike">
                <a:solidFill>
                  <a:srgbClr val="68727e"/>
                </a:solidFill>
                <a:latin typeface="나눔고딕"/>
                <a:ea typeface="나눔고딕"/>
              </a:rPr>
              <a:t>작성해 주세요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직선 연결선 9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04" name="직선 연결선 11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05" name="직선 연결선 12"/>
          <p:cNvCxnSpPr/>
          <p:nvPr/>
        </p:nvCxnSpPr>
        <p:spPr>
          <a:xfrm>
            <a:off x="250560" y="6534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360" cy="18540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16"/>
          <p:cNvSpPr/>
          <p:nvPr/>
        </p:nvSpPr>
        <p:spPr>
          <a:xfrm>
            <a:off x="179280" y="6237360"/>
            <a:ext cx="4039920" cy="27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. </a:t>
            </a:r>
            <a:r>
              <a:rPr b="0" lang="ko-KR" sz="700" spc="-1" strike="noStrike" u="sng">
                <a:solidFill>
                  <a:srgbClr val="ff8119"/>
                </a:solidFill>
                <a:uFillTx/>
                <a:latin typeface="나눔고딕"/>
                <a:ea typeface="나눔 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7092360" y="3501000"/>
            <a:ext cx="1872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r>
              <a:rPr b="1" lang="en-US" sz="800" spc="-1" strike="noStrike">
                <a:solidFill>
                  <a:srgbClr val="68727e"/>
                </a:solidFill>
                <a:latin typeface="나눔고딕"/>
                <a:ea typeface="나눔고딕"/>
              </a:rPr>
              <a:t>2011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9"/>
          <p:cNvSpPr/>
          <p:nvPr/>
        </p:nvSpPr>
        <p:spPr>
          <a:xfrm>
            <a:off x="179640" y="3501000"/>
            <a:ext cx="129564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ko-KR" sz="1400" spc="-151" strike="noStrike">
                <a:solidFill>
                  <a:srgbClr val="404040"/>
                </a:solidFill>
                <a:latin typeface="나눔고딕"/>
                <a:ea typeface="나눔고딕"/>
              </a:rPr>
              <a:t>목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직선 연결선 18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1" name="직선 연결선 10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360" cy="185400"/>
          </a:xfrm>
          <a:prstGeom prst="rect">
            <a:avLst/>
          </a:prstGeom>
          <a:ln w="9525">
            <a:noFill/>
          </a:ln>
        </p:spPr>
      </p:pic>
      <p:sp>
        <p:nvSpPr>
          <p:cNvPr id="113" name="TextBox 8"/>
          <p:cNvSpPr/>
          <p:nvPr/>
        </p:nvSpPr>
        <p:spPr>
          <a:xfrm>
            <a:off x="179640" y="4201920"/>
            <a:ext cx="165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85000"/>
              </a:lnSpc>
              <a:buClr>
                <a:srgbClr val="404040"/>
              </a:buClr>
              <a:buFont typeface="StarSymbol"/>
              <a:buAutoNum type="arabicPeriod"/>
            </a:pP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3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4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5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6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직선 연결선 9"/>
          <p:cNvCxnSpPr/>
          <p:nvPr/>
        </p:nvCxnSpPr>
        <p:spPr>
          <a:xfrm>
            <a:off x="250560" y="443052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5" name="직선 연결선 14"/>
          <p:cNvCxnSpPr/>
          <p:nvPr/>
        </p:nvCxnSpPr>
        <p:spPr>
          <a:xfrm>
            <a:off x="250560" y="468936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6" name="직선 연결선 16"/>
          <p:cNvCxnSpPr/>
          <p:nvPr/>
        </p:nvCxnSpPr>
        <p:spPr>
          <a:xfrm>
            <a:off x="250560" y="494820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7" name="직선 연결선 17"/>
          <p:cNvCxnSpPr/>
          <p:nvPr/>
        </p:nvCxnSpPr>
        <p:spPr>
          <a:xfrm>
            <a:off x="250560" y="520668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8" name="직선 연결선 21"/>
          <p:cNvCxnSpPr/>
          <p:nvPr/>
        </p:nvCxnSpPr>
        <p:spPr>
          <a:xfrm>
            <a:off x="250560" y="546552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9" name="직선 연결선 22"/>
          <p:cNvCxnSpPr/>
          <p:nvPr/>
        </p:nvCxnSpPr>
        <p:spPr>
          <a:xfrm>
            <a:off x="250560" y="572436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20" name="직선 연결선 27"/>
          <p:cNvCxnSpPr/>
          <p:nvPr/>
        </p:nvCxnSpPr>
        <p:spPr>
          <a:xfrm>
            <a:off x="250560" y="417168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22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23" name="TextBox 11"/>
          <p:cNvSpPr/>
          <p:nvPr/>
        </p:nvSpPr>
        <p:spPr>
          <a:xfrm>
            <a:off x="179640" y="46188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79640" y="2152080"/>
            <a:ext cx="18000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창립 년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직원 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Prof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039320" y="2152080"/>
            <a:ext cx="30283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총 </a:t>
            </a:r>
            <a:r>
              <a:rPr b="0" lang="en-US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0</a:t>
            </a: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명 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| 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인테리어 디자이너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명 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|  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프로젝트 매니저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명 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직선 연결선 9"/>
          <p:cNvCxnSpPr/>
          <p:nvPr/>
        </p:nvCxnSpPr>
        <p:spPr>
          <a:xfrm>
            <a:off x="250560" y="3284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28" name="TextBox 10"/>
          <p:cNvSpPr/>
          <p:nvPr/>
        </p:nvSpPr>
        <p:spPr>
          <a:xfrm>
            <a:off x="179640" y="3291120"/>
            <a:ext cx="180000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1039320" y="5446440"/>
            <a:ext cx="1731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OOO</a:t>
            </a: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실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약력을 작성하세요</a:t>
            </a: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0"/>
          <p:cNvSpPr/>
          <p:nvPr/>
        </p:nvSpPr>
        <p:spPr>
          <a:xfrm>
            <a:off x="2843640" y="5446440"/>
            <a:ext cx="1656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OOO</a:t>
            </a: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팀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약력을 작성하세요</a:t>
            </a: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790AB966-6462-49E1-BA38-59B2F84C0666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nhn\바탕 화면\이미지소스\인테리어\장인성111.jpg"/>
          <p:cNvPicPr/>
          <p:nvPr/>
        </p:nvPicPr>
        <p:blipFill>
          <a:blip r:embed="rId1"/>
          <a:stretch/>
        </p:blipFill>
        <p:spPr>
          <a:xfrm>
            <a:off x="1150920" y="3500280"/>
            <a:ext cx="1439640" cy="187272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3" descr="C:\Documents and Settings\nhn\바탕 화면\이미지소스\인테리어\신현경_04.jpg"/>
          <p:cNvPicPr/>
          <p:nvPr/>
        </p:nvPicPr>
        <p:blipFill>
          <a:blip r:embed="rId2"/>
          <a:stretch/>
        </p:blipFill>
        <p:spPr>
          <a:xfrm>
            <a:off x="2932200" y="3500280"/>
            <a:ext cx="1439640" cy="187272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4" descr="C:\Documents and Settings\nhn\바탕 화면\이미지소스\인테리어\bin.jpg"/>
          <p:cNvPicPr/>
          <p:nvPr/>
        </p:nvPicPr>
        <p:blipFill>
          <a:blip r:embed="rId3"/>
          <a:stretch/>
        </p:blipFill>
        <p:spPr>
          <a:xfrm>
            <a:off x="4711680" y="3502080"/>
            <a:ext cx="1368000" cy="1871280"/>
          </a:xfrm>
          <a:prstGeom prst="rect">
            <a:avLst/>
          </a:prstGeom>
          <a:ln w="9525">
            <a:noFill/>
          </a:ln>
        </p:spPr>
      </p:pic>
      <p:sp>
        <p:nvSpPr>
          <p:cNvPr id="135" name="TextBox 29"/>
          <p:cNvSpPr/>
          <p:nvPr/>
        </p:nvSpPr>
        <p:spPr>
          <a:xfrm>
            <a:off x="4639680" y="5446440"/>
            <a:ext cx="201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OOO</a:t>
            </a: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수석디자이너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약력을 작성하세요</a:t>
            </a: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nhn\바탕 화면\이미지소스\인테리어\33-그팩-미트27-복사.jpg"/>
          <p:cNvPicPr/>
          <p:nvPr/>
        </p:nvPicPr>
        <p:blipFill>
          <a:blip r:embed="rId1"/>
          <a:stretch/>
        </p:blipFill>
        <p:spPr>
          <a:xfrm>
            <a:off x="250920" y="5222880"/>
            <a:ext cx="1375920" cy="137448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3" descr="C:\Documents and Settings\nhn\바탕 화면\이미지소스\인테리어\00-엘홀-04.jpg"/>
          <p:cNvPicPr/>
          <p:nvPr/>
        </p:nvPicPr>
        <p:blipFill>
          <a:blip r:embed="rId2"/>
          <a:stretch/>
        </p:blipFill>
        <p:spPr>
          <a:xfrm>
            <a:off x="1704960" y="5229360"/>
            <a:ext cx="1375920" cy="137448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4" descr="C:\Documents and Settings\nhn\바탕 화면\이미지소스\인테리어\00-Meet27-오픈라운지.jpg"/>
          <p:cNvPicPr/>
          <p:nvPr/>
        </p:nvPicPr>
        <p:blipFill>
          <a:blip r:embed="rId3"/>
          <a:stretch/>
        </p:blipFill>
        <p:spPr>
          <a:xfrm>
            <a:off x="3146400" y="5229360"/>
            <a:ext cx="1375920" cy="137448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5" descr="C:\Documents and Settings\nhn\바탕 화면\이미지소스\인테리어\_MG_0145.jpg"/>
          <p:cNvPicPr/>
          <p:nvPr/>
        </p:nvPicPr>
        <p:blipFill>
          <a:blip r:embed="rId4"/>
          <a:stretch/>
        </p:blipFill>
        <p:spPr>
          <a:xfrm>
            <a:off x="4603680" y="5229360"/>
            <a:ext cx="1374480" cy="13744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6" descr="C:\Documents and Settings\nhn\바탕 화면\이미지소스\인테리어\IMG_1835.jpg"/>
          <p:cNvPicPr/>
          <p:nvPr/>
        </p:nvPicPr>
        <p:blipFill>
          <a:blip r:embed="rId5"/>
          <a:stretch/>
        </p:blipFill>
        <p:spPr>
          <a:xfrm>
            <a:off x="7532640" y="5229360"/>
            <a:ext cx="1374480" cy="137448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7" descr="C:\Documents and Settings\nhn\바탕 화면\이미지소스\인테리어\-0126.jpg"/>
          <p:cNvPicPr/>
          <p:nvPr/>
        </p:nvPicPr>
        <p:blipFill>
          <a:blip r:embed="rId6"/>
          <a:stretch/>
        </p:blipFill>
        <p:spPr>
          <a:xfrm>
            <a:off x="6060960" y="5229360"/>
            <a:ext cx="1374480" cy="137448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tretch/>
        </p:blipFill>
        <p:spPr>
          <a:xfrm>
            <a:off x="1704960" y="3713040"/>
            <a:ext cx="137592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8"/>
          <a:stretch/>
        </p:blipFill>
        <p:spPr>
          <a:xfrm>
            <a:off x="3146400" y="3713040"/>
            <a:ext cx="137592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4611600" y="3713040"/>
            <a:ext cx="136656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10"/>
          <a:stretch/>
        </p:blipFill>
        <p:spPr>
          <a:xfrm>
            <a:off x="6060960" y="3713040"/>
            <a:ext cx="137124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7516800" y="3713040"/>
            <a:ext cx="139032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12"/>
          <a:stretch/>
        </p:blipFill>
        <p:spPr>
          <a:xfrm>
            <a:off x="3146400" y="2203560"/>
            <a:ext cx="139032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13"/>
          <a:stretch/>
        </p:blipFill>
        <p:spPr>
          <a:xfrm>
            <a:off x="4611600" y="2203560"/>
            <a:ext cx="137448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14"/>
          <a:stretch/>
        </p:blipFill>
        <p:spPr>
          <a:xfrm>
            <a:off x="6060960" y="2203560"/>
            <a:ext cx="1382400" cy="142848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15"/>
          <a:stretch/>
        </p:blipFill>
        <p:spPr>
          <a:xfrm>
            <a:off x="7516800" y="2203560"/>
            <a:ext cx="1375920" cy="142848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16"/>
          <a:stretch/>
        </p:blipFill>
        <p:spPr>
          <a:xfrm>
            <a:off x="244440" y="3713040"/>
            <a:ext cx="1387080" cy="143460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17"/>
          <a:stretch/>
        </p:blipFill>
        <p:spPr>
          <a:xfrm>
            <a:off x="1704960" y="2203560"/>
            <a:ext cx="1368000" cy="1428480"/>
          </a:xfrm>
          <a:prstGeom prst="rect">
            <a:avLst/>
          </a:prstGeom>
          <a:ln w="9525">
            <a:noFill/>
          </a:ln>
        </p:spPr>
      </p:pic>
      <p:cxnSp>
        <p:nvCxnSpPr>
          <p:cNvPr id="153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54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55" name="TextBox 11"/>
          <p:cNvSpPr/>
          <p:nvPr/>
        </p:nvSpPr>
        <p:spPr>
          <a:xfrm>
            <a:off x="179640" y="46188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Portfol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8"/>
          <a:stretch/>
        </p:blipFill>
        <p:spPr>
          <a:xfrm>
            <a:off x="244440" y="2203560"/>
            <a:ext cx="1387080" cy="143172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9"/>
          <p:cNvSpPr/>
          <p:nvPr/>
        </p:nvSpPr>
        <p:spPr>
          <a:xfrm>
            <a:off x="210960" y="3444840"/>
            <a:ext cx="10792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1646280" y="344484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098880" y="344484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4572000" y="344484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6006960" y="344484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461360" y="344484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210960" y="4930920"/>
            <a:ext cx="1584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1646280" y="493092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3098880" y="493092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4572000" y="493092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006960" y="493092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7461360" y="493092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210960" y="6400800"/>
            <a:ext cx="71892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1646280" y="640080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9"/>
          <p:cNvSpPr/>
          <p:nvPr/>
        </p:nvSpPr>
        <p:spPr>
          <a:xfrm>
            <a:off x="3098880" y="640080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0"/>
          <p:cNvSpPr/>
          <p:nvPr/>
        </p:nvSpPr>
        <p:spPr>
          <a:xfrm>
            <a:off x="4572000" y="640080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1"/>
          <p:cNvSpPr/>
          <p:nvPr/>
        </p:nvSpPr>
        <p:spPr>
          <a:xfrm>
            <a:off x="6006960" y="640080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2"/>
          <p:cNvSpPr/>
          <p:nvPr/>
        </p:nvSpPr>
        <p:spPr>
          <a:xfrm>
            <a:off x="7461360" y="640080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9A7FBB80-07B4-4DA9-9D28-20B6BD0D990C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78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79" name="TextBox 11"/>
          <p:cNvSpPr/>
          <p:nvPr/>
        </p:nvSpPr>
        <p:spPr>
          <a:xfrm>
            <a:off x="179640" y="46188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79640" y="2104560"/>
            <a:ext cx="8712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본문은 나눔고딕 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R, 12pt /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글자 간격은 좁게 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.2pt /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줄 간격은 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1.2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배를 권장합니다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황에 따라 조절하실 수 있습니다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타원 13"/>
          <p:cNvSpPr/>
          <p:nvPr/>
        </p:nvSpPr>
        <p:spPr>
          <a:xfrm>
            <a:off x="-25236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타원 15"/>
          <p:cNvSpPr/>
          <p:nvPr/>
        </p:nvSpPr>
        <p:spPr>
          <a:xfrm>
            <a:off x="205092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타원 16"/>
          <p:cNvSpPr/>
          <p:nvPr/>
        </p:nvSpPr>
        <p:spPr>
          <a:xfrm>
            <a:off x="435600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타원 17"/>
          <p:cNvSpPr/>
          <p:nvPr/>
        </p:nvSpPr>
        <p:spPr>
          <a:xfrm>
            <a:off x="665964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6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4428000" y="476640"/>
            <a:ext cx="230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4428000" y="692640"/>
            <a:ext cx="230400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-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404040"/>
              </a:buClr>
              <a:buFont typeface="StarSymbol"/>
              <a:buChar char="-"/>
            </a:pP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404040"/>
              </a:buClr>
              <a:buFont typeface="StarSymbol"/>
              <a:buChar char="-"/>
            </a:pP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7"/>
          <p:cNvSpPr/>
          <p:nvPr/>
        </p:nvSpPr>
        <p:spPr>
          <a:xfrm>
            <a:off x="96516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8"/>
          <p:cNvSpPr/>
          <p:nvPr/>
        </p:nvSpPr>
        <p:spPr>
          <a:xfrm>
            <a:off x="325908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9"/>
          <p:cNvSpPr/>
          <p:nvPr/>
        </p:nvSpPr>
        <p:spPr>
          <a:xfrm>
            <a:off x="556524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0"/>
          <p:cNvSpPr/>
          <p:nvPr/>
        </p:nvSpPr>
        <p:spPr>
          <a:xfrm>
            <a:off x="786384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2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Ti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9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F2B7146E-DEE2-4BFC-9458-704E9F8CE38C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3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94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95" name="TextBox 11"/>
          <p:cNvSpPr/>
          <p:nvPr/>
        </p:nvSpPr>
        <p:spPr>
          <a:xfrm>
            <a:off x="179640" y="461880"/>
            <a:ext cx="223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SPAC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79640" y="2061000"/>
            <a:ext cx="4176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나눔고딕"/>
                <a:ea typeface="나눔고딕"/>
              </a:rPr>
              <a:t>“</a:t>
            </a:r>
            <a:r>
              <a:rPr b="0" lang="en-US" sz="2800" spc="-1" strike="noStrike">
                <a:solidFill>
                  <a:srgbClr val="404040"/>
                </a:solidFill>
                <a:latin typeface="나눔고딕"/>
                <a:ea typeface="나눔고딕"/>
              </a:rPr>
              <a:t>Design Concept, He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4428000" y="2061000"/>
            <a:ext cx="4320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세부 설명 내용은 나눔고딕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R, 9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글자 간격은 좁게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0.3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줄 간격은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1.5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배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상황에 따라 조정하실 수 있습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1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Space design conce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Documents and Settings\nhn\바탕 화면\이미지소스\인테리어\gf-33.jpg"/>
          <p:cNvPicPr/>
          <p:nvPr/>
        </p:nvPicPr>
        <p:blipFill>
          <a:blip r:embed="rId1"/>
          <a:stretch/>
        </p:blipFill>
        <p:spPr>
          <a:xfrm>
            <a:off x="250920" y="3719520"/>
            <a:ext cx="4249440" cy="287784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3" descr="C:\Documents and Settings\nhn\바탕 화면\이미지소스\인테리어\green01.jpg"/>
          <p:cNvPicPr/>
          <p:nvPr/>
        </p:nvPicPr>
        <p:blipFill>
          <a:blip r:embed="rId2"/>
          <a:stretch/>
        </p:blipFill>
        <p:spPr>
          <a:xfrm>
            <a:off x="4572000" y="3716280"/>
            <a:ext cx="4293720" cy="2883960"/>
          </a:xfrm>
          <a:prstGeom prst="rect">
            <a:avLst/>
          </a:prstGeom>
          <a:ln w="9525">
            <a:noFill/>
          </a:ln>
        </p:spPr>
      </p:pic>
      <p:sp>
        <p:nvSpPr>
          <p:cNvPr id="201" name="TextBox 13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3046557C-798E-44FA-AAB7-4DC2A54A21EA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67640" y="66067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9"/>
          <p:cNvSpPr/>
          <p:nvPr/>
        </p:nvSpPr>
        <p:spPr>
          <a:xfrm>
            <a:off x="179640" y="3573000"/>
            <a:ext cx="655236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ko-KR" sz="4000" spc="-151" strike="noStrike">
                <a:solidFill>
                  <a:srgbClr val="404040"/>
                </a:solidFill>
                <a:latin typeface="나눔고딕"/>
                <a:ea typeface="나눔고딕"/>
              </a:rPr>
              <a:t>공간별 디자인계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직선 연결선 18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05" name="직선 연결선 10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206" name="TextBox 5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02091DC2-2907-4FAD-8144-D4353FC06E48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01_밝은나눔">
  <a:themeElements>
    <a:clrScheme name="사용자 지정 4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59595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01_밝은나눔">
  <a:themeElements>
    <a:clrScheme name="사용자 지정 4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59595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59595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31</Words>
  <Paragraphs>1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7:11:32Z</dcterms:created>
  <dc:creator/>
  <dc:description/>
  <dc:language>en-US</dc:language>
  <cp:lastModifiedBy/>
  <dcterms:modified xsi:type="dcterms:W3CDTF">2015-08-03T12:25:3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