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08F-8DF1-4B26-B50F-14EB3B60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592-DF4C-4469-8E69-ECE6E48B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449-4686-46A0-A473-80E86696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27A-8427-4C70-B2DA-45243408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28A2-CBF1-4B85-90C1-389D3E81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1833-C8F7-482E-9C42-A446467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463A-C16D-4DA4-9774-00202AA9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4E93-2320-49AA-B47C-4EB8ACBE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333A-9432-4F49-91A3-0D705EE1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C15B-8F32-4D31-AB83-6AA603F6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6865-458B-4F04-AED5-4CF2F95F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455-9F72-428F-A3CE-250CE0DA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E49B-4F7C-4F07-8391-560924EB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4AB5-38C0-405B-BCA2-693AFBB6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B0D5-8094-45C4-9AB2-AA2FBFD9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D7AD-21E7-4FE8-9501-50A8E398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3E16-B4CB-4A1E-B3DB-675407EE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AD8-257B-48B4-821A-7B779865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CAF-9E6F-4F51-B3AB-D078D7FB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A6C-FB95-4AB7-B74C-DEBCFB72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D8D-1D4C-4D8F-9BBA-3F0B79E2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70E-4D0F-4940-AC46-1AC73B9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113-0A24-4056-B396-4EF314E1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A34-40CF-4B42-B3E6-38673572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雨荷3"/>
          <p:cNvPicPr/>
          <p:nvPr/>
        </p:nvPicPr>
        <p:blipFill>
          <a:blip r:embed="rId2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雨荷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36C0-9DF1-4007-BBC5-120F9ABF0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雨荷2"/>
          <p:cNvPicPr/>
          <p:nvPr/>
        </p:nvPicPr>
        <p:blipFill>
          <a:blip r:embed="rId2"/>
          <a:stretch/>
        </p:blipFill>
        <p:spPr>
          <a:xfrm>
            <a:off x="0" y="0"/>
            <a:ext cx="2754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4B56-9448-4A18-ABF4-930FA951C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雨荷2"/>
          <p:cNvPicPr/>
          <p:nvPr/>
        </p:nvPicPr>
        <p:blipFill>
          <a:blip r:embed="rId3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00"/>
                </a:solidFill>
                <a:latin typeface="汉仪行楷简"/>
                <a:ea typeface="汉仪行楷简"/>
              </a:rPr>
              <a:t>荷花古典中国风</a:t>
            </a:r>
            <a:r>
              <a:rPr b="0" lang="en-US" sz="4000" spc="-1" strike="noStrike">
                <a:solidFill>
                  <a:srgbClr val="336600"/>
                </a:solidFill>
                <a:latin typeface="汉仪行楷简"/>
                <a:ea typeface="汉仪行楷简"/>
              </a:rPr>
              <a:t>PPT</a:t>
            </a:r>
            <a:r>
              <a:rPr b="0" lang="zh-CN" sz="4000" spc="-1" strike="noStrike">
                <a:solidFill>
                  <a:srgbClr val="336600"/>
                </a:solidFill>
                <a:latin typeface="汉仪行楷简"/>
                <a:ea typeface="汉仪行楷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32000" y="189000"/>
            <a:ext cx="5051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16360" y="2133360"/>
            <a:ext cx="5914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8:33:01Z</dcterms:created>
  <dc:creator>微软用户</dc:creator>
  <dc:description/>
  <dc:language>en-US</dc:language>
  <cp:lastModifiedBy>yu wang</cp:lastModifiedBy>
  <dcterms:modified xsi:type="dcterms:W3CDTF">2015-08-03T12:24:50Z</dcterms:modified>
  <cp:revision>5</cp:revision>
  <dc:subject/>
  <dc:title>幻灯片 1</dc:title>
</cp:coreProperties>
</file>