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C259-8890-41FD-80DF-7D85C0FFC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32000" y="393408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9223-402C-4B8F-A6AF-08A77770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0084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D46FC-413D-4793-B295-C118726FD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1888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76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3200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1888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76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414D-A24E-4D6F-BF08-55A1D760A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DC64-E023-4739-B0DD-A7E4DA97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EAD89-3B1E-417B-9922-AE7A8B930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E1825-19F7-4723-AB13-02B10AABE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C7B3F-6719-4642-8733-9A9D9B0B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EDC07-66E1-441A-8F1A-2AFCDEE09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332000" y="63000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9410-4D16-499C-BDF1-3C644A66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1F09-0BE9-4B2A-B262-10CE2464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918D-1C48-4CA7-8632-6567949FE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10084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9AF5-9681-4E41-8A68-517AD855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2331-008B-4030-A4ED-EA3E7C6C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32000" y="393408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0C84-CD9C-497C-8610-37D43B0F5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10084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FD329-0AF7-4D78-A6AB-3C7BFB4EB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1888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305760" y="177300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3200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1888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305760" y="3934080"/>
            <a:ext cx="236808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E8AA-A9C6-4442-A341-3B6D8613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2386-1DBE-4A2C-B037-CE16ED80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5D81-D157-4AB4-8F1E-F78EBB73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3F05-5030-4589-B264-BF4309224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32000" y="63000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127F8-3F2F-4809-8283-C1B02488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797A-1E60-482F-99FA-48B8F5242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00840" y="393408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43DD-6032-4119-B685-5DD0669C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00840" y="1773000"/>
            <a:ext cx="35888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32000" y="3934080"/>
            <a:ext cx="73548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519-DA75-463E-8630-A932A2B3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图片2"/>
          <p:cNvPicPr/>
          <p:nvPr/>
        </p:nvPicPr>
        <p:blipFill>
          <a:blip r:embed="rId2"/>
          <a:stretch/>
        </p:blipFill>
        <p:spPr>
          <a:xfrm>
            <a:off x="-31680" y="0"/>
            <a:ext cx="9367920" cy="7029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99cc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D1FF0-C57E-4557-A082-D4B02CD74594}" type="slidenum">
              <a:rPr b="0" lang="zh-CN" sz="1000" spc="-1" strike="noStrike">
                <a:solidFill>
                  <a:srgbClr val="0099cc"/>
                </a:solidFill>
                <a:latin typeface="微软雅黑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cc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99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99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E476-4A4E-4337-BE20-71FD11319DF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640" y="3499920"/>
            <a:ext cx="8961480" cy="244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cc"/>
                </a:solidFill>
                <a:latin typeface="Arial"/>
              </a:rPr>
              <a:t>荷花扇子水墨中国风</a:t>
            </a:r>
            <a:r>
              <a:rPr b="1" lang="en-US" sz="4000" spc="-1" strike="noStrike">
                <a:solidFill>
                  <a:srgbClr val="0099cc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0099cc"/>
                </a:solidFill>
                <a:latin typeface="Arial"/>
              </a:rPr>
              <a:t>模板在线下载</a:t>
            </a:r>
            <a:endParaRPr b="1" lang="en-US" sz="4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717800" y="5014800"/>
            <a:ext cx="4064040" cy="62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6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32000" y="63000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32000" y="1773000"/>
            <a:ext cx="735480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99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cc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cc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5T23:48:26Z</dcterms:created>
  <dc:creator/>
  <dc:description/>
  <cp:keywords/>
  <dc:language>en-US</dc:language>
  <cp:lastModifiedBy>yu wang</cp:lastModifiedBy>
  <cp:lastPrinted>1899-12-30T00:00:00Z</cp:lastPrinted>
  <dcterms:modified xsi:type="dcterms:W3CDTF">2015-08-03T12:24:52Z</dcterms:modified>
  <cp:revision>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