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CC5-5B59-435E-89F5-A18F9474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0B0-2687-4BB2-85FC-839F6B87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744-F8AE-4777-8688-F90A1175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6AC-DC8C-4A9C-9F13-C8215EA1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C1C-086F-455F-AE41-8F7EC12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B05-DBAD-4DFD-85D9-FA01B799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788-F986-4211-9733-CF0F0871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04D-88D3-4668-A94E-A602167C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9DC-0BCB-4685-BB73-44712E0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13F-C93C-4871-AEDE-5861B18D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38-5038-400A-B185-A98F329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260-80A8-4340-84F6-28BEEA69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115-F424-4E63-B915-37CAFA8A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ub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258920" y="300024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4005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68360" y="3284640"/>
            <a:ext cx="8001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2455920" y="2852640"/>
            <a:ext cx="47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航空公司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28320" y="2433600"/>
            <a:ext cx="399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华文新魏"/>
                <a:ea typeface="华文新魏"/>
              </a:rPr>
              <a:t>谢谢大家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7:22:22Z</dcterms:created>
  <dc:creator>ppt宝藏</dc:creator>
  <dc:description/>
  <dc:language>en-US</dc:language>
  <cp:lastModifiedBy>yu wang</cp:lastModifiedBy>
  <dcterms:modified xsi:type="dcterms:W3CDTF">2015-08-03T12:24:43Z</dcterms:modified>
  <cp:revision>658</cp:revision>
  <dc:subject/>
  <dc:title>www.pptbz.com</dc:title>
</cp:coreProperties>
</file>