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FBB-4DC6-4676-8C22-DEF757AC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9A6-6A09-4D37-9E9E-9D4CAEAC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9DA-7CB7-46B7-A2D1-B0E816C0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E9D-CA3B-4A3B-96D7-965B0A38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82B5-B641-448D-82BA-86CEEF90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70E-FB04-44CE-984F-2F8EADE6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36EF-5673-49BD-BC95-5088938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5CB-959C-460E-923E-DEBDE44F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2FF8-6406-4022-A754-E363D30A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1DE-AC28-40A4-A98D-65EA21A3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C41A-362B-4BBB-B56B-7EAE474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470-629A-4775-93C2-92997C38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DFD9-9A3D-4D33-AB7C-8A84363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486-A94F-4B1F-A359-E68CD40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09AB-3E2D-44E7-972C-1F48254F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EEF3-B77D-4F99-9983-C9BD22B1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10AA-EAF9-49ED-BA0F-8DE2145B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69B1-F2A9-4B44-9CD0-DF38B0C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61B0-06DF-4059-9D2C-03AC12F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44D5-DC2E-4586-A537-436FC1A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5FEB-2B97-4D93-B7BD-312D94C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F218-67DB-4321-BDBE-790C4672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F1A-0B9B-48A2-BD4E-1D3E1DDA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7E75-B7D0-48D0-8D1F-47F7C738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A05A-AE56-4524-97A7-3084D42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4CE6-6DC8-487D-8DA1-4FBF717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4288-D54B-4824-A507-B48057F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EC1D-91E2-4D06-9844-78370AA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ABB2-E51A-4D88-AE86-A67D595B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E5BF-A9A8-4287-9A66-4C0273F1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9C4-ADE2-40B1-A9E2-D017612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428-1C93-4798-A3BD-694F7106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2C0-997C-4DD7-8D23-490DFBA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F58-CB87-44ED-89C8-F8E5AC2F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65D-39E5-42C0-9A5A-C8BD388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B98-6A41-4FD4-927F-F6799228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5BC6D91-8826-4FD3-9EB0-FE7A3E687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3F774D-350A-4196-A351-981C5C7BD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7F575-BE1E-4390-9878-7001E01591C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353080" cy="502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河姆渡遗址古典中国风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8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点击此处添加幻灯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 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11</TotalTime>
  <Application>LibreOffice/7.4.7.2$Linux_X86_64 LibreOffice_project/40$Build-2</Application>
  <AppVersion>15.0000</AppVersion>
  <Words>181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;TP</cp:category>
  <dcterms:created xsi:type="dcterms:W3CDTF">2012-09-11T05:32:22Z</dcterms:created>
  <dc:creator>田士庆</dc:creator>
  <dc:description/>
  <cp:keywords>XS-普屏 4：3 SC-淡棕色 BG-浅色 DH-静态</cp:keywords>
  <dc:language>en-US</dc:language>
  <cp:lastModifiedBy>yu wang</cp:lastModifiedBy>
  <dcterms:modified xsi:type="dcterms:W3CDTF">2015-08-03T12:23:13Z</dcterms:modified>
  <cp:revision>8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